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9192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436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31D-21BB-451E-9B6F-DB5F012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F8E-DC86-4C38-AC69-856B7E9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DE2-FAF0-463E-807D-FB94D14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388-35A1-4D7D-9350-141B568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87E-F798-442B-9277-F2BAC54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B41-C693-419B-9C8F-BD8EE32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D14-BDFF-4020-B965-C581334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8ED-B2C2-4000-B4B0-873DF72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0A4-3B33-4DA6-B0B9-98133B4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C06-D07B-4D0F-925B-D8F4808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50F-49B2-4373-9B20-DAB7FF78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92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4360" y="423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4CE-ADCA-41A3-98A5-020007AD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6520" y="423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423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438280"/>
          <a:ext cx="5695920" cy="27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438280"/>
                    <a:ext cx="56959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2F35-87E2-437C-A5C7-C22A25C257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05120" y="2514600"/>
          <a:ext cx="5695920" cy="27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514600"/>
                    <a:ext cx="56959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fu.ca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OSET: An Efficient Algorithm for Mining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723888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ian Pei, Jiawei Han and Runying Ma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lligent Database Systems Research Lab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of Computing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on Fraser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ail: {peijian, han, rmao}@cs.sfu.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s.sfu.ca/~{peijian, han, rmao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sfucrest-smalle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609480"/>
            <a:ext cx="11998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Find Subsets of Frequent Closed Itemsets by Constructing Conditional Databas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 a be a frequent item 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The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a-conditional databa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denoted as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s the subset of transactions in TDB containing a, and all occurrences of infrequent items, item a, and items following a in f_list are omit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 b be a frequent item in X-conditional databas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bX-conditional databa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denoted as </a:t>
            </a:r>
            <a:r>
              <a:rPr b="0" i="1" lang="en-US" sz="2800" spc="-1" strike="noStrike">
                <a:solidFill>
                  <a:srgbClr val="ff3300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ff3300"/>
                </a:solidFill>
                <a:latin typeface="Tahoma"/>
              </a:rPr>
              <a:t>b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s the subset of transactions 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TD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taining b and all the occurrences of local infrequent items, item b, and items following j in local f_list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re omit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51120" y="1447920"/>
            <a:ext cx="6834600" cy="5168520"/>
            <a:chOff x="1851120" y="1447920"/>
            <a:chExt cx="6834600" cy="5168520"/>
          </a:xfrm>
        </p:grpSpPr>
        <p:sp>
          <p:nvSpPr>
            <p:cNvPr id="243" name=""/>
            <p:cNvSpPr/>
            <p:nvPr/>
          </p:nvSpPr>
          <p:spPr>
            <a:xfrm>
              <a:off x="4710600" y="1447920"/>
              <a:ext cx="767520" cy="173988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3399"/>
                  </a:solidFill>
                  <a:uFillTx/>
                  <a:latin typeface="Tahoma"/>
                </a:rPr>
                <a:t>TD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a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e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fa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61360" y="22096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_list:&lt;c:4, e:4, f:4, a:3, d:2&gt;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2600" y="3886200"/>
              <a:ext cx="1402920" cy="954360"/>
            </a:xfrm>
            <a:prstGeom prst="rect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ff3399"/>
                  </a:solidFill>
                  <a:latin typeface="Tahoma"/>
                </a:rPr>
                <a:t>d</a:t>
              </a:r>
              <a:r>
                <a:rPr b="1" lang="en-US" sz="1800" spc="-1" strike="noStrike">
                  <a:solidFill>
                    <a:srgbClr val="ff3399"/>
                  </a:solidFill>
                  <a:latin typeface="Tahoma"/>
                </a:rPr>
                <a:t> (d:2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ef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cf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51120" y="487656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Tahoma"/>
                </a:rPr>
                <a:t>F.C.I.: cfad: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77320" y="3886200"/>
              <a:ext cx="1393560" cy="12286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a:3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e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f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39520" y="5181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a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8560" y="5562360"/>
              <a:ext cx="1607040" cy="6800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ea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ea:2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77840" y="624816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ea: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52760" y="3886200"/>
              <a:ext cx="1314720" cy="954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f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f:4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e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69160" y="4876560"/>
              <a:ext cx="18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cf:4, cef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6920" y="3886200"/>
              <a:ext cx="1387800" cy="6800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TDB|</a:t>
              </a:r>
              <a:r>
                <a:rPr b="1" lang="en-US" sz="1800" spc="-1" strike="noStrike" baseline="-25000">
                  <a:solidFill>
                    <a:srgbClr val="40458c"/>
                  </a:solidFill>
                  <a:latin typeface="Tahoma"/>
                </a:rPr>
                <a:t>e</a:t>
              </a: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 (e:4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: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67800" y="457200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.C.I.: e: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742840" y="3200400"/>
              <a:ext cx="2361960" cy="685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190760" y="3200400"/>
              <a:ext cx="91440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160" y="3200400"/>
              <a:ext cx="76212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160" y="3200400"/>
              <a:ext cx="236232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0760" y="5105160"/>
              <a:ext cx="106704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2743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cal frequent items: c, f, 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3640" y="529128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 transaction having d also contains c, f and 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a but No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059800" y="169056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0920" y="2452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51800" y="4129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0320" y="51195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6880" y="4129200"/>
            <a:ext cx="1393560" cy="12286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8720" y="5424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47760" y="5805360"/>
            <a:ext cx="1607040" cy="6800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7400" y="64911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01960" y="4129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8360" y="51195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06120" y="4129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7000" y="4815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92400" y="3443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540320" y="3443400"/>
            <a:ext cx="91440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54720" y="3443400"/>
            <a:ext cx="7617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54720" y="3443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40320" y="5348160"/>
            <a:ext cx="1066680" cy="4572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1447920"/>
            <a:ext cx="487692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quent closed itemsets containing a but no d can be further partitioned into subse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f but no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e but no d nor 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s having ac but no d, e nor 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6640" y="5638680"/>
            <a:ext cx="38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up(fa)=sup(ca)=sup(cfad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FCI having fa or ca but no 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f but No a Nor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4101120" y="144792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5188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312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4164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6784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3004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908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836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3886200"/>
            <a:ext cx="1314720" cy="9543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5968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7440" y="3886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5832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13336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3200400"/>
            <a:ext cx="76212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200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5105520"/>
            <a:ext cx="106704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e but No f, a Nor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4101120" y="1447920"/>
            <a:ext cx="767520" cy="17398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99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88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312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64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6784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004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908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6836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3280" y="3886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5968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7440" y="3886200"/>
            <a:ext cx="1387800" cy="6800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ff3399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832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3336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3200400"/>
            <a:ext cx="7621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200400"/>
            <a:ext cx="2362320" cy="6858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5105520"/>
            <a:ext cx="106704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d Frequent Closed Itemsets Containing Only 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(c)=sup(cf), c is not a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summary, the set of frequent closed itemsets is {acdf:2, a:3, ae:2, cf:4, cef:3, e:4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ptimization 1: Compress Transactional &amp; Conditional Databases Using FP-tre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P-tree compresses databases for frequent item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ditional databases can be derived from FP-tree efficient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ease refer our SIGMOD’00 paper for detai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ptimization 2: Extract Items Appearing in Every Transaction of Conditional Databa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 Y be the set of items appearing in every transaction of the X-conditional database,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is a potential frequent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s optimization takes effect before constructing the FP-tree for the conditional data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size of FP-tr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levels of recur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ptimization 3: Directly Extract Frequent Closed Itemsets From FP-tre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dentify frequent closed itemsets quick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size of the remaining FP-tree to be examin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ce the levels of recur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6626160" y="1754280"/>
            <a:ext cx="841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3920" y="243828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3920" y="298620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3920" y="353520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3920" y="408312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: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3920" y="4632480"/>
            <a:ext cx="685800" cy="3808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3920" y="5181480"/>
            <a:ext cx="685800" cy="3812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26" idx="4"/>
            <a:endCxn id="327" idx="0"/>
          </p:cNvCxnSpPr>
          <p:nvPr/>
        </p:nvCxnSpPr>
        <p:spPr>
          <a:xfrm>
            <a:off x="7046640" y="2211480"/>
            <a:ext cx="1080" cy="227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4" name=""/>
          <p:cNvCxnSpPr>
            <a:stCxn id="327" idx="4"/>
            <a:endCxn id="328" idx="0"/>
          </p:cNvCxnSpPr>
          <p:nvPr/>
        </p:nvCxnSpPr>
        <p:spPr>
          <a:xfrm>
            <a:off x="7046640" y="2819160"/>
            <a:ext cx="1080" cy="167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5" name=""/>
          <p:cNvCxnSpPr>
            <a:stCxn id="328" idx="4"/>
            <a:endCxn id="329" idx="0"/>
          </p:cNvCxnSpPr>
          <p:nvPr/>
        </p:nvCxnSpPr>
        <p:spPr>
          <a:xfrm>
            <a:off x="7046640" y="3366720"/>
            <a:ext cx="1080" cy="168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6" name=""/>
          <p:cNvCxnSpPr>
            <a:stCxn id="330" idx="0"/>
            <a:endCxn id="329" idx="4"/>
          </p:cNvCxnSpPr>
          <p:nvPr/>
        </p:nvCxnSpPr>
        <p:spPr>
          <a:xfrm flipV="1">
            <a:off x="7046640" y="3916080"/>
            <a:ext cx="1080" cy="167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7" name=""/>
          <p:cNvCxnSpPr>
            <a:stCxn id="330" idx="4"/>
            <a:endCxn id="331" idx="0"/>
          </p:cNvCxnSpPr>
          <p:nvPr/>
        </p:nvCxnSpPr>
        <p:spPr>
          <a:xfrm>
            <a:off x="7046640" y="4464000"/>
            <a:ext cx="1080" cy="169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38" name=""/>
          <p:cNvCxnSpPr>
            <a:stCxn id="332" idx="0"/>
            <a:endCxn id="331" idx="4"/>
          </p:cNvCxnSpPr>
          <p:nvPr/>
        </p:nvCxnSpPr>
        <p:spPr>
          <a:xfrm flipV="1">
            <a:off x="7046640" y="5012640"/>
            <a:ext cx="1080" cy="168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39" name=""/>
          <p:cNvSpPr/>
          <p:nvPr/>
        </p:nvSpPr>
        <p:spPr>
          <a:xfrm flipH="1">
            <a:off x="5790960" y="5562720"/>
            <a:ext cx="114300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2920" y="5562720"/>
            <a:ext cx="114300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05720" y="2666880"/>
            <a:ext cx="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2666880"/>
            <a:ext cx="457200" cy="106704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0"/>
                </a:moveTo>
                <a:lnTo>
                  <a:pt x="0" y="0"/>
                </a:lnTo>
                <a:lnTo>
                  <a:pt x="0" y="720"/>
                </a:lnTo>
                <a:lnTo>
                  <a:pt x="288" y="720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1680" y="29718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: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66688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lnTo>
                  <a:pt x="288" y="0"/>
                </a:lnTo>
                <a:lnTo>
                  <a:pt x="288" y="1008"/>
                </a:lnTo>
                <a:lnTo>
                  <a:pt x="0" y="1008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8840" y="3124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: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590920"/>
            <a:ext cx="1600200" cy="2743200"/>
          </a:xfrm>
          <a:custGeom>
            <a:avLst/>
            <a:gdLst/>
            <a:ahLst/>
            <a:rect l="l" t="t" r="r" b="b"/>
            <a:pathLst>
              <a:path w="1008" h="1728">
                <a:moveTo>
                  <a:pt x="1008" y="0"/>
                </a:moveTo>
                <a:lnTo>
                  <a:pt x="0" y="0"/>
                </a:lnTo>
                <a:lnTo>
                  <a:pt x="0" y="1728"/>
                </a:lnTo>
                <a:lnTo>
                  <a:pt x="1008" y="1728"/>
                </a:lnTo>
              </a:path>
            </a:pathLst>
          </a:custGeom>
          <a:noFill/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31880" y="472428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ef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 4: Prune Search Branch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, sup(X)=sup(Y) and Y is a frequent closed itemset, there is no need to search for X-conditional database for frequent closed item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y frequent closed itemset having X must contain Y-X as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 search for subsumed frequent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mining frequent closed itemset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: an efficient meth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study and 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ing up CLOSET in Large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projected databases in place of FP-tre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ition-based proj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4710600" y="1447920"/>
            <a:ext cx="767520" cy="1739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TD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1720" y="22096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_list:&lt;c:4, e:4, f:4, a:3, d:2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2600" y="3886200"/>
            <a:ext cx="14029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d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51120" y="4876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ad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77680" y="3886200"/>
            <a:ext cx="1393560" cy="1228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a: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39520" y="5181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a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8560" y="5562720"/>
            <a:ext cx="160704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a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a: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78200" y="624852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a: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2760" y="3886200"/>
            <a:ext cx="1314720" cy="9543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f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f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e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69160" y="48769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cf:4, cef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6920" y="3886200"/>
            <a:ext cx="1387800" cy="6800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DB|</a:t>
            </a:r>
            <a:r>
              <a:rPr b="1" lang="en-US" sz="1800" spc="-1" strike="noStrike" baseline="-25000">
                <a:solidFill>
                  <a:srgbClr val="40458c"/>
                </a:solidFill>
                <a:latin typeface="Tahoma"/>
              </a:rPr>
              <a:t>e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(e: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: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67800" y="4572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.C.I.: e: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743200" y="3200400"/>
            <a:ext cx="236232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91120" y="3200400"/>
            <a:ext cx="91440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05520" y="3200400"/>
            <a:ext cx="7617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3200400"/>
            <a:ext cx="2361960" cy="685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5105520"/>
            <a:ext cx="106668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54080" y="1905120"/>
            <a:ext cx="3746520" cy="2438280"/>
          </a:xfrm>
          <a:custGeom>
            <a:avLst/>
            <a:gdLst/>
            <a:ahLst/>
            <a:rect l="l" t="t" r="r" b="b"/>
            <a:pathLst>
              <a:path w="2360" h="1536">
                <a:moveTo>
                  <a:pt x="2360" y="0"/>
                </a:moveTo>
                <a:cubicBezTo>
                  <a:pt x="2268" y="276"/>
                  <a:pt x="2176" y="552"/>
                  <a:pt x="1976" y="720"/>
                </a:cubicBezTo>
                <a:cubicBezTo>
                  <a:pt x="1776" y="888"/>
                  <a:pt x="1472" y="936"/>
                  <a:pt x="1160" y="1008"/>
                </a:cubicBezTo>
                <a:cubicBezTo>
                  <a:pt x="848" y="1080"/>
                  <a:pt x="208" y="1064"/>
                  <a:pt x="104" y="1152"/>
                </a:cubicBezTo>
                <a:cubicBezTo>
                  <a:pt x="0" y="1240"/>
                  <a:pt x="268" y="1388"/>
                  <a:pt x="536" y="1536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4343400"/>
            <a:ext cx="121896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4343400"/>
            <a:ext cx="121896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343400"/>
            <a:ext cx="1143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30520" y="4343400"/>
            <a:ext cx="1549440" cy="1676520"/>
          </a:xfrm>
          <a:custGeom>
            <a:avLst/>
            <a:gdLst/>
            <a:ahLst/>
            <a:rect l="l" t="t" r="r" b="b"/>
            <a:pathLst>
              <a:path w="976" h="1056">
                <a:moveTo>
                  <a:pt x="272" y="0"/>
                </a:moveTo>
                <a:cubicBezTo>
                  <a:pt x="544" y="132"/>
                  <a:pt x="816" y="264"/>
                  <a:pt x="896" y="384"/>
                </a:cubicBezTo>
                <a:cubicBezTo>
                  <a:pt x="976" y="504"/>
                  <a:pt x="896" y="632"/>
                  <a:pt x="752" y="720"/>
                </a:cubicBezTo>
                <a:cubicBezTo>
                  <a:pt x="608" y="808"/>
                  <a:pt x="64" y="856"/>
                  <a:pt x="32" y="912"/>
                </a:cubicBezTo>
                <a:cubicBezTo>
                  <a:pt x="0" y="968"/>
                  <a:pt x="280" y="1012"/>
                  <a:pt x="560" y="1056"/>
                </a:cubicBezTo>
              </a:path>
            </a:pathLst>
          </a:custGeom>
          <a:noFill/>
          <a:ln w="9360">
            <a:solidFill>
              <a:srgbClr val="ff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formance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st tak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-Clo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S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hetic dataset T25I20D100k with 10k i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-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ms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actness of 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Dataset Connect-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066680" y="2590920"/>
          <a:ext cx="6934320" cy="2278080"/>
        </p:xfrm>
        <a:graphic>
          <a:graphicData uri="http://schemas.openxmlformats.org/drawingml/2006/table">
            <a:tbl>
              <a:tblPr/>
              <a:tblGrid>
                <a:gridCol w="2210040"/>
                <a:gridCol w="1447560"/>
                <a:gridCol w="1543320"/>
                <a:gridCol w="1733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uppor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C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#FI/#FC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4179 (95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20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7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801 (9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48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712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.7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4046 (8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10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3397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.3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7290 (70%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87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129839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T25I20D100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Connect-4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calability With Support Threshold on Dataset Pumsb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ze Scaleup on Data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09480" y="1523880"/>
          <a:ext cx="82296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 is an FP-tree-based database projection method for efficient mining of frequent closed itemsets in large databa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ying FP-tree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ing techniques to identify frequent closed itemsets quick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oring a partition-based projection mechanism for scalable m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 can be straightforwardly extended to mine max-patter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 Agarwal, C. Aggarwal and V.V.V. Prasad. A tree projection algorithm for generation of frequent itemset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Journal of Parallel and Distributed Comput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(to appear),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 Agrawal and R. Srikant. Fast algorithms for mining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VLDB’94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Chile, September 199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.J. Bayardo. Efficiently mining long patterns from databas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SIGMOD’98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A, June 199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. Han, J. Pei and Y. Yin. Mining frequent patterns without candidate generation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SIGMOD’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TX, May 2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. Mannila, H. Toivonen and A.I. Verkamo. Efficient algorithms for discovering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KDD’94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A, July 199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. Pasquier, Y. Bastide, R. Taouil, and L. Lakhal. Discovering frequent closed itemsets for association rul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roc. ICDT’99,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srael, January 1999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icolas Pasquier, Yves Bastide, Rafik Taouil, Lotfi Lakhal: Efficient Mining of Association Rules Using Closed Itemset Lattices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Information System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Vol.24, No.1, 199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.J. Zaki and C. Hsiao. ChARM: An efficient algorithm for closed association rule mining. I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ech. Rep. 99-1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Computer Science, Rensselaer Polytechnic Institute, 1999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ning Frequent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n a transaction database and a support threshold,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mining frequent itemset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to find the complete set of frequent item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itemsets is essential for many data mining tasks, e.g. association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itemsets and association rules over them often generates a large number of frequent itemsets and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 efficienc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d to understa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om Frequent Itemsets to Frequent Closed Itemse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ng frequent closed itemsets has the same power as mining the complete set of frequent itemsets, but it substantially reduces redundant rules to be genera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rease both efficiency and effect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465720" y="3657600"/>
            <a:ext cx="1383840" cy="991800"/>
          </a:xfrm>
          <a:prstGeom prst="rect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TD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0040" y="373392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n_sup=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n_conf=50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1840" y="5257800"/>
            <a:ext cx="3104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2</a:t>
            </a:r>
            <a:r>
              <a:rPr b="0" i="1" lang="en-US" sz="2000" spc="-1" strike="noStrike" u="sng" baseline="30000">
                <a:solidFill>
                  <a:srgbClr val="ff3300"/>
                </a:solidFill>
                <a:uFillTx/>
                <a:latin typeface="Tahoma"/>
              </a:rPr>
              <a:t>100</a:t>
            </a: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-1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3399"/>
                </a:solidFill>
                <a:uFillTx/>
                <a:latin typeface="Tahoma"/>
              </a:rPr>
              <a:t>frequent itemse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99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A tremendous number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of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ssociation rules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4724280"/>
            <a:ext cx="1143000" cy="457200"/>
          </a:xfrm>
          <a:prstGeom prst="line">
            <a:avLst/>
          </a:prstGeom>
          <a:ln w="10152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5257800"/>
            <a:ext cx="37368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2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ff3399"/>
                </a:solidFill>
                <a:uFillTx/>
                <a:latin typeface="Tahoma"/>
              </a:rPr>
              <a:t>frequent closed itemse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1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 ru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0</a:t>
            </a:r>
            <a:r>
              <a:rPr b="0" lang="en-U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5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a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724280"/>
            <a:ext cx="1143000" cy="457200"/>
          </a:xfrm>
          <a:prstGeom prst="line">
            <a:avLst/>
          </a:prstGeom>
          <a:ln w="101520">
            <a:solidFill>
              <a:srgbClr val="40458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Frequent Closed Itemse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itemset X is a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closed itemse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f there exists no itemset Y such that every transaction having X contain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osed itemset X is frequent if its support passes the given support thresho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concept is firstly proposed by Pasquier et al. in ICDT’99 and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formation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ol.24, No.1, 199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Generate Rules on Frequent Closed Itemset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is an association rule on frequent closed itemsets i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oth X and 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 are frequent closed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exists no frequent closed itemset Z such that 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X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confidence of the rule passes the given thresho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n rules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 and X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, the rule X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s redundant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Mine Frequent Closed Itemset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-Close [PBTL99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he A-priori frame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ing redundancies in candid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t-processing to generate complete but non-duplicate res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M [ZaHs00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oring a vertical data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ing frequent closet itemsets by computing intersections of sets of transaction ids for itemse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OSET: our method presented he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CLOSET Works?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600200"/>
          <a:ext cx="3581280" cy="3098880"/>
        </p:xfrm>
        <a:graphic>
          <a:graphicData uri="http://schemas.openxmlformats.org/drawingml/2006/table">
            <a:tbl>
              <a:tblPr/>
              <a:tblGrid>
                <a:gridCol w="1828800"/>
                <a:gridCol w="1752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ansaction I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m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b, 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009440" y="491004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min_su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=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14240" y="3733920"/>
            <a:ext cx="46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tep 1. Find frequent i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0292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 of frequent items in support descending or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_list=&lt;c:4, e:4, f:4, a:3, d:2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vide Search Sp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l frequent closed itemsets can be divided into 5 non-overlap subsets based on f_lsi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a but no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f but no a nor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e but no f, a nor 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ones containing only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3520" y="4267080"/>
          <a:ext cx="4495680" cy="2371680"/>
        </p:xfrm>
        <a:graphic>
          <a:graphicData uri="http://schemas.openxmlformats.org/drawingml/2006/table">
            <a:tbl>
              <a:tblPr/>
              <a:tblGrid>
                <a:gridCol w="2295360"/>
                <a:gridCol w="2200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ansaction I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tem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b, 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, c, d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, e,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5365080" y="54100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_list=&lt;c:4, e:4, f:4, a:3, d:2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1:30:49Z</dcterms:created>
  <dc:creator>peijian</dc:creator>
  <dc:description/>
  <dc:language>en-US</dc:language>
  <cp:lastModifiedBy>peijian</cp:lastModifiedBy>
  <dcterms:modified xsi:type="dcterms:W3CDTF">1998-05-10T18:11:55Z</dcterms:modified>
  <cp:revision>20</cp:revision>
  <dc:subject/>
  <dc:title>CLOSET: An Efficient Algorithm for Mining  Frequent Closed Itemsets</dc:title>
</cp:coreProperties>
</file>