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9192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436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E5F-B393-42D4-948B-43F2312D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3A5-E313-46CD-98D8-0698002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3EC-D791-46B3-833B-BD675DEE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5C7-EC9E-4566-91B2-DC031A37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CA5-E05C-41D8-BF12-A01C70B9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C2D-0C62-4E32-BAFE-D730C90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D79-64FB-42C4-83EB-CE3B063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C57-E1F5-48E4-955E-7C5BA17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7DC-4C00-47AF-AE85-AEA2025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BB9-0484-49D1-B4CD-3196566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CFB-B478-414C-8401-F676216C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9192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7436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84A-EBCD-4E4A-AF72-27D74347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2438280"/>
          <a:ext cx="5695920" cy="272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2438280"/>
                    <a:ext cx="56959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2EA1-A915-47E8-8ABF-78E86954D2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05120" y="2514600"/>
          <a:ext cx="5695920" cy="27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514600"/>
                    <a:ext cx="56959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fu.ca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OSET: An Efficient Algorithm for Mining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equent Closed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723888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ian Pei, Jiawei Han and Runying Ma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lligent Database Systems Research Lab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ool of Computing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on Fraser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ail: {peijian, han, rmao}@cs.sfu.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cs.sfu.ca/~{peijian, han, rmao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sfucrest-smaller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609480"/>
            <a:ext cx="11998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ind Subsets of Frequent Closed Itemsets by Constructing Conditional Databas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 a be a frequent item i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 The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a-conditional databas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denoted as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s the subset of transactions in TDB containing a, and all occurrences of infrequent items, item a, and items following a in f_list are omit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 b be a frequent item in X-conditional databas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bX-conditional databas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denoted as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ff3300"/>
                </a:solidFill>
                <a:latin typeface="Tahoma"/>
              </a:rPr>
              <a:t>b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s the subset of transactions i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taining b and all the occurrences of local infrequent items, item b, and items following j in local f_list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re omit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51120" y="1447920"/>
            <a:ext cx="6834600" cy="5168520"/>
            <a:chOff x="1851120" y="1447920"/>
            <a:chExt cx="6834600" cy="5168520"/>
          </a:xfrm>
        </p:grpSpPr>
        <p:sp>
          <p:nvSpPr>
            <p:cNvPr id="243" name=""/>
            <p:cNvSpPr/>
            <p:nvPr/>
          </p:nvSpPr>
          <p:spPr>
            <a:xfrm>
              <a:off x="4710600" y="1447920"/>
              <a:ext cx="767520" cy="173988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3399"/>
                  </a:solidFill>
                  <a:uFillTx/>
                  <a:latin typeface="Tahoma"/>
                </a:rPr>
                <a:t>TD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a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e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fa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61360" y="220968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_list:&lt;c:4, e:4, f:4, a:3, d:2&gt;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2600" y="3886200"/>
              <a:ext cx="1402920" cy="95436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ff3399"/>
                  </a:solidFill>
                  <a:latin typeface="Tahoma"/>
                </a:rPr>
                <a:t>d</a:t>
              </a:r>
              <a:r>
                <a:rPr b="1" lang="en-US" sz="1800" spc="-1" strike="noStrike">
                  <a:solidFill>
                    <a:srgbClr val="ff3399"/>
                  </a:solidFill>
                  <a:latin typeface="Tahoma"/>
                </a:rPr>
                <a:t> (d:2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f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51120" y="487656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F.C.I.: cfad: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77320" y="3886200"/>
              <a:ext cx="1393560" cy="12286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a:3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e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39520" y="518148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a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8560" y="5562360"/>
              <a:ext cx="1607040" cy="6800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ea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ea:2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77840" y="624816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ea: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52760" y="3886200"/>
              <a:ext cx="1314720" cy="954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f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f:4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e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69160" y="4876560"/>
              <a:ext cx="18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cf:4, cef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6920" y="3886200"/>
              <a:ext cx="1387800" cy="6800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e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e:4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67800" y="457200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e: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742840" y="3200400"/>
              <a:ext cx="2361960" cy="685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190760" y="3200400"/>
              <a:ext cx="914400" cy="685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5160" y="3200400"/>
              <a:ext cx="762120" cy="685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160" y="3200400"/>
              <a:ext cx="2362320" cy="685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0760" y="5105160"/>
              <a:ext cx="106704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2743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cal frequent items: c, f, 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3640" y="529128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ry transaction having d also contains c, f and 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a but No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059800" y="1690560"/>
            <a:ext cx="767520" cy="1739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99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0920" y="2452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51800" y="4129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0320" y="511956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26880" y="4129200"/>
            <a:ext cx="1393560" cy="12286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8720" y="5424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47760" y="5805360"/>
            <a:ext cx="1607040" cy="6800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7400" y="64911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01960" y="4129200"/>
            <a:ext cx="13147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8360" y="511956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06120" y="4129200"/>
            <a:ext cx="138780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7000" y="4815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92400" y="3443400"/>
            <a:ext cx="23623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540320" y="3443400"/>
            <a:ext cx="914400" cy="6858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54720" y="3443400"/>
            <a:ext cx="7617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54720" y="3443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40320" y="5348160"/>
            <a:ext cx="1066680" cy="4572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1447920"/>
            <a:ext cx="487692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quent closed itemsets containing a but no d can be further partitioned into subse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s having af but no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s having ae but no d nor 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s having ac but no d, e nor 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6640" y="5638680"/>
            <a:ext cx="387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up(fa)=sup(ca)=sup(cfad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FCI having fa or ca but no 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f but No a Nor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4101120" y="1447920"/>
            <a:ext cx="767520" cy="1739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99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51880" y="2209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3120" y="3886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41640" y="48769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67840" y="3886200"/>
            <a:ext cx="1393560" cy="1228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30040" y="5181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9080" y="5562720"/>
            <a:ext cx="160704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68360" y="62485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3886200"/>
            <a:ext cx="1314720" cy="9543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59680" y="48769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7440" y="3886200"/>
            <a:ext cx="138780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58320" y="4572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133360" y="3200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3200400"/>
            <a:ext cx="91440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3200400"/>
            <a:ext cx="762120" cy="6858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200400"/>
            <a:ext cx="23623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5105520"/>
            <a:ext cx="106704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e but No f, a Nor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4101120" y="1447920"/>
            <a:ext cx="767520" cy="1739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99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51880" y="2209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3120" y="3886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41640" y="48769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67840" y="3886200"/>
            <a:ext cx="1393560" cy="1228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30040" y="5181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9080" y="5562720"/>
            <a:ext cx="160704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68360" y="62485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3280" y="3886200"/>
            <a:ext cx="13147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59680" y="48769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7440" y="3886200"/>
            <a:ext cx="1387800" cy="6800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8320" y="4572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33360" y="3200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81280" y="3200400"/>
            <a:ext cx="91440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3200400"/>
            <a:ext cx="7621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3200400"/>
            <a:ext cx="2362320" cy="6858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5105520"/>
            <a:ext cx="106704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Only 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p(c)=sup(cf), c is not a closed items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summary, the set of frequent closed itemsets is {acdf:2, a:3, ae:2, cf:4, cef:3, e:4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ptimization 1: Compress Transactional &amp; Conditional Databases Using FP-tre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P-tree compresses databases for frequent item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ditional databases can be derived from FP-tree efficient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ease refer our SIGMOD’00 paper for detai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ptimization 2: Extract Items Appearing in Every Transaction of Conditional Databas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 Y be the set of items appearing in every transaction of the X-conditional database, X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 is a potential frequent closed items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s optimization takes effect before constructing the FP-tree for the conditional data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size of FP-tr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levels of recurs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ptimization 3: Directly Extract Frequent Closed Itemsets From FP-tre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dentify frequent closed itemsets quick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size of the remaining FP-tree to be examin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levels of recurs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626160" y="1754280"/>
            <a:ext cx="841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3920" y="2438280"/>
            <a:ext cx="685800" cy="3812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3920" y="2986200"/>
            <a:ext cx="685800" cy="3808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3920" y="3535200"/>
            <a:ext cx="685800" cy="3812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3920" y="4083120"/>
            <a:ext cx="685800" cy="3808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: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3920" y="4632480"/>
            <a:ext cx="685800" cy="3808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3920" y="5181480"/>
            <a:ext cx="685800" cy="3812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26" idx="4"/>
            <a:endCxn id="327" idx="0"/>
          </p:cNvCxnSpPr>
          <p:nvPr/>
        </p:nvCxnSpPr>
        <p:spPr>
          <a:xfrm>
            <a:off x="7046640" y="2211480"/>
            <a:ext cx="1080" cy="227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4" name=""/>
          <p:cNvCxnSpPr>
            <a:stCxn id="327" idx="4"/>
            <a:endCxn id="328" idx="0"/>
          </p:cNvCxnSpPr>
          <p:nvPr/>
        </p:nvCxnSpPr>
        <p:spPr>
          <a:xfrm>
            <a:off x="7046640" y="2819160"/>
            <a:ext cx="1080" cy="167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5" name=""/>
          <p:cNvCxnSpPr>
            <a:stCxn id="328" idx="4"/>
            <a:endCxn id="329" idx="0"/>
          </p:cNvCxnSpPr>
          <p:nvPr/>
        </p:nvCxnSpPr>
        <p:spPr>
          <a:xfrm>
            <a:off x="7046640" y="3366720"/>
            <a:ext cx="1080" cy="168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6" name=""/>
          <p:cNvCxnSpPr>
            <a:stCxn id="330" idx="0"/>
            <a:endCxn id="329" idx="4"/>
          </p:cNvCxnSpPr>
          <p:nvPr/>
        </p:nvCxnSpPr>
        <p:spPr>
          <a:xfrm flipV="1">
            <a:off x="7046640" y="3916080"/>
            <a:ext cx="1080" cy="167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7" name=""/>
          <p:cNvCxnSpPr>
            <a:stCxn id="330" idx="4"/>
            <a:endCxn id="331" idx="0"/>
          </p:cNvCxnSpPr>
          <p:nvPr/>
        </p:nvCxnSpPr>
        <p:spPr>
          <a:xfrm>
            <a:off x="7046640" y="4464000"/>
            <a:ext cx="1080" cy="169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8" name=""/>
          <p:cNvCxnSpPr>
            <a:stCxn id="332" idx="0"/>
            <a:endCxn id="331" idx="4"/>
          </p:cNvCxnSpPr>
          <p:nvPr/>
        </p:nvCxnSpPr>
        <p:spPr>
          <a:xfrm flipV="1">
            <a:off x="7046640" y="5012640"/>
            <a:ext cx="1080" cy="168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39" name=""/>
          <p:cNvSpPr/>
          <p:nvPr/>
        </p:nvSpPr>
        <p:spPr>
          <a:xfrm flipH="1">
            <a:off x="5790960" y="5562720"/>
            <a:ext cx="114300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62920" y="5562720"/>
            <a:ext cx="114300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05720" y="2666880"/>
            <a:ext cx="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2666880"/>
            <a:ext cx="457200" cy="106704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0"/>
                </a:moveTo>
                <a:lnTo>
                  <a:pt x="0" y="0"/>
                </a:lnTo>
                <a:lnTo>
                  <a:pt x="0" y="720"/>
                </a:lnTo>
                <a:lnTo>
                  <a:pt x="288" y="720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1680" y="29718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66688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lnTo>
                  <a:pt x="288" y="0"/>
                </a:lnTo>
                <a:lnTo>
                  <a:pt x="288" y="1008"/>
                </a:lnTo>
                <a:lnTo>
                  <a:pt x="0" y="1008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8840" y="31240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d: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2590920"/>
            <a:ext cx="1600200" cy="2743200"/>
          </a:xfrm>
          <a:custGeom>
            <a:avLst/>
            <a:gdLst/>
            <a:ahLst/>
            <a:rect l="l" t="t" r="r" b="b"/>
            <a:pathLst>
              <a:path w="1008" h="1728">
                <a:moveTo>
                  <a:pt x="1008" y="0"/>
                </a:moveTo>
                <a:lnTo>
                  <a:pt x="0" y="0"/>
                </a:lnTo>
                <a:lnTo>
                  <a:pt x="0" y="1728"/>
                </a:lnTo>
                <a:lnTo>
                  <a:pt x="1008" y="1728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31880" y="472428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def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 4: Prune Search Branch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X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, sup(X)=sup(Y) and Y is a frequent closed itemset, there is no need to search for X-conditional database for frequent closed items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y frequent closed itemset having X must contain Y-X as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oid search for subsumed frequent item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mining frequent closed itemset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: an efficient meth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study and 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aling up CLOSET in Large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ing projected databases in place of FP-tre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tition-based proj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4710600" y="1447920"/>
            <a:ext cx="767520" cy="1739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1720" y="2209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2600" y="3886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51120" y="48769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77680" y="3886200"/>
            <a:ext cx="1393560" cy="1228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39520" y="5181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8560" y="5562720"/>
            <a:ext cx="160704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78200" y="62485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52760" y="3886200"/>
            <a:ext cx="13147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69160" y="48769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6920" y="3886200"/>
            <a:ext cx="138780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67800" y="4572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743200" y="3200400"/>
            <a:ext cx="23623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191120" y="3200400"/>
            <a:ext cx="91440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05520" y="3200400"/>
            <a:ext cx="7617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3200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5105520"/>
            <a:ext cx="106668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54080" y="1905120"/>
            <a:ext cx="3746520" cy="2438280"/>
          </a:xfrm>
          <a:custGeom>
            <a:avLst/>
            <a:gdLst/>
            <a:ahLst/>
            <a:rect l="l" t="t" r="r" b="b"/>
            <a:pathLst>
              <a:path w="2360" h="1536">
                <a:moveTo>
                  <a:pt x="2360" y="0"/>
                </a:moveTo>
                <a:cubicBezTo>
                  <a:pt x="2268" y="276"/>
                  <a:pt x="2176" y="552"/>
                  <a:pt x="1976" y="720"/>
                </a:cubicBezTo>
                <a:cubicBezTo>
                  <a:pt x="1776" y="888"/>
                  <a:pt x="1472" y="936"/>
                  <a:pt x="1160" y="1008"/>
                </a:cubicBezTo>
                <a:cubicBezTo>
                  <a:pt x="848" y="1080"/>
                  <a:pt x="208" y="1064"/>
                  <a:pt x="104" y="1152"/>
                </a:cubicBezTo>
                <a:cubicBezTo>
                  <a:pt x="0" y="1240"/>
                  <a:pt x="268" y="1388"/>
                  <a:pt x="536" y="1536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4343400"/>
            <a:ext cx="121896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4343400"/>
            <a:ext cx="121896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343400"/>
            <a:ext cx="1143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30520" y="4343400"/>
            <a:ext cx="1549440" cy="1676520"/>
          </a:xfrm>
          <a:custGeom>
            <a:avLst/>
            <a:gdLst/>
            <a:ahLst/>
            <a:rect l="l" t="t" r="r" b="b"/>
            <a:pathLst>
              <a:path w="976" h="1056">
                <a:moveTo>
                  <a:pt x="272" y="0"/>
                </a:moveTo>
                <a:cubicBezTo>
                  <a:pt x="544" y="132"/>
                  <a:pt x="816" y="264"/>
                  <a:pt x="896" y="384"/>
                </a:cubicBezTo>
                <a:cubicBezTo>
                  <a:pt x="976" y="504"/>
                  <a:pt x="896" y="632"/>
                  <a:pt x="752" y="720"/>
                </a:cubicBezTo>
                <a:cubicBezTo>
                  <a:pt x="608" y="808"/>
                  <a:pt x="64" y="856"/>
                  <a:pt x="32" y="912"/>
                </a:cubicBezTo>
                <a:cubicBezTo>
                  <a:pt x="0" y="968"/>
                  <a:pt x="280" y="1012"/>
                  <a:pt x="560" y="1056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rformance Stud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st tak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-Clo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AR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O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hetic dataset T25I20D100k with 10k it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-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ms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actness of Frequent Closed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Dataset Connect-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066680" y="2590920"/>
          <a:ext cx="6934320" cy="2278080"/>
        </p:xfrm>
        <a:graphic>
          <a:graphicData uri="http://schemas.openxmlformats.org/drawingml/2006/table">
            <a:tbl>
              <a:tblPr/>
              <a:tblGrid>
                <a:gridCol w="2210040"/>
                <a:gridCol w="1447560"/>
                <a:gridCol w="1543320"/>
                <a:gridCol w="1733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upport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FC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F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FI/#FC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4179 (95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1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20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7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0801 (90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48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7127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.7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4046 (80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107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3397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5.3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7290 (70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587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129839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1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calability with Support Threshold on Dataset T25I20D100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calability With Support Threshold on Dataset Connect-4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calability With Support Threshold on Dataset Pumsb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ze Scaleup on Data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 is an FP-tree-based database projection method for efficient mining of frequent closed itemsets in large databa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ying FP-tree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ing techniques to identify frequent closed itemsets quick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oring a partition-based projection mechanism for scalable mi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 can be straightforwardly extended to mine max-patter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. Agarwal, C. Aggarwal and V.V.V. Prasad. A tree projection algorithm for generation of frequent itemset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Journal of Parallel and Distributed Comput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(to appear), 2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. Agrawal and R. Srikant. Fast algorithms for mining association rul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VLDB’94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Chile, September 199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.J. Bayardo. Efficiently mining long patterns from databas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SIGMOD’98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WA, June 199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. Han, J. Pei and Y. Yin. Mining frequent patterns without candidate generation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SIGMOD’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TX, May 2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. Mannila, H. Toivonen and A.I. Verkamo. Efficient algorithms for discovering association rul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KDD’94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WA, July 199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. Pasquier, Y. Bastide, R. Taouil, and L. Lakhal. Discovering frequent closed itemsets for association rul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ICDT’99,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srael, January 1999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icolas Pasquier, Yves Bastide, Rafik Taouil, Lotfi Lakhal: Efficient Mining of Association Rules Using Closed Itemset Lattic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Information System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Vol.24, No.1, 199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.J. Zaki and C. Hsiao. ChARM: An efficient algorithm for closed association rule mining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Tech. Rep. 99-1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Computer Science, Rensselaer Polytechnic Institute, 1999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ning Frequent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n a transaction database and a support threshold,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mining frequent itemset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to find the complete set of frequent item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ng frequent itemsets is essential for many data mining tasks, e.g. association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ng frequent itemsets and association rules over them often generates a large number of frequent itemsets and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 efficien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d to understa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om Frequent Itemsets to Frequent Closed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ng frequent closed itemsets has the same power as mining the complete set of frequent itemsets, but it substantially reduces redundant rules to be generat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rease both efficiency and effect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465720" y="3657600"/>
            <a:ext cx="1383840" cy="991800"/>
          </a:xfrm>
          <a:prstGeom prst="rect">
            <a:avLst/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TD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0040" y="373392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n_sup=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n_conf=50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1840" y="5257800"/>
            <a:ext cx="3104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2</a:t>
            </a:r>
            <a:r>
              <a:rPr b="0" i="1" lang="en-US" sz="2000" spc="-1" strike="noStrike" u="sng" baseline="30000">
                <a:solidFill>
                  <a:srgbClr val="ff3300"/>
                </a:solidFill>
                <a:uFillTx/>
                <a:latin typeface="Tahoma"/>
              </a:rPr>
              <a:t>100</a:t>
            </a: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-1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ff3399"/>
                </a:solidFill>
                <a:uFillTx/>
                <a:latin typeface="Tahoma"/>
              </a:rPr>
              <a:t>frequent itemse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…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…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99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A tremendous number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of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association rules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4724280"/>
            <a:ext cx="1143000" cy="457200"/>
          </a:xfrm>
          <a:prstGeom prst="line">
            <a:avLst/>
          </a:prstGeom>
          <a:ln w="10152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5257800"/>
            <a:ext cx="37368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2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ff3399"/>
                </a:solidFill>
                <a:uFillTx/>
                <a:latin typeface="Tahoma"/>
              </a:rPr>
              <a:t>frequent closed itemse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1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ru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0</a:t>
            </a:r>
            <a:r>
              <a:rPr b="0" lang="en-US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4724280"/>
            <a:ext cx="1143000" cy="457200"/>
          </a:xfrm>
          <a:prstGeom prst="line">
            <a:avLst/>
          </a:prstGeom>
          <a:ln w="10152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Frequent Closed Itemse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itemset X is a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closed itemse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f there exists no itemset Y such that every transaction having X contain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osed itemset X is frequent if its support passes the given support thresho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concept is firstly proposed by Pasquier et al. in ICDT’99 an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formation Syste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ol.24, No.1, 199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Generate Rules on Frequent Closed Itemset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 X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 is an association rule on frequent closed itemsets i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oth X and X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 are frequent closed item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exists no frequent closed itemset Z such that X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X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confidence of the rule passes the given thresho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n rules X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 and X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, the rule X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s redundant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Mine Frequent Closed Itemset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-Close [PBTL99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he A-priori frame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ing redundancies in candid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t-processing to generate complete but non-duplicate resul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M [ZaHs00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oring a vertical data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ding frequent closet itemsets by computing intersections of sets of transaction ids for item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: our method presented he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CLOSET Works? A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1600200"/>
          <a:ext cx="3581280" cy="3098880"/>
        </p:xfrm>
        <a:graphic>
          <a:graphicData uri="http://schemas.openxmlformats.org/drawingml/2006/table">
            <a:tbl>
              <a:tblPr/>
              <a:tblGrid>
                <a:gridCol w="1828800"/>
                <a:gridCol w="1752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ansaction I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m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e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b, 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009440" y="491004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min_su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=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14240" y="3733920"/>
            <a:ext cx="46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tep 1. Find frequent ite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0292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 of frequent items in support descending or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_list=&lt;c:4, e:4, f:4, a:3, d:2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vide Search Sp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l frequent closed itemsets can be divided into 5 non-overlap subsets based on f_lsi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a but no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f but no a nor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e but no f, a nor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only 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3520" y="4267080"/>
          <a:ext cx="4495680" cy="2371680"/>
        </p:xfrm>
        <a:graphic>
          <a:graphicData uri="http://schemas.openxmlformats.org/drawingml/2006/table">
            <a:tbl>
              <a:tblPr/>
              <a:tblGrid>
                <a:gridCol w="2295360"/>
                <a:gridCol w="2200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ansaction I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e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b, 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5365080" y="541008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_list=&lt;c:4, e:4, f:4, a:3, d:2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21:30:49Z</dcterms:created>
  <dc:creator>peijian</dc:creator>
  <dc:description/>
  <dc:language>en-US</dc:language>
  <cp:lastModifiedBy>peijian</cp:lastModifiedBy>
  <dcterms:modified xsi:type="dcterms:W3CDTF">1998-05-10T18:11:55Z</dcterms:modified>
  <cp:revision>20</cp:revision>
  <dc:subject/>
  <dc:title>CLOSET: An Efficient Algorithm for Mining  Frequent Closed Itemsets</dc:title>
</cp:coreProperties>
</file>