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D369C7A-CC69-495E-9AA1-ED7321DB8D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6118A77-24F9-4C71-83DB-0EE6E3376D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2ACB2BB-3C12-4C08-BAF9-A765C51803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753EF89-3360-4F3A-8472-D829875DE2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3C8CB02-C095-401D-85AB-9986242CCA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0A0010E-CBE4-4131-8AC3-405E22E31E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EDE1406-9ED8-4095-A5ED-3CC3229AC0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8AC7BAF-97C4-4CE1-8974-FA61AE3E9F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2DAA89F-BC72-4498-81B2-A38A029447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650F11D-97D7-4970-8C79-A1C303B3B7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522BF03-661E-45E1-B277-D03F4A9503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6AB517B-AF2C-42F7-B75C-2678747941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A1AFA48-F4C8-45E4-A9BA-12CAA9A389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874067D-47A6-4880-A822-0DD3C2DE10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83E1882-CA4B-4232-B251-9750DDB258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30FD9C9-DDB6-4F65-B2A9-4DB7662248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0EB38C0-84E6-4BB7-932F-FBF755F5BB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2C44A80-5DC3-4152-BFAF-3E75BD2D75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C215085-C1D2-470A-80AA-8370365221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837AD0D-6492-46E5-8416-E43AB2144D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EA88BB2-BF81-4A78-8230-D5016B4519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1104-E508-425A-9B66-C7BC45F06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D6DF-85F9-4E13-A0E7-7B66DAAB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7099-25B1-43A0-9E04-C9AFC797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4662-F58E-4AB2-8950-ADB5E8AE5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6C5C-2622-4149-AF60-8681F192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736E-7B6A-495E-933F-F1CDD550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0EC0-05B7-42CE-BA66-321BCB17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B03A-BCCC-425E-9675-B577910D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7EA9-B15D-46D9-A86E-7A596C7E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C9F3-7106-4788-9107-921F4499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B557-EC34-4DED-A05C-B31CA702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B574-AFC7-40D7-BD82-A1F10987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045D-047F-4954-8A5D-4F12AA43FD0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03E4-AAB1-4125-8337-F58E051973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base Programming: 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 and cons of 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ery high-level, possible to optimiz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ecifically designed for databases and is called </a:t>
            </a:r>
            <a:r>
              <a:rPr b="0" i="1" lang="en-US" sz="2600" spc="-1" strike="noStrike">
                <a:solidFill>
                  <a:srgbClr val="70966a"/>
                </a:solidFill>
                <a:latin typeface="Times New Roman"/>
              </a:rPr>
              <a:t>data sublangu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t intended for general-purpose computation, which is usually done by a </a:t>
            </a:r>
            <a:r>
              <a:rPr b="0" i="1" lang="en-US" sz="2600" spc="-1" strike="noStrike">
                <a:solidFill>
                  <a:srgbClr val="70966a"/>
                </a:solidFill>
                <a:latin typeface="Times New Roman"/>
              </a:rPr>
              <a:t>host langu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ugment SQL with constructs from general-purpose programming languages (SQL/PS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SQL together with general-purpose programming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APIs, embedded SQL, JDBC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AA2C-8205-45D2-A3DC-DADBA0CB470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7F7166-773F-4DD1-950A-02D0099B48A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rification of Ter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has a mySQL database server installed in his laptop. He wrote a perl script to connect to the local mySQL database, retrieve data, and print out reports about his house innovation pla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ent-server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APIs provided by mySQL to access the databa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rl supports mySQL API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AF84-2ABC-4792-81F7-9D84D3D68D3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D4C9DD-E6F0-4984-ADC4-FFACCDFBDE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rification of Terms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went to his office. He has a JAVA program, which connects to a SqlServer database in his company’s intranet. He use the program to retrieve data and print out reports for his business partn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ent-server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APIs provided by SqlServer to access the databa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ava supports SqlServer API using JDB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22044" t="0" r="0" b="0"/>
          <a:stretch/>
        </p:blipFill>
        <p:spPr>
          <a:xfrm>
            <a:off x="2133720" y="4648320"/>
            <a:ext cx="3657600" cy="10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BCD6-7BCB-47C5-AABE-548B73586CF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87262-B904-4454-8094-BC298BA4F52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rification of Terms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job, John went to youtube.com, searched for a video of Thomas train for his children, and downloaded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ent-mediate level-sever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QL experience a plus” from a job ad linked from you tube’s web sit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914400" y="4343400"/>
            <a:ext cx="7686720" cy="1728720"/>
            <a:chOff x="914400" y="4343400"/>
            <a:chExt cx="7686720" cy="172872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914400" y="4572000"/>
              <a:ext cx="419040" cy="40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914400" y="5410080"/>
              <a:ext cx="45720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Cloud"/>
            <p:cNvSpPr/>
            <p:nvPr/>
          </p:nvSpPr>
          <p:spPr>
            <a:xfrm>
              <a:off x="1828800" y="4952880"/>
              <a:ext cx="1828800" cy="72576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2200" y="5105520"/>
              <a:ext cx="9075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3"/>
            <a:stretch/>
          </p:blipFill>
          <p:spPr>
            <a:xfrm>
              <a:off x="4419720" y="4343400"/>
              <a:ext cx="2214360" cy="40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4"/>
            <a:stretch/>
          </p:blipFill>
          <p:spPr>
            <a:xfrm>
              <a:off x="4419720" y="5105520"/>
              <a:ext cx="2209680" cy="96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1133640" cy="114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3C6B-B99C-4255-BB5F-B048E5ED1FA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E290C5-C54A-4A9E-BE9B-44A0B33A79B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edance mismatch and a sol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operates on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a set of records at a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low-level general-purpose programming languages operates on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one record at a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: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cur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Op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a result table): position the cursor before the first row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Get nex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move the cursor to the next row and return that row; raise a flag if there is no such row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Clo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clean up and release DBMS resour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nd in virtually every database language/AP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slightly different synta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7379-7A09-477C-A57B-4BF001E6EF5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A7752E-5D6B-4200-BD55-8AAF63A2D31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Typical Flow of Intera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ient (user interface, web server, application server) opens a connection to a databas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ient interact with the database server to perform query, update, or other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ient terminate the conne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0491-845D-4FF8-9402-45A2EA73669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15CF62-69F7-4200-BBBA-F49CE8FF385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gmenting SQL: SQL/PS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P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sistent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red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CREATE PROCEDU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c_name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 (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_declarations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 )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cal_declaration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cedure_body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CREAT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nc_name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 (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_declarations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 )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RETUR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turn_type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cal_declaration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cedure_body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C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c_name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 (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ide procedure body: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 = C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nc_name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 (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491C-A616-4674-A106-83AFE540A73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A13262-B7B6-4D7D-AC6D-C6A4982293C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QL/PS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CREATE FUNCTION SetMaxGPA(IN newMaxGPA FLOAT)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RETURNS INT</a:t>
            </a:r>
            <a:br>
              <a:rPr sz="1800"/>
            </a:b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--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Enforce 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newMaxGPA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; return number of rows modifi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BEGIN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DECLARE rowsUpdated INT DEFAULT 0;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DECLARE thisGPA FLO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--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A cursor to range over all students: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DECLARE studentCursor CURSOR FOR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    SELECT GPA FROM Student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FOR UPD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--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Set a flag whenever there is a “not found” exception: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DECLARE noMoreRows INT DEFAULT 0;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DECLARE CONTINUE HANDLER FOR NOT FOUND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    SET noMoreRows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…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(see next slide)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RETURN rowsUpdate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26E9-49A9-43A1-B9BA-851FA25A058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273DDE-3F88-4477-AC02-ECC69E68E45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QL/PSM example continu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--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Fetch the first result row: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OPEN studentCursor;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FETCH FROM studentCursor INTO thisGPA;</a:t>
            </a:r>
            <a:br>
              <a:rPr sz="1800"/>
            </a:b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--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Loop over all result rows: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WHILE noMoreRows &lt;&gt; 1 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    </a:t>
            </a: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IF thisGPA &gt; newMaxGPA THEN</a:t>
            </a:r>
            <a:br>
              <a:rPr sz="1800"/>
            </a:b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        --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Enforce 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newMaxGPA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       UPDATE Student SET Student.GPA = newMaxGPA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        WHERE CURRENT OF studentCurso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        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--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Update count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       SET rowsUpdated = rowsUpdated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    </a:t>
            </a: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END IF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   --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Fetch the next result row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    </a:t>
            </a: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FETCH FROM studentCursor INTO thisGPA;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END WHILE;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CLOSE studentCurso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FF99-8899-406E-9535-61D2BFA5E93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3E3DA-31E6-4CF8-8AB2-F48273D1AE5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SQL/PSM featur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ment using scalar query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IN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oop constr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REPEAT UNTI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LOO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GO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IGN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RESIG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ore pgSQL-specific information, check ou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ts manual at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postgresql.org/docs/8.2/interactive/plpgsql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1D64-3942-4B3D-B829-C305D803C8B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097AE3-EB3E-411B-81EB-159C6497D90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 #2 due to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al CGI programming l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n: this Friday (March 9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3:00-4:15p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re: LEA 113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eel free to attend, no obligation at all if you know the material alread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663B-E621-4A5F-BAC7-BB5A579B25C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46ACED-2899-4AA4-AAB2-7778783BBC5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facing SQL with another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AP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QL commands are sent to the DBMS at runti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s: JDBC, ODBC (for C/C++/VB), Perl DB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se API’s  are all based on the SQL/CLI (Call-Level Interface) standar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Embedded SQ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QL commands are embedded in application co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precompil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hecks these commands at compile-time and converts them into DBMS-specific API cal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s: embedded SQL for C/C++, SQLJ (for Jav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A6CB-F214-4275-8BBE-B1BDD688BA9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DED758-A8C8-4EB4-A4A6-585D535AA50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PH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// Connect to the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$dbconn = pg_connect("host= wozniak.eecs.ku.edu port=5432 dbname=jhuan user=jhuan password=zzzzz")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die('Could not connect: ' . pg_last_error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//create a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$query = "CREATE TABLE regiusers ( name varchar(5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passwd  varchar(50) )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// Execute the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$query = pg_query($query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(see next p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// Closing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pg_close($dbcon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C418-B06B-4EE8-8146-7EEA3B450F0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C1647C-1B37-4EE7-B870-A8EF45E5DB4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PHP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//performing 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$ldata['name'] = 'a2';</a:t>
            </a: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$ldata['passwd'] = 'b2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$res = pg_insert($dbconn, "regiusers", $ldata)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// Performing SQL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$query = 'SELECT * FROM regiusers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$result = pg_query($query) or die('Query failed: ' . pg_last_error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// analyzing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while ($line = pg_fetch_array($result, null, PGSQL_ASSOC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foreach ($line as $col_valu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statem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// Free result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pg_free_result($resul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AC08-BA7A-47E9-B771-D0064C577F8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C7C61F-AA49-40D4-828E-1ED317C3B0F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API: JDB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DBC (Java DataBase Connectivity) is an API that allows a Java program to access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//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Use the JDBC package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LettrGoth12 BT"/>
              </a:rPr>
              <a:t>import java.sql.*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public class …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    static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       //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Load the JDBC driver: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        try {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LettrGoth12 BT"/>
              </a:rPr>
              <a:t>            Class.forName(”org.postgresql.Driver”);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        } catch (ClassNotFoundException e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            …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        </a:t>
            </a:r>
            <a:r>
              <a:rPr b="0" lang="en-US" sz="1800" spc="-1" strike="noStrike">
                <a:solidFill>
                  <a:srgbClr val="330066"/>
                </a:solidFill>
                <a:latin typeface="Times New Roman"/>
              </a:rPr>
              <a:t>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    </a:t>
            </a: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25FA-E7BC-4316-9807-131C918E8A6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1D16BA-EF38-477B-99D1-37E8866778D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ne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LettrGoth12 BT"/>
              </a:rPr>
              <a:t>//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Connection URL is a DBMS-specific string:</a:t>
            </a:r>
            <a:br>
              <a:rPr sz="2000"/>
            </a:b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String url =</a:t>
            </a:r>
            <a:br>
              <a:rPr sz="2000"/>
            </a:b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    ” jdbc:postgresql://wozniak.eecs.ku.edu/jhuan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LettrGoth12 B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LettrGoth12 BT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LettrGoth12 BT"/>
              </a:rPr>
              <a:t>//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aking a connection: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conn =DriverManager.getConnection(url,username,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LettrGoth12 BT"/>
              </a:rPr>
              <a:t>//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Closing a connection:</a:t>
            </a:r>
            <a:br>
              <a:rPr sz="2000"/>
            </a:b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con.close()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47840" y="5197320"/>
            <a:ext cx="412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For clarity we are ignor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exception handling for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A970-3F97-4F7E-BA8D-DACA01E2497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192240-AD17-4100-9C6D-1BF0C7B4C7F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//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Create an object for sending SQL statements: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Statement stmt = con.createStatem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//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Execute a query and get its results: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ResultSet rs =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    stmt.executeQuery(”SELECT name, passwd FROM regiusers”)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//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Work on the result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//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Execute a modification (returns the number of rows affected):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int rowsUpdated =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    stmt.executeUpdate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    (”UPDATE regiusers SET passwd = ’1234’ WHERE name = ‘sjohn’ 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//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Close the statement: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stmt.close()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E1ED-64F1-4655-B932-9C0B9BE2570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E9FD62-3227-4EF3-98DB-C078134A3F8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ry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//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Execute a query and get its results: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ResultSet rs =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    stmt.executeQuery(”SELECT name, passwd FROM regiusers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//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Loop through all result rows: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while (rs.next(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    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//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Get column values: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    String name = rs.string(1);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    String passwd = rs.getString(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    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//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Work on sid and nam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//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Close the 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ResultSet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rs.close()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DAC8-79FD-41C4-9998-368C2A7C472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9B244-3B75-4E16-8AEE-E1065773E23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</a:t>
            </a: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ResultSe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eatur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Move the cur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ointing to the current row) backwards and forwards, or position it anywhere within the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Result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Update/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tabase row corresponding to the current result 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alogous to the view update probl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Insert a 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o th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alogous to the view update probl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036D-D95D-499F-B8BF-D5DD725FD0C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96924-6A1A-4AF0-A3EE-09434D30C4A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pared statements: motiv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1600" spc="-1" strike="noStrike">
                <a:solidFill>
                  <a:srgbClr val="330066"/>
                </a:solidFill>
                <a:latin typeface="LettrGoth12 BT"/>
              </a:rPr>
              <a:t>Statement stmt = con.createStatement();</a:t>
            </a:r>
            <a:br>
              <a:rPr sz="1600"/>
            </a:br>
            <a:r>
              <a:rPr b="0" lang="en-US" sz="1600" spc="-1" strike="noStrike">
                <a:solidFill>
                  <a:srgbClr val="330066"/>
                </a:solidFill>
                <a:latin typeface="LettrGoth12 BT"/>
              </a:rPr>
              <a:t>for (int age=0; age&lt;100; age+=10) {</a:t>
            </a:r>
            <a:br>
              <a:rPr sz="1600"/>
            </a:br>
            <a:r>
              <a:rPr b="0" lang="en-US" sz="1600" spc="-1" strike="noStrike">
                <a:solidFill>
                  <a:srgbClr val="330066"/>
                </a:solidFill>
                <a:latin typeface="LettrGoth12 BT"/>
              </a:rPr>
              <a:t>    ResultSet rs = stmt.executeQuery</a:t>
            </a:r>
            <a:br>
              <a:rPr sz="1600"/>
            </a:br>
            <a:r>
              <a:rPr b="0" lang="en-US" sz="1600" spc="-1" strike="noStrike">
                <a:solidFill>
                  <a:srgbClr val="330066"/>
                </a:solidFill>
                <a:latin typeface="LettrGoth12 BT"/>
              </a:rPr>
              <a:t>        (”SELECT AVG(GPA) FROM Student” +</a:t>
            </a:r>
            <a:br>
              <a:rPr sz="1600"/>
            </a:br>
            <a:r>
              <a:rPr b="0" lang="en-US" sz="1600" spc="-1" strike="noStrike">
                <a:solidFill>
                  <a:srgbClr val="330066"/>
                </a:solidFill>
                <a:latin typeface="LettrGoth12 BT"/>
              </a:rPr>
              <a:t>         ” WHERE age &gt;= ” + age + ” AND age &lt; ” + (age+10));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LettrGoth12 BT"/>
              </a:rPr>
              <a:t>    // </a:t>
            </a:r>
            <a:r>
              <a:rPr b="0" lang="en-US" sz="1600" spc="-1" strike="noStrike">
                <a:solidFill>
                  <a:srgbClr val="00ff00"/>
                </a:solidFill>
                <a:latin typeface="Times New Roman"/>
              </a:rPr>
              <a:t>Work on the results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ettrGoth12 BT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br>
              <a:rPr sz="1600"/>
            </a:br>
            <a:r>
              <a:rPr b="0" lang="en-US" sz="1600" spc="-1" strike="noStrike">
                <a:solidFill>
                  <a:srgbClr val="330066"/>
                </a:solidFill>
                <a:latin typeface="LettrGoth12 BT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time an SQL string is sent to the DBMS, the DBMS must perform parsing, semantic analysis, optimization, compilation, and then finally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costs are incurred 10 times in the above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application issues many queries with a small number of patterns (with different parameter va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A78A-2E41-469F-8BB7-D803029B7D3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C01D41-C206-4145-91AB-EA30DB9E2EF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pared statements: synta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ff00"/>
                </a:solidFill>
                <a:latin typeface="LettrGoth12 BT"/>
              </a:rPr>
              <a:t>// </a:t>
            </a:r>
            <a:r>
              <a:rPr b="0" lang="en-US" sz="1600" spc="-1" strike="noStrike">
                <a:solidFill>
                  <a:srgbClr val="00ff00"/>
                </a:solidFill>
                <a:latin typeface="Times New Roman"/>
              </a:rPr>
              <a:t>Prepare the statement, using </a:t>
            </a:r>
            <a:r>
              <a:rPr b="0" lang="en-US" sz="1600" spc="-1" strike="noStrike">
                <a:solidFill>
                  <a:srgbClr val="00ff00"/>
                </a:solidFill>
                <a:latin typeface="LettrGoth12 BT"/>
              </a:rPr>
              <a:t>?</a:t>
            </a:r>
            <a:r>
              <a:rPr b="0" lang="en-US" sz="1600" spc="-1" strike="noStrike">
                <a:solidFill>
                  <a:srgbClr val="00ff00"/>
                </a:solidFill>
                <a:latin typeface="Times New Roman"/>
              </a:rPr>
              <a:t> as placeholders for actual parameters:</a:t>
            </a:r>
            <a:br>
              <a:rPr sz="1600"/>
            </a:br>
            <a:r>
              <a:rPr b="0" lang="en-US" sz="1600" spc="-1" strike="noStrike">
                <a:solidFill>
                  <a:srgbClr val="330066"/>
                </a:solidFill>
                <a:latin typeface="LettrGoth12 BT"/>
              </a:rPr>
              <a:t>PreparedStatement stmt = con.prepareStatement</a:t>
            </a:r>
            <a:br>
              <a:rPr sz="1600"/>
            </a:br>
            <a:r>
              <a:rPr b="0" lang="en-US" sz="1600" spc="-1" strike="noStrike">
                <a:solidFill>
                  <a:srgbClr val="330066"/>
                </a:solidFill>
                <a:latin typeface="LettrGoth12 BT"/>
              </a:rPr>
              <a:t>    (”SELECT AVG(GPA) FROM Student WHERE age &gt;= ? AND age &lt; ?”);</a:t>
            </a:r>
            <a:br>
              <a:rPr sz="1600"/>
            </a:br>
            <a:r>
              <a:rPr b="0" lang="en-US" sz="1600" spc="-1" strike="noStrike">
                <a:solidFill>
                  <a:srgbClr val="330066"/>
                </a:solidFill>
                <a:latin typeface="LettrGoth12 BT"/>
              </a:rPr>
              <a:t>for (int age=0; age&lt;100; age+=10) {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LettrGoth12 BT"/>
              </a:rPr>
              <a:t>    // </a:t>
            </a:r>
            <a:r>
              <a:rPr b="0" lang="en-US" sz="1600" spc="-1" strike="noStrike">
                <a:solidFill>
                  <a:srgbClr val="00ff00"/>
                </a:solidFill>
                <a:latin typeface="Times New Roman"/>
              </a:rPr>
              <a:t>Set actual parameter values:</a:t>
            </a:r>
            <a:br>
              <a:rPr sz="1600"/>
            </a:br>
            <a:r>
              <a:rPr b="0" lang="en-US" sz="1600" spc="-1" strike="noStrike">
                <a:solidFill>
                  <a:srgbClr val="330066"/>
                </a:solidFill>
                <a:latin typeface="LettrGoth12 BT"/>
              </a:rPr>
              <a:t>    stmt.setInt(1, age);</a:t>
            </a:r>
            <a:br>
              <a:rPr sz="1600"/>
            </a:br>
            <a:r>
              <a:rPr b="0" lang="en-US" sz="1600" spc="-1" strike="noStrike">
                <a:solidFill>
                  <a:srgbClr val="330066"/>
                </a:solidFill>
                <a:latin typeface="LettrGoth12 BT"/>
              </a:rPr>
              <a:t>    stmt.setInt(2, age+10);</a:t>
            </a:r>
            <a:br>
              <a:rPr sz="1600"/>
            </a:br>
            <a:r>
              <a:rPr b="0" lang="en-US" sz="1600" spc="-1" strike="noStrike">
                <a:solidFill>
                  <a:srgbClr val="330066"/>
                </a:solidFill>
                <a:latin typeface="LettrGoth12 BT"/>
              </a:rPr>
              <a:t>    ResultSet rs = stmt.executeQuery();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LettrGoth12 BT"/>
              </a:rPr>
              <a:t>    // </a:t>
            </a:r>
            <a:r>
              <a:rPr b="0" lang="en-US" sz="1600" spc="-1" strike="noStrike">
                <a:solidFill>
                  <a:srgbClr val="00ff00"/>
                </a:solidFill>
                <a:latin typeface="Times New Roman"/>
              </a:rPr>
              <a:t>Work on the results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ettrGoth12 BT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br>
              <a:rPr sz="1600"/>
            </a:br>
            <a:r>
              <a:rPr b="0" lang="en-US" sz="1600" spc="-1" strike="noStrike">
                <a:solidFill>
                  <a:srgbClr val="330066"/>
                </a:solidFill>
                <a:latin typeface="LettrGoth12 BT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BMS performs parsing, semantic analysis, optimization, and compilation only once, when it prepares the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xecution time, the DBMS only needs to check parameter types and validate the compiled execution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E93A-F32C-4F02-9800-FBE18264D76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99C17C-1A16-4CCA-9B30-C4727F11938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ample codes of embedded SQL programming and APIs with {C, Perl, JAVA, PHP} are available at class webp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ou may use any language to implement the final proje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choose a language other than the one listed above, you are responsible to figure out whether the language supports Postgre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database server must b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wozniak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EEC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one exception: if you want to implement the “smart” client paradigm, advanced by Microsoft, using C# and SqlServer, you may use your own lapto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EBDF-6E13-462E-A967-7E2E1C1E81E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D2B9C2-B664-4757-B643-C4E013C3278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action proces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isolation level for the current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con.setTransactionIsolationLevel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one of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TRANSACTION_SERIALIZA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default),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TRANSACTION_REPEATABLE_REA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TRANSACTION_READ_COMITT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TRANSACTION_READ_UNCOMMI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transaction to be read-only or read/write (defau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con.setReadOnly(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false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n on/off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AUTOCOMM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commits every single stat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con.setAutoCommit(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false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/rollback the current transaction (when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AUTOCOMM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f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con.commit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con.rollback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6E7A-50DF-4020-8866-56755922EE4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3B3C7-9239-413B-B7D9-5D121F111E9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bedded C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LettrGoth12 BT"/>
              </a:rPr>
              <a:t>/*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eclare variables to be “shared” between the application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LettrGoth12 BT"/>
              </a:rPr>
              <a:t>  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nd the DBMS:</a:t>
            </a:r>
            <a:r>
              <a:rPr b="0" lang="en-US" sz="2000" spc="-1" strike="noStrike">
                <a:solidFill>
                  <a:srgbClr val="00ff00"/>
                </a:solidFill>
                <a:latin typeface="LettrGoth12 BT"/>
              </a:rPr>
              <a:t> */ </a:t>
            </a:r>
            <a:br>
              <a:rPr sz="2000"/>
            </a:b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EXEC SQL BEGIN DECLARE SECTION;</a:t>
            </a:r>
            <a:br>
              <a:rPr sz="2000"/>
            </a:b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int thisSID; float thisGPA;</a:t>
            </a:r>
            <a:br>
              <a:rPr sz="2000"/>
            </a:b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EXEC SQL END DECLARE SEC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LettrGoth12 BT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LettrGoth12 BT"/>
              </a:rPr>
              <a:t>/*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eclare a cursor:</a:t>
            </a:r>
            <a:r>
              <a:rPr b="0" lang="en-US" sz="2000" spc="-1" strike="noStrike">
                <a:solidFill>
                  <a:srgbClr val="00ff00"/>
                </a:solidFill>
                <a:latin typeface="LettrGoth12 BT"/>
              </a:rPr>
              <a:t> */</a:t>
            </a:r>
            <a:br>
              <a:rPr sz="2000"/>
            </a:b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EXEC SQL DECLARE CPS116Student CURSOR FOR</a:t>
            </a:r>
            <a:br>
              <a:rPr sz="2000"/>
            </a:b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    SELECT SID, GPA FROM Student</a:t>
            </a:r>
            <a:br>
              <a:rPr sz="2000"/>
            </a:b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    WHERE SID IN</a:t>
            </a:r>
            <a:br>
              <a:rPr sz="2000"/>
            </a:b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        (SELECT SID FROM Enroll WHERE CID = ’CPS116’)</a:t>
            </a:r>
            <a:br>
              <a:rPr sz="2000"/>
            </a:b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    FOR UPDAT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005C-0068-4C54-9638-E29675F0AA4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C6FE0-7CCF-42BC-AC32-223097D8971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bedded C example continu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/*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Open the cursor: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 */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EXEC SQL OPEN CPS116Stud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/*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Specify exit condition: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 */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EXEC SQL WHENEVER NOT FOUND DO 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/*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Loop through result rows: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 */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while (1) {</a:t>
            </a:r>
            <a:br>
              <a:rPr sz="1800"/>
            </a:b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    /*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Get column values for the current row: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 */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    EXEC SQL FETCH CPS116Student INTO :thisSID, :thisGPA;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    printf(”SID %d: current GPA is %f\n”, thisSID, thisGP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    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/*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Update GPA: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 *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    </a:t>
            </a: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printf(”Enter new GPA: ”);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    scanf(”%f”, &amp;thisGPA);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    EXEC SQL UPDATE Student SET GPA = :thisGPA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        WHERE CURRENT OF CPS116Student;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/*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Close the cursor: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 */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EXEC SQL CLOSE CPS116Stud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405F-6A5A-47C9-B43C-204A1F24396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8B6157-804C-4DF1-B3B3-ABC105B5760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s and cons of embedded SQ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re compile-time checking (syntax, type, schema, …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de could be more efficient (if the embedded SQL statements do not need to checked and recompiled at run-tim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BMS-specif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dors have different precompilers which translate code into different native API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executable is not portable (although code 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cannot talk to different DBMS at the sa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8A5F-1A1C-492E-A763-C3963F1C1BD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25B612-CF53-4276-B532-37CFE667784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s and cons of augmenting SQ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ready too many programming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QL is already too bi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l-purpose programming constructs complicate optimization, and make it difficult to tell if code running inside the DBMS is saf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some point, one must recognize that SQL and the DBMS engine are not for everything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re sophisticated stored procedures and trigg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re application logic can be pushed closer to da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1807-C291-4651-952F-2CC6B2349F9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A7E428-F7D6-4451-9B10-E90F9458590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-tier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-tier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, C++, JAVA, PE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9720" y="1066680"/>
            <a:ext cx="44193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, mediate level,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b server, application ser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sub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t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bedded S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3521-DCC0-4A15-AC92-599808A89FF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E4BE2F-E10C-49EB-9694-D8283F650B8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any of you do not want to have the midterm before spring brea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view session is next Monday (Mar 1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ait until the review session is too late to the midtern for su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2764-D581-4FFD-8155-087D1DB47A2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E9933C-E8A2-43A4-B7DD-E0D2F0F1C67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’s Top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Architec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DE5E-6AF9-4D08-B16D-108961834C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8FE85-C3CA-4EBC-9C8B-30D5F4CDA94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Architectur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alized DBMS: combines everything into single system including- DBMS software, hardware, application programs and user interface processing soft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6248520" cy="3276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943600" y="2666880"/>
            <a:ext cx="2057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8AC2-C58C-45C6-992F-214D7029EE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C3BFAB-50C3-4194-B386-EAB9992B60C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wo Tier Client-Server Architectur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6858000" cy="4267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600200" y="990720"/>
            <a:ext cx="190512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066680"/>
            <a:ext cx="327672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ver: provides database query and transaction services to client mach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ent: provide appropriate interfaces to serv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n User Interface (UI) Programs and Application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 to servers via networ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A9A4-FB4C-497E-8A5E-9E2E543C797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5815A-81E1-437A-9C75-0F65CF9BFC9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ent-Server Interf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rface between a server and a client is commonly specified by ODBC (Open Database Connectivit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vides an Application program interface (API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ow client side programs to call the DBM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PostgreSQL, we have several API examp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, PERL, PHP, and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$dbconn = pg_connect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host= wozniak.eecs.ku.edu port=54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bname=xxxx user=yyyy password=zzzz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07B5-9A3C-4038-BFC5-7F5FB6C8E2B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77004A-B1CA-485A-8FB9-47FED81F5F5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(n) Tier Client-Server Archite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917640" y="1219320"/>
            <a:ext cx="4340160" cy="4952520"/>
            <a:chOff x="917640" y="1219320"/>
            <a:chExt cx="4340160" cy="495252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3276360" y="1219320"/>
              <a:ext cx="419040" cy="4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3886200" y="1219320"/>
              <a:ext cx="456840" cy="38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Cloud"/>
            <p:cNvSpPr/>
            <p:nvPr/>
          </p:nvSpPr>
          <p:spPr>
            <a:xfrm>
              <a:off x="2895480" y="1832040"/>
              <a:ext cx="1828440" cy="72612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355200" y="2000880"/>
              <a:ext cx="9075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2738160" y="2921400"/>
              <a:ext cx="2214360" cy="4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2743200" y="3670200"/>
              <a:ext cx="2209320" cy="9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5"/>
            <a:stretch/>
          </p:blipFill>
          <p:spPr>
            <a:xfrm>
              <a:off x="3276360" y="5031360"/>
              <a:ext cx="1133280" cy="114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220760" y="1219320"/>
              <a:ext cx="11102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rial"/>
                </a:rPr>
                <a:t>Cli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18960" y="2784960"/>
              <a:ext cx="1028160" cy="7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rial"/>
                </a:rPr>
                <a:t>We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rial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17640" y="3805920"/>
              <a:ext cx="1668240" cy="7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rial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rial"/>
                </a:rPr>
                <a:t>ser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88920" y="5214600"/>
              <a:ext cx="1490400" cy="7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rial"/>
                </a:rPr>
                <a:t>Databa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rial"/>
                </a:rPr>
                <a:t>ser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66880" y="1695960"/>
              <a:ext cx="0" cy="81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3057480"/>
              <a:ext cx="0" cy="81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71800" y="4759560"/>
              <a:ext cx="0" cy="476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7960" y="4759560"/>
              <a:ext cx="0" cy="476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57800" y="3057480"/>
              <a:ext cx="0" cy="81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29200" y="1695960"/>
              <a:ext cx="0" cy="81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409720" y="1142640"/>
            <a:ext cx="3505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intermediate layer is called Application Server or Web Server, or both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es the web connectivity software and business logic for appl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ts like a conduit for sending partially processed data between the database server and the cli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itional Fea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ity: encrypt the data at the server and client before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2971800"/>
            <a:ext cx="533520" cy="16002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3623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ediate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9AB2-6BB1-4285-955F-B76AB7F7830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7F95A2-271F-49D2-A49C-EF5B490E0CA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3-05T20:49:52Z</dcterms:modified>
  <cp:revision>1354</cp:revision>
  <dc:subject/>
  <dc:title>CS186: Introduction to Database Systems</dc:title>
</cp:coreProperties>
</file>