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5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D5AE8E-3533-4ADE-B0F2-A9A3E39AB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513ADB-8903-4595-B590-1EF43A49E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82C57C-E93A-4E65-B6F0-7C4B8295E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5A8FF4-C228-426C-892F-E4C5AB50F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77DD76-B7BC-409F-8D32-583789F8E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CABACD-AB57-47CE-B8D8-7B7ABA533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B5A8A3-9B0C-4612-9725-2B9CD6AD9B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3BB678-8F57-44E3-B27C-17CA5C386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1EA5D3-EE76-4DE0-97DB-20DE97E69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5931C1-51E5-4009-AF35-00FD1C395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00FAF8-7E99-4A86-B3FE-675760271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51A3CD-F8F8-41EE-BFF4-75908B466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C61B2B-18A6-4323-AB23-77547D215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984805-AAC1-4897-BF2A-BA014B922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2799E8-7DDE-4624-9528-9EB980017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657CFC-9CB2-4803-866E-D79D5D61D5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430CDF-AEAB-4530-B3AD-F454D0982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1F3F60-7019-4CCE-8489-B65CB46F7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2A14D1-253B-4490-A281-A22BC0866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70FD38-6E37-4945-8815-1C58FA224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2E467B-440F-4CEC-B17C-BCCD1B66D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5409DA-D611-49F8-BB36-93057DA31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D7E9EC-2924-47BD-AAE7-E0C06B19D8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0812F3-4547-4BE9-B3B5-ABD10902E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D7FE45-7842-4AE7-87EB-8AFE8CC52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9BCABC-0360-4F9B-B97B-02A21B6EB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4360" cy="3821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4640" y="4862160"/>
            <a:ext cx="5208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71CE65-5373-4606-A1AA-D98F91224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5400" y="77004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37A8F9-F7D4-475A-8F01-6AA3133D5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D35DD9-5B7A-4D8C-A64A-3DBDF6DF3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D19F1A-A566-4A37-AA0C-EFCEA4118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7D3-EFF2-4CB7-B7FD-4A7BC5B7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563-60D0-4B9B-97EC-BDD495F7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C1B-3209-4F08-9731-4B5E671C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DB8-F3E3-4F82-A320-D3F60B79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3A3-37A4-401A-8A30-B5A935C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11B-A60B-482A-B73B-08966572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F61-CBFB-4820-B2C6-39BC8523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929-EF45-4AC2-95F3-7C0A9551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B6F-8B54-4D3D-B13B-846300D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926-DDB2-461C-A827-9EC4482F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A01-5A4A-463B-8859-40E58F2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792-28D7-4EFF-8440-268554BC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B29-B01B-4E36-B1CA-727040D741C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C48-E434-47E3-86CD-ADA8FDD99C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the Nature of Your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s: nominal, ordinal, interval, rat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62B3-B20A-4034-8175-20FF75E262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4FE95-4596-48AC-A2BC-E3F3B90BA8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Dat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4040" y="1152360"/>
            <a:ext cx="41148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data objects and their attrib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attribute is a property or characteristic of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 eye color of a person, temperatur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 is also known as variable, field, characteristic, or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llection of attributes describe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is also known as record, point, case, sample, entity, or in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86080" y="1176480"/>
            <a:ext cx="4654440" cy="4428360"/>
            <a:chOff x="4186080" y="1176480"/>
            <a:chExt cx="4654440" cy="4428360"/>
          </a:xfrm>
        </p:grpSpPr>
        <p:grpSp>
          <p:nvGrpSpPr>
            <p:cNvPr id="141" name=""/>
            <p:cNvGrpSpPr/>
            <p:nvPr/>
          </p:nvGrpSpPr>
          <p:grpSpPr>
            <a:xfrm>
              <a:off x="5544360" y="1676520"/>
              <a:ext cx="3296160" cy="3928320"/>
              <a:chOff x="5544360" y="1676520"/>
              <a:chExt cx="3296160" cy="3928320"/>
            </a:xfrm>
          </p:grpSpPr>
          <p:graphicFrame>
            <p:nvGraphicFramePr>
              <p:cNvPr id="142" name=""/>
              <p:cNvGraphicFramePr/>
              <p:nvPr/>
            </p:nvGraphicFramePr>
            <p:xfrm>
              <a:off x="5544360" y="2084400"/>
              <a:ext cx="3296160" cy="352044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544360" y="2084400"/>
                        <a:ext cx="3296160" cy="352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4" name=""/>
              <p:cNvSpPr/>
              <p:nvPr/>
            </p:nvSpPr>
            <p:spPr>
              <a:xfrm rot="5400000">
                <a:off x="6940080" y="389160"/>
                <a:ext cx="357120" cy="2931120"/>
              </a:xfrm>
              <a:custGeom>
                <a:avLst/>
                <a:gdLst>
                  <a:gd name="textAreaLeft" fmla="*/ 228240 w 357120"/>
                  <a:gd name="textAreaRight" fmla="*/ 357480 w 357120"/>
                  <a:gd name="textAreaTop" fmla="*/ 76320 h 2931120"/>
                  <a:gd name="textAreaBottom" fmla="*/ 2854800 h 293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330960" y="1176480"/>
              <a:ext cx="13582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Attribut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6880" y="2533680"/>
              <a:ext cx="357480" cy="2928600"/>
            </a:xfrm>
            <a:custGeom>
              <a:avLst/>
              <a:gdLst>
                <a:gd name="textAreaLeft" fmla="*/ 228600 w 357480"/>
                <a:gd name="textAreaRight" fmla="*/ 357840 w 357480"/>
                <a:gd name="textAreaTop" fmla="*/ 76320 h 2928600"/>
                <a:gd name="textAreaBottom" fmla="*/ 2852280 h 29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080" y="3819600"/>
              <a:ext cx="1072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Object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752-772A-4EAF-B85C-EA5DCA664B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EE79A-F145-4491-B856-F8EA6A3DC0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e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427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numbers or symbols assigned to an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ion between attributes and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attribute can be mapped to different attribute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height can be measured in feet or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fferent attributes can be mapped to the same set of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ttribute values for ID and age are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roperties of attribute values can b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has no limit but age has a maximum and minimum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E4F-EEE1-4C51-B94D-E18D1BDA16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FF180-2500-4EDF-B617-758DD30FFD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different types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ID numbers, eye color, zip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rankings (e.g., taste of potato chips on a scale from 1-10), grades, height in {tall, medium, shor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calendar dates, temperatures in Celsius or Fahrenh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temperature in Kelvin, length, time, cou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EC6-AD94-4DC2-8839-99F1B9FE5C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611E1-11F3-4D21-A39B-830E16FC29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 of Attribute Valu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of an attribute depends on which of the following properties it posse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tinctness: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er: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  &gt;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: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 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ltiplication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minal attribute: distinc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inal attribute: distinctness &amp;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al attribute: distinctness, order &amp; add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tio attribute: all 4 proper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3BB-65BD-42F0-9F55-5795ED2301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A9065-12B6-4457-BE64-E2C5DC579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152280" y="1143000"/>
            <a:ext cx="8686080" cy="5000760"/>
            <a:chOff x="152280" y="1143000"/>
            <a:chExt cx="8686080" cy="5000760"/>
          </a:xfrm>
        </p:grpSpPr>
        <p:grpSp>
          <p:nvGrpSpPr>
            <p:cNvPr id="155" name=""/>
            <p:cNvGrpSpPr/>
            <p:nvPr/>
          </p:nvGrpSpPr>
          <p:grpSpPr>
            <a:xfrm>
              <a:off x="152280" y="1143000"/>
              <a:ext cx="1955880" cy="565200"/>
              <a:chOff x="152280" y="1143000"/>
              <a:chExt cx="1955880" cy="565200"/>
            </a:xfrm>
          </p:grpSpPr>
          <p:sp>
            <p:nvSpPr>
              <p:cNvPr id="156" name=""/>
              <p:cNvSpPr/>
              <p:nvPr/>
            </p:nvSpPr>
            <p:spPr>
              <a:xfrm>
                <a:off x="152280" y="1143000"/>
                <a:ext cx="1955880" cy="565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152280" y="1143000"/>
                <a:ext cx="1955520" cy="565200"/>
                <a:chOff x="152280" y="1143000"/>
                <a:chExt cx="1955520" cy="565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75400" y="1143000"/>
                  <a:ext cx="1709640" cy="5652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5680" rIns="85680" tIns="42840" bIns="42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tribute Typ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52280" y="1143000"/>
                  <a:ext cx="1955520" cy="56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" name=""/>
            <p:cNvGrpSpPr/>
            <p:nvPr/>
          </p:nvGrpSpPr>
          <p:grpSpPr>
            <a:xfrm>
              <a:off x="2108520" y="1143000"/>
              <a:ext cx="4013280" cy="565200"/>
              <a:chOff x="2108520" y="1143000"/>
              <a:chExt cx="4013280" cy="565200"/>
            </a:xfrm>
          </p:grpSpPr>
          <p:sp>
            <p:nvSpPr>
              <p:cNvPr id="161" name=""/>
              <p:cNvSpPr/>
              <p:nvPr/>
            </p:nvSpPr>
            <p:spPr>
              <a:xfrm>
                <a:off x="2108520" y="1143000"/>
                <a:ext cx="4013280" cy="565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08520" y="1143000"/>
                <a:ext cx="4012920" cy="565200"/>
                <a:chOff x="2108520" y="1143000"/>
                <a:chExt cx="4012920" cy="5652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31640" y="1143000"/>
                  <a:ext cx="3766320" cy="5652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5680" rIns="85680" tIns="42840" bIns="42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08520" y="1143000"/>
                  <a:ext cx="4012920" cy="56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122520" y="1143000"/>
              <a:ext cx="2715840" cy="565200"/>
              <a:chOff x="6122520" y="1143000"/>
              <a:chExt cx="2715840" cy="565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122520" y="1143000"/>
                <a:ext cx="2715840" cy="565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122520" y="1143000"/>
                <a:ext cx="2715480" cy="565200"/>
                <a:chOff x="6122520" y="1143000"/>
                <a:chExt cx="2715480" cy="565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245640" y="1143000"/>
                  <a:ext cx="2469600" cy="5652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5680" rIns="85680" tIns="42840" bIns="42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amp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22520" y="1143000"/>
                  <a:ext cx="2715480" cy="56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152280" y="1708200"/>
              <a:ext cx="1955880" cy="1073160"/>
              <a:chOff x="152280" y="1708200"/>
              <a:chExt cx="1955880" cy="1073160"/>
            </a:xfrm>
          </p:grpSpPr>
          <p:sp>
            <p:nvSpPr>
              <p:cNvPr id="171" name=""/>
              <p:cNvSpPr/>
              <p:nvPr/>
            </p:nvSpPr>
            <p:spPr>
              <a:xfrm>
                <a:off x="275400" y="1708200"/>
                <a:ext cx="171000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mi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2280" y="1708200"/>
                <a:ext cx="1955880" cy="107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108520" y="1708200"/>
              <a:ext cx="4013280" cy="1073160"/>
              <a:chOff x="2108520" y="1708200"/>
              <a:chExt cx="4013280" cy="1073160"/>
            </a:xfrm>
          </p:grpSpPr>
          <p:sp>
            <p:nvSpPr>
              <p:cNvPr id="174" name=""/>
              <p:cNvSpPr/>
              <p:nvPr/>
            </p:nvSpPr>
            <p:spPr>
              <a:xfrm>
                <a:off x="2231640" y="1708200"/>
                <a:ext cx="37666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he values of a nominal attribute are just different names, i.e., nominal attributes provide only enough information to distinguish one object from another. (=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08520" y="1708200"/>
                <a:ext cx="4013280" cy="107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122520" y="1708200"/>
              <a:ext cx="2715840" cy="1073160"/>
              <a:chOff x="6122520" y="1708200"/>
              <a:chExt cx="2715840" cy="1073160"/>
            </a:xfrm>
          </p:grpSpPr>
          <p:sp>
            <p:nvSpPr>
              <p:cNvPr id="177" name=""/>
              <p:cNvSpPr/>
              <p:nvPr/>
            </p:nvSpPr>
            <p:spPr>
              <a:xfrm>
                <a:off x="6245640" y="1708200"/>
                <a:ext cx="246996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zip codes, employee ID numbers, eye color, sex: {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male, fema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}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22520" y="1708200"/>
                <a:ext cx="2715840" cy="107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152280" y="2781360"/>
              <a:ext cx="1955880" cy="1035000"/>
              <a:chOff x="152280" y="2781360"/>
              <a:chExt cx="1955880" cy="1035000"/>
            </a:xfrm>
          </p:grpSpPr>
          <p:sp>
            <p:nvSpPr>
              <p:cNvPr id="180" name=""/>
              <p:cNvSpPr/>
              <p:nvPr/>
            </p:nvSpPr>
            <p:spPr>
              <a:xfrm>
                <a:off x="275400" y="2781360"/>
                <a:ext cx="1710000" cy="10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di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2280" y="2781360"/>
                <a:ext cx="1955880" cy="103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108520" y="2781360"/>
              <a:ext cx="4013280" cy="1035000"/>
              <a:chOff x="2108520" y="2781360"/>
              <a:chExt cx="4013280" cy="1035000"/>
            </a:xfrm>
          </p:grpSpPr>
          <p:sp>
            <p:nvSpPr>
              <p:cNvPr id="183" name=""/>
              <p:cNvSpPr/>
              <p:nvPr/>
            </p:nvSpPr>
            <p:spPr>
              <a:xfrm>
                <a:off x="2231640" y="2781360"/>
                <a:ext cx="3766680" cy="10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he values of an ordinal attribute provide enough information to order objects. (&lt;, &gt;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08520" y="2781360"/>
                <a:ext cx="4013280" cy="103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22520" y="2781360"/>
              <a:ext cx="2715840" cy="1035000"/>
              <a:chOff x="6122520" y="2781360"/>
              <a:chExt cx="2715840" cy="1035000"/>
            </a:xfrm>
          </p:grpSpPr>
          <p:sp>
            <p:nvSpPr>
              <p:cNvPr id="186" name=""/>
              <p:cNvSpPr/>
              <p:nvPr/>
            </p:nvSpPr>
            <p:spPr>
              <a:xfrm>
                <a:off x="6245640" y="2781360"/>
                <a:ext cx="2469960" cy="10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hardness of minerals, {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good, better, be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}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grades, street number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22520" y="2781360"/>
                <a:ext cx="2715840" cy="103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52280" y="3816360"/>
              <a:ext cx="1955880" cy="1036800"/>
              <a:chOff x="152280" y="3816360"/>
              <a:chExt cx="1955880" cy="1036800"/>
            </a:xfrm>
          </p:grpSpPr>
          <p:sp>
            <p:nvSpPr>
              <p:cNvPr id="189" name=""/>
              <p:cNvSpPr/>
              <p:nvPr/>
            </p:nvSpPr>
            <p:spPr>
              <a:xfrm>
                <a:off x="275400" y="3816360"/>
                <a:ext cx="1710000" cy="10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rv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2280" y="3816360"/>
                <a:ext cx="1955880" cy="103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108520" y="3816360"/>
              <a:ext cx="4013280" cy="1036800"/>
              <a:chOff x="2108520" y="3816360"/>
              <a:chExt cx="4013280" cy="1036800"/>
            </a:xfrm>
          </p:grpSpPr>
          <p:sp>
            <p:nvSpPr>
              <p:cNvPr id="192" name=""/>
              <p:cNvSpPr/>
              <p:nvPr/>
            </p:nvSpPr>
            <p:spPr>
              <a:xfrm>
                <a:off x="2231640" y="3816360"/>
                <a:ext cx="3766680" cy="10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For interval attributes, the differences between values are meaningful, i.e., a unit of measurement exists. 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(+, - 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108520" y="3816360"/>
                <a:ext cx="4013280" cy="103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122520" y="3816360"/>
              <a:ext cx="2715840" cy="1036800"/>
              <a:chOff x="6122520" y="3816360"/>
              <a:chExt cx="2715840" cy="1036800"/>
            </a:xfrm>
          </p:grpSpPr>
          <p:sp>
            <p:nvSpPr>
              <p:cNvPr id="195" name=""/>
              <p:cNvSpPr/>
              <p:nvPr/>
            </p:nvSpPr>
            <p:spPr>
              <a:xfrm>
                <a:off x="6245640" y="3816360"/>
                <a:ext cx="2469960" cy="10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calendar dates, temperature in Celsius or Fahrenhe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22520" y="3816360"/>
                <a:ext cx="2715840" cy="103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52280" y="4853160"/>
              <a:ext cx="1955880" cy="1290600"/>
              <a:chOff x="152280" y="4853160"/>
              <a:chExt cx="1955880" cy="1290600"/>
            </a:xfrm>
          </p:grpSpPr>
          <p:sp>
            <p:nvSpPr>
              <p:cNvPr id="198" name=""/>
              <p:cNvSpPr/>
              <p:nvPr/>
            </p:nvSpPr>
            <p:spPr>
              <a:xfrm>
                <a:off x="275400" y="4853160"/>
                <a:ext cx="1710000" cy="12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at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2280" y="4853160"/>
                <a:ext cx="1955880" cy="129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108520" y="4853160"/>
              <a:ext cx="4013280" cy="1290600"/>
              <a:chOff x="2108520" y="4853160"/>
              <a:chExt cx="4013280" cy="1290600"/>
            </a:xfrm>
          </p:grpSpPr>
          <p:sp>
            <p:nvSpPr>
              <p:cNvPr id="201" name=""/>
              <p:cNvSpPr/>
              <p:nvPr/>
            </p:nvSpPr>
            <p:spPr>
              <a:xfrm>
                <a:off x="2231640" y="4853160"/>
                <a:ext cx="3766680" cy="12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For ratio variables, both differences and ratios are meaningful. (*, /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108520" y="4853160"/>
                <a:ext cx="4013280" cy="129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122520" y="4853160"/>
              <a:ext cx="2715840" cy="1290600"/>
              <a:chOff x="6122520" y="4853160"/>
              <a:chExt cx="2715840" cy="1290600"/>
            </a:xfrm>
          </p:grpSpPr>
          <p:sp>
            <p:nvSpPr>
              <p:cNvPr id="204" name=""/>
              <p:cNvSpPr/>
              <p:nvPr/>
            </p:nvSpPr>
            <p:spPr>
              <a:xfrm>
                <a:off x="6245640" y="4853160"/>
                <a:ext cx="2469960" cy="12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emperature in Kelvin, monetary quantities, counts, age, mass, length, electrical curr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122520" y="4853160"/>
                <a:ext cx="2715840" cy="129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175248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 of Attribut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708-F605-4AD7-99A0-4E1ED6A9078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1194A-42A5-4FE2-8D21-63FD5810DD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e and Continuous Attribu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only a finite or countablely infinite set of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 zip codes, counts, or the set of words in a collection of doc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represented as integer variables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: binary attributes are a special case of discrete attribu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real numbers as attribut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 temperature, height, or weight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actically, real values can only be measured and represented using a finite number of dig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inuous attributes are typically represented as floating-point variable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1D8-59A7-4714-844E-B26FC7077B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DDA20-534D-4E82-81DE-65B21B3BCB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d vs Unstructure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n a relational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-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aphs, trees, sequen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-structured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age, 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5F6-AFDE-4C94-8523-E57A722186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AA568-0B93-4969-AE64-5320096AF2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63240" y="266400"/>
            <a:ext cx="858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Characteristics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1360" y="1131840"/>
            <a:ext cx="8137440" cy="47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se of Dimension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presence cou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tterns depend on the sca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905-1893-451C-99B7-BA2ABBEA72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FDED6-ECBB-4264-BB9F-5D63252739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Dat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hat consists of a collection of records, each of which consists of a fixed set of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219400" y="2514600"/>
          <a:ext cx="3419280" cy="36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341928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AE0-02A7-4CF7-BEA7-1CB8CC681F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0E2BF-03CC-4EAB-A3F0-DD562A125F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due May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will not accept late hand-in for the final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ear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take quick action if you haven’t divided the tasks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ose in the implementation phase (this is the right phase that you should be in), thinking about testing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review is April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 your feedba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like the course, recommend it to other stud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79C-9DC4-432D-B13B-99CBA39CD8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08DA1-C98A-4B3D-80E2-48190273A2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atrix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1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objects have the same fixed set of numeric attributes, then the data objects can be thought of as points in a multi-dimensional space, where each dimension represents a distinct 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data set can be represented by an m by n matrix, where there are m rows, one for each object, and n columns, one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01880" y="4033800"/>
          <a:ext cx="670716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4033800"/>
                    <a:ext cx="67071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873-A4AF-4469-AA79-BB7D27EB64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A4E71-9A29-4AB7-BA92-2FBC2F5634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becomes a `term' vect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erm is a component (attribute) of the vecto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value of each component is the number of times the corresponding term occurs in the docum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19320" y="3132000"/>
          <a:ext cx="6705360" cy="31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32000"/>
                    <a:ext cx="6705360" cy="31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9582-74A9-4EB4-AF4A-2FE5DD186C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9E92D-1EC2-4127-9825-0E1930E7B1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type of record data,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ecord (transaction) involves a set of item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xample, consider a grocery store.  The set of products purchased by a customer during one shopping trip constitute a transaction, while the individual products that were purchased are the i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743120" y="3695760"/>
          <a:ext cx="4495680" cy="23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3695760"/>
                    <a:ext cx="44956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DDE-E0A0-42B9-97DB-99229D4083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DF794-25F5-416E-9EA5-A75923405C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Qualit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kinds of data quality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we detect problems with the d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we do about these problem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ata quality probl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ise and outli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ssing and duplicated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1B5-C1C1-4994-91E2-E7395F7471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7F574-C5FA-47BA-9276-908B7CA479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refers to modification of origin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distortion of a person’s voice when talking on a poor phone and “snow” on television scre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6250" t="0" r="0" b="0"/>
          <a:stretch/>
        </p:blipFill>
        <p:spPr>
          <a:xfrm>
            <a:off x="609480" y="2508120"/>
            <a:ext cx="4103640" cy="3283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rcRect l="8394" t="0" r="6250" b="0"/>
          <a:stretch/>
        </p:blipFill>
        <p:spPr>
          <a:xfrm>
            <a:off x="4719600" y="2514600"/>
            <a:ext cx="3738600" cy="3284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676520" y="59436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59436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 +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88C-C8B9-4816-AABC-2DABE4EEA1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637C8-553C-4C82-A146-57BE85C2E1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ing Data to a New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6160" y="990720"/>
            <a:ext cx="8394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6576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17560" y="5985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8295" b="0"/>
          <a:stretch/>
        </p:blipFill>
        <p:spPr>
          <a:xfrm>
            <a:off x="5791320" y="2362320"/>
            <a:ext cx="3352680" cy="27414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rcRect l="6257" t="0" r="0" b="0"/>
          <a:stretch/>
        </p:blipFill>
        <p:spPr>
          <a:xfrm>
            <a:off x="0" y="2362320"/>
            <a:ext cx="3427560" cy="27414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rcRect l="8337" t="0" r="6207" b="0"/>
          <a:stretch/>
        </p:blipFill>
        <p:spPr>
          <a:xfrm>
            <a:off x="3048120" y="2362320"/>
            <a:ext cx="3124080" cy="274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5800" y="5410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54864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 +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4864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8440" y="1143000"/>
            <a:ext cx="8394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5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5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t trans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890-A907-4191-8D80-0AD98C585F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E957A-11C0-4EE6-BEC4-5BF3DF86DA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27200" y="1976400"/>
            <a:ext cx="4268520" cy="3504960"/>
            <a:chOff x="2527200" y="1976400"/>
            <a:chExt cx="4268520" cy="35049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527200" y="1976400"/>
              <a:ext cx="426852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765520" y="2936880"/>
              <a:ext cx="173520" cy="157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0640" y="3429360"/>
              <a:ext cx="173520" cy="1569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96560" y="4640760"/>
              <a:ext cx="173880" cy="1591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3320" y="4764240"/>
              <a:ext cx="173520" cy="1569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46560" y="3144960"/>
              <a:ext cx="38772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2120" y="3234240"/>
              <a:ext cx="388080" cy="4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83680" y="1072800"/>
            <a:ext cx="83646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56680" indent="-256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ers are data objects with characteristics that are considerably different than most of the other data objects in the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erson’s outlier can be another one’s treasur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798-BC75-4FA6-9B4E-76CFBF69A58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E9803-6839-4372-999E-61464EF791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ng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 for missing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is not collecte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e.g., people decline to give their age and weigh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 may not be applicable to all case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e.g., annual income is not applicable to childre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missing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iminate Data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imate Missing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gnore the Missing Value During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with all possible values (weighted by their probabilit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FE0-77C9-4B59-8801-164835F0BEF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5BCB1-E092-4B92-847F-D4AFAA4E5E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plicat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t may include data objects that are duplicates, or almost duplicates of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jor issue when merging data from heterogeous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person with multiple email addr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cess of dealing with duplicate data 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9A6-2F1E-462F-847B-41B1696F789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1D673-49CB-4E89-8C18-3C485B7D20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A: Exploratory Data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 pl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49C-8664-48D4-AD88-5B8CF1583F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5E8E8-2F65-4A3D-83A5-4CD0FE57AD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27160" y="289080"/>
            <a:ext cx="66420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What Is Data Min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 (knowledge discovery from 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ction of interesting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n-trivial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eviously unknow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tentially useful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atterns or knowledge from huge amount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class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edict the value of unsee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ing similar objects into grou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487-8278-4EDF-A7D2-654736095B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EF505-BC73-4879-BA49-C67962624B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tion Techniques: Hist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427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shows the distribution of values of a single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he values into bins and show a bar plot of the number of objects in each bi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eight of each bar indicates the number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pe of histogram depends on the number of b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Petal Wid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 and 20 bins, respectivel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2277" t="0" r="0" b="3269"/>
          <a:stretch/>
        </p:blipFill>
        <p:spPr>
          <a:xfrm>
            <a:off x="762120" y="3962520"/>
            <a:ext cx="326844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rcRect l="2277" t="0" r="0" b="3269"/>
          <a:stretch/>
        </p:blipFill>
        <p:spPr>
          <a:xfrm>
            <a:off x="4495680" y="3962520"/>
            <a:ext cx="32688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72B-3B61-4B4C-BAE8-71A05602CC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35292-D124-4542-B415-6793BC6309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2517840"/>
            <a:ext cx="5657760" cy="38829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Dimensional Hist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10760" y="1066320"/>
            <a:ext cx="8427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e joint distribution of the values of two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etal width and petal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does this tell u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B45-76A7-4439-BFE3-DA3B88FA8D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CD262-0771-4E3B-B312-186BACAC4C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tion Techniques: Box Plo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10760" y="1143000"/>
            <a:ext cx="8427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Pl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ed by J. Tu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other way of displaying the distribution of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llowing figure shows the basic part of a box pl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944800"/>
            <a:ext cx="2514240" cy="3227040"/>
            <a:chOff x="2819520" y="2944800"/>
            <a:chExt cx="2514240" cy="3227040"/>
          </a:xfrm>
        </p:grpSpPr>
        <p:grpSp>
          <p:nvGrpSpPr>
            <p:cNvPr id="274" name=""/>
            <p:cNvGrpSpPr/>
            <p:nvPr/>
          </p:nvGrpSpPr>
          <p:grpSpPr>
            <a:xfrm>
              <a:off x="2819520" y="3074760"/>
              <a:ext cx="644400" cy="3097080"/>
              <a:chOff x="2819520" y="3074760"/>
              <a:chExt cx="644400" cy="309708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3145680" y="3612600"/>
                <a:ext cx="720" cy="888480"/>
              </a:xfrm>
              <a:prstGeom prst="line">
                <a:avLst/>
              </a:prstGeom>
              <a:ln w="0">
                <a:solidFill>
                  <a:srgbClr val="0000ff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3145680" y="5128560"/>
                <a:ext cx="720" cy="749880"/>
              </a:xfrm>
              <a:prstGeom prst="line">
                <a:avLst/>
              </a:prstGeom>
              <a:ln w="0">
                <a:solidFill>
                  <a:srgbClr val="0000ff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982600" y="5878800"/>
                <a:ext cx="317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982600" y="3612600"/>
                <a:ext cx="317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19520" y="4501080"/>
                <a:ext cx="644400" cy="627840"/>
              </a:xfrm>
              <a:prstGeom prst="rect">
                <a:avLst/>
              </a:pr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19520" y="4876200"/>
                <a:ext cx="64440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05000" y="3107880"/>
                <a:ext cx="7272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45680" y="3074760"/>
                <a:ext cx="720" cy="655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05000" y="3482280"/>
                <a:ext cx="72720" cy="7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145680" y="3449880"/>
                <a:ext cx="720" cy="727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105000" y="3360600"/>
                <a:ext cx="7272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45680" y="3327480"/>
                <a:ext cx="720" cy="655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05000" y="6139080"/>
                <a:ext cx="7272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45680" y="6106680"/>
                <a:ext cx="720" cy="65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619440" y="2944800"/>
              <a:ext cx="1143000" cy="228600"/>
              <a:chOff x="3619440" y="2944800"/>
              <a:chExt cx="1143000" cy="228600"/>
            </a:xfrm>
          </p:grpSpPr>
          <p:sp>
            <p:nvSpPr>
              <p:cNvPr id="290" name=""/>
              <p:cNvSpPr/>
              <p:nvPr/>
            </p:nvSpPr>
            <p:spPr>
              <a:xfrm>
                <a:off x="3619440" y="3086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76640" y="2944800"/>
                <a:ext cx="685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utli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19440" y="5715000"/>
              <a:ext cx="1714320" cy="342720"/>
              <a:chOff x="3619440" y="5715000"/>
              <a:chExt cx="1714320" cy="342720"/>
            </a:xfrm>
          </p:grpSpPr>
          <p:sp>
            <p:nvSpPr>
              <p:cNvPr id="293" name=""/>
              <p:cNvSpPr/>
              <p:nvPr/>
            </p:nvSpPr>
            <p:spPr>
              <a:xfrm>
                <a:off x="3619440" y="5856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76640" y="571500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619440" y="5029200"/>
              <a:ext cx="1714320" cy="342720"/>
              <a:chOff x="3619440" y="5029200"/>
              <a:chExt cx="1714320" cy="342720"/>
            </a:xfrm>
          </p:grpSpPr>
          <p:sp>
            <p:nvSpPr>
              <p:cNvPr id="296" name=""/>
              <p:cNvSpPr/>
              <p:nvPr/>
            </p:nvSpPr>
            <p:spPr>
              <a:xfrm>
                <a:off x="3619440" y="5170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76640" y="502920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619440" y="4343400"/>
              <a:ext cx="1714320" cy="342720"/>
              <a:chOff x="3619440" y="4343400"/>
              <a:chExt cx="1714320" cy="342720"/>
            </a:xfrm>
          </p:grpSpPr>
          <p:sp>
            <p:nvSpPr>
              <p:cNvPr id="299" name=""/>
              <p:cNvSpPr/>
              <p:nvPr/>
            </p:nvSpPr>
            <p:spPr>
              <a:xfrm>
                <a:off x="3619440" y="4484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076640" y="434340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3619440" y="4754880"/>
              <a:ext cx="1714320" cy="342720"/>
              <a:chOff x="3619440" y="4754880"/>
              <a:chExt cx="1714320" cy="342720"/>
            </a:xfrm>
          </p:grpSpPr>
          <p:sp>
            <p:nvSpPr>
              <p:cNvPr id="302" name=""/>
              <p:cNvSpPr/>
              <p:nvPr/>
            </p:nvSpPr>
            <p:spPr>
              <a:xfrm>
                <a:off x="3619440" y="489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76640" y="475488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619440" y="3493080"/>
              <a:ext cx="1714320" cy="342720"/>
              <a:chOff x="3619440" y="3493080"/>
              <a:chExt cx="1714320" cy="342720"/>
            </a:xfrm>
          </p:grpSpPr>
          <p:sp>
            <p:nvSpPr>
              <p:cNvPr id="305" name=""/>
              <p:cNvSpPr/>
              <p:nvPr/>
            </p:nvSpPr>
            <p:spPr>
              <a:xfrm>
                <a:off x="3619440" y="3634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76640" y="349308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9AC-29D8-4954-A1D5-7303EACC80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8D3D7-11CD-4408-A136-36606431DB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6654600" cy="45687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Box Plo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427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plots can be used to compar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B64-5F4A-42AC-9BE1-A488ABC10D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46CBE-198C-4CC5-830F-9F746F6DC8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rcRect l="0" t="4140" r="0" b="2776"/>
          <a:stretch/>
        </p:blipFill>
        <p:spPr>
          <a:xfrm>
            <a:off x="380880" y="1066680"/>
            <a:ext cx="7989840" cy="5105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Plot Array of Iris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E92-56FB-4289-8547-9300551C316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859CB-8E50-4167-A204-E1C2E40DE3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measures the linear relationship betwee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ute correlation, we standardize data objects, p and q, and then take their dot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574640" y="3443400"/>
                <a:ext cx="5511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d</m:t>
                        </m:r>
                      </m:den>
                    </m:f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650960" y="4357800"/>
                <a:ext cx="5256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d</m:t>
                        </m:r>
                      </m:den>
                    </m:f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628640" y="5348160"/>
                <a:ext cx="4643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elatio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ABE-58ED-481E-9A6D-EC275B0463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240AC-9E35-4632-A23D-674B948B28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ly Evaluating Corre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143000"/>
          <a:ext cx="77724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77724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6858000" y="2971800"/>
            <a:ext cx="182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tter plots showing the similarity from –1 t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34C-A33E-4B80-8A32-A1D6410FB8A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D9E75-8D79-4DA1-94F1-CC4EEFC648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over Associa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ori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C31-DDCE-4A91-93A1-A7918319F4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AF7E4-CD51-4EF1-9103-48FF9D2958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ociation Rule M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1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transactions, find rules that will predict the occurrence of an item based on the occurrences of other items in th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28195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arket-Basket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228600" y="3429000"/>
          <a:ext cx="434340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429000"/>
                    <a:ext cx="43434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4876920" y="3048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Associat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4120" y="36576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Diaper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Beer}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Milk, Bread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Eggs,Coke}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Beer, Bread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Milk}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49528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means co-occurrence, not caus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176-47D8-464E-83EE-542D18433AB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0A206-DDC4-4FB7-8D4C-EA3DEE72FF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 Frequent Item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87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llection of one or mor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{Milk, Bread, Diaper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temset that contains k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count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of occurrence of an 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{Milk, Bread,Diaper}) =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 of transactions that contain an 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  s({Milk, Bread, Diaper}) = 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quent 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temset whose support is greater than or equal to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s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410080" y="2089080"/>
          <a:ext cx="3657600" cy="21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089080"/>
                    <a:ext cx="365760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B5D-B325-4B70-A809-B68C0096E3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3D2F0-710D-45F9-975E-6579980A84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140680" cy="51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inue the introduction to data mi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nowing the nature of your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iscover association in your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9A8-9BA2-4C18-A135-BB74234F92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03324-F7F9-49B1-9818-B81C7AE7572A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 Association R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784760" y="3657600"/>
            <a:ext cx="3978360" cy="2527200"/>
            <a:chOff x="4784760" y="3657600"/>
            <a:chExt cx="3978360" cy="2527200"/>
          </a:xfrm>
        </p:grpSpPr>
        <p:sp>
          <p:nvSpPr>
            <p:cNvPr id="337" name=""/>
            <p:cNvSpPr/>
            <p:nvPr/>
          </p:nvSpPr>
          <p:spPr>
            <a:xfrm>
              <a:off x="5181480" y="36576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Exampl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5999040" y="4040280"/>
                  <a:ext cx="276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Milk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iaper</m:t>
                          </m:r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Bee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4857840" y="4648320"/>
                  <a:ext cx="39052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ilk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iaper,Bee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T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4784760" y="5486400"/>
                  <a:ext cx="392904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ilk,Diaper,Bee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ilk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iaper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1" name=""/>
          <p:cNvSpPr/>
          <p:nvPr/>
        </p:nvSpPr>
        <p:spPr>
          <a:xfrm>
            <a:off x="304920" y="1066680"/>
            <a:ext cx="4876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ociation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mplication expression of the form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, where X and Y are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{Milk, Diap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Beer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 Evaluation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 of transactions that contain both X and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s how often items in 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 in transactions th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410080" y="1295280"/>
          <a:ext cx="358776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95280"/>
                    <a:ext cx="35877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292-889F-4A42-83CC-B3A504E1E28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7B42E-76E8-4BC3-A69D-41EF4AC4B6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ng Associa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1219320"/>
            <a:ext cx="47246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ample of Rul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,Diap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Beer} (s=0.4, c=0.67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,Be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iaper} (s=0.4, c=1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Diaper,Be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Milk} (s=0.4, c=0.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Be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Milk,Diaper} (s=0.4, c=0.67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Diap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Milk,Beer} (s=0.4, c=0.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iaper,Beer} (s=0.4, c=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04920" y="1523880"/>
          <a:ext cx="3733560" cy="22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373356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380880" y="3886200"/>
            <a:ext cx="79250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bserv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bove rules are binary partitions of the same itemset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, Diaper, Beer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originating from the same itemset have identical support b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an have different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we may decouple the support and confidenc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1E1-2BD3-470F-9944-D14E240306A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9FC58-F11E-4024-8BDC-C0823653FB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622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port value of pattern {acm}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up(acm)=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port of pattern {ac}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up(ac)=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min_sup=3, acm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equ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fidence of the rule: {ac} =&gt; {m}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09680" y="1414440"/>
            <a:ext cx="380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 database T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04920" y="1295280"/>
          <a:ext cx="3578040" cy="2610000"/>
        </p:xfrm>
        <a:graphic>
          <a:graphicData uri="http://schemas.openxmlformats.org/drawingml/2006/table">
            <a:tbl>
              <a:tblPr/>
              <a:tblGrid>
                <a:gridCol w="1528560"/>
                <a:gridCol w="2049480"/>
              </a:tblGrid>
              <a:tr h="473040">
                <a:tc>
                  <a:txBody>
                    <a:bodyPr lIns="85680" rIns="8568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-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tems bou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2768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f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d, g, I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b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f, l,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b, f, h, j, 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b, c, k, s,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f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e, l, p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985-F090-4B48-8EDE-42580B0007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07A4-58C1-46B2-969D-20DC09F18728}" type="datetime1">
              <a:rPr lang="en-US"/>
              <a:t>07/28/26</a:t>
            </a:fld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ng Associa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step approa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requent Itemset Gen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cccc00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ll itemsets whose suppor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ule Gen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cccc00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high confidence rules from each frequent itemset, where each rule is a binary partitioning of a frequent item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itemset generation is still computationally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156-5E7E-467E-9C78-F51B0A0C7AB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AE257-9779-40F7-BE03-6D3430B249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t Itemset Gen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990720"/>
          <a:ext cx="7034040" cy="53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7034040" cy="53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6248520" y="5257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d items, there ar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sible candidate 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A29-5D1F-414C-849C-58199381782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EF28F-B40E-4CF6-AA00-5F2698B7B6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ori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4960" y="116856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vel-wise, candidate-generation-and-test approach (Agrawal &amp; Srikant 199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38120" y="2398680"/>
          <a:ext cx="1523880" cy="1309680"/>
        </p:xfrm>
        <a:graphic>
          <a:graphicData uri="http://schemas.openxmlformats.org/drawingml/2006/table">
            <a:tbl>
              <a:tblPr/>
              <a:tblGrid>
                <a:gridCol w="533520"/>
                <a:gridCol w="990360"/>
              </a:tblGrid>
              <a:tr h="26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c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 c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b, c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74120" y="3728880"/>
            <a:ext cx="1437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_sup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914560" y="2400480"/>
          <a:ext cx="1524240" cy="1571400"/>
        </p:xfrm>
        <a:graphic>
          <a:graphicData uri="http://schemas.openxmlformats.org/drawingml/2006/table">
            <a:tbl>
              <a:tblPr/>
              <a:tblGrid>
                <a:gridCol w="914400"/>
                <a:gridCol w="609840"/>
              </a:tblGrid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427320" y="2028960"/>
            <a:ext cx="159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bas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21680" y="2041560"/>
            <a:ext cx="1643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084400" y="312264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66680" y="276552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086440" y="2416320"/>
          <a:ext cx="1523880" cy="134604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</a:tblGrid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4840200" y="2057400"/>
            <a:ext cx="195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 1-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76680" y="3102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448400" y="2416320"/>
          <a:ext cx="914400" cy="18334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7050600" y="2057400"/>
            <a:ext cx="1643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75560" y="3127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629320" y="4414680"/>
          <a:ext cx="1523880" cy="1833480"/>
        </p:xfrm>
        <a:graphic>
          <a:graphicData uri="http://schemas.openxmlformats.org/drawingml/2006/table">
            <a:tbl>
              <a:tblPr/>
              <a:tblGrid>
                <a:gridCol w="914040"/>
                <a:gridCol w="609840"/>
              </a:tblGrid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847840" y="4022640"/>
            <a:ext cx="1203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05840" y="4317840"/>
            <a:ext cx="647640" cy="109224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0"/>
                </a:moveTo>
                <a:lnTo>
                  <a:pt x="240" y="576"/>
                </a:lnTo>
                <a:lnTo>
                  <a:pt x="0" y="576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78680" y="477216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495600" y="4430880"/>
          <a:ext cx="1523880" cy="130968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</a:tblGrid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3284280" y="4037040"/>
            <a:ext cx="195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 2-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95800" y="51800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476360" y="4430880"/>
          <a:ext cx="914400" cy="52380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1154520" y="4037040"/>
            <a:ext cx="1643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cand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58960" y="4724280"/>
            <a:ext cx="684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133640" y="5572080"/>
          <a:ext cx="1524960" cy="523800"/>
        </p:xfrm>
        <a:graphic>
          <a:graphicData uri="http://schemas.openxmlformats.org/drawingml/2006/table">
            <a:tbl>
              <a:tblPr/>
              <a:tblGrid>
                <a:gridCol w="915120"/>
                <a:gridCol w="609840"/>
              </a:tblGrid>
              <a:tr h="26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"/>
          <p:cNvSpPr/>
          <p:nvPr/>
        </p:nvSpPr>
        <p:spPr>
          <a:xfrm>
            <a:off x="922320" y="5180040"/>
            <a:ext cx="195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 3-item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6440" y="4724280"/>
            <a:ext cx="533160" cy="1067040"/>
          </a:xfrm>
          <a:custGeom>
            <a:avLst/>
            <a:gdLst/>
            <a:ahLst/>
            <a:rect l="l" t="t" r="r" b="b"/>
            <a:pathLst>
              <a:path w="336" h="672">
                <a:moveTo>
                  <a:pt x="336" y="0"/>
                </a:moveTo>
                <a:lnTo>
                  <a:pt x="0" y="0"/>
                </a:lnTo>
                <a:lnTo>
                  <a:pt x="0" y="672"/>
                </a:lnTo>
                <a:lnTo>
                  <a:pt x="240" y="672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280" y="509256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340-8B11-4FE0-8AF6-654629CAF9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DDE6F-096B-419F-B325-4E8B91B83B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ad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mperature (degree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is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l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ssing/duplicated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18C-D2C1-4C16-A2E6-E2BC441605D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D4B92-6684-450B-BD9A-56BC5D8C16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ools for exploratory 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x plo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atter pl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rel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ule: L =&gt; R has two parts: L, the left hand item set and R the right hand item s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ule is measured by two paramete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CC4-D522-47F2-8815-225FD24F08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FC202-031C-47D2-8BC9-6F24B8323D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tial Pattern Discovery: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is a set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ith each object associated with its ow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imeline of ev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find rules that predict strong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equential dependenc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mong different ev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les are formed by first disovering patterns. Event occurrences in the patterns are governed by timing constra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66880" y="4114800"/>
            <a:ext cx="3657600" cy="1752480"/>
            <a:chOff x="2666880" y="4114800"/>
            <a:chExt cx="3657600" cy="1752480"/>
          </a:xfrm>
        </p:grpSpPr>
        <p:sp>
          <p:nvSpPr>
            <p:cNvPr id="102" name=""/>
            <p:cNvSpPr/>
            <p:nvPr/>
          </p:nvSpPr>
          <p:spPr>
            <a:xfrm>
              <a:off x="2666880" y="4114800"/>
              <a:ext cx="3657600" cy="1752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1120" y="4201920"/>
              <a:ext cx="34603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   B)     (C)    (D   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91120" y="5276880"/>
              <a:ext cx="6958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&lt;=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5320" y="4724280"/>
              <a:ext cx="6454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&lt;= x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8680" y="4743360"/>
              <a:ext cx="5511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&gt;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7800" y="4743360"/>
              <a:ext cx="67608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&lt;= 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160" y="55260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160" y="50227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4280" y="5022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502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19160" y="4647960"/>
              <a:ext cx="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24280" y="473544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181480" y="473544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4647960"/>
              <a:ext cx="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514600" y="2133720"/>
            <a:ext cx="4038120" cy="685800"/>
            <a:chOff x="2514600" y="2133720"/>
            <a:chExt cx="4038120" cy="685800"/>
          </a:xfrm>
        </p:grpSpPr>
        <p:sp>
          <p:nvSpPr>
            <p:cNvPr id="117" name=""/>
            <p:cNvSpPr/>
            <p:nvPr/>
          </p:nvSpPr>
          <p:spPr>
            <a:xfrm>
              <a:off x="2514600" y="2133720"/>
              <a:ext cx="4038120" cy="685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06760" y="2221200"/>
              <a:ext cx="381384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   B)     (C)        (D   E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80060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88E4-9B85-4CED-896A-CF298B7A88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CBA3B-9643-4B65-A3D7-C90CBCC654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quential Pattern Discovery: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elecommunications alarm log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verter_Problem  Excessive_Line_Curre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ctifier_Alarm) --&gt; (Fire_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oint-of-sale transaction sequen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Booksto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ro_To_Visual_C)  (C++_Primer) --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erl_for_dummies,Tcl_T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hletic Apparel Sto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hoes) (Racket, Racketball) --&gt; (Sports_Ja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564-F71B-431C-9E88-4BE3A38E1A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14019-38B6-4021-AB0C-5B7C7BEC1C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 a value of a given continuous valued variable based on the values of other variables, assuming a linear or nonlinear model of depend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ly studied in statistics, neural network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icting sales amounts of new product based on advetising expenditu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dicting wind velocities as a function of temperature, humidity, air pressur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ime series prediction of stock market ind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CF7-2D5F-4389-9F8B-E415DC30AD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21CBE-BED7-4D09-A8CC-B7970C83E6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iation/Anomaly De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 significant deviations from norm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dit Card Fraud Det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twork Intrus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81760" y="3922560"/>
            <a:ext cx="3162240" cy="171144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818240" y="4013280"/>
            <a:ext cx="2604960" cy="2387520"/>
            <a:chOff x="4818240" y="4013280"/>
            <a:chExt cx="2604960" cy="23875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818240" y="4013280"/>
              <a:ext cx="2604960" cy="23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4818240" y="4013280"/>
              <a:ext cx="2604960" cy="238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119480" y="3886200"/>
            <a:ext cx="1922400" cy="1266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5715000"/>
            <a:ext cx="830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ypical network traffic at University level may reach over 100 million connections per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791320" y="1851120"/>
          <a:ext cx="3124080" cy="18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851120"/>
                    <a:ext cx="312408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A34-9504-47A7-B08A-F3849A0F2C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B3904-EA4B-4505-830B-C7F8FE675D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Data M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and Heterogeneou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wnership an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P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5BA-1E15-4A10-B520-5F138B825A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2733E-1251-441A-B22F-84F9B75443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25T19:21:51Z</dcterms:modified>
  <cp:revision>1113</cp:revision>
  <dc:subject/>
  <dc:title>CS186: Introduction to Database Systems</dc:title>
</cp:coreProperties>
</file>