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9CA9F2-4F68-41EA-8E6F-418413166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AE529A-4085-4413-A400-CD44DE910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2D79C8-89E5-44EC-AF92-647B759D4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9D1E51-5D4A-4740-9FD8-CFD2708433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41087A-25E3-4709-91BF-FBE143E6B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1EE899-6DF9-454E-B0AA-0FBAB25DD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222A65-F472-423A-9581-E2F82D116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3A6045-0A17-4284-B7B1-F7A1DE253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01FDD0-DFBA-4989-9FA9-73E130FC6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3D1230-9AB2-407B-B634-5CC7BABD0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426DDA-C933-4048-83BE-08D0CFD045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5471A6-9069-4F43-8E83-3FD82ACA6A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9E30D2-D188-44FB-B227-E68082F93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49F9B6-207D-450D-9D4F-D72A28E2B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E33FBF-162E-4719-AD68-0DC0B8FE5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A5B1CB-45B7-4231-B0CD-FE9CA8BBA1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A2372F-B4AE-4025-82BC-259BD6792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AC42F7-2201-4F5C-9BB1-90AF654AA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828F23-4544-4079-985A-3D5669950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A15804-31C3-4420-AD88-0F1E6D2B5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378F4B-860E-4912-AB3A-E357372D0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AA7-B844-4A52-82B4-824D12F0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DD1-628A-4FB2-8D1F-267C8BD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71B-860B-4A76-800C-AF942DA3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CBAC-6F60-4733-906F-CBFB510D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51E-6CF4-4743-9DF7-A39D2B27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16D-5843-4DC0-9747-9DCD1B2E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F54-7CF5-449A-B8A3-BA8CDB96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FA8-D37D-4AB2-9463-1103F51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C48-8144-4917-9B0F-3CE6EA92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306-C5A0-4BC0-BD93-073CB4F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E0D-911C-4F57-86C5-E577668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13F-31BF-4517-B177-3832435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404-CB70-4977-965D-4B9C3D63D95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0A9-D24F-4ED6-A6A4-B59A1562CF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Programming: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 and cons of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high-level, possible to optimiz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fically designed for databases and is called </a:t>
            </a:r>
            <a:r>
              <a:rPr b="0" i="1" lang="en-US" sz="2600" spc="-1" strike="noStrike">
                <a:solidFill>
                  <a:srgbClr val="70966a"/>
                </a:solidFill>
                <a:latin typeface="Times New Roman"/>
              </a:rPr>
              <a:t>data sub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intended for general-purpose computation, which is usually done by a </a:t>
            </a:r>
            <a:r>
              <a:rPr b="0" i="1" lang="en-US" sz="2600" spc="-1" strike="noStrike">
                <a:solidFill>
                  <a:srgbClr val="70966a"/>
                </a:solidFill>
                <a:latin typeface="Times New Roman"/>
              </a:rPr>
              <a:t>host langu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gment SQL with constructs from general-purpose programming languages (SQL/PS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SQL together with general-purpose programming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APIs, embedded SQL, JDB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B66-9E21-4BCC-9387-FBE2E94F64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5073B-0948-46B5-BBEE-7EC2B81F4C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has a mySQL database server installed in his laptop. He wrote a perl script to connect to the local mySQL database, retrieve data, and print out reports about his house innovation pl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ser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PIs provided by mySQL to access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l supports mySQL API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BA3-491C-4017-8C7A-2EFD0C2AA0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E8F55-7792-4B7C-B160-548CCFD117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went to his office. He has a JAVA program, which connects to a SqlServer database in his company’s intranet. He use the program to retrieve data and print out reports for his business part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ser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APIs provided by SqlServer to access the datab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supports SqlServer API using JDB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2044" t="0" r="0" b="0"/>
          <a:stretch/>
        </p:blipFill>
        <p:spPr>
          <a:xfrm>
            <a:off x="2133720" y="4648320"/>
            <a:ext cx="365760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B7F6-B061-4BD7-9164-2012D24E27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8A168-05E8-4731-BB9C-D40FF6ED94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ication of Term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job, John went to youtube.com, searched for a video of Thomas train for his children, and download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ent-mediate level-sev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experience a plus” from a job ad linked from you tube’s web s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14400" y="4343400"/>
            <a:ext cx="7686720" cy="1728720"/>
            <a:chOff x="914400" y="4343400"/>
            <a:chExt cx="7686720" cy="172872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914400" y="4572000"/>
              <a:ext cx="41904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914400" y="5410080"/>
              <a:ext cx="4572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Cloud"/>
            <p:cNvSpPr/>
            <p:nvPr/>
          </p:nvSpPr>
          <p:spPr>
            <a:xfrm>
              <a:off x="1828800" y="4952880"/>
              <a:ext cx="1828800" cy="7257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2200" y="5105520"/>
              <a:ext cx="90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419720" y="4343400"/>
              <a:ext cx="221436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4419720" y="5105520"/>
              <a:ext cx="220968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1133640" cy="11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709-F63C-49C5-9CDB-7693EEA1CF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0EEE3-A5C5-4DFF-A571-265B19D37C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edance mismatch and a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operates o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 set of records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low-level general-purpose programming languages operates o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ne record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ur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 result table): position the cursor before the first r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Get nex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move the cursor to the next row and return that row; raise a flag if there is no such r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lo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lean up and release DBMS re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nd in virtually every database language/A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lightly different syn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7D9-5358-4B3D-BAE5-7531CBC347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467A2-159A-47DF-B831-6CD2F38592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ypical Flow of Inter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(user interface, web server, application server) opens a connection to a databas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interact with the database server to perform query, update, or other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terminate the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B22-FC88-4094-A3C1-76275F6E7F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4F53-4FBC-46C5-B011-940B7C7938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menting SQL: SQL/P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istent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e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PROCED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_declaration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_decla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_body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_declaration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ETUR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turn_typ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l_decla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dure_body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 procedure body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= C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805-9836-4911-9BF8-5BA1F15AFF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FDB7D-7464-4F4D-8591-01280A27A1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/PS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CREATE FUNCTION SetMaxGPA(IN newMaxGPA FLOAT)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TURNS INT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nforc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newMaxGPA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; return number of rows mod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BEGIN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rowsUpdated INT DEFAULT 0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thisGPA FLO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A cursor to range over all studen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studentCursor CURSOR FOR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ELECT GPA FROM Student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OR UP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et a flag whenever there is a “not found” exception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noMoreRows INT DEFAULT 0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DECLARE CONTINUE HANDLER FOR NOT FOUND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ET noMoreRows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…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(see next slide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TURN rowsUpdat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F84-0720-48A9-8EF4-9AA758CFDF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ECF44-9048-4AD0-942D-81A426E9DB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/PSM example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etch the first result row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OPEN studentCursor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ETCH FROM studentCursor INTO thisGPA;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over all result rows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noMoreRows &lt;&gt; 1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IF thisGPA &gt; newMaxGPA THEN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 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nforc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newMaxGPA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UPDATE Student SET Student.GPA = newMaxGPA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WHERE CURRENT OF studentCur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pdate cou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SET rowsUpdated = rowsUpdat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 IF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--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etch the next result row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FETCH FROM studentCursor INTO thisGPA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ND WHILE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CLOSE studentCur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025-B57A-4D1B-A980-1BB733FF09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11BB5-CE80-498A-9A1A-73D95CB2D3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QL/PSM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 using scalar query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I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oop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PEAT UNT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O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IGN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SIG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ore pgSQL-specific information, check o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s manual at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postgresql.org/docs/8.2/interactive/plpgsql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56A-6236-4A85-9D2C-DBE8532EA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901F9-5DD0-46BE-863E-B914D1B5EA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#2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CGI programming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: this Friday (March 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3:00-4:15p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re: LEA 11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el free to attend, no obligation at all if you know the material alrea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A2F-6A53-4866-AE5B-C4FE6F011B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BCED2-BF93-4632-82DE-8A1F9C1C84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facing SQL with another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P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commands are sent to the DBMS at run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JDBC, ODBC (for C/C++/VB), Perl DB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API’s  are all based on the SQL/CLI (Call-Level Interface) standa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bedded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commands are embedded in application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ecompil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ecks these commands at compile-time and converts them into DBMS-specific API ca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s: embedded SQL for C/C++, SQLJ (for Jav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2FA-33EC-4F69-B305-A23A6DEA18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8F67A-1281-4C72-9550-12098820FF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H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Connect to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dbconn = pg_connect("host= wozniak.eecs.ku.edu port=5432 dbname=jhuan user=jhuan password=zzzzz")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die('Could not connect: ' . pg_last_error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create a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"CREATE TABLE regiusers ( name varchar(5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asswd  varchar(50) )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Execute th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pg_query($quer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(see next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Closing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g_close($dbcon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8C8-6CA3-4121-8161-C9DBCDB3EB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6E1C9-FDA4-416A-A0F9-13211B25D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PHP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performing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ldata['name'] = 'a2';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ldata['passwd'] = 'b2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res = pg_insert($dbconn, "regiusers", $ldata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Performing SQL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query = 'SELECT * FROM regiusers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$result = pg_query($query) or die('Query failed: ' . pg_last_error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analyzing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while ($line = pg_fetch_array($result, null, PGSQL_ASSOC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foreach ($line as $col_valu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stat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// Free resul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pg_free_result($resul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E10-3479-4492-86E7-AC18E85CDF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A320D-6AF5-444B-9283-46CF698401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API: JDB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(Java DataBase Connectivity) is an API that allows a Java program to access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se the JDBC package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LettrGoth12 BT"/>
              </a:rPr>
              <a:t>import java.sql.*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public class …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atic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   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ad the JDBC driver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try {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LettrGoth12 BT"/>
              </a:rPr>
              <a:t>            Class.forName(”org.postgresql.Driver”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} catch (ClassNotFoundException e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        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</a:t>
            </a:r>
            <a:r>
              <a:rPr b="0" lang="en-US" sz="1800" spc="-1" strike="noStrike">
                <a:solidFill>
                  <a:srgbClr val="330066"/>
                </a:solidFill>
                <a:latin typeface="Times New Roman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A4F-6712-4796-86F6-148D3F2285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F3DB0-6876-4DE7-8331-0BB72B6663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onnection URL is a DBMS-specific string: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tring url =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” jdbc:postgresql://wozniak.eecs.ku.edu/jhuan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Making a connection: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conn =DriverManager.getConnection(url,username,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losing a connection: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con.close(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7840" y="5197320"/>
            <a:ext cx="41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For clarity we are ignor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exception handling for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ACD-F564-4262-B300-5E894A62E8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7FCE5-922F-4D55-B30E-235BB2D46B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reate an object for sending SQL statemen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Statement stmt = con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query and get its resul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sultSet rs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Query(”SELECT name, passwd FROM regiusers”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modification (returns the number of rows affected)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int rowsUpdated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Update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(”UPDATE regiusers SET passwd = ’1234’ WHERE name = ‘sjohn’ 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statement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stmt.close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8EB-A65B-4C5E-B109-0C61244C61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6A9F4-AEA8-4F77-A8DD-1DDA04F360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Execute a query and get its result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esultSet rs =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mt.executeQuery(”SELECT name, passwd FROM regiuser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through all result row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Get column values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ring name = rs.string(1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tring passwd = rs.getString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Work on sid and n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ResultSet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rs.close(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ACE-D512-4339-84ED-0558F32300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DE75C-F8D3-4453-A949-6232E2F766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sultS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eatur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Move the cur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ointing to the current row) backwards and forwards, or position it anywhere within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sult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pdate/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tabase row corresponding to the current result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ogous to the view updat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Insert a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ogous to the view update 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4C9-D6C3-43C2-8537-04E3BBF5CD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7B964-3DDC-4D8D-94D7-5D6817058A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d statements: 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Statement stmt = con.createStatement(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for (int age=0; age&lt;100; age+=10) {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ResultSet rs = stmt.executeQuery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    (”SELECT AVG(GPA) FROM Student” +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     ” WHERE age &gt;= ” + age + ” AND age &lt; ” + (age+10));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time an SQL string is sent to the DBMS, the DBMS must perform parsing, semantic analysis, optimization, compilation, and then finally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osts are incurred 10 times in the abov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application issues many queries with a small number of patterns (with different parameter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B5B-88EA-4C63-BFD7-C691142599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E1A82-9C86-44B4-97A5-B6A1CBC33E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ed statements: 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Prepare the statement, using </a:t>
            </a: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?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 as placeholders for actual parameters: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PreparedStatement stmt = con.prepareStatement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(”SELECT AVG(GPA) FROM Student WHERE age &gt;= ? AND age &lt; ?”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for (int age=0; age&lt;100; age+=10) {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Set actual parameter values: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stmt.setInt(1, age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stmt.setInt(2, age+10);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    ResultSet rs = stmt.executeQuery();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LettrGoth12 BT"/>
              </a:rPr>
              <a:t>    // </a:t>
            </a:r>
            <a:r>
              <a:rPr b="0" lang="en-US" sz="1600" spc="-1" strike="noStrike">
                <a:solidFill>
                  <a:srgbClr val="00ff00"/>
                </a:solidFill>
                <a:latin typeface="Times New Roman"/>
              </a:rPr>
              <a:t>Work on the result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1600"/>
            </a:br>
            <a:r>
              <a:rPr b="0" lang="en-US" sz="16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MS performs parsing, semantic analysis, optimization, and compilation only once, when it prepares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xecution time, the DBMS only needs to check parameter types and validate the compiled execu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62C-BEC0-48CE-82F8-6F25428671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0B971-5960-4FFB-A6A4-2BC743EC61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mple codes of embedded SQL programming and APIs with {C, Perl, JAVA, PHP} are available at class webp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may use any language to implement the final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hoose a language other than the one listed above, you are responsible to figure out whether the language supports Postgre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atabase server must b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wozniak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EE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one exception: if you want to implement the “smart” client paradigm, advanced by Microsoft, using C# and SqlServer, you may use your own lapt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E5A-09CE-4C2D-A9DA-27D727BEEF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C4B85-895E-451D-AC75-75D1E1F31B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isolation level for the curren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TransactionIsolationLevel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one of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SERIALIZ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default)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PEATABLE_RE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AD_COMITT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TRANSACTION_READ_UN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transaction to be read-only or read/writ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ReadOnly(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als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 on/of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UTO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mmits every single stat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setAutoCommit(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als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/rollback the current transaction (w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UTO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f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commi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on.rollback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10B-6A27-47EE-BBAA-FB99C61CE8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714CF-BF1C-42E1-AD27-12B3123F55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dded C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eclare variables to be “shared” between the application</a:t>
            </a:r>
            <a:br>
              <a:rPr sz="2000"/>
            </a:b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 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nd the DBMS: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*/ 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BEGIN DECLARE SECTION;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int thisSID; float thisGPA;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END DECLARE SE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Declare a cursor:</a:t>
            </a:r>
            <a:r>
              <a:rPr b="0" lang="en-US" sz="20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EXEC SQL DECLARE CPS116Student CURSOR FOR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SELECT SID, GPA FROM Student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WHERE SID IN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(SELECT SID FROM Enroll WHERE CID = ’CPS116’)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FOR UPDAT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DCF-7AC2-4D4F-948A-1C87C0859D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62106-8C14-4918-BA80-B27A724482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edded C example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Open the cursor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OPEN CPS116Stu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Specify exit condition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WHENEVER NOT FOUND DO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oop through result rows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while (1) {</a:t>
            </a:r>
            <a:br>
              <a:rPr sz="1800"/>
            </a:b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Get column values for the current row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EXEC SQL FETCH CPS116Student INTO :thisSID, :thisGPA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printf(”SID %d: current GPA is %f\n”, thisSID, thisGP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Update GPA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printf(”Enter new GPA: ”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scanf(”%f”, &amp;thisGPA)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EXEC SQL UPDATE Student SET GPA = :thisGPA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        WHERE CURRENT OF CPS116Student;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/* 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Close the cursor:</a:t>
            </a:r>
            <a:r>
              <a:rPr b="0" lang="en-US" sz="1800" spc="-1" strike="noStrike">
                <a:solidFill>
                  <a:srgbClr val="00ff00"/>
                </a:solidFill>
                <a:latin typeface="LettrGoth12 BT"/>
              </a:rPr>
              <a:t> */</a:t>
            </a:r>
            <a:br>
              <a:rPr sz="1800"/>
            </a:br>
            <a:r>
              <a:rPr b="0" lang="en-US" sz="1800" spc="-1" strike="noStrike">
                <a:solidFill>
                  <a:srgbClr val="330066"/>
                </a:solidFill>
                <a:latin typeface="LettrGoth12 BT"/>
              </a:rPr>
              <a:t>EXEC SQL CLOSE CPS116Stud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13F-F296-44B4-962E-342E7CDC840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EB417-E331-4E77-9590-DA9720DAEA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embedded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compile-time checking (syntax, type, schema, …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de could be more efficient (if the embedded SQL statements do not need to checked and recompiled at run-tim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-speci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s have different precompilers which translate code into different native API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executable is not portable (although code 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cannot talk to different DBMS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4F9-93AC-404C-B04D-A66AD8B54E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A8E7-661F-4234-B149-443F468047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 and cons of augmenting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ready too many programming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is already too b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-purpose programming constructs complicate optimization, and make it difficult to tell if code running inside the DBMS is saf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some point, one must recognize that SQL and the DBMS engine are not for everything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sophisticated stored procedures and trigg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re application logic can be pushed closer to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887-E9DA-4D4D-8E55-54830F5D4D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EFA11-9492-42CE-8F4A-3082485FCD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ti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C++, JAVA, PE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1066680"/>
            <a:ext cx="4419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, mediate level,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b server, application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ub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6DC-B733-4755-8B5D-D786900867B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2BBBD-47D7-47A5-9F1C-E4D7133A8F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of you do not want to have the midterm before spring bre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session is next Monday (Mar 1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it until the review session is too late to the midtern for s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E1E-C9E5-4308-A086-E8F8FC3DF6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E23E7-08C1-42DB-8C92-48B4CE9C87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BC4-DD47-4210-A5C3-1F0479FE59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75B98-409A-4FD1-810C-19E90B8335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DBMS: combines everything into single system including- DBMS software, hardware, application programs and user interface processing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2485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2666880"/>
            <a:ext cx="20574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598-92F4-4BEE-AB9A-CF5FCD3F53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8A727-85D0-4928-9250-66F6E3EC5A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wo Tier Client-Server Architectur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990720"/>
            <a:ext cx="19051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066680"/>
            <a:ext cx="327672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er: provides database query and transaction services to client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: provide appropriate interfaces to serv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User Interface (UI) Programs and Appli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to servers via netwo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020-C969-41FA-9A73-E672993024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0F0FA-BD20-4C6E-985D-9C37A1A5C0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ent-Server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ace between a server and a client is commonly specified by ODBC (Open Database Connectivi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an Application program interface (API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 client side programs to call the DB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PostgreSQL, we have several API ex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PERL, PHP,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dbconn = pg_connect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ost= wozniak.eecs.ku.edu port=54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bname=xxxx user=yyyy password=zzzz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65B-D86A-43B0-A207-7B9C8BCED0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DFD65-9935-4F6C-B87E-0194C44EBE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(n) Tier Client-Server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7640" y="1219320"/>
            <a:ext cx="4340160" cy="4952520"/>
            <a:chOff x="917640" y="1219320"/>
            <a:chExt cx="4340160" cy="49525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276360" y="1219320"/>
              <a:ext cx="4190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886200" y="1219320"/>
              <a:ext cx="4568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Cloud"/>
            <p:cNvSpPr/>
            <p:nvPr/>
          </p:nvSpPr>
          <p:spPr>
            <a:xfrm>
              <a:off x="2895480" y="1832040"/>
              <a:ext cx="1828440" cy="7261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5200" y="2000880"/>
              <a:ext cx="907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738160" y="2921400"/>
              <a:ext cx="221436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2743200" y="3670200"/>
              <a:ext cx="22093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3276360" y="5031360"/>
              <a:ext cx="1133280" cy="11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220760" y="1219320"/>
              <a:ext cx="1110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Cli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8960" y="2784960"/>
              <a:ext cx="102816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We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17640" y="3805920"/>
              <a:ext cx="166824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88920" y="5214600"/>
              <a:ext cx="1490400" cy="79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rial"/>
                </a:rPr>
                <a:t>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69596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305748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759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7960" y="4759560"/>
              <a:ext cx="0" cy="476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7800" y="305748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29200" y="1695960"/>
              <a:ext cx="0" cy="81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09720" y="11426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termediate layer is called Application Server or Web Server, or both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s the web connectivity software and business logic for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s like a conduit for sending partially processed data between the database server and the cli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a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: encrypt the data at the server and client befor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297180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362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F84-6842-4DE2-8D65-8B06721D95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714DD-7469-4E6A-8DD6-8062C62229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3-05T20:49:52Z</dcterms:modified>
  <cp:revision>1354</cp:revision>
  <dc:subject/>
  <dc:title>CS186: Introduction to Database Systems</dc:title>
</cp:coreProperties>
</file>