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68327A3-E7F2-4693-9D20-04D024B906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34A53C5-FA25-4504-B393-454ADE518F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7AF3D4C-6693-4535-8361-96CE815ED2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9789BE7-C0CF-4537-9B88-421D10AA03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533CABB-C176-40C9-B2B6-03CAE058CA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3D0318D-C44D-479C-8EB3-E16109EF2E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D4CE67A-0A66-4C53-B060-36881E8A50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51E05E3-FA46-4E19-A2C4-D7F437C832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944640" y="485892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3F0D6C5-048E-4F3D-819E-E45B3B4A0B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9B59686-FAA7-431B-A146-D2276894EE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00D82D8-17B4-4138-95EE-AD9558A5BE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why root is an exception will be apparent later when we talk about inser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90F0A34-6D3E-4072-9A18-E8EE7EBD9B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44DABDA-5B3A-4BE0-B74A-EB721998EF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AEA174F-540E-4B1B-A9B4-F069AEB2CB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B8701DB-3FB9-4CDE-895B-D1226B637F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8857067-3B1D-4D29-986F-DD5B2A359F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3C87962-E0DB-42F3-AF89-EA63289F8C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y at least 1/2 threshold makes sense in B+-tre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bout 3/4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bout 1/4? (okay for inserts, but may require multiple merges during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ADA819C-851D-431C-BDA1-5EC89BF9FB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D884330-1667-4965-BD81-552A3EDCF3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4FA2180-EDD5-456C-A231-EA647A0C4F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437F832-4609-4D27-9141-49B3D7ACD2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AA7C402-E2BD-4096-BABE-43ADB34DAE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s suspiciously similar to the famous Bill Gate quote: 64K memory ought to be en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you can work out the calc… 200 fan-out =&gt; 1.6 billion rec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9F18BD8-7288-4C7A-9ACE-995D541A4E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ctually a deeper reason… Now it’s empty now it’s f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wo leaves are exactly at the ½ thres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-&gt; merge into a f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 -&gt; split into half f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25599CA-D6EF-403C-B12D-0F6DB1F7D5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 reverse doesn’t work if you are decreasing sa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 am really malicious, I salary * ran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5419721-3FCD-4535-A2A8-FE90CD866B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AF3828E-9219-47DB-AE03-2AB586578A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9256133-297B-4FC4-99AA-3010EC4ED1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60F1727-C996-40B5-9842-9AE3C24DDA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F78DE2A-0805-4C0B-9212-B9BFEC7F85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ogy in real world: index at the end of a book – dense; a-z bookmarks for a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oin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? Cannot use that!  Need a physical pointer for spe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n disk? Move during reorganiza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block id, logical “slot id” inside block – some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04AB-2825-46C0-8300-B08C8B89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8620-3574-44A1-9A23-860FF40C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B530-6661-44DF-89BA-E8A536498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4E14-714A-4C51-82FA-109C224D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85B5-981C-4975-B28F-CA7FB508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D23C-C95E-4ADE-AD36-86FAD861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E7BC-1520-4DA9-ACCD-4B8255EA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0318-2D01-4A27-ABDC-CDD35899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7C4D-62F1-40CF-8C47-967C5BB8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7387-566E-4A6A-85AC-6B70B303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8A38-32CD-47F2-9F18-B8E60FD4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E9D7-F5A7-4681-90AF-6FF65FCD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3383-E5FA-424E-B94B-2C7AC0CFFC9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CE30-E111-4CBC-ADC7-361B6D180D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jobs.ku.edu/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se versus sparse index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arse index is small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ment on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cords must be clustered for sparse inde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arse index is smaller and may fit in memo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nse index can directly tell if a record exis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sier for sparse inde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2454-6EF6-4086-B932-8626F37965D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254E3-F065-4DDA-9AAA-D77B9C2112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ry and secondary index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Primary inde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3301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for the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primary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3301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s are usually clustered according to the primary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3301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sp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Secondary inde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3301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d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33012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PRIMARY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laration automatically creates a primary index,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UNIQ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ey automatically creates a secondary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7360" indent="-3301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secondary index can be created on non-key attribute(s)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CREATE INDEX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StudentGPAIndex 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Student(GP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BF9A-9A2F-4A52-A901-FBAB814F097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314BA4-CBD4-4064-81AE-73AB5CAAC75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e-Structured Indexes: Introd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structured indexing techniques support bo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ange selecti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quality se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AM =</a:t>
            </a:r>
            <a:r>
              <a:rPr b="0" lang="en-US" sz="2800" spc="-1" strike="noStrike" u="sng">
                <a:solidFill>
                  <a:srgbClr val="cf0e30"/>
                </a:solidFill>
                <a:uFillTx/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dexed</a:t>
            </a:r>
            <a:r>
              <a:rPr b="0" lang="en-US" sz="2800" spc="-1" strike="noStrike">
                <a:solidFill>
                  <a:srgbClr val="cf0e3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cf0e30"/>
                </a:solidFill>
                <a:uFillTx/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ential</a:t>
            </a:r>
            <a:r>
              <a:rPr b="0" lang="en-US" sz="2800" spc="-1" strike="noStrike">
                <a:solidFill>
                  <a:srgbClr val="cf0e3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cf0e30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cess</a:t>
            </a:r>
            <a:r>
              <a:rPr b="0" lang="en-US" sz="2800" spc="-1" strike="noStrike">
                <a:solidFill>
                  <a:srgbClr val="cf0e3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cf0e30"/>
                </a:solidFill>
                <a:uFillTx/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ho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atic structure; early index technolog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i="1" lang="en-US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t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dynamic, adjusts gracefully under inserts and dele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for Ind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`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nd all students with gpa &gt; 3.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ata file is sorted, do binary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of binary search in a database can be quite high,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idea:  Create an `index’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25360" y="6095880"/>
            <a:ext cx="6131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9999"/>
                </a:solidFill>
                <a:latin typeface="Book Antiqua"/>
              </a:rPr>
              <a:t>Can do binary search on (smaller) index fi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22400" y="5595840"/>
            <a:ext cx="1052640" cy="398520"/>
          </a:xfrm>
          <a:custGeom>
            <a:avLst/>
            <a:gdLst/>
            <a:ahLst/>
            <a:rect l="l" t="t" r="r" b="b"/>
            <a:pathLst>
              <a:path w="663" h="251">
                <a:moveTo>
                  <a:pt x="0" y="250"/>
                </a:moveTo>
                <a:lnTo>
                  <a:pt x="0" y="0"/>
                </a:lnTo>
                <a:lnTo>
                  <a:pt x="662" y="0"/>
                </a:lnTo>
                <a:lnTo>
                  <a:pt x="662" y="250"/>
                </a:lnTo>
                <a:lnTo>
                  <a:pt x="0" y="25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68640" y="5595840"/>
            <a:ext cx="1050840" cy="398520"/>
          </a:xfrm>
          <a:custGeom>
            <a:avLst/>
            <a:gdLst/>
            <a:ahLst/>
            <a:rect l="l" t="t" r="r" b="b"/>
            <a:pathLst>
              <a:path w="662" h="251">
                <a:moveTo>
                  <a:pt x="0" y="250"/>
                </a:moveTo>
                <a:lnTo>
                  <a:pt x="0" y="0"/>
                </a:lnTo>
                <a:lnTo>
                  <a:pt x="661" y="0"/>
                </a:lnTo>
                <a:lnTo>
                  <a:pt x="661" y="250"/>
                </a:lnTo>
                <a:lnTo>
                  <a:pt x="0" y="25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4200" y="5595840"/>
            <a:ext cx="1051200" cy="398520"/>
          </a:xfrm>
          <a:custGeom>
            <a:avLst/>
            <a:gdLst/>
            <a:ahLst/>
            <a:rect l="l" t="t" r="r" b="b"/>
            <a:pathLst>
              <a:path w="662" h="251">
                <a:moveTo>
                  <a:pt x="0" y="250"/>
                </a:moveTo>
                <a:lnTo>
                  <a:pt x="0" y="0"/>
                </a:lnTo>
                <a:lnTo>
                  <a:pt x="661" y="0"/>
                </a:lnTo>
                <a:lnTo>
                  <a:pt x="661" y="250"/>
                </a:lnTo>
                <a:lnTo>
                  <a:pt x="0" y="25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5506920"/>
            <a:ext cx="5943600" cy="513000"/>
          </a:xfrm>
          <a:custGeom>
            <a:avLst/>
            <a:gdLst/>
            <a:ahLst/>
            <a:rect l="l" t="t" r="r" b="b"/>
            <a:pathLst>
              <a:path w="3744" h="323">
                <a:moveTo>
                  <a:pt x="0" y="322"/>
                </a:moveTo>
                <a:lnTo>
                  <a:pt x="0" y="0"/>
                </a:lnTo>
                <a:lnTo>
                  <a:pt x="3743" y="0"/>
                </a:lnTo>
                <a:lnTo>
                  <a:pt x="3743" y="322"/>
                </a:lnTo>
                <a:lnTo>
                  <a:pt x="0" y="3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14880" y="5602320"/>
            <a:ext cx="1052280" cy="399960"/>
          </a:xfrm>
          <a:custGeom>
            <a:avLst/>
            <a:gdLst/>
            <a:ahLst/>
            <a:rect l="l" t="t" r="r" b="b"/>
            <a:pathLst>
              <a:path w="663" h="252">
                <a:moveTo>
                  <a:pt x="0" y="251"/>
                </a:moveTo>
                <a:lnTo>
                  <a:pt x="0" y="0"/>
                </a:lnTo>
                <a:lnTo>
                  <a:pt x="662" y="0"/>
                </a:lnTo>
                <a:lnTo>
                  <a:pt x="662" y="251"/>
                </a:lnTo>
                <a:lnTo>
                  <a:pt x="0" y="25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80000" y="5603760"/>
            <a:ext cx="75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72320" y="5619600"/>
            <a:ext cx="75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66920" y="5568840"/>
            <a:ext cx="788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39080" y="5595840"/>
            <a:ext cx="75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247880" y="5514840"/>
            <a:ext cx="1085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ata Fi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055520" y="4146480"/>
            <a:ext cx="7329240" cy="1384200"/>
            <a:chOff x="1055520" y="4146480"/>
            <a:chExt cx="7329240" cy="1384200"/>
          </a:xfrm>
        </p:grpSpPr>
        <p:sp>
          <p:nvSpPr>
            <p:cNvPr id="137" name=""/>
            <p:cNvSpPr/>
            <p:nvPr/>
          </p:nvSpPr>
          <p:spPr>
            <a:xfrm>
              <a:off x="5583240" y="4562280"/>
              <a:ext cx="198360" cy="968400"/>
            </a:xfrm>
            <a:custGeom>
              <a:avLst/>
              <a:gdLst/>
              <a:ahLst/>
              <a:rect l="l" t="t" r="r" b="b"/>
              <a:pathLst>
                <a:path w="125" h="610">
                  <a:moveTo>
                    <a:pt x="0" y="0"/>
                  </a:moveTo>
                  <a:lnTo>
                    <a:pt x="124" y="60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26160" y="5402160"/>
              <a:ext cx="58680" cy="128520"/>
            </a:xfrm>
            <a:custGeom>
              <a:avLst/>
              <a:gdLst/>
              <a:ahLst/>
              <a:rect l="l" t="t" r="r" b="b"/>
              <a:pathLst>
                <a:path w="37" h="81">
                  <a:moveTo>
                    <a:pt x="36" y="0"/>
                  </a:moveTo>
                  <a:lnTo>
                    <a:pt x="34" y="80"/>
                  </a:lnTo>
                  <a:lnTo>
                    <a:pt x="0" y="8"/>
                  </a:lnTo>
                  <a:lnTo>
                    <a:pt x="36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43160" y="4552560"/>
              <a:ext cx="1440" cy="935280"/>
            </a:xfrm>
            <a:custGeom>
              <a:avLst/>
              <a:gdLst/>
              <a:ahLst/>
              <a:rect l="l" t="t" r="r" b="b"/>
              <a:pathLst>
                <a:path w="1" h="589">
                  <a:moveTo>
                    <a:pt x="0" y="0"/>
                  </a:moveTo>
                  <a:lnTo>
                    <a:pt x="0" y="58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12920" y="5359320"/>
              <a:ext cx="61920" cy="128520"/>
            </a:xfrm>
            <a:custGeom>
              <a:avLst/>
              <a:gdLst/>
              <a:ahLst/>
              <a:rect l="l" t="t" r="r" b="b"/>
              <a:pathLst>
                <a:path w="39" h="81">
                  <a:moveTo>
                    <a:pt x="38" y="0"/>
                  </a:moveTo>
                  <a:lnTo>
                    <a:pt x="19" y="80"/>
                  </a:lnTo>
                  <a:lnTo>
                    <a:pt x="0" y="0"/>
                  </a:lnTo>
                  <a:lnTo>
                    <a:pt x="38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68600" y="4570200"/>
              <a:ext cx="757080" cy="917640"/>
            </a:xfrm>
            <a:custGeom>
              <a:avLst/>
              <a:gdLst/>
              <a:ahLst/>
              <a:rect l="l" t="t" r="r" b="b"/>
              <a:pathLst>
                <a:path w="477" h="578">
                  <a:moveTo>
                    <a:pt x="0" y="0"/>
                  </a:moveTo>
                  <a:lnTo>
                    <a:pt x="476" y="57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20920" y="5370120"/>
              <a:ext cx="104760" cy="117720"/>
            </a:xfrm>
            <a:custGeom>
              <a:avLst/>
              <a:gdLst/>
              <a:ahLst/>
              <a:rect l="l" t="t" r="r" b="b"/>
              <a:pathLst>
                <a:path w="66" h="74">
                  <a:moveTo>
                    <a:pt x="29" y="0"/>
                  </a:moveTo>
                  <a:lnTo>
                    <a:pt x="65" y="73"/>
                  </a:lnTo>
                  <a:lnTo>
                    <a:pt x="0" y="27"/>
                  </a:lnTo>
                  <a:lnTo>
                    <a:pt x="29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55520" y="4420800"/>
              <a:ext cx="973440" cy="1087560"/>
            </a:xfrm>
            <a:custGeom>
              <a:avLst/>
              <a:gdLst/>
              <a:ahLst/>
              <a:rect l="l" t="t" r="r" b="b"/>
              <a:pathLst>
                <a:path w="613" h="685">
                  <a:moveTo>
                    <a:pt x="612" y="0"/>
                  </a:moveTo>
                  <a:lnTo>
                    <a:pt x="0" y="684"/>
                  </a:lnTo>
                  <a:lnTo>
                    <a:pt x="612" y="0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55520" y="5392440"/>
              <a:ext cx="106560" cy="115920"/>
            </a:xfrm>
            <a:custGeom>
              <a:avLst/>
              <a:gdLst/>
              <a:ahLst/>
              <a:rect l="l" t="t" r="r" b="b"/>
              <a:pathLst>
                <a:path w="67" h="73">
                  <a:moveTo>
                    <a:pt x="66" y="27"/>
                  </a:moveTo>
                  <a:lnTo>
                    <a:pt x="0" y="72"/>
                  </a:lnTo>
                  <a:lnTo>
                    <a:pt x="38" y="0"/>
                  </a:lnTo>
                  <a:lnTo>
                    <a:pt x="66" y="27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52640" y="4243320"/>
              <a:ext cx="1049400" cy="399960"/>
            </a:xfrm>
            <a:custGeom>
              <a:avLst/>
              <a:gdLst/>
              <a:ahLst/>
              <a:rect l="l" t="t" r="r" b="b"/>
              <a:pathLst>
                <a:path w="661" h="252">
                  <a:moveTo>
                    <a:pt x="0" y="251"/>
                  </a:moveTo>
                  <a:lnTo>
                    <a:pt x="0" y="0"/>
                  </a:lnTo>
                  <a:lnTo>
                    <a:pt x="660" y="0"/>
                  </a:lnTo>
                  <a:lnTo>
                    <a:pt x="660" y="251"/>
                  </a:lnTo>
                  <a:lnTo>
                    <a:pt x="0" y="251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37040" y="4243320"/>
              <a:ext cx="1052280" cy="399960"/>
            </a:xfrm>
            <a:custGeom>
              <a:avLst/>
              <a:gdLst/>
              <a:ahLst/>
              <a:rect l="l" t="t" r="r" b="b"/>
              <a:pathLst>
                <a:path w="663" h="252">
                  <a:moveTo>
                    <a:pt x="0" y="251"/>
                  </a:moveTo>
                  <a:lnTo>
                    <a:pt x="0" y="0"/>
                  </a:lnTo>
                  <a:lnTo>
                    <a:pt x="662" y="0"/>
                  </a:lnTo>
                  <a:lnTo>
                    <a:pt x="662" y="251"/>
                  </a:lnTo>
                  <a:lnTo>
                    <a:pt x="0" y="251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49920" y="4243320"/>
              <a:ext cx="1050840" cy="399960"/>
            </a:xfrm>
            <a:custGeom>
              <a:avLst/>
              <a:gdLst/>
              <a:ahLst/>
              <a:rect l="l" t="t" r="r" b="b"/>
              <a:pathLst>
                <a:path w="662" h="252">
                  <a:moveTo>
                    <a:pt x="0" y="251"/>
                  </a:moveTo>
                  <a:lnTo>
                    <a:pt x="0" y="0"/>
                  </a:lnTo>
                  <a:lnTo>
                    <a:pt x="661" y="0"/>
                  </a:lnTo>
                  <a:lnTo>
                    <a:pt x="661" y="251"/>
                  </a:lnTo>
                  <a:lnTo>
                    <a:pt x="0" y="251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76320" y="4146480"/>
              <a:ext cx="4068720" cy="574560"/>
            </a:xfrm>
            <a:custGeom>
              <a:avLst/>
              <a:gdLst/>
              <a:ahLst/>
              <a:rect l="l" t="t" r="r" b="b"/>
              <a:pathLst>
                <a:path w="2563" h="362">
                  <a:moveTo>
                    <a:pt x="0" y="361"/>
                  </a:moveTo>
                  <a:lnTo>
                    <a:pt x="0" y="0"/>
                  </a:lnTo>
                  <a:lnTo>
                    <a:pt x="2562" y="0"/>
                  </a:lnTo>
                  <a:lnTo>
                    <a:pt x="2562" y="361"/>
                  </a:lnTo>
                  <a:lnTo>
                    <a:pt x="0" y="361"/>
                  </a:lnTo>
                </a:path>
              </a:pathLst>
            </a:custGeom>
            <a:noFill/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61960" y="4269960"/>
              <a:ext cx="383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k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00360" y="4249440"/>
              <a:ext cx="41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k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62080" y="4273200"/>
              <a:ext cx="383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k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02880" y="4147920"/>
              <a:ext cx="118188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8000"/>
                  </a:solidFill>
                  <a:latin typeface="Arial"/>
                </a:rPr>
                <a:t>Index Fil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189080" y="4038480"/>
            <a:ext cx="5897160" cy="1599840"/>
            <a:chOff x="1189080" y="4038480"/>
            <a:chExt cx="5897160" cy="1599840"/>
          </a:xfrm>
        </p:grpSpPr>
        <p:sp>
          <p:nvSpPr>
            <p:cNvPr id="154" name=""/>
            <p:cNvSpPr/>
            <p:nvPr/>
          </p:nvSpPr>
          <p:spPr>
            <a:xfrm>
              <a:off x="1189080" y="4533120"/>
              <a:ext cx="5852520" cy="734760"/>
            </a:xfrm>
            <a:custGeom>
              <a:avLst/>
              <a:gdLst/>
              <a:ahLst/>
              <a:rect l="l" t="t" r="r" b="b"/>
              <a:pathLst>
                <a:path w="4038" h="551">
                  <a:moveTo>
                    <a:pt x="0" y="550"/>
                  </a:moveTo>
                  <a:lnTo>
                    <a:pt x="0" y="0"/>
                  </a:lnTo>
                  <a:lnTo>
                    <a:pt x="4037" y="0"/>
                  </a:lnTo>
                  <a:lnTo>
                    <a:pt x="4037" y="550"/>
                  </a:lnTo>
                  <a:lnTo>
                    <a:pt x="0" y="5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55280" y="4533120"/>
              <a:ext cx="592920" cy="734760"/>
            </a:xfrm>
            <a:custGeom>
              <a:avLst/>
              <a:gdLst/>
              <a:ahLst/>
              <a:rect l="l" t="t" r="r" b="b"/>
              <a:pathLst>
                <a:path w="409" h="551">
                  <a:moveTo>
                    <a:pt x="0" y="550"/>
                  </a:moveTo>
                  <a:lnTo>
                    <a:pt x="0" y="0"/>
                  </a:lnTo>
                  <a:lnTo>
                    <a:pt x="408" y="0"/>
                  </a:lnTo>
                  <a:lnTo>
                    <a:pt x="408" y="550"/>
                  </a:lnTo>
                  <a:lnTo>
                    <a:pt x="0" y="5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94600" y="4533120"/>
              <a:ext cx="605880" cy="734760"/>
            </a:xfrm>
            <a:custGeom>
              <a:avLst/>
              <a:gdLst/>
              <a:ahLst/>
              <a:rect l="l" t="t" r="r" b="b"/>
              <a:pathLst>
                <a:path w="418" h="551">
                  <a:moveTo>
                    <a:pt x="0" y="550"/>
                  </a:moveTo>
                  <a:lnTo>
                    <a:pt x="0" y="0"/>
                  </a:lnTo>
                  <a:lnTo>
                    <a:pt x="417" y="0"/>
                  </a:lnTo>
                  <a:lnTo>
                    <a:pt x="417" y="550"/>
                  </a:lnTo>
                  <a:lnTo>
                    <a:pt x="0" y="5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93520" y="4858560"/>
              <a:ext cx="72000" cy="5688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49" y="21"/>
                  </a:moveTo>
                  <a:lnTo>
                    <a:pt x="25" y="0"/>
                  </a:lnTo>
                  <a:lnTo>
                    <a:pt x="0" y="21"/>
                  </a:lnTo>
                  <a:lnTo>
                    <a:pt x="25" y="42"/>
                  </a:lnTo>
                  <a:lnTo>
                    <a:pt x="49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08160" y="4858560"/>
              <a:ext cx="67680" cy="56880"/>
            </a:xfrm>
            <a:custGeom>
              <a:avLst/>
              <a:gdLst/>
              <a:ahLst/>
              <a:rect l="l" t="t" r="r" b="b"/>
              <a:pathLst>
                <a:path w="47" h="43">
                  <a:moveTo>
                    <a:pt x="46" y="21"/>
                  </a:moveTo>
                  <a:lnTo>
                    <a:pt x="22" y="0"/>
                  </a:lnTo>
                  <a:lnTo>
                    <a:pt x="0" y="21"/>
                  </a:lnTo>
                  <a:lnTo>
                    <a:pt x="22" y="42"/>
                  </a:lnTo>
                  <a:lnTo>
                    <a:pt x="46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14880" y="4858560"/>
              <a:ext cx="71280" cy="5688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48" y="21"/>
                  </a:moveTo>
                  <a:lnTo>
                    <a:pt x="24" y="0"/>
                  </a:lnTo>
                  <a:lnTo>
                    <a:pt x="0" y="21"/>
                  </a:lnTo>
                  <a:lnTo>
                    <a:pt x="24" y="42"/>
                  </a:lnTo>
                  <a:lnTo>
                    <a:pt x="48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80320" y="4533120"/>
              <a:ext cx="608400" cy="734760"/>
            </a:xfrm>
            <a:custGeom>
              <a:avLst/>
              <a:gdLst/>
              <a:ahLst/>
              <a:rect l="l" t="t" r="r" b="b"/>
              <a:pathLst>
                <a:path w="420" h="551">
                  <a:moveTo>
                    <a:pt x="0" y="550"/>
                  </a:moveTo>
                  <a:lnTo>
                    <a:pt x="0" y="0"/>
                  </a:lnTo>
                  <a:lnTo>
                    <a:pt x="419" y="0"/>
                  </a:lnTo>
                  <a:lnTo>
                    <a:pt x="419" y="550"/>
                  </a:lnTo>
                  <a:lnTo>
                    <a:pt x="0" y="5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99040" y="4533120"/>
              <a:ext cx="452160" cy="734760"/>
            </a:xfrm>
            <a:custGeom>
              <a:avLst/>
              <a:gdLst/>
              <a:ahLst/>
              <a:rect l="l" t="t" r="r" b="b"/>
              <a:pathLst>
                <a:path w="312" h="551">
                  <a:moveTo>
                    <a:pt x="0" y="550"/>
                  </a:moveTo>
                  <a:lnTo>
                    <a:pt x="0" y="0"/>
                  </a:lnTo>
                  <a:lnTo>
                    <a:pt x="311" y="0"/>
                  </a:lnTo>
                  <a:lnTo>
                    <a:pt x="311" y="550"/>
                  </a:lnTo>
                  <a:lnTo>
                    <a:pt x="0" y="5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43880" y="5027760"/>
              <a:ext cx="1440" cy="610560"/>
            </a:xfrm>
            <a:custGeom>
              <a:avLst/>
              <a:gdLst/>
              <a:ahLst/>
              <a:rect l="l" t="t" r="r" b="b"/>
              <a:pathLst>
                <a:path w="1" h="458">
                  <a:moveTo>
                    <a:pt x="0" y="0"/>
                  </a:moveTo>
                  <a:lnTo>
                    <a:pt x="0" y="45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09320" y="5523840"/>
              <a:ext cx="70920" cy="114480"/>
            </a:xfrm>
            <a:custGeom>
              <a:avLst/>
              <a:gdLst/>
              <a:ahLst/>
              <a:rect l="l" t="t" r="r" b="b"/>
              <a:pathLst>
                <a:path w="49" h="86">
                  <a:moveTo>
                    <a:pt x="48" y="0"/>
                  </a:moveTo>
                  <a:lnTo>
                    <a:pt x="25" y="85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82840" y="5027760"/>
              <a:ext cx="1440" cy="610560"/>
            </a:xfrm>
            <a:custGeom>
              <a:avLst/>
              <a:gdLst/>
              <a:ahLst/>
              <a:rect l="l" t="t" r="r" b="b"/>
              <a:pathLst>
                <a:path w="1" h="458">
                  <a:moveTo>
                    <a:pt x="0" y="0"/>
                  </a:moveTo>
                  <a:lnTo>
                    <a:pt x="0" y="45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49720" y="5523840"/>
              <a:ext cx="70920" cy="114480"/>
            </a:xfrm>
            <a:custGeom>
              <a:avLst/>
              <a:gdLst/>
              <a:ahLst/>
              <a:rect l="l" t="t" r="r" b="b"/>
              <a:pathLst>
                <a:path w="49" h="86">
                  <a:moveTo>
                    <a:pt x="48" y="0"/>
                  </a:moveTo>
                  <a:lnTo>
                    <a:pt x="24" y="85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36920" y="5027760"/>
              <a:ext cx="1080" cy="610560"/>
            </a:xfrm>
            <a:custGeom>
              <a:avLst/>
              <a:gdLst/>
              <a:ahLst/>
              <a:rect l="l" t="t" r="r" b="b"/>
              <a:pathLst>
                <a:path w="1" h="458">
                  <a:moveTo>
                    <a:pt x="0" y="0"/>
                  </a:moveTo>
                  <a:lnTo>
                    <a:pt x="0" y="45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02000" y="5523840"/>
              <a:ext cx="72360" cy="114480"/>
            </a:xfrm>
            <a:custGeom>
              <a:avLst/>
              <a:gdLst/>
              <a:ahLst/>
              <a:rect l="l" t="t" r="r" b="b"/>
              <a:pathLst>
                <a:path w="50" h="86">
                  <a:moveTo>
                    <a:pt x="49" y="0"/>
                  </a:moveTo>
                  <a:lnTo>
                    <a:pt x="25" y="85"/>
                  </a:lnTo>
                  <a:lnTo>
                    <a:pt x="0" y="0"/>
                  </a:lnTo>
                  <a:lnTo>
                    <a:pt x="4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25520" y="5027760"/>
              <a:ext cx="1080" cy="610560"/>
            </a:xfrm>
            <a:custGeom>
              <a:avLst/>
              <a:gdLst/>
              <a:ahLst/>
              <a:rect l="l" t="t" r="r" b="b"/>
              <a:pathLst>
                <a:path w="1" h="458">
                  <a:moveTo>
                    <a:pt x="0" y="0"/>
                  </a:moveTo>
                  <a:lnTo>
                    <a:pt x="0" y="45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90600" y="5523840"/>
              <a:ext cx="69480" cy="114480"/>
            </a:xfrm>
            <a:custGeom>
              <a:avLst/>
              <a:gdLst/>
              <a:ahLst/>
              <a:rect l="l" t="t" r="r" b="b"/>
              <a:pathLst>
                <a:path w="48" h="86">
                  <a:moveTo>
                    <a:pt x="47" y="0"/>
                  </a:moveTo>
                  <a:lnTo>
                    <a:pt x="23" y="85"/>
                  </a:lnTo>
                  <a:lnTo>
                    <a:pt x="0" y="0"/>
                  </a:lnTo>
                  <a:lnTo>
                    <a:pt x="4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55280" y="4291920"/>
              <a:ext cx="1040760" cy="1080"/>
            </a:xfrm>
            <a:custGeom>
              <a:avLst/>
              <a:gdLst/>
              <a:ahLst/>
              <a:rect l="l" t="t" r="r" b="b"/>
              <a:pathLst>
                <a:path w="718" h="1">
                  <a:moveTo>
                    <a:pt x="0" y="0"/>
                  </a:moveTo>
                  <a:lnTo>
                    <a:pt x="717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10800" y="4291920"/>
              <a:ext cx="1080" cy="86400"/>
            </a:xfrm>
            <a:custGeom>
              <a:avLst/>
              <a:gdLst/>
              <a:ahLst/>
              <a:rect l="l" t="t" r="r" b="b"/>
              <a:pathLst>
                <a:path w="1" h="65">
                  <a:moveTo>
                    <a:pt x="0" y="0"/>
                  </a:moveTo>
                  <a:lnTo>
                    <a:pt x="0" y="6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55280" y="4291920"/>
              <a:ext cx="1440" cy="117000"/>
            </a:xfrm>
            <a:custGeom>
              <a:avLst/>
              <a:gdLst/>
              <a:ahLst/>
              <a:rect l="l" t="t" r="r" b="b"/>
              <a:pathLst>
                <a:path w="1" h="88">
                  <a:moveTo>
                    <a:pt x="0" y="87"/>
                  </a:moveTo>
                  <a:lnTo>
                    <a:pt x="0" y="0"/>
                  </a:lnTo>
                  <a:lnTo>
                    <a:pt x="0" y="8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22920" y="463824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325520" y="472248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42400" y="463824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50480" y="472248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78800" y="465300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51960" y="473832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15920" y="465300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39120" y="472140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34680" y="466488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25840" y="475164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51600" y="46648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60040" y="4736880"/>
              <a:ext cx="34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69640" y="4651560"/>
              <a:ext cx="303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42800" y="4695840"/>
              <a:ext cx="34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01280" y="4038480"/>
              <a:ext cx="133884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index entr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f an index is still too bi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t a another (sparse) index on top of that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ISA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Index Sequential Access Metho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more or l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209680" y="3581280"/>
            <a:ext cx="4572000" cy="914400"/>
            <a:chOff x="2209680" y="3581280"/>
            <a:chExt cx="4572000" cy="914400"/>
          </a:xfrm>
        </p:grpSpPr>
        <p:sp>
          <p:nvSpPr>
            <p:cNvPr id="191" name=""/>
            <p:cNvSpPr/>
            <p:nvPr/>
          </p:nvSpPr>
          <p:spPr>
            <a:xfrm>
              <a:off x="4267080" y="3581280"/>
              <a:ext cx="198144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100, 200, …, 9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2209680" y="3962520"/>
              <a:ext cx="2362320" cy="5331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19920" y="3962520"/>
              <a:ext cx="761760" cy="5331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4495680" y="3962520"/>
              <a:ext cx="609840" cy="5331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62520" y="4424400"/>
            <a:ext cx="7714800" cy="985680"/>
            <a:chOff x="362520" y="4424400"/>
            <a:chExt cx="7714800" cy="985680"/>
          </a:xfrm>
        </p:grpSpPr>
        <p:sp>
          <p:nvSpPr>
            <p:cNvPr id="196" name=""/>
            <p:cNvSpPr/>
            <p:nvPr/>
          </p:nvSpPr>
          <p:spPr>
            <a:xfrm>
              <a:off x="2209680" y="4495680"/>
              <a:ext cx="190512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100, 123, …, 19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05720" y="4495680"/>
              <a:ext cx="137160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901, …, 99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29720" y="442440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80520" y="4876920"/>
              <a:ext cx="2057400" cy="5331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1600200" y="4876920"/>
              <a:ext cx="1371600" cy="5331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3200040" y="4876920"/>
              <a:ext cx="762120" cy="5331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6095880" y="4876920"/>
              <a:ext cx="914400" cy="5331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7619760" y="4876920"/>
              <a:ext cx="228600" cy="5331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2520" y="4479840"/>
              <a:ext cx="168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66"/>
                  </a:solidFill>
                  <a:latin typeface="AmeriGarmnd BT"/>
                </a:rPr>
                <a:t>Index bloc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95680" y="4495680"/>
              <a:ext cx="137160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200, …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4419720" y="4876920"/>
              <a:ext cx="457200" cy="5331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80880" y="5410080"/>
            <a:ext cx="8382240" cy="1145160"/>
            <a:chOff x="380880" y="5410080"/>
            <a:chExt cx="8382240" cy="1145160"/>
          </a:xfrm>
        </p:grpSpPr>
        <p:sp>
          <p:nvSpPr>
            <p:cNvPr id="208" name=""/>
            <p:cNvSpPr/>
            <p:nvPr/>
          </p:nvSpPr>
          <p:spPr>
            <a:xfrm>
              <a:off x="380880" y="5410080"/>
              <a:ext cx="1143000" cy="6858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100, 108,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119, 1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00200" y="5410080"/>
              <a:ext cx="1143000" cy="6858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123, 129,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08840" y="5410080"/>
              <a:ext cx="1143000" cy="6858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901, 907,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20120" y="5410080"/>
              <a:ext cx="1143000" cy="6858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996, 997,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76680" y="549108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40480" y="549108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240680" y="549108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20160" y="6156360"/>
              <a:ext cx="156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66"/>
                  </a:solidFill>
                  <a:latin typeface="AmeriGarmnd BT"/>
                </a:rPr>
                <a:t>Data bloc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00400" y="5410080"/>
              <a:ext cx="1143000" cy="6858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192, 197,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19720" y="5410080"/>
              <a:ext cx="1143000" cy="6858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200, 202,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69280" y="320040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meriGarmnd BT"/>
              </a:rPr>
              <a:t>Example: look up </a:t>
            </a:r>
            <a:r>
              <a:rPr b="0" lang="en-US" sz="2400" spc="-1" strike="noStrike">
                <a:solidFill>
                  <a:srgbClr val="00ff00"/>
                </a:solidFill>
                <a:latin typeface="LettrGoth12 BT"/>
              </a:rPr>
              <a:t>1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209680" y="3962520"/>
            <a:ext cx="2362320" cy="5331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200040" y="4876920"/>
            <a:ext cx="762120" cy="5331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889A-AB12-4037-858E-2B15DEF6133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03CFA2-A576-4554-8B94-BFCB3D1000F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dates with IS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4672080"/>
            <a:ext cx="8610480" cy="16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flow chains and empty data blocks degrade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orst case: most records go into one long cha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2760" y="1219320"/>
            <a:ext cx="30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meriGarmnd BT"/>
              </a:rPr>
              <a:t>Example: insert </a:t>
            </a:r>
            <a:r>
              <a:rPr b="0" lang="en-US" sz="2400" spc="-1" strike="noStrike">
                <a:solidFill>
                  <a:srgbClr val="00ff00"/>
                </a:solidFill>
                <a:latin typeface="LettrGoth12 BT"/>
              </a:rPr>
              <a:t>1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0760" y="3809880"/>
            <a:ext cx="3295080" cy="1008720"/>
            <a:chOff x="50760" y="3809880"/>
            <a:chExt cx="3295080" cy="1008720"/>
          </a:xfrm>
        </p:grpSpPr>
        <p:sp>
          <p:nvSpPr>
            <p:cNvPr id="225" name=""/>
            <p:cNvSpPr/>
            <p:nvPr/>
          </p:nvSpPr>
          <p:spPr>
            <a:xfrm>
              <a:off x="380880" y="4038480"/>
              <a:ext cx="1143000" cy="68580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LettrGoth12 BT"/>
                </a:rPr>
                <a:t>107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382040" y="4419720"/>
              <a:ext cx="196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meriGarmnd BT"/>
                </a:rPr>
                <a:t>Overflow blo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760" y="3809880"/>
              <a:ext cx="330120" cy="304920"/>
            </a:xfrm>
            <a:custGeom>
              <a:avLst/>
              <a:gdLst/>
              <a:ahLst/>
              <a:rect l="l" t="t" r="r" b="b"/>
              <a:pathLst>
                <a:path w="208" h="192">
                  <a:moveTo>
                    <a:pt x="208" y="48"/>
                  </a:moveTo>
                  <a:cubicBezTo>
                    <a:pt x="176" y="24"/>
                    <a:pt x="144" y="0"/>
                    <a:pt x="112" y="0"/>
                  </a:cubicBezTo>
                  <a:cubicBezTo>
                    <a:pt x="80" y="0"/>
                    <a:pt x="32" y="24"/>
                    <a:pt x="16" y="48"/>
                  </a:cubicBezTo>
                  <a:cubicBezTo>
                    <a:pt x="0" y="72"/>
                    <a:pt x="0" y="120"/>
                    <a:pt x="16" y="144"/>
                  </a:cubicBezTo>
                  <a:cubicBezTo>
                    <a:pt x="32" y="168"/>
                    <a:pt x="80" y="192"/>
                    <a:pt x="112" y="192"/>
                  </a:cubicBezTo>
                  <a:cubicBezTo>
                    <a:pt x="144" y="192"/>
                    <a:pt x="176" y="168"/>
                    <a:pt x="208" y="144"/>
                  </a:cubicBezTo>
                </a:path>
              </a:pathLst>
            </a:custGeom>
            <a:noFill/>
            <a:ln w="25560">
              <a:solidFill>
                <a:srgbClr val="00ff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199800" y="160020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meriGarmnd BT"/>
              </a:rPr>
              <a:t>Example: delete </a:t>
            </a:r>
            <a:r>
              <a:rPr b="0" lang="en-US" sz="2400" spc="-1" strike="noStrike">
                <a:solidFill>
                  <a:srgbClr val="ff0000"/>
                </a:solidFill>
                <a:latin typeface="LettrGoth12 BT"/>
              </a:rPr>
              <a:t>1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209680" y="1371600"/>
            <a:ext cx="4572000" cy="914400"/>
            <a:chOff x="2209680" y="1371600"/>
            <a:chExt cx="4572000" cy="914400"/>
          </a:xfrm>
        </p:grpSpPr>
        <p:sp>
          <p:nvSpPr>
            <p:cNvPr id="230" name=""/>
            <p:cNvSpPr/>
            <p:nvPr/>
          </p:nvSpPr>
          <p:spPr>
            <a:xfrm>
              <a:off x="4267080" y="1371600"/>
              <a:ext cx="198144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100, 200, …, 9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2209680" y="1752840"/>
              <a:ext cx="2362320" cy="5331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19920" y="1752840"/>
              <a:ext cx="761760" cy="5331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4495680" y="1752840"/>
              <a:ext cx="609840" cy="5331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62520" y="2214720"/>
            <a:ext cx="7714800" cy="985680"/>
            <a:chOff x="362520" y="2214720"/>
            <a:chExt cx="7714800" cy="985680"/>
          </a:xfrm>
        </p:grpSpPr>
        <p:sp>
          <p:nvSpPr>
            <p:cNvPr id="235" name=""/>
            <p:cNvSpPr/>
            <p:nvPr/>
          </p:nvSpPr>
          <p:spPr>
            <a:xfrm>
              <a:off x="2209680" y="2286000"/>
              <a:ext cx="190512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100, 123, …, 19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705720" y="2286000"/>
              <a:ext cx="137160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901, …, 99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29720" y="221472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80520" y="2667240"/>
              <a:ext cx="2057400" cy="5331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1600200" y="2667240"/>
              <a:ext cx="1371600" cy="5331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3200040" y="2667240"/>
              <a:ext cx="762120" cy="5331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095880" y="2667240"/>
              <a:ext cx="914400" cy="5331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7619760" y="2667240"/>
              <a:ext cx="228600" cy="5331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520" y="2270160"/>
              <a:ext cx="168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66"/>
                  </a:solidFill>
                  <a:latin typeface="AmeriGarmnd BT"/>
                </a:rPr>
                <a:t>Index bloc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95680" y="2286000"/>
              <a:ext cx="137160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200, …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4419720" y="2667240"/>
              <a:ext cx="457200" cy="5331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80880" y="3200400"/>
            <a:ext cx="8382240" cy="1145160"/>
            <a:chOff x="380880" y="3200400"/>
            <a:chExt cx="8382240" cy="1145160"/>
          </a:xfrm>
        </p:grpSpPr>
        <p:sp>
          <p:nvSpPr>
            <p:cNvPr id="247" name=""/>
            <p:cNvSpPr/>
            <p:nvPr/>
          </p:nvSpPr>
          <p:spPr>
            <a:xfrm>
              <a:off x="380880" y="3200400"/>
              <a:ext cx="1143000" cy="6858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100, 108,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119, 1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00200" y="3200400"/>
              <a:ext cx="1143000" cy="6858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123, 129,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08840" y="3200400"/>
              <a:ext cx="1143000" cy="6858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901, 907,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20120" y="3200400"/>
              <a:ext cx="1143000" cy="6858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996, 997,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76680" y="328140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640480" y="328140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40680" y="328140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20160" y="3946680"/>
              <a:ext cx="156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66"/>
                  </a:solidFill>
                  <a:latin typeface="AmeriGarmnd BT"/>
                </a:rPr>
                <a:t>Data bloc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00400" y="3200400"/>
              <a:ext cx="1143000" cy="6858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192, 197,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19720" y="3200400"/>
              <a:ext cx="1143000" cy="6858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200, 202,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LettrGoth12 BT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 flipV="1">
            <a:off x="2209680" y="3276360"/>
            <a:ext cx="533520" cy="2286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4F29-195B-4908-A82B-06C91A280CE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AEEF02-5EFC-489B-93EF-FFB2BC01320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Note of Ca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AM is an old-fashioned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+-trees are usually better, as we’ll s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 ISAM is a good place to start to understand the idea of index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sh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n’t brag about being an ISAM expert on your resu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 understand how they work, and tradeoffs with B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re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38C9-7DFB-4338-B93A-665533A99A5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E95E52-0E62-4950-AA35-3A400A4A2D17}" type="datetime1">
              <a:rPr lang="en-US"/>
              <a:t>07/28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tr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A hierarchy of interv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Balanc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ore or less): good performance guaran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Disk-ba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one node per block; large fan-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17360" y="3078000"/>
            <a:ext cx="8917200" cy="3551040"/>
            <a:chOff x="117360" y="3078000"/>
            <a:chExt cx="8917200" cy="3551040"/>
          </a:xfrm>
        </p:grpSpPr>
        <p:sp>
          <p:nvSpPr>
            <p:cNvPr id="263" name=""/>
            <p:cNvSpPr/>
            <p:nvPr/>
          </p:nvSpPr>
          <p:spPr>
            <a:xfrm>
              <a:off x="119160" y="5663880"/>
              <a:ext cx="1295280" cy="53352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643040" y="5663880"/>
              <a:ext cx="1295280" cy="53352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66920" y="5663880"/>
              <a:ext cx="1295640" cy="53352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691160" y="5663880"/>
              <a:ext cx="1295280" cy="53352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15040" y="5663880"/>
              <a:ext cx="1295280" cy="53352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738920" y="5663880"/>
              <a:ext cx="1295640" cy="53352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57240" y="4292280"/>
              <a:ext cx="1295280" cy="53352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52920" y="4292280"/>
              <a:ext cx="1295640" cy="53352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929040" y="3149280"/>
              <a:ext cx="1295280" cy="53352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0800000">
              <a:off x="117360" y="5799600"/>
              <a:ext cx="5461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0800000">
              <a:off x="498240" y="5796360"/>
              <a:ext cx="5461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800000">
              <a:off x="879480" y="5704920"/>
              <a:ext cx="54612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0800000">
              <a:off x="1643040" y="5707080"/>
              <a:ext cx="54612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0800000">
              <a:off x="2022480" y="5720760"/>
              <a:ext cx="54612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3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0800000">
              <a:off x="3165480" y="561564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0800000">
              <a:off x="3546360" y="561708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1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0800000">
              <a:off x="3927240" y="562932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1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0800000">
              <a:off x="4689360" y="561348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0800000">
              <a:off x="5070240" y="561708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1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230880" y="561708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1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6611760" y="561348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15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0800000">
              <a:off x="6993000" y="560124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17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0800000">
              <a:off x="7753320" y="561348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1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0800000">
              <a:off x="8134200" y="561708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0800000">
              <a:off x="960480" y="4351320"/>
              <a:ext cx="54612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3932280" y="310104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5451480" y="424548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10800000">
              <a:off x="5832360" y="424728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1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0800000">
              <a:off x="6213240" y="424728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1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566720" y="3530520"/>
              <a:ext cx="2438640" cy="7617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09920" y="3530520"/>
              <a:ext cx="1752840" cy="7617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728280" y="4673520"/>
              <a:ext cx="304920" cy="9903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338120" y="4673520"/>
              <a:ext cx="990720" cy="9903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3852360" y="4749480"/>
              <a:ext cx="1676520" cy="9144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5300280" y="4749480"/>
              <a:ext cx="609480" cy="9144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91360" y="4749480"/>
              <a:ext cx="533160" cy="9144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72240" y="4749480"/>
              <a:ext cx="1676520" cy="9144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7760" y="6121080"/>
              <a:ext cx="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8640" y="6121080"/>
              <a:ext cx="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09520" y="6121080"/>
              <a:ext cx="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897200" y="6121080"/>
              <a:ext cx="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78080" y="6121080"/>
              <a:ext cx="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71840" y="6171840"/>
              <a:ext cx="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52720" y="6171840"/>
              <a:ext cx="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233960" y="6171840"/>
              <a:ext cx="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32360" y="6171840"/>
              <a:ext cx="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13240" y="6171840"/>
              <a:ext cx="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19960" y="6159240"/>
              <a:ext cx="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00840" y="6159240"/>
              <a:ext cx="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81720" y="6159240"/>
              <a:ext cx="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043840" y="6171840"/>
              <a:ext cx="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424720" y="6171840"/>
              <a:ext cx="0" cy="4572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38120" y="5968800"/>
              <a:ext cx="30492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360" y="5968800"/>
              <a:ext cx="30456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386240" y="5968800"/>
              <a:ext cx="30492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910120" y="5968800"/>
              <a:ext cx="30492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34360" y="5968800"/>
              <a:ext cx="30456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990040" y="3078000"/>
              <a:ext cx="22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Max fan-out: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1D6C-9AC9-402A-A8FA-C9D3D8E131F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9D73E-80B3-46B0-A710-7566F3386FB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ple 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tree nod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467680" y="165888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Max fan-out: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20960" y="1654200"/>
            <a:ext cx="762120" cy="38088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97280" y="203508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0800000">
            <a:off x="3794040" y="200844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0800000">
            <a:off x="4174920" y="198936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4556160" y="198936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196720" y="2492280"/>
            <a:ext cx="167652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3644640" y="2492280"/>
            <a:ext cx="60948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635360" y="2492280"/>
            <a:ext cx="53352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016600" y="2492280"/>
            <a:ext cx="167616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071360" y="3384720"/>
            <a:ext cx="166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to key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100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meriGarmnd BT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 &lt; 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724120" y="3384720"/>
            <a:ext cx="166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to key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120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meriGarmnd BT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 &lt; 1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430520" y="3384720"/>
            <a:ext cx="166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to key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150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meriGarmnd BT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 &lt; 1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239880" y="3384720"/>
            <a:ext cx="102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to key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180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meriGarmnd BT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279520" y="208116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Non-le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290680" y="47275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0800000">
            <a:off x="2287440" y="4677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0800000">
            <a:off x="2668680" y="46933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32240" y="5235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913120" y="5235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510000" y="503244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2900520" y="4118040"/>
            <a:ext cx="380880" cy="60948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77680" y="5622840"/>
            <a:ext cx="420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to records with these </a:t>
            </a:r>
            <a:r>
              <a:rPr b="0" i="1" lang="en-US" sz="2000" spc="-1" strike="noStrike">
                <a:solidFill>
                  <a:srgbClr val="000000"/>
                </a:solidFill>
                <a:latin typeface="AmeriGarmnd BT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 value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or, store records directly in le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435840" y="4843440"/>
            <a:ext cx="369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to next leaf node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449720" y="47829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Le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109320" y="914400"/>
            <a:ext cx="102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to key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100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meriGarmnd BT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4DCA-AB99-4A5A-8FF7-461E4819A66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229CE3-9CC0-4F82-A234-6168E62420A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tree balancing proper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 constraint: all leaves at the same lowest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n-out constraint: all nodes at least half ful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xcept roo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#   Max #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 #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 #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pointer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ey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active pointer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key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lea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2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2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2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2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0B01-D553-48D1-9F32-5C171C5DEC9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FA262-E3A0-41D0-A7E7-FC162CCFDB2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 4 will be assigned to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ue April 9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ming part of homework 4 is a team project with team siz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 need a volunteer to do the homework al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, I may create a three-member tea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have office hour from 4:15-5:15pm Thursday (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nstead of 4:15-5:15pm today. This move is temporary due a schedule conflic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E131-CB69-4F54-BED8-604F8DF1B50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785205-BBB3-458E-A3E9-2A79F3F4718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ku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 *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WHERE </a:t>
            </a:r>
            <a:r>
              <a:rPr b="0" i="1" lang="en-US" sz="2800" spc="-1" strike="noStrike">
                <a:solidFill>
                  <a:srgbClr val="00ff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ff00"/>
                </a:solidFill>
                <a:latin typeface="LettrGoth12 BT"/>
              </a:rPr>
              <a:t> = 179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9160" y="541008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643040" y="541008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166920" y="541008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691160" y="541008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215040" y="541008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738920" y="541008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957240" y="403848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452920" y="403848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29040" y="289548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10800000">
            <a:off x="117360" y="5545800"/>
            <a:ext cx="5461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10800000">
            <a:off x="498240" y="5542560"/>
            <a:ext cx="5461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0800000">
            <a:off x="879480" y="5451120"/>
            <a:ext cx="546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10800000">
            <a:off x="1643040" y="5453280"/>
            <a:ext cx="546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10800000">
            <a:off x="2022480" y="5466960"/>
            <a:ext cx="546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10800000">
            <a:off x="3165480" y="536184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10800000">
            <a:off x="3546360" y="5363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0800000">
            <a:off x="3927240" y="53755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10800000">
            <a:off x="4689360" y="53596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10800000">
            <a:off x="5070240" y="5363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10800000">
            <a:off x="6230880" y="5363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10800000">
            <a:off x="6611760" y="53596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10800000">
            <a:off x="6993000" y="534744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10800000">
            <a:off x="7753320" y="53596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10800000">
            <a:off x="8134200" y="5363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rot="10800000">
            <a:off x="960480" y="4097520"/>
            <a:ext cx="546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rot="10800000">
            <a:off x="3932280" y="284724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rot="10800000">
            <a:off x="5451480" y="39916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rot="10800000">
            <a:off x="5832360" y="3993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rot="10800000">
            <a:off x="6213240" y="3993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1566720" y="3276720"/>
            <a:ext cx="2438640" cy="7617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309920" y="3276720"/>
            <a:ext cx="1752840" cy="7617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728280" y="4419720"/>
            <a:ext cx="304920" cy="9903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338120" y="4419720"/>
            <a:ext cx="990720" cy="9903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852360" y="4495680"/>
            <a:ext cx="167652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300280" y="4495680"/>
            <a:ext cx="60948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91360" y="4495680"/>
            <a:ext cx="53316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672240" y="4495680"/>
            <a:ext cx="167652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7760" y="58672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28640" y="58672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09520" y="58672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97200" y="58672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278080" y="58672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471840" y="591804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852720" y="591804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233960" y="591804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932360" y="591804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13240" y="591804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519960" y="590544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00840" y="590544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281720" y="590544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043840" y="591804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424720" y="591804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338120" y="571500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862360" y="571500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386240" y="571500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910120" y="571500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434360" y="571500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990040" y="282420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Max fan-out: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343400" y="3276720"/>
            <a:ext cx="1752480" cy="761760"/>
          </a:xfrm>
          <a:prstGeom prst="line">
            <a:avLst/>
          </a:prstGeom>
          <a:ln w="63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281640" y="4495680"/>
            <a:ext cx="533520" cy="914400"/>
          </a:xfrm>
          <a:prstGeom prst="line">
            <a:avLst/>
          </a:prstGeom>
          <a:ln w="63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6991200" y="5334840"/>
            <a:ext cx="546120" cy="1023120"/>
            <a:chOff x="6991200" y="5334840"/>
            <a:chExt cx="546120" cy="1023120"/>
          </a:xfrm>
        </p:grpSpPr>
        <p:sp>
          <p:nvSpPr>
            <p:cNvPr id="413" name=""/>
            <p:cNvSpPr/>
            <p:nvPr/>
          </p:nvSpPr>
          <p:spPr>
            <a:xfrm>
              <a:off x="7283520" y="5900760"/>
              <a:ext cx="0" cy="457200"/>
            </a:xfrm>
            <a:prstGeom prst="line">
              <a:avLst/>
            </a:prstGeom>
            <a:ln w="63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10800000">
              <a:off x="6991200" y="533484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LettrGoth12 BT"/>
                </a:rPr>
                <a:t>17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 flipH="1">
            <a:off x="1544400" y="3276720"/>
            <a:ext cx="2438280" cy="7617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360440" y="4430880"/>
            <a:ext cx="990720" cy="990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015640" y="4800600"/>
            <a:ext cx="16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meriGarmnd BT"/>
              </a:rPr>
              <a:t>Not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28600" y="1882800"/>
            <a:ext cx="86868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 *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WHER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LettrGoth12 BT"/>
              </a:rPr>
              <a:t> = 32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0F2D-4D5A-4CA1-9995-AEFD6280933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94E078-34DF-4F3B-B820-EACA434FB8D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nge que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 *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WHER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LettrGoth12 BT"/>
              </a:rPr>
              <a:t> &gt; 32 AN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LettrGoth12 BT"/>
              </a:rPr>
              <a:t> &lt; 179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9160" y="44449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643040" y="44449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166920" y="44449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691160" y="44449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215040" y="44449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738920" y="44449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957240" y="30733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452920" y="30733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29040" y="19303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10800000">
            <a:off x="117360" y="4580640"/>
            <a:ext cx="5461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0800000">
            <a:off x="498240" y="4577400"/>
            <a:ext cx="5461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10800000">
            <a:off x="879480" y="4485960"/>
            <a:ext cx="546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10800000">
            <a:off x="1643040" y="4487400"/>
            <a:ext cx="546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10800000">
            <a:off x="2022480" y="4501800"/>
            <a:ext cx="546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rot="10800000">
            <a:off x="3165480" y="43966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10800000">
            <a:off x="3546360" y="43981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rot="10800000">
            <a:off x="3927240" y="441036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10800000">
            <a:off x="4689360" y="43948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10800000">
            <a:off x="5070240" y="43981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10800000">
            <a:off x="6230880" y="43981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10800000">
            <a:off x="6611760" y="43948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rot="10800000">
            <a:off x="6993000" y="4382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rot="10800000">
            <a:off x="7753320" y="43948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rot="10800000">
            <a:off x="8134200" y="43981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rot="10800000">
            <a:off x="960480" y="3132360"/>
            <a:ext cx="546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rot="10800000">
            <a:off x="3932280" y="18820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rot="10800000">
            <a:off x="5451480" y="30265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rot="10800000">
            <a:off x="5832360" y="302760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10800000">
            <a:off x="6213240" y="302760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566720" y="2311560"/>
            <a:ext cx="2438640" cy="7617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309920" y="2311560"/>
            <a:ext cx="1752840" cy="7617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728280" y="3454560"/>
            <a:ext cx="304920" cy="9903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38120" y="3454560"/>
            <a:ext cx="990720" cy="9903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3852360" y="3530520"/>
            <a:ext cx="167652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5300280" y="3530520"/>
            <a:ext cx="60948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291360" y="3530520"/>
            <a:ext cx="53316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672240" y="3530520"/>
            <a:ext cx="167652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47760" y="490212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28640" y="490212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109520" y="490212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897200" y="490212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278080" y="490212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471840" y="4952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852720" y="4952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233960" y="4952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932360" y="4952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313240" y="4952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519960" y="49402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900840" y="49402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81720" y="49402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043840" y="4952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424720" y="4952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338120" y="474984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862360" y="474984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386240" y="474984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434360" y="474984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990040" y="185904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Max fan-out: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544400" y="2311560"/>
            <a:ext cx="2438280" cy="7617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360440" y="3465360"/>
            <a:ext cx="990720" cy="9907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168720" y="443376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692600" y="443376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911920" y="473544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2884320" y="4394880"/>
            <a:ext cx="4267080" cy="1027800"/>
            <a:chOff x="2884320" y="4394880"/>
            <a:chExt cx="4267080" cy="1027800"/>
          </a:xfrm>
        </p:grpSpPr>
        <p:sp>
          <p:nvSpPr>
            <p:cNvPr id="484" name=""/>
            <p:cNvSpPr/>
            <p:nvPr/>
          </p:nvSpPr>
          <p:spPr>
            <a:xfrm>
              <a:off x="2884320" y="4759200"/>
              <a:ext cx="304920" cy="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10800000">
              <a:off x="3159000" y="439596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LettrGoth12 BT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10800000">
              <a:off x="3539880" y="439812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LettrGoth12 BT"/>
                </a:rPr>
                <a:t>1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10800000">
              <a:off x="3921120" y="441072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LettrGoth12 BT"/>
                </a:rPr>
                <a:t>1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10800000">
              <a:off x="4682880" y="439488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LettrGoth12 BT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10800000">
              <a:off x="5064120" y="439812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LettrGoth12 BT"/>
                </a:rPr>
                <a:t>1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10800000">
              <a:off x="6224400" y="439812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LettrGoth12 BT"/>
                </a:rPr>
                <a:t>1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10800000">
              <a:off x="6605280" y="439488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LettrGoth12 BT"/>
                </a:rPr>
                <a:t>15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10000" y="4748040"/>
              <a:ext cx="304920" cy="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33880" y="4748040"/>
              <a:ext cx="304920" cy="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451320" y="4965480"/>
              <a:ext cx="0" cy="4572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852720" y="4965480"/>
              <a:ext cx="0" cy="4572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233960" y="4965480"/>
              <a:ext cx="0" cy="4572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941720" y="4965480"/>
              <a:ext cx="0" cy="4572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311800" y="4965480"/>
              <a:ext cx="0" cy="4572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499080" y="4965480"/>
              <a:ext cx="0" cy="4572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00840" y="4965480"/>
              <a:ext cx="0" cy="4572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2199600" y="359424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meriGarmnd BT"/>
              </a:rPr>
              <a:t>Look up </a:t>
            </a:r>
            <a:r>
              <a:rPr b="0" lang="en-US" sz="2400" spc="-1" strike="noStrike">
                <a:solidFill>
                  <a:srgbClr val="ff0000"/>
                </a:solidFill>
                <a:latin typeface="LettrGoth12 BT"/>
              </a:rPr>
              <a:t>32</a:t>
            </a:r>
            <a:r>
              <a:rPr b="0" lang="en-US" sz="2400" spc="-1" strike="noStrike">
                <a:solidFill>
                  <a:srgbClr val="ff0000"/>
                </a:solidFill>
                <a:latin typeface="AmeriGarmnd BT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305720" y="5486400"/>
            <a:ext cx="43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meriGarmnd BT"/>
              </a:rPr>
              <a:t>And follow next-leaf poi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027160" y="4500720"/>
            <a:ext cx="546120" cy="898200"/>
            <a:chOff x="2027160" y="4500720"/>
            <a:chExt cx="546120" cy="898200"/>
          </a:xfrm>
        </p:grpSpPr>
        <p:sp>
          <p:nvSpPr>
            <p:cNvPr id="504" name=""/>
            <p:cNvSpPr/>
            <p:nvPr/>
          </p:nvSpPr>
          <p:spPr>
            <a:xfrm rot="10800000">
              <a:off x="2027160" y="4500720"/>
              <a:ext cx="54612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LettrGoth12 BT"/>
                </a:rPr>
                <a:t>3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74840" y="4941720"/>
              <a:ext cx="0" cy="4572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3F54-BF6E-42EF-830C-9A48237DB3A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539B24-35FE-43C6-9180-173366548DD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er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a record with search key value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19160" y="46735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643040" y="46735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166920" y="46735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691160" y="46735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215040" y="46735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738920" y="46735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957240" y="33019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452920" y="33019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929040" y="21589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rot="10800000">
            <a:off x="117360" y="4809240"/>
            <a:ext cx="5461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rot="10800000">
            <a:off x="498240" y="4806000"/>
            <a:ext cx="5461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rot="10800000">
            <a:off x="879480" y="4714560"/>
            <a:ext cx="546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rot="10800000">
            <a:off x="1643040" y="4716000"/>
            <a:ext cx="546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rot="10800000">
            <a:off x="2022480" y="4730400"/>
            <a:ext cx="546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rot="10800000">
            <a:off x="3165480" y="4625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rot="10800000">
            <a:off x="354636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rot="10800000">
            <a:off x="3927240" y="463896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rot="10800000">
            <a:off x="4689360" y="4623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rot="10800000">
            <a:off x="507024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rot="10800000">
            <a:off x="623088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10800000">
            <a:off x="6611760" y="4623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rot="10800000">
            <a:off x="6993000" y="46108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10800000">
            <a:off x="7753320" y="4623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10800000">
            <a:off x="813420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rot="10800000">
            <a:off x="960480" y="3360960"/>
            <a:ext cx="546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rot="10800000">
            <a:off x="3932280" y="21106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10800000">
            <a:off x="5451480" y="32551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10800000">
            <a:off x="5832360" y="325620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10800000">
            <a:off x="6213240" y="325620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1566720" y="2540160"/>
            <a:ext cx="2438640" cy="7617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309920" y="2540160"/>
            <a:ext cx="1752840" cy="7617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728280" y="3683160"/>
            <a:ext cx="304920" cy="9903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338120" y="3683160"/>
            <a:ext cx="990720" cy="9903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3852360" y="3759120"/>
            <a:ext cx="167652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5300280" y="3759120"/>
            <a:ext cx="60948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291360" y="3759120"/>
            <a:ext cx="53316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672240" y="3759120"/>
            <a:ext cx="167652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7760" y="513072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28640" y="513072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109520" y="513072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97200" y="513072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278080" y="513072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47184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85272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23396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93236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31324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519960" y="5168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00840" y="5168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281720" y="5168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04384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42472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338120" y="497844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862360" y="497844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386240" y="497844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910120" y="497844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434360" y="497844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990040" y="208764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Max fan-out: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1544400" y="2540160"/>
            <a:ext cx="2438280" cy="7617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360440" y="3693960"/>
            <a:ext cx="990720" cy="9907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034720" y="3429000"/>
            <a:ext cx="285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meriGarmnd BT"/>
              </a:rPr>
              <a:t>Look up where the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meriGarmnd BT"/>
              </a:rPr>
              <a:t>inserted key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meriGarmnd BT"/>
              </a:rPr>
              <a:t>should g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1832040" y="4536720"/>
            <a:ext cx="546120" cy="873360"/>
            <a:chOff x="1832040" y="4536720"/>
            <a:chExt cx="546120" cy="873360"/>
          </a:xfrm>
        </p:grpSpPr>
        <p:sp>
          <p:nvSpPr>
            <p:cNvPr id="570" name=""/>
            <p:cNvSpPr/>
            <p:nvPr/>
          </p:nvSpPr>
          <p:spPr>
            <a:xfrm rot="10800000">
              <a:off x="1832040" y="4536720"/>
              <a:ext cx="54612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LettrGoth12 BT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082960" y="4952880"/>
              <a:ext cx="0" cy="4572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782280" y="5715000"/>
            <a:ext cx="35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meriGarmnd BT"/>
              </a:rPr>
              <a:t>And insert it right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A075-B68D-41C0-B883-07EAAAB4C4E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D9C748-3C6F-4F46-AF76-89EE4C47D18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ther insertion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a record with search key value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1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895480" y="46735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419720" y="46735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943600" y="46735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467480" y="46735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3019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657600" y="21589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rot="10800000">
            <a:off x="2894040" y="4625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rot="10800000">
            <a:off x="327492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rot="10800000">
            <a:off x="3655800" y="463896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rot="10800000">
            <a:off x="4417920" y="4623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rot="10800000">
            <a:off x="479880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rot="10800000">
            <a:off x="595944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rot="10800000">
            <a:off x="6340320" y="4623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rot="10800000">
            <a:off x="6721560" y="46108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rot="10800000">
            <a:off x="7481880" y="4623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rot="10800000">
            <a:off x="786276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rot="10800000">
            <a:off x="3660840" y="21106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rot="10800000">
            <a:off x="5180040" y="32551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rot="10800000">
            <a:off x="5560920" y="325620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rot="10800000">
            <a:off x="5941800" y="325620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1295280" y="2540160"/>
            <a:ext cx="2438640" cy="7617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038480" y="2540160"/>
            <a:ext cx="1752840" cy="7617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580920" y="3759120"/>
            <a:ext cx="167652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5028840" y="3759120"/>
            <a:ext cx="60948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019920" y="3759120"/>
            <a:ext cx="53316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400800" y="3759120"/>
            <a:ext cx="167652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20040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58128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96252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66092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04180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248520" y="5168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629400" y="5168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010280" y="5168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77240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815328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590920" y="497844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114800" y="497844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638680" y="497844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162920" y="497844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718600" y="208764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Max fan-out: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083120" y="2557440"/>
            <a:ext cx="1752480" cy="762120"/>
          </a:xfrm>
          <a:prstGeom prst="line">
            <a:avLst/>
          </a:prstGeom>
          <a:ln w="63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19920" y="3776760"/>
            <a:ext cx="533160" cy="914400"/>
          </a:xfrm>
          <a:prstGeom prst="line">
            <a:avLst/>
          </a:prstGeom>
          <a:ln w="63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6132600" y="4409280"/>
            <a:ext cx="546120" cy="1000800"/>
            <a:chOff x="6132600" y="4409280"/>
            <a:chExt cx="546120" cy="1000800"/>
          </a:xfrm>
        </p:grpSpPr>
        <p:sp>
          <p:nvSpPr>
            <p:cNvPr id="619" name=""/>
            <p:cNvSpPr/>
            <p:nvPr/>
          </p:nvSpPr>
          <p:spPr>
            <a:xfrm rot="10800000">
              <a:off x="6132600" y="440928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LettrGoth12 BT"/>
                </a:rPr>
                <a:t>15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418440" y="4952880"/>
              <a:ext cx="0" cy="457200"/>
            </a:xfrm>
            <a:prstGeom prst="line">
              <a:avLst/>
            </a:prstGeom>
            <a:ln w="63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571640" y="5761080"/>
            <a:ext cx="38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meriGarmnd BT"/>
              </a:rPr>
              <a:t>Oops, node is already ful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C3B6-7294-42C9-A4D5-89AAEC52C6C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B79EE-0D25-4028-BCF0-10FEF0EC43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de split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895480" y="46735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19720" y="46735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943600" y="46735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467480" y="46735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181480" y="33019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657600" y="21589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rot="10800000">
            <a:off x="2892240" y="4623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rot="10800000">
            <a:off x="3273480" y="4625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0800000">
            <a:off x="4416480" y="462204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0800000">
            <a:off x="4802040" y="4625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LettrGoth12 BT"/>
              </a:rPr>
              <a:t>1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rot="10800000">
            <a:off x="5957640" y="4625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rot="10800000">
            <a:off x="6338880" y="462204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rot="10800000">
            <a:off x="7481880" y="4623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rot="10800000">
            <a:off x="786276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rot="10800000">
            <a:off x="3660840" y="21106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rot="10800000">
            <a:off x="5180040" y="32551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rot="10800000">
            <a:off x="5560920" y="325620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rot="10800000">
            <a:off x="5941800" y="325620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1295280" y="2540160"/>
            <a:ext cx="2438640" cy="7617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038480" y="2540160"/>
            <a:ext cx="1752840" cy="7617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1981080" y="3770280"/>
            <a:ext cx="3276720" cy="889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3580920" y="3770280"/>
            <a:ext cx="2057400" cy="889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400800" y="3759120"/>
            <a:ext cx="167652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20040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58128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66092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248520" y="5168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629400" y="5168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77240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815328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90920" y="497844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114800" y="497844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638680" y="497844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162920" y="497844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718600" y="208764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Max fan-out: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083200" y="5181480"/>
            <a:ext cx="0" cy="457200"/>
          </a:xfrm>
          <a:prstGeom prst="line">
            <a:avLst/>
          </a:prstGeom>
          <a:ln w="63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338880" y="2759040"/>
            <a:ext cx="271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meriGarmnd BT"/>
              </a:rPr>
              <a:t>Yikes, this node is</a:t>
            </a:r>
            <a:br>
              <a:rPr sz="2400"/>
            </a:br>
            <a:r>
              <a:rPr b="0" lang="en-US" sz="2400" spc="-1" strike="noStrike">
                <a:solidFill>
                  <a:srgbClr val="00ff00"/>
                </a:solidFill>
                <a:latin typeface="AmeriGarmnd BT"/>
              </a:rPr>
              <a:t>also already ful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295280" y="46735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rot="10800000">
            <a:off x="1293840" y="4625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rot="10800000">
            <a:off x="167472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rot="10800000">
            <a:off x="2055600" y="463896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60020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98108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36232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990720" y="497844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5029200" y="3778200"/>
            <a:ext cx="990720" cy="88128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5699160" y="3534480"/>
            <a:ext cx="853920" cy="1113840"/>
            <a:chOff x="5699160" y="3534480"/>
            <a:chExt cx="853920" cy="1113840"/>
          </a:xfrm>
        </p:grpSpPr>
        <p:sp>
          <p:nvSpPr>
            <p:cNvPr id="670" name=""/>
            <p:cNvSpPr/>
            <p:nvPr/>
          </p:nvSpPr>
          <p:spPr>
            <a:xfrm>
              <a:off x="6095880" y="3886200"/>
              <a:ext cx="457200" cy="762120"/>
            </a:xfrm>
            <a:prstGeom prst="line">
              <a:avLst/>
            </a:prstGeom>
            <a:ln w="63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10800000">
              <a:off x="5699160" y="353448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LettrGoth12 BT"/>
                </a:rPr>
                <a:t>15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204D-73D4-4CD7-AFC5-C518D2F2523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C488EB-918F-4EE4-A387-BCB3E10EBFB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node split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228600" y="54864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worst case, node splitting can “propagate” all the way up to the root of the tree (not illustrated he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litting the root introduces a new root of fan-out 2 and causes the tree to grow “up” by o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895480" y="46735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419720" y="46735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943600" y="46735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467480" y="46735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181480" y="33019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657600" y="21589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rot="10800000">
            <a:off x="2892240" y="4623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rot="10800000">
            <a:off x="3273480" y="4625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10800000">
            <a:off x="4416480" y="462204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rot="10800000">
            <a:off x="4802040" y="4625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LettrGoth12 BT"/>
              </a:rPr>
              <a:t>1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rot="10800000">
            <a:off x="5957640" y="4625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rot="10800000">
            <a:off x="6338880" y="462204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rot="10800000">
            <a:off x="7481880" y="4623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rot="10800000">
            <a:off x="786276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rot="10800000">
            <a:off x="3660840" y="21106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rot="10800000">
            <a:off x="5178240" y="32536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1295280" y="2540160"/>
            <a:ext cx="2438640" cy="7617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3581280" y="2602080"/>
            <a:ext cx="533520" cy="6858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1981080" y="3809880"/>
            <a:ext cx="990720" cy="8496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352680" y="3809880"/>
            <a:ext cx="228600" cy="8496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733920" y="3809880"/>
            <a:ext cx="1295280" cy="8715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638680" y="3809880"/>
            <a:ext cx="2438640" cy="86364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20040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58128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66092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248520" y="5168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629400" y="5168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77240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815328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590920" y="497844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114800" y="497844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638680" y="497844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162920" y="497844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718600" y="208764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Max fan-out: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083200" y="5181480"/>
            <a:ext cx="0" cy="457200"/>
          </a:xfrm>
          <a:prstGeom prst="line">
            <a:avLst/>
          </a:prstGeom>
          <a:ln w="63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295280" y="46735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rot="10800000">
            <a:off x="1293840" y="4625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rot="10800000">
            <a:off x="167472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rot="10800000">
            <a:off x="2055600" y="463896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60020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98108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36232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990720" y="497844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3809880"/>
            <a:ext cx="1252440" cy="881280"/>
          </a:xfrm>
          <a:prstGeom prst="line">
            <a:avLst/>
          </a:prstGeom>
          <a:ln w="63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897280" y="330984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rot="10800000">
            <a:off x="2895480" y="326304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rot="10800000">
            <a:off x="3276360" y="32641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rot="10800000">
            <a:off x="4038480" y="21088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LettrGoth12 BT"/>
              </a:rPr>
              <a:t>1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484520" y="2624040"/>
            <a:ext cx="1371600" cy="685800"/>
          </a:xfrm>
          <a:prstGeom prst="line">
            <a:avLst/>
          </a:prstGeom>
          <a:ln w="63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DCB4-2431-4128-8AC8-C9ED426229B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9258C0-F8E9-4288-A09E-15F85F20070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e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 a record with search key value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1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895480" y="46735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419720" y="46735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943600" y="46735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467480" y="46735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181480" y="33019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657600" y="21589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rot="10800000">
            <a:off x="2894040" y="4625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rot="10800000">
            <a:off x="327492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rot="10800000">
            <a:off x="3655800" y="463896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rot="10800000">
            <a:off x="4417920" y="4623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rot="10800000">
            <a:off x="479880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rot="10800000">
            <a:off x="595944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rot="10800000">
            <a:off x="6340320" y="4623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rot="10800000">
            <a:off x="6721560" y="46108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rot="10800000">
            <a:off x="7481880" y="4623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rot="10800000">
            <a:off x="786276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rot="10800000">
            <a:off x="3660840" y="21106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rot="10800000">
            <a:off x="5180040" y="32551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rot="10800000">
            <a:off x="5560920" y="325620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rot="10800000">
            <a:off x="5941800" y="325620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1295280" y="2540160"/>
            <a:ext cx="2438640" cy="7617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038480" y="2540160"/>
            <a:ext cx="1752840" cy="7617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3580920" y="3759120"/>
            <a:ext cx="167652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5028840" y="3759120"/>
            <a:ext cx="60948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019920" y="3759120"/>
            <a:ext cx="53316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400800" y="3759120"/>
            <a:ext cx="167652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20040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58128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96252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66092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04180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248520" y="5168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629400" y="5168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7010280" y="5168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777240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815328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590920" y="497844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114800" y="497844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638680" y="497844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62920" y="497844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718600" y="208764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Max fan-out: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083120" y="2557440"/>
            <a:ext cx="1752480" cy="762120"/>
          </a:xfrm>
          <a:prstGeom prst="line">
            <a:avLst/>
          </a:prstGeom>
          <a:ln w="63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5028840" y="3733920"/>
            <a:ext cx="609480" cy="958680"/>
          </a:xfrm>
          <a:prstGeom prst="line">
            <a:avLst/>
          </a:prstGeom>
          <a:ln w="63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4876920" y="4724280"/>
            <a:ext cx="380880" cy="838440"/>
            <a:chOff x="4876920" y="4724280"/>
            <a:chExt cx="380880" cy="838440"/>
          </a:xfrm>
        </p:grpSpPr>
        <p:sp>
          <p:nvSpPr>
            <p:cNvPr id="769" name=""/>
            <p:cNvSpPr/>
            <p:nvPr/>
          </p:nvSpPr>
          <p:spPr>
            <a:xfrm>
              <a:off x="4876920" y="4724280"/>
              <a:ext cx="380880" cy="838440"/>
            </a:xfrm>
            <a:prstGeom prst="line">
              <a:avLst/>
            </a:prstGeom>
            <a:ln w="63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4876920" y="4724280"/>
              <a:ext cx="380880" cy="838440"/>
            </a:xfrm>
            <a:prstGeom prst="line">
              <a:avLst/>
            </a:prstGeom>
            <a:ln w="63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2103480" y="3444840"/>
            <a:ext cx="24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meriGarmnd BT"/>
              </a:rPr>
              <a:t>Look up the key</a:t>
            </a:r>
            <a:br>
              <a:rPr sz="2400"/>
            </a:br>
            <a:r>
              <a:rPr b="0" lang="en-US" sz="2400" spc="-1" strike="noStrike">
                <a:solidFill>
                  <a:srgbClr val="00ff00"/>
                </a:solidFill>
                <a:latin typeface="AmeriGarmnd BT"/>
              </a:rPr>
              <a:t>to be delet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740040" y="56386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meriGarmnd BT"/>
              </a:rPr>
              <a:t>And delet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700160" y="6019920"/>
            <a:ext cx="37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meriGarmnd BT"/>
              </a:rPr>
              <a:t>Oops, node is too emp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5334120" y="2743200"/>
            <a:ext cx="4090320" cy="1905120"/>
            <a:chOff x="5334120" y="2743200"/>
            <a:chExt cx="4090320" cy="1905120"/>
          </a:xfrm>
        </p:grpSpPr>
        <p:sp>
          <p:nvSpPr>
            <p:cNvPr id="775" name=""/>
            <p:cNvSpPr/>
            <p:nvPr/>
          </p:nvSpPr>
          <p:spPr>
            <a:xfrm>
              <a:off x="6325200" y="2743200"/>
              <a:ext cx="3099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meriGarmnd BT"/>
                </a:rPr>
                <a:t>If a sibling has more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AmeriGarmnd BT"/>
                </a:rPr>
                <a:t>than enough keys,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AmeriGarmnd BT"/>
                </a:rPr>
                <a:t>steal one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334120" y="4419720"/>
              <a:ext cx="914400" cy="228600"/>
            </a:xfrm>
            <a:custGeom>
              <a:avLst/>
              <a:gdLst/>
              <a:ahLst/>
              <a:rect l="l" t="t" r="r" b="b"/>
              <a:pathLst>
                <a:path w="576" h="144">
                  <a:moveTo>
                    <a:pt x="576" y="144"/>
                  </a:moveTo>
                  <a:cubicBezTo>
                    <a:pt x="480" y="72"/>
                    <a:pt x="384" y="0"/>
                    <a:pt x="288" y="0"/>
                  </a:cubicBez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B67F-CD2C-44A8-8CB6-D929DEBAD7B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49D58D-6AD4-4AD2-A1E7-E2DF4FFB39D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aling from a sib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895480" y="46735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419720" y="46735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943600" y="46735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467480" y="46735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181480" y="33019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657600" y="21589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rot="10800000">
            <a:off x="2894040" y="4625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rot="10800000">
            <a:off x="327492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rot="10800000">
            <a:off x="3655800" y="463896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rot="10800000">
            <a:off x="4417920" y="4623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rot="10800000">
            <a:off x="4800600" y="4623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ettrGoth12 BT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rot="10800000">
            <a:off x="5957640" y="4625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rot="10800000">
            <a:off x="6338880" y="462204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rot="10800000">
            <a:off x="7481880" y="4623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rot="10800000">
            <a:off x="786276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rot="10800000">
            <a:off x="3660840" y="21106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rot="10800000">
            <a:off x="5180040" y="32551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rot="10800000">
            <a:off x="5560920" y="325620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rot="10800000">
            <a:off x="5941800" y="325620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1295280" y="2540160"/>
            <a:ext cx="2438640" cy="7617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038480" y="2540160"/>
            <a:ext cx="1752840" cy="7617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3580920" y="3759120"/>
            <a:ext cx="167652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5028840" y="3759120"/>
            <a:ext cx="60948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019920" y="3759120"/>
            <a:ext cx="53316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400800" y="3759120"/>
            <a:ext cx="167652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58128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96252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66092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041800" y="5181480"/>
            <a:ext cx="0" cy="457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248520" y="5168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629400" y="5168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77240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15328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590920" y="497844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114800" y="497844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638680" y="497844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162920" y="497844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718600" y="208764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Max fan-out: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5565600" y="2694240"/>
            <a:ext cx="546120" cy="1191960"/>
            <a:chOff x="5565600" y="2694240"/>
            <a:chExt cx="546120" cy="1191960"/>
          </a:xfrm>
        </p:grpSpPr>
        <p:sp>
          <p:nvSpPr>
            <p:cNvPr id="818" name=""/>
            <p:cNvSpPr/>
            <p:nvPr/>
          </p:nvSpPr>
          <p:spPr>
            <a:xfrm flipH="1">
              <a:off x="5638320" y="3276720"/>
              <a:ext cx="381240" cy="6094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10800000">
              <a:off x="5565600" y="2694240"/>
              <a:ext cx="5461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LettrGoth12 BT"/>
                </a:rPr>
                <a:t>15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1027800" y="3156120"/>
            <a:ext cx="44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meriGarmnd BT"/>
              </a:rPr>
              <a:t>Remember to fix the key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meriGarmnd BT"/>
              </a:rPr>
              <a:t>in the least common ance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B3CC-F790-4B21-B7CA-C8BCB3DBCA2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66F880-9062-4C46-A12E-E88726A180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ther deletion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 a record with search key value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17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895480" y="46735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419720" y="46735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943600" y="46735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7467480" y="46735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181480" y="33019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657600" y="21589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rot="10800000">
            <a:off x="2894040" y="4625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rot="10800000">
            <a:off x="327492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rot="10800000">
            <a:off x="3655800" y="463896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rot="10800000">
            <a:off x="4417920" y="4623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rot="10800000">
            <a:off x="4794120" y="462204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rot="10800000">
            <a:off x="5957640" y="4625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rot="10800000">
            <a:off x="6338880" y="462204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rot="10800000">
            <a:off x="7481880" y="4623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rot="10800000">
            <a:off x="786276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rot="10800000">
            <a:off x="3660840" y="21106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rot="10800000">
            <a:off x="5180040" y="32551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rot="10800000">
            <a:off x="5559480" y="32551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rot="10800000">
            <a:off x="5941800" y="325620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1295280" y="2540160"/>
            <a:ext cx="2438640" cy="7617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4038480" y="2540160"/>
            <a:ext cx="1752840" cy="7617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3580920" y="3759120"/>
            <a:ext cx="167652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5028840" y="3759120"/>
            <a:ext cx="60948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019920" y="3759120"/>
            <a:ext cx="53316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400800" y="3759120"/>
            <a:ext cx="167652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20040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58128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96252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466092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04180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248520" y="5168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629400" y="5168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77240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815328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590920" y="497844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114800" y="497844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5638680" y="497844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7162920" y="497844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718600" y="208764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Max fan-out: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6400800" y="4724280"/>
            <a:ext cx="380880" cy="838440"/>
            <a:chOff x="6400800" y="4724280"/>
            <a:chExt cx="380880" cy="838440"/>
          </a:xfrm>
        </p:grpSpPr>
        <p:sp>
          <p:nvSpPr>
            <p:cNvPr id="863" name=""/>
            <p:cNvSpPr/>
            <p:nvPr/>
          </p:nvSpPr>
          <p:spPr>
            <a:xfrm>
              <a:off x="6400800" y="4724280"/>
              <a:ext cx="380880" cy="838440"/>
            </a:xfrm>
            <a:prstGeom prst="line">
              <a:avLst/>
            </a:prstGeom>
            <a:ln w="63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6400800" y="4724280"/>
              <a:ext cx="380880" cy="838440"/>
            </a:xfrm>
            <a:prstGeom prst="line">
              <a:avLst/>
            </a:prstGeom>
            <a:ln w="63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4596120" y="5715000"/>
            <a:ext cx="39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meriGarmnd BT"/>
              </a:rPr>
              <a:t>Cannot steal from sibl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4010760" y="6095880"/>
            <a:ext cx="545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meriGarmnd BT"/>
              </a:rPr>
              <a:t>Then coalesce (merge) with a sibl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5A21-0E91-4A70-B281-27B7B274973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1CD34F-ED99-4A74-9811-94A442A3305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alesc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895480" y="46735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419720" y="46735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181480" y="3301920"/>
            <a:ext cx="129564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657600" y="21589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rot="10800000">
            <a:off x="2894040" y="4625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rot="10800000">
            <a:off x="327492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rot="10800000">
            <a:off x="3655800" y="463896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rot="10800000">
            <a:off x="4417920" y="46234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rot="10800000">
            <a:off x="4794120" y="462204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 rot="10800000">
            <a:off x="3660840" y="21106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rot="10800000">
            <a:off x="5180040" y="32551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 rot="10800000">
            <a:off x="5559480" y="32551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rot="10800000">
            <a:off x="5941800" y="325620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1295280" y="2540160"/>
            <a:ext cx="2438640" cy="7617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038480" y="2540160"/>
            <a:ext cx="1752840" cy="76176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3580920" y="3759120"/>
            <a:ext cx="167652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5028840" y="3759120"/>
            <a:ext cx="60948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019920" y="3759120"/>
            <a:ext cx="53316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400800" y="3759120"/>
            <a:ext cx="1676520" cy="9144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20040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58128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96252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466092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04180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590920" y="4978440"/>
            <a:ext cx="30456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497844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718600" y="208764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Max fan-out: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269720" y="3124080"/>
            <a:ext cx="6197760" cy="1295640"/>
            <a:chOff x="1269720" y="3124080"/>
            <a:chExt cx="6197760" cy="1295640"/>
          </a:xfrm>
        </p:grpSpPr>
        <p:grpSp>
          <p:nvGrpSpPr>
            <p:cNvPr id="896" name=""/>
            <p:cNvGrpSpPr/>
            <p:nvPr/>
          </p:nvGrpSpPr>
          <p:grpSpPr>
            <a:xfrm>
              <a:off x="6019920" y="3352680"/>
              <a:ext cx="380880" cy="381240"/>
              <a:chOff x="6019920" y="3352680"/>
              <a:chExt cx="380880" cy="381240"/>
            </a:xfrm>
          </p:grpSpPr>
          <p:sp>
            <p:nvSpPr>
              <p:cNvPr id="897" name=""/>
              <p:cNvSpPr/>
              <p:nvPr/>
            </p:nvSpPr>
            <p:spPr>
              <a:xfrm>
                <a:off x="6019920" y="3352680"/>
                <a:ext cx="380880" cy="381240"/>
              </a:xfrm>
              <a:prstGeom prst="line">
                <a:avLst/>
              </a:prstGeom>
              <a:ln w="63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>
                <a:off x="6019920" y="3352680"/>
                <a:ext cx="380880" cy="381240"/>
              </a:xfrm>
              <a:prstGeom prst="line">
                <a:avLst/>
              </a:prstGeom>
              <a:ln w="63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7086600" y="4038480"/>
              <a:ext cx="380880" cy="381240"/>
              <a:chOff x="7086600" y="4038480"/>
              <a:chExt cx="380880" cy="381240"/>
            </a:xfrm>
          </p:grpSpPr>
          <p:sp>
            <p:nvSpPr>
              <p:cNvPr id="900" name=""/>
              <p:cNvSpPr/>
              <p:nvPr/>
            </p:nvSpPr>
            <p:spPr>
              <a:xfrm>
                <a:off x="7086600" y="4038480"/>
                <a:ext cx="380880" cy="381240"/>
              </a:xfrm>
              <a:prstGeom prst="line">
                <a:avLst/>
              </a:prstGeom>
              <a:ln w="63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>
                <a:off x="7086600" y="4038480"/>
                <a:ext cx="380880" cy="381240"/>
              </a:xfrm>
              <a:prstGeom prst="line">
                <a:avLst/>
              </a:prstGeom>
              <a:ln w="63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2" name=""/>
            <p:cNvSpPr/>
            <p:nvPr/>
          </p:nvSpPr>
          <p:spPr>
            <a:xfrm>
              <a:off x="1269720" y="3124080"/>
              <a:ext cx="4268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Remember to delete the</a:t>
              </a:r>
              <a:br>
                <a:rPr sz="2400"/>
              </a:br>
              <a:r>
                <a:rPr b="0" lang="en-US" sz="2400" spc="-1" strike="noStrike">
                  <a:solidFill>
                    <a:srgbClr val="00ff00"/>
                  </a:solidFill>
                  <a:latin typeface="AmeriGarmnd BT"/>
                </a:rPr>
                <a:t>appropriate key from par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"/>
          <p:cNvSpPr/>
          <p:nvPr/>
        </p:nvSpPr>
        <p:spPr>
          <a:xfrm>
            <a:off x="228600" y="56386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tion can “propagate” all the way up to the root of the tree (not illustrated he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he root becomes empty, the tree “shrinks” by o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943600" y="4673520"/>
            <a:ext cx="1295280" cy="533520"/>
          </a:xfrm>
          <a:prstGeom prst="rect">
            <a:avLst/>
          </a:prstGeom>
          <a:noFill/>
          <a:ln w="381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 rot="10800000">
            <a:off x="5957640" y="46252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rot="10800000">
            <a:off x="6337080" y="461988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248520" y="5168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629400" y="51688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638680" y="4978440"/>
            <a:ext cx="304920" cy="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rot="10800000">
            <a:off x="6705360" y="4626720"/>
            <a:ext cx="54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996240" y="5181480"/>
            <a:ext cx="0" cy="457200"/>
          </a:xfrm>
          <a:prstGeom prst="line">
            <a:avLst/>
          </a:prstGeom>
          <a:ln w="38160">
            <a:solidFill>
              <a:srgbClr val="33006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E2B9-B6DB-49EF-84CF-07E4D3CF0BD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762BB1-76A8-4BBE-AEC2-2564488EFF6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have a hourly-paid  RA position open in my group. If interested, apply on-line at </a:t>
            </a:r>
            <a:r>
              <a:rPr b="0" lang="en-US" sz="2800" spc="-1" strike="noStrike" u="sng">
                <a:solidFill>
                  <a:srgbClr val="7e9ce8"/>
                </a:solidFill>
                <a:uFillTx/>
                <a:latin typeface="Times New Roman"/>
                <a:hlinkClick r:id="rId1"/>
              </a:rPr>
              <a:t>https://jobs.ku.edu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, search with job ID 00069855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disciplinary research opport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nowing what is the stat-of-the-ar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good starting point before going for a graduate deg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rning $$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66F0-0191-45C0-AD9F-1D6FE76F6C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8E50A3-0E5E-4D6C-AAAE-7D6B3BD597A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ormance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I/O’s are required for each ope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height of the tre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more or le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us one or two to manipulate actual reco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u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for reorganization (should be very rare i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larg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nus one if we cache the root in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big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ughly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log</a:t>
            </a:r>
            <a:r>
              <a:rPr b="0" lang="en-US" sz="2200" spc="-1" strike="noStrike" baseline="-25000">
                <a:solidFill>
                  <a:srgbClr val="330066"/>
                </a:solidFill>
                <a:latin typeface="Times New Roman"/>
              </a:rPr>
              <a:t>fan-out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the number of reco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tree properties guarantee that fan-out is leas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/ 2 for all non-root nod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n-out is typically large (in hundreds)—many keys and pointers can fit into one b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4-level B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tree is enough for typical t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AB5B-88FC-4726-B17F-73BA233F22B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C7B6B3-E8D5-4334-A7D2-9AF88622734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tree in pract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 reorganization for deletion often is not implemented (e.g., Oracle, Informi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ave nodes less than half full and periodically reorganiz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mercial DBMS use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ree instead of hashing-based indexes because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ree handles range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7A6E-3C93-48B9-BCE1-FC7E089CD18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C40C21-06C2-412D-9D8A-D6C12C08B05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Halloween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y from the early days of System 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UPDATE Payroll</a:t>
            </a:r>
            <a:br>
              <a:rPr sz="2000"/>
            </a:b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SET salary = salary * 1.1</a:t>
            </a:r>
            <a:br>
              <a:rPr sz="2000"/>
            </a:b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WHERE salary &gt;= 10000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re is a B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tree index o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ayro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update never stopped (why?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an index in rever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fore update, scan index to create a complete “to-do”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uring update, maintain a “done”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g every row with transaction/statement 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8077-E30E-4634-B411-EC5DA812D66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87EBA4-870F-4ADB-BC2A-F48225B4217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tree versus IS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AM is more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ree is more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dyna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AM is more compact (at least initial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ewer levels and I/O’s than B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time, ISAM may not be balan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not provide guaranteed performance as B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ree do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C014-993D-44CF-9530-E04B1B03978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E5A36E-E676-4CD7-A198-A1FFD70D331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tree versus B-tr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-tree: why not store records (or record pointers) in non-leaf nod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se records can be accessed with fewer I/O’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oring more data in a node decreases fan-out and increase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cords in leaves require more I/O’s to a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ast majority of the records live in leaves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BF97-DF4C-4354-B5D0-7AE338278C4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D36301-3E0E-477B-92CF-49C52E5F6C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yond ISAM, B-, and 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tre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tree-based indexes: R-trees and variants, GiST, et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hing-based indexes: extensible hashing, linear hashing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 indexes: inverted-list index, suffix array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tricks: bitmap index, bit-sliced index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AE56-C2F5-4576-997D-180144C3282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2D423D-E47B-47B7-9DF7-4F1C371EEDA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ypes of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y-sear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ange-que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ree oper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ree sor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xt week with other disk-based sorting algorith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13D5-9C1B-44BF-831C-340A96ED93E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F6B20A-5DAC-4A25-9F3C-3C57FF4AF83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nit of disk read and write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lock (or called Pag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sk access time is compos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ek ti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otation ti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 transfer ti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CC70-6244-45AE-A3EE-8AB266A664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3F82CE-1F8A-4A57-8BE1-2FA6E02111A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ow in a table, when located on disks, is call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recor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ypes of reco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xed-leng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ariable-length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361A-CC63-401B-A3FA-A62945DAAF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574A1C-2EC6-4661-B4CB-9530084A54B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n abstract sense, a file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set of “records” on a dis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reality, a fil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set of disk p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record lives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p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Record ID (R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tuple of &lt;page#, slot#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BE9C-968A-46BE-B724-9992D1B0E0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FFD530-EC0E-48E2-BC15-60267352B1F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’s Top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locate data in a fi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a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 to index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inde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AM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dexed sequence access metho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re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E263-8061-42CA-B69B-53FB274DA9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23514-4A2D-41E6-BC41-E9231114FDF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value, locate the record(s) with this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 * FRO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 WHERE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=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value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 * FRO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 WHERE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.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=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.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search criteria, e.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ange sear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 * FRO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 WHERE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&gt;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value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yword sear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066680" y="5105520"/>
            <a:ext cx="5791320" cy="380880"/>
            <a:chOff x="1066680" y="5105520"/>
            <a:chExt cx="5791320" cy="380880"/>
          </a:xfrm>
        </p:grpSpPr>
        <p:sp>
          <p:nvSpPr>
            <p:cNvPr id="108" name=""/>
            <p:cNvSpPr/>
            <p:nvPr/>
          </p:nvSpPr>
          <p:spPr>
            <a:xfrm>
              <a:off x="1066680" y="5105520"/>
              <a:ext cx="4267080" cy="3808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ettrGoth12 BT"/>
                  <a:ea typeface="Arial Unicode MS"/>
                </a:rPr>
                <a:t>database index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86400" y="5105520"/>
              <a:ext cx="1371600" cy="380880"/>
            </a:xfrm>
            <a:prstGeom prst="bevel">
              <a:avLst>
                <a:gd name="adj" fmla="val 12500"/>
              </a:avLst>
            </a:prstGeom>
            <a:solidFill>
              <a:srgbClr val="808080"/>
            </a:solidFill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  <a:ea typeface="Arial Unicode MS"/>
                </a:rPr>
                <a:t>Sear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247E-DAFB-4D51-B462-F75EA5FC166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69FEE-4F9C-49E3-9C90-C6A471B2834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se and sparse index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D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one index entry for each search key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1828800"/>
            <a:ext cx="8686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Spa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one index entry for each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cords must be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cluster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ccording to the search k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0C97-38D7-47E2-90BE-A1E60193A69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A4AF9E-ED10-48CD-A18E-0B98CEB4798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3-28T15:02:55Z</dcterms:modified>
  <cp:revision>792</cp:revision>
  <dc:subject/>
  <dc:title>CS186: Introduction to Database Systems</dc:title>
</cp:coreProperties>
</file>