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2233-815F-4D19-A910-3B8493EA58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AC7A-576D-4C83-8739-A647C75C68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9448-C8A4-4D9F-84BB-9AE38F9A36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C202-30AA-483C-B4C2-F9ED2093F3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A5F5-6F19-4849-BA11-8E95E7C328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603A-6A3F-4B6C-90D1-2E5CA6ED02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92AA-1E0A-4CAA-A005-DC1FC5A3D2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8419-56B6-4E10-A4AA-59F9939E41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A749-7478-4278-B852-369700FA4E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9B22-A7A1-488F-9CC8-DCECA6CF69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016B-B1E3-4554-A712-786E499CE5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7BD3-DC1D-43AE-835E-662CC103FF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F6C0-FA7A-4E1B-95EA-3DF7964676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E7AE-67B5-4E39-A6BA-0BE0D05DC9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1BFA-3CE7-4EF0-B7E6-CB77BCFE4E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0E3C-D46A-404A-AF30-737458604B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AE9B-2B03-402D-9389-6153F58C9F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D22D-EE71-43D9-8FFD-AF8E3CCD44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B7F2-6EF5-4B99-BD45-34BDB8D9C8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1147-D1C4-40A4-996B-D4698E6A6B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9F83-544A-47C4-877A-B0B70A0C05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A24A-53D8-4B1C-80FE-3AA5721890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3F8F-61F5-465B-B7EF-F470878D20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69D6-E56D-410B-884E-B8E44122C9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8C2E-4870-4DFA-B460-676A432420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2BEC-C72E-491B-840A-A3F148EF74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19E9-6AA5-44E6-80D1-6EA67D9147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E2EA-0A33-44F2-96AB-8D2BAB5C9B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9AE-A2B3-4C79-91F4-64C0AB25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B81-ED64-464F-8271-602C690D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228-E221-4853-8156-39F02551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253-3D65-4F48-A0D4-227B34BD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4F5-7D88-4802-87BE-F5CB07D8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C86F-D41D-44E8-BEEC-365B54F1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2DF-47CD-49CB-8E40-28300412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C17-F441-4B53-AC53-190706F7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A28-0697-43FC-9598-22083882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BAB-1ACB-4F44-967D-94373DC0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277-DA13-4469-8321-013447D8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C07-924F-4C6B-9060-4316AE7A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C6D3-621A-4C35-BDD6-EC42946B1FA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7721-4517-4364-86E7-08409413A0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eople.eecs.ku.edu/~jhuan/EECS647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ities and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Times New Roman"/>
              </a:rPr>
              <a:t>Ent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A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pecific object or “thing” in the mini-world that is represented in the database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the EMPLOYEE John Smith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earch DEPARTMENT, the ProductX PRO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Times New Roman"/>
              </a:rPr>
              <a:t>Attribut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properties used to describe an entity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an EMPLOYEE entity may have a Name, SSN, Address, Sex, Birth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specific entity will have a </a:t>
            </a:r>
            <a:r>
              <a:rPr b="0" i="1" lang="en-US" sz="2600" spc="-1" strike="noStrike">
                <a:solidFill>
                  <a:srgbClr val="0000ff"/>
                </a:solidFill>
                <a:latin typeface="Times New Roman"/>
              </a:rPr>
              <a:t>val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or each of its attribute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a specific employee entity may have Name='John Smith', SSN='123456789', Address ='731 Fondren, Houston, TX', Sex='M', BirthDate='09-JAN-55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1981080"/>
            <a:ext cx="1067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705720" y="2209320"/>
            <a:ext cx="2095560" cy="686160"/>
            <a:chOff x="6705720" y="2209320"/>
            <a:chExt cx="2095560" cy="686160"/>
          </a:xfrm>
        </p:grpSpPr>
        <p:sp>
          <p:nvSpPr>
            <p:cNvPr id="127" name=""/>
            <p:cNvSpPr/>
            <p:nvPr/>
          </p:nvSpPr>
          <p:spPr>
            <a:xfrm>
              <a:off x="6705720" y="2361960"/>
              <a:ext cx="685800" cy="30492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2590560"/>
              <a:ext cx="685800" cy="30492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15480" y="2590560"/>
              <a:ext cx="685800" cy="30492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7010640" y="2209320"/>
              <a:ext cx="685800" cy="1522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620120" y="2437920"/>
              <a:ext cx="380880" cy="1522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458200" y="2437920"/>
              <a:ext cx="0" cy="1522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469-9A7A-4866-98D5-230FCBDDE2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24542-337E-46F7-8336-BAF897A6BF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3120"/>
            <a:ext cx="85341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480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vs. Composit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ach entity has a single atomic value for the attribute. For example, SSN or S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Compo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attribute may be composed of several components. For example, Name (FirstName, MiddleName, LastNam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B76-3C60-431E-BB27-81831BF6F8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BAFCC-A9DC-4F62-B9F6-14657CCC4F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Attribute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valued vs. Multi-valu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ingle-valu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 entity may have at most one value for the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Multi-valu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 entity may have multiple values for that attribute. For example, PreviousDegrees of a STUDENT. {PreviousDegrees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f the student does not hold a previous degre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f the student has a previous degree but the information is not provide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artment number in an addr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74D-68EA-45C0-8DB1-F2F9D45489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5F444-CD94-4FF7-B927-22094951DC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Attribute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d vs. der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credit hours a student took in a sem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PA of a student in a sem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577-7539-441F-94F6-4EE0DB9F16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09F7B-8FE8-44C5-9CD2-8C7F442BFA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Attrib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9928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ies with the same basic attributes are grouped or typed into an entity ty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xample, the EMPLOYEE entity type or the PROJECT entity typ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ttribute of an entity type for which each entity must have a unique value is called a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key 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entity type. For example, SSN of EMPLOY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key attribute may be composit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 entity type may have more than one ke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D26-B154-4E6E-A42D-2FBADA7C5A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C0B9C-050A-4FA1-B3AA-68DEEB586D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343080"/>
            <a:ext cx="9067680" cy="3664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MARY OF ER-DIAGRAM NOTA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05320" y="1066320"/>
            <a:ext cx="4419360" cy="44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VALUED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D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3200" y="1143000"/>
            <a:ext cx="1130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1600200"/>
            <a:ext cx="901800" cy="314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599840" y="2303640"/>
            <a:ext cx="1143360" cy="210960"/>
            <a:chOff x="1599840" y="2303640"/>
            <a:chExt cx="1143360" cy="210960"/>
          </a:xfrm>
        </p:grpSpPr>
        <p:sp>
          <p:nvSpPr>
            <p:cNvPr id="146" name=""/>
            <p:cNvSpPr/>
            <p:nvPr/>
          </p:nvSpPr>
          <p:spPr>
            <a:xfrm>
              <a:off x="1997280" y="2303640"/>
              <a:ext cx="745920" cy="21096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599840" y="2409840"/>
              <a:ext cx="39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599840" y="3048120"/>
            <a:ext cx="1143360" cy="210960"/>
            <a:chOff x="1599840" y="3048120"/>
            <a:chExt cx="1143360" cy="210960"/>
          </a:xfrm>
        </p:grpSpPr>
        <p:grpSp>
          <p:nvGrpSpPr>
            <p:cNvPr id="149" name=""/>
            <p:cNvGrpSpPr/>
            <p:nvPr/>
          </p:nvGrpSpPr>
          <p:grpSpPr>
            <a:xfrm>
              <a:off x="1599840" y="3048120"/>
              <a:ext cx="1143360" cy="210960"/>
              <a:chOff x="1599840" y="3048120"/>
              <a:chExt cx="1143360" cy="210960"/>
            </a:xfrm>
          </p:grpSpPr>
          <p:sp>
            <p:nvSpPr>
              <p:cNvPr id="150" name=""/>
              <p:cNvSpPr/>
              <p:nvPr/>
            </p:nvSpPr>
            <p:spPr>
              <a:xfrm>
                <a:off x="1997280" y="3048120"/>
                <a:ext cx="745920" cy="210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599840" y="3154320"/>
                <a:ext cx="3970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149560" y="3195720"/>
              <a:ext cx="426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600200" y="3827520"/>
            <a:ext cx="1248840" cy="272880"/>
            <a:chOff x="1600200" y="3827520"/>
            <a:chExt cx="1248840" cy="272880"/>
          </a:xfrm>
        </p:grpSpPr>
        <p:sp>
          <p:nvSpPr>
            <p:cNvPr id="154" name=""/>
            <p:cNvSpPr/>
            <p:nvPr/>
          </p:nvSpPr>
          <p:spPr>
            <a:xfrm>
              <a:off x="1996920" y="3854160"/>
              <a:ext cx="745560" cy="21096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0360"/>
              <a:ext cx="396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90360" y="3827520"/>
              <a:ext cx="958680" cy="27288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752120" y="5275440"/>
            <a:ext cx="1143360" cy="210960"/>
            <a:chOff x="1752120" y="5275440"/>
            <a:chExt cx="1143360" cy="210960"/>
          </a:xfrm>
        </p:grpSpPr>
        <p:sp>
          <p:nvSpPr>
            <p:cNvPr id="158" name=""/>
            <p:cNvSpPr/>
            <p:nvPr/>
          </p:nvSpPr>
          <p:spPr>
            <a:xfrm>
              <a:off x="2149560" y="5275440"/>
              <a:ext cx="745920" cy="210960"/>
            </a:xfrm>
            <a:prstGeom prst="ellipse">
              <a:avLst/>
            </a:prstGeom>
            <a:noFill/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752120" y="5381640"/>
              <a:ext cx="397080" cy="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828800" y="4513320"/>
            <a:ext cx="990360" cy="345600"/>
            <a:chOff x="1828800" y="4513320"/>
            <a:chExt cx="990360" cy="345600"/>
          </a:xfrm>
        </p:grpSpPr>
        <p:sp>
          <p:nvSpPr>
            <p:cNvPr id="161" name=""/>
            <p:cNvSpPr/>
            <p:nvPr/>
          </p:nvSpPr>
          <p:spPr>
            <a:xfrm>
              <a:off x="1828800" y="451332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55680" y="451332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81560" y="451332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54680" y="472068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046240" y="4790160"/>
              <a:ext cx="217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66400" y="4602240"/>
              <a:ext cx="217800" cy="14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64400" y="4642560"/>
              <a:ext cx="69120" cy="88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482560" y="4651560"/>
              <a:ext cx="187920" cy="108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23160" y="4582440"/>
              <a:ext cx="148320" cy="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15F-72F4-4E5D-9C99-A333A9263E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EE2A7-45B1-47D7-AFF1-5FF11F4DF6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26992" b="0"/>
          <a:stretch/>
        </p:blipFill>
        <p:spPr>
          <a:xfrm>
            <a:off x="1371600" y="990720"/>
            <a:ext cx="62308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A5C-D196-4E5F-B862-CABA75C1F4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C5188-5B58-4D50-945E-EA25E58CEE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303120"/>
            <a:ext cx="85341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99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lates two or more distinct entities with a specific mea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EMPLOYEE John Smith works on the ProductX PROJECT or EMPLOYEE Franklin Wong manages the Research DEPAR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 of the same type are grouped or typed into a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relationship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he WORKS_ON relationship type in which EMPLOYEEs and PROJECTs participate, or the MANAGES relationship type in which EMPLOYEEs and DEPARTMENTs particip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degree of a relationship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number of participating entity typ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MANAGES and WORKS_ON are binary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62840" y="1905120"/>
            <a:ext cx="106704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962840" y="4952880"/>
            <a:ext cx="1067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039160" y="2362320"/>
            <a:ext cx="914400" cy="2590200"/>
            <a:chOff x="8039160" y="2362320"/>
            <a:chExt cx="914400" cy="2590200"/>
          </a:xfrm>
        </p:grpSpPr>
        <p:sp>
          <p:nvSpPr>
            <p:cNvPr id="177" name=""/>
            <p:cNvSpPr/>
            <p:nvPr/>
          </p:nvSpPr>
          <p:spPr>
            <a:xfrm>
              <a:off x="8039160" y="3504960"/>
              <a:ext cx="914400" cy="533160"/>
            </a:xfrm>
            <a:prstGeom prst="diamond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96360" y="2362320"/>
              <a:ext cx="0" cy="11426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96360" y="4038480"/>
              <a:ext cx="0" cy="9140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972480" y="5181120"/>
            <a:ext cx="2094840" cy="686160"/>
            <a:chOff x="6972480" y="5181120"/>
            <a:chExt cx="2094840" cy="686160"/>
          </a:xfrm>
        </p:grpSpPr>
        <p:sp>
          <p:nvSpPr>
            <p:cNvPr id="181" name=""/>
            <p:cNvSpPr/>
            <p:nvPr/>
          </p:nvSpPr>
          <p:spPr>
            <a:xfrm>
              <a:off x="6972480" y="5333760"/>
              <a:ext cx="685440" cy="30492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81600" y="5562360"/>
              <a:ext cx="685440" cy="30492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81880" y="5562360"/>
              <a:ext cx="685440" cy="30492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277040" y="5181120"/>
              <a:ext cx="685440" cy="1522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886520" y="5409720"/>
              <a:ext cx="380520" cy="1522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8724600" y="5409720"/>
              <a:ext cx="0" cy="1522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408-F06A-485A-99B4-1FF3FD97E2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BD26C-AF9E-45D5-A515-8C97955295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1523880" y="2136600"/>
            <a:ext cx="2971800" cy="24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523880" y="2765160"/>
            <a:ext cx="291492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542960" y="3317760"/>
            <a:ext cx="2857680" cy="38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2960" y="3832200"/>
            <a:ext cx="29149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2960" y="4308480"/>
            <a:ext cx="2876760" cy="152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803840"/>
            <a:ext cx="2934000" cy="24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2960" y="5318280"/>
            <a:ext cx="2895840" cy="32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52920" y="2136600"/>
            <a:ext cx="2895480" cy="228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2746440"/>
            <a:ext cx="2838600" cy="533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552920" y="2365200"/>
            <a:ext cx="285768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591080" y="3298320"/>
            <a:ext cx="2800440" cy="590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552920" y="4194000"/>
            <a:ext cx="2819520" cy="28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52920" y="4194000"/>
            <a:ext cx="2838600" cy="1447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26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s of a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81560" y="2048040"/>
            <a:ext cx="209520" cy="18072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81560" y="263844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1560" y="320976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81560" y="380052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81560" y="437184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81560" y="496260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81560" y="553392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6560" y="1546200"/>
            <a:ext cx="1943280" cy="3981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4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5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6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7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9440" y="105408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1546200"/>
            <a:ext cx="1942920" cy="4724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440" bIns="334116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65000" y="105408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WORKS_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1546200"/>
            <a:ext cx="1943280" cy="3981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17360" y="105408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572000" y="2347560"/>
            <a:ext cx="2838600" cy="268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8C5B-E9EA-4013-AB6F-D9C40378767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F6073-84C0-4E04-9F3E-FE86B0922B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372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al Constraints (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Cardi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-to-one (1: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-to-many (1:N) or Many-to-one (N: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-to-ma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0FE-1CF2-4498-A1D7-77F213AEA7B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12BEF-CEB5-48B0-935E-C0DDE04015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webpage is on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Times New Roman"/>
                <a:hlinkClick r:id="rId1"/>
              </a:rPr>
              <a:t>http://people.eecs.ku.edu/~jhuan/EECS6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book is available at KU book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home background survey is not ready yet, will be posted at the class webpage next Mon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have sent a request to EECS help desk to create your PostgreSQL account. Might get more to say next Mon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134-B111-4BF5-B1AF-1BEEB4995A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2D49B-A2B5-4391-A0B1-B697E5C6CC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flipV="1">
            <a:off x="1523880" y="2136600"/>
            <a:ext cx="2971800" cy="24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523880" y="2765160"/>
            <a:ext cx="291492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542960" y="3317760"/>
            <a:ext cx="2857680" cy="38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2960" y="3832200"/>
            <a:ext cx="29149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42960" y="4308480"/>
            <a:ext cx="2876760" cy="152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4803840"/>
            <a:ext cx="2934000" cy="24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42960" y="5318280"/>
            <a:ext cx="2895840" cy="32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52920" y="2136600"/>
            <a:ext cx="2895480" cy="228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2746440"/>
            <a:ext cx="2838600" cy="533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552920" y="2365200"/>
            <a:ext cx="285768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591080" y="3298320"/>
            <a:ext cx="2800440" cy="590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552920" y="4194000"/>
            <a:ext cx="2819520" cy="28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552920" y="4194000"/>
            <a:ext cx="2838600" cy="1447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32544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-to-one (N:1)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81560" y="2048040"/>
            <a:ext cx="209520" cy="18072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81560" y="263844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81560" y="320976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81560" y="380052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81560" y="437184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81560" y="496260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81560" y="553392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6560" y="1546200"/>
            <a:ext cx="1943280" cy="3981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4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5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6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7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9440" y="105408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1546200"/>
            <a:ext cx="1942920" cy="4724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440" bIns="334116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65000" y="105408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WORKS_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53080" y="1546200"/>
            <a:ext cx="1943280" cy="3981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17360" y="105408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572000" y="2347560"/>
            <a:ext cx="2838600" cy="268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69DE-D84B-45F5-BAF6-529485C9C6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E77EF-7698-4A55-81F7-30777D7606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 flipV="1">
            <a:off x="1523880" y="2076480"/>
            <a:ext cx="2971800" cy="24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523880" y="2705040"/>
            <a:ext cx="29149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542960" y="3257640"/>
            <a:ext cx="2857680" cy="38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42960" y="3772080"/>
            <a:ext cx="291492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42960" y="4248000"/>
            <a:ext cx="2876760" cy="152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4743360"/>
            <a:ext cx="2934000" cy="24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2960" y="5257800"/>
            <a:ext cx="2895840" cy="324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52920" y="2076480"/>
            <a:ext cx="2895480" cy="228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685960"/>
            <a:ext cx="2838600" cy="533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552920" y="2305080"/>
            <a:ext cx="285768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591080" y="3238560"/>
            <a:ext cx="2800440" cy="590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552920" y="4133880"/>
            <a:ext cx="2819520" cy="28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552920" y="4133880"/>
            <a:ext cx="2838600" cy="1447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72000" y="2304720"/>
            <a:ext cx="2838600" cy="268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2781360"/>
            <a:ext cx="2895840" cy="3071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572000" y="4133880"/>
            <a:ext cx="2838600" cy="1719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504800" y="1724040"/>
            <a:ext cx="2876760" cy="35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1542960"/>
            <a:ext cx="2800440" cy="762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97000" y="228240"/>
            <a:ext cx="849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-to-many (M:N)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1822320"/>
            <a:ext cx="80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9960" y="1486080"/>
            <a:ext cx="1943280" cy="398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4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5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6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7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1486080"/>
            <a:ext cx="1942920" cy="4724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440" bIns="334116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486080"/>
            <a:ext cx="1943280" cy="398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81560" y="200484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81560" y="259560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81560" y="316692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81560" y="375768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81560" y="432900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81560" y="499104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81560" y="549108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91080" y="4329000"/>
            <a:ext cx="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00640" y="5853240"/>
            <a:ext cx="209520" cy="18072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89240" y="5581800"/>
            <a:ext cx="52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381560" y="1724040"/>
            <a:ext cx="44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60800" y="148104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154296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EB3-FDA8-4146-9922-7BD97672B29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5AEC9-633B-411F-9641-2F8A576D8D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udent may have exactly one accou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faculty may teach many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udent may enroll many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523880" y="5562720"/>
            <a:ext cx="4038840" cy="609480"/>
            <a:chOff x="1523880" y="5562720"/>
            <a:chExt cx="4038840" cy="609480"/>
          </a:xfrm>
        </p:grpSpPr>
        <p:sp>
          <p:nvSpPr>
            <p:cNvPr id="284" name=""/>
            <p:cNvSpPr/>
            <p:nvPr/>
          </p:nvSpPr>
          <p:spPr>
            <a:xfrm>
              <a:off x="1523880" y="5638680"/>
              <a:ext cx="990720" cy="45684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71800" y="5562720"/>
              <a:ext cx="1143000" cy="609480"/>
            </a:xfrm>
            <a:prstGeom prst="flowChartDecision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Enro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14600" y="5867280"/>
              <a:ext cx="45720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14800" y="5867280"/>
              <a:ext cx="45720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2000" y="5638680"/>
              <a:ext cx="990720" cy="45684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Cour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371600" y="4114800"/>
            <a:ext cx="4572000" cy="609480"/>
            <a:chOff x="1371600" y="4114800"/>
            <a:chExt cx="4572000" cy="609480"/>
          </a:xfrm>
        </p:grpSpPr>
        <p:sp>
          <p:nvSpPr>
            <p:cNvPr id="290" name=""/>
            <p:cNvSpPr/>
            <p:nvPr/>
          </p:nvSpPr>
          <p:spPr>
            <a:xfrm>
              <a:off x="1371600" y="4191120"/>
              <a:ext cx="990720" cy="45720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Cour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19520" y="4114800"/>
              <a:ext cx="1523880" cy="609480"/>
            </a:xfrm>
            <a:prstGeom prst="flowChartDecision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TaughtB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62320" y="4419720"/>
              <a:ext cx="45720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4419720"/>
              <a:ext cx="45720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0600" y="4191120"/>
              <a:ext cx="1143000" cy="45720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Instru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447920" y="2666880"/>
            <a:ext cx="4647960" cy="609840"/>
            <a:chOff x="1447920" y="2666880"/>
            <a:chExt cx="4647960" cy="609840"/>
          </a:xfrm>
        </p:grpSpPr>
        <p:sp>
          <p:nvSpPr>
            <p:cNvPr id="296" name=""/>
            <p:cNvSpPr/>
            <p:nvPr/>
          </p:nvSpPr>
          <p:spPr>
            <a:xfrm>
              <a:off x="1447920" y="2743200"/>
              <a:ext cx="990360" cy="45720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95480" y="2666880"/>
              <a:ext cx="1143000" cy="609840"/>
            </a:xfrm>
            <a:prstGeom prst="flowChartDecision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38280" y="2971800"/>
              <a:ext cx="45720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38480" y="2971800"/>
              <a:ext cx="45720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95680" y="2743200"/>
              <a:ext cx="1600200" cy="45720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Ku Accou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67C-ED4F-4B82-850F-42103893131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BFBD7-EDC4-494D-87FC-93D0098DD8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al Constraints (I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Cardinality (also called participation constraint or existence dependency constra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Zero (partial particip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or more (total particip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A00-B727-4503-B898-8D4AD0F5D60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9CC14-9F90-4789-AD73-9BC62CBDD8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304920"/>
            <a:ext cx="831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(min,max) no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6600" y="1828800"/>
            <a:ext cx="216360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1828800"/>
            <a:ext cx="200196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057320" y="2017800"/>
            <a:ext cx="1249200" cy="4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loyee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32440" y="2104920"/>
            <a:ext cx="12351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partment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3781440" y="1714680"/>
            <a:ext cx="1527120" cy="1306440"/>
          </a:xfrm>
          <a:prstGeom prst="diamond">
            <a:avLst/>
          </a:prstGeom>
          <a:solidFill>
            <a:srgbClr val="0099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121280" y="2128680"/>
            <a:ext cx="9144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ages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2770200" y="2341440"/>
            <a:ext cx="1054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08560" y="2341440"/>
            <a:ext cx="104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3160" y="18842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14640" y="18288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(0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1560" y="3638520"/>
            <a:ext cx="216396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3581280"/>
            <a:ext cx="200160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81080" y="3808440"/>
            <a:ext cx="1249200" cy="4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loyee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91480" y="3878280"/>
            <a:ext cx="12348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partment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8" name=""/>
          <p:cNvSpPr/>
          <p:nvPr/>
        </p:nvSpPr>
        <p:spPr>
          <a:xfrm>
            <a:off x="3811680" y="3524400"/>
            <a:ext cx="1527120" cy="1306440"/>
          </a:xfrm>
          <a:prstGeom prst="diamond">
            <a:avLst/>
          </a:prstGeom>
          <a:solidFill>
            <a:srgbClr val="0099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162320" y="3954600"/>
            <a:ext cx="914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rks-for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5489640" y="36752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6040" y="3619440"/>
            <a:ext cx="10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4191120"/>
            <a:ext cx="1054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4120" y="4191120"/>
            <a:ext cx="1054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FB9-5B5F-4496-B955-3C83EB722CBB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E4202-8185-4034-81E0-819EE33633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s in relationsh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tity set may participate more than once in a relationship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to label edges to distinguish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ople are married as husband and wife; label nee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ople are roommates of each other; label not nee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6200" y="4813200"/>
            <a:ext cx="9907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737240"/>
            <a:ext cx="1143000" cy="60948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M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4648320"/>
            <a:ext cx="990360" cy="241200"/>
          </a:xfrm>
          <a:custGeom>
            <a:avLst/>
            <a:gdLst/>
            <a:ahLst/>
            <a:rect l="l" t="t" r="r" b="b"/>
            <a:pathLst>
              <a:path w="624" h="152">
                <a:moveTo>
                  <a:pt x="0" y="104"/>
                </a:moveTo>
                <a:cubicBezTo>
                  <a:pt x="92" y="52"/>
                  <a:pt x="184" y="0"/>
                  <a:pt x="288" y="8"/>
                </a:cubicBezTo>
                <a:cubicBezTo>
                  <a:pt x="392" y="16"/>
                  <a:pt x="508" y="84"/>
                  <a:pt x="624" y="152"/>
                </a:cubicBezTo>
              </a:path>
            </a:pathLst>
          </a:custGeom>
          <a:noFill/>
          <a:ln w="25560">
            <a:solidFill>
              <a:srgbClr val="33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876920" y="5180760"/>
            <a:ext cx="990360" cy="241560"/>
          </a:xfrm>
          <a:custGeom>
            <a:avLst/>
            <a:gdLst/>
            <a:ahLst/>
            <a:rect l="l" t="t" r="r" b="b"/>
            <a:pathLst>
              <a:path w="624" h="152">
                <a:moveTo>
                  <a:pt x="0" y="104"/>
                </a:moveTo>
                <a:cubicBezTo>
                  <a:pt x="92" y="52"/>
                  <a:pt x="184" y="0"/>
                  <a:pt x="288" y="8"/>
                </a:cubicBezTo>
                <a:cubicBezTo>
                  <a:pt x="392" y="16"/>
                  <a:pt x="508" y="84"/>
                  <a:pt x="624" y="152"/>
                </a:cubicBezTo>
              </a:path>
            </a:pathLst>
          </a:custGeom>
          <a:noFill/>
          <a:ln w="25560">
            <a:solidFill>
              <a:srgbClr val="33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58760" y="426708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hus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68720" y="533412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85960" y="4559400"/>
            <a:ext cx="2100240" cy="939240"/>
            <a:chOff x="1785960" y="4559400"/>
            <a:chExt cx="2100240" cy="939240"/>
          </a:xfrm>
        </p:grpSpPr>
        <p:sp>
          <p:nvSpPr>
            <p:cNvPr id="333" name=""/>
            <p:cNvSpPr/>
            <p:nvPr/>
          </p:nvSpPr>
          <p:spPr>
            <a:xfrm>
              <a:off x="1785960" y="4722480"/>
              <a:ext cx="1600200" cy="609480"/>
            </a:xfrm>
            <a:prstGeom prst="flowChartDecision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Roomm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0920" y="4559400"/>
              <a:ext cx="1295280" cy="240840"/>
            </a:xfrm>
            <a:custGeom>
              <a:avLst/>
              <a:gdLst/>
              <a:ahLst/>
              <a:rect l="l" t="t" r="r" b="b"/>
              <a:pathLst>
                <a:path w="624" h="152">
                  <a:moveTo>
                    <a:pt x="0" y="104"/>
                  </a:moveTo>
                  <a:cubicBezTo>
                    <a:pt x="92" y="52"/>
                    <a:pt x="184" y="0"/>
                    <a:pt x="288" y="8"/>
                  </a:cubicBezTo>
                  <a:cubicBezTo>
                    <a:pt x="392" y="16"/>
                    <a:pt x="508" y="84"/>
                    <a:pt x="624" y="152"/>
                  </a:cubicBezTo>
                </a:path>
              </a:pathLst>
            </a:custGeom>
            <a:noFill/>
            <a:ln w="25560">
              <a:solidFill>
                <a:srgbClr val="33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590920" y="5257440"/>
              <a:ext cx="1295280" cy="241200"/>
            </a:xfrm>
            <a:custGeom>
              <a:avLst/>
              <a:gdLst/>
              <a:ahLst/>
              <a:rect l="l" t="t" r="r" b="b"/>
              <a:pathLst>
                <a:path w="624" h="152">
                  <a:moveTo>
                    <a:pt x="0" y="104"/>
                  </a:moveTo>
                  <a:cubicBezTo>
                    <a:pt x="92" y="52"/>
                    <a:pt x="184" y="0"/>
                    <a:pt x="288" y="8"/>
                  </a:cubicBezTo>
                  <a:cubicBezTo>
                    <a:pt x="392" y="16"/>
                    <a:pt x="508" y="84"/>
                    <a:pt x="624" y="152"/>
                  </a:cubicBezTo>
                </a:path>
              </a:pathLst>
            </a:custGeom>
            <a:noFill/>
            <a:ln w="25560">
              <a:solidFill>
                <a:srgbClr val="33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BB9-BF33-4A5E-B670-B0A50B11CFF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D75CE-948B-46AC-912A-77230F2A59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0920" y="303120"/>
            <a:ext cx="85341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ursive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09928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also have a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recursive relationship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participations are same entity type in different ro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SUPERVISION relationships between EMPLOYEE (in role of supervisor or boss) and (another) EMPLOYEE (in role of subordinate or work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R diagram, need to display role names to distinguish particip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46F-F9AC-4C0B-81D7-549DDB63765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DBAB8-C36B-477D-B6F2-65D16F98A1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718160" y="2417760"/>
            <a:ext cx="1892160" cy="41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49720" y="2955960"/>
            <a:ext cx="1541520" cy="54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95960" y="2743200"/>
            <a:ext cx="1332000" cy="92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86160" y="3200400"/>
            <a:ext cx="2266920" cy="28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15080" y="3900600"/>
            <a:ext cx="1809720" cy="290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33880" y="4352760"/>
            <a:ext cx="1557360" cy="48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62480" y="4857840"/>
            <a:ext cx="1347840" cy="64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72280" y="4097160"/>
            <a:ext cx="1238040" cy="7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4640400"/>
            <a:ext cx="2343240" cy="191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451480" y="5378400"/>
            <a:ext cx="1139760" cy="147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728880" y="2247480"/>
            <a:ext cx="2843280" cy="125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9480" y="110880"/>
            <a:ext cx="8821800" cy="10522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RECURSIVE RELATIONSHIP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95280" y="1486080"/>
            <a:ext cx="1943280" cy="398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28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4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5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6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7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65120" y="99360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76840" y="1486080"/>
            <a:ext cx="1943280" cy="4724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32004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73520" y="9936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UPER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53080" y="206208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53080" y="274788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53080" y="339084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406224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53080" y="471492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541980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2514600"/>
            <a:ext cx="2646360" cy="244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37240" y="2093760"/>
            <a:ext cx="1834920" cy="5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23680" y="1900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76440" y="2057400"/>
            <a:ext cx="1979640" cy="320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61840" y="2185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057400"/>
            <a:ext cx="2358720" cy="776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46240" y="2684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52600" y="25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51240" y="2017800"/>
            <a:ext cx="1987560" cy="69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00480" y="3009960"/>
            <a:ext cx="1638000" cy="171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76440" y="3505320"/>
            <a:ext cx="2133720" cy="342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12680" y="3675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19200" y="3524400"/>
            <a:ext cx="2381400" cy="742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65320" y="4094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38280" y="3524400"/>
            <a:ext cx="2533680" cy="1220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955760" y="4627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457360" y="3619440"/>
            <a:ext cx="990720" cy="362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50600" y="335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22280" y="2989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19200" y="3981600"/>
            <a:ext cx="2762280" cy="123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125680" y="3903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419200" y="4476600"/>
            <a:ext cx="1543320" cy="127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65040" y="4417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38280" y="4991040"/>
            <a:ext cx="2800440" cy="363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03440" y="5141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56800" y="6216480"/>
            <a:ext cx="562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© The Benjamin/Cummings Publishing Company, Inc. 1994, Elmasri/Navathe, Fundamentals of Database Systems, Second Ed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308-A683-4791-9956-984C00C0C69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E282C-7D22-4E03-BD0F-FADA3E0B5F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k Entity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082160"/>
            <a:ext cx="777240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ek entity is an entity that does not have a key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ak entity must participate in an identifying relationship type with an owner or identifying entit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ies are identified by the combination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ial key of the weak entit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ticular entity they are related to in the identifying entit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hat a DEPENDENT entity is identified by the dependent’s first name and birthdat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pecific EMPLOYEE that the dependent is related to.  DEPENDENT is a weak entity type with EMPLOYEE as its identifying entity type via the identifying relationship type DEPENDEN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BD1-22FD-4E3C-9317-8E9598333CB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D4AF0-3BF7-4466-8C84-E44203FD43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 What? Database Schem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7800" y="1294920"/>
            <a:ext cx="4305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database sche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description of a database, using a given data model (relational model by defaul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xternal schem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er views) describe how users see the data.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Conceptual sche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es logic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nternal sche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scribes the physical storage structure of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27920" y="5207040"/>
            <a:ext cx="1041120" cy="20304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1720" y="5303880"/>
            <a:ext cx="3240" cy="95724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27920" y="6121440"/>
            <a:ext cx="1041120" cy="20304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82000" y="5346720"/>
            <a:ext cx="0" cy="83808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04680" y="4568760"/>
            <a:ext cx="2535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Interna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169600" y="3882960"/>
            <a:ext cx="30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Conceptua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06000" y="3044880"/>
            <a:ext cx="111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View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01280" y="3044880"/>
            <a:ext cx="111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View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398360" y="3044880"/>
            <a:ext cx="111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View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32280" y="3073320"/>
            <a:ext cx="1041480" cy="3556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27920" y="3073320"/>
            <a:ext cx="1041120" cy="3556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23200" y="3073320"/>
            <a:ext cx="1041480" cy="3556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89480" y="3911760"/>
            <a:ext cx="2793960" cy="3553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18080" y="4597560"/>
            <a:ext cx="2336760" cy="3553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53200" y="3441600"/>
            <a:ext cx="533160" cy="457200"/>
          </a:xfrm>
          <a:prstGeom prst="line">
            <a:avLst/>
          </a:prstGeom>
          <a:ln w="12600">
            <a:solidFill>
              <a:srgbClr val="3300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48480" y="3441600"/>
            <a:ext cx="0" cy="457200"/>
          </a:xfrm>
          <a:prstGeom prst="line">
            <a:avLst/>
          </a:prstGeom>
          <a:ln w="12600">
            <a:solidFill>
              <a:srgbClr val="3300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7410240" y="3441600"/>
            <a:ext cx="533160" cy="457200"/>
          </a:xfrm>
          <a:prstGeom prst="line">
            <a:avLst/>
          </a:prstGeom>
          <a:ln w="12600">
            <a:solidFill>
              <a:srgbClr val="3300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48480" y="4280040"/>
            <a:ext cx="0" cy="304560"/>
          </a:xfrm>
          <a:prstGeom prst="line">
            <a:avLst/>
          </a:prstGeom>
          <a:ln w="12600">
            <a:solidFill>
              <a:srgbClr val="3300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48480" y="4965840"/>
            <a:ext cx="0" cy="380880"/>
          </a:xfrm>
          <a:prstGeom prst="line">
            <a:avLst/>
          </a:prstGeom>
          <a:ln w="12600">
            <a:solidFill>
              <a:srgbClr val="3300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55720" y="549900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4819680" y="1612800"/>
            <a:ext cx="1114560" cy="12193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191280" y="1689120"/>
            <a:ext cx="900000" cy="1143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7257960" y="1689120"/>
            <a:ext cx="1386000" cy="11779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964840" y="10033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D6A-17B6-4677-B22F-E183E1CE6D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C181A-C020-4347-B4A3-997B3934213C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bas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large collection of integrated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iniworld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 aspect of the real word, described by facts (dat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 model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roup of concepts for describing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ne(s) is a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R mode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ed oriented programming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C72-24F9-417C-8874-0D3628A212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BC7D3-A2C4-4DBA-B5E5-2B047D4607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Company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218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 schema: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loyee (SSN: string, name: string, salary: integ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partment (dnum: integer, dlocation: string, dname: string,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orksFor (SSN:string, dnum:integ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sch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s are stored as unordered files, one table per f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ances are stored as unordered records in a fil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dex on first column of Stud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Schema (View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partment_info(dnum:integer,totalEmployee:integ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429-5827-468D-BDA8-19FD61F2C5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3ABFE-AC02-44C5-ACEC-FE47A7A43037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Independ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insulated from how data is structured and st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Logical data independence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pacity to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e conceptual schema without having to change the extern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hysical data independence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pacity to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e internal schema without having to change the conceptu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: Why is this particularly important for DBMS?</a:t>
            </a:r>
            <a:r>
              <a:rPr b="0" lang="en-US" sz="2800" spc="-1" strike="noStrike">
                <a:solidFill>
                  <a:srgbClr val="d8d8e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320" y="60120"/>
            <a:ext cx="9067680" cy="10522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MARY OF ER-DIAGRA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ATION FOR ER SCHEMA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886200" y="914040"/>
            <a:ext cx="4952880" cy="58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K ENTIT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ING RELATIONSHIP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VALUED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E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PARTICIPATION OF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DINALITY RATIO 1:N FOR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AL CONSTRAINT (min, max) ON PARTICIPATION OF E IN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49000" y="955800"/>
            <a:ext cx="65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08080"/>
                </a:solidFill>
                <a:uFillTx/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39920" y="1293840"/>
            <a:ext cx="901800" cy="314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195640" y="1725480"/>
            <a:ext cx="990360" cy="399960"/>
            <a:chOff x="2195640" y="1725480"/>
            <a:chExt cx="990360" cy="399960"/>
          </a:xfrm>
        </p:grpSpPr>
        <p:sp>
          <p:nvSpPr>
            <p:cNvPr id="426" name=""/>
            <p:cNvSpPr/>
            <p:nvPr/>
          </p:nvSpPr>
          <p:spPr>
            <a:xfrm>
              <a:off x="2233440" y="1760400"/>
              <a:ext cx="914400" cy="320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95640" y="1725480"/>
              <a:ext cx="990360" cy="399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 rot="2722800">
            <a:off x="2511360" y="2246040"/>
            <a:ext cx="253800" cy="2541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412000" y="2584800"/>
            <a:ext cx="453240" cy="453240"/>
            <a:chOff x="2412000" y="2584800"/>
            <a:chExt cx="453240" cy="453240"/>
          </a:xfrm>
        </p:grpSpPr>
        <p:sp>
          <p:nvSpPr>
            <p:cNvPr id="430" name=""/>
            <p:cNvSpPr/>
            <p:nvPr/>
          </p:nvSpPr>
          <p:spPr>
            <a:xfrm rot="2722800">
              <a:off x="2511000" y="2692080"/>
              <a:ext cx="254160" cy="253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722800">
              <a:off x="2477880" y="2651040"/>
              <a:ext cx="320760" cy="3204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950840" y="3135240"/>
            <a:ext cx="1143360" cy="211320"/>
            <a:chOff x="1950840" y="3135240"/>
            <a:chExt cx="1143360" cy="211320"/>
          </a:xfrm>
        </p:grpSpPr>
        <p:sp>
          <p:nvSpPr>
            <p:cNvPr id="433" name=""/>
            <p:cNvSpPr/>
            <p:nvPr/>
          </p:nvSpPr>
          <p:spPr>
            <a:xfrm>
              <a:off x="2348280" y="3135240"/>
              <a:ext cx="745920" cy="21132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1950840" y="3241800"/>
              <a:ext cx="39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950840" y="3511440"/>
            <a:ext cx="1143360" cy="210960"/>
            <a:chOff x="1950840" y="3511440"/>
            <a:chExt cx="1143360" cy="210960"/>
          </a:xfrm>
        </p:grpSpPr>
        <p:grpSp>
          <p:nvGrpSpPr>
            <p:cNvPr id="436" name=""/>
            <p:cNvGrpSpPr/>
            <p:nvPr/>
          </p:nvGrpSpPr>
          <p:grpSpPr>
            <a:xfrm>
              <a:off x="1950840" y="3511440"/>
              <a:ext cx="1143360" cy="210960"/>
              <a:chOff x="1950840" y="3511440"/>
              <a:chExt cx="1143360" cy="210960"/>
            </a:xfrm>
          </p:grpSpPr>
          <p:sp>
            <p:nvSpPr>
              <p:cNvPr id="437" name=""/>
              <p:cNvSpPr/>
              <p:nvPr/>
            </p:nvSpPr>
            <p:spPr>
              <a:xfrm>
                <a:off x="2348280" y="3511440"/>
                <a:ext cx="745920" cy="210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1950840" y="3617640"/>
                <a:ext cx="3970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2500560" y="3659040"/>
              <a:ext cx="426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51200" y="3895560"/>
            <a:ext cx="1248840" cy="273240"/>
            <a:chOff x="1951200" y="3895560"/>
            <a:chExt cx="1248840" cy="273240"/>
          </a:xfrm>
        </p:grpSpPr>
        <p:sp>
          <p:nvSpPr>
            <p:cNvPr id="441" name=""/>
            <p:cNvSpPr/>
            <p:nvPr/>
          </p:nvSpPr>
          <p:spPr>
            <a:xfrm>
              <a:off x="2347920" y="3922560"/>
              <a:ext cx="745560" cy="21132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1951200" y="4028760"/>
              <a:ext cx="396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41360" y="3895560"/>
              <a:ext cx="958680" cy="273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950840" y="4765680"/>
            <a:ext cx="1143360" cy="210960"/>
            <a:chOff x="1950840" y="4765680"/>
            <a:chExt cx="1143360" cy="210960"/>
          </a:xfrm>
        </p:grpSpPr>
        <p:sp>
          <p:nvSpPr>
            <p:cNvPr id="445" name=""/>
            <p:cNvSpPr/>
            <p:nvPr/>
          </p:nvSpPr>
          <p:spPr>
            <a:xfrm>
              <a:off x="2348280" y="4765680"/>
              <a:ext cx="745920" cy="210960"/>
            </a:xfrm>
            <a:prstGeom prst="ellipse">
              <a:avLst/>
            </a:prstGeom>
            <a:noFill/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950840" y="4871880"/>
              <a:ext cx="397080" cy="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57200" y="5191200"/>
            <a:ext cx="1143000" cy="241200"/>
            <a:chOff x="457200" y="5191200"/>
            <a:chExt cx="1143000" cy="241200"/>
          </a:xfrm>
        </p:grpSpPr>
        <p:sp>
          <p:nvSpPr>
            <p:cNvPr id="448" name=""/>
            <p:cNvSpPr/>
            <p:nvPr/>
          </p:nvSpPr>
          <p:spPr>
            <a:xfrm>
              <a:off x="457200" y="5191200"/>
              <a:ext cx="639720" cy="241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13120" y="5317920"/>
              <a:ext cx="48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591920" y="51847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71640" y="5284800"/>
            <a:ext cx="11764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11240" y="5330880"/>
            <a:ext cx="1136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8120" y="5191200"/>
            <a:ext cx="639720" cy="241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" y="5616720"/>
            <a:ext cx="639720" cy="241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2760" y="5743440"/>
            <a:ext cx="48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2722800">
            <a:off x="1657080" y="5614920"/>
            <a:ext cx="254160" cy="25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52400" y="56116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5746680"/>
            <a:ext cx="731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12960" y="5627520"/>
            <a:ext cx="639720" cy="2415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12760" y="6219720"/>
            <a:ext cx="48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2722800">
            <a:off x="1657080" y="6091200"/>
            <a:ext cx="254160" cy="25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52400" y="60879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81080" y="6222960"/>
            <a:ext cx="731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599760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(min,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12960" y="6103800"/>
            <a:ext cx="639720" cy="2415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171880" y="4280040"/>
            <a:ext cx="990360" cy="345600"/>
            <a:chOff x="2171880" y="4280040"/>
            <a:chExt cx="990360" cy="345600"/>
          </a:xfrm>
        </p:grpSpPr>
        <p:sp>
          <p:nvSpPr>
            <p:cNvPr id="467" name=""/>
            <p:cNvSpPr/>
            <p:nvPr/>
          </p:nvSpPr>
          <p:spPr>
            <a:xfrm>
              <a:off x="217188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9840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92464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97400" y="448740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2389320" y="4556880"/>
              <a:ext cx="217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09480" y="4368960"/>
              <a:ext cx="217800" cy="14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07480" y="4409280"/>
              <a:ext cx="69120" cy="88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825640" y="4418280"/>
              <a:ext cx="187920" cy="108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65880" y="4349160"/>
              <a:ext cx="148320" cy="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888920" y="5521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2722800">
            <a:off x="1617480" y="5189400"/>
            <a:ext cx="254160" cy="25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904-D533-4A88-A99D-6DC83CED33E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4700B-8382-4376-B052-D88939A048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 model is a group of concepts that are used to describ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-relationship model is a widely used conceptual model for model mini-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entities and relationships are described by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191-3DE0-4EFC-A80F-5205B9772D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7E335-A1A6-47ED-AF5F-2991BCC017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 database representing cities, counties, an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tates, record name and capital (cit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counties, record name, area, and location (st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cities, record name, population, and location (county and st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of states ar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of counties are only unique within a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of cities are only unique within a coun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ity is always located in a single coun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unty is always located in a single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1A34-DB8D-4210-8D1A-7B77775B9D1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1814F-A631-4B6B-891A-B080B2E7B5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y : first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600" y="3620880"/>
            <a:ext cx="8610480" cy="27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y area information is repeated for every city in the cou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ndancy is bad (why?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capital should really be a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hould “reference” entities through explicit relation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14600" y="1752480"/>
            <a:ext cx="9907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1676520"/>
            <a:ext cx="1143000" cy="60948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1981080"/>
            <a:ext cx="4572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05520" y="1981080"/>
            <a:ext cx="4572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62720" y="1752480"/>
            <a:ext cx="121896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1752480"/>
            <a:ext cx="838080" cy="45720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1828800"/>
            <a:ext cx="838080" cy="3049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086600" y="144792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86600" y="205740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066680" y="14479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2057400"/>
            <a:ext cx="15242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16765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133720" y="20574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781680" y="167616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81680" y="205740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3276720"/>
            <a:ext cx="15242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ounty_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2133360" y="2209680"/>
            <a:ext cx="533160" cy="6858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133720" y="2209680"/>
            <a:ext cx="761760" cy="129564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2666880"/>
            <a:ext cx="15242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county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5C7-5AF3-4DCB-961A-FD6401EB75B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DE4E6-05EB-4A68-A32B-43FEE0CC4B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y : second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28600" y="4220640"/>
            <a:ext cx="8610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ly, nothing in this design could prevent a city in st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being the capital of another st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ut oh wel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14600" y="1752480"/>
            <a:ext cx="9907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2438280"/>
            <a:ext cx="2209680" cy="60984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IsCapital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05320" y="1981080"/>
            <a:ext cx="1600200" cy="4572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90920" y="1828800"/>
            <a:ext cx="838080" cy="3049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066680" y="14479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2057400"/>
            <a:ext cx="15242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33720" y="16765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133720" y="20574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16080" y="2209680"/>
            <a:ext cx="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25800" y="3048120"/>
            <a:ext cx="0" cy="304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514600" y="3352680"/>
            <a:ext cx="106668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ou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590920" y="3429000"/>
            <a:ext cx="914400" cy="3049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66680" y="30481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32767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133720" y="36576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066680" y="365760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162920" y="335268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0" y="3581280"/>
            <a:ext cx="30492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38280" y="2438280"/>
            <a:ext cx="1143000" cy="60984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90920" y="2514600"/>
            <a:ext cx="838080" cy="45720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8480" y="3276720"/>
            <a:ext cx="1143000" cy="60948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581280" y="3581280"/>
            <a:ext cx="4572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81480" y="3581280"/>
            <a:ext cx="4572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638680" y="3352680"/>
            <a:ext cx="12193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352680"/>
            <a:ext cx="838080" cy="45720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105520" y="3048120"/>
            <a:ext cx="1143000" cy="30456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582-E348-4EE0-AE82-7144C5509E1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3A5F0-3B4E-4AB5-8AD1-E1993635A4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lides are offered by Prof. Jun Yang @ Duke Univer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7DD-925A-4F48-AF8A-E7537B3556B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282DE-743F-44DC-854D-3CDB89038D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ies an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Types, Value Sets, and Key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s and Relationship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 Entity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s and Attributes in Relationship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 Diagrams –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sch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013E-0050-43FD-A802-F6C9B95B30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509F8-0A4C-4D9A-BDD3-EC66A5447E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the mini-world being mode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it using a database desig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few popular ones 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Entity/Relationship (E/R)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UML (Unified Modeling Langu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uitive and conveni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t not necessarily implemented by DB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 specification to the data model of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, XML, object-oriented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BMS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C35-E9CE-471E-B29D-29F80F8A09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5AFAA-E660-44D6-8319-079084C94D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143000" y="990720"/>
            <a:ext cx="7010280" cy="5395680"/>
            <a:chOff x="1143000" y="990720"/>
            <a:chExt cx="7010280" cy="539568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1143000" y="990720"/>
              <a:ext cx="6491160" cy="53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324480" y="990720"/>
              <a:ext cx="182880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914400"/>
            <a:ext cx="2987640" cy="2752560"/>
          </a:xfrm>
          <a:custGeom>
            <a:avLst/>
            <a:gdLst/>
            <a:ahLst/>
            <a:rect l="l" t="t" r="r" b="b"/>
            <a:pathLst>
              <a:path w="1882" h="1734">
                <a:moveTo>
                  <a:pt x="1633" y="1629"/>
                </a:moveTo>
                <a:cubicBezTo>
                  <a:pt x="1213" y="1625"/>
                  <a:pt x="562" y="1734"/>
                  <a:pt x="148" y="1458"/>
                </a:cubicBezTo>
                <a:cubicBezTo>
                  <a:pt x="124" y="1386"/>
                  <a:pt x="82" y="1318"/>
                  <a:pt x="67" y="1242"/>
                </a:cubicBezTo>
                <a:cubicBezTo>
                  <a:pt x="45" y="1134"/>
                  <a:pt x="39" y="1023"/>
                  <a:pt x="4" y="918"/>
                </a:cubicBezTo>
                <a:cubicBezTo>
                  <a:pt x="15" y="644"/>
                  <a:pt x="0" y="769"/>
                  <a:pt x="58" y="594"/>
                </a:cubicBezTo>
                <a:cubicBezTo>
                  <a:pt x="70" y="558"/>
                  <a:pt x="130" y="504"/>
                  <a:pt x="130" y="504"/>
                </a:cubicBezTo>
                <a:cubicBezTo>
                  <a:pt x="149" y="429"/>
                  <a:pt x="122" y="500"/>
                  <a:pt x="166" y="450"/>
                </a:cubicBezTo>
                <a:cubicBezTo>
                  <a:pt x="189" y="424"/>
                  <a:pt x="206" y="395"/>
                  <a:pt x="229" y="369"/>
                </a:cubicBezTo>
                <a:cubicBezTo>
                  <a:pt x="342" y="240"/>
                  <a:pt x="443" y="166"/>
                  <a:pt x="598" y="99"/>
                </a:cubicBezTo>
                <a:cubicBezTo>
                  <a:pt x="633" y="84"/>
                  <a:pt x="661" y="58"/>
                  <a:pt x="697" y="45"/>
                </a:cubicBezTo>
                <a:cubicBezTo>
                  <a:pt x="769" y="18"/>
                  <a:pt x="864" y="8"/>
                  <a:pt x="940" y="0"/>
                </a:cubicBezTo>
                <a:cubicBezTo>
                  <a:pt x="1029" y="5"/>
                  <a:pt x="1094" y="3"/>
                  <a:pt x="1174" y="27"/>
                </a:cubicBezTo>
                <a:cubicBezTo>
                  <a:pt x="1238" y="46"/>
                  <a:pt x="1290" y="87"/>
                  <a:pt x="1354" y="108"/>
                </a:cubicBezTo>
                <a:cubicBezTo>
                  <a:pt x="1400" y="154"/>
                  <a:pt x="1459" y="181"/>
                  <a:pt x="1507" y="225"/>
                </a:cubicBezTo>
                <a:cubicBezTo>
                  <a:pt x="1563" y="276"/>
                  <a:pt x="1607" y="334"/>
                  <a:pt x="1660" y="387"/>
                </a:cubicBezTo>
                <a:cubicBezTo>
                  <a:pt x="1684" y="458"/>
                  <a:pt x="1648" y="364"/>
                  <a:pt x="1696" y="441"/>
                </a:cubicBezTo>
                <a:cubicBezTo>
                  <a:pt x="1705" y="455"/>
                  <a:pt x="1707" y="471"/>
                  <a:pt x="1714" y="486"/>
                </a:cubicBezTo>
                <a:cubicBezTo>
                  <a:pt x="1742" y="545"/>
                  <a:pt x="1771" y="601"/>
                  <a:pt x="1804" y="657"/>
                </a:cubicBezTo>
                <a:cubicBezTo>
                  <a:pt x="1812" y="699"/>
                  <a:pt x="1817" y="742"/>
                  <a:pt x="1831" y="783"/>
                </a:cubicBezTo>
                <a:cubicBezTo>
                  <a:pt x="1851" y="961"/>
                  <a:pt x="1841" y="841"/>
                  <a:pt x="1831" y="1161"/>
                </a:cubicBezTo>
                <a:cubicBezTo>
                  <a:pt x="1825" y="1344"/>
                  <a:pt x="1882" y="1489"/>
                  <a:pt x="1687" y="1521"/>
                </a:cubicBezTo>
                <a:cubicBezTo>
                  <a:pt x="1684" y="1530"/>
                  <a:pt x="1682" y="1540"/>
                  <a:pt x="1678" y="1548"/>
                </a:cubicBezTo>
                <a:cubicBezTo>
                  <a:pt x="1673" y="1558"/>
                  <a:pt x="1664" y="1565"/>
                  <a:pt x="1660" y="1575"/>
                </a:cubicBezTo>
                <a:cubicBezTo>
                  <a:pt x="1635" y="1632"/>
                  <a:pt x="1662" y="1629"/>
                  <a:pt x="1633" y="1629"/>
                </a:cubicBezTo>
                <a:close/>
              </a:path>
            </a:pathLst>
          </a:custGeom>
          <a:noFill/>
          <a:ln w="12600">
            <a:solidFill>
              <a:srgbClr val="e81f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3581280"/>
            <a:ext cx="1295280" cy="381240"/>
          </a:xfrm>
          <a:prstGeom prst="leftArrow">
            <a:avLst>
              <a:gd name="adj1" fmla="val 50000"/>
              <a:gd name="adj2" fmla="val 84939"/>
            </a:avLst>
          </a:prstGeom>
          <a:solidFill>
            <a:srgbClr val="e81f11"/>
          </a:solidFill>
          <a:ln w="12600">
            <a:solidFill>
              <a:srgbClr val="e81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A74-DA15-41F4-A35B-2C3F85AE3CE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375D1-E088-4EED-A7EF-EA76C9F4BCBB}" type="datetime1">
              <a:rPr lang="en-US"/>
              <a:t>07/28/26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Database Desig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any is organized into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PAR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Each department h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2400" spc="-1" strike="noStrike">
                <a:solidFill>
                  <a:srgbClr val="e81f11"/>
                </a:solidFill>
                <a:latin typeface="Times New Roman"/>
              </a:rPr>
              <a:t>manag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partment. We keep track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rt 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departm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departm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81f11"/>
                </a:solidFill>
                <a:latin typeface="Times New Roman"/>
              </a:rPr>
              <a:t>contro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umber of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O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ject h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d a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gle 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tore each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al security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irth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Each employee </a:t>
            </a:r>
            <a:r>
              <a:rPr b="0" i="1" lang="en-US" sz="2400" spc="-1" strike="noStrike">
                <a:solidFill>
                  <a:srgbClr val="e81f11"/>
                </a:solidFill>
                <a:latin typeface="Times New Roman"/>
              </a:rPr>
              <a:t>works 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 department but may </a:t>
            </a:r>
            <a:r>
              <a:rPr b="0" i="1" lang="en-US" sz="2400" spc="-1" strike="noStrike">
                <a:solidFill>
                  <a:srgbClr val="e81f11"/>
                </a:solidFill>
                <a:latin typeface="Times New Roman"/>
              </a:rPr>
              <a:t>work 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veral projects. We keep track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hours per wee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n employee currently works on each project. We also keep track of the direct </a:t>
            </a:r>
            <a:r>
              <a:rPr b="0" i="1" lang="en-US" sz="2400" spc="-1" strike="noStrike">
                <a:solidFill>
                  <a:srgbClr val="e81f11"/>
                </a:solidFill>
                <a:latin typeface="Times New Roman"/>
              </a:rPr>
              <a:t>supervi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ach employ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mployee may </a:t>
            </a:r>
            <a:r>
              <a:rPr b="0" i="1" lang="en-US" sz="2400" spc="-1" strike="noStrike">
                <a:solidFill>
                  <a:srgbClr val="e81f11"/>
                </a:solidFill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number of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For each dependent, we keep track of the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irth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loy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F1A-31E4-4B2F-97DC-AF47B60F79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5359B-83EE-45C0-8470-E8076EBFF6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72200" y="0"/>
            <a:ext cx="29718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752480"/>
            <a:ext cx="2340000" cy="1069920"/>
          </a:xfrm>
          <a:custGeom>
            <a:avLst/>
            <a:gdLst/>
            <a:ahLst/>
            <a:rect l="l" t="t" r="r" b="b"/>
            <a:pathLst>
              <a:path w="1474" h="674">
                <a:moveTo>
                  <a:pt x="0" y="365"/>
                </a:moveTo>
                <a:cubicBezTo>
                  <a:pt x="22" y="304"/>
                  <a:pt x="81" y="209"/>
                  <a:pt x="144" y="188"/>
                </a:cubicBezTo>
                <a:cubicBezTo>
                  <a:pt x="148" y="177"/>
                  <a:pt x="148" y="163"/>
                  <a:pt x="156" y="155"/>
                </a:cubicBezTo>
                <a:cubicBezTo>
                  <a:pt x="175" y="136"/>
                  <a:pt x="200" y="125"/>
                  <a:pt x="222" y="110"/>
                </a:cubicBezTo>
                <a:cubicBezTo>
                  <a:pt x="237" y="100"/>
                  <a:pt x="249" y="84"/>
                  <a:pt x="266" y="77"/>
                </a:cubicBezTo>
                <a:cubicBezTo>
                  <a:pt x="287" y="69"/>
                  <a:pt x="311" y="70"/>
                  <a:pt x="333" y="66"/>
                </a:cubicBezTo>
                <a:cubicBezTo>
                  <a:pt x="394" y="26"/>
                  <a:pt x="342" y="53"/>
                  <a:pt x="444" y="33"/>
                </a:cubicBezTo>
                <a:cubicBezTo>
                  <a:pt x="474" y="27"/>
                  <a:pt x="502" y="17"/>
                  <a:pt x="532" y="11"/>
                </a:cubicBezTo>
                <a:cubicBezTo>
                  <a:pt x="551" y="7"/>
                  <a:pt x="569" y="4"/>
                  <a:pt x="588" y="0"/>
                </a:cubicBezTo>
                <a:cubicBezTo>
                  <a:pt x="754" y="4"/>
                  <a:pt x="920" y="4"/>
                  <a:pt x="1086" y="11"/>
                </a:cubicBezTo>
                <a:cubicBezTo>
                  <a:pt x="1147" y="14"/>
                  <a:pt x="1171" y="77"/>
                  <a:pt x="1208" y="110"/>
                </a:cubicBezTo>
                <a:cubicBezTo>
                  <a:pt x="1237" y="136"/>
                  <a:pt x="1303" y="186"/>
                  <a:pt x="1341" y="199"/>
                </a:cubicBezTo>
                <a:cubicBezTo>
                  <a:pt x="1386" y="244"/>
                  <a:pt x="1423" y="243"/>
                  <a:pt x="1474" y="276"/>
                </a:cubicBezTo>
                <a:cubicBezTo>
                  <a:pt x="1470" y="302"/>
                  <a:pt x="1471" y="329"/>
                  <a:pt x="1463" y="354"/>
                </a:cubicBezTo>
                <a:cubicBezTo>
                  <a:pt x="1458" y="367"/>
                  <a:pt x="1408" y="417"/>
                  <a:pt x="1396" y="432"/>
                </a:cubicBezTo>
                <a:cubicBezTo>
                  <a:pt x="1388" y="442"/>
                  <a:pt x="1383" y="456"/>
                  <a:pt x="1374" y="465"/>
                </a:cubicBezTo>
                <a:cubicBezTo>
                  <a:pt x="1355" y="484"/>
                  <a:pt x="1317" y="497"/>
                  <a:pt x="1296" y="509"/>
                </a:cubicBezTo>
                <a:cubicBezTo>
                  <a:pt x="1215" y="555"/>
                  <a:pt x="1135" y="594"/>
                  <a:pt x="1042" y="609"/>
                </a:cubicBezTo>
                <a:cubicBezTo>
                  <a:pt x="877" y="674"/>
                  <a:pt x="693" y="628"/>
                  <a:pt x="521" y="609"/>
                </a:cubicBezTo>
                <a:cubicBezTo>
                  <a:pt x="506" y="605"/>
                  <a:pt x="491" y="602"/>
                  <a:pt x="477" y="598"/>
                </a:cubicBezTo>
                <a:cubicBezTo>
                  <a:pt x="454" y="591"/>
                  <a:pt x="410" y="576"/>
                  <a:pt x="410" y="576"/>
                </a:cubicBezTo>
                <a:cubicBezTo>
                  <a:pt x="372" y="536"/>
                  <a:pt x="398" y="556"/>
                  <a:pt x="322" y="531"/>
                </a:cubicBezTo>
                <a:cubicBezTo>
                  <a:pt x="311" y="527"/>
                  <a:pt x="288" y="520"/>
                  <a:pt x="288" y="520"/>
                </a:cubicBezTo>
                <a:cubicBezTo>
                  <a:pt x="268" y="506"/>
                  <a:pt x="241" y="502"/>
                  <a:pt x="222" y="487"/>
                </a:cubicBezTo>
                <a:cubicBezTo>
                  <a:pt x="212" y="479"/>
                  <a:pt x="209" y="463"/>
                  <a:pt x="200" y="454"/>
                </a:cubicBezTo>
                <a:cubicBezTo>
                  <a:pt x="191" y="445"/>
                  <a:pt x="177" y="441"/>
                  <a:pt x="167" y="432"/>
                </a:cubicBezTo>
                <a:cubicBezTo>
                  <a:pt x="145" y="413"/>
                  <a:pt x="88" y="337"/>
                  <a:pt x="45" y="343"/>
                </a:cubicBezTo>
                <a:cubicBezTo>
                  <a:pt x="28" y="345"/>
                  <a:pt x="15" y="358"/>
                  <a:pt x="0" y="365"/>
                </a:cubicBezTo>
                <a:close/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67440" y="1905120"/>
            <a:ext cx="1871640" cy="500040"/>
          </a:xfrm>
          <a:custGeom>
            <a:avLst/>
            <a:gdLst/>
            <a:ahLst/>
            <a:rect l="l" t="t" r="r" b="b"/>
            <a:pathLst>
              <a:path w="1179" h="315">
                <a:moveTo>
                  <a:pt x="388" y="315"/>
                </a:moveTo>
                <a:cubicBezTo>
                  <a:pt x="309" y="300"/>
                  <a:pt x="350" y="310"/>
                  <a:pt x="266" y="282"/>
                </a:cubicBezTo>
                <a:cubicBezTo>
                  <a:pt x="255" y="278"/>
                  <a:pt x="233" y="271"/>
                  <a:pt x="233" y="271"/>
                </a:cubicBezTo>
                <a:cubicBezTo>
                  <a:pt x="168" y="209"/>
                  <a:pt x="256" y="287"/>
                  <a:pt x="177" y="238"/>
                </a:cubicBezTo>
                <a:cubicBezTo>
                  <a:pt x="157" y="226"/>
                  <a:pt x="142" y="206"/>
                  <a:pt x="122" y="193"/>
                </a:cubicBezTo>
                <a:cubicBezTo>
                  <a:pt x="85" y="138"/>
                  <a:pt x="111" y="168"/>
                  <a:pt x="33" y="116"/>
                </a:cubicBezTo>
                <a:cubicBezTo>
                  <a:pt x="22" y="109"/>
                  <a:pt x="0" y="94"/>
                  <a:pt x="0" y="94"/>
                </a:cubicBezTo>
                <a:cubicBezTo>
                  <a:pt x="18" y="0"/>
                  <a:pt x="36" y="28"/>
                  <a:pt x="144" y="16"/>
                </a:cubicBezTo>
                <a:cubicBezTo>
                  <a:pt x="414" y="20"/>
                  <a:pt x="684" y="13"/>
                  <a:pt x="953" y="27"/>
                </a:cubicBezTo>
                <a:cubicBezTo>
                  <a:pt x="969" y="28"/>
                  <a:pt x="973" y="51"/>
                  <a:pt x="986" y="60"/>
                </a:cubicBezTo>
                <a:cubicBezTo>
                  <a:pt x="996" y="66"/>
                  <a:pt x="1008" y="67"/>
                  <a:pt x="1019" y="71"/>
                </a:cubicBezTo>
                <a:cubicBezTo>
                  <a:pt x="1058" y="98"/>
                  <a:pt x="1096" y="101"/>
                  <a:pt x="1141" y="116"/>
                </a:cubicBezTo>
                <a:cubicBezTo>
                  <a:pt x="1156" y="138"/>
                  <a:pt x="1179" y="155"/>
                  <a:pt x="1152" y="182"/>
                </a:cubicBezTo>
                <a:cubicBezTo>
                  <a:pt x="1144" y="190"/>
                  <a:pt x="1129" y="188"/>
                  <a:pt x="1119" y="193"/>
                </a:cubicBezTo>
                <a:cubicBezTo>
                  <a:pt x="998" y="254"/>
                  <a:pt x="1160" y="179"/>
                  <a:pt x="1063" y="238"/>
                </a:cubicBezTo>
                <a:cubicBezTo>
                  <a:pt x="1019" y="265"/>
                  <a:pt x="969" y="279"/>
                  <a:pt x="919" y="293"/>
                </a:cubicBezTo>
                <a:cubicBezTo>
                  <a:pt x="908" y="296"/>
                  <a:pt x="898" y="304"/>
                  <a:pt x="886" y="304"/>
                </a:cubicBezTo>
                <a:cubicBezTo>
                  <a:pt x="720" y="311"/>
                  <a:pt x="554" y="311"/>
                  <a:pt x="388" y="315"/>
                </a:cubicBezTo>
                <a:close/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27840" y="3505320"/>
            <a:ext cx="1987560" cy="546120"/>
          </a:xfrm>
          <a:custGeom>
            <a:avLst/>
            <a:gdLst/>
            <a:ahLst/>
            <a:rect l="l" t="t" r="r" b="b"/>
            <a:pathLst>
              <a:path w="1252" h="344">
                <a:moveTo>
                  <a:pt x="244" y="288"/>
                </a:moveTo>
                <a:cubicBezTo>
                  <a:pt x="184" y="273"/>
                  <a:pt x="138" y="237"/>
                  <a:pt x="78" y="222"/>
                </a:cubicBezTo>
                <a:cubicBezTo>
                  <a:pt x="67" y="215"/>
                  <a:pt x="55" y="209"/>
                  <a:pt x="45" y="200"/>
                </a:cubicBezTo>
                <a:cubicBezTo>
                  <a:pt x="29" y="186"/>
                  <a:pt x="0" y="155"/>
                  <a:pt x="0" y="155"/>
                </a:cubicBezTo>
                <a:cubicBezTo>
                  <a:pt x="4" y="129"/>
                  <a:pt x="0" y="102"/>
                  <a:pt x="11" y="78"/>
                </a:cubicBezTo>
                <a:cubicBezTo>
                  <a:pt x="28" y="41"/>
                  <a:pt x="215" y="13"/>
                  <a:pt x="244" y="11"/>
                </a:cubicBezTo>
                <a:cubicBezTo>
                  <a:pt x="358" y="5"/>
                  <a:pt x="473" y="4"/>
                  <a:pt x="587" y="0"/>
                </a:cubicBezTo>
                <a:cubicBezTo>
                  <a:pt x="750" y="4"/>
                  <a:pt x="912" y="4"/>
                  <a:pt x="1075" y="11"/>
                </a:cubicBezTo>
                <a:cubicBezTo>
                  <a:pt x="1115" y="13"/>
                  <a:pt x="1183" y="44"/>
                  <a:pt x="1219" y="56"/>
                </a:cubicBezTo>
                <a:cubicBezTo>
                  <a:pt x="1230" y="60"/>
                  <a:pt x="1252" y="67"/>
                  <a:pt x="1252" y="67"/>
                </a:cubicBezTo>
                <a:cubicBezTo>
                  <a:pt x="1248" y="93"/>
                  <a:pt x="1251" y="120"/>
                  <a:pt x="1241" y="144"/>
                </a:cubicBezTo>
                <a:cubicBezTo>
                  <a:pt x="1230" y="168"/>
                  <a:pt x="1148" y="185"/>
                  <a:pt x="1141" y="189"/>
                </a:cubicBezTo>
                <a:cubicBezTo>
                  <a:pt x="1100" y="216"/>
                  <a:pt x="1061" y="267"/>
                  <a:pt x="1019" y="288"/>
                </a:cubicBezTo>
                <a:cubicBezTo>
                  <a:pt x="976" y="310"/>
                  <a:pt x="951" y="309"/>
                  <a:pt x="909" y="322"/>
                </a:cubicBezTo>
                <a:cubicBezTo>
                  <a:pt x="886" y="329"/>
                  <a:pt x="842" y="344"/>
                  <a:pt x="842" y="344"/>
                </a:cubicBezTo>
                <a:cubicBezTo>
                  <a:pt x="643" y="340"/>
                  <a:pt x="443" y="340"/>
                  <a:pt x="244" y="333"/>
                </a:cubicBezTo>
                <a:cubicBezTo>
                  <a:pt x="197" y="331"/>
                  <a:pt x="143" y="308"/>
                  <a:pt x="244" y="288"/>
                </a:cubicBezTo>
                <a:close/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05040" y="5759280"/>
            <a:ext cx="2392560" cy="793800"/>
          </a:xfrm>
          <a:custGeom>
            <a:avLst/>
            <a:gdLst/>
            <a:ahLst/>
            <a:rect l="l" t="t" r="r" b="b"/>
            <a:pathLst>
              <a:path w="1507" h="500">
                <a:moveTo>
                  <a:pt x="620" y="467"/>
                </a:moveTo>
                <a:cubicBezTo>
                  <a:pt x="594" y="454"/>
                  <a:pt x="570" y="436"/>
                  <a:pt x="543" y="423"/>
                </a:cubicBezTo>
                <a:cubicBezTo>
                  <a:pt x="520" y="411"/>
                  <a:pt x="476" y="406"/>
                  <a:pt x="454" y="401"/>
                </a:cubicBezTo>
                <a:cubicBezTo>
                  <a:pt x="377" y="383"/>
                  <a:pt x="313" y="365"/>
                  <a:pt x="232" y="356"/>
                </a:cubicBezTo>
                <a:cubicBezTo>
                  <a:pt x="187" y="345"/>
                  <a:pt x="145" y="332"/>
                  <a:pt x="99" y="323"/>
                </a:cubicBezTo>
                <a:cubicBezTo>
                  <a:pt x="88" y="312"/>
                  <a:pt x="78" y="300"/>
                  <a:pt x="66" y="290"/>
                </a:cubicBezTo>
                <a:cubicBezTo>
                  <a:pt x="56" y="282"/>
                  <a:pt x="41" y="278"/>
                  <a:pt x="33" y="268"/>
                </a:cubicBezTo>
                <a:cubicBezTo>
                  <a:pt x="26" y="259"/>
                  <a:pt x="27" y="245"/>
                  <a:pt x="22" y="234"/>
                </a:cubicBezTo>
                <a:cubicBezTo>
                  <a:pt x="16" y="222"/>
                  <a:pt x="7" y="212"/>
                  <a:pt x="0" y="201"/>
                </a:cubicBezTo>
                <a:cubicBezTo>
                  <a:pt x="4" y="175"/>
                  <a:pt x="3" y="149"/>
                  <a:pt x="11" y="124"/>
                </a:cubicBezTo>
                <a:cubicBezTo>
                  <a:pt x="18" y="104"/>
                  <a:pt x="65" y="82"/>
                  <a:pt x="77" y="79"/>
                </a:cubicBezTo>
                <a:cubicBezTo>
                  <a:pt x="211" y="41"/>
                  <a:pt x="349" y="34"/>
                  <a:pt x="487" y="24"/>
                </a:cubicBezTo>
                <a:cubicBezTo>
                  <a:pt x="579" y="17"/>
                  <a:pt x="764" y="2"/>
                  <a:pt x="764" y="2"/>
                </a:cubicBezTo>
                <a:cubicBezTo>
                  <a:pt x="972" y="8"/>
                  <a:pt x="1121" y="0"/>
                  <a:pt x="1307" y="46"/>
                </a:cubicBezTo>
                <a:cubicBezTo>
                  <a:pt x="1349" y="74"/>
                  <a:pt x="1397" y="88"/>
                  <a:pt x="1440" y="113"/>
                </a:cubicBezTo>
                <a:cubicBezTo>
                  <a:pt x="1463" y="126"/>
                  <a:pt x="1506" y="157"/>
                  <a:pt x="1506" y="157"/>
                </a:cubicBezTo>
                <a:cubicBezTo>
                  <a:pt x="1502" y="201"/>
                  <a:pt x="1507" y="247"/>
                  <a:pt x="1495" y="290"/>
                </a:cubicBezTo>
                <a:cubicBezTo>
                  <a:pt x="1472" y="373"/>
                  <a:pt x="1392" y="415"/>
                  <a:pt x="1318" y="434"/>
                </a:cubicBezTo>
                <a:cubicBezTo>
                  <a:pt x="1255" y="476"/>
                  <a:pt x="1181" y="491"/>
                  <a:pt x="1107" y="500"/>
                </a:cubicBezTo>
                <a:cubicBezTo>
                  <a:pt x="989" y="496"/>
                  <a:pt x="871" y="495"/>
                  <a:pt x="753" y="489"/>
                </a:cubicBezTo>
                <a:cubicBezTo>
                  <a:pt x="712" y="487"/>
                  <a:pt x="651" y="436"/>
                  <a:pt x="620" y="467"/>
                </a:cubicBezTo>
                <a:close/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581280"/>
            <a:ext cx="2598840" cy="905040"/>
          </a:xfrm>
          <a:custGeom>
            <a:avLst/>
            <a:gdLst/>
            <a:ahLst/>
            <a:rect l="l" t="t" r="r" b="b"/>
            <a:pathLst>
              <a:path w="1637" h="570">
                <a:moveTo>
                  <a:pt x="615" y="570"/>
                </a:moveTo>
                <a:cubicBezTo>
                  <a:pt x="554" y="511"/>
                  <a:pt x="493" y="455"/>
                  <a:pt x="426" y="404"/>
                </a:cubicBezTo>
                <a:cubicBezTo>
                  <a:pt x="377" y="367"/>
                  <a:pt x="323" y="355"/>
                  <a:pt x="271" y="327"/>
                </a:cubicBezTo>
                <a:cubicBezTo>
                  <a:pt x="255" y="318"/>
                  <a:pt x="243" y="303"/>
                  <a:pt x="227" y="294"/>
                </a:cubicBezTo>
                <a:cubicBezTo>
                  <a:pt x="163" y="256"/>
                  <a:pt x="119" y="238"/>
                  <a:pt x="61" y="194"/>
                </a:cubicBezTo>
                <a:cubicBezTo>
                  <a:pt x="0" y="11"/>
                  <a:pt x="301" y="13"/>
                  <a:pt x="404" y="6"/>
                </a:cubicBezTo>
                <a:cubicBezTo>
                  <a:pt x="848" y="15"/>
                  <a:pt x="868" y="0"/>
                  <a:pt x="1180" y="61"/>
                </a:cubicBezTo>
                <a:cubicBezTo>
                  <a:pt x="1243" y="103"/>
                  <a:pt x="1320" y="123"/>
                  <a:pt x="1390" y="150"/>
                </a:cubicBezTo>
                <a:cubicBezTo>
                  <a:pt x="1405" y="156"/>
                  <a:pt x="1418" y="167"/>
                  <a:pt x="1434" y="172"/>
                </a:cubicBezTo>
                <a:cubicBezTo>
                  <a:pt x="1463" y="182"/>
                  <a:pt x="1523" y="194"/>
                  <a:pt x="1523" y="194"/>
                </a:cubicBezTo>
                <a:cubicBezTo>
                  <a:pt x="1637" y="364"/>
                  <a:pt x="1415" y="469"/>
                  <a:pt x="1290" y="504"/>
                </a:cubicBezTo>
                <a:cubicBezTo>
                  <a:pt x="1090" y="560"/>
                  <a:pt x="672" y="526"/>
                  <a:pt x="548" y="526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066680"/>
            <a:ext cx="2286000" cy="1108080"/>
          </a:xfrm>
          <a:custGeom>
            <a:avLst/>
            <a:gdLst/>
            <a:ahLst/>
            <a:rect l="l" t="t" r="r" b="b"/>
            <a:pathLst>
              <a:path w="1136" h="554">
                <a:moveTo>
                  <a:pt x="695" y="510"/>
                </a:moveTo>
                <a:cubicBezTo>
                  <a:pt x="597" y="499"/>
                  <a:pt x="588" y="496"/>
                  <a:pt x="507" y="465"/>
                </a:cubicBezTo>
                <a:cubicBezTo>
                  <a:pt x="473" y="452"/>
                  <a:pt x="461" y="458"/>
                  <a:pt x="430" y="443"/>
                </a:cubicBezTo>
                <a:cubicBezTo>
                  <a:pt x="359" y="408"/>
                  <a:pt x="288" y="371"/>
                  <a:pt x="208" y="355"/>
                </a:cubicBezTo>
                <a:cubicBezTo>
                  <a:pt x="144" y="289"/>
                  <a:pt x="175" y="313"/>
                  <a:pt x="119" y="277"/>
                </a:cubicBezTo>
                <a:cubicBezTo>
                  <a:pt x="69" y="202"/>
                  <a:pt x="93" y="230"/>
                  <a:pt x="53" y="188"/>
                </a:cubicBezTo>
                <a:cubicBezTo>
                  <a:pt x="46" y="166"/>
                  <a:pt x="38" y="144"/>
                  <a:pt x="31" y="122"/>
                </a:cubicBezTo>
                <a:cubicBezTo>
                  <a:pt x="0" y="29"/>
                  <a:pt x="118" y="14"/>
                  <a:pt x="175" y="0"/>
                </a:cubicBezTo>
                <a:cubicBezTo>
                  <a:pt x="345" y="4"/>
                  <a:pt x="514" y="4"/>
                  <a:pt x="684" y="11"/>
                </a:cubicBezTo>
                <a:cubicBezTo>
                  <a:pt x="734" y="13"/>
                  <a:pt x="771" y="42"/>
                  <a:pt x="817" y="56"/>
                </a:cubicBezTo>
                <a:cubicBezTo>
                  <a:pt x="839" y="63"/>
                  <a:pt x="862" y="71"/>
                  <a:pt x="884" y="78"/>
                </a:cubicBezTo>
                <a:cubicBezTo>
                  <a:pt x="895" y="82"/>
                  <a:pt x="917" y="89"/>
                  <a:pt x="917" y="89"/>
                </a:cubicBezTo>
                <a:cubicBezTo>
                  <a:pt x="939" y="155"/>
                  <a:pt x="984" y="145"/>
                  <a:pt x="1039" y="177"/>
                </a:cubicBezTo>
                <a:cubicBezTo>
                  <a:pt x="1101" y="213"/>
                  <a:pt x="1043" y="190"/>
                  <a:pt x="1105" y="211"/>
                </a:cubicBezTo>
                <a:cubicBezTo>
                  <a:pt x="1136" y="303"/>
                  <a:pt x="1083" y="392"/>
                  <a:pt x="1006" y="443"/>
                </a:cubicBezTo>
                <a:cubicBezTo>
                  <a:pt x="929" y="554"/>
                  <a:pt x="688" y="499"/>
                  <a:pt x="607" y="499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33800" y="2362320"/>
            <a:ext cx="1819440" cy="787320"/>
          </a:xfrm>
          <a:custGeom>
            <a:avLst/>
            <a:gdLst/>
            <a:ahLst/>
            <a:rect l="l" t="t" r="r" b="b"/>
            <a:pathLst>
              <a:path w="1146" h="496">
                <a:moveTo>
                  <a:pt x="461" y="466"/>
                </a:moveTo>
                <a:cubicBezTo>
                  <a:pt x="450" y="470"/>
                  <a:pt x="440" y="478"/>
                  <a:pt x="428" y="477"/>
                </a:cubicBezTo>
                <a:cubicBezTo>
                  <a:pt x="355" y="469"/>
                  <a:pt x="275" y="422"/>
                  <a:pt x="206" y="399"/>
                </a:cubicBezTo>
                <a:cubicBezTo>
                  <a:pt x="177" y="389"/>
                  <a:pt x="146" y="386"/>
                  <a:pt x="117" y="377"/>
                </a:cubicBezTo>
                <a:cubicBezTo>
                  <a:pt x="95" y="362"/>
                  <a:pt x="73" y="348"/>
                  <a:pt x="51" y="333"/>
                </a:cubicBezTo>
                <a:cubicBezTo>
                  <a:pt x="40" y="326"/>
                  <a:pt x="18" y="311"/>
                  <a:pt x="18" y="311"/>
                </a:cubicBezTo>
                <a:cubicBezTo>
                  <a:pt x="22" y="250"/>
                  <a:pt x="0" y="162"/>
                  <a:pt x="51" y="111"/>
                </a:cubicBezTo>
                <a:cubicBezTo>
                  <a:pt x="77" y="85"/>
                  <a:pt x="151" y="67"/>
                  <a:pt x="151" y="67"/>
                </a:cubicBezTo>
                <a:cubicBezTo>
                  <a:pt x="190" y="41"/>
                  <a:pt x="229" y="37"/>
                  <a:pt x="273" y="23"/>
                </a:cubicBezTo>
                <a:cubicBezTo>
                  <a:pt x="623" y="29"/>
                  <a:pt x="811" y="0"/>
                  <a:pt x="1092" y="56"/>
                </a:cubicBezTo>
                <a:cubicBezTo>
                  <a:pt x="1082" y="310"/>
                  <a:pt x="1146" y="344"/>
                  <a:pt x="948" y="377"/>
                </a:cubicBezTo>
                <a:cubicBezTo>
                  <a:pt x="853" y="409"/>
                  <a:pt x="756" y="435"/>
                  <a:pt x="660" y="466"/>
                </a:cubicBezTo>
                <a:cubicBezTo>
                  <a:pt x="569" y="496"/>
                  <a:pt x="468" y="466"/>
                  <a:pt x="372" y="466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25760" y="3352680"/>
            <a:ext cx="1851120" cy="838440"/>
          </a:xfrm>
          <a:custGeom>
            <a:avLst/>
            <a:gdLst/>
            <a:ahLst/>
            <a:rect l="l" t="t" r="r" b="b"/>
            <a:pathLst>
              <a:path w="1166" h="388">
                <a:moveTo>
                  <a:pt x="653" y="388"/>
                </a:moveTo>
                <a:cubicBezTo>
                  <a:pt x="590" y="384"/>
                  <a:pt x="527" y="385"/>
                  <a:pt x="465" y="377"/>
                </a:cubicBezTo>
                <a:cubicBezTo>
                  <a:pt x="423" y="372"/>
                  <a:pt x="384" y="352"/>
                  <a:pt x="343" y="344"/>
                </a:cubicBezTo>
                <a:cubicBezTo>
                  <a:pt x="244" y="294"/>
                  <a:pt x="286" y="309"/>
                  <a:pt x="221" y="288"/>
                </a:cubicBezTo>
                <a:cubicBezTo>
                  <a:pt x="199" y="273"/>
                  <a:pt x="177" y="259"/>
                  <a:pt x="155" y="244"/>
                </a:cubicBezTo>
                <a:cubicBezTo>
                  <a:pt x="144" y="237"/>
                  <a:pt x="122" y="222"/>
                  <a:pt x="122" y="222"/>
                </a:cubicBezTo>
                <a:cubicBezTo>
                  <a:pt x="94" y="180"/>
                  <a:pt x="63" y="150"/>
                  <a:pt x="22" y="122"/>
                </a:cubicBezTo>
                <a:cubicBezTo>
                  <a:pt x="15" y="111"/>
                  <a:pt x="0" y="102"/>
                  <a:pt x="0" y="89"/>
                </a:cubicBezTo>
                <a:cubicBezTo>
                  <a:pt x="0" y="57"/>
                  <a:pt x="34" y="51"/>
                  <a:pt x="55" y="45"/>
                </a:cubicBezTo>
                <a:cubicBezTo>
                  <a:pt x="145" y="21"/>
                  <a:pt x="148" y="20"/>
                  <a:pt x="244" y="11"/>
                </a:cubicBezTo>
                <a:cubicBezTo>
                  <a:pt x="288" y="7"/>
                  <a:pt x="333" y="4"/>
                  <a:pt x="377" y="0"/>
                </a:cubicBezTo>
                <a:cubicBezTo>
                  <a:pt x="565" y="4"/>
                  <a:pt x="753" y="1"/>
                  <a:pt x="941" y="11"/>
                </a:cubicBezTo>
                <a:cubicBezTo>
                  <a:pt x="1015" y="15"/>
                  <a:pt x="1090" y="74"/>
                  <a:pt x="1163" y="89"/>
                </a:cubicBezTo>
                <a:cubicBezTo>
                  <a:pt x="1161" y="105"/>
                  <a:pt x="1166" y="200"/>
                  <a:pt x="1130" y="222"/>
                </a:cubicBezTo>
                <a:cubicBezTo>
                  <a:pt x="1100" y="240"/>
                  <a:pt x="1059" y="236"/>
                  <a:pt x="1030" y="255"/>
                </a:cubicBezTo>
                <a:cubicBezTo>
                  <a:pt x="968" y="296"/>
                  <a:pt x="890" y="310"/>
                  <a:pt x="820" y="333"/>
                </a:cubicBezTo>
                <a:cubicBezTo>
                  <a:pt x="718" y="367"/>
                  <a:pt x="498" y="355"/>
                  <a:pt x="498" y="355"/>
                </a:cubicBezTo>
                <a:cubicBezTo>
                  <a:pt x="461" y="380"/>
                  <a:pt x="474" y="368"/>
                  <a:pt x="454" y="388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13000" y="4448160"/>
            <a:ext cx="2924280" cy="1149480"/>
          </a:xfrm>
          <a:custGeom>
            <a:avLst/>
            <a:gdLst/>
            <a:ahLst/>
            <a:rect l="l" t="t" r="r" b="b"/>
            <a:pathLst>
              <a:path w="1842" h="724">
                <a:moveTo>
                  <a:pt x="690" y="665"/>
                </a:moveTo>
                <a:cubicBezTo>
                  <a:pt x="632" y="646"/>
                  <a:pt x="585" y="625"/>
                  <a:pt x="524" y="610"/>
                </a:cubicBezTo>
                <a:cubicBezTo>
                  <a:pt x="484" y="600"/>
                  <a:pt x="450" y="568"/>
                  <a:pt x="413" y="554"/>
                </a:cubicBezTo>
                <a:cubicBezTo>
                  <a:pt x="384" y="543"/>
                  <a:pt x="353" y="543"/>
                  <a:pt x="324" y="532"/>
                </a:cubicBezTo>
                <a:cubicBezTo>
                  <a:pt x="167" y="474"/>
                  <a:pt x="345" y="542"/>
                  <a:pt x="236" y="488"/>
                </a:cubicBezTo>
                <a:cubicBezTo>
                  <a:pt x="225" y="483"/>
                  <a:pt x="213" y="481"/>
                  <a:pt x="202" y="477"/>
                </a:cubicBezTo>
                <a:cubicBezTo>
                  <a:pt x="183" y="470"/>
                  <a:pt x="165" y="464"/>
                  <a:pt x="147" y="455"/>
                </a:cubicBezTo>
                <a:cubicBezTo>
                  <a:pt x="110" y="436"/>
                  <a:pt x="71" y="411"/>
                  <a:pt x="36" y="388"/>
                </a:cubicBezTo>
                <a:cubicBezTo>
                  <a:pt x="28" y="376"/>
                  <a:pt x="0" y="340"/>
                  <a:pt x="3" y="322"/>
                </a:cubicBezTo>
                <a:cubicBezTo>
                  <a:pt x="10" y="278"/>
                  <a:pt x="60" y="260"/>
                  <a:pt x="92" y="244"/>
                </a:cubicBezTo>
                <a:cubicBezTo>
                  <a:pt x="171" y="205"/>
                  <a:pt x="237" y="163"/>
                  <a:pt x="324" y="144"/>
                </a:cubicBezTo>
                <a:cubicBezTo>
                  <a:pt x="370" y="114"/>
                  <a:pt x="418" y="108"/>
                  <a:pt x="468" y="89"/>
                </a:cubicBezTo>
                <a:cubicBezTo>
                  <a:pt x="571" y="51"/>
                  <a:pt x="681" y="23"/>
                  <a:pt x="790" y="0"/>
                </a:cubicBezTo>
                <a:cubicBezTo>
                  <a:pt x="1048" y="12"/>
                  <a:pt x="1307" y="8"/>
                  <a:pt x="1565" y="23"/>
                </a:cubicBezTo>
                <a:cubicBezTo>
                  <a:pt x="1600" y="25"/>
                  <a:pt x="1665" y="56"/>
                  <a:pt x="1665" y="56"/>
                </a:cubicBezTo>
                <a:cubicBezTo>
                  <a:pt x="1697" y="105"/>
                  <a:pt x="1726" y="145"/>
                  <a:pt x="1775" y="178"/>
                </a:cubicBezTo>
                <a:cubicBezTo>
                  <a:pt x="1803" y="218"/>
                  <a:pt x="1827" y="220"/>
                  <a:pt x="1842" y="266"/>
                </a:cubicBezTo>
                <a:cubicBezTo>
                  <a:pt x="1838" y="310"/>
                  <a:pt x="1840" y="355"/>
                  <a:pt x="1831" y="399"/>
                </a:cubicBezTo>
                <a:cubicBezTo>
                  <a:pt x="1828" y="412"/>
                  <a:pt x="1815" y="420"/>
                  <a:pt x="1809" y="432"/>
                </a:cubicBezTo>
                <a:cubicBezTo>
                  <a:pt x="1762" y="528"/>
                  <a:pt x="1725" y="549"/>
                  <a:pt x="1620" y="576"/>
                </a:cubicBezTo>
                <a:cubicBezTo>
                  <a:pt x="1577" y="587"/>
                  <a:pt x="1542" y="610"/>
                  <a:pt x="1498" y="621"/>
                </a:cubicBezTo>
                <a:cubicBezTo>
                  <a:pt x="1292" y="724"/>
                  <a:pt x="1078" y="646"/>
                  <a:pt x="834" y="643"/>
                </a:cubicBezTo>
                <a:cubicBezTo>
                  <a:pt x="738" y="642"/>
                  <a:pt x="642" y="643"/>
                  <a:pt x="546" y="643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5400" y="2590920"/>
            <a:ext cx="1917720" cy="658800"/>
          </a:xfrm>
          <a:custGeom>
            <a:avLst/>
            <a:gdLst/>
            <a:ahLst/>
            <a:rect l="l" t="t" r="r" b="b"/>
            <a:pathLst>
              <a:path w="1208" h="415">
                <a:moveTo>
                  <a:pt x="1120" y="355"/>
                </a:moveTo>
                <a:cubicBezTo>
                  <a:pt x="969" y="405"/>
                  <a:pt x="754" y="370"/>
                  <a:pt x="622" y="366"/>
                </a:cubicBezTo>
                <a:cubicBezTo>
                  <a:pt x="445" y="352"/>
                  <a:pt x="197" y="415"/>
                  <a:pt x="57" y="321"/>
                </a:cubicBezTo>
                <a:cubicBezTo>
                  <a:pt x="0" y="151"/>
                  <a:pt x="241" y="94"/>
                  <a:pt x="356" y="55"/>
                </a:cubicBezTo>
                <a:cubicBezTo>
                  <a:pt x="375" y="49"/>
                  <a:pt x="392" y="37"/>
                  <a:pt x="412" y="33"/>
                </a:cubicBezTo>
                <a:cubicBezTo>
                  <a:pt x="441" y="26"/>
                  <a:pt x="471" y="26"/>
                  <a:pt x="500" y="22"/>
                </a:cubicBezTo>
                <a:cubicBezTo>
                  <a:pt x="552" y="15"/>
                  <a:pt x="655" y="0"/>
                  <a:pt x="655" y="0"/>
                </a:cubicBezTo>
                <a:cubicBezTo>
                  <a:pt x="813" y="7"/>
                  <a:pt x="951" y="6"/>
                  <a:pt x="1098" y="55"/>
                </a:cubicBezTo>
                <a:cubicBezTo>
                  <a:pt x="1105" y="63"/>
                  <a:pt x="1111" y="72"/>
                  <a:pt x="1120" y="78"/>
                </a:cubicBezTo>
                <a:cubicBezTo>
                  <a:pt x="1130" y="84"/>
                  <a:pt x="1145" y="81"/>
                  <a:pt x="1154" y="89"/>
                </a:cubicBezTo>
                <a:cubicBezTo>
                  <a:pt x="1162" y="97"/>
                  <a:pt x="1159" y="112"/>
                  <a:pt x="1165" y="122"/>
                </a:cubicBezTo>
                <a:cubicBezTo>
                  <a:pt x="1174" y="135"/>
                  <a:pt x="1187" y="144"/>
                  <a:pt x="1198" y="155"/>
                </a:cubicBezTo>
                <a:cubicBezTo>
                  <a:pt x="1183" y="341"/>
                  <a:pt x="1208" y="310"/>
                  <a:pt x="1021" y="310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BA5-709A-4524-8D52-187BD04D871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6838D-B66E-40EE-8136-9C912AA9014F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ity-relationship (E/R)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ically and still very pop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hink of as a “watered-down” object-oriented desig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ily a design model—not directly implemented by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s represented by E/R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are other sty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ery similar to UML diagr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BF5-17B1-4864-B208-90B78E5701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C000D-FB0D-40EF-BE64-5970A9FFB4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2-11T16:37:34Z</dcterms:modified>
  <cp:revision>354</cp:revision>
  <dc:subject/>
  <dc:title>CS186: Introduction to Database Systems</dc:title>
</cp:coreProperties>
</file>