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BE09A7-946D-456D-A686-B04AE5F31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1D5130-E8C8-4940-9F7D-4CE250EF1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7068C9-438B-429F-B201-504D11DD7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E23ACA-237F-4A3B-A187-3C7C18330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EAA168-B905-4631-8576-857B3E7D5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FBB8DA-A462-492A-B598-B4CAD2396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373342-33F3-4253-9B90-02937F7A7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64577F-CED4-417B-B9E6-1B400E1D6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891D07-67ED-4B4E-8DD8-535274547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9EBD01-543D-46BD-B4FE-4C66369FE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0A9289-7633-4A63-B2E3-6E13C6EC3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C903BD-E688-438A-B695-AAFEA711C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F2A9F6-CFD7-4926-9E2C-8A03D7473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441CE7-BAAA-4626-B785-2E72A48B0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first-order lo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AB6240-1ADF-43A4-A395-7E5B11800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7D13FF-1D74-48A9-ABD3-6DA687D6C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6C966F-53F6-4112-BD31-C66E49472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8841C5-B473-4999-AFB9-E61D82D32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92160" y="7650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7C0-C92F-46A5-B5ED-9DC69CAA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7D6-5F05-4A3A-9719-05175DBA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D19-174E-47A0-ABAD-8A61DDBC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281-4608-4248-BFC4-72A530AF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EFF-86BF-42E6-B999-9125A13D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E21-3370-471B-AF30-D6BFA61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E4B-2B04-4356-990D-88DEF86B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903-0B59-49B5-A046-5382D1C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ECE-2AA4-4EA1-B445-E45FEAD9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C6C-0308-4D47-8A62-7DB5A04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2F4-B3ED-4F57-B871-902667C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D61-52A2-408C-A7C8-107DA8F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E0BF-BF0F-4CB9-B393-FA7461D1A4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3745-18A7-418B-A4D8-001E7E6528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/schedule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648320"/>
            <a:ext cx="1784520" cy="1687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9720" y="4743360"/>
            <a:ext cx="1590480" cy="1519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2520" y="46832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66840" y="4959000"/>
            <a:ext cx="914400" cy="609120"/>
            <a:chOff x="1266840" y="4959000"/>
            <a:chExt cx="914400" cy="609120"/>
          </a:xfrm>
        </p:grpSpPr>
        <p:grpSp>
          <p:nvGrpSpPr>
            <p:cNvPr id="97" name=""/>
            <p:cNvGrpSpPr/>
            <p:nvPr/>
          </p:nvGrpSpPr>
          <p:grpSpPr>
            <a:xfrm>
              <a:off x="1266840" y="4959000"/>
              <a:ext cx="913680" cy="609120"/>
              <a:chOff x="1266840" y="4959000"/>
              <a:chExt cx="913680" cy="609120"/>
            </a:xfrm>
          </p:grpSpPr>
          <p:sp>
            <p:nvSpPr>
              <p:cNvPr id="98" name=""/>
              <p:cNvSpPr/>
              <p:nvPr/>
            </p:nvSpPr>
            <p:spPr>
              <a:xfrm>
                <a:off x="12668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126684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267560" y="4959000"/>
              <a:ext cx="913680" cy="609120"/>
              <a:chOff x="1267560" y="4959000"/>
              <a:chExt cx="913680" cy="609120"/>
            </a:xfrm>
          </p:grpSpPr>
          <p:sp>
            <p:nvSpPr>
              <p:cNvPr id="101" name=""/>
              <p:cNvSpPr/>
              <p:nvPr/>
            </p:nvSpPr>
            <p:spPr>
              <a:xfrm>
                <a:off x="21812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126756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1319400" y="5011560"/>
            <a:ext cx="7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in Lisa’s Cla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 of Students in Lisa’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_Lis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meriGarmnd BT"/>
              </a:rPr>
              <a:t>Lisa”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_Enrolle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_Lis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’s classe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ment in Lisa’s class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a’s class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in Lisa’s cla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rollment in Lisa’s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52240" y="306396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Stud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Lisa’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43360" y="3276720"/>
            <a:ext cx="2358000" cy="1906920"/>
            <a:chOff x="3843360" y="3276720"/>
            <a:chExt cx="2358000" cy="1906920"/>
          </a:xfrm>
        </p:grpSpPr>
        <p:sp>
          <p:nvSpPr>
            <p:cNvPr id="162" name=""/>
            <p:cNvSpPr/>
            <p:nvPr/>
          </p:nvSpPr>
          <p:spPr>
            <a:xfrm>
              <a:off x="4975200" y="460224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43120" y="397368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43360" y="4484520"/>
              <a:ext cx="1743120" cy="270000"/>
              <a:chOff x="3843360" y="4484520"/>
              <a:chExt cx="1743120" cy="27000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3843360" y="448452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834080" y="448452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234320" y="3276720"/>
              <a:ext cx="83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2320" y="3886200"/>
              <a:ext cx="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482480" y="4525920"/>
            <a:ext cx="4112280" cy="1800720"/>
            <a:chOff x="1482480" y="4525920"/>
            <a:chExt cx="4112280" cy="1800720"/>
          </a:xfrm>
        </p:grpSpPr>
        <p:sp>
          <p:nvSpPr>
            <p:cNvPr id="170" name=""/>
            <p:cNvSpPr/>
            <p:nvPr/>
          </p:nvSpPr>
          <p:spPr>
            <a:xfrm>
              <a:off x="4368600" y="574524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68320" y="520380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730600" y="563868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02200" y="563868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9760" y="452592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0760" y="510552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57200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isa’s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182600" y="5425920"/>
            <a:ext cx="2632680" cy="1433880"/>
            <a:chOff x="1182600" y="5425920"/>
            <a:chExt cx="2632680" cy="1433880"/>
          </a:xfrm>
        </p:grpSpPr>
        <p:sp>
          <p:nvSpPr>
            <p:cNvPr id="178" name=""/>
            <p:cNvSpPr/>
            <p:nvPr/>
          </p:nvSpPr>
          <p:spPr>
            <a:xfrm>
              <a:off x="2097720" y="627840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92520" y="563868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63720" y="6172200"/>
              <a:ext cx="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2600" y="542592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ho’s Lis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27D-01FE-44B0-9A7E-87B6D07DB2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72504-8990-4E48-8310-E50CB129CA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in R. 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emporary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oreign keys to join t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7B3-4507-4CE2-9362-EFD18D9F90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148778-608B-45AC-BE51-C120B1E11B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students in Lisa’s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80920" y="2987640"/>
            <a:ext cx="20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Stud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Lisa’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5840" y="1752480"/>
            <a:ext cx="5205960" cy="2059200"/>
            <a:chOff x="3885840" y="1752480"/>
            <a:chExt cx="5205960" cy="2059200"/>
          </a:xfrm>
        </p:grpSpPr>
        <p:sp>
          <p:nvSpPr>
            <p:cNvPr id="188" name=""/>
            <p:cNvSpPr/>
            <p:nvPr/>
          </p:nvSpPr>
          <p:spPr>
            <a:xfrm>
              <a:off x="7522560" y="323028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68280" y="25365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85840" y="2971800"/>
              <a:ext cx="184140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11520" y="2971800"/>
              <a:ext cx="1841400" cy="4572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21320" y="1752480"/>
              <a:ext cx="107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6320" y="2361960"/>
              <a:ext cx="0" cy="3812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26560" y="182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heir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71680" y="3200400"/>
            <a:ext cx="2358000" cy="1906920"/>
            <a:chOff x="3271680" y="3200400"/>
            <a:chExt cx="2358000" cy="1906920"/>
          </a:xfrm>
        </p:grpSpPr>
        <p:sp>
          <p:nvSpPr>
            <p:cNvPr id="196" name=""/>
            <p:cNvSpPr/>
            <p:nvPr/>
          </p:nvSpPr>
          <p:spPr>
            <a:xfrm>
              <a:off x="4403520" y="452592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71440" y="38973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271680" y="4408200"/>
              <a:ext cx="1743120" cy="270000"/>
              <a:chOff x="3271680" y="4408200"/>
              <a:chExt cx="1743120" cy="27000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3271680" y="440820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62400" y="4408200"/>
                <a:ext cx="752400" cy="270000"/>
              </a:xfrm>
              <a:prstGeom prst="line">
                <a:avLst/>
              </a:prstGeom>
              <a:ln w="255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662640" y="3200400"/>
              <a:ext cx="83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30640" y="3809880"/>
              <a:ext cx="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10800" y="4449600"/>
            <a:ext cx="4112280" cy="1800720"/>
            <a:chOff x="910800" y="4449600"/>
            <a:chExt cx="4112280" cy="1800720"/>
          </a:xfrm>
        </p:grpSpPr>
        <p:sp>
          <p:nvSpPr>
            <p:cNvPr id="204" name=""/>
            <p:cNvSpPr/>
            <p:nvPr/>
          </p:nvSpPr>
          <p:spPr>
            <a:xfrm>
              <a:off x="3796920" y="566892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96640" y="512748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2158920" y="556236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30520" y="556236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8080" y="444960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59080" y="502920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10800" y="449568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isa’s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120960" y="5334120"/>
            <a:ext cx="3364920" cy="1449360"/>
            <a:chOff x="-120960" y="5334120"/>
            <a:chExt cx="3364920" cy="1449360"/>
          </a:xfrm>
        </p:grpSpPr>
        <p:sp>
          <p:nvSpPr>
            <p:cNvPr id="212" name=""/>
            <p:cNvSpPr/>
            <p:nvPr/>
          </p:nvSpPr>
          <p:spPr>
            <a:xfrm>
              <a:off x="1526760" y="620208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21200" y="556236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040" y="609588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120960" y="533412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ho’s Lis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A6D-C25D-487C-8522-F13AFAC28D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36996-AE10-42E0-B6C0-F49A4B5C0D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Minus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D’s of the courses that Lisa is NOT t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14760" y="2163600"/>
            <a:ext cx="5970960" cy="1575000"/>
            <a:chOff x="1814760" y="2163600"/>
            <a:chExt cx="5970960" cy="1575000"/>
          </a:xfrm>
        </p:grpSpPr>
        <p:sp>
          <p:nvSpPr>
            <p:cNvPr id="219" name=""/>
            <p:cNvSpPr/>
            <p:nvPr/>
          </p:nvSpPr>
          <p:spPr>
            <a:xfrm>
              <a:off x="4777920" y="2590920"/>
              <a:ext cx="300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CID’s of the course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that Lisa IS ta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4760" y="259092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All CID’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8000" y="216360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18680" y="2585880"/>
              <a:ext cx="1600200" cy="11480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7840" y="2590920"/>
              <a:ext cx="1600200" cy="11476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10480" y="3505320"/>
            <a:ext cx="1424160" cy="1419480"/>
            <a:chOff x="1410480" y="3505320"/>
            <a:chExt cx="1424160" cy="1419480"/>
          </a:xfrm>
        </p:grpSpPr>
        <p:sp>
          <p:nvSpPr>
            <p:cNvPr id="225" name=""/>
            <p:cNvSpPr/>
            <p:nvPr/>
          </p:nvSpPr>
          <p:spPr>
            <a:xfrm>
              <a:off x="1674720" y="350532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3372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0480" y="4343400"/>
              <a:ext cx="142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Cour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924000" y="3505320"/>
            <a:ext cx="3846960" cy="3084840"/>
            <a:chOff x="3924000" y="3505320"/>
            <a:chExt cx="3846960" cy="3084840"/>
          </a:xfrm>
        </p:grpSpPr>
        <p:sp>
          <p:nvSpPr>
            <p:cNvPr id="229" name=""/>
            <p:cNvSpPr/>
            <p:nvPr/>
          </p:nvSpPr>
          <p:spPr>
            <a:xfrm>
              <a:off x="3924000" y="517032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44040" y="600876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73360" y="432432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535640" y="4759200"/>
              <a:ext cx="838080" cy="6098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7240" y="4759200"/>
              <a:ext cx="838080" cy="6098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48200" y="506412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45320" y="5597640"/>
              <a:ext cx="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0040" y="350532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868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A1B-703D-49B7-9E56-E05DB09761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E6B0D-7C49-44DD-8DA3-376CDE82C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ing Ope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Enrolled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Grade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En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225756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5943600" y="2209680"/>
          <a:ext cx="2514600" cy="1095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2" name=""/>
          <p:cNvGrpSpPr/>
          <p:nvPr/>
        </p:nvGrpSpPr>
        <p:grpSpPr>
          <a:xfrm>
            <a:off x="2971800" y="2514600"/>
            <a:ext cx="2971800" cy="838080"/>
            <a:chOff x="2971800" y="2514600"/>
            <a:chExt cx="2971800" cy="838080"/>
          </a:xfrm>
        </p:grpSpPr>
        <p:sp>
          <p:nvSpPr>
            <p:cNvPr id="243" name=""/>
            <p:cNvSpPr/>
            <p:nvPr/>
          </p:nvSpPr>
          <p:spPr>
            <a:xfrm>
              <a:off x="3733920" y="251460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05320" y="2514600"/>
              <a:ext cx="20574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0066"/>
                  </a:solidFill>
                  <a:latin typeface="Symbol"/>
                  <a:ea typeface="Symbol"/>
                </a:rPr>
                <a:t></a:t>
              </a:r>
              <a:r>
                <a:rPr b="0" i="1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Enroll</a:t>
              </a:r>
              <a:r>
                <a:rPr b="0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S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C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Grade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2971800"/>
              <a:ext cx="838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2895480"/>
              <a:ext cx="6858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DD6-F7CE-4EE9-B13A-6367C0756F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DA1D8-0ED7-4CDC-B646-2399CC8520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 following relation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department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charac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’s of students who take at least two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361960" y="4191120"/>
            <a:ext cx="5181840" cy="304560"/>
            <a:chOff x="2361960" y="4191120"/>
            <a:chExt cx="5181840" cy="304560"/>
          </a:xfrm>
        </p:grpSpPr>
        <p:sp>
          <p:nvSpPr>
            <p:cNvPr id="250" name=""/>
            <p:cNvSpPr/>
            <p:nvPr/>
          </p:nvSpPr>
          <p:spPr>
            <a:xfrm>
              <a:off x="2362320" y="4191120"/>
              <a:ext cx="51814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361960" y="4191120"/>
              <a:ext cx="51814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BF9-8D96-4951-A06E-EEA8556EEA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66AB5-3B48-4D7D-AE11-11D2867CB5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(cont.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Grade1) En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D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Grade2) Enr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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 =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S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2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msy10"/>
              </a:rPr>
              <a:t>Æ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 C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meriGarmnd BT"/>
              </a:rPr>
              <a:t>C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meriGarmnd BT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0600" y="4457880"/>
            <a:ext cx="8452440" cy="1419120"/>
            <a:chOff x="300600" y="4457880"/>
            <a:chExt cx="8452440" cy="1419120"/>
          </a:xfrm>
        </p:grpSpPr>
        <p:sp>
          <p:nvSpPr>
            <p:cNvPr id="255" name=""/>
            <p:cNvSpPr/>
            <p:nvPr/>
          </p:nvSpPr>
          <p:spPr>
            <a:xfrm>
              <a:off x="300600" y="4457880"/>
              <a:ext cx="335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Enroll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(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,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,Grade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2680" y="4457880"/>
              <a:ext cx="342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Enroll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(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,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, Grade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34920" y="529560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0066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49720" y="529560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0066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470240" y="5036760"/>
              <a:ext cx="0" cy="3805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499440" y="5036760"/>
              <a:ext cx="0" cy="3805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00080" y="2666880"/>
            <a:ext cx="5203440" cy="2095200"/>
            <a:chOff x="1900080" y="2666880"/>
            <a:chExt cx="5203440" cy="2095200"/>
          </a:xfrm>
        </p:grpSpPr>
        <p:sp>
          <p:nvSpPr>
            <p:cNvPr id="262" name=""/>
            <p:cNvSpPr/>
            <p:nvPr/>
          </p:nvSpPr>
          <p:spPr>
            <a:xfrm>
              <a:off x="3898800" y="3474720"/>
              <a:ext cx="3204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dbsym"/>
                  <a:ea typeface="dbsym"/>
                </a:rPr>
                <a:t>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 =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 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cmsy10"/>
                </a:rPr>
                <a:t>Æ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 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 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Symbol"/>
                  <a:ea typeface="Symbol"/>
                </a:rPr>
                <a:t>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 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C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900080" y="4076280"/>
              <a:ext cx="2438280" cy="6858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4490640" y="4076280"/>
              <a:ext cx="2438640" cy="6858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27240" y="2666880"/>
              <a:ext cx="97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0066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SID</a:t>
              </a:r>
              <a:r>
                <a:rPr b="0" lang="en-US" sz="3200" spc="-1" strike="noStrike" baseline="-25000">
                  <a:solidFill>
                    <a:srgbClr val="330066"/>
                  </a:solidFill>
                  <a:latin typeface="AmeriGarmnd B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14680" y="3246120"/>
              <a:ext cx="0" cy="5335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-163440" y="3094200"/>
            <a:ext cx="46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Expression tree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D7D-BE24-482C-9B6C-9EFCA9C9B0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CC7A1-85F1-4DB5-896A-C40E52E5E7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in R. 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arison is to identify a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C21-415A-4495-9AEB-389F7736AE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0DB88-B09A-40E7-9630-F7956648CF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ickier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has the highest GP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has a GP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 does NOT have the highest GPA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GPA is lower than somebody else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410120" y="3505320"/>
            <a:ext cx="1569240" cy="1419480"/>
            <a:chOff x="1410120" y="3505320"/>
            <a:chExt cx="1569240" cy="1419480"/>
          </a:xfrm>
        </p:grpSpPr>
        <p:sp>
          <p:nvSpPr>
            <p:cNvPr id="273" name=""/>
            <p:cNvSpPr/>
            <p:nvPr/>
          </p:nvSpPr>
          <p:spPr>
            <a:xfrm>
              <a:off x="1666440" y="3505320"/>
              <a:ext cx="835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372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10120" y="434340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209680" y="2743200"/>
            <a:ext cx="3438720" cy="1066680"/>
            <a:chOff x="2209680" y="2743200"/>
            <a:chExt cx="3438720" cy="1066680"/>
          </a:xfrm>
        </p:grpSpPr>
        <p:sp>
          <p:nvSpPr>
            <p:cNvPr id="277" name=""/>
            <p:cNvSpPr/>
            <p:nvPr/>
          </p:nvSpPr>
          <p:spPr>
            <a:xfrm>
              <a:off x="3798000" y="274320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209680" y="3165480"/>
              <a:ext cx="1609920" cy="6444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3165480"/>
              <a:ext cx="1609920" cy="64440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59200" y="3505320"/>
            <a:ext cx="3790800" cy="3142080"/>
            <a:chOff x="3859200" y="3505320"/>
            <a:chExt cx="3790800" cy="3142080"/>
          </a:xfrm>
        </p:grpSpPr>
        <p:sp>
          <p:nvSpPr>
            <p:cNvPr id="281" name=""/>
            <p:cNvSpPr/>
            <p:nvPr/>
          </p:nvSpPr>
          <p:spPr>
            <a:xfrm>
              <a:off x="6080760" y="606600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572000" y="4816440"/>
              <a:ext cx="83808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4816440"/>
              <a:ext cx="83808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5654520"/>
              <a:ext cx="0" cy="6098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94480" y="606276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95760" y="5651640"/>
              <a:ext cx="0" cy="6094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200" y="5105520"/>
              <a:ext cx="1427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68880" y="5105520"/>
              <a:ext cx="1427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36400" y="4267080"/>
              <a:ext cx="342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dbsym"/>
                  <a:ea typeface="dbsym"/>
                </a:rPr>
                <a:t>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1.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GPA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&lt; 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2.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GP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35440" y="3505320"/>
              <a:ext cx="1830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tuden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1.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S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15000" y="4114800"/>
              <a:ext cx="0" cy="3808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0600" y="5349960"/>
            <a:ext cx="44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A deeper question: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en (and why) is “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”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5F1-B09A-470E-A7B7-3F54498C83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A7BB6-81E5-44E1-80B2-341526F4EC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tone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2793600"/>
            <a:ext cx="86104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me old output rows may need to be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the operator i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non-monot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wise the operator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at is, old output rows always remain “correct” when more rows are added to the in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, for a monotone opera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’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implies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µ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’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362320" y="1295280"/>
            <a:ext cx="4419000" cy="914400"/>
            <a:chOff x="2362320" y="1295280"/>
            <a:chExt cx="4419000" cy="914400"/>
          </a:xfrm>
        </p:grpSpPr>
        <p:sp>
          <p:nvSpPr>
            <p:cNvPr id="296" name=""/>
            <p:cNvSpPr/>
            <p:nvPr/>
          </p:nvSpPr>
          <p:spPr>
            <a:xfrm>
              <a:off x="3809880" y="1371600"/>
              <a:ext cx="152352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03640" y="153324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l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362320" y="1295280"/>
              <a:ext cx="990360" cy="914400"/>
              <a:chOff x="2362320" y="1295280"/>
              <a:chExt cx="99036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362320" y="1295280"/>
                <a:ext cx="99036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62320" y="1447560"/>
                <a:ext cx="990360" cy="762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82280" y="1295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12400" y="1295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96000" y="1295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362320" y="159984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62320" y="175248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62320" y="190476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362320" y="205704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429000" y="1752480"/>
              <a:ext cx="38052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790960" y="1371600"/>
              <a:ext cx="990360" cy="761760"/>
              <a:chOff x="5790960" y="1371600"/>
              <a:chExt cx="990360" cy="76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5790960" y="1371600"/>
                <a:ext cx="990360" cy="76176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90960" y="1523520"/>
                <a:ext cx="990360" cy="6094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11280" y="1371600"/>
                <a:ext cx="0" cy="761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60480" y="1371600"/>
                <a:ext cx="0" cy="761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52720" y="1371600"/>
                <a:ext cx="0" cy="76176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790960" y="167616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790960" y="182844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90960" y="198072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333760" y="175248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17720" y="1925640"/>
            <a:ext cx="3234960" cy="825480"/>
            <a:chOff x="117720" y="1925640"/>
            <a:chExt cx="3234960" cy="825480"/>
          </a:xfrm>
        </p:grpSpPr>
        <p:grpSp>
          <p:nvGrpSpPr>
            <p:cNvPr id="320" name=""/>
            <p:cNvGrpSpPr/>
            <p:nvPr/>
          </p:nvGrpSpPr>
          <p:grpSpPr>
            <a:xfrm>
              <a:off x="2362320" y="2209680"/>
              <a:ext cx="990360" cy="304920"/>
              <a:chOff x="2362320" y="2209680"/>
              <a:chExt cx="990360" cy="304920"/>
            </a:xfrm>
          </p:grpSpPr>
          <p:sp>
            <p:nvSpPr>
              <p:cNvPr id="321" name=""/>
              <p:cNvSpPr/>
              <p:nvPr/>
            </p:nvSpPr>
            <p:spPr>
              <a:xfrm>
                <a:off x="2362320" y="2209680"/>
                <a:ext cx="990360" cy="30492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62320" y="2362320"/>
                <a:ext cx="9903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577960" y="2209680"/>
                <a:ext cx="0" cy="304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21040" y="2209680"/>
                <a:ext cx="0" cy="304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98880" y="2209680"/>
                <a:ext cx="0" cy="3049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17720" y="1925640"/>
              <a:ext cx="269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Add more rows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AmeriGarmnd BT"/>
                </a:rPr>
                <a:t>to the input..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676920" y="1316160"/>
            <a:ext cx="22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What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to the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0CD-9CF8-4150-93FD-CBAC63FE2B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E0F78-BDD7-4F88-B670-B33F27B427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is du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1 is posted online at the class web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ttp://people.eecs.ku.edu/~jhuan/EECS647/assignments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3pm Feb 1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should all receive your PostgreSQL passw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it asap and if you run into problems, let me know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6D7-A29E-43DB-8868-D05C27872C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4241A-D450-49DE-862E-F379E5685D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 of relational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29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: </a:t>
            </a:r>
            <a:r>
              <a:rPr b="0" lang="en-US" sz="24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product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joi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ection: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627360" y="1066320"/>
            <a:ext cx="513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tone w.r.t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330066"/>
                </a:solidFill>
                <a:latin typeface="Times New Roman"/>
              </a:rPr>
              <a:t>non-monotone w.r.t </a:t>
            </a:r>
            <a:r>
              <a:rPr b="0" i="1" lang="en-US" sz="20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4CE-EE0B-4DE0-9601-8FF13B184F07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9F6AA-FAA5-4E74-A8B4-9E039D22EC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“</a:t>
            </a:r>
            <a:r>
              <a:rPr b="1" lang="en-US" sz="3200" spc="-1" strike="noStrike">
                <a:solidFill>
                  <a:srgbClr val="000000"/>
                </a:solidFill>
                <a:latin typeface="cmsy10"/>
              </a:rPr>
              <a:t>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 needed for highest GPA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of monotone operators produces a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monoton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ld output rows remain “correct” when more rows are added to the in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st-GPA query i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n-mono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highest GPA is 4.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 another GPA 4.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ld answer is invalid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it must use differe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31A-9B87-421A-9071-B1A04D8751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43EAB-21F7-4505-A2FB-85B0A84B7D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we need core operat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ly operator that adds colum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ly non-monotone oper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nly operator that allows you to add row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? Projec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D47-25B0-4E88-A633-B74F43B4C7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BE088-1C9B-4421-8C15-F751E801BE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er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890-A309-46C1-ABCD-710BC6F286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6F591-779E-4CF3-8F95-97BC085F5C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eft) Outer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pairs rows from two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for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p satisfies, output a ro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concatenation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therwise, output a row r with NU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er join and full outer join are defined simi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67080" y="1773360"/>
            <a:ext cx="75960" cy="199800"/>
            <a:chOff x="2467080" y="1773360"/>
            <a:chExt cx="75960" cy="199800"/>
          </a:xfrm>
        </p:grpSpPr>
        <p:sp>
          <p:nvSpPr>
            <p:cNvPr id="340" name=""/>
            <p:cNvSpPr/>
            <p:nvPr/>
          </p:nvSpPr>
          <p:spPr>
            <a:xfrm>
              <a:off x="2467080" y="1773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67080" y="19731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185-179F-4BA1-80D9-4FB965B044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AECAF-964C-4058-B35E-144F6AC16F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er 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Employee 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id = M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14400" y="1752480"/>
          <a:ext cx="228600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105520" y="1676520"/>
          <a:ext cx="2514600" cy="1095120"/>
        </p:xfrm>
        <a:graphic>
          <a:graphicData uri="http://schemas.openxmlformats.org/drawingml/2006/table">
            <a:tbl>
              <a:tblPr/>
              <a:tblGrid>
                <a:gridCol w="533160"/>
                <a:gridCol w="83844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1523880" y="3720960"/>
          <a:ext cx="5562720" cy="1460520"/>
        </p:xfrm>
        <a:graphic>
          <a:graphicData uri="http://schemas.openxmlformats.org/drawingml/2006/table">
            <a:tbl>
              <a:tblPr/>
              <a:tblGrid>
                <a:gridCol w="868320"/>
                <a:gridCol w="1874880"/>
                <a:gridCol w="838440"/>
                <a:gridCol w="83808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3200400" y="2209680"/>
            <a:ext cx="1905120" cy="1524240"/>
            <a:chOff x="3200400" y="2209680"/>
            <a:chExt cx="1905120" cy="1524240"/>
          </a:xfrm>
        </p:grpSpPr>
        <p:grpSp>
          <p:nvGrpSpPr>
            <p:cNvPr id="348" name=""/>
            <p:cNvGrpSpPr/>
            <p:nvPr/>
          </p:nvGrpSpPr>
          <p:grpSpPr>
            <a:xfrm>
              <a:off x="3200400" y="2209680"/>
              <a:ext cx="1905120" cy="1524240"/>
              <a:chOff x="3200400" y="2209680"/>
              <a:chExt cx="1905120" cy="15242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3276720" y="2666880"/>
                <a:ext cx="1752480" cy="838440"/>
                <a:chOff x="3276720" y="2666880"/>
                <a:chExt cx="1752480" cy="8384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352680" y="2666880"/>
                  <a:ext cx="1524240" cy="838440"/>
                </a:xfrm>
                <a:prstGeom prst="ellipse">
                  <a:avLst/>
                </a:prstGeom>
                <a:blipFill rotWithShape="0">
                  <a:blip r:embed="rId1"/>
                  <a:srcRect/>
                  <a:stretch/>
                </a:blipFill>
                <a:ln w="38160">
                  <a:solidFill>
                    <a:srgbClr val="33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76720" y="2819520"/>
                  <a:ext cx="17524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0066"/>
                      </a:solidFill>
                      <a:latin typeface="Times New Roman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dbsym"/>
                      <a:ea typeface="dbsym"/>
                    </a:rPr>
                    <a:t></a:t>
                  </a:r>
                  <a:r>
                    <a:rPr b="0" i="1" lang="en-US" sz="2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Eid = Mi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200400" y="2286000"/>
                <a:ext cx="533520" cy="5335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572000" y="2209680"/>
                <a:ext cx="533520" cy="5335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800" y="3429000"/>
                <a:ext cx="0" cy="304920"/>
              </a:xfrm>
              <a:prstGeom prst="line">
                <a:avLst/>
              </a:prstGeom>
              <a:ln w="38160">
                <a:solidFill>
                  <a:srgbClr val="33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352680" y="3048120"/>
              <a:ext cx="76320" cy="199800"/>
              <a:chOff x="3352680" y="3048120"/>
              <a:chExt cx="76320" cy="199800"/>
            </a:xfrm>
          </p:grpSpPr>
          <p:sp>
            <p:nvSpPr>
              <p:cNvPr id="356" name=""/>
              <p:cNvSpPr/>
              <p:nvPr/>
            </p:nvSpPr>
            <p:spPr>
              <a:xfrm>
                <a:off x="3352680" y="30481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52680" y="3247920"/>
                <a:ext cx="7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209680" y="1295280"/>
            <a:ext cx="76320" cy="199800"/>
            <a:chOff x="2209680" y="1295280"/>
            <a:chExt cx="76320" cy="199800"/>
          </a:xfrm>
        </p:grpSpPr>
        <p:sp>
          <p:nvSpPr>
            <p:cNvPr id="359" name=""/>
            <p:cNvSpPr/>
            <p:nvPr/>
          </p:nvSpPr>
          <p:spPr>
            <a:xfrm>
              <a:off x="2209680" y="1295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09680" y="1495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B01-E11F-4C49-AB18-37A4CCC1F1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F0CF5-BA80-42CE-BAAD-9DD1192304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sion Ope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 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select colum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re repeated many times in R according to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(Z), S(X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–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1 – T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1A7-B330-4CC7-B3F1-B5CFE73285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B1E47-E85B-4785-97D4-84227B135C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r.a. a good query languag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mall set of core operators who semantics are easy to gras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es, compared with older languages like CODASY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ough operators do look somewhat “procedural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th respect to wha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D8B-94C7-4FA4-A1FF-0D554AE0A1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F5B1C-889F-440B-9050-32ABA26167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328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calc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3314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et theoretic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cla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ecial symbols called quantifiers can appear in formulas; these are the universal quantifie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existential quantifier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tudent with the highest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74D-F812-4A3F-B9F6-F82232CD37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ADD8B-772F-420C-9678-04DDF7DD4B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calcul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 = “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relational calc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query expressible as a safe relational calculus query is also expressible as a relational algebra qu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vice 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n </a:t>
            </a: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nsa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al calculus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evaluate this query just by looking at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988-C51D-40C4-8E20-B600674F56D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29F05-79F5-4523-BC56-D0FB485C6C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usually post the handout of the class at the class website before 11:00am in the class meeting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/schedule.ht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deliberately) make it containing missing and incorrect informatio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encouraged to print out the handout and review it before attending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ke the classroom discussion fun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omplete version of the handout (with error fixed and missing information filled) will appear right after clas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50D-BDA8-4472-AA7A-B1774CB3D4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F5872-B870-423A-A79F-51AEC8E635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ring machin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has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no recu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 of something not expressible in relational algebra: Given relatio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, who are Bart’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ances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Turing machi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mization becomes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undecid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ways implement it at the application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 is added to SQL neverthel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FF1-81DE-4B54-A266-080D9BFC885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25F01-DF66-42F4-AE1D-8EAD2A3F23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s in writing R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temporary variab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foreign keys to join tab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omparison is to identify a relation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set minus in non-monotonic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B26-8B9D-4B50-A804-E59A5D8F53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EDDC6-2C65-4A1D-BF0D-71ACD92D09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main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of an attribute must from it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elation must have a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tity integ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value can not be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er key value can either be NULL or an existing value from the referenced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D41-29B4-4798-AB76-745D546207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74379-8167-4014-8E8A-1F9C654875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Summary of core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76360" y="99036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7010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514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4876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BC4-05D5-4CC9-8C8A-2AD3EB8280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B9199-39FD-4F29-801F-97BFCBFC30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onic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er jo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relational calc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B9E-F5BA-4F4D-AACD-2C7A5E4034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31D9F-EA65-4E6A-8BB7-2788C83783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Jo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lasses is Lisa ta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department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ring, grade: charac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Answ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_Lis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Lisa”</a:t>
            </a:r>
            <a:r>
              <a:rPr b="0" i="1" lang="en-US" sz="2600" spc="-1" strike="noStrike">
                <a:solidFill>
                  <a:srgbClr val="000000"/>
                </a:solidFill>
                <a:latin typeface="AmeriGarmnd BT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udent_Lisa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’s classes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C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_Enroll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tude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meriGarmnd BT"/>
              </a:rPr>
              <a:t>Lisa”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_Enroll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’s classes 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C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sa_Enrolle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40C-C8FC-48C5-8A5A-602612D7B3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6B12E-F981-4DF0-8442-C3AC5EFB70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320" y="1371600"/>
          <a:ext cx="2819160" cy="1460520"/>
        </p:xfrm>
        <a:graphic>
          <a:graphicData uri="http://schemas.openxmlformats.org/drawingml/2006/table">
            <a:tbl>
              <a:tblPr/>
              <a:tblGrid>
                <a:gridCol w="653760"/>
                <a:gridCol w="946080"/>
                <a:gridCol w="609480"/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562720" y="1752480"/>
          <a:ext cx="2819160" cy="746280"/>
        </p:xfrm>
        <a:graphic>
          <a:graphicData uri="http://schemas.openxmlformats.org/drawingml/2006/table">
            <a:tbl>
              <a:tblPr/>
              <a:tblGrid>
                <a:gridCol w="653760"/>
                <a:gridCol w="946440"/>
                <a:gridCol w="609480"/>
                <a:gridCol w="609480"/>
              </a:tblGrid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438280" y="3048120"/>
          <a:ext cx="2133720" cy="14605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67080" y="4876920"/>
          <a:ext cx="4190760" cy="1095120"/>
        </p:xfrm>
        <a:graphic>
          <a:graphicData uri="http://schemas.openxmlformats.org/drawingml/2006/table">
            <a:tbl>
              <a:tblPr/>
              <a:tblGrid>
                <a:gridCol w="679320"/>
                <a:gridCol w="981000"/>
                <a:gridCol w="549360"/>
                <a:gridCol w="609480"/>
                <a:gridCol w="609840"/>
                <a:gridCol w="76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2895480" y="1859040"/>
            <a:ext cx="2590560" cy="838080"/>
            <a:chOff x="2895480" y="1859040"/>
            <a:chExt cx="2590560" cy="838080"/>
          </a:xfrm>
        </p:grpSpPr>
        <p:sp>
          <p:nvSpPr>
            <p:cNvPr id="126" name=""/>
            <p:cNvSpPr/>
            <p:nvPr/>
          </p:nvSpPr>
          <p:spPr>
            <a:xfrm>
              <a:off x="3271680" y="185904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3480" y="1981080"/>
              <a:ext cx="170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209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4280" y="2209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0" y="2514600"/>
            <a:ext cx="2514600" cy="2362320"/>
            <a:chOff x="4572000" y="2514600"/>
            <a:chExt cx="2514600" cy="2362320"/>
          </a:xfrm>
        </p:grpSpPr>
        <p:grpSp>
          <p:nvGrpSpPr>
            <p:cNvPr id="131" name=""/>
            <p:cNvGrpSpPr/>
            <p:nvPr/>
          </p:nvGrpSpPr>
          <p:grpSpPr>
            <a:xfrm>
              <a:off x="5562720" y="3276720"/>
              <a:ext cx="1523880" cy="838080"/>
              <a:chOff x="5562720" y="3276720"/>
              <a:chExt cx="152388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5562720" y="3276720"/>
                <a:ext cx="1523880" cy="8380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96240" y="3429000"/>
                <a:ext cx="3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572000" y="3657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24120" y="2514600"/>
              <a:ext cx="6858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4191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676520" y="5105520"/>
            <a:ext cx="2590200" cy="838080"/>
            <a:chOff x="1676520" y="5105520"/>
            <a:chExt cx="2590200" cy="838080"/>
          </a:xfrm>
        </p:grpSpPr>
        <p:sp>
          <p:nvSpPr>
            <p:cNvPr id="138" name=""/>
            <p:cNvSpPr/>
            <p:nvPr/>
          </p:nvSpPr>
          <p:spPr>
            <a:xfrm>
              <a:off x="2052360" y="5105520"/>
              <a:ext cx="1523880" cy="838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4960" y="5257800"/>
              <a:ext cx="181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¼   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5456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4960" y="5456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2" name=""/>
          <p:cNvGraphicFramePr/>
          <p:nvPr/>
        </p:nvGraphicFramePr>
        <p:xfrm>
          <a:off x="990720" y="4952880"/>
          <a:ext cx="685800" cy="10951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882-E3CB-4CFE-9D5C-6B7D83F52F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78DA9-9085-4ACC-9A4C-BB428CB14F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a’s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(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nam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meriGarmnd BT"/>
              </a:rPr>
              <a:t> = “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meriGarmnd BT"/>
              </a:rPr>
              <a:t>Lisa”</a:t>
            </a:r>
            <a:r>
              <a:rPr b="0" i="1" lang="en-US" sz="2800" spc="-1" strike="noStrike">
                <a:solidFill>
                  <a:srgbClr val="000000"/>
                </a:solidFill>
                <a:latin typeface="AmeriGarmnd BT"/>
              </a:rPr>
              <a:t>Studen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04880" y="1981080"/>
            <a:ext cx="4112280" cy="1800720"/>
            <a:chOff x="2504880" y="1981080"/>
            <a:chExt cx="4112280" cy="1800720"/>
          </a:xfrm>
        </p:grpSpPr>
        <p:sp>
          <p:nvSpPr>
            <p:cNvPr id="146" name=""/>
            <p:cNvSpPr/>
            <p:nvPr/>
          </p:nvSpPr>
          <p:spPr>
            <a:xfrm>
              <a:off x="5391000" y="3200400"/>
              <a:ext cx="122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Enro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0720" y="2658960"/>
              <a:ext cx="38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753000" y="309384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24600" y="3093840"/>
              <a:ext cx="838080" cy="30492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2160" y="1981080"/>
              <a:ext cx="854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¼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CI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3160" y="256068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04880" y="2027160"/>
              <a:ext cx="202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Lisa’s cla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73120" y="2865600"/>
            <a:ext cx="3364920" cy="1449360"/>
            <a:chOff x="1473120" y="2865600"/>
            <a:chExt cx="3364920" cy="1449360"/>
          </a:xfrm>
        </p:grpSpPr>
        <p:sp>
          <p:nvSpPr>
            <p:cNvPr id="154" name=""/>
            <p:cNvSpPr/>
            <p:nvPr/>
          </p:nvSpPr>
          <p:spPr>
            <a:xfrm>
              <a:off x="3120840" y="3733560"/>
              <a:ext cx="156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meriGarmnd BT"/>
                </a:rPr>
                <a:t>Stud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5280" y="3093840"/>
              <a:ext cx="1922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name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 = “</a:t>
              </a:r>
              <a:r>
                <a:rPr b="0" i="1" lang="en-US" sz="3200" spc="-1" strike="noStrike" baseline="-25000">
                  <a:solidFill>
                    <a:srgbClr val="000000"/>
                  </a:solidFill>
                  <a:latin typeface="AmeriGarmnd BT"/>
                </a:rPr>
                <a:t>Lisa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86120" y="3627360"/>
              <a:ext cx="0" cy="30456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73120" y="286560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meriGarmnd BT"/>
                </a:rPr>
                <a:t>Who’s Lis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F9C-83D6-4DD7-9048-65A42437DC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35872-0FA9-4BFA-A8FF-44E5B56D5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1T17:27:40Z</dcterms:modified>
  <cp:revision>725</cp:revision>
  <dc:subject/>
  <dc:title>CS186: Introduction to Database Systems</dc:title>
</cp:coreProperties>
</file>