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90E8E5-6A50-465E-B764-007C97262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ACD595-6B8A-427A-B5F9-F23678B4C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316331-85C7-4EEB-9D41-FB5307D66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3ED8B9-DB30-40ED-A4EF-23EC26EF63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923000-8F09-4DB8-A09C-78427AF44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DA1F18-8A48-4619-8CA6-F690517EB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0CD099-CA18-46A9-94C7-F7CBD36C3C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AA545A-7432-47E0-9DE4-25C1816E5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3E4689-B8FE-4AA2-8109-2FE1B0924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D9FDBE-ECC9-40D0-860B-B58E8EFE9C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805784-0A03-43D8-909A-F0BFDDC9DB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E78CED-FCA4-4A98-83DC-11A5D5859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6E5167-6DE4-4FE5-9AA1-0B3588787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8D54CF-D01E-4EE6-B28A-C71786DDC6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A3D586-3C48-4050-9609-AC68D45EB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F is as at least as strong as BCNF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every BCNF vio is a 4NF v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FD is also M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F is strictly stronger than BCNF, in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’t have “real” m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have mvd’s that follow following key f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015B5C-6F8A-4675-AE67-BC42855B4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D9419C-237D-4E61-868B-FCCCA5D41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A9CF47-1A31-4619-8F0A-36DFD5D00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F : There is no partial functional dependency (a non-trivial F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proper subset of some key and A is not prime --- I.e. not part of some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F: example: A-&gt;B-&gt;C is ok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b-&gt;c, b is not a proper subset of a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cs.bbk.ac.uk/~mark/download/optdb_normal_form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DDAD0F-9DE5-4794-9BFA-26E2F4B6F1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0D4-0F44-4661-B9A2-50AEA8FB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8E0-52A6-4B99-A6B5-A49DB798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F7D-6B23-446F-833F-7427E35B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DF6-DCB7-4D10-8A04-8BBE44EB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543-4E5C-4149-8078-83D629CA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3D7-E799-420A-AF6C-AE79B0A9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F1E-B4F3-4287-9330-B5B07885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1BEF-4187-4EC6-A57C-2412C74D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465-1227-4B7C-9401-E0DA8195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773-62CE-45FC-928B-7A191468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999-DDB8-4DD3-B789-147FB16E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C00-3FCC-40EC-8E2B-A9856A1B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7596-905B-4423-BC05-34F0CC5310F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DEE2-AC66-47E4-8EFF-D9A966D91A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029200"/>
            <a:ext cx="4800600" cy="1557000"/>
          </a:xfrm>
          <a:prstGeom prst="rect">
            <a:avLst/>
          </a:prstGeom>
          <a:noFill/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Nobody realizes that some people expend tremendous energy merely to be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bert Ca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have to use the “foreign key” mechanism to achieve lossless join in binary decom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. See EN 11.1.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6DD-65D8-4390-A6BC-8C73412A17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F516C-532D-4988-9532-746162346B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remove the redundancy that is introduced by non-key FDs i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ick up a non-key F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decompos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= attr(R) – X –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do this recursively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to stop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171-0A31-468C-A07D-9D3D35C35F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57532-AB84-4EFC-95CB-37AE61309C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6000" y="1457280"/>
            <a:ext cx="645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84120" y="1946160"/>
            <a:ext cx="325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Pick up 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108720" y="2381400"/>
            <a:ext cx="9161640" cy="1534680"/>
            <a:chOff x="-108720" y="2381400"/>
            <a:chExt cx="9161640" cy="1534680"/>
          </a:xfrm>
        </p:grpSpPr>
        <p:sp>
          <p:nvSpPr>
            <p:cNvPr id="138" name=""/>
            <p:cNvSpPr/>
            <p:nvPr/>
          </p:nvSpPr>
          <p:spPr>
            <a:xfrm>
              <a:off x="-108720" y="2905200"/>
              <a:ext cx="3638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58360" y="3438360"/>
              <a:ext cx="6694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Grade’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828440" y="2381400"/>
              <a:ext cx="210996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24560" y="2381400"/>
              <a:ext cx="1776240" cy="1047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625200" y="3965400"/>
            <a:ext cx="361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pickup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22160" y="4419720"/>
            <a:ext cx="8197560" cy="1477800"/>
            <a:chOff x="722160" y="4419720"/>
            <a:chExt cx="8197560" cy="1477800"/>
          </a:xfrm>
        </p:grpSpPr>
        <p:sp>
          <p:nvSpPr>
            <p:cNvPr id="144" name=""/>
            <p:cNvSpPr/>
            <p:nvPr/>
          </p:nvSpPr>
          <p:spPr>
            <a:xfrm flipH="1">
              <a:off x="3300480" y="4419720"/>
              <a:ext cx="210960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2160" y="5019840"/>
              <a:ext cx="477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48440" y="4419720"/>
              <a:ext cx="109044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1360" y="5419800"/>
              <a:ext cx="4158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486400" y="152280"/>
            <a:ext cx="35053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ADF-94AF-4CA2-90E2-A9400B86F4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334FD-57EB-452F-9975-89EFC35506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For every non-trivial F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s a super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ll FDs follow from “ke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ther attribut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applies binary decomposition recurs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step, the lossless join property is main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 to remove ALL redundancies caused by 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081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ce-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43E-2CCC-41B0-ACBB-3A99EF3DC2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A1D08-DE44-4663-986B-9F0CED6586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Types of non-key D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1371600"/>
            <a:ext cx="5486400" cy="1143000"/>
            <a:chOff x="609480" y="1371600"/>
            <a:chExt cx="5486400" cy="1143000"/>
          </a:xfrm>
        </p:grpSpPr>
        <p:sp>
          <p:nvSpPr>
            <p:cNvPr id="154" name=""/>
            <p:cNvSpPr/>
            <p:nvPr/>
          </p:nvSpPr>
          <p:spPr>
            <a:xfrm>
              <a:off x="609480" y="1371600"/>
              <a:ext cx="2743200" cy="114300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0" y="1676520"/>
              <a:ext cx="984240" cy="60336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4280" y="1600200"/>
              <a:ext cx="1371600" cy="57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24080" y="1371600"/>
              <a:ext cx="1981080" cy="381240"/>
            </a:xfrm>
            <a:custGeom>
              <a:avLst/>
              <a:gdLst/>
              <a:ahLst/>
              <a:rect l="l" t="t" r="r" b="b"/>
              <a:pathLst>
                <a:path w="448" h="132">
                  <a:moveTo>
                    <a:pt x="0" y="132"/>
                  </a:moveTo>
                  <a:cubicBezTo>
                    <a:pt x="36" y="76"/>
                    <a:pt x="72" y="20"/>
                    <a:pt x="147" y="10"/>
                  </a:cubicBezTo>
                  <a:cubicBezTo>
                    <a:pt x="222" y="0"/>
                    <a:pt x="335" y="37"/>
                    <a:pt x="448" y="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324480" y="167652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depend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3520" y="2844720"/>
            <a:ext cx="5486400" cy="1346400"/>
            <a:chOff x="533520" y="2844720"/>
            <a:chExt cx="5486400" cy="1346400"/>
          </a:xfrm>
        </p:grpSpPr>
        <p:grpSp>
          <p:nvGrpSpPr>
            <p:cNvPr id="160" name=""/>
            <p:cNvGrpSpPr/>
            <p:nvPr/>
          </p:nvGrpSpPr>
          <p:grpSpPr>
            <a:xfrm>
              <a:off x="533520" y="3048120"/>
              <a:ext cx="5486400" cy="1143000"/>
              <a:chOff x="533520" y="3048120"/>
              <a:chExt cx="5486400" cy="1143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33520" y="3048120"/>
                <a:ext cx="2743200" cy="1143000"/>
              </a:xfrm>
              <a:prstGeom prst="ellipse">
                <a:avLst/>
              </a:prstGeom>
              <a:solidFill>
                <a:srgbClr val="fccd0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Book Antiqua"/>
                  </a:rPr>
                  <a:t>ke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48120" y="3352680"/>
                <a:ext cx="984240" cy="603360"/>
              </a:xfrm>
              <a:prstGeom prst="ellipse">
                <a:avLst/>
              </a:prstGeom>
              <a:solidFill>
                <a:srgbClr val="3366ff">
                  <a:alpha val="8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Book Antiqu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48320" y="3276720"/>
                <a:ext cx="1371600" cy="57456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Book Antiqu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57600" y="3048120"/>
                <a:ext cx="1371600" cy="380880"/>
              </a:xfrm>
              <a:custGeom>
                <a:avLst/>
                <a:gdLst/>
                <a:ahLst/>
                <a:rect l="l" t="t" r="r" b="b"/>
                <a:pathLst>
                  <a:path w="448" h="132">
                    <a:moveTo>
                      <a:pt x="0" y="132"/>
                    </a:moveTo>
                    <a:cubicBezTo>
                      <a:pt x="36" y="76"/>
                      <a:pt x="72" y="20"/>
                      <a:pt x="147" y="10"/>
                    </a:cubicBezTo>
                    <a:cubicBezTo>
                      <a:pt x="222" y="0"/>
                      <a:pt x="335" y="37"/>
                      <a:pt x="448" y="7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438280" y="2844720"/>
              <a:ext cx="1067040" cy="507960"/>
            </a:xfrm>
            <a:custGeom>
              <a:avLst/>
              <a:gdLst/>
              <a:ahLst/>
              <a:rect l="l" t="t" r="r" b="b"/>
              <a:pathLst>
                <a:path w="912" h="320">
                  <a:moveTo>
                    <a:pt x="0" y="128"/>
                  </a:moveTo>
                  <a:cubicBezTo>
                    <a:pt x="236" y="64"/>
                    <a:pt x="472" y="0"/>
                    <a:pt x="624" y="32"/>
                  </a:cubicBezTo>
                  <a:cubicBezTo>
                    <a:pt x="776" y="64"/>
                    <a:pt x="864" y="272"/>
                    <a:pt x="912" y="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324480" y="33354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ve dependency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09480" y="4622760"/>
            <a:ext cx="4337280" cy="1244520"/>
            <a:chOff x="609480" y="4622760"/>
            <a:chExt cx="4337280" cy="1244520"/>
          </a:xfrm>
        </p:grpSpPr>
        <p:sp>
          <p:nvSpPr>
            <p:cNvPr id="168" name=""/>
            <p:cNvSpPr/>
            <p:nvPr/>
          </p:nvSpPr>
          <p:spPr>
            <a:xfrm>
              <a:off x="609480" y="4724280"/>
              <a:ext cx="2743200" cy="114300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k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2520" y="4952880"/>
              <a:ext cx="984240" cy="603360"/>
            </a:xfrm>
            <a:prstGeom prst="ellipse">
              <a:avLst/>
            </a:prstGeom>
            <a:solidFill>
              <a:srgbClr val="3366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2320" y="5105520"/>
              <a:ext cx="761760" cy="457200"/>
            </a:xfrm>
            <a:prstGeom prst="ellipse">
              <a:avLst/>
            </a:prstGeom>
            <a:solidFill>
              <a:srgbClr val="ff00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66880" y="4622760"/>
              <a:ext cx="1752840" cy="330120"/>
            </a:xfrm>
            <a:custGeom>
              <a:avLst/>
              <a:gdLst/>
              <a:ahLst/>
              <a:rect l="l" t="t" r="r" b="b"/>
              <a:pathLst>
                <a:path w="1104" h="208">
                  <a:moveTo>
                    <a:pt x="0" y="112"/>
                  </a:moveTo>
                  <a:cubicBezTo>
                    <a:pt x="196" y="56"/>
                    <a:pt x="392" y="0"/>
                    <a:pt x="576" y="16"/>
                  </a:cubicBezTo>
                  <a:cubicBezTo>
                    <a:pt x="760" y="32"/>
                    <a:pt x="1016" y="176"/>
                    <a:pt x="1104" y="208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520" y="5562720"/>
              <a:ext cx="1447560" cy="304560"/>
            </a:xfrm>
            <a:custGeom>
              <a:avLst/>
              <a:gdLst/>
              <a:ahLst/>
              <a:rect l="l" t="t" r="r" b="b"/>
              <a:pathLst>
                <a:path w="912" h="192">
                  <a:moveTo>
                    <a:pt x="912" y="0"/>
                  </a:moveTo>
                  <a:cubicBezTo>
                    <a:pt x="748" y="96"/>
                    <a:pt x="584" y="192"/>
                    <a:pt x="432" y="192"/>
                  </a:cubicBezTo>
                  <a:cubicBezTo>
                    <a:pt x="280" y="192"/>
                    <a:pt x="140" y="96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324480" y="495288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ve dependency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603-B5CA-4C27-A49A-10C4EB19D5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BB2E0-1C45-4631-8087-2884273FA3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BCNF (and 4NF)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ata should depend on the key, the whole key, and nothing but the ke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3NF: 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 But not at the expense of more expensive constraint enforc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DB8-8A95-40D4-A816-33FBD1E7A5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FDE5D-C7FE-4694-9D2A-28C577359B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y-preserving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NF (BCNF is too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valued dependencies: another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NF (BCNF is not enoug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2E2-6DA8-4493-ABDC-A7DA0D6BA5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84B44-E533-4DEB-A272-0C0CD6D0A9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for 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iolation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10B-EE9C-41A4-9D9D-159CB9BDB5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0B09D-79B7-44AA-BA5A-90D718E742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decompose or not to decomp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’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e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y, where is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treet_address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ity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z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heck without join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ack toge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Some lossless join decomposition is not dependency-preser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lemma: Should we get rid of redundancy at the expense of making constraints harder to enfor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986-9A3B-49C9-9BA4-4773DF5479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F038A-9B6E-4D96-B00E-408CB66F83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rving Depend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Projection of set of FDs F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 is decomposed into X and Y the projection of F on X  (denoted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66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is the set of FDs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V in F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losure of F , not just 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all of the attributes 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U, V are in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same holds for Y of cour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of R into X and Y is 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dependenc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preser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(F</a:t>
            </a:r>
            <a:r>
              <a:rPr b="0" lang="en-US" sz="2800" spc="-1" strike="noStrike" baseline="-25000">
                <a:solidFill>
                  <a:srgbClr val="66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99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F</a:t>
            </a:r>
            <a:r>
              <a:rPr b="0" lang="en-US" sz="2800" spc="-1" strike="noStrike" baseline="-25000">
                <a:solidFill>
                  <a:srgbClr val="669999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) 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+ 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=  F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.e., if we consider only dependencies in the closure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can be checked in X without considering Y, and in Y without considering X,  these imply all dependencies in F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EE3-9C69-42ED-AFD2-622832567A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36A22-E278-4DD0-B19B-62068BC9D9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midterm questions are posted at the class websi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pick up an answering key for homework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A70-5409-4603-8092-FC871A42B3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EE6FD-0D1D-4412-A20A-D3DEE9D271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to consider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669999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is 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 = ABC,  F = {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,  B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,  C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 is decomposed into AB and B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this dependency preserving?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 C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 preserved????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and  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 and 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, (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391-AE8A-4743-B26D-9CB0E85F3F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A92F7-DCEA-4FA8-9614-EA6C6C40AE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Preserving FD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way to view lossless join: we lost one (or more) key F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4684680"/>
            <a:ext cx="1295280" cy="0"/>
          </a:xfrm>
          <a:prstGeom prst="line">
            <a:avLst/>
          </a:prstGeom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133720" y="2984400"/>
            <a:ext cx="259056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2971800"/>
            <a:ext cx="190512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8120" y="1828800"/>
          <a:ext cx="3076560" cy="111132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066680" y="3308400"/>
          <a:ext cx="2210040" cy="111132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562720" y="3308400"/>
          <a:ext cx="2209680" cy="111132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819520" y="3809880"/>
            <a:ext cx="3504960" cy="380880"/>
            <a:chOff x="2819520" y="3809880"/>
            <a:chExt cx="3504960" cy="380880"/>
          </a:xfrm>
        </p:grpSpPr>
        <p:sp>
          <p:nvSpPr>
            <p:cNvPr id="195" name=""/>
            <p:cNvSpPr/>
            <p:nvPr/>
          </p:nvSpPr>
          <p:spPr>
            <a:xfrm>
              <a:off x="2819520" y="3809880"/>
              <a:ext cx="3428640" cy="3808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819520" y="3886200"/>
              <a:ext cx="3504960" cy="3045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3809880"/>
            <a:ext cx="3581280" cy="380880"/>
            <a:chOff x="2743200" y="3809880"/>
            <a:chExt cx="3581280" cy="380880"/>
          </a:xfrm>
        </p:grpSpPr>
        <p:sp>
          <p:nvSpPr>
            <p:cNvPr id="198" name=""/>
            <p:cNvSpPr/>
            <p:nvPr/>
          </p:nvSpPr>
          <p:spPr>
            <a:xfrm>
              <a:off x="2743200" y="3809880"/>
              <a:ext cx="3581280" cy="763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4190760"/>
              <a:ext cx="3504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0" name=""/>
          <p:cNvGraphicFramePr/>
          <p:nvPr/>
        </p:nvGraphicFramePr>
        <p:xfrm>
          <a:off x="3048120" y="4876920"/>
          <a:ext cx="3076560" cy="182556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133720" y="4419720"/>
            <a:ext cx="4495320" cy="457200"/>
            <a:chOff x="2133720" y="4419720"/>
            <a:chExt cx="4495320" cy="457200"/>
          </a:xfrm>
        </p:grpSpPr>
        <p:sp>
          <p:nvSpPr>
            <p:cNvPr id="202" name=""/>
            <p:cNvSpPr/>
            <p:nvPr/>
          </p:nvSpPr>
          <p:spPr>
            <a:xfrm>
              <a:off x="2133720" y="4419720"/>
              <a:ext cx="259056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647960" y="4419720"/>
              <a:ext cx="198108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324480" y="51814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D, PID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983-C768-435D-BEF4-7ACAFDF0E5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C7ADD-A90F-4CB3-AD73-42EB57238D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cy-preserving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all functional dependency and at least one key during natural joi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F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a set of join-lossless, dep.-pres.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for each FD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, create a relation R’ = 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if there is no key included in any of the created relations, add a relation with a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remove all relations R’ which is a subset of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l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less-Join, Dep. Pres. Decom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378-9065-43AF-B2F9-56E6B5A9D6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7C7E1-75B8-4424-BBE7-22288C1D18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BCDEF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s: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 AC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,  E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is decomposed i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B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CDE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EFG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key ye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ACD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43E-C6CC-41AE-B654-5D71E08CE45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E0F23-B088-47C9-A3CC-7C11896701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1(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, zip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ddress2(zip, 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ar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ddress1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ddress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8B5-6C93-4F25-A7E6-84D06BA5E1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9A1F9-0EFD-47F4-BE0C-EF46CBA379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Third Normal Form (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3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for every non-trivial FD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ingle attribute),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superke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member of at least one ke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uitively, BCNF decomposition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ould “break” the key contain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85800" y="3809880"/>
            <a:ext cx="1736640" cy="409680"/>
            <a:chOff x="685800" y="3809880"/>
            <a:chExt cx="1736640" cy="409680"/>
          </a:xfrm>
        </p:grpSpPr>
        <p:sp>
          <p:nvSpPr>
            <p:cNvPr id="214" name=""/>
            <p:cNvSpPr/>
            <p:nvPr/>
          </p:nvSpPr>
          <p:spPr>
            <a:xfrm>
              <a:off x="685800" y="3876480"/>
              <a:ext cx="762120" cy="34308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9240" y="3946320"/>
              <a:ext cx="466920" cy="20304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71560" y="3917880"/>
              <a:ext cx="6508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12840" y="3809880"/>
              <a:ext cx="692280" cy="168120"/>
            </a:xfrm>
            <a:custGeom>
              <a:avLst/>
              <a:gdLst/>
              <a:ahLst/>
              <a:rect l="l" t="t" r="r" b="b"/>
              <a:pathLst>
                <a:path w="448" h="132">
                  <a:moveTo>
                    <a:pt x="0" y="132"/>
                  </a:moveTo>
                  <a:cubicBezTo>
                    <a:pt x="36" y="76"/>
                    <a:pt x="72" y="20"/>
                    <a:pt x="147" y="10"/>
                  </a:cubicBezTo>
                  <a:cubicBezTo>
                    <a:pt x="222" y="0"/>
                    <a:pt x="335" y="37"/>
                    <a:pt x="448" y="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352680" y="3657600"/>
            <a:ext cx="1736640" cy="507960"/>
            <a:chOff x="3352680" y="3657600"/>
            <a:chExt cx="1736640" cy="507960"/>
          </a:xfrm>
        </p:grpSpPr>
        <p:sp>
          <p:nvSpPr>
            <p:cNvPr id="219" name=""/>
            <p:cNvSpPr/>
            <p:nvPr/>
          </p:nvSpPr>
          <p:spPr>
            <a:xfrm>
              <a:off x="3352680" y="3822480"/>
              <a:ext cx="761760" cy="34308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92320" y="3902040"/>
              <a:ext cx="466560" cy="20304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38440" y="3863880"/>
              <a:ext cx="6508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17760" y="3755880"/>
              <a:ext cx="353880" cy="181080"/>
            </a:xfrm>
            <a:custGeom>
              <a:avLst/>
              <a:gdLst/>
              <a:ahLst/>
              <a:rect l="l" t="t" r="r" b="b"/>
              <a:pathLst>
                <a:path w="448" h="132">
                  <a:moveTo>
                    <a:pt x="0" y="132"/>
                  </a:moveTo>
                  <a:cubicBezTo>
                    <a:pt x="36" y="76"/>
                    <a:pt x="72" y="20"/>
                    <a:pt x="147" y="10"/>
                  </a:cubicBezTo>
                  <a:cubicBezTo>
                    <a:pt x="222" y="0"/>
                    <a:pt x="335" y="37"/>
                    <a:pt x="448" y="7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86040" y="3657600"/>
              <a:ext cx="406440" cy="236520"/>
            </a:xfrm>
            <a:custGeom>
              <a:avLst/>
              <a:gdLst/>
              <a:ahLst/>
              <a:rect l="l" t="t" r="r" b="b"/>
              <a:pathLst>
                <a:path w="256" h="149">
                  <a:moveTo>
                    <a:pt x="0" y="98"/>
                  </a:moveTo>
                  <a:cubicBezTo>
                    <a:pt x="58" y="49"/>
                    <a:pt x="117" y="0"/>
                    <a:pt x="160" y="8"/>
                  </a:cubicBezTo>
                  <a:cubicBezTo>
                    <a:pt x="203" y="16"/>
                    <a:pt x="229" y="82"/>
                    <a:pt x="256" y="14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48520" y="3657600"/>
            <a:ext cx="1565280" cy="709560"/>
            <a:chOff x="6248520" y="3657600"/>
            <a:chExt cx="1565280" cy="709560"/>
          </a:xfrm>
        </p:grpSpPr>
        <p:sp>
          <p:nvSpPr>
            <p:cNvPr id="225" name=""/>
            <p:cNvSpPr/>
            <p:nvPr/>
          </p:nvSpPr>
          <p:spPr>
            <a:xfrm>
              <a:off x="6248520" y="3875040"/>
              <a:ext cx="762120" cy="342720"/>
            </a:xfrm>
            <a:prstGeom prst="ellipse">
              <a:avLst/>
            </a:prstGeom>
            <a:solidFill>
              <a:srgbClr val="fccd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47240" y="4005000"/>
              <a:ext cx="466560" cy="20340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8080" y="3946320"/>
              <a:ext cx="650880" cy="19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4200" y="3657600"/>
              <a:ext cx="954000" cy="349200"/>
            </a:xfrm>
            <a:custGeom>
              <a:avLst/>
              <a:gdLst/>
              <a:ahLst/>
              <a:rect l="l" t="t" r="r" b="b"/>
              <a:pathLst>
                <a:path w="601" h="220">
                  <a:moveTo>
                    <a:pt x="0" y="131"/>
                  </a:moveTo>
                  <a:cubicBezTo>
                    <a:pt x="110" y="65"/>
                    <a:pt x="220" y="0"/>
                    <a:pt x="320" y="15"/>
                  </a:cubicBezTo>
                  <a:cubicBezTo>
                    <a:pt x="420" y="30"/>
                    <a:pt x="510" y="125"/>
                    <a:pt x="601" y="2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26240" y="4128840"/>
              <a:ext cx="781200" cy="238320"/>
            </a:xfrm>
            <a:custGeom>
              <a:avLst/>
              <a:gdLst/>
              <a:ahLst/>
              <a:rect l="l" t="t" r="r" b="b"/>
              <a:pathLst>
                <a:path w="492" h="150">
                  <a:moveTo>
                    <a:pt x="492" y="51"/>
                  </a:moveTo>
                  <a:cubicBezTo>
                    <a:pt x="354" y="100"/>
                    <a:pt x="216" y="150"/>
                    <a:pt x="134" y="141"/>
                  </a:cubicBezTo>
                  <a:cubicBezTo>
                    <a:pt x="52" y="132"/>
                    <a:pt x="26" y="66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33520" y="44197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464832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441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ve dependenc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4419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ve dependency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464832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6019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N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N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248520" y="4266720"/>
            <a:ext cx="1600200" cy="686160"/>
            <a:chOff x="6248520" y="4266720"/>
            <a:chExt cx="1600200" cy="686160"/>
          </a:xfrm>
        </p:grpSpPr>
        <p:sp>
          <p:nvSpPr>
            <p:cNvPr id="237" name=""/>
            <p:cNvSpPr/>
            <p:nvPr/>
          </p:nvSpPr>
          <p:spPr>
            <a:xfrm>
              <a:off x="6248520" y="4571640"/>
              <a:ext cx="304560" cy="3812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553080" y="4266720"/>
              <a:ext cx="1295640" cy="685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9480" y="5181480"/>
            <a:ext cx="19051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562720"/>
            <a:ext cx="4724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5867280"/>
            <a:ext cx="7696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5653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88B-15CB-4C75-9B92-AB66B7C8EE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15EF6-CD84-4003-AC74-3E590452E5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about 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3N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ans a set of attributes participate at least one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of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enforce all original FD’s on individual decomposed re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ight have some redundancy due to FD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1600200"/>
            <a:ext cx="3352680" cy="380880"/>
          </a:xfrm>
          <a:prstGeom prst="rect">
            <a:avLst/>
          </a:prstGeom>
          <a:solidFill>
            <a:srgbClr val="cccc00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2133720"/>
            <a:ext cx="685800" cy="380880"/>
          </a:xfrm>
          <a:prstGeom prst="rect">
            <a:avLst/>
          </a:prstGeom>
          <a:solidFill>
            <a:srgbClr val="cccc00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3124080"/>
            <a:ext cx="685800" cy="381240"/>
          </a:xfrm>
          <a:prstGeom prst="rect">
            <a:avLst/>
          </a:prstGeom>
          <a:solidFill>
            <a:srgbClr val="cccc00">
              <a:alpha val="2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D95-EE0C-44C0-9B32-E7950553FF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ACDB7-2C95-4B9F-85E1-2378375D2A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l Cover for a Set of F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Minimal cover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 for a set of FDs 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osure of F  =  closure of 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ight hand side of each FD in G is a single attribu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we modify G by deleting an FD or by deleting attributes from an FD in G, the closure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, every FD in G is needed, and ``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as small as pos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 in order to get the same closure as 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,  ABC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,  E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H,  ACD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G has the following minimal 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,  AC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,  E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  and  E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cy-preserving 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 a rel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 set of F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a set of join-lossless, dep.-pres. relations in 3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compute a minimal c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of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combine all FD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…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single FD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 for each FD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, create a relation R’ = 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: if there is no key included in any of the created relations add a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5: remove all relations R’ which is a subset of 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Cover implie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-Join, Dep. Pres. Decomp in 3NF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in EN 11.2.3, p. 38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66A-874C-4198-A87E-6353E16C36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35D7B-445B-477A-A337-B4B3344452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NF = no redundanc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se your classes have nothing to do with the clubs you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D’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CNF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ndancie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343400" y="3352680"/>
          <a:ext cx="3076560" cy="184176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31E-5653-4962-BB08-3D509857CA9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CD7CD-74CB-4830-B3BA-3AEA97C859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“determines”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rows agree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y must agree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eneralization of the key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743200" y="3505320"/>
          <a:ext cx="2455920" cy="18284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733920" y="4800600"/>
            <a:ext cx="53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543-3AB9-4292-B672-8216C88A49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C6D50-183B-4286-91D1-C9671A2530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valued dependen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ultivalued depend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V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s the form</a:t>
            </a:r>
            <a:br>
              <a:rPr sz="2800"/>
            </a:b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sets of attributes i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hat whenever two row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ree on all the attribu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we can swap thei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s and get two new rows that are also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438280" y="3886200"/>
          <a:ext cx="3076560" cy="111096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2438280" y="3886200"/>
          <a:ext cx="30765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5715000" y="5105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t in the relation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BB6-A2A3-43ED-BD97-038A3658DE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0787A-AC58-4824-A2D7-C24C1859BC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D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uition: giv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club are “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indepen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rivial: LHS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RHS = all attributes of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rivial: LHS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¶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RH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 when two independent 1:N relations AB, AC are mixed together in R=ABC, a MVD may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211-3604-4BA8-8B7D-32ED0994EEC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58769-5762-4254-AECB-3153D4FE7E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MVD + FD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FD reflexivity, augmentation, and tra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VD comple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VD aug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VD tra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Replication (FD is MV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Coalesc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re is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joint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3120" y="5562720"/>
            <a:ext cx="46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Try proving things using the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C04-87D7-4C66-97BD-339F8B8386E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B2123-0EFA-45A5-9BB8-B3DD07E984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ourth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4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For every non-trivial MV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s a super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ll FD’s and MVD’s follow from “ke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ther attributes” (i.e., no MVD’s, and no FD’s besides key functional dependenc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NF is stronger than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cause every FD is also a MV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DB2-C39F-493F-A3A3-C16A37C5A10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88692-346C-4000-853E-2C5C2CF264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F decomposition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4NF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non-trivial MVD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dbsym"/>
                <a:ea typeface="dbsym"/>
              </a:rPr>
              <a:t>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 super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tains attributes not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until all relations are in 4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identical to BCNF decomposi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decomposition on a 4NF violation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B3B-46BE-4EFE-B9ED-38C5E929A80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3CAA6-ED66-4AEA-8C7E-F5999B9119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NF decomposi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52640" y="2362320"/>
            <a:ext cx="3825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14800" y="2854440"/>
            <a:ext cx="7423200" cy="1788840"/>
            <a:chOff x="1414800" y="2854440"/>
            <a:chExt cx="7423200" cy="1788840"/>
          </a:xfrm>
        </p:grpSpPr>
        <p:sp>
          <p:nvSpPr>
            <p:cNvPr id="276" name=""/>
            <p:cNvSpPr/>
            <p:nvPr/>
          </p:nvSpPr>
          <p:spPr>
            <a:xfrm>
              <a:off x="3179160" y="2854440"/>
              <a:ext cx="3954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4NF violation: </a:t>
              </a:r>
              <a:r>
                <a:rPr b="0" i="1" lang="en-US" sz="2800" spc="-1" strike="noStrike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lang="en-US" sz="2800" spc="-1" strike="noStrike">
                  <a:solidFill>
                    <a:srgbClr val="330066"/>
                  </a:solidFill>
                  <a:latin typeface="dbsym"/>
                  <a:ea typeface="dbsym"/>
                </a:rPr>
                <a:t></a:t>
              </a: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i="1" lang="en-US" sz="2800" spc="-1" strike="noStrike">
                  <a:solidFill>
                    <a:srgbClr val="330066"/>
                  </a:solidFill>
                  <a:latin typeface="AmeriGarmnd BT"/>
                </a:rPr>
                <a:t>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14800" y="3743280"/>
              <a:ext cx="2677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74160" y="3743280"/>
              <a:ext cx="24638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Join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lu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742480" y="3295800"/>
              <a:ext cx="1981080" cy="361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02640" y="412272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4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20720" y="412272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4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6040" y="3295800"/>
              <a:ext cx="1981080" cy="3618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228600" y="1295280"/>
          <a:ext cx="2847960" cy="1724040"/>
        </p:xfrm>
        <a:graphic>
          <a:graphicData uri="http://schemas.openxmlformats.org/drawingml/2006/table">
            <a:tbl>
              <a:tblPr/>
              <a:tblGrid>
                <a:gridCol w="977760"/>
                <a:gridCol w="1067040"/>
                <a:gridCol w="8031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219320" y="4800600"/>
          <a:ext cx="2044440" cy="1004760"/>
        </p:xfrm>
        <a:graphic>
          <a:graphicData uri="http://schemas.openxmlformats.org/drawingml/2006/table">
            <a:tbl>
              <a:tblPr/>
              <a:tblGrid>
                <a:gridCol w="97776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6781680" y="4724280"/>
          <a:ext cx="1781280" cy="1051200"/>
        </p:xfrm>
        <a:graphic>
          <a:graphicData uri="http://schemas.openxmlformats.org/drawingml/2006/table">
            <a:tbl>
              <a:tblPr/>
              <a:tblGrid>
                <a:gridCol w="978120"/>
                <a:gridCol w="803160"/>
              </a:tblGrid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9D5-D213-4206-B832-A59DD1E0756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36B6A-EE5C-4177-AC95-B4C5DE9DC0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NF, BCNF, 4NF, and beyo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3478320"/>
            <a:ext cx="861048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historical inte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NF: All column values must be atom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NF: Slightly more relaxed than 3N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8600" y="1295280"/>
          <a:ext cx="8686800" cy="1827360"/>
        </p:xfrm>
        <a:graphic>
          <a:graphicData uri="http://schemas.openxmlformats.org/drawingml/2006/table">
            <a:tbl>
              <a:tblPr/>
              <a:tblGrid>
                <a:gridCol w="4114800"/>
                <a:gridCol w="1523880"/>
                <a:gridCol w="1524240"/>
                <a:gridCol w="1523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maly/normal 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3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BC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4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Lose FD’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Redundancy due to FD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Redundancy due to MVD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42C-50A8-47D2-B141-DB8FE8F9B8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1A32C-2D77-4A42-9E53-4B2589CAFF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BCNF, 4NF: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ata should depend on the key, the whole key, and nothing but the ke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behind 3NF: 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 But not at the expense of more expensive constraint enforc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3B2-AB22-4130-98CC-D3291E3E87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A8064-A52B-40D5-9478-D549F2AF5C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N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reate join lossless decom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nary decomposition with foreign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-nary decomposition with FD preserving and a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FD preserving decomposi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ach FD, create a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 cover of FD guarantees 3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2B1-157E-41BE-9415-AC13639DC76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63B22-73A6-4739-B2A4-170BF25150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738d74"/>
                </a:solidFill>
                <a:latin typeface="Times New Roman"/>
              </a:rPr>
              <a:t>non-key F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functional dependencies represent a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01880" y="2743200"/>
          <a:ext cx="2455920" cy="1828440"/>
        </p:xfrm>
        <a:graphic>
          <a:graphicData uri="http://schemas.openxmlformats.org/drawingml/2006/table">
            <a:tbl>
              <a:tblPr/>
              <a:tblGrid>
                <a:gridCol w="819360"/>
                <a:gridCol w="817560"/>
                <a:gridCol w="81900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801880" y="2743200"/>
          <a:ext cx="2455920" cy="2438280"/>
        </p:xfrm>
        <a:graphic>
          <a:graphicData uri="http://schemas.openxmlformats.org/drawingml/2006/table">
            <a:tbl>
              <a:tblPr/>
              <a:tblGrid>
                <a:gridCol w="819000"/>
                <a:gridCol w="817560"/>
                <a:gridCol w="819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801880" y="2743200"/>
          <a:ext cx="2455920" cy="3048120"/>
        </p:xfrm>
        <a:graphic>
          <a:graphicData uri="http://schemas.openxmlformats.org/drawingml/2006/table">
            <a:tbl>
              <a:tblPr/>
              <a:tblGrid>
                <a:gridCol w="819000"/>
                <a:gridCol w="817560"/>
                <a:gridCol w="819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2954160" y="5715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57800"/>
            <a:ext cx="5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C20-9068-4710-B834-790B722595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6DC8B-35AD-4D85-9799-8BC2543571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eal with non-key F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“broken down” to a set of relation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ch tha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= att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less 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cy preservation join (we are going to discuss this to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21D-AFEA-4387-B070-A932D70757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11337-123A-410A-AFCB-22DD3DF13F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lossless joi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 =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nature join, we can restore the data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451-4BB4-45CE-8753-DD47EBAD94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30D9B-5D1C-4C2B-904F-5363093B13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is a lossless jo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Sid, Sname, Cid, Cna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Si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name, Ci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na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Sid, Sname)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Cid, Cna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95280" y="3048120"/>
          <a:ext cx="5791320" cy="1825560"/>
        </p:xfrm>
        <a:graphic>
          <a:graphicData uri="http://schemas.openxmlformats.org/drawingml/2006/table">
            <a:tbl>
              <a:tblPr/>
              <a:tblGrid>
                <a:gridCol w="1090440"/>
                <a:gridCol w="1805040"/>
                <a:gridCol w="1371600"/>
                <a:gridCol w="152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520" y="5257800"/>
          <a:ext cx="2361960" cy="1095120"/>
        </p:xfrm>
        <a:graphic>
          <a:graphicData uri="http://schemas.openxmlformats.org/drawingml/2006/table">
            <a:tbl>
              <a:tblPr/>
              <a:tblGrid>
                <a:gridCol w="804960"/>
                <a:gridCol w="1557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095880" y="5257800"/>
          <a:ext cx="2385720" cy="1095480"/>
        </p:xfrm>
        <a:graphic>
          <a:graphicData uri="http://schemas.openxmlformats.org/drawingml/2006/table">
            <a:tbl>
              <a:tblPr/>
              <a:tblGrid>
                <a:gridCol w="914400"/>
                <a:gridCol w="1471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1600200" y="4876920"/>
            <a:ext cx="5409720" cy="380880"/>
            <a:chOff x="1600200" y="4876920"/>
            <a:chExt cx="5409720" cy="380880"/>
          </a:xfrm>
        </p:grpSpPr>
        <p:sp>
          <p:nvSpPr>
            <p:cNvPr id="117" name=""/>
            <p:cNvSpPr/>
            <p:nvPr/>
          </p:nvSpPr>
          <p:spPr>
            <a:xfrm flipH="1">
              <a:off x="1600200" y="4876920"/>
              <a:ext cx="266688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90760" y="4876920"/>
              <a:ext cx="281916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D6E-F428-4F4A-A638-C5D8DCB3AB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20476-5129-4EB0-83D7-5CD357221B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achieve a lossless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eign key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bination of attribut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s a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bination of attribute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is a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01E-A146-41DA-901B-E1FFF33880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1CE41-C4EA-47C6-85E9-32EE552B86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foreign key mechanism guarantees a lossless jo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ll, thinking about the following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81080" y="2666880"/>
          <a:ext cx="373392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60958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4920" y="3886200"/>
            <a:ext cx="5410800" cy="380880"/>
            <a:chOff x="1294920" y="3886200"/>
            <a:chExt cx="5410800" cy="380880"/>
          </a:xfrm>
        </p:grpSpPr>
        <p:sp>
          <p:nvSpPr>
            <p:cNvPr id="126" name=""/>
            <p:cNvSpPr/>
            <p:nvPr/>
          </p:nvSpPr>
          <p:spPr>
            <a:xfrm flipH="1">
              <a:off x="1294920" y="3886200"/>
              <a:ext cx="266724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3886200"/>
              <a:ext cx="2819520" cy="380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533520" y="4343400"/>
          <a:ext cx="2361960" cy="730080"/>
        </p:xfrm>
        <a:graphic>
          <a:graphicData uri="http://schemas.openxmlformats.org/drawingml/2006/table">
            <a:tbl>
              <a:tblPr/>
              <a:tblGrid>
                <a:gridCol w="804600"/>
                <a:gridCol w="155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38680" y="4343400"/>
          <a:ext cx="2361960" cy="1095480"/>
        </p:xfrm>
        <a:graphic>
          <a:graphicData uri="http://schemas.openxmlformats.org/drawingml/2006/table">
            <a:tbl>
              <a:tblPr/>
              <a:tblGrid>
                <a:gridCol w="804600"/>
                <a:gridCol w="1557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9AD-4D5E-4964-853E-08410838FE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114E0-CCA9-43D6-B975-26EBEB5E79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07T16:49:46Z</dcterms:modified>
  <cp:revision>1441</cp:revision>
  <dc:subject/>
  <dc:title>CS186: Introduction to Database Systems</dc:title>
</cp:coreProperties>
</file>