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927F90-9B4A-48E6-84F5-8728EA8A6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B78444-1FD5-4E09-AF27-E9D582F1F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BEEDE4-D20B-4254-89F6-3C4E4EFE1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28D2B8-85EC-48ED-A716-4E5A8407E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916843-2136-4461-9D57-8D3AA8263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B0B6CD-D0A8-48A5-B7E4-E9C5D6E22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4B1F2-5FA7-49FF-A3D2-0ABF1B0D4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DA77B9-5846-44F2-BAC0-95E2FCD17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3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B903C3-73B2-4584-BE06-EB1485E29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1812D8-01E6-40E1-8769-944DFE065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A4D266-6821-46CA-ACF3-5EF326614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242FF7-15A1-4348-960D-B6F0F8EC7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63637E-6EB2-4531-A66B-CDF0A29DA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BC57F4-C4D2-4695-A799-E650A9A79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12F59B-D5A0-49BD-BDC1-0F2B636DB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8783B-E721-44FB-810F-B73B47667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8F074F-5004-4D09-894D-4AF3AEFC8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414005-2D4A-4DAB-A0AF-148E9167A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9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874A7-7165-4E60-91B8-708153C15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19CDD9-C3AC-4865-B831-71CD4F5A5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3F9FD5-9EF0-44FE-8389-D2F1531A0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BBD791-639C-46C6-B267-A4AF1D910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3C06B4-0412-42B2-843E-8FB201005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EB1538-AE49-4115-9095-5EF5E32865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394-9317-4B60-ADF2-B7BC409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795-EBA1-4F82-B09A-351AD1C2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981-C593-43A0-AE78-7DF6BB09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B3F-7CB7-4077-8060-47013FEB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9C4-C147-44B9-81D9-6FB1DDA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1D6-0855-4D4E-84B1-BAD3DFC1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DCA-A67F-44B1-818A-A427F2F0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3E7-DFCC-4DA4-A639-AB31FE56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7AE-AC98-4859-B253-D26D427A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A21-389C-4B80-A2F9-A7DF57E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C01-B6D8-4AFC-8111-374CB135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70E-65D0-4B01-9BF8-82769B38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971-97D9-42AB-80B9-FE26E273294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AC69-1746-49CF-A5F1-00FBDFDCE0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p o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and Index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BED-4763-478E-B322-ABC60F8F55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6CE2C-B8FD-44F1-90EB-D0EDF6CC55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C52-5B12-4285-B221-409DD8439A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EE257-3B60-4416-A5FC-9F5F649E5F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5AE-E78A-470F-91FA-229772060D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EA05-C197-4B89-B2BC-972C993834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9CD-3491-4CFF-B0EB-66B8110FAF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3CE82-CD32-4A5B-B953-83D250D289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C58-B1D1-4AAF-8C8D-1311DDB225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EE7A7-F1E8-495E-A834-CEC1CE5755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indexing subgraph sear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EA8-F470-4FE5-A10A-2805F9D12D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98C76-5EDD-483D-B1C8-5E5CA1DE81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and Data Fil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file vs.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dex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62120" y="1905120"/>
            <a:ext cx="7045560" cy="2091960"/>
            <a:chOff x="762120" y="1905120"/>
            <a:chExt cx="7045560" cy="2091960"/>
          </a:xfrm>
        </p:grpSpPr>
        <p:sp>
          <p:nvSpPr>
            <p:cNvPr id="752" name=""/>
            <p:cNvSpPr/>
            <p:nvPr/>
          </p:nvSpPr>
          <p:spPr>
            <a:xfrm>
              <a:off x="202212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35268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03000" y="2080440"/>
              <a:ext cx="110880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2212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5268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3000" y="3167280"/>
              <a:ext cx="110880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2652480"/>
              <a:ext cx="1108440" cy="619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4400" y="26881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56480" y="2173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0800" y="2173320"/>
              <a:ext cx="6318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66800" y="21718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8736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900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38080" y="320184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7640" y="2362680"/>
              <a:ext cx="111996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560000">
              <a:off x="1760760" y="2151000"/>
              <a:ext cx="91476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584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278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085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836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590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284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584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2788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85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36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8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59000" y="3659760"/>
              <a:ext cx="76968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3240000">
              <a:off x="1690920" y="3069360"/>
              <a:ext cx="914760" cy="70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26400" y="2991240"/>
              <a:ext cx="1119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53720" y="331632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57320" y="223020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091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6637680" y="2075400"/>
              <a:ext cx="209880" cy="114120"/>
              <a:chOff x="6637680" y="2075400"/>
              <a:chExt cx="209880" cy="114120"/>
            </a:xfrm>
          </p:grpSpPr>
          <p:sp>
            <p:nvSpPr>
              <p:cNvPr id="786" name=""/>
              <p:cNvSpPr/>
              <p:nvPr/>
            </p:nvSpPr>
            <p:spPr>
              <a:xfrm>
                <a:off x="6637680" y="20754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72600" y="2132640"/>
                <a:ext cx="140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7520" y="21895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567840" y="3162600"/>
              <a:ext cx="209880" cy="114120"/>
              <a:chOff x="6567840" y="3162600"/>
              <a:chExt cx="209880" cy="114120"/>
            </a:xfrm>
          </p:grpSpPr>
          <p:sp>
            <p:nvSpPr>
              <p:cNvPr id="790" name=""/>
              <p:cNvSpPr/>
              <p:nvPr/>
            </p:nvSpPr>
            <p:spPr>
              <a:xfrm>
                <a:off x="6567840" y="31626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02760" y="3219480"/>
                <a:ext cx="13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37320" y="32767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59389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054240" y="554688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45720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5720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44863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65680" y="4524480"/>
            <a:ext cx="98280" cy="4896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37000" y="5805360"/>
            <a:ext cx="46800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0356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03560" y="594360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084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382920" y="58053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068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62440" y="5527800"/>
            <a:ext cx="18864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2440" y="573264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14760" y="552780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97120" y="573084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41840" y="58053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000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6732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7920" y="552780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18240" y="573264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E81-AC69-4E4A-8DD7-894E57470A8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2C8A0-57AC-4459-80C3-E932E2A8A6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s for Data Entry in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Primary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Secondary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ing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multiple (different) indexes per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 Employee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, name, age, 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niqu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non-key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may (or not) sort the fi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a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 (prim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 (second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 (secondary)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23C-FEE4-4D68-842A-1E28FDD5D2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D8921-6ABB-4639-8204-06FFD01D8E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51818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for primary key: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bid of sorted data records&gt;</a:t>
            </a: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is sorted according to the primary k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record in each block is called the anchor record and is used to build the inde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 the thing goes the other way around (called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ee based sor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5334120"/>
            <a:ext cx="221004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8226" t="64910" r="69103" b="0"/>
          <a:stretch/>
        </p:blipFill>
        <p:spPr>
          <a:xfrm>
            <a:off x="4748040" y="3581280"/>
            <a:ext cx="1952640" cy="16462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5104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7952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0656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368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6532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9236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2120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136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1136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928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8592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244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9376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6068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60680" y="5259240"/>
            <a:ext cx="28080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6516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4004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066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0660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6392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192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51920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71880" y="48434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5424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9896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6712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671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4468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7500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66880" y="5334120"/>
            <a:ext cx="428400" cy="61884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6688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423440" y="5334120"/>
            <a:ext cx="82440" cy="60948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04400" y="5334120"/>
            <a:ext cx="82440" cy="61884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6848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0" y="5334120"/>
            <a:ext cx="152280" cy="60948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9868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5334120"/>
            <a:ext cx="228600" cy="60948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42900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05320" y="5257800"/>
            <a:ext cx="609480" cy="6858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204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3809880"/>
            <a:ext cx="1600200" cy="609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2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rid of matching data record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to maintain (do not need to sort the data fi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candidate key of the relation, e.g. uniqu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RID of the record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Block#, slot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01800" y="623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80960" y="611676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36720" y="6116760"/>
            <a:ext cx="34452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95360" y="6116760"/>
            <a:ext cx="33840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1120" y="6116760"/>
            <a:ext cx="33984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05080" y="6116760"/>
            <a:ext cx="34632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6608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80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36880" y="4948200"/>
            <a:ext cx="149040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36880" y="3902040"/>
            <a:ext cx="78552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820960" y="390204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30440" y="3809880"/>
            <a:ext cx="291960" cy="9396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39960" y="3851280"/>
            <a:ext cx="8244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77960" y="5229360"/>
            <a:ext cx="40500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1160" y="535608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81160" y="5380200"/>
            <a:ext cx="24120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25756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2092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2268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7226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62360" y="53560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6056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60560" y="515304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21080" y="493236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06680" y="515160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0668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688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068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341520" y="53560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4952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59320" y="515304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17560" y="557532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74880" y="599436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33520" y="557532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33520" y="604980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6720" y="557532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8560" y="60595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36560" y="557532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36560" y="5999040"/>
            <a:ext cx="5256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60560" y="557532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00480" y="6031080"/>
            <a:ext cx="6804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17560" y="557532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717560" y="601488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557532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46480" y="60339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557532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438280" y="604188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63920" y="557532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828880" y="600084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557532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65320" y="6059520"/>
            <a:ext cx="5904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68680" y="557532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40120" y="60483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49520" y="5575320"/>
            <a:ext cx="24156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49520" y="599760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8880" y="5575320"/>
            <a:ext cx="180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11600" y="6045120"/>
            <a:ext cx="3636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120" y="526716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20840" y="413712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29200" y="5257800"/>
            <a:ext cx="220968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095880" y="4267080"/>
            <a:ext cx="2095560" cy="14479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28600" y="6126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562720"/>
            <a:ext cx="2590920" cy="304560"/>
          </a:xfrm>
          <a:prstGeom prst="rect">
            <a:avLst/>
          </a:prstGeom>
          <a:solidFill>
            <a:srgbClr val="d4d2b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as ass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een reserved at the engineer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al source for discussions about index structure in databas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0C9-6B8F-4467-927D-2A2174E4CA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5CDA8-FD68-48D7-BAE6-A6DD04B76D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3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list of rids of matching data record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need to sort the dat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non-key attribut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BID of the first RID that is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29200" y="5257800"/>
            <a:ext cx="2209680" cy="106668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2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095880" y="4267080"/>
            <a:ext cx="2095560" cy="9907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40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7324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700280" y="607212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3056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59040" y="607212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8608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14920" y="607212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05080" y="499104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405080" y="4016520"/>
            <a:ext cx="90936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13000" y="401652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79640" y="3930480"/>
            <a:ext cx="33480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216160" y="396864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8748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54040" y="536904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54040" y="538812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588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340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0032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0032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572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1292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2920" y="517680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65240" y="497196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7960" y="517536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92320" y="5249880"/>
            <a:ext cx="46692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60840" y="53690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6084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91780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03840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68720" y="517680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240" y="557208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0240" y="601020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1720" y="557208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1720" y="60069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9960" y="5572080"/>
            <a:ext cx="18864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39960" y="6005520"/>
            <a:ext cx="4572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74680" y="557208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95560" y="6005520"/>
            <a:ext cx="3780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81280" y="5572080"/>
            <a:ext cx="144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762200" y="600696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25560" y="5572080"/>
            <a:ext cx="4932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47880" y="600552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73080" y="5572080"/>
            <a:ext cx="9396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35000" y="600408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919160" y="5572080"/>
            <a:ext cx="14148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021040" y="600408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38400" y="557208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40160" y="6013440"/>
            <a:ext cx="6660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2000" y="557208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578400" y="6014880"/>
            <a:ext cx="68040" cy="6696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73480" y="5572080"/>
            <a:ext cx="55872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763800" y="601668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411360" y="557208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49560" y="601812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598200" y="404820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97480" y="524520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98920" y="434016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45760" y="419112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s.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rder of data records is the same as, or `close to’, order of index data entries, then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ile can be clustered on at most one search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retrieving data records through index var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whether index is clustered or no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447920" y="1600200"/>
          <a:ext cx="6095880" cy="4043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e (D)/Sparse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 (C) or not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583-73AE-4D39-8B66-B4D6FEBBFE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F4326-531C-47D8-90A3-2E32CC2CEC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193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that clustering index is used for data entries, and that the data records are stored in a Heap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uild clustering index, first sort the Heap file (with some free space on each block for future inserts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flow blocks may be needed for inserts.  (Thus, order of data recds is `close to’, but not identical to, the sort order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16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8096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33668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6696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39544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2248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5132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04148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04148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94940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61604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85256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2388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090440" y="524016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90440" y="5259240"/>
            <a:ext cx="28116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370160" y="5121360"/>
            <a:ext cx="46800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3672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8367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99404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94932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94932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601640" y="484344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8436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2908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39724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39724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542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6748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0512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97000" y="5443560"/>
            <a:ext cx="374400" cy="50940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700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38120" y="5443560"/>
            <a:ext cx="281160" cy="50940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38120" y="58784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76360" y="5443560"/>
            <a:ext cx="188640" cy="50940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6360" y="5877000"/>
            <a:ext cx="46080" cy="7596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11080" y="5443560"/>
            <a:ext cx="47880" cy="50940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3196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417680" y="5443560"/>
            <a:ext cx="1440" cy="50940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39860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461960" y="5443560"/>
            <a:ext cx="49320" cy="50940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484280" y="5877000"/>
            <a:ext cx="39600" cy="7596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509840" y="5443560"/>
            <a:ext cx="93600" cy="50940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571760" y="5875200"/>
            <a:ext cx="3780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555920" y="5443560"/>
            <a:ext cx="141120" cy="50940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65744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5443560"/>
            <a:ext cx="468360" cy="50940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7656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768760" y="5443560"/>
            <a:ext cx="514080" cy="50940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14800" y="5886360"/>
            <a:ext cx="6804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09880" y="5443560"/>
            <a:ext cx="558720" cy="50940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400560" y="5888160"/>
            <a:ext cx="68040" cy="6480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048120" y="5443560"/>
            <a:ext cx="608040" cy="5094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8632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34960" y="391968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33880" y="51166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34600" y="4071960"/>
            <a:ext cx="14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search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757760" y="3886200"/>
            <a:ext cx="169920" cy="148104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361400" y="5397480"/>
            <a:ext cx="9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Index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37720" y="564048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1e8"/>
                </a:solidFill>
                <a:latin typeface="Arial"/>
              </a:rPr>
              <a:t>(Data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35320" y="421164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83740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292800" y="5964120"/>
            <a:ext cx="344520" cy="35100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751800" y="5964120"/>
            <a:ext cx="338040" cy="35100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207200" y="5964120"/>
            <a:ext cx="339840" cy="35100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661160" y="5964120"/>
            <a:ext cx="346320" cy="35100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1169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85741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492960" y="4795920"/>
            <a:ext cx="149040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492960" y="37497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277040" y="37497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986520" y="3657600"/>
            <a:ext cx="29232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196040" y="369900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134040" y="5076720"/>
            <a:ext cx="405000" cy="34776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537240" y="520380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537240" y="5227560"/>
            <a:ext cx="24156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71364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77700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787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1787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318440" y="52038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41664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416640" y="50007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977160" y="478008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962760" y="49989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86276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6296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6629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7979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90560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8015400" y="50007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173640" y="5423040"/>
            <a:ext cx="201600" cy="49824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330960" y="5842080"/>
            <a:ext cx="44280" cy="7920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889600" y="5423040"/>
            <a:ext cx="366840" cy="54900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889600" y="589752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92800" y="5423040"/>
            <a:ext cx="566640" cy="54900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794640" y="590724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093000" y="5423040"/>
            <a:ext cx="282240" cy="49824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093000" y="584676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416640" y="5423040"/>
            <a:ext cx="140832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756560" y="587844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173640" y="5423040"/>
            <a:ext cx="685800" cy="49824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73640" y="586260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94360" y="5423040"/>
            <a:ext cx="1778040" cy="49824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02560" y="58816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94360" y="5423040"/>
            <a:ext cx="165240" cy="54900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94360" y="5889600"/>
            <a:ext cx="42840" cy="8244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20000" y="5423040"/>
            <a:ext cx="322200" cy="49824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284960" y="584820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421400" y="5423040"/>
            <a:ext cx="565200" cy="54900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421400" y="5907240"/>
            <a:ext cx="5904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024760" y="5423040"/>
            <a:ext cx="322200" cy="54900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296200" y="5896080"/>
            <a:ext cx="50760" cy="7596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905600" y="5423040"/>
            <a:ext cx="241560" cy="49824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7905600" y="5845320"/>
            <a:ext cx="47880" cy="7596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8185320" y="5423040"/>
            <a:ext cx="1440" cy="54900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8167680" y="5892840"/>
            <a:ext cx="3636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2280" y="5638680"/>
            <a:ext cx="8839440" cy="0"/>
          </a:xfrm>
          <a:prstGeom prst="line">
            <a:avLst/>
          </a:prstGeom>
          <a:ln w="12600">
            <a:solidFill>
              <a:srgbClr val="002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062680" y="51148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8216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576920" y="398448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2736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Opera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331080" y="0"/>
            <a:ext cx="59032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B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data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R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records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D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verage) time to read or write dis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457200" y="1295280"/>
          <a:ext cx="8153280" cy="4957920"/>
        </p:xfrm>
        <a:graphic>
          <a:graphicData uri="http://schemas.openxmlformats.org/drawingml/2006/table">
            <a:tbl>
              <a:tblPr/>
              <a:tblGrid>
                <a:gridCol w="1188720"/>
                <a:gridCol w="1528920"/>
                <a:gridCol w="1924920"/>
                <a:gridCol w="1755360"/>
                <a:gridCol w="175536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an all re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1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(R+0.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ality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1 + 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[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]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[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]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 + # matching recor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)+B)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+1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D(3 + 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15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0" name=""/>
          <p:cNvSpPr/>
          <p:nvPr/>
        </p:nvSpPr>
        <p:spPr>
          <a:xfrm>
            <a:off x="3124080" y="990720"/>
            <a:ext cx="198144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952880" y="1066680"/>
            <a:ext cx="198144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990720"/>
            <a:ext cx="1981080" cy="579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ic problem in computer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find students in increas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first step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lk loa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useful for elimin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plicate cop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ollection of records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useful for summarizing related groups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rt-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in algorithm involves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00Gb of data with 1G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 virtual memo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Way Sort: Requires 3 Buff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Read a page, sort it, wri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one buffer page is used (as in previous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, 2, 3, …,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s 3 buffe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 pairs of runs into runs twice as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93000" y="429084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47720" y="468792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47720" y="5435640"/>
            <a:ext cx="1068480" cy="13824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509840" y="431964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37000" y="5757840"/>
            <a:ext cx="273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102440" y="4986360"/>
            <a:ext cx="1055880" cy="13824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116840" y="5218200"/>
            <a:ext cx="1055520" cy="12528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657600" y="443376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410080" y="491004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630600" y="527688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52880" y="4116240"/>
            <a:ext cx="3433680" cy="205596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661560" y="447192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661560" y="531648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384520" y="4921200"/>
            <a:ext cx="101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386120" y="5870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834920" y="5897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5238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1447920" y="5486400"/>
            <a:ext cx="1452240" cy="304200"/>
            <a:chOff x="1447920" y="5486400"/>
            <a:chExt cx="1452240" cy="304200"/>
          </a:xfrm>
        </p:grpSpPr>
        <p:sp>
          <p:nvSpPr>
            <p:cNvPr id="1158" name=""/>
            <p:cNvSpPr/>
            <p:nvPr/>
          </p:nvSpPr>
          <p:spPr>
            <a:xfrm>
              <a:off x="1528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47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6934320" y="5486400"/>
            <a:ext cx="1452240" cy="304200"/>
            <a:chOff x="6934320" y="5486400"/>
            <a:chExt cx="1452240" cy="304200"/>
          </a:xfrm>
        </p:grpSpPr>
        <p:sp>
          <p:nvSpPr>
            <p:cNvPr id="1161" name=""/>
            <p:cNvSpPr/>
            <p:nvPr/>
          </p:nvSpPr>
          <p:spPr>
            <a:xfrm>
              <a:off x="7015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934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70102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83059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66880" y="472428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66880" y="548640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800600" y="4648320"/>
            <a:ext cx="609480" cy="3808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800600" y="5181120"/>
            <a:ext cx="60948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400800" y="5105520"/>
            <a:ext cx="60948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Way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 and conqu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subfiles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533520" y="2819520"/>
                <a:ext cx="2628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533520" y="4191120"/>
                <a:ext cx="28051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>
            <a:off x="7936200" y="140328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936920" y="19162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936920" y="25146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936920" y="35416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022960" y="53388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853040" y="166212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853040" y="217476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53040" y="294480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853040" y="422928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825880" y="6280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1079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74520" y="1403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05080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2708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0033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47964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025760" y="1403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0986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0336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57452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50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536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470280" y="1916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014960" y="1916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327200" y="24512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336560" y="2697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89120" y="23986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27940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262200" y="2419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25104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252920" y="26654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812840" y="32097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81284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8222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812840" y="39909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71940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7194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798960" y="3959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65400" y="47498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65400" y="49975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65400" y="5253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765400" y="5521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765400" y="57675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765400" y="60228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B+ Trees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: Table to be sorted has B+ tree index on sorting column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an retrieve records in order by traversing lea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is a good id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 to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Goo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not 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uld be a very 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ba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38862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root to the left-most leaf, then retrieve all leaf pages (Alternativ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ternative 2 is used?  Additional cost of retrieving data records:  each page fetched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766600" y="5776920"/>
            <a:ext cx="57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669999"/>
                </a:solidFill>
                <a:latin typeface="Book Antiqua"/>
              </a:rPr>
              <a:t>Always better than external sor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66416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27688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891040" y="437040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505560" y="437040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711828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73100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444816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4816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448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4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483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498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5165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33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55148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67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5846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6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619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635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653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6702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687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03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721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38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75632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772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789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8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824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40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8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875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892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08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258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43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9608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9766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98960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98960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8960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98960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98960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98960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98960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8960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9896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98960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8960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9896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98960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98960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98960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8960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98960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98960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98960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98960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98960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984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966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9510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9338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916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898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882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8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4848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830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814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47970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779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762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746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47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711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694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677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46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643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4625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4609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4592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574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557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541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5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506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489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44737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455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44816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444816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444816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44816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444816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4816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444816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44816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44816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444816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44816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44816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444816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44816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44816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44816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44816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4816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44816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44816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444816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444816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531504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1504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3150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32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349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3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3830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4007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418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338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451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468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5198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5371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5548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5706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587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6055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6228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386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56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6736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6912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7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24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42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775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92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8104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826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8435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85612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85612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85612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85612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85612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85612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5612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5612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5612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5612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85612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85612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5612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85612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5612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5612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5612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5612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5612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85612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85612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85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833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81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580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578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57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574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57322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571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569736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56811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66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564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56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56131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559584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578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55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5447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5274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5509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54925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47704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459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4417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4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4082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53910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53733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53560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53398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5322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31504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31504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31504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531504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31504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31504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31504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531504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531504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31504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31504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1504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31504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531504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31504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31504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531504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531504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531504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31504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531504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04964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677700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777000" y="34066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777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79464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811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827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845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8626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8803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896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9134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931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48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9642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981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99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016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032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050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067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08516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101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1182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135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151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1690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186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203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2198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237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25472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272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288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305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8440" y="3411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31844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318440" y="3444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318440" y="346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318440" y="3479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318440" y="3495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7318440" y="351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318440" y="3530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318440" y="35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318440" y="356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318440" y="3581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7318440" y="3598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31844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7318440" y="3632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318440" y="3649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318440" y="36669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31844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318440" y="3700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318440" y="3718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731844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7318440" y="3751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7318440" y="376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311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7294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2766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260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7243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225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7208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71924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7175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157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7141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7124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107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089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073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70560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7038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702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7005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98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97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95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936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691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902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688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6868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6851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683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681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6800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6783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777000" y="3773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6777000" y="3750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6777000" y="3733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777000" y="3715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6777000" y="3704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777000" y="3682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777000" y="3665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6777000" y="365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6777000" y="3637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777000" y="3614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67770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777000" y="35863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777000" y="3563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67770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6777000" y="3528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777000" y="3517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777000" y="3495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6777000" y="34779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6777000" y="34668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6777000" y="3444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6777000" y="3427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6777000" y="3409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6760080" y="230040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464440" y="491508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730200" y="203040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7377480" y="319716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335720" y="341136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562720" y="16765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724280" y="312408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81680" y="3124080"/>
            <a:ext cx="2286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H="1">
            <a:off x="4114800" y="3809880"/>
            <a:ext cx="4572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4266720" y="3809880"/>
            <a:ext cx="38124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4419720" y="3733920"/>
            <a:ext cx="38088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876920" y="3809880"/>
            <a:ext cx="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4100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548640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5562360" y="3809880"/>
            <a:ext cx="759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56386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934320" y="3809880"/>
            <a:ext cx="3045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010280" y="3809880"/>
            <a:ext cx="3049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16292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23888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87656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01992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876920" y="312408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+-tre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5094" r="0" b="0"/>
          <a:stretch/>
        </p:blipFill>
        <p:spPr>
          <a:xfrm>
            <a:off x="228600" y="1295280"/>
            <a:ext cx="8610480" cy="3984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5238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98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A54E-A307-424D-B5EC-648E1A2179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562F4-12A3-404C-8F23-ACAD3DA53B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066320" y="11412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(2) for data entries; each data entry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data record.  In general, </a:t>
            </a:r>
            <a:r>
              <a:rPr b="0" lang="en-US" sz="2800" spc="-1" strike="noStrike">
                <a:solidFill>
                  <a:srgbClr val="d8d8ec"/>
                </a:solidFill>
                <a:latin typeface="Times New Roman"/>
              </a:rPr>
              <a:t>one I/O per data re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911320" y="566568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524400" y="5665680"/>
            <a:ext cx="46332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1385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753080" y="566568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36580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978520" y="566568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269568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69568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695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12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306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746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637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7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798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81448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32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849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867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882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00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917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9354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951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2968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29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003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0193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036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0542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071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087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050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122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1399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156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173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1910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08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241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3676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23676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23676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3676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3676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23676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3676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23676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23676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23676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23676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23676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23676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3676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3676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23676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23676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23676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3676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23676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23676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23676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3231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3214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31989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31809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163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146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130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31129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095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078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061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30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3027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009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993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976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958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941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925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9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2890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2873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857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839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28224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804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88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771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754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2736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720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H="1">
            <a:off x="27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9568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9568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9568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69568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69568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69568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9568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69568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69568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69568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69568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69568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269568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69568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269568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9568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269568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69568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269568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269568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269568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269568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V="1">
            <a:off x="356220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562200" y="47023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5622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579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597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613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30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6482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6655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6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99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7162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7339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7497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7670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7846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019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178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35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527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8703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03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921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93876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954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3971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9895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005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0226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40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0575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073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0910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10364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0364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0364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10364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10364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10364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0364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10364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0364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0364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10364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10364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10364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0364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0364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0364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10364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10364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0364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10364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410364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410364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409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40813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406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404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40305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4012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9970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397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96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39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39286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91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89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38764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8602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3843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3825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8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7922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37749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37573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7400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7238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7065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3688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6716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6561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638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6208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36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35874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35701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56220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356220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56220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356220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56220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356220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56220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356220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56220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356220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56220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356220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356220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356220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6220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356220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56220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56220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56220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356220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356220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356220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971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flipV="1">
            <a:off x="502452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02452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024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418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0594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075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0925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102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27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143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160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17860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195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1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229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46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2642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280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297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315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332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3481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365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3830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3989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416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4338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51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467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484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5022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5198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35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553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565600" y="4707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6560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6560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565600" y="4757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65600" y="4775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565600" y="4791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565600" y="4808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65600" y="482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565600" y="4843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565600" y="4859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565600" y="4876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65600" y="4894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56560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65600" y="4927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565600" y="4944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65600" y="4962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565600" y="4978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565600" y="49957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565600" y="5013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56560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565600" y="5046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565600" y="5064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5559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5418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524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508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5490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5473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54558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54399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5422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5405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5389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3722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5354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337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5320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303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86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526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252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23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521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5200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5184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516744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14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13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116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098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08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506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H="1">
            <a:off x="5047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5030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5024520" y="506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5024520" y="5046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024520" y="502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2452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024520" y="5000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024520" y="4978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502452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5024520" y="49500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5024520" y="4932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02452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5024520" y="4892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024520" y="4881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5024520" y="4858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024520" y="4841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5024520" y="482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024520" y="4812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5024520" y="47908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5024520" y="477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024520" y="4762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02452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024520" y="472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02452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009040" y="359424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711600" y="621036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979160" y="332424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626440" y="449100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583240" y="470700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312372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26708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124080" y="441972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09880" y="297180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H="1">
            <a:off x="2971800" y="44197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029200" y="4419720"/>
            <a:ext cx="2286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819520" y="5105520"/>
            <a:ext cx="13716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25146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666520" y="5029200"/>
            <a:ext cx="38124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124080" y="5105520"/>
            <a:ext cx="4572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3657600" y="5105520"/>
            <a:ext cx="763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2514600" y="5105520"/>
            <a:ext cx="1295280" cy="6094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5105520"/>
            <a:ext cx="1523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962520" y="5105520"/>
            <a:ext cx="304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733560" y="5105520"/>
            <a:ext cx="1447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257800" y="5105520"/>
            <a:ext cx="3049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50292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486400" y="5105520"/>
            <a:ext cx="6858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Sorting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310560" y="5521320"/>
            <a:ext cx="5833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: # of records p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B=1,000 and block size=32 for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p=100 is the more realistic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8" name=""/>
          <p:cNvGraphicFramePr/>
          <p:nvPr/>
        </p:nvGraphicFramePr>
        <p:xfrm>
          <a:off x="266760" y="1785960"/>
          <a:ext cx="8751960" cy="391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85960"/>
                    <a:ext cx="8751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erge sort minimizes disk I/O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s 0: Produces sorte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u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# buffer pages). Later passes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runs merged at a time depends o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less I/O cost per p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smaller # runs mer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practice, # of runs rarely more than 2 o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rrect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data entry o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enough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must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plit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(into L and a new node 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entries evenly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copy up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dex entry 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happen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growth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wi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tall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6F3-046A-4F2D-BDD2-D51F36F102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54803-923A-4D14-A624-2CBAB952E3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-tre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t root, find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entry be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is at least half-full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n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has o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-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rie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dis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rrowing from sibl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djacent node with same parent as 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-distribution fails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b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rge occurred, must delete entry (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sibling) from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shrink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narr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low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F95-7382-488C-9356-A7D2292677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482C0-C9DB-4E9B-9B67-1F978A1F3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B+ Tree - Inserting 8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48640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109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76520"/>
            <a:ext cx="8367840" cy="2627280"/>
            <a:chOff x="457200" y="1676520"/>
            <a:chExt cx="8367840" cy="2627280"/>
          </a:xfrm>
        </p:grpSpPr>
        <p:sp>
          <p:nvSpPr>
            <p:cNvPr id="176" name=""/>
            <p:cNvSpPr/>
            <p:nvPr/>
          </p:nvSpPr>
          <p:spPr>
            <a:xfrm>
              <a:off x="457200" y="37116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06280" y="37116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172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620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64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5920" y="209376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512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156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256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00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644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6708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3520" y="209376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385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40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9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308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97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52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00640" y="371952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228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096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0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404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10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86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10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344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480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58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08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144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77880" y="286236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53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632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2760" y="286236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244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30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952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052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55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594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2960" y="286236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9000" y="31845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9000" y="3587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0680" y="318456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1040" y="359892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9280" y="318456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4720" y="363996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00640" y="320508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0640" y="360828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2320" y="320508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0600" y="35892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9760" y="321480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5440" y="363204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7880" y="244620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77880" y="278460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1800" y="245592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7840" y="279720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996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36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9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3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00440" y="180036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4440" y="2122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440" y="28782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1240" y="2889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8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2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7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468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5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472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784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932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5476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6904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3040" y="36860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0240" y="289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3320" y="28908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11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489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724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167652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3440000">
              <a:off x="70246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3440000">
              <a:off x="14626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3440000">
              <a:off x="28342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440000">
              <a:off x="42814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440000">
              <a:off x="56530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6560" y="4938840"/>
            <a:ext cx="808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276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57200" y="2057400"/>
            <a:ext cx="8367840" cy="2627280"/>
            <a:chOff x="457200" y="2057400"/>
            <a:chExt cx="8367840" cy="2627280"/>
          </a:xfrm>
        </p:grpSpPr>
        <p:sp>
          <p:nvSpPr>
            <p:cNvPr id="343" name=""/>
            <p:cNvSpPr/>
            <p:nvPr/>
          </p:nvSpPr>
          <p:spPr>
            <a:xfrm>
              <a:off x="457200" y="40924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264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6280" y="40924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3172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0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64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25920" y="247464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0512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156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9256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900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000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44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6708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247464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385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640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9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308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7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752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00640" y="410040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28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096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6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0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404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0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86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0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44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0480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858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908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7144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77880" y="324324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88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653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632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2760" y="324324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0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600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0244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830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952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052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755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4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62960" y="324324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9000" y="35654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89000" y="39686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0680" y="356544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81040" y="397980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9280" y="356544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4720" y="402084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00640" y="35859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00640" y="39891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2320" y="358596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00600" y="397008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9760" y="359568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75440" y="401292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7880" y="282708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7880" y="316548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1800" y="283680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7840" y="31780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3996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36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89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3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00440" y="21812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4440" y="2503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24440" y="3259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1240" y="32702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98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22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468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8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5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472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784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2932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6904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93040" y="406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0240" y="32716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33320" y="327168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11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489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8724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1560" y="205740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440000">
              <a:off x="70246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3440000">
              <a:off x="14626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3440000">
              <a:off x="28342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3440000">
              <a:off x="42814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440000">
              <a:off x="56530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6212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19*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20* is done with re-distribution. Notice how middle key is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pied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0880" y="1981080"/>
            <a:ext cx="8367840" cy="2627280"/>
            <a:chOff x="380880" y="1981080"/>
            <a:chExt cx="8367840" cy="2627280"/>
          </a:xfrm>
        </p:grpSpPr>
        <p:sp>
          <p:nvSpPr>
            <p:cNvPr id="445" name=""/>
            <p:cNvSpPr/>
            <p:nvPr/>
          </p:nvSpPr>
          <p:spPr>
            <a:xfrm>
              <a:off x="380880" y="401616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632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9960" y="401616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540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988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32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9600" y="239832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880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524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624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268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0368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012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9076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7200" y="239832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622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76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3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676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34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88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4320" y="402408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65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8464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0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34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772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46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0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4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581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2848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094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144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9512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01560" y="316692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825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890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000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6440" y="316692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968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2612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067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320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420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992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830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86640" y="316692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2680" y="348912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12680" y="389232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44360" y="348912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4720" y="390348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2960" y="348912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68400" y="39445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24320" y="35096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24320" y="39128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56000" y="350964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4280" y="389376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3440" y="351936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99120" y="393660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01560" y="275076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1560" y="308916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5480" y="276048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1520" y="310176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364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872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2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4120" y="210492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2427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8120" y="31827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4920" y="3193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2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6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1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7836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92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432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840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152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300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7844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9272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16720" y="3990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23920" y="3195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57000" y="319536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948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26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092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35240" y="198108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440000">
              <a:off x="69483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440000">
              <a:off x="13863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440000">
              <a:off x="27579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3440000">
              <a:off x="42051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440000">
              <a:off x="55767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447920"/>
            <a:ext cx="8915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80880" y="1905120"/>
            <a:ext cx="8367840" cy="2727720"/>
            <a:chOff x="380880" y="1905120"/>
            <a:chExt cx="8367840" cy="2727720"/>
          </a:xfrm>
        </p:grpSpPr>
        <p:sp>
          <p:nvSpPr>
            <p:cNvPr id="543" name=""/>
            <p:cNvSpPr/>
            <p:nvPr/>
          </p:nvSpPr>
          <p:spPr>
            <a:xfrm>
              <a:off x="380880" y="394020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632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29960" y="394020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540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988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532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49600" y="2322360"/>
              <a:ext cx="48708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880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3524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624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268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0368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012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9076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97200" y="2322360"/>
              <a:ext cx="8280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22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76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3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676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34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88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24320" y="3948120"/>
              <a:ext cx="323640" cy="32508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465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8464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0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34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5772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846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0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34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581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848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94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144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9512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01560" y="309060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25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890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000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76440" y="309060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968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2612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67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1320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420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92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0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86640" y="309060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2680" y="341316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12680" y="381636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44360" y="3413160"/>
              <a:ext cx="449280" cy="50580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4720" y="3827520"/>
              <a:ext cx="88920" cy="914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2960" y="3413160"/>
              <a:ext cx="1330200" cy="51696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68400" y="3868560"/>
              <a:ext cx="104760" cy="6156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24320" y="343368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24320" y="383688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6000" y="3433680"/>
              <a:ext cx="459000" cy="47592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24280" y="3817800"/>
              <a:ext cx="9072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43440" y="3443040"/>
              <a:ext cx="1362240" cy="47592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99120" y="38606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560" y="2674800"/>
              <a:ext cx="1177920" cy="39636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560" y="30128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5480" y="2684520"/>
              <a:ext cx="1992240" cy="38664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51520" y="3025800"/>
              <a:ext cx="106200" cy="5040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364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872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2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36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52720" y="19526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78120" y="235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4920" y="31176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2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6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300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7844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9272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16720" y="3914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23920" y="31194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57000" y="31194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48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726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1092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16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7836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48120" y="3106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2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840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63840" y="190512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8420000">
              <a:off x="1447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8420000">
              <a:off x="28947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8420000">
              <a:off x="42663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8420000">
              <a:off x="571428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8420000">
              <a:off x="7162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And Then Deleting 24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toss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key 27 on right), an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pull down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be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05320" y="1459080"/>
            <a:ext cx="1303560" cy="412560"/>
          </a:xfrm>
          <a:custGeom>
            <a:avLst/>
            <a:gdLst/>
            <a:ahLst/>
            <a:rect l="l" t="t" r="r" b="b"/>
            <a:pathLst>
              <a:path w="821" h="260">
                <a:moveTo>
                  <a:pt x="0" y="0"/>
                </a:moveTo>
                <a:lnTo>
                  <a:pt x="82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67400" y="1803240"/>
            <a:ext cx="141480" cy="68400"/>
          </a:xfrm>
          <a:custGeom>
            <a:avLst/>
            <a:gdLst/>
            <a:ahLst/>
            <a:rect l="l" t="t" r="r" b="b"/>
            <a:pathLst>
              <a:path w="89" h="43">
                <a:moveTo>
                  <a:pt x="14" y="0"/>
                </a:moveTo>
                <a:lnTo>
                  <a:pt x="88" y="42"/>
                </a:lnTo>
                <a:lnTo>
                  <a:pt x="0" y="3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55680" y="4338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19112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2T17:36:00Z</dcterms:modified>
  <cp:revision>893</cp:revision>
  <dc:subject/>
  <dc:title>CS186: Introduction to Database Systems</dc:title>
</cp:coreProperties>
</file>