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959-C5B4-45CC-A430-6836BAB6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FB9-DAEB-48A8-97B2-94C90285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98C-D383-4C98-88C4-9A49A950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48C-B355-463B-942C-1AEB0B7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D39-FDDE-455C-A0EB-7CB815C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68D-D93B-41F3-94CD-2A50CE5E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9F8-CF48-4EB2-B819-34F67DC5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EC4-EAEA-41A7-B7A5-E02AEA40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489-8226-4A07-BB09-2E5D976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5158-ABFE-4841-B08B-601E3A4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DA2-E6DB-4BE1-86B0-B39FDCF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5FE-EBC4-4308-9DE2-D326AD1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1CCB-CB51-400C-8B8D-E3EAA2953FF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ED5F-23D7-47CF-B18A-C628C95DEB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Class Midterm exam is Mar 14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Ma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9C5-CC9E-41F5-AA94-5395E01A07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F0D0E-7345-42DA-942F-108BFF2D02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12T14:54:14Z</dcterms:modified>
  <cp:revision>718</cp:revision>
  <dc:subject/>
  <dc:title>CS186: Introduction to Database Systems</dc:title>
</cp:coreProperties>
</file>