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8276-55F3-49CF-9C18-DF47F8351D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BB8A-EBE3-4360-8A57-EB4CDEA9C8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060D-3217-4EC8-8CAC-DAB664CDDD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A0E5-ACE7-491A-97AC-84A195A363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C94A-26D6-481F-BA41-A89C7586AA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gonna cover this in one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because of the minimalist appro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FE95-5FF5-4A57-8F2E-39A81B1195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1D38-5AD0-4C67-816E-FCF5733C6C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D98E-73B8-45E8-8D1C-1304691AC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FD39-63A4-436E-B6F0-63349F7D52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98AF-EEFE-4945-B621-8DF1CBFFC4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623E-050F-4C0E-964F-8EF01BDEED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08A5-EC8F-4770-B243-19373AB5B6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F906-32B4-4025-8575-518321AA0C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E492-269B-49E9-88F9-FCFB4F1CBB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3CB4-5CED-4D50-9A4C-78CB4D90C1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DA7E-8337-43A6-86C2-521A1C5D95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40A2-C4C4-45B4-92EF-958ADEA6BA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6E3C-EF63-48D5-8BA3-908B0AF463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05B0-D85C-40D5-B6DC-9AA7493171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A5DE-4FF5-40BD-A766-B7FF3DDDE1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E3A2-0DCB-475F-8450-E2B37CB28E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E74D-BE58-47F4-9F24-A0D8622A1F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260E-06D6-4F58-8257-A5C3E58657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6E6D-7F96-4229-87D5-621F45FB1E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7B84-0C36-4129-92B7-EA97C5BB7A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910A-9132-4A2B-BC67-CA50E92893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E5BF-68CD-42F8-940F-B7FE7D9A02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0BC7-0868-4EFC-BBB1-C83BE6A566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9BC-554F-46B6-ABE9-795AA73B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610-4E03-41F8-802B-B4B929C6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D83-EEC8-4ABE-B45E-92EDDAEA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94D-4E19-43E1-8749-1A696BFD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C99-D906-426E-8AD8-11A3CB10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9B4-A403-4DC9-97C5-B1DC4095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01A-D78F-42C3-AD40-89BE090D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7D0-70BF-4B92-BD4E-37508933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A1F-87E5-443C-B0B8-02B57699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0F8-937D-4939-A890-812CCE13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8F3-C3CB-4990-9FB5-F8A6DB71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DBA-C0EF-49DA-B939-51909EC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D412-68B5-4B7B-8D44-634BDD2EF64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A80F-0DE5-4900-90D3-9611F98394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648320"/>
            <a:ext cx="1784520" cy="1687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9720" y="4743360"/>
            <a:ext cx="1590480" cy="1519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22520" y="468324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66840" y="4959000"/>
            <a:ext cx="914400" cy="609120"/>
            <a:chOff x="1266840" y="4959000"/>
            <a:chExt cx="914400" cy="609120"/>
          </a:xfrm>
        </p:grpSpPr>
        <p:grpSp>
          <p:nvGrpSpPr>
            <p:cNvPr id="97" name=""/>
            <p:cNvGrpSpPr/>
            <p:nvPr/>
          </p:nvGrpSpPr>
          <p:grpSpPr>
            <a:xfrm>
              <a:off x="1266840" y="4959000"/>
              <a:ext cx="913680" cy="609120"/>
              <a:chOff x="1266840" y="4959000"/>
              <a:chExt cx="913680" cy="609120"/>
            </a:xfrm>
          </p:grpSpPr>
          <p:sp>
            <p:nvSpPr>
              <p:cNvPr id="98" name=""/>
              <p:cNvSpPr/>
              <p:nvPr/>
            </p:nvSpPr>
            <p:spPr>
              <a:xfrm>
                <a:off x="1266840" y="4959360"/>
                <a:ext cx="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1266840" y="4959000"/>
                <a:ext cx="91368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1267560" y="4959000"/>
              <a:ext cx="913680" cy="609120"/>
              <a:chOff x="1267560" y="4959000"/>
              <a:chExt cx="913680" cy="609120"/>
            </a:xfrm>
          </p:grpSpPr>
          <p:sp>
            <p:nvSpPr>
              <p:cNvPr id="101" name=""/>
              <p:cNvSpPr/>
              <p:nvPr/>
            </p:nvSpPr>
            <p:spPr>
              <a:xfrm>
                <a:off x="2181240" y="4959360"/>
                <a:ext cx="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1267560" y="4959000"/>
                <a:ext cx="913680" cy="608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1319400" y="5011560"/>
            <a:ext cx="79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ains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value must come from its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main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relation mush have a primary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 constrai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key value in a tuple can not be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tity integ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tial integ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oreign key value in a referenced tuple must exist or the foreign key value in the referencing tuple is NU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8B9-7A18-4798-A0DC-4ACCF9CF45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741B5-DEE8-4C26-A3ED-DA9413A312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15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Types of Constra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Integrity Constra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application semantics and cannot be expressed by the model per 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“the max. no. of hours per employee for all projects he or she works on is 56 hrs per week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straint specification langu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y have to be used to express th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-99 allows triggers and ASSERTIONS to allow for some of th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B79-9578-40D7-A7E2-E333E60ECD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D1D2F-A912-4386-A20C-8D85F96222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perations on Re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 should not be violated i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B23-21CA-4EF6-8324-9726A67B9B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73210-B105-4A4F-B980-6C31E66B3D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e following relationa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rse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department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600" spc="-1" strike="noStrike" u="sng">
                <a:solidFill>
                  <a:srgbClr val="cf0e3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cf0e3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ng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grade: charact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the following sequence of database update operations. (assume all tables are empty before we apply any opera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&lt;‘1234’, ‘John Smith’, ‘3.5&gt; into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981080" y="502920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2F1-DE33-4A3D-8476-FE7568C33F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9904A-415B-4A69-A1F3-97049C84D2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647’, ‘EECS’&gt; into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234’, ‘647’, ‘B’&gt; into 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the grade in the Enrolled tuple with sid = 1234 and cid = 647 to ‘A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he Enrolled tuple with sid 1234 and cid 6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657600" y="106668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3657600" y="2136600"/>
          <a:ext cx="3454560" cy="9115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3657600" y="320040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3657600" y="320040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657600" y="3200400"/>
          <a:ext cx="5181480" cy="4557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986-F4F5-4A06-A386-362D853BEF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12675-463E-49DD-9C05-DB96BDC73B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08’, ‘MATH’&gt; into 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234’, ‘108’, ‘B’&gt; into 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123’, ‘Mary Carter’, ‘3.8’&gt; into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657600" y="106668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3657600" y="2824200"/>
          <a:ext cx="3454560" cy="13669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657600" y="449892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657600" y="2820960"/>
          <a:ext cx="345456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657600" y="4497480"/>
          <a:ext cx="5181480" cy="45540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b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3657600" y="1066680"/>
          <a:ext cx="5181480" cy="13669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D28-BAF4-46A8-A0A7-88B52EF478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ED7A6-DEA2-4F07-AF5C-F5189AC6BC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ttle bit tri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125’, ‘Bob Lee’, ‘good’&gt; into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l due to domain constra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&lt;‘1123’, NULL, ‘B’&gt; into 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l due to entity integ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&lt;‘1233’,’647’, ‘A’&gt; into 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iled due to referential integ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657600" y="1066680"/>
          <a:ext cx="5181480" cy="13669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657600" y="2666880"/>
          <a:ext cx="3454560" cy="13669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581280" y="441972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347-8A55-40D3-96D3-97C9CFAF8D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B87F5-2756-4CDF-92FD-4BE4606B8D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rcis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trick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the cid in the tuple from Course where  cid = 108 to 1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3657600" y="1066680"/>
          <a:ext cx="5181480" cy="136692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1e3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657600" y="2819520"/>
          <a:ext cx="3454560" cy="13665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3657600" y="449424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3657600" y="2819520"/>
          <a:ext cx="3454560" cy="13665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C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657600" y="4495680"/>
          <a:ext cx="5181480" cy="91116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4d2b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33F-8B04-4F3F-AF30-5F2F683959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7F90B-2B65-4924-AD22-6B99E0320C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perations on Re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integrity violation, several actions can be tak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 the operation that causes the violation (REJECT op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the operation but inform the user of the vi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gger additional updates so the violation is corrected (CASCADE option, SET NULL op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a user-specified error-correction routi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9AF-D7EB-4D7F-AF5E-5D86F8523C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02ACF-E376-463B-B8DE-F7A67B9B33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Query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Query languag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ow manipulation and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retrieval of da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model supports simple, powerful Q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ong formal foundation based on log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s for much optimiz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Languages 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ming languag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Ls not intended to be used for complex calculations and inference (e.g. logical reason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Ls support easy, efficient access to large data se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home background survey is assig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Feb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t the beginning of class meeting tim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 on ti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PostgreSQL passwd has been sent to you by em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not change your passw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 though the on-line tutorial (which will be your first homework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B95-4B1D-4570-9777-DCE5C3A931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5C9AF-0364-455F-9258-9127CB8C11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 Relational Query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thematical Query Languages form the basis for “real” languages (e.g. SQL), and for implem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Relational Algebra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opera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very useful for representing execution pl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Relational Calculus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s users describe what they want, rather than how to compute it.  (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Non-procedural, 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decla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4640" y="4572000"/>
            <a:ext cx="7515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cccc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Book Antiqua"/>
              </a:rPr>
              <a:t>  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Understanding Algebra &amp; Calculus is key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      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understanding SQL, query processing!</a:t>
            </a:r>
            <a:r>
              <a:rPr b="0" i="1" lang="en-US" sz="2400" spc="-1" strike="noStrike">
                <a:solidFill>
                  <a:srgbClr val="000099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algeb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set of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ion, projection, cross product, union, difference, and rena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derived opera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oin, natural join, intersectio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e operators to make complex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905120" y="2438280"/>
            <a:ext cx="1523880" cy="838080"/>
            <a:chOff x="1905120" y="2438280"/>
            <a:chExt cx="1523880" cy="838080"/>
          </a:xfrm>
        </p:grpSpPr>
        <p:sp>
          <p:nvSpPr>
            <p:cNvPr id="354" name=""/>
            <p:cNvSpPr/>
            <p:nvPr/>
          </p:nvSpPr>
          <p:spPr>
            <a:xfrm>
              <a:off x="1905120" y="2438280"/>
              <a:ext cx="152388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2640" y="259992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el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334120" y="3048120"/>
            <a:ext cx="1523880" cy="838080"/>
            <a:chOff x="5334120" y="3048120"/>
            <a:chExt cx="1523880" cy="838080"/>
          </a:xfrm>
        </p:grpSpPr>
        <p:sp>
          <p:nvSpPr>
            <p:cNvPr id="357" name=""/>
            <p:cNvSpPr/>
            <p:nvPr/>
          </p:nvSpPr>
          <p:spPr>
            <a:xfrm>
              <a:off x="5334120" y="3048120"/>
              <a:ext cx="1523880" cy="838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61640" y="3209760"/>
              <a:ext cx="98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meriGarmnd BT"/>
                </a:rPr>
                <a:t>Rel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57200" y="2362320"/>
            <a:ext cx="1447920" cy="914400"/>
            <a:chOff x="457200" y="2362320"/>
            <a:chExt cx="1447920" cy="914400"/>
          </a:xfrm>
        </p:grpSpPr>
        <p:grpSp>
          <p:nvGrpSpPr>
            <p:cNvPr id="360" name=""/>
            <p:cNvGrpSpPr/>
            <p:nvPr/>
          </p:nvGrpSpPr>
          <p:grpSpPr>
            <a:xfrm>
              <a:off x="457200" y="2362320"/>
              <a:ext cx="990720" cy="914400"/>
              <a:chOff x="457200" y="2362320"/>
              <a:chExt cx="990720" cy="914400"/>
            </a:xfrm>
          </p:grpSpPr>
          <p:sp>
            <p:nvSpPr>
              <p:cNvPr id="361" name=""/>
              <p:cNvSpPr/>
              <p:nvPr/>
            </p:nvSpPr>
            <p:spPr>
              <a:xfrm>
                <a:off x="457200" y="2362320"/>
                <a:ext cx="990720" cy="91440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57200" y="2514600"/>
                <a:ext cx="990720" cy="76212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77160" y="236232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07640" y="236232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90880" y="236232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7200" y="266688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7200" y="281952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7200" y="297180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7200" y="312408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1523880" y="2819520"/>
              <a:ext cx="38124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429000" y="2438280"/>
            <a:ext cx="1447920" cy="762120"/>
            <a:chOff x="3429000" y="2438280"/>
            <a:chExt cx="1447920" cy="762120"/>
          </a:xfrm>
        </p:grpSpPr>
        <p:grpSp>
          <p:nvGrpSpPr>
            <p:cNvPr id="372" name=""/>
            <p:cNvGrpSpPr/>
            <p:nvPr/>
          </p:nvGrpSpPr>
          <p:grpSpPr>
            <a:xfrm>
              <a:off x="3886200" y="2438280"/>
              <a:ext cx="990720" cy="762120"/>
              <a:chOff x="3886200" y="2438280"/>
              <a:chExt cx="990720" cy="762120"/>
            </a:xfrm>
          </p:grpSpPr>
          <p:sp>
            <p:nvSpPr>
              <p:cNvPr id="373" name=""/>
              <p:cNvSpPr/>
              <p:nvPr/>
            </p:nvSpPr>
            <p:spPr>
              <a:xfrm>
                <a:off x="3886200" y="2438280"/>
                <a:ext cx="990720" cy="76212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86200" y="2590560"/>
                <a:ext cx="990720" cy="60984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106880" y="2438280"/>
                <a:ext cx="0" cy="762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56080" y="2438280"/>
                <a:ext cx="0" cy="762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648320" y="2438280"/>
                <a:ext cx="0" cy="762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86200" y="274320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86200" y="289548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86200" y="30477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429000" y="281952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886200" y="2895480"/>
            <a:ext cx="1523880" cy="1600200"/>
            <a:chOff x="3886200" y="2895480"/>
            <a:chExt cx="1523880" cy="1600200"/>
          </a:xfrm>
        </p:grpSpPr>
        <p:grpSp>
          <p:nvGrpSpPr>
            <p:cNvPr id="383" name=""/>
            <p:cNvGrpSpPr/>
            <p:nvPr/>
          </p:nvGrpSpPr>
          <p:grpSpPr>
            <a:xfrm>
              <a:off x="3886200" y="3581280"/>
              <a:ext cx="990720" cy="914400"/>
              <a:chOff x="3886200" y="3581280"/>
              <a:chExt cx="990720" cy="914400"/>
            </a:xfrm>
          </p:grpSpPr>
          <p:sp>
            <p:nvSpPr>
              <p:cNvPr id="384" name=""/>
              <p:cNvSpPr/>
              <p:nvPr/>
            </p:nvSpPr>
            <p:spPr>
              <a:xfrm>
                <a:off x="3886200" y="3581280"/>
                <a:ext cx="990720" cy="91440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6200" y="3733560"/>
                <a:ext cx="990720" cy="76212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06160" y="3581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36640" y="3581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19880" y="358128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86200" y="388584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886200" y="403848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41907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886200" y="434304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4952880" y="2895480"/>
              <a:ext cx="457200" cy="3812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952880" y="3657600"/>
              <a:ext cx="457200" cy="38088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858000" y="2971800"/>
            <a:ext cx="1676520" cy="914400"/>
            <a:chOff x="6858000" y="2971800"/>
            <a:chExt cx="1676520" cy="914400"/>
          </a:xfrm>
        </p:grpSpPr>
        <p:grpSp>
          <p:nvGrpSpPr>
            <p:cNvPr id="396" name=""/>
            <p:cNvGrpSpPr/>
            <p:nvPr/>
          </p:nvGrpSpPr>
          <p:grpSpPr>
            <a:xfrm>
              <a:off x="7315200" y="2971800"/>
              <a:ext cx="1219320" cy="914400"/>
              <a:chOff x="7315200" y="2971800"/>
              <a:chExt cx="1219320" cy="914400"/>
            </a:xfrm>
          </p:grpSpPr>
          <p:sp>
            <p:nvSpPr>
              <p:cNvPr id="397" name=""/>
              <p:cNvSpPr/>
              <p:nvPr/>
            </p:nvSpPr>
            <p:spPr>
              <a:xfrm>
                <a:off x="7315200" y="2971800"/>
                <a:ext cx="1219320" cy="914400"/>
              </a:xfrm>
              <a:prstGeom prst="rect">
                <a:avLst/>
              </a:prstGeom>
              <a:solidFill>
                <a:srgbClr val="330066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15200" y="3124440"/>
                <a:ext cx="1219320" cy="76176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535880" y="297180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866360" y="297180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048880" y="297180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15200" y="3276720"/>
                <a:ext cx="12193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15200" y="3429000"/>
                <a:ext cx="12193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15200" y="3581640"/>
                <a:ext cx="12193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15200" y="3733920"/>
                <a:ext cx="12193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201160" y="297180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382240" y="2971800"/>
                <a:ext cx="0" cy="9144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858000" y="3429000"/>
              <a:ext cx="3808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28600" y="1219320"/>
            <a:ext cx="8686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nguage for querying relational databases based on opera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0B3-F27B-4E3C-852F-76B59462C9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5D095-2714-45ED-9538-D90EF4ED44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a t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selection condition/predic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filter rows according to some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same columns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only row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satisf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FCD-093F-4EA1-9E1C-2DE5CDA60B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BF4BA-3643-47A2-A003-6CDA3AB4F9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th GPA higher than 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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&gt; 3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6320" y="2286000"/>
          <a:ext cx="3504960" cy="2190600"/>
        </p:xfrm>
        <a:graphic>
          <a:graphicData uri="http://schemas.openxmlformats.org/drawingml/2006/table">
            <a:tbl>
              <a:tblPr/>
              <a:tblGrid>
                <a:gridCol w="65376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562720" y="2286000"/>
          <a:ext cx="3504960" cy="2190600"/>
        </p:xfrm>
        <a:graphic>
          <a:graphicData uri="http://schemas.openxmlformats.org/drawingml/2006/table">
            <a:tbl>
              <a:tblPr/>
              <a:tblGrid>
                <a:gridCol w="65376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5562720" y="3429000"/>
            <a:ext cx="33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62720" y="4191120"/>
            <a:ext cx="33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581280" y="3151080"/>
            <a:ext cx="1981080" cy="838440"/>
            <a:chOff x="3581280" y="3151080"/>
            <a:chExt cx="1981080" cy="838440"/>
          </a:xfrm>
        </p:grpSpPr>
        <p:sp>
          <p:nvSpPr>
            <p:cNvPr id="419" name=""/>
            <p:cNvSpPr/>
            <p:nvPr/>
          </p:nvSpPr>
          <p:spPr>
            <a:xfrm>
              <a:off x="3809880" y="3151080"/>
              <a:ext cx="1523880" cy="8384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1880" y="3348000"/>
              <a:ext cx="1282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Symbol"/>
                  <a:ea typeface="Symbol"/>
                </a:rPr>
                <a:t></a:t>
              </a:r>
              <a:r>
                <a:rPr b="0" i="1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GPA</a:t>
              </a:r>
              <a:r>
                <a:rPr b="0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 &gt; 3.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81280" y="362124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3760" y="358128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7F0-E757-4F1F-92D3-EB38EF42DC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BA9A6-D359-4F5D-8596-FA3BE8667E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on sel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predicate in general can include any colum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stants, comparisons (=,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), and Boolean connectiv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d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r, and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straight A students under 18 or over 2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GP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¸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4.0 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Æ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(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g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&lt; 18 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Ç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ge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&gt; 21)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you must be able to evaluate the predicate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over a single row of the input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student with the highest GP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Symbol"/>
                <a:ea typeface="Symbol"/>
              </a:rPr>
              <a:t>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GP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cmsy10"/>
              </a:rPr>
              <a:t>¸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all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GPA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in 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Student</a:t>
            </a:r>
            <a:r>
              <a:rPr b="0" lang="en-US" sz="2600" spc="-1" strike="noStrike" baseline="-25000">
                <a:solidFill>
                  <a:srgbClr val="330066"/>
                </a:solidFill>
                <a:latin typeface="Times New Roman"/>
              </a:rPr>
              <a:t> table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142640" y="4952880"/>
            <a:ext cx="2895840" cy="304920"/>
            <a:chOff x="1142640" y="4952880"/>
            <a:chExt cx="2895840" cy="304920"/>
          </a:xfrm>
        </p:grpSpPr>
        <p:sp>
          <p:nvSpPr>
            <p:cNvPr id="426" name=""/>
            <p:cNvSpPr/>
            <p:nvPr/>
          </p:nvSpPr>
          <p:spPr>
            <a:xfrm>
              <a:off x="1143000" y="4952880"/>
              <a:ext cx="2895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1142640" y="4952880"/>
              <a:ext cx="2895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6C9-3AB1-421C-BCD7-A2A6E8A5FC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9C442-7D8E-4B3C-97F6-6130D584DA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a t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list of column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select columns to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same rows, but only the column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der of the rows is preserv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mber of rows may be less (depends on where we have duplicates or no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D90-65FC-4F61-B40F-F167BA23B7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C76FD-783D-401B-8AAF-842EEC9B40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io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’s and names of all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09480" y="2286000"/>
          <a:ext cx="350532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33" name=""/>
          <p:cNvGrpSpPr/>
          <p:nvPr/>
        </p:nvGrpSpPr>
        <p:grpSpPr>
          <a:xfrm>
            <a:off x="4114800" y="3151080"/>
            <a:ext cx="1981080" cy="838440"/>
            <a:chOff x="4114800" y="3151080"/>
            <a:chExt cx="1981080" cy="838440"/>
          </a:xfrm>
        </p:grpSpPr>
        <p:sp>
          <p:nvSpPr>
            <p:cNvPr id="434" name=""/>
            <p:cNvSpPr/>
            <p:nvPr/>
          </p:nvSpPr>
          <p:spPr>
            <a:xfrm>
              <a:off x="4343400" y="3151080"/>
              <a:ext cx="1523880" cy="8384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10280" y="3352680"/>
              <a:ext cx="143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cmmi10"/>
                </a:rPr>
                <a:t>¼</a:t>
              </a:r>
              <a:r>
                <a:rPr b="0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SID,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14800" y="362124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67280" y="358128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6172200" y="2362320"/>
          <a:ext cx="228600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E1C-FEBB-4397-B3F2-E7D179843A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C899E-969A-4060-8AD4-A24C2215A9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on proj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output rows are removed (by defin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student 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600" spc="-1" strike="noStrike" baseline="-25000">
                <a:solidFill>
                  <a:srgbClr val="330066"/>
                </a:solidFill>
                <a:latin typeface="Times New Roman"/>
              </a:rPr>
              <a:t>age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330066"/>
                </a:solidFill>
                <a:latin typeface="Times New Roman"/>
              </a:rPr>
              <a:t>Stud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14400" y="2819520"/>
          <a:ext cx="3505320" cy="219060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an W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2" name=""/>
          <p:cNvGrpSpPr/>
          <p:nvPr/>
        </p:nvGrpSpPr>
        <p:grpSpPr>
          <a:xfrm>
            <a:off x="4419720" y="3684600"/>
            <a:ext cx="1981080" cy="838080"/>
            <a:chOff x="4419720" y="3684600"/>
            <a:chExt cx="1981080" cy="838080"/>
          </a:xfrm>
        </p:grpSpPr>
        <p:sp>
          <p:nvSpPr>
            <p:cNvPr id="443" name=""/>
            <p:cNvSpPr/>
            <p:nvPr/>
          </p:nvSpPr>
          <p:spPr>
            <a:xfrm>
              <a:off x="4648320" y="3684600"/>
              <a:ext cx="152388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96480" y="3885840"/>
              <a:ext cx="80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66"/>
                  </a:solidFill>
                  <a:latin typeface="cmmi10"/>
                </a:rPr>
                <a:t>¼</a:t>
              </a:r>
              <a:r>
                <a:rPr b="0" lang="en-US" sz="2800" spc="-1" strike="noStrike" baseline="-25000">
                  <a:solidFill>
                    <a:srgbClr val="330066"/>
                  </a:solidFill>
                  <a:latin typeface="AmeriGarmnd BT"/>
                </a:rPr>
                <a:t>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415440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72200" y="4114440"/>
              <a:ext cx="2286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7" name=""/>
          <p:cNvGraphicFramePr/>
          <p:nvPr/>
        </p:nvGraphicFramePr>
        <p:xfrm>
          <a:off x="6477120" y="2895480"/>
          <a:ext cx="533160" cy="21906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>
            <a:off x="6400800" y="4038480"/>
            <a:ext cx="6858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C8B-293A-4BC8-9280-9A26FB537F9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2E91E-4C2F-4D1A-8AE8-B8AB9F3312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 produ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pairs rows from two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for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utput a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oncaten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F50-F257-4876-9917-45FE86B5BC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CFBD5-8F7F-490A-A967-9F8AD6D4C1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 product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80880" y="1676520"/>
          <a:ext cx="350532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5791320" y="1676520"/>
          <a:ext cx="2514600" cy="10951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1523880" y="3809880"/>
          <a:ext cx="5867640" cy="2555640"/>
        </p:xfrm>
        <a:graphic>
          <a:graphicData uri="http://schemas.openxmlformats.org/drawingml/2006/table">
            <a:tbl>
              <a:tblPr/>
              <a:tblGrid>
                <a:gridCol w="690840"/>
                <a:gridCol w="1720800"/>
                <a:gridCol w="561960"/>
                <a:gridCol w="723960"/>
                <a:gridCol w="723600"/>
                <a:gridCol w="722520"/>
                <a:gridCol w="72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6" name=""/>
          <p:cNvGrpSpPr/>
          <p:nvPr/>
        </p:nvGrpSpPr>
        <p:grpSpPr>
          <a:xfrm>
            <a:off x="3886200" y="2286000"/>
            <a:ext cx="1905120" cy="1523880"/>
            <a:chOff x="3886200" y="2286000"/>
            <a:chExt cx="1905120" cy="1523880"/>
          </a:xfrm>
        </p:grpSpPr>
        <p:grpSp>
          <p:nvGrpSpPr>
            <p:cNvPr id="457" name=""/>
            <p:cNvGrpSpPr/>
            <p:nvPr/>
          </p:nvGrpSpPr>
          <p:grpSpPr>
            <a:xfrm>
              <a:off x="4038480" y="2743200"/>
              <a:ext cx="1523880" cy="838080"/>
              <a:chOff x="4038480" y="2743200"/>
              <a:chExt cx="1523880" cy="838080"/>
            </a:xfrm>
          </p:grpSpPr>
          <p:sp>
            <p:nvSpPr>
              <p:cNvPr id="458" name=""/>
              <p:cNvSpPr/>
              <p:nvPr/>
            </p:nvSpPr>
            <p:spPr>
              <a:xfrm>
                <a:off x="4038480" y="2743200"/>
                <a:ext cx="1523880" cy="8380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47960" y="289548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0066"/>
                    </a:solidFill>
                    <a:latin typeface="Times New Roman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3886200" y="2362320"/>
              <a:ext cx="533520" cy="5331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57800" y="2286000"/>
              <a:ext cx="533520" cy="5335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0600" y="3505320"/>
              <a:ext cx="0" cy="30456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6A4-6C94-433F-96A3-CFF95504F3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9C584-E384-4F9C-B474-CC9E7B0281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371600"/>
          <a:ext cx="7200720" cy="3600360"/>
        </p:xfrm>
        <a:graphic>
          <a:graphicData uri="http://schemas.openxmlformats.org/drawingml/2006/table">
            <a:tbl>
              <a:tblPr/>
              <a:tblGrid>
                <a:gridCol w="3568680"/>
                <a:gridCol w="363204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nformal Term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ormal Term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/Do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s in a colum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ma of a 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ed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495680" y="1981080"/>
            <a:ext cx="35053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438280"/>
            <a:ext cx="35053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2971800"/>
            <a:ext cx="3505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3505320"/>
            <a:ext cx="3505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962520"/>
            <a:ext cx="3505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495680"/>
            <a:ext cx="35053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912-7870-4597-AC00-2CC5F7DC96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9E389-961B-496D-96C0-595EAB1A48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ote on column ord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rdering of columns in a table is considered unimportant (as is the ordering of r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495288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means cross product is commutative, i.e.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53120" y="3078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Garmnd BT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2666880"/>
          <a:ext cx="350532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4800600" y="2666880"/>
          <a:ext cx="350532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FCC-6779-4963-984A-56488FF7C9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2D3BA-FCDE-4FB1-A704-165AABECE5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operator: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0" lang="en-US" sz="2600" spc="-1" strike="noStrike">
                <a:solidFill>
                  <a:srgbClr val="330066"/>
                </a:solidFill>
                <a:latin typeface="Times New Roman"/>
              </a:rPr>
              <a:t>join condition/predic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relate rows from two tables according to some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for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ach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utput a r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51814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hand for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856-E15C-4652-A081-B4325F88A40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CD941-2CB0-4DDF-88E8-121F2D2C30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i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about students, plus CID’s of their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438280" y="5238720"/>
            <a:ext cx="3962520" cy="587520"/>
            <a:chOff x="2438280" y="5238720"/>
            <a:chExt cx="3962520" cy="587520"/>
          </a:xfrm>
        </p:grpSpPr>
        <p:sp>
          <p:nvSpPr>
            <p:cNvPr id="475" name=""/>
            <p:cNvSpPr/>
            <p:nvPr/>
          </p:nvSpPr>
          <p:spPr>
            <a:xfrm>
              <a:off x="2438280" y="5238720"/>
              <a:ext cx="3962520" cy="0"/>
            </a:xfrm>
            <a:prstGeom prst="line">
              <a:avLst/>
            </a:prstGeom>
            <a:ln w="31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5521320"/>
              <a:ext cx="3962520" cy="0"/>
            </a:xfrm>
            <a:prstGeom prst="line">
              <a:avLst/>
            </a:prstGeom>
            <a:ln w="31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5826240"/>
              <a:ext cx="3962520" cy="0"/>
            </a:xfrm>
            <a:prstGeom prst="line">
              <a:avLst/>
            </a:prstGeom>
            <a:ln w="31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-591120" y="3429000"/>
            <a:ext cx="544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Use </a:t>
            </a: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table_name</a:t>
            </a:r>
            <a:r>
              <a:rPr b="0" lang="en-US" sz="2400" spc="-1" strike="noStrike">
                <a:solidFill>
                  <a:srgbClr val="330066"/>
                </a:solidFill>
                <a:latin typeface="AmeriGarmnd BT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meriGarmnd BT"/>
              </a:rPr>
              <a:t>column_name</a:t>
            </a: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 synt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to disambigu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identically nam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column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different inpu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meriGarmnd BT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09480" y="1981080"/>
          <a:ext cx="3505320" cy="1460520"/>
        </p:xfrm>
        <a:graphic>
          <a:graphicData uri="http://schemas.openxmlformats.org/drawingml/2006/table">
            <a:tbl>
              <a:tblPr/>
              <a:tblGrid>
                <a:gridCol w="65412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6248520" y="2028960"/>
          <a:ext cx="2514600" cy="10951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2514600" y="3921120"/>
          <a:ext cx="5867280" cy="2555640"/>
        </p:xfrm>
        <a:graphic>
          <a:graphicData uri="http://schemas.openxmlformats.org/drawingml/2006/table">
            <a:tbl>
              <a:tblPr/>
              <a:tblGrid>
                <a:gridCol w="690480"/>
                <a:gridCol w="1720800"/>
                <a:gridCol w="561960"/>
                <a:gridCol w="723960"/>
                <a:gridCol w="723600"/>
                <a:gridCol w="722520"/>
                <a:gridCol w="72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2" name=""/>
          <p:cNvGrpSpPr/>
          <p:nvPr/>
        </p:nvGrpSpPr>
        <p:grpSpPr>
          <a:xfrm>
            <a:off x="4114800" y="2590920"/>
            <a:ext cx="2133720" cy="1371600"/>
            <a:chOff x="4114800" y="2590920"/>
            <a:chExt cx="2133720" cy="1371600"/>
          </a:xfrm>
        </p:grpSpPr>
        <p:grpSp>
          <p:nvGrpSpPr>
            <p:cNvPr id="483" name=""/>
            <p:cNvGrpSpPr/>
            <p:nvPr/>
          </p:nvGrpSpPr>
          <p:grpSpPr>
            <a:xfrm>
              <a:off x="4191120" y="2590920"/>
              <a:ext cx="2057400" cy="1292040"/>
              <a:chOff x="4191120" y="2590920"/>
              <a:chExt cx="2057400" cy="1292040"/>
            </a:xfrm>
          </p:grpSpPr>
          <p:sp>
            <p:nvSpPr>
              <p:cNvPr id="484" name=""/>
              <p:cNvSpPr/>
              <p:nvPr/>
            </p:nvSpPr>
            <p:spPr>
              <a:xfrm>
                <a:off x="4419720" y="2819520"/>
                <a:ext cx="1523880" cy="8380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1120" y="2590920"/>
                <a:ext cx="2057400" cy="12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0066"/>
                    </a:solidFill>
                    <a:latin typeface="dbsym"/>
                    <a:ea typeface="dbsym"/>
                  </a:rPr>
                  <a:t></a:t>
                </a:r>
                <a:br>
                  <a:rPr sz="2400"/>
                </a:br>
                <a:r>
                  <a:rPr b="0" i="1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Student</a:t>
                </a:r>
                <a:r>
                  <a:rPr b="0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.</a:t>
                </a:r>
                <a:r>
                  <a:rPr b="0" i="1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SID</a:t>
                </a:r>
                <a:r>
                  <a:rPr b="0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 = </a:t>
                </a:r>
                <a:br>
                  <a:rPr sz="2400"/>
                </a:br>
                <a:r>
                  <a:rPr b="0" i="1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Enroll</a:t>
                </a:r>
                <a:r>
                  <a:rPr b="0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.</a:t>
                </a:r>
                <a:r>
                  <a:rPr b="0" i="1" lang="en-US" sz="2400" spc="-1" strike="noStrike" baseline="-25000">
                    <a:solidFill>
                      <a:srgbClr val="330066"/>
                    </a:solidFill>
                    <a:latin typeface="AmeriGarmnd BT"/>
                  </a:rPr>
                  <a:t>SI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114800" y="2666880"/>
              <a:ext cx="53352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5562360" y="2666880"/>
              <a:ext cx="6858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81480" y="365760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590920" y="4724280"/>
            <a:ext cx="5715000" cy="1676520"/>
            <a:chOff x="2590920" y="4724280"/>
            <a:chExt cx="5715000" cy="1676520"/>
          </a:xfrm>
        </p:grpSpPr>
        <p:sp>
          <p:nvSpPr>
            <p:cNvPr id="490" name=""/>
            <p:cNvSpPr/>
            <p:nvPr/>
          </p:nvSpPr>
          <p:spPr>
            <a:xfrm>
              <a:off x="2590920" y="4724280"/>
              <a:ext cx="563868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66880" y="6172200"/>
              <a:ext cx="56390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C4E-1A21-49D6-A3B7-D002D46F87D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D0744-B428-4572-8A40-E82BF2AAAB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operator: natural jo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relate rows from two table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force equality on all common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iminate one copy of common attrib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8600" y="407196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hand for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equates all attributes common 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union of all attributes from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ith duplicate attributes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555-8F72-4CEB-ABA1-ADF8C0119F7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878A6-51C1-469F-8D41-68EA1B5B7C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5334120" y="4343400"/>
            <a:ext cx="0" cy="2514600"/>
          </a:xfrm>
          <a:prstGeom prst="line">
            <a:avLst/>
          </a:prstGeom>
          <a:ln w="507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 joi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¼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bsym"/>
                <a:ea typeface="dbsym"/>
              </a:rPr>
              <a:t>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304920" y="2092320"/>
          <a:ext cx="3504960" cy="1460520"/>
        </p:xfrm>
        <a:graphic>
          <a:graphicData uri="http://schemas.openxmlformats.org/drawingml/2006/table">
            <a:tbl>
              <a:tblPr/>
              <a:tblGrid>
                <a:gridCol w="653760"/>
                <a:gridCol w="1631880"/>
                <a:gridCol w="53352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5943600" y="2139840"/>
          <a:ext cx="2514600" cy="109548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2209680" y="3921120"/>
          <a:ext cx="5867640" cy="2555640"/>
        </p:xfrm>
        <a:graphic>
          <a:graphicData uri="http://schemas.openxmlformats.org/drawingml/2006/table">
            <a:tbl>
              <a:tblPr/>
              <a:tblGrid>
                <a:gridCol w="690840"/>
                <a:gridCol w="1720800"/>
                <a:gridCol w="561960"/>
                <a:gridCol w="723960"/>
                <a:gridCol w="723600"/>
                <a:gridCol w="722520"/>
                <a:gridCol w="723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y Cart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L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01" name=""/>
          <p:cNvGrpSpPr/>
          <p:nvPr/>
        </p:nvGrpSpPr>
        <p:grpSpPr>
          <a:xfrm>
            <a:off x="3809880" y="2701800"/>
            <a:ext cx="2133720" cy="1371600"/>
            <a:chOff x="3809880" y="2701800"/>
            <a:chExt cx="2133720" cy="1371600"/>
          </a:xfrm>
        </p:grpSpPr>
        <p:grpSp>
          <p:nvGrpSpPr>
            <p:cNvPr id="502" name=""/>
            <p:cNvGrpSpPr/>
            <p:nvPr/>
          </p:nvGrpSpPr>
          <p:grpSpPr>
            <a:xfrm>
              <a:off x="3886200" y="2701800"/>
              <a:ext cx="2057400" cy="1066680"/>
              <a:chOff x="3886200" y="2701800"/>
              <a:chExt cx="2057400" cy="1066680"/>
            </a:xfrm>
          </p:grpSpPr>
          <p:sp>
            <p:nvSpPr>
              <p:cNvPr id="503" name=""/>
              <p:cNvSpPr/>
              <p:nvPr/>
            </p:nvSpPr>
            <p:spPr>
              <a:xfrm>
                <a:off x="4114800" y="2930400"/>
                <a:ext cx="1523880" cy="8380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886200" y="2701800"/>
                <a:ext cx="205740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3809880" y="2777760"/>
              <a:ext cx="53352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257440" y="2777760"/>
              <a:ext cx="685800" cy="22860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76560" y="3768480"/>
              <a:ext cx="0" cy="30492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286000" y="4724280"/>
            <a:ext cx="5715000" cy="1676520"/>
            <a:chOff x="2286000" y="4724280"/>
            <a:chExt cx="5715000" cy="1676520"/>
          </a:xfrm>
        </p:grpSpPr>
        <p:sp>
          <p:nvSpPr>
            <p:cNvPr id="509" name=""/>
            <p:cNvSpPr/>
            <p:nvPr/>
          </p:nvSpPr>
          <p:spPr>
            <a:xfrm>
              <a:off x="2286000" y="4724280"/>
              <a:ext cx="5638680" cy="990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61960" y="6172200"/>
              <a:ext cx="563904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5943600" y="3962520"/>
            <a:ext cx="60948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C65-32D6-4C92-AFC7-59EED718904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049A6-EFF6-4528-8CFF-3B08FDF2A3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ust have identical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 the same schema a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ins all row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all row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ith duplicate rows elimina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2AD-0AFB-42C9-9DDF-CC5F77B5CE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C8BB7-D860-4834-A7B9-EB8EBC52A5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ust have identical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 the same schema a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ins all rows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are not found i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D9C-C59F-4BA8-9B85-9B731A8781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CEB9A-88F7-4871-9632-6F3DA7AC8A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ed operator: inters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two t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\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ust have identical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s the same schema a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ins all rows that are in both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4191120"/>
            <a:ext cx="86868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hand for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quivalent to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(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o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25D-91AC-4AD4-B6FA-C43EA0BBF1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4A6F5-7606-41C3-A1F1-DBB27CA5CE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: a t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: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…)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…)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rename a table and/or its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 a renamed table with the same rows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oid confusion caused by identical column na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e identical columns names for natural jo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4B4-8833-4772-9D1F-61FD49D880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ED207-94A3-4420-A544-2CBB3CB6C4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ming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Enroll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1,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CID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1,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Grade1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) Enr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57200" y="2257560"/>
          <a:ext cx="2514600" cy="109512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5943600" y="2209680"/>
          <a:ext cx="2514600" cy="1095480"/>
        </p:xfrm>
        <a:graphic>
          <a:graphicData uri="http://schemas.openxmlformats.org/drawingml/2006/table">
            <a:tbl>
              <a:tblPr/>
              <a:tblGrid>
                <a:gridCol w="685800"/>
                <a:gridCol w="9144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3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5" name=""/>
          <p:cNvGrpSpPr/>
          <p:nvPr/>
        </p:nvGrpSpPr>
        <p:grpSpPr>
          <a:xfrm>
            <a:off x="2971800" y="2514600"/>
            <a:ext cx="2971800" cy="838080"/>
            <a:chOff x="2971800" y="2514600"/>
            <a:chExt cx="2971800" cy="838080"/>
          </a:xfrm>
        </p:grpSpPr>
        <p:sp>
          <p:nvSpPr>
            <p:cNvPr id="526" name=""/>
            <p:cNvSpPr/>
            <p:nvPr/>
          </p:nvSpPr>
          <p:spPr>
            <a:xfrm>
              <a:off x="3733920" y="2514600"/>
              <a:ext cx="1523880" cy="838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81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05320" y="2514600"/>
              <a:ext cx="20574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0066"/>
                  </a:solidFill>
                  <a:latin typeface="Symbol"/>
                  <a:ea typeface="Symbol"/>
                </a:rPr>
                <a:t></a:t>
              </a:r>
              <a:r>
                <a:rPr b="0" i="1" lang="en-US" sz="2000" spc="-1" strike="noStrike" baseline="-25000">
                  <a:solidFill>
                    <a:srgbClr val="330066"/>
                  </a:solidFill>
                  <a:latin typeface="Times New Roman"/>
                </a:rPr>
                <a:t>Enroll</a:t>
              </a:r>
              <a:r>
                <a:rPr b="0" lang="en-US" sz="2000" spc="-1" strike="noStrike" baseline="-25000">
                  <a:solidFill>
                    <a:srgbClr val="330066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(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SID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1, 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CID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1,</a:t>
              </a:r>
              <a:r>
                <a:rPr b="0" i="1" lang="en-US" sz="2000" spc="-1" strike="noStrike">
                  <a:solidFill>
                    <a:srgbClr val="330066"/>
                  </a:solidFill>
                  <a:latin typeface="Times New Roman"/>
                </a:rPr>
                <a:t>Grade1</a:t>
              </a:r>
              <a:r>
                <a:rPr b="0" lang="en-US" sz="2000" spc="-1" strike="noStrike">
                  <a:solidFill>
                    <a:srgbClr val="330066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71800" y="2971800"/>
              <a:ext cx="83808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57800" y="2895480"/>
              <a:ext cx="685800" cy="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130-6EE1-4473-AA21-0F2B891739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34459-E7D1-422D-A0C3-F451A2ED8B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ign Ke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oreign key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fields in one relation that is used to `refer’ to a tuple in another relation.  (Must correspond to primary key of the second relation.)  Like a `logical pointer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2800" spc="-1" strike="noStrike">
                <a:solidFill>
                  <a:srgbClr val="cf0e3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oreign key referring to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600" spc="-1" strike="noStrike" u="sng">
                <a:solidFill>
                  <a:srgbClr val="cf0e3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cf0e3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ng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grade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Summary of core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es not really add “processing” pow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91120" y="1066680"/>
            <a:ext cx="3733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¾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¼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¡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cmmi10"/>
              </a:rPr>
              <a:t>½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(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A</a:t>
            </a:r>
            <a:r>
              <a:rPr b="0" lang="en-US" sz="2400" spc="-1" strike="noStrike" baseline="-50000">
                <a:solidFill>
                  <a:srgbClr val="330066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0066"/>
                </a:solidFill>
                <a:latin typeface="Times New Roman"/>
              </a:rPr>
              <a:t>, …)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04F-9A9E-4A05-A7E6-CF5E56CAB8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84A74-9B69-474D-839D-75F50F9F1F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Summary of derived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352680" y="1143000"/>
            <a:ext cx="4343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dbsym"/>
                <a:ea typeface="dbsym"/>
              </a:rPr>
              <a:t></a:t>
            </a:r>
            <a:r>
              <a:rPr b="0" i="1" lang="en-US" sz="2800" spc="-1" strike="noStrike" baseline="-25000">
                <a:solidFill>
                  <a:srgbClr val="33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0066"/>
                </a:solidFill>
                <a:latin typeface="cmsy10"/>
              </a:rPr>
              <a:t>\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006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" y="30481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er join, Division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mijoin, anti-semijoin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AA7-4E74-443D-951E-6102A1349BB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C53A5-3D2A-4988-A8AC-4A726B74AE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tial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value of a foreign key in a tuple can either b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existing value from the corresponding primary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,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foreign key constraints are enforced, 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referential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integ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chieved, i.e., no dangling 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name a data model w/o referential integrit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nks in HTML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4C7-EEB8-49CF-B0B0-A798D25942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817D4-94BC-4AA6-9436-906AB342A2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Referential Integ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39920" y="3817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640" y="3276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040" y="2003400"/>
            <a:ext cx="862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27240" y="20034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33360" y="2003400"/>
            <a:ext cx="1621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54440" y="20034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60560" y="2003400"/>
            <a:ext cx="744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05040" y="2003400"/>
            <a:ext cx="12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040" y="2009880"/>
            <a:ext cx="1296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7240" y="2009880"/>
            <a:ext cx="612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54440" y="2009880"/>
            <a:ext cx="612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5040" y="2009880"/>
            <a:ext cx="1296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" y="2009880"/>
            <a:ext cx="849240" cy="3031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5520" y="202104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" y="2313000"/>
            <a:ext cx="849240" cy="2844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33360" y="2009880"/>
            <a:ext cx="1621080" cy="3031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38600" y="2021040"/>
            <a:ext cx="328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33360" y="2313000"/>
            <a:ext cx="1621080" cy="2844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60560" y="2009880"/>
            <a:ext cx="744480" cy="3031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1920" y="2021040"/>
            <a:ext cx="59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60560" y="2313000"/>
            <a:ext cx="744480" cy="2844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040" y="2341440"/>
            <a:ext cx="12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000" y="2341440"/>
            <a:ext cx="849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27240" y="2341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3360" y="2341440"/>
            <a:ext cx="1621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54440" y="2341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60560" y="2341440"/>
            <a:ext cx="744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05040" y="2341440"/>
            <a:ext cx="12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040" y="2347920"/>
            <a:ext cx="1296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27240" y="2347920"/>
            <a:ext cx="612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54440" y="2347920"/>
            <a:ext cx="612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5040" y="2347920"/>
            <a:ext cx="12960" cy="33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8680" y="2360520"/>
            <a:ext cx="671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366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79800" y="2360520"/>
            <a:ext cx="1309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rnatic10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11120" y="236052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040" y="2679840"/>
            <a:ext cx="1296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27240" y="2679840"/>
            <a:ext cx="612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54440" y="2679840"/>
            <a:ext cx="612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05040" y="2679840"/>
            <a:ext cx="12960" cy="33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8680" y="2692440"/>
            <a:ext cx="671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366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78000" y="2692440"/>
            <a:ext cx="120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ggae20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11120" y="269244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040" y="3011400"/>
            <a:ext cx="12960" cy="3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27240" y="3011400"/>
            <a:ext cx="6120" cy="3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54440" y="3011400"/>
            <a:ext cx="6120" cy="3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5040" y="3011400"/>
            <a:ext cx="12960" cy="3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8680" y="3024360"/>
            <a:ext cx="671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365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76920" y="3024360"/>
            <a:ext cx="144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pology11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11480" y="302436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040" y="3314880"/>
            <a:ext cx="129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040" y="3656160"/>
            <a:ext cx="862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7240" y="3314880"/>
            <a:ext cx="612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27240" y="36561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33360" y="3656160"/>
            <a:ext cx="1621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54440" y="3314880"/>
            <a:ext cx="612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54440" y="36561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3656160"/>
            <a:ext cx="744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5040" y="3314880"/>
            <a:ext cx="1296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5040" y="3656160"/>
            <a:ext cx="12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8680" y="3327480"/>
            <a:ext cx="671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366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79080" y="3327480"/>
            <a:ext cx="120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istory1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11120" y="33274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44840" y="2438280"/>
            <a:ext cx="1143000" cy="304920"/>
          </a:xfrm>
          <a:prstGeom prst="line">
            <a:avLst/>
          </a:prstGeom>
          <a:ln w="2844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21160" y="2819520"/>
            <a:ext cx="106668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444840" y="2909520"/>
            <a:ext cx="1143000" cy="609480"/>
          </a:xfrm>
          <a:prstGeom prst="line">
            <a:avLst/>
          </a:prstGeom>
          <a:ln w="2844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44840" y="3200400"/>
            <a:ext cx="1143000" cy="228600"/>
          </a:xfrm>
          <a:prstGeom prst="line">
            <a:avLst/>
          </a:prstGeom>
          <a:ln w="2844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240" y="1600200"/>
            <a:ext cx="137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En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92520" y="2206800"/>
            <a:ext cx="776520" cy="2919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7720" y="2206800"/>
            <a:ext cx="326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i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92520" y="2498760"/>
            <a:ext cx="776520" cy="493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73720" y="2206800"/>
            <a:ext cx="797040" cy="2919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19440" y="2206800"/>
            <a:ext cx="646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n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73720" y="2498760"/>
            <a:ext cx="797040" cy="493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75440" y="2206800"/>
            <a:ext cx="1515960" cy="2919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41640" y="2206800"/>
            <a:ext cx="56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75440" y="2498760"/>
            <a:ext cx="1515960" cy="493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2206800"/>
            <a:ext cx="636840" cy="2919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85720" y="2206800"/>
            <a:ext cx="41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2498760"/>
            <a:ext cx="636840" cy="493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37600" y="2206800"/>
            <a:ext cx="593640" cy="2919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412120" y="2206800"/>
            <a:ext cx="432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gp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37600" y="2498760"/>
            <a:ext cx="593640" cy="493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9920" y="2201760"/>
            <a:ext cx="789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69040" y="22017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73720" y="2201760"/>
            <a:ext cx="797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70760" y="22017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75440" y="2201760"/>
            <a:ext cx="15159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91400" y="22017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2201760"/>
            <a:ext cx="6368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32920" y="22017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37600" y="2201760"/>
            <a:ext cx="5936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31240" y="2201760"/>
            <a:ext cx="126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9920" y="2206800"/>
            <a:ext cx="1260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9040" y="2206800"/>
            <a:ext cx="468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0760" y="2206800"/>
            <a:ext cx="468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91400" y="2206800"/>
            <a:ext cx="468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32920" y="2206800"/>
            <a:ext cx="468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31240" y="2206800"/>
            <a:ext cx="12600" cy="34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720" y="2552760"/>
            <a:ext cx="68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5366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0" y="2552760"/>
            <a:ext cx="613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J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57440" y="2552760"/>
            <a:ext cx="1058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jones@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30360" y="255276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1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445960" y="2552760"/>
            <a:ext cx="33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3.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9920" y="2548080"/>
            <a:ext cx="12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92520" y="2548080"/>
            <a:ext cx="7765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9040" y="254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73720" y="2548080"/>
            <a:ext cx="79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70760" y="254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75440" y="2548080"/>
            <a:ext cx="1515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91400" y="254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96080" y="2548080"/>
            <a:ext cx="636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32920" y="254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37600" y="2548080"/>
            <a:ext cx="593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931240" y="2548080"/>
            <a:ext cx="12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9920" y="2552760"/>
            <a:ext cx="1260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69040" y="25527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70760" y="25527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91400" y="25527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32920" y="25527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931240" y="2552760"/>
            <a:ext cx="1260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90720" y="2890800"/>
            <a:ext cx="68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5368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03600" y="2890800"/>
            <a:ext cx="657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mi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0960" y="2890800"/>
            <a:ext cx="1360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mith@eec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830360" y="289080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1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45960" y="2890800"/>
            <a:ext cx="33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3.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9920" y="2890800"/>
            <a:ext cx="1260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69040" y="2890800"/>
            <a:ext cx="468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70760" y="2890800"/>
            <a:ext cx="468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91400" y="2890800"/>
            <a:ext cx="468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32920" y="2890800"/>
            <a:ext cx="468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31240" y="2890800"/>
            <a:ext cx="12600" cy="33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90720" y="3224160"/>
            <a:ext cx="686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536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03600" y="3224160"/>
            <a:ext cx="657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mi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59960" y="3224160"/>
            <a:ext cx="1454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smith@ma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30360" y="322416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45960" y="3224160"/>
            <a:ext cx="33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3.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9920" y="3225960"/>
            <a:ext cx="1260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9920" y="3564000"/>
            <a:ext cx="789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69040" y="32259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69040" y="3564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73720" y="3564000"/>
            <a:ext cx="797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70760" y="32259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70760" y="3564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75440" y="3564000"/>
            <a:ext cx="1515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91400" y="32259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91400" y="3564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96080" y="3564000"/>
            <a:ext cx="636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32920" y="3225960"/>
            <a:ext cx="468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32920" y="35640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37600" y="3564000"/>
            <a:ext cx="593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931240" y="3225960"/>
            <a:ext cx="12600" cy="33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931240" y="3564000"/>
            <a:ext cx="12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26640" y="1827360"/>
            <a:ext cx="145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55680" y="3657600"/>
            <a:ext cx="3276360" cy="459720"/>
            <a:chOff x="355680" y="3657600"/>
            <a:chExt cx="3276360" cy="459720"/>
          </a:xfrm>
        </p:grpSpPr>
        <p:sp>
          <p:nvSpPr>
            <p:cNvPr id="275" name=""/>
            <p:cNvSpPr/>
            <p:nvPr/>
          </p:nvSpPr>
          <p:spPr>
            <a:xfrm>
              <a:off x="355680" y="3657600"/>
              <a:ext cx="327636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f0e30"/>
                  </a:solidFill>
                  <a:latin typeface="Book Antiqua"/>
                </a:rPr>
                <a:t>11111  English102  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9320" y="3657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95480" y="3657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52280" y="3886200"/>
            <a:ext cx="3886200" cy="0"/>
          </a:xfrm>
          <a:prstGeom prst="line">
            <a:avLst/>
          </a:prstGeom>
          <a:ln w="381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9810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35812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2209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20120" y="2209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05920" y="22096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871-6D0A-40A2-B0ED-378C0C0680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FB7B7-4CDF-4E35-BEB9-7B6E2EE1B2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95280" y="4551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33560" y="4551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Identify Foreign Ke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list the sche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sid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sid: string, cid: string, grade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list the primary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grade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Identify Foreign Key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Identify as foreign key where a primary key in relation A is used in another relation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is a referenced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 is the referencing re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primary key in A is the foreign key in 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4: Use directed line to connect B 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grade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 in Enrolled is the foreign key in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362320" y="4419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F74-1488-4AB5-B74D-FB79468260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D71CB-7AD1-4DD7-AECD-E64D7DB3BE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Class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219320"/>
            <a:ext cx="83059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aken from Exercise 5.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following relations for a database that keeps track of student enrollment in courses and the books adopted for each cou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ame, Major, B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name, De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ROLL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r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r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_ADOPTION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r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ok_ISB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ok_ISB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ok_Title, Publisher, Auth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a relational schema diagram specifying the foreign keys for this sch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3429000"/>
            <a:ext cx="152640" cy="838080"/>
          </a:xfrm>
          <a:custGeom>
            <a:avLst/>
            <a:gdLst/>
            <a:ahLst/>
            <a:rect l="l" t="t" r="r" b="b"/>
            <a:pathLst>
              <a:path w="96" h="528">
                <a:moveTo>
                  <a:pt x="0" y="528"/>
                </a:moveTo>
                <a:cubicBezTo>
                  <a:pt x="40" y="308"/>
                  <a:pt x="80" y="88"/>
                  <a:pt x="9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2361960" y="3962520"/>
            <a:ext cx="6094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286000" y="3962160"/>
            <a:ext cx="99072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62320" y="5105520"/>
            <a:ext cx="36576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52480" y="4191120"/>
            <a:ext cx="609840" cy="380880"/>
          </a:xfrm>
          <a:prstGeom prst="rect">
            <a:avLst/>
          </a:prstGeom>
          <a:solidFill>
            <a:srgbClr val="cc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124080"/>
            <a:ext cx="609480" cy="381240"/>
          </a:xfrm>
          <a:prstGeom prst="rect">
            <a:avLst/>
          </a:prstGeom>
          <a:solidFill>
            <a:srgbClr val="cc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52480" y="3657600"/>
            <a:ext cx="990720" cy="380880"/>
          </a:xfrm>
          <a:prstGeom prst="rect">
            <a:avLst/>
          </a:prstGeom>
          <a:solidFill>
            <a:srgbClr val="00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4191120"/>
            <a:ext cx="990720" cy="380880"/>
          </a:xfrm>
          <a:prstGeom prst="rect">
            <a:avLst/>
          </a:prstGeom>
          <a:solidFill>
            <a:srgbClr val="00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4724280"/>
            <a:ext cx="990720" cy="381240"/>
          </a:xfrm>
          <a:prstGeom prst="rect">
            <a:avLst/>
          </a:prstGeom>
          <a:solidFill>
            <a:srgbClr val="00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5257800"/>
            <a:ext cx="1600200" cy="380880"/>
          </a:xfrm>
          <a:prstGeom prst="rect">
            <a:avLst/>
          </a:prstGeom>
          <a:solidFill>
            <a:srgbClr val="6699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4724280"/>
            <a:ext cx="1600200" cy="381240"/>
          </a:xfrm>
          <a:prstGeom prst="rect">
            <a:avLst/>
          </a:prstGeom>
          <a:solidFill>
            <a:srgbClr val="6699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C5D-01C5-4367-9ED5-8EF384127F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2D88E-23F0-4027-99D6-7E9C0B37C1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4-04T17:09:34Z</dcterms:modified>
  <cp:revision>623</cp:revision>
  <dc:subject/>
  <dc:title>CS186: Introduction to Database Systems</dc:title>
</cp:coreProperties>
</file>