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8674AF-55D3-4F7F-945C-A550EE84D7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2F7510-58D4-43BB-8DBF-6C777C4C40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447129-5554-4183-B005-B3C10DDA5D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842CB1-FA45-4431-AC25-7A5B35F3E0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0412AD-4489-4B9A-A1FF-EFE0B9626C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4045C9-7EE7-40F8-BD37-EF9CE3A66E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B3C33FE-D067-4D94-B178-B44F8346E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CED653-2A1E-4961-A057-59AF30AB3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082A21-B01A-462B-8DC7-C88585832D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BFEF73-AB9A-43A1-B7BB-3B6F4367DB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072CF3-2EE3-4BFD-989C-0DA6B3DB44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3AF3ED-A060-4A68-9B6C-941DD62E01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8C80AE6-E8E4-49E0-A5DC-0AA005B5EC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9B5966-707D-4DCD-B470-BA5472B52E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E5F4E9-9F6E-4007-8C33-67DAA112E9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4E2FBF-F0F3-42A0-8DF4-1664C8090F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6BF399-8DB1-4FB9-9B8A-222181FA70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42ED4F-9F30-4B6B-BCD6-4F058D4686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7D97EBA-6901-443B-9FAA-28087498E4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hort-duration read/write lock: lock and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actice, probably just acquire latches on pages to prevent reading physically corrup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E495053-B7D8-4209-AFA5-76E3DEA51D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Lock the stuff before access, release lock right after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lock are long-duration: hold until the end (to prevent read uncommit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246768-A896-4052-9026-F479726F77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the stuff I access, and don’t release until I 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x: you can lock entire table, but that’s ba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lock things that don’t exist yet to prevent 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479496-23A6-44C8-AAAD-BA4D2ADF3D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the stuff I access, and don’t release until I 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x: you can lock entire table, but that’s ba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lock things that don’t exist yet to prevent 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3C41D6-0021-4595-9909-5DA8EF9360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7B548C-6994-44B3-81E0-F93800696C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558C23-D4DA-4CCA-AA87-F03EC558FD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805987-5A84-4E73-AF6F-420E4642B5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03194A-5311-4560-8F15-6536C2D652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98237A-4B86-468D-9F40-C82F27091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7996DDD-D2AE-4529-AB95-FB97A4A3BD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7BC5DE3-F9A6-4EBB-A4A6-9778F4E4EA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95F1BD-CABE-45EC-AFF3-99A3DB28CC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68DA-096E-4633-8111-3E09C50A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561E-29D8-42D0-8A36-A8C4C24C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3A61-B683-4C40-A232-FA22BADA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A53-A12A-4F4C-969A-4ED47EE4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829-3F80-4835-8B95-BFD70B47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594F-B5EE-471D-90A1-2C9FE3B6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1EF-EF1D-4134-9BF6-2E46FDEB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FBE7-E952-4C78-B5A8-EC1D9C50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F776-7861-4885-B087-2B5C3143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7117-6381-4AA3-B14A-12B1F11A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A2CB-832D-4989-A4E0-240C659E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5EAE-4DD5-45B7-BC1B-0A68FCB0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12D7-F80A-4BAD-BDAE-1ECEBB0B24A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1B62-FAC6-421B-AA57-CD4CF8CA96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ifying vie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seem to make sense since views are vir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es make sense if that is how users see th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modify the </a:t>
            </a:r>
            <a:r>
              <a:rPr b="0" i="1" lang="en-US" sz="2800" spc="-1" strike="noStrike">
                <a:solidFill>
                  <a:srgbClr val="738d74"/>
                </a:solidFill>
                <a:latin typeface="Times New Roman"/>
              </a:rPr>
              <a:t>base t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the modification would appear to have been accomplished on the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carefu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re may be one way to modif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re may be many ways to modif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re may be no way to modif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37B1-8C85-4296-9A2B-70D99FC8493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297D1-1A56-49EF-87E2-F9E774E754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imple c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CREATE VIEW StudentGPA AS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ELECT SID, GPA FROM Stud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DELETE FROM StudentGPA WHERE SID = 12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e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DELETE FROM Student WHERE SID = 12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D7D-81E3-4886-9E1D-ABAC48E2F5E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1EF33-0E5C-4FBC-B05F-D31E425940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mpossible c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CREATE VIEW HighGPAStudent AS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ELECT SID, GPA FROM Student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WHERE GPA &gt; 3.7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INSERT INTO HighGPAStud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VALUES(987, 2.5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tter what you do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inserted row will not b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GPA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CE0A-BC61-4F86-8FC5-8124F860B1D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23896-954D-4462-90D4-C687E21777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ase with too many possib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CREATE VIEW AverageGPA(GPA) AS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ELECT AVG(GPA) FROM Stud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e that you can rename columns in view defin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UPDATE AverageGPA SET GPA = 2.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everybody’s GPA to 2.5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 everybody’s GPA by the same amou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lower Lisa’s GP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3015-458A-4C7A-9E52-04A6A45FE2E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6A173-C6A1-491E-B988-50C2840D41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92 updateable vie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or less just single-table selection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jo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aggreg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sub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ably somewhat restri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might get it wrong in som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e the slide titled “An impossible case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ing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WITH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CHECK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OP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the end of the view definition will make DBMS reject such modific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028C-A60B-41B8-AD30-0A90F058885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E994D-46C8-498C-9AEF-83BDDB11138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es for Performance Tu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7f966a"/>
                </a:solidFill>
                <a:latin typeface="Times New Roman"/>
              </a:rPr>
              <a:t>ind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auxiliary persistent data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arch tree (e.g. B-tree, R-tre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okup table (e.g., hash table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ex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speed up accesses of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looku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range quer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ex on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can spee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…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on indexes in the second half of this cours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18FF-146E-40E0-98DC-EC0A953585E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CBF31-7C1B-4DC8-B243-4F4B2C26F5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Hash Ind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* FROM Student WHERE name = ‘Kevin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out an index on Student.name: must scan the entire table if we store Student as a flat file of unordered ro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 index: go “directly” to rows with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name = ’Kevin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495680" y="2971800"/>
          <a:ext cx="3504960" cy="2200320"/>
        </p:xfrm>
        <a:graphic>
          <a:graphicData uri="http://schemas.openxmlformats.org/drawingml/2006/table">
            <a:tbl>
              <a:tblPr/>
              <a:tblGrid>
                <a:gridCol w="653760"/>
                <a:gridCol w="1632240"/>
                <a:gridCol w="53316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1600200" y="2971800"/>
            <a:ext cx="2971800" cy="2200320"/>
            <a:chOff x="1600200" y="2971800"/>
            <a:chExt cx="2971800" cy="2200320"/>
          </a:xfrm>
        </p:grpSpPr>
        <p:sp>
          <p:nvSpPr>
            <p:cNvPr id="141" name=""/>
            <p:cNvSpPr/>
            <p:nvPr/>
          </p:nvSpPr>
          <p:spPr>
            <a:xfrm>
              <a:off x="1600200" y="4807080"/>
              <a:ext cx="16318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ev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4441680"/>
              <a:ext cx="1631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s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00200" y="4076640"/>
              <a:ext cx="16318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00200" y="3711600"/>
              <a:ext cx="16318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00200" y="3346560"/>
              <a:ext cx="16318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oh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00200" y="2971800"/>
              <a:ext cx="1631880" cy="374760"/>
            </a:xfrm>
            <a:prstGeom prst="rect">
              <a:avLst/>
            </a:prstGeom>
            <a:solidFill>
              <a:srgbClr val="e1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971800"/>
              <a:ext cx="1631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0200" y="5172120"/>
              <a:ext cx="1631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00200" y="3346560"/>
              <a:ext cx="16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0200" y="3711600"/>
              <a:ext cx="16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00200" y="4076640"/>
              <a:ext cx="16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00200" y="4441680"/>
              <a:ext cx="16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00200" y="4807080"/>
              <a:ext cx="16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00200" y="2971800"/>
              <a:ext cx="0" cy="2200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32080" y="2971800"/>
              <a:ext cx="0" cy="2200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00400" y="358128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00400" y="39625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00400" y="434340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0400" y="46483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00400" y="495288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752480" y="5410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ash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5C74-84EF-45D2-910A-61B1FB065C6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24041-25F2-4C49-A7E8-072F03FC41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ng and dropping inde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CREAT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[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UNIQUE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 INDEX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index_name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 ON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table_name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column_name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,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column_name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UNIQ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the DBMS will also enforce that 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lumn_nam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lumn_nam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is a key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able_na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CREATE INDE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ame_index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UDENT (SName)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DROP INDEX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index_name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, the DBMS will automatically create indexes for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PRI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UNI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aint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D5F-0A4E-4C61-8632-803EDB481DF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6DF51-41D3-48E6-9800-12CDB45557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osing indexes to cre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indexes =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es tak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es need to be maintained when data is upd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es have one more level of in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index selection depends on both query and update workload and the size of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06C-392D-4F09-AA86-707F22E9F58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D101D-8EFB-458D-8FDA-C15017123F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may carry out many operations on the data retrieved from th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 DBMS is only concerned about what data is read/written from/to the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data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a fixed set of rel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A, B, C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transaction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a sequence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read(A), write(B)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BMS’s abstract view of a user progr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829-CF2E-4516-BF1B-05962279217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AD90C-0B4E-4B65-A5D0-1E919704D570}" type="datetime1">
              <a:rPr lang="en-US"/>
              <a:t>07/28/26</a:t>
            </a:fld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book has been reserved in the engineering libr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mining : concepts and techniques by Jiawei Han and Micheline Kamb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A04-F51B-4A20-902A-D9A045DA4E3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971F2-BB8F-4568-8713-7041C3CC62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ctness criteria: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99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tomicit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actions in the Xact happen, or none hap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99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onsistenc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each Xact is consistent, and the DB starts consistent, it ends up consis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99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sola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ecution of one Xact is isolated from that of other X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99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urabilit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a Xact commits, its effects pers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xample about SQL Trans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wo transaction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a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45720" y="1371600"/>
            <a:ext cx="611604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1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EGIN   A=A+100,   B=B-100  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2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EGIN   A=1.06*A,   B=1.06*B  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209680"/>
            <a:ext cx="86104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st xact transfers $100 from B’s account to A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nd credits both accounts with 6% inte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at first A and B each have $1000.  What are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legal outcom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running T1 and T2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100 *1.06 = $11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guarantee that T1 will execute before T2 or vice-versa, if both are submitted together.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ut, the net effec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mus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e equivalent to these two transactions running serially in some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A8C9-EC77-4A6A-A126-31496C0C0F5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75A1A-3FC2-4892-9078-42CC54382DE0}" type="datetime1">
              <a:rPr lang="en-US"/>
              <a:t>07/28/26</a:t>
            </a:fld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(Contd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outcomes: A=1166,B=954 or A=1160,B=9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 possible interleaved 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sche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6720" y="1981080"/>
            <a:ext cx="708804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1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=A+100,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B=B-100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2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A=1.06*A,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B=1.06*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819520"/>
            <a:ext cx="906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s is OK (same as T1;T2).  But what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3000" y="3429000"/>
            <a:ext cx="709416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1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=A+100,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=B-100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2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A=1.06*A, B=1.06*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4343400"/>
            <a:ext cx="906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: A=1166, B=960; A+B = 2126, bank loses $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DBMS’s view of the second sched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92040" y="5389560"/>
            <a:ext cx="670428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1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R(A), W(A),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R(B), W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2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(A), W(A), R(B), W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C968-6B87-4E43-BA0F-4588520101A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FBF61-A3E3-4155-9FBD-BC15FE8C4EAF}" type="datetime1">
              <a:rPr lang="en-US"/>
              <a:t>07/28/26</a:t>
            </a:fld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 transa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 in pgSQ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&lt;database operation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COMMIT [ROLLBACK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ansaction is automatically started when a user executes an SQL statement (begin is 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equent statements in the same session are executed as part of this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ements see changes made by earlier ones in the same trans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ements in other concurrently running transactions do not see these chan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COMM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and commits the transaction (flushing the update to disk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ROLLB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and aborts the transaction (all effects are und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0CEA-4534-4596-90BE-977C1272616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9E9B3-6DD2-4709-A11D-AC998F3C17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omic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al effects of a transaction must be undone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r explicitly aborts the transaction using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ROLLBA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application asks for user confirmation in the last step and issues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COMM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ROLLB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ing on the respo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DBMS crashes before a transaction comm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al effects of a modification statement must be undone when any constraint is vio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ever, only this statement is rolled back; the transaction contin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atomicity achiev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gging (to support und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A57-DF65-4123-8CD5-D38397EBD4C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C8D75-83D9-483C-A1D1-FBB47569F6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s must appear to be executed in 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erial schedu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ith no interleaving oper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performance, DBMS executes transactions using 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erializable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is schedule, only those operations that can be interleaved are executed concurrent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ose that can not be interleaved are in a serialized w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schedule guarantees to produce the same effects as a serial sched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585-4380-4332-989C-0A248B7FA67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7FDDE-0C0E-4B10-8AFF-8F942C59F7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 isolation lev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est isolation level: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ERIALIZ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lete iso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ually se as defau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er isolation levels: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REPEATABLE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READ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COMMIT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READ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UNCOM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rease performance by eliminating overhead and allowing higher degrees of concurr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de-off: sometimes you get the “wrong” answ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gSQL default is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READ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COMMIT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0E37-514D-464D-BDC5-AC338BDFC7F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C91E8-D013-43F9-89DD-16E8667DC5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READ UNCOMMIT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read “dirty”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data item is dirty if it is written by an uncommitted trans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What if the transaction that wrote the dirty data eventually abor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wrong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-- T1: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-- T2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UPDATE Stud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T GPA = 3.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WHERE SID = 142;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LECT AVG(GPA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FROM Studen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ROLLBACK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COMMI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1C8F-61EE-4318-B833-FEE2CECBD24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1DCE4-589C-4C0B-B8D7-951307694F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READ COMMIT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eads see a snapshot of the database (including all committed transactions) right before the </a:t>
            </a:r>
            <a:r>
              <a:rPr b="0" i="1" lang="en-US" sz="2400" spc="-1" strike="noStrike">
                <a:solidFill>
                  <a:srgbClr val="7f966a"/>
                </a:solidFill>
                <a:latin typeface="Times New Roman"/>
              </a:rPr>
              <a:t>beginning of th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dirty reads, but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non-repeatable rea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s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ing the same data item twice can produce different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different aver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-- T1: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-- T2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LECT AVG(GPA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FROM Studen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UPDATE Stud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T GPA = 3.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WHERE SID = 142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COMMI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LECT AVG(GPA)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FROM Studen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COMMI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AE16-A3B1-45DF-9456-5DF0FCE3C6B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FFC73-B06C-4AF8-B63A-2026A6C799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REPEATABLE REA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s are repeatable, but may se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phan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Do not allow the modification of existing valu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New rows may be inserted in the mean 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different average (still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-- T1: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-- T2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LECT AVG(GPA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FROM Studen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INSERT INTO Stud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VALUES(789, ‘Nelson’, 10, 1.0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COMMI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LECT AVG(GPA)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FROM Studen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COMMI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FA42-10F4-4EE2-8295-30A4E848275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CA79B-0AFA-4BFB-A900-C8744E28B0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Data Integrity in SQ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35E2-6748-48AA-A9A5-427DCC6672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8B283-FAC9-4C38-B328-55CC0D4933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SERIALIZABLE REA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s see the snapshot of the database right before the </a:t>
            </a:r>
            <a:r>
              <a:rPr b="0" i="1" lang="en-US" sz="2800" spc="-1" strike="noStrike">
                <a:solidFill>
                  <a:srgbClr val="7f966a"/>
                </a:solidFill>
                <a:latin typeface="Times New Roman"/>
              </a:rPr>
              <a:t>begin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the same 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-- T1: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-- T2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LECT AVG(GPA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FROM Studen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INSERT INTO Stud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VALUES(789, ‘Nelson’, 10, 1.0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COMMI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LECT AVG(GPA)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FROM Studen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COMMI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00D-F35B-43DE-8098-A43279B85F5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4FC41-DBDF-43EE-8616-FA3EEBF195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of SQL isolation lev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3470400"/>
            <a:ext cx="8610480" cy="28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: At the beginning of a transaction,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ET TRANSACTION ISOLATION LEV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olation_level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READ ON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READ 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READ UNCOMMITT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an only be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READ ON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" y="1143000"/>
          <a:ext cx="8686800" cy="2282760"/>
        </p:xfrm>
        <a:graphic>
          <a:graphicData uri="http://schemas.openxmlformats.org/drawingml/2006/table">
            <a:tbl>
              <a:tblPr/>
              <a:tblGrid>
                <a:gridCol w="2895480"/>
                <a:gridCol w="1524240"/>
                <a:gridCol w="2743200"/>
                <a:gridCol w="1523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olation level/anoma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Dirty rea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Non-repeatable rea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Phanto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LettrGoth12 BT"/>
                        </a:rPr>
                        <a:t>READ UNCOMMIT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LettrGoth12 BT"/>
                        </a:rPr>
                        <a:t>READ COMMIT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LettrGoth12 BT"/>
                        </a:rPr>
                        <a:t>REPEATABLE 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LettrGoth12 BT"/>
                        </a:rPr>
                        <a:t>SERIALIZ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63B2-4931-4009-AB6D-E206309ABDB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0D3FD-1CAA-4201-95D3-19AFC826DA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ursion in SQ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2 had no recu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can find Bart’s parents, grandparents, great grandparents,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p1.parent AS grandpa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Parent p1, Parent p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 p1.child = p2.pa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AND p2.child = ’Bart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t you cannot find all his ancestors with a single que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3 introduces recu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WI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emented in DB2 (called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common table expressio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fortunately, pgSQL does not support 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4EB4-FEA2-4D01-A1EB-EC5F883D11B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0821F-BC03-43BF-88BE-4BBBA7C538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estor query in SQL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Ancestor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(anc, desc)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((SELECT parent, child FROM 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UN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(SELECT a1.anc, a2.des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 FROM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Ancestor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a1,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Ancestor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 WHERE a1.desc = a2.anc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an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Ances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 desc = ’Bart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400280" y="3733920"/>
            <a:ext cx="3672360" cy="1218960"/>
            <a:chOff x="4400280" y="3733920"/>
            <a:chExt cx="3672360" cy="1218960"/>
          </a:xfrm>
        </p:grpSpPr>
        <p:sp>
          <p:nvSpPr>
            <p:cNvPr id="207" name=""/>
            <p:cNvSpPr/>
            <p:nvPr/>
          </p:nvSpPr>
          <p:spPr>
            <a:xfrm>
              <a:off x="4419720" y="3733920"/>
              <a:ext cx="304560" cy="121896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00280" y="3962520"/>
              <a:ext cx="367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Query using the relation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defined in </a:t>
              </a: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 clau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858000" y="1371600"/>
            <a:ext cx="1911600" cy="2819520"/>
            <a:chOff x="6858000" y="1371600"/>
            <a:chExt cx="1911600" cy="2819520"/>
          </a:xfrm>
        </p:grpSpPr>
        <p:sp>
          <p:nvSpPr>
            <p:cNvPr id="210" name=""/>
            <p:cNvSpPr/>
            <p:nvPr/>
          </p:nvSpPr>
          <p:spPr>
            <a:xfrm>
              <a:off x="6858000" y="1371600"/>
              <a:ext cx="304920" cy="28195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0520" y="2165400"/>
              <a:ext cx="172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Define a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a relation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recursive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838080" y="1219320"/>
            <a:ext cx="6684480" cy="838080"/>
            <a:chOff x="838080" y="1219320"/>
            <a:chExt cx="6684480" cy="838080"/>
          </a:xfrm>
        </p:grpSpPr>
        <p:sp>
          <p:nvSpPr>
            <p:cNvPr id="213" name=""/>
            <p:cNvSpPr/>
            <p:nvPr/>
          </p:nvSpPr>
          <p:spPr>
            <a:xfrm>
              <a:off x="838080" y="1600200"/>
              <a:ext cx="6019920" cy="45720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50440" y="1219320"/>
              <a:ext cx="157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base c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762120" y="1905120"/>
            <a:ext cx="5970240" cy="1752480"/>
            <a:chOff x="762120" y="1905120"/>
            <a:chExt cx="5970240" cy="1752480"/>
          </a:xfrm>
        </p:grpSpPr>
        <p:sp>
          <p:nvSpPr>
            <p:cNvPr id="216" name=""/>
            <p:cNvSpPr/>
            <p:nvPr/>
          </p:nvSpPr>
          <p:spPr>
            <a:xfrm>
              <a:off x="762120" y="2286000"/>
              <a:ext cx="5410080" cy="1371600"/>
            </a:xfrm>
            <a:prstGeom prst="roundRect">
              <a:avLst>
                <a:gd name="adj" fmla="val 9838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97120" y="1905120"/>
              <a:ext cx="22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recursion ste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810520" y="5867280"/>
            <a:ext cx="65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How do we compute such a recursive que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6CF-8E9B-42E0-9C04-18E7D857FC8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D962C4-FF17-44E0-84CF-E247305F84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of SQL features covered so f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g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Databas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4BF-546C-4DB8-9272-3FC2E4AC9CD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73279-B14B-459F-840C-876D22B937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gg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CREATE TRIGGER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EECS168AutoRecrui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AFTER INSERT ON Stud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REFERENCING NEW ROW AS newStud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OR EACH RO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WHEN (newStudent.GPA &gt; 3.0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INSERT INTO Enrol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   VALUES(newStudent.SID, ’EECS168’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981080" y="1523880"/>
            <a:ext cx="4821480" cy="459720"/>
            <a:chOff x="1981080" y="1523880"/>
            <a:chExt cx="4821480" cy="459720"/>
          </a:xfrm>
        </p:grpSpPr>
        <p:sp>
          <p:nvSpPr>
            <p:cNvPr id="100" name=""/>
            <p:cNvSpPr/>
            <p:nvPr/>
          </p:nvSpPr>
          <p:spPr>
            <a:xfrm>
              <a:off x="1981080" y="1523880"/>
              <a:ext cx="3581280" cy="45720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62360" y="1752480"/>
              <a:ext cx="304920" cy="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26240" y="152388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Ev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752480" y="2743200"/>
            <a:ext cx="6385680" cy="459720"/>
            <a:chOff x="1752480" y="2743200"/>
            <a:chExt cx="6385680" cy="459720"/>
          </a:xfrm>
        </p:grpSpPr>
        <p:sp>
          <p:nvSpPr>
            <p:cNvPr id="104" name=""/>
            <p:cNvSpPr/>
            <p:nvPr/>
          </p:nvSpPr>
          <p:spPr>
            <a:xfrm>
              <a:off x="1752480" y="2743200"/>
              <a:ext cx="4605840" cy="45720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58320" y="2971800"/>
              <a:ext cx="312120" cy="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62800" y="2743200"/>
              <a:ext cx="157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Cond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09480" y="3276720"/>
            <a:ext cx="8229240" cy="1526400"/>
            <a:chOff x="609480" y="3276720"/>
            <a:chExt cx="8229240" cy="1526400"/>
          </a:xfrm>
        </p:grpSpPr>
        <p:sp>
          <p:nvSpPr>
            <p:cNvPr id="108" name=""/>
            <p:cNvSpPr/>
            <p:nvPr/>
          </p:nvSpPr>
          <p:spPr>
            <a:xfrm>
              <a:off x="609480" y="3276720"/>
              <a:ext cx="8229240" cy="91404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83960" y="4190760"/>
              <a:ext cx="0" cy="2282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99760" y="4343400"/>
              <a:ext cx="108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D3FA-5788-4E7B-982D-9CC689D4DF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C2563-A9D6-4CE3-B5CC-87DDDFB85E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53F-EA30-48CB-8B30-999B536EC6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0B428-59FF-41F8-881E-C3ED01B783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like a “virtual”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ined by a query, which describes how to compute the view contents on the f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BMS stores the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view definition qu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stead of view cont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be used in queries just like a regular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D86-0037-40DF-B85B-AC616FBF06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1047A-F147-4B9C-B906-E76D99D24F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ng and dropping vie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EECS647r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CREATE VIEW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EECS647Roster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A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SID, name, age, GPA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ROM Studen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 SID IN (SELECT SID FROM Enrol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             WHERE CID = ’EECS647’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op a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DROP VIEW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iew_name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504960" y="1981080"/>
            <a:ext cx="5636520" cy="914400"/>
            <a:chOff x="3504960" y="1981080"/>
            <a:chExt cx="5636520" cy="914400"/>
          </a:xfrm>
        </p:grpSpPr>
        <p:sp>
          <p:nvSpPr>
            <p:cNvPr id="118" name=""/>
            <p:cNvSpPr/>
            <p:nvPr/>
          </p:nvSpPr>
          <p:spPr>
            <a:xfrm>
              <a:off x="6159600" y="1981080"/>
              <a:ext cx="29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Called “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base tables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504960" y="2285640"/>
              <a:ext cx="289548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236196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E68-240C-40C8-AF00-C738B15918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312CD-CB3D-45DE-B51F-BD53FF5A46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views in qu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ind the average GPA of EECS647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AVG(GPA) FROM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EECS647Roster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process the query, replace the reference to the view by its defin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AVG(GPA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ROM (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ELECT SID, name, age, GPA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     FROM Student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     WHERE SID IN (SELECT SID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                   FROM Enroll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                   WHERE CID = ’EECS647’)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4209-945F-4546-8D6E-E22F59C49C6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E68A9-BD47-41B0-A39A-D181EA2977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use view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ide data from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ide complexity from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Logical data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applications deal with views, we can change the underlying schema without affecting applic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all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physical data indepen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change the physical organization of data without affecting applic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ovide a uniform interface for different implementations or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database applications use tons of 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A07-6473-4A95-8C4D-1F73637841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DCDF2-6454-4D19-9781-C817856725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2-28T16:44:45Z</dcterms:modified>
  <cp:revision>1266</cp:revision>
  <dc:subject/>
  <dc:title>CS186: Introduction to Database Systems</dc:title>
</cp:coreProperties>
</file>