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CE20AF-4BCC-416D-A4AB-36B1B46149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F97E99-ACD9-45B7-B657-2D0E896EB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D8E4B4-F07B-4B75-A030-66A88F46F8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30DB32-51E3-443B-BBB4-5AD91529AE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56B36D-1C09-4BF7-A915-A74A207F1B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78495DC-EDBF-46C6-B2B7-CDF7462CDC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CA8E35-8196-4FEE-B697-0A4C0B6B3B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D5A982-5C3C-42CE-BF3B-182CCEC9CE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323F3A-5936-4EA7-A839-075A7711EB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856E48-7B4A-45F1-96E9-76ECA99AB2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00889B-C394-435B-A133-F0C3637B62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5E9384-4D89-4CF4-AE9C-8CC67437B2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041D8D-B692-418A-B81B-6B46F272B5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F3AF06-F4C2-4EF4-B60D-9D4C287ECC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2D25AE-4D82-4D57-BFD2-D4CC826739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F is as at least as strong as BCNF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every BCNF vio is a 4NF v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FD is also M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F is strictly stronger than BCNF, in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’t have “real” m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nly have mvd’s that follow following key fd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43C051-0A43-4277-80E7-7C57A4CA2B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91CC51-F6D9-4FAD-A57D-AF40FCF082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CBF23B-A371-4575-A452-FD4164A9F2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F : There is no partial functional dependency (a non-trivial F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proper subset of some key and A is not prime --- I.e. not part of some 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F: example: A-&gt;B-&gt;C is ok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b-&gt;c, b is not a proper subset of a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cs.bbk.ac.uk/~mark/download/optdb_normal_forms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401C5E-3F07-4E88-9876-A91689A592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6289-F4D0-42F2-87DF-8DE593DA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D63-96C0-4952-B04D-BF7BED5E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65B3-CBD8-4199-874B-31327E43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52B-C4AF-4940-84EF-CD95F92D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E4D-7392-40BE-A298-8DFA10BA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03A8-F88F-4A62-AFEB-8CC44B36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E15-569F-43F3-A57C-B4F21570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774-0F52-4F6E-AC52-165DC309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2C3B-20C0-467E-A263-2566E68D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56DB-8CE8-423E-ADEC-750F6A2D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93E-0701-46A8-8BB2-057DF229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0C76-7272-4E7F-9C58-C2B93D15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7221-5FE3-4C33-9E58-056837BEA2B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9338-2DC2-47DA-8D6B-C04CA05E90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029200"/>
            <a:ext cx="4800600" cy="1557000"/>
          </a:xfrm>
          <a:prstGeom prst="rect">
            <a:avLst/>
          </a:pr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Nobody realizes that some people expend tremendous energy merely to be nor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bert Cam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have to use the “foreign key” mechanism to achieve lossless join in binary decompos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es. See EN 11.1.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4ABE-0E99-43BC-8760-214457AD65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9D817-F9E4-4C53-8AB0-30F1F2E5FD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remove the redundancy that is introduced by non-key FDs in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ick up a non-key F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decompo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attributes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attributes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= attr(R) – X –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ed to do this recursively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 to stop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D21F-DB14-46B7-BEAC-541C076EA04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E669F-5D4D-409B-86DB-F228F479C0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6000" y="1457280"/>
            <a:ext cx="6459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WorkOn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name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hours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84120" y="1946160"/>
            <a:ext cx="325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Pick up 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108720" y="2381400"/>
            <a:ext cx="9161640" cy="1534680"/>
            <a:chOff x="-108720" y="2381400"/>
            <a:chExt cx="9161640" cy="1534680"/>
          </a:xfrm>
        </p:grpSpPr>
        <p:sp>
          <p:nvSpPr>
            <p:cNvPr id="138" name=""/>
            <p:cNvSpPr/>
            <p:nvPr/>
          </p:nvSpPr>
          <p:spPr>
            <a:xfrm>
              <a:off x="-108720" y="2905200"/>
              <a:ext cx="36388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58360" y="3438360"/>
              <a:ext cx="66945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Grade’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hours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828440" y="2381400"/>
              <a:ext cx="2109960" cy="5140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24560" y="2381400"/>
              <a:ext cx="1776240" cy="1047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625200" y="3965400"/>
            <a:ext cx="3611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pickup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22160" y="4419720"/>
            <a:ext cx="8197560" cy="1477800"/>
            <a:chOff x="722160" y="4419720"/>
            <a:chExt cx="8197560" cy="1477800"/>
          </a:xfrm>
        </p:grpSpPr>
        <p:sp>
          <p:nvSpPr>
            <p:cNvPr id="144" name=""/>
            <p:cNvSpPr/>
            <p:nvPr/>
          </p:nvSpPr>
          <p:spPr>
            <a:xfrm flipH="1">
              <a:off x="3300480" y="4419720"/>
              <a:ext cx="2109600" cy="5140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2160" y="5019840"/>
              <a:ext cx="4772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48440" y="4419720"/>
              <a:ext cx="1090440" cy="9903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61360" y="5419800"/>
              <a:ext cx="4158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Grad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hours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486400" y="152280"/>
            <a:ext cx="350532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ou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D734-351A-435F-97D0-A8CA5A6E4B2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91C30-8988-42C5-8872-8D029E1728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m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For every non-trivial FD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is a super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, all FDs follow from “key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ther attribut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 applies binary decomposition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each step, the lossless join property is main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 to remove ALL redundancies caused by 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10810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yce-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EF5C-E9E2-45A7-9A82-010B522FB8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DCE2D-8273-4311-B916-B07B180D75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Types of non-key D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09480" y="1371600"/>
            <a:ext cx="5486400" cy="1143000"/>
            <a:chOff x="609480" y="1371600"/>
            <a:chExt cx="5486400" cy="1143000"/>
          </a:xfrm>
        </p:grpSpPr>
        <p:sp>
          <p:nvSpPr>
            <p:cNvPr id="154" name=""/>
            <p:cNvSpPr/>
            <p:nvPr/>
          </p:nvSpPr>
          <p:spPr>
            <a:xfrm>
              <a:off x="609480" y="1371600"/>
              <a:ext cx="2743200" cy="1143000"/>
            </a:xfrm>
            <a:prstGeom prst="ellipse">
              <a:avLst/>
            </a:prstGeom>
            <a:solidFill>
              <a:srgbClr val="fccd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6000" y="1676520"/>
              <a:ext cx="984240" cy="6033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24280" y="1600200"/>
              <a:ext cx="1371600" cy="57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24080" y="1371600"/>
              <a:ext cx="1981080" cy="381240"/>
            </a:xfrm>
            <a:custGeom>
              <a:avLst/>
              <a:gdLst/>
              <a:ahLst/>
              <a:rect l="l" t="t" r="r" b="b"/>
              <a:pathLst>
                <a:path w="448" h="132">
                  <a:moveTo>
                    <a:pt x="0" y="132"/>
                  </a:moveTo>
                  <a:cubicBezTo>
                    <a:pt x="36" y="76"/>
                    <a:pt x="72" y="20"/>
                    <a:pt x="147" y="10"/>
                  </a:cubicBezTo>
                  <a:cubicBezTo>
                    <a:pt x="222" y="0"/>
                    <a:pt x="335" y="37"/>
                    <a:pt x="448" y="7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324480" y="167652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33520" y="2844720"/>
            <a:ext cx="5486400" cy="1346400"/>
            <a:chOff x="533520" y="2844720"/>
            <a:chExt cx="5486400" cy="1346400"/>
          </a:xfrm>
        </p:grpSpPr>
        <p:grpSp>
          <p:nvGrpSpPr>
            <p:cNvPr id="160" name=""/>
            <p:cNvGrpSpPr/>
            <p:nvPr/>
          </p:nvGrpSpPr>
          <p:grpSpPr>
            <a:xfrm>
              <a:off x="533520" y="3048120"/>
              <a:ext cx="5486400" cy="1143000"/>
              <a:chOff x="533520" y="3048120"/>
              <a:chExt cx="5486400" cy="1143000"/>
            </a:xfrm>
          </p:grpSpPr>
          <p:sp>
            <p:nvSpPr>
              <p:cNvPr id="161" name=""/>
              <p:cNvSpPr/>
              <p:nvPr/>
            </p:nvSpPr>
            <p:spPr>
              <a:xfrm>
                <a:off x="533520" y="3048120"/>
                <a:ext cx="2743200" cy="1143000"/>
              </a:xfrm>
              <a:prstGeom prst="ellipse">
                <a:avLst/>
              </a:prstGeom>
              <a:solidFill>
                <a:srgbClr val="fccd0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 Antiqua"/>
                  </a:rPr>
                  <a:t>ke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48120" y="3352680"/>
                <a:ext cx="984240" cy="603360"/>
              </a:xfrm>
              <a:prstGeom prst="ellipse">
                <a:avLst/>
              </a:prstGeom>
              <a:solidFill>
                <a:srgbClr val="3366ff">
                  <a:alpha val="8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Book Antiqu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48320" y="3276720"/>
                <a:ext cx="1371600" cy="57456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Book Antiqu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657600" y="3048120"/>
                <a:ext cx="1371600" cy="380880"/>
              </a:xfrm>
              <a:custGeom>
                <a:avLst/>
                <a:gdLst/>
                <a:ahLst/>
                <a:rect l="l" t="t" r="r" b="b"/>
                <a:pathLst>
                  <a:path w="448" h="132">
                    <a:moveTo>
                      <a:pt x="0" y="132"/>
                    </a:moveTo>
                    <a:cubicBezTo>
                      <a:pt x="36" y="76"/>
                      <a:pt x="72" y="20"/>
                      <a:pt x="147" y="10"/>
                    </a:cubicBezTo>
                    <a:cubicBezTo>
                      <a:pt x="222" y="0"/>
                      <a:pt x="335" y="37"/>
                      <a:pt x="448" y="7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438280" y="2844720"/>
              <a:ext cx="1067040" cy="507960"/>
            </a:xfrm>
            <a:custGeom>
              <a:avLst/>
              <a:gdLst/>
              <a:ahLst/>
              <a:rect l="l" t="t" r="r" b="b"/>
              <a:pathLst>
                <a:path w="912" h="320">
                  <a:moveTo>
                    <a:pt x="0" y="128"/>
                  </a:moveTo>
                  <a:cubicBezTo>
                    <a:pt x="236" y="64"/>
                    <a:pt x="472" y="0"/>
                    <a:pt x="624" y="32"/>
                  </a:cubicBezTo>
                  <a:cubicBezTo>
                    <a:pt x="776" y="64"/>
                    <a:pt x="864" y="272"/>
                    <a:pt x="912" y="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324480" y="3335400"/>
            <a:ext cx="2667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ve dependency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09480" y="4622760"/>
            <a:ext cx="4337280" cy="1244520"/>
            <a:chOff x="609480" y="4622760"/>
            <a:chExt cx="4337280" cy="1244520"/>
          </a:xfrm>
        </p:grpSpPr>
        <p:sp>
          <p:nvSpPr>
            <p:cNvPr id="168" name=""/>
            <p:cNvSpPr/>
            <p:nvPr/>
          </p:nvSpPr>
          <p:spPr>
            <a:xfrm>
              <a:off x="609480" y="4724280"/>
              <a:ext cx="2743200" cy="1143000"/>
            </a:xfrm>
            <a:prstGeom prst="ellipse">
              <a:avLst/>
            </a:prstGeom>
            <a:solidFill>
              <a:srgbClr val="fccd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62520" y="4952880"/>
              <a:ext cx="984240" cy="603360"/>
            </a:xfrm>
            <a:prstGeom prst="ellipse">
              <a:avLst/>
            </a:prstGeom>
            <a:solidFill>
              <a:srgbClr val="3366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62320" y="5105520"/>
              <a:ext cx="761760" cy="457200"/>
            </a:xfrm>
            <a:prstGeom prst="ellipse">
              <a:avLst/>
            </a:prstGeom>
            <a:solidFill>
              <a:srgbClr val="ff0000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66880" y="4622760"/>
              <a:ext cx="1752840" cy="330120"/>
            </a:xfrm>
            <a:custGeom>
              <a:avLst/>
              <a:gdLst/>
              <a:ahLst/>
              <a:rect l="l" t="t" r="r" b="b"/>
              <a:pathLst>
                <a:path w="1104" h="208">
                  <a:moveTo>
                    <a:pt x="0" y="112"/>
                  </a:moveTo>
                  <a:cubicBezTo>
                    <a:pt x="196" y="56"/>
                    <a:pt x="392" y="0"/>
                    <a:pt x="576" y="16"/>
                  </a:cubicBezTo>
                  <a:cubicBezTo>
                    <a:pt x="760" y="32"/>
                    <a:pt x="1016" y="176"/>
                    <a:pt x="1104" y="20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9520" y="5562720"/>
              <a:ext cx="1447560" cy="304560"/>
            </a:xfrm>
            <a:custGeom>
              <a:avLst/>
              <a:gdLst/>
              <a:ahLst/>
              <a:rect l="l" t="t" r="r" b="b"/>
              <a:pathLst>
                <a:path w="912" h="192">
                  <a:moveTo>
                    <a:pt x="912" y="0"/>
                  </a:moveTo>
                  <a:cubicBezTo>
                    <a:pt x="748" y="96"/>
                    <a:pt x="584" y="192"/>
                    <a:pt x="432" y="192"/>
                  </a:cubicBezTo>
                  <a:cubicBezTo>
                    <a:pt x="280" y="192"/>
                    <a:pt x="140" y="96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324480" y="495288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ve dependency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061A-1B58-4D61-B5CC-B6768BFAC5C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46A4B-F79E-49BD-90AE-861CFC4331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sophy behind BCNF (and 4NF):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Data should depend on the key, the whole key, and nothing but the ke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sophy behind 3NF: 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… But not at the expense of more expensive constraint enforcem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AB5-7351-436D-8639-8F342F156F5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3DD33-8D20-473A-8CBE-04D7BDDE7B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cy-preserving de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NF (BCNF is too mu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valued dependencies: another source of 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NF (BCNF is not enoug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567D-7DDE-4B98-8C22-5A09FC25D3A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4CF3A-8BAB-408C-BC15-EEB829D956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for 3N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iolation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C9A-7526-4A9E-967B-768D97F297D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97834-3E47-47FC-AD58-B22DFAAAEB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decompose or not to decompo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e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y, where is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treet_address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city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z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check without join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ack toge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Some lossless join decomposition is not dependency-preser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lemma: Should we get rid of redundancy at the expense of making constraints harder to enfor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C582-3271-4EBB-BCDC-4A9666C59D1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3286D-5946-4F18-8714-688ED81656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rving Depend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Projection of set of FDs F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: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R is decomposed into X and Y the projection of F on X  (denoted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6699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is the set of FDs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V in F</a:t>
            </a:r>
            <a:r>
              <a:rPr b="0" lang="en-US" sz="2800" spc="-1" strike="noStrike" baseline="30000">
                <a:solidFill>
                  <a:srgbClr val="669999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losure of F , not just 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all of the attributes 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U, V are in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(same holds for Y of cour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tion of R into X and Y is </a:t>
            </a: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dependenc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preser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(F</a:t>
            </a:r>
            <a:r>
              <a:rPr b="0" lang="en-US" sz="2800" spc="-1" strike="noStrike" baseline="-25000">
                <a:solidFill>
                  <a:srgbClr val="6699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9999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F</a:t>
            </a:r>
            <a:r>
              <a:rPr b="0" lang="en-US" sz="2800" spc="-1" strike="noStrike" baseline="-25000">
                <a:solidFill>
                  <a:srgbClr val="669999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) </a:t>
            </a:r>
            <a:r>
              <a:rPr b="0" lang="en-US" sz="2800" spc="-1" strike="noStrike" baseline="30000">
                <a:solidFill>
                  <a:srgbClr val="669999"/>
                </a:solidFill>
                <a:latin typeface="Times New Roman"/>
              </a:rPr>
              <a:t>+ 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=  F</a:t>
            </a:r>
            <a:r>
              <a:rPr b="0" lang="en-US" sz="2800" spc="-1" strike="noStrike" baseline="30000">
                <a:solidFill>
                  <a:srgbClr val="669999"/>
                </a:solidFill>
                <a:latin typeface="Times New Roman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.e., if we consider only dependencies in the closure 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t can be checked in X without considering Y, and in Y without considering X,  these imply all dependencies in 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5C3E-3F92-45A6-ACBA-6533681E393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43AC1-32D4-40FC-8C24-E0B7533C39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midterm questions will be posted at the class websites later to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pick up an answering key for homework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/SQL functionality has been enabled in the EECS postgresql ser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B25E-F7B0-47AB-AAC5-0375D7089DF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DD8A3-FCE5-4485-9E08-7925FD5311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to consider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669999"/>
                </a:solidFill>
                <a:latin typeface="Times New Roman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is defin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 = ABC,  F = {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,  B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,  C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 is decomposed into AB and B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is dependency preserving?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 C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 preserved????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and  B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i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 and C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, (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3B6-47AD-408B-A8D9-A4C2591B880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400C0-A08F-4C52-8504-A6DD549E26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Preserving FD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way to view lossless join: we lost one (or more) key F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00800" y="4684680"/>
            <a:ext cx="1295280" cy="0"/>
          </a:xfrm>
          <a:prstGeom prst="line">
            <a:avLst/>
          </a:prstGeom>
          <a:ln w="291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133720" y="2984400"/>
            <a:ext cx="2590560" cy="30492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2971800"/>
            <a:ext cx="1905120" cy="30492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048120" y="1828800"/>
          <a:ext cx="3076560" cy="111132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86688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066680" y="3308400"/>
          <a:ext cx="2210040" cy="1111320"/>
        </p:xfrm>
        <a:graphic>
          <a:graphicData uri="http://schemas.openxmlformats.org/drawingml/2006/table">
            <a:tbl>
              <a:tblPr/>
              <a:tblGrid>
                <a:gridCol w="1057320"/>
                <a:gridCol w="115272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562720" y="3308400"/>
          <a:ext cx="2209680" cy="111132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2819520" y="3809880"/>
            <a:ext cx="3504960" cy="380880"/>
            <a:chOff x="2819520" y="3809880"/>
            <a:chExt cx="3504960" cy="380880"/>
          </a:xfrm>
        </p:grpSpPr>
        <p:sp>
          <p:nvSpPr>
            <p:cNvPr id="195" name=""/>
            <p:cNvSpPr/>
            <p:nvPr/>
          </p:nvSpPr>
          <p:spPr>
            <a:xfrm>
              <a:off x="2819520" y="3809880"/>
              <a:ext cx="3428640" cy="38088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819520" y="3886200"/>
              <a:ext cx="3504960" cy="30456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743200" y="3809880"/>
            <a:ext cx="3581280" cy="380880"/>
            <a:chOff x="2743200" y="3809880"/>
            <a:chExt cx="3581280" cy="380880"/>
          </a:xfrm>
        </p:grpSpPr>
        <p:sp>
          <p:nvSpPr>
            <p:cNvPr id="198" name=""/>
            <p:cNvSpPr/>
            <p:nvPr/>
          </p:nvSpPr>
          <p:spPr>
            <a:xfrm>
              <a:off x="2743200" y="3809880"/>
              <a:ext cx="3581280" cy="763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3200" y="4190760"/>
              <a:ext cx="35049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0" name=""/>
          <p:cNvGraphicFramePr/>
          <p:nvPr/>
        </p:nvGraphicFramePr>
        <p:xfrm>
          <a:off x="3048120" y="4876920"/>
          <a:ext cx="3076560" cy="182556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8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2133720" y="4419720"/>
            <a:ext cx="4495320" cy="457200"/>
            <a:chOff x="2133720" y="4419720"/>
            <a:chExt cx="4495320" cy="457200"/>
          </a:xfrm>
        </p:grpSpPr>
        <p:sp>
          <p:nvSpPr>
            <p:cNvPr id="202" name=""/>
            <p:cNvSpPr/>
            <p:nvPr/>
          </p:nvSpPr>
          <p:spPr>
            <a:xfrm>
              <a:off x="2133720" y="4419720"/>
              <a:ext cx="2590560" cy="4572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647960" y="4419720"/>
              <a:ext cx="1981080" cy="4572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324480" y="51814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D, PID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454-B4B6-4AE2-927C-2383136261E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D4FF6-1C55-404D-BD78-239348E9CA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ency-preserving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all functional dependency and at least one key during natural join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FD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a set of join-lossless, dep.-pres.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for each FD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, create a relation R’ = 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if there is no key included in any of the created relations, add a relation with a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: remove all relations R’ which is a subset of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rel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less-Join, Dep. Pres. Decom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CF1D-2D2C-4180-828D-F76429C3ADB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08297-ED9B-48EB-93D3-05BBA3BF9C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BCDEF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Ds: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,  AC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,  E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is decomposed i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B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CDE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EFG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key yet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CD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B3C6-26BF-4192-87DF-5A293A2C569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BC245-A66F-4466-9B9B-2EB0BDBAF9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D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1(street_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, zip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ddress2(zip, 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par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ddress1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ddresss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74BF-0FCC-465C-AF4D-7D7574D2968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2AD9C-B80B-438A-88AF-AAF5CEB79E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N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 Third Normal Form (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3N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for every non-trivial FD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ingle attribute),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superke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member of at least one ke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uitively, BCNF decomposition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ould “break” the key contain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85800" y="3809880"/>
            <a:ext cx="1736640" cy="409680"/>
            <a:chOff x="685800" y="3809880"/>
            <a:chExt cx="1736640" cy="409680"/>
          </a:xfrm>
        </p:grpSpPr>
        <p:sp>
          <p:nvSpPr>
            <p:cNvPr id="214" name=""/>
            <p:cNvSpPr/>
            <p:nvPr/>
          </p:nvSpPr>
          <p:spPr>
            <a:xfrm>
              <a:off x="685800" y="3876480"/>
              <a:ext cx="762120" cy="343080"/>
            </a:xfrm>
            <a:prstGeom prst="ellipse">
              <a:avLst/>
            </a:prstGeom>
            <a:solidFill>
              <a:srgbClr val="fccd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9240" y="3946320"/>
              <a:ext cx="466920" cy="20304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71560" y="3917880"/>
              <a:ext cx="650880" cy="19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12840" y="3809880"/>
              <a:ext cx="692280" cy="168120"/>
            </a:xfrm>
            <a:custGeom>
              <a:avLst/>
              <a:gdLst/>
              <a:ahLst/>
              <a:rect l="l" t="t" r="r" b="b"/>
              <a:pathLst>
                <a:path w="448" h="132">
                  <a:moveTo>
                    <a:pt x="0" y="132"/>
                  </a:moveTo>
                  <a:cubicBezTo>
                    <a:pt x="36" y="76"/>
                    <a:pt x="72" y="20"/>
                    <a:pt x="147" y="10"/>
                  </a:cubicBezTo>
                  <a:cubicBezTo>
                    <a:pt x="222" y="0"/>
                    <a:pt x="335" y="37"/>
                    <a:pt x="448" y="7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352680" y="3657600"/>
            <a:ext cx="1736640" cy="507960"/>
            <a:chOff x="3352680" y="3657600"/>
            <a:chExt cx="1736640" cy="507960"/>
          </a:xfrm>
        </p:grpSpPr>
        <p:sp>
          <p:nvSpPr>
            <p:cNvPr id="219" name=""/>
            <p:cNvSpPr/>
            <p:nvPr/>
          </p:nvSpPr>
          <p:spPr>
            <a:xfrm>
              <a:off x="3352680" y="3822480"/>
              <a:ext cx="761760" cy="343080"/>
            </a:xfrm>
            <a:prstGeom prst="ellipse">
              <a:avLst/>
            </a:prstGeom>
            <a:solidFill>
              <a:srgbClr val="fccd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92320" y="3902040"/>
              <a:ext cx="466560" cy="20304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38440" y="3863880"/>
              <a:ext cx="650880" cy="19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17760" y="3755880"/>
              <a:ext cx="353880" cy="181080"/>
            </a:xfrm>
            <a:custGeom>
              <a:avLst/>
              <a:gdLst/>
              <a:ahLst/>
              <a:rect l="l" t="t" r="r" b="b"/>
              <a:pathLst>
                <a:path w="448" h="132">
                  <a:moveTo>
                    <a:pt x="0" y="132"/>
                  </a:moveTo>
                  <a:cubicBezTo>
                    <a:pt x="36" y="76"/>
                    <a:pt x="72" y="20"/>
                    <a:pt x="147" y="10"/>
                  </a:cubicBezTo>
                  <a:cubicBezTo>
                    <a:pt x="222" y="0"/>
                    <a:pt x="335" y="37"/>
                    <a:pt x="448" y="7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86040" y="3657600"/>
              <a:ext cx="406440" cy="236520"/>
            </a:xfrm>
            <a:custGeom>
              <a:avLst/>
              <a:gdLst/>
              <a:ahLst/>
              <a:rect l="l" t="t" r="r" b="b"/>
              <a:pathLst>
                <a:path w="256" h="149">
                  <a:moveTo>
                    <a:pt x="0" y="98"/>
                  </a:moveTo>
                  <a:cubicBezTo>
                    <a:pt x="58" y="49"/>
                    <a:pt x="117" y="0"/>
                    <a:pt x="160" y="8"/>
                  </a:cubicBezTo>
                  <a:cubicBezTo>
                    <a:pt x="203" y="16"/>
                    <a:pt x="229" y="82"/>
                    <a:pt x="256" y="14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248520" y="3657600"/>
            <a:ext cx="1565280" cy="709560"/>
            <a:chOff x="6248520" y="3657600"/>
            <a:chExt cx="1565280" cy="709560"/>
          </a:xfrm>
        </p:grpSpPr>
        <p:sp>
          <p:nvSpPr>
            <p:cNvPr id="225" name=""/>
            <p:cNvSpPr/>
            <p:nvPr/>
          </p:nvSpPr>
          <p:spPr>
            <a:xfrm>
              <a:off x="6248520" y="3875040"/>
              <a:ext cx="762120" cy="342720"/>
            </a:xfrm>
            <a:prstGeom prst="ellipse">
              <a:avLst/>
            </a:prstGeom>
            <a:solidFill>
              <a:srgbClr val="fccd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47240" y="4005000"/>
              <a:ext cx="466560" cy="20340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8080" y="3946320"/>
              <a:ext cx="650880" cy="19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04200" y="3657600"/>
              <a:ext cx="954000" cy="349200"/>
            </a:xfrm>
            <a:custGeom>
              <a:avLst/>
              <a:gdLst/>
              <a:ahLst/>
              <a:rect l="l" t="t" r="r" b="b"/>
              <a:pathLst>
                <a:path w="601" h="220">
                  <a:moveTo>
                    <a:pt x="0" y="131"/>
                  </a:moveTo>
                  <a:cubicBezTo>
                    <a:pt x="110" y="65"/>
                    <a:pt x="220" y="0"/>
                    <a:pt x="320" y="15"/>
                  </a:cubicBezTo>
                  <a:cubicBezTo>
                    <a:pt x="420" y="30"/>
                    <a:pt x="510" y="125"/>
                    <a:pt x="601" y="2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26240" y="4128840"/>
              <a:ext cx="781200" cy="238320"/>
            </a:xfrm>
            <a:custGeom>
              <a:avLst/>
              <a:gdLst/>
              <a:ahLst/>
              <a:rect l="l" t="t" r="r" b="b"/>
              <a:pathLst>
                <a:path w="492" h="150">
                  <a:moveTo>
                    <a:pt x="492" y="51"/>
                  </a:moveTo>
                  <a:cubicBezTo>
                    <a:pt x="354" y="100"/>
                    <a:pt x="216" y="150"/>
                    <a:pt x="134" y="141"/>
                  </a:cubicBezTo>
                  <a:cubicBezTo>
                    <a:pt x="52" y="132"/>
                    <a:pt x="26" y="66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33520" y="44197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al depend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464832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4419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itive dependency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4419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itive dependency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4648320"/>
            <a:ext cx="236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60199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N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C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248520" y="4266720"/>
            <a:ext cx="1600200" cy="686160"/>
            <a:chOff x="6248520" y="4266720"/>
            <a:chExt cx="1600200" cy="686160"/>
          </a:xfrm>
        </p:grpSpPr>
        <p:sp>
          <p:nvSpPr>
            <p:cNvPr id="237" name=""/>
            <p:cNvSpPr/>
            <p:nvPr/>
          </p:nvSpPr>
          <p:spPr>
            <a:xfrm>
              <a:off x="6248520" y="4571640"/>
              <a:ext cx="304560" cy="3812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553080" y="4266720"/>
              <a:ext cx="1295640" cy="685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09480" y="5181480"/>
            <a:ext cx="19051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562720"/>
            <a:ext cx="47246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34120" y="5334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5867280"/>
            <a:ext cx="76964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5653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234E-B119-47D1-B905-959940E121F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01DB7-3952-4889-8AD4-BB9953AE38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s about 3N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3N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ans a set of attributes participate at least one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of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enforce all original FD’s on individual decomposed rel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ght have some redundancy due to FD’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1600200"/>
            <a:ext cx="3352680" cy="380880"/>
          </a:xfrm>
          <a:prstGeom prst="rect">
            <a:avLst/>
          </a:prstGeom>
          <a:solidFill>
            <a:srgbClr val="cccc00">
              <a:alpha val="2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2133720"/>
            <a:ext cx="685800" cy="380880"/>
          </a:xfrm>
          <a:prstGeom prst="rect">
            <a:avLst/>
          </a:prstGeom>
          <a:solidFill>
            <a:srgbClr val="cccc00">
              <a:alpha val="2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3124080"/>
            <a:ext cx="685800" cy="381240"/>
          </a:xfrm>
          <a:prstGeom prst="rect">
            <a:avLst/>
          </a:prstGeom>
          <a:solidFill>
            <a:srgbClr val="cccc00">
              <a:alpha val="2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BEE2-0DE8-4A2F-8A2E-B3DBF0322DE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15153-2C91-43F3-8890-4C1FC5DEFB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mal Cover for a Set of F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Minimal cover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 for a set of FDs 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osure of F  =  closure of 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ight hand side of each FD in G is a single attribu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we modify G by deleting an FD or by deleting attributes from an FD in G, the closure chang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ly, every FD in G is needed, and ``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as small as poss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 in order to get the same closure as 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,  ABC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,  E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H,  ACD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G has the following minimal 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,  AC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E,  E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  and  E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endency-preserving 3N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 a rel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 set of FD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a set of join-lossless, dep.-pres. relations in 3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compute a minimal c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 of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combine all FD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…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 single FD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: for each FD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, create a relation R’ = 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: if there is no key included in any of the created relations add a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5: remove all relations R’ which is a subset of 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rel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Cover implie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less-Join, Dep. Pres. Decomp in 3NF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in EN 11.2.3, p. 38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3E2-6A4B-49C0-81DC-A13FD005EDA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3969F-BE34-46DB-BA2E-C9A5117337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NF = no redundanc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se your classes have nothing to do with the clubs you jo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D’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CNF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dundancie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343400" y="3352680"/>
          <a:ext cx="3076560" cy="184176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8668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483B-CFAC-4B29-B0D5-B2106157BF3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058EB-DB61-4378-B599-544E058423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“determines”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wo rows agree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y must agree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generalization of the key conce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743200" y="3505320"/>
          <a:ext cx="2455920" cy="1828440"/>
        </p:xfrm>
        <a:graphic>
          <a:graphicData uri="http://schemas.openxmlformats.org/drawingml/2006/table">
            <a:tbl>
              <a:tblPr/>
              <a:tblGrid>
                <a:gridCol w="819360"/>
                <a:gridCol w="817560"/>
                <a:gridCol w="81900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3733920" y="4800600"/>
            <a:ext cx="53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F788-D01E-473D-AC72-3CD07BBC08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DFBF7-1EEB-4365-AB14-050D25E259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valued dependenc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multivalued depend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MV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has the form</a:t>
            </a:r>
            <a:br>
              <a:rPr sz="2800"/>
            </a:b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dbsym"/>
                <a:ea typeface="dbsym"/>
              </a:rPr>
              <a:t>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sets of attributes in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dbsym"/>
                <a:ea typeface="dbsym"/>
              </a:rPr>
              <a:t>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ns that whenever two row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gree on all the attribut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we can swap thei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s and get two new rows that are also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438280" y="3886200"/>
          <a:ext cx="3076560" cy="111096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866880"/>
              </a:tblGrid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2438280" y="3886200"/>
          <a:ext cx="307656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8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5715000" y="5105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t in the relation 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E4C-0FDA-418F-80D2-3EEFBB415CB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21E60-7B18-42D0-AEA9-9158B21473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VD 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uition: giv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club are “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independ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Trivial: LHS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RHS = all attributes of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Trivial: LHS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¶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RH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 when two independent 1:N relations AB, AC are mixed together in R=ABC, a MVD may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BC3-9696-4ED3-8E3E-0BCDF57C7E5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EE7D0-F568-451A-8599-E6D1842C97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 MVD + FD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FD reflexivity, augmentation, and tra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MVD complemen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t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MVD augmen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MVD transi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Replication (FD is MV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Coalesc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re is 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joint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3120" y="5562720"/>
            <a:ext cx="46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Try proving things using the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E007-9D01-41D6-BF8C-73906E2C01A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D22F3-7F24-431C-A477-3645D226B7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N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Fourth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4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For every non-trivial MVD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dbsym"/>
                <a:ea typeface="dbsym"/>
              </a:rPr>
              <a:t>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is a super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, all FD’s and MVD’s follow from “key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ther attributes” (i.e., no MVD’s, and no FD’s besides key functional dependenci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NF is stronger than B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cause every FD is also a MV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550E-2CB0-43CE-B661-3273CCC03C8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61921-6CD5-47B2-8049-304AB6E97B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NF decomposition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4NF vi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non-trivial MVD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dbsym"/>
                <a:ea typeface="dbsym"/>
              </a:rPr>
              <a:t>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 super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attributes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attributes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tains attributes not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until all relations are in 4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identical to BCNF decomposi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decomposition on a 4NF viola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7009-5AA6-43A1-B2D8-AEBE3715668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4A628-6F6A-4104-AF63-489AB6F2F9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NF decompositio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52640" y="2362320"/>
            <a:ext cx="3825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club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414800" y="2854440"/>
            <a:ext cx="7423200" cy="1788840"/>
            <a:chOff x="1414800" y="2854440"/>
            <a:chExt cx="7423200" cy="1788840"/>
          </a:xfrm>
        </p:grpSpPr>
        <p:sp>
          <p:nvSpPr>
            <p:cNvPr id="276" name=""/>
            <p:cNvSpPr/>
            <p:nvPr/>
          </p:nvSpPr>
          <p:spPr>
            <a:xfrm>
              <a:off x="3179160" y="2854440"/>
              <a:ext cx="39542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4NF violation: </a:t>
              </a:r>
              <a:r>
                <a:rPr b="0" i="1" lang="en-US" sz="2800" spc="-1" strike="noStrike">
                  <a:solidFill>
                    <a:srgbClr val="330066"/>
                  </a:solidFill>
                  <a:latin typeface="AmeriGarmnd BT"/>
                </a:rPr>
                <a:t>SID</a:t>
              </a: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 </a:t>
              </a:r>
              <a:r>
                <a:rPr b="0" lang="en-US" sz="2800" spc="-1" strike="noStrike">
                  <a:solidFill>
                    <a:srgbClr val="330066"/>
                  </a:solidFill>
                  <a:latin typeface="dbsym"/>
                  <a:ea typeface="dbsym"/>
                </a:rPr>
                <a:t></a:t>
              </a: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 </a:t>
              </a:r>
              <a:r>
                <a:rPr b="0" i="1" lang="en-US" sz="2800" spc="-1" strike="noStrike">
                  <a:solidFill>
                    <a:srgbClr val="330066"/>
                  </a:solidFill>
                  <a:latin typeface="AmeriGarmnd BT"/>
                </a:rPr>
                <a:t>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14800" y="3743280"/>
              <a:ext cx="2677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74160" y="3743280"/>
              <a:ext cx="24638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Join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club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742480" y="3295800"/>
              <a:ext cx="1981080" cy="3618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02640" y="4122720"/>
              <a:ext cx="83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4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20720" y="4122720"/>
              <a:ext cx="83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4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86040" y="3295800"/>
              <a:ext cx="1981080" cy="3618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3" name=""/>
          <p:cNvGraphicFramePr/>
          <p:nvPr/>
        </p:nvGraphicFramePr>
        <p:xfrm>
          <a:off x="228600" y="1295280"/>
          <a:ext cx="2847960" cy="1724040"/>
        </p:xfrm>
        <a:graphic>
          <a:graphicData uri="http://schemas.openxmlformats.org/drawingml/2006/table">
            <a:tbl>
              <a:tblPr/>
              <a:tblGrid>
                <a:gridCol w="977760"/>
                <a:gridCol w="1067040"/>
                <a:gridCol w="80316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1219320" y="4800600"/>
          <a:ext cx="2044440" cy="1004760"/>
        </p:xfrm>
        <a:graphic>
          <a:graphicData uri="http://schemas.openxmlformats.org/drawingml/2006/table">
            <a:tbl>
              <a:tblPr/>
              <a:tblGrid>
                <a:gridCol w="97776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6781680" y="4724280"/>
          <a:ext cx="1781280" cy="1051200"/>
        </p:xfrm>
        <a:graphic>
          <a:graphicData uri="http://schemas.openxmlformats.org/drawingml/2006/table">
            <a:tbl>
              <a:tblPr/>
              <a:tblGrid>
                <a:gridCol w="978120"/>
                <a:gridCol w="803160"/>
              </a:tblGrid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37D-70B3-4F34-BB0C-ABFA9E78ADC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85F16-E7F0-43CD-8752-DB8D43D9AD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NF, BCNF, 4NF, and beyo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3478320"/>
            <a:ext cx="86104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historical inte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NF: All column values must be atom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NF: Slightly more relaxed than 3N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28600" y="1295280"/>
          <a:ext cx="8686800" cy="1827360"/>
        </p:xfrm>
        <a:graphic>
          <a:graphicData uri="http://schemas.openxmlformats.org/drawingml/2006/table">
            <a:tbl>
              <a:tblPr/>
              <a:tblGrid>
                <a:gridCol w="4114800"/>
                <a:gridCol w="1523880"/>
                <a:gridCol w="1524240"/>
                <a:gridCol w="15238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omaly/normal 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3N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BCN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4N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Lose FD’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Redundancy due to FD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Redundancy due to MVD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0CE-B008-48B1-ACB8-6E87D50BE6E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48401-E38E-4A20-99E3-5CC3540AB9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sophy behind BCNF, 4NF: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Data should depend on the key, the whole key, and nothing but the ke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sophy behind 3NF: 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… But not at the expense of more expensive constraint enforcem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C94-A2EC-4F14-A2B0-DD65D7723C2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F2A55-659C-40AB-BF06-441536E4EB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N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create join lossless decompos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inary decomposition with foreign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-nary decomposition with FD preserving and a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achieve FD preserving decomposi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FD, create a re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 cover of FD guarantees 3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647-DE25-4C7A-86D5-913FE1166A2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A64F0-5A69-4284-A56C-011D4192C1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738d74"/>
                </a:solidFill>
                <a:latin typeface="Times New Roman"/>
              </a:rPr>
              <a:t>non-key F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supe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key functional dependencies represent a source of 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01880" y="2743200"/>
          <a:ext cx="2455920" cy="1828440"/>
        </p:xfrm>
        <a:graphic>
          <a:graphicData uri="http://schemas.openxmlformats.org/drawingml/2006/table">
            <a:tbl>
              <a:tblPr/>
              <a:tblGrid>
                <a:gridCol w="819360"/>
                <a:gridCol w="817560"/>
                <a:gridCol w="81900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801880" y="2743200"/>
          <a:ext cx="2455920" cy="2438280"/>
        </p:xfrm>
        <a:graphic>
          <a:graphicData uri="http://schemas.openxmlformats.org/drawingml/2006/table">
            <a:tbl>
              <a:tblPr/>
              <a:tblGrid>
                <a:gridCol w="819000"/>
                <a:gridCol w="817560"/>
                <a:gridCol w="8193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801880" y="2743200"/>
          <a:ext cx="2455920" cy="3048120"/>
        </p:xfrm>
        <a:graphic>
          <a:graphicData uri="http://schemas.openxmlformats.org/drawingml/2006/table">
            <a:tbl>
              <a:tblPr/>
              <a:tblGrid>
                <a:gridCol w="819000"/>
                <a:gridCol w="817560"/>
                <a:gridCol w="8193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2954160" y="5715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5257800"/>
            <a:ext cx="5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4ABB-13D0-4659-90C5-FA8A93C85B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6B257-C299-4B53-BA13-973F3D5A8C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eal with non-key F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relati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“broken down” to a set of relation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ch tha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= att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sless j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cy preservation join (we are going to discuss this to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59D9-9B0E-4860-AC92-3117489A8F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D46D0-784F-4652-B818-24883A7B4E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lossless joi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 =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nature join, we can restore the data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AEE-39F2-4CF2-BDC3-0C9792594A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564E2-F66A-4D56-A851-1679711829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is a lossless jo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Sid, Sname, Cid, Cna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Si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name, Ci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na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Sid, Sname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Cid, Cna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95280" y="3048120"/>
          <a:ext cx="5791320" cy="1825560"/>
        </p:xfrm>
        <a:graphic>
          <a:graphicData uri="http://schemas.openxmlformats.org/drawingml/2006/table">
            <a:tbl>
              <a:tblPr/>
              <a:tblGrid>
                <a:gridCol w="1090440"/>
                <a:gridCol w="1805040"/>
                <a:gridCol w="1371600"/>
                <a:gridCol w="1524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33520" y="5257800"/>
          <a:ext cx="2361960" cy="1095120"/>
        </p:xfrm>
        <a:graphic>
          <a:graphicData uri="http://schemas.openxmlformats.org/drawingml/2006/table">
            <a:tbl>
              <a:tblPr/>
              <a:tblGrid>
                <a:gridCol w="804960"/>
                <a:gridCol w="1557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095880" y="5257800"/>
          <a:ext cx="2385720" cy="1095480"/>
        </p:xfrm>
        <a:graphic>
          <a:graphicData uri="http://schemas.openxmlformats.org/drawingml/2006/table">
            <a:tbl>
              <a:tblPr/>
              <a:tblGrid>
                <a:gridCol w="914400"/>
                <a:gridCol w="1471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6" name=""/>
          <p:cNvGrpSpPr/>
          <p:nvPr/>
        </p:nvGrpSpPr>
        <p:grpSpPr>
          <a:xfrm>
            <a:off x="1600200" y="4876920"/>
            <a:ext cx="5409720" cy="380880"/>
            <a:chOff x="1600200" y="4876920"/>
            <a:chExt cx="5409720" cy="380880"/>
          </a:xfrm>
        </p:grpSpPr>
        <p:sp>
          <p:nvSpPr>
            <p:cNvPr id="117" name=""/>
            <p:cNvSpPr/>
            <p:nvPr/>
          </p:nvSpPr>
          <p:spPr>
            <a:xfrm flipH="1">
              <a:off x="1600200" y="4876920"/>
              <a:ext cx="2666880" cy="380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90760" y="4876920"/>
              <a:ext cx="2819160" cy="380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DCD-07DC-4259-9E50-E962D5CF8A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10091-C070-462F-B478-1547C77D79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achieve a lossless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eign key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bination of attribute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is a key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bination of attribute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is a key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2AA6-2A41-4457-9BF4-52DFEF2A629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0E4B3-41DF-47C1-A0DC-603071EDA3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foreign key mechanism guarantees a lossless jo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ll, thinking about the following re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81080" y="2666880"/>
          <a:ext cx="3733920" cy="1185840"/>
        </p:xfrm>
        <a:graphic>
          <a:graphicData uri="http://schemas.openxmlformats.org/drawingml/2006/table">
            <a:tbl>
              <a:tblPr/>
              <a:tblGrid>
                <a:gridCol w="1057320"/>
                <a:gridCol w="145728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60958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94920" y="3886200"/>
            <a:ext cx="5410800" cy="380880"/>
            <a:chOff x="1294920" y="3886200"/>
            <a:chExt cx="5410800" cy="380880"/>
          </a:xfrm>
        </p:grpSpPr>
        <p:sp>
          <p:nvSpPr>
            <p:cNvPr id="126" name=""/>
            <p:cNvSpPr/>
            <p:nvPr/>
          </p:nvSpPr>
          <p:spPr>
            <a:xfrm flipH="1">
              <a:off x="1294920" y="3886200"/>
              <a:ext cx="2667240" cy="380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6200" y="3886200"/>
              <a:ext cx="2819520" cy="380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8" name=""/>
          <p:cNvGraphicFramePr/>
          <p:nvPr/>
        </p:nvGraphicFramePr>
        <p:xfrm>
          <a:off x="533520" y="4343400"/>
          <a:ext cx="2361960" cy="730080"/>
        </p:xfrm>
        <a:graphic>
          <a:graphicData uri="http://schemas.openxmlformats.org/drawingml/2006/table">
            <a:tbl>
              <a:tblPr/>
              <a:tblGrid>
                <a:gridCol w="804600"/>
                <a:gridCol w="1557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638680" y="4343400"/>
          <a:ext cx="2361960" cy="1095480"/>
        </p:xfrm>
        <a:graphic>
          <a:graphicData uri="http://schemas.openxmlformats.org/drawingml/2006/table">
            <a:tbl>
              <a:tblPr/>
              <a:tblGrid>
                <a:gridCol w="804600"/>
                <a:gridCol w="1557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DC5A-E82E-489E-8084-28A3EB4475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E6477-9E50-4ABE-B4AE-208B23E1D4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3-07T20:30:32Z</dcterms:modified>
  <cp:revision>1443</cp:revision>
  <dc:subject/>
  <dc:title>CS186: Introduction to Database Systems</dc:title>
</cp:coreProperties>
</file>