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1CED39-905A-4BA2-9FF9-DF7F001FE7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8B1D75-C4CF-4134-8D2A-F443FBB61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98DA2B-5ACD-4787-8363-89455DF113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ich one is better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B23F40-0972-4C81-BB8D-4E331EA087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DE6CAD-72EE-4C46-B412-87B5215F97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0FC109-CF46-4E39-A377-4179F92BB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131282-6318-412C-AF1D-69102B5A4B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FE2770-D334-447D-B2F1-5267FEAA6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was intern IBM… mentor told me, you know what the trick of optimization 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seem like a wise-guy advice… Don’t go for the best, be happy about who you a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ctually, the reason is very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why not always optimum? Time to optimize is counted toward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03A1E2-936A-47AA-828C-1CF48BEA4F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059B22-35AF-4DD3-91E9-0671001A60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DC03A9-5306-415B-A57F-2D4BC7069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7CDFF7-0617-48F6-A7AC-64CC2A79D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04E333-8D4B-4929-935D-298C51F09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50E195-EA98-46AB-82B0-989BE953CE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473BB4-7AE5-4191-A76B-A5CE6AC8EF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23D92F-DABF-4E3A-8170-FE355C89E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ACB459-AD92-4EEC-A732-C2268C285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919E02-9098-488F-9907-130ADAFEB9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A180E7-F37C-4001-936A-D6D98274AF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2D0908-0C82-4D69-88B3-89A0B47371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05386A-ECA9-4073-9149-4C54B72A0D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615B24-5CF0-4C6B-86EA-4A483C52A2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B26CF8-2D54-46BF-9451-02D1867CB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B3C837F-7BF2-41B8-BC5A-AF84BDBF7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290F06-6179-4EF7-B403-0C2E21D329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1332BD-FE18-4B98-880A-E13BEAD68C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A84546-A646-44A4-B273-FF95ECCCB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D8B1C9-5C33-4723-AC67-DA0216110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7B95E5-1895-4A44-BA30-C378EA8E7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FCC237-BAB2-474D-BB7C-9C85BD8C17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136096-3925-4C52-B0DB-1E82CBD76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5225CD-5580-4800-AB4C-D1E5D17F8E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7B1410-27EA-4272-828F-4475CDFF8B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CAA-6096-444E-B7DD-774FA6E6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754-1D0D-446A-8F69-15FC1FA9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08D-EB16-43F6-A3B1-E7D8CF77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FC9-D1F7-4D45-A6E2-83322D17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7C0-3A43-41B9-AC92-A25872E1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A44-F062-465F-81C2-AC3988D4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12B-3A91-4C22-A9B9-02ACFFBD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F55-37A1-40E2-9285-5ABEA8FC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DF9-9159-4F54-8235-881F26B5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8E3-1489-4D46-8E4F-1E777863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052-E941-4248-A707-368BB593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D24-EDBE-441F-9026-01C525C4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9599-74DF-4AF9-AAF0-1CEC92A0AA8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F035-B12E-4E66-8132-AC2BD3E0A3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cal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s are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log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s (often relational algebra operat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many equivalent logical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-50760" y="2133720"/>
            <a:ext cx="8743320" cy="1949760"/>
            <a:chOff x="-50760" y="2133720"/>
            <a:chExt cx="8743320" cy="1949760"/>
          </a:xfrm>
        </p:grpSpPr>
        <p:sp>
          <p:nvSpPr>
            <p:cNvPr id="232" name=""/>
            <p:cNvSpPr/>
            <p:nvPr/>
          </p:nvSpPr>
          <p:spPr>
            <a:xfrm>
              <a:off x="1030320" y="2133720"/>
              <a:ext cx="79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97520" y="2501640"/>
              <a:ext cx="729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=“Bart”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msy10"/>
                </a:rPr>
                <a:t>Æ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msy10"/>
                </a:rPr>
                <a:t>Æ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ourse.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55160" y="2922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33840" y="368460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54600" y="330336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our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36600" y="2514600"/>
              <a:ext cx="0" cy="151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36600" y="290808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893520" y="3251160"/>
              <a:ext cx="228600" cy="151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88880" y="323820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0040" y="3243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18680" y="356688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14400" y="356688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50760" y="3684600"/>
              <a:ext cx="104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612520" y="3429000"/>
            <a:ext cx="5874120" cy="2975040"/>
            <a:chOff x="2612520" y="3429000"/>
            <a:chExt cx="5874120" cy="2975040"/>
          </a:xfrm>
        </p:grpSpPr>
        <p:sp>
          <p:nvSpPr>
            <p:cNvPr id="246" name=""/>
            <p:cNvSpPr/>
            <p:nvPr/>
          </p:nvSpPr>
          <p:spPr>
            <a:xfrm>
              <a:off x="2612520" y="3671640"/>
              <a:ext cx="338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An equivalent pla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24800" y="3429000"/>
              <a:ext cx="79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36840" y="3836880"/>
              <a:ext cx="244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ours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04080" y="524340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07680" y="440964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our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19920" y="3849480"/>
              <a:ext cx="0" cy="151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028840" y="4267080"/>
              <a:ext cx="911160" cy="5328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6680" y="4267080"/>
              <a:ext cx="228600" cy="151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114440" y="5125680"/>
              <a:ext cx="762120" cy="507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43680" y="512568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54200" y="6005160"/>
              <a:ext cx="104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91760" y="4662360"/>
              <a:ext cx="248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11320" y="5506920"/>
              <a:ext cx="175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“Bart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62520" y="5938560"/>
              <a:ext cx="0" cy="151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F34-02B1-4DE5-90DB-71835B75C2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9875A-7D09-4724-B3E3-AFE8BB9907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physical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011240"/>
            <a:ext cx="8610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hysical plans for a singl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ivalent results, but different costs and assumption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DBMS query optimizer picks the “best” possible physical 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564360" y="2743200"/>
            <a:ext cx="5546160" cy="2897280"/>
            <a:chOff x="3564360" y="2743200"/>
            <a:chExt cx="5546160" cy="2897280"/>
          </a:xfrm>
        </p:grpSpPr>
        <p:sp>
          <p:nvSpPr>
            <p:cNvPr id="263" name=""/>
            <p:cNvSpPr/>
            <p:nvPr/>
          </p:nvSpPr>
          <p:spPr>
            <a:xfrm>
              <a:off x="6212520" y="2743200"/>
              <a:ext cx="184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PROJECT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title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07680" y="3179520"/>
              <a:ext cx="398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INDEX-NESTED-LOOP-JOIN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19360" y="4479840"/>
              <a:ext cx="25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Index on Enroll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SID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78920" y="3641400"/>
              <a:ext cx="26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Index on 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Course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72120" y="309708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995440" y="3498840"/>
              <a:ext cx="91116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83280" y="349884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876200" y="4362120"/>
              <a:ext cx="762120" cy="5083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5440" y="436212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64360" y="5241600"/>
              <a:ext cx="296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Index on 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Student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name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32400" y="4825800"/>
              <a:ext cx="35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INDEX-SCAN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name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 = “Bart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76560" y="5175000"/>
              <a:ext cx="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86960" y="4022640"/>
              <a:ext cx="39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INDEX-NESTED-LOOP-JOIN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SID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408480" y="2743200"/>
            <a:ext cx="5078160" cy="2913480"/>
            <a:chOff x="3408480" y="2743200"/>
            <a:chExt cx="5078160" cy="2913480"/>
          </a:xfrm>
        </p:grpSpPr>
        <p:sp>
          <p:nvSpPr>
            <p:cNvPr id="277" name=""/>
            <p:cNvSpPr/>
            <p:nvPr/>
          </p:nvSpPr>
          <p:spPr>
            <a:xfrm>
              <a:off x="6112440" y="2743200"/>
              <a:ext cx="184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PROJECT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title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72400" y="309708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19040" y="3200400"/>
              <a:ext cx="228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MERGE-JOIN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86920" y="3716280"/>
              <a:ext cx="189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SCAN (Cours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324120" y="3574800"/>
              <a:ext cx="53028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31080" y="357480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14960" y="3809880"/>
              <a:ext cx="143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SORT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714640" y="410832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12960" y="4190760"/>
              <a:ext cx="22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MERGE-JOIN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SID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92960" y="5029200"/>
              <a:ext cx="171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SCAN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Enroll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05720" y="494640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18560" y="4632120"/>
              <a:ext cx="141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SORT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SID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34040" y="451476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4876560" y="4514760"/>
              <a:ext cx="533160" cy="3556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52720" y="5257800"/>
              <a:ext cx="192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SCAN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Student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08480" y="4784400"/>
              <a:ext cx="28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FILTER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name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 = “Bart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00600" y="5175000"/>
              <a:ext cx="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-762120" y="2514600"/>
            <a:ext cx="5675040" cy="2975040"/>
            <a:chOff x="-762120" y="2514600"/>
            <a:chExt cx="5675040" cy="2975040"/>
          </a:xfrm>
        </p:grpSpPr>
        <p:sp>
          <p:nvSpPr>
            <p:cNvPr id="295" name=""/>
            <p:cNvSpPr/>
            <p:nvPr/>
          </p:nvSpPr>
          <p:spPr>
            <a:xfrm>
              <a:off x="-762120" y="275724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51080" y="2514600"/>
              <a:ext cx="79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63120" y="2922480"/>
              <a:ext cx="244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ours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30360" y="432900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33960" y="349524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our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46200" y="2935080"/>
              <a:ext cx="0" cy="151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455120" y="3352680"/>
              <a:ext cx="911160" cy="5328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42960" y="3352680"/>
              <a:ext cx="228600" cy="151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40720" y="4211280"/>
              <a:ext cx="762120" cy="507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9960" y="421128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-119160" y="5090760"/>
              <a:ext cx="104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18040" y="3747960"/>
              <a:ext cx="248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7600" y="4592520"/>
              <a:ext cx="175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“Bart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8800" y="5024160"/>
              <a:ext cx="0" cy="151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24F-5A97-4E70-8A68-A8177BAE09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5DE25-4B69-4579-AD61-696B023D51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plan exec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intermediate results passed from child operators to parent operato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Temporary fi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he tree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write intermediate results to temporary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s read temporary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Iter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materialize intermediat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pipeline their results to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2CF-A2A9-42BE-8E6D-BABB54050F3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4B2A6-B570-4409-950B-FB98078A4B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rator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physical operator maintains its own execution state and implements the following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pen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Initialize state and get ready for process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getNext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Return the next tuple in the result (or a null pointer if there are no more tuples); adjust state to allow subsequent tuples to be obtain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close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Clean 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F92-8DB1-46B5-99D1-FFF980EE6E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D6396-C0A7-4396-A6FD-ED2EE8DC9C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terator for table sc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: a block of memory for buffering inp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inter to a tuple within the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open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locate a block of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getNex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 block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been read yet, read the first block from the disk and return the first tuple in the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the null pointer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re is no more tuple left in the current block, read the next block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rom the disk and return the first tuple in the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the null pointer if there are no more block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, return the next tuple in the memory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clos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allocate the block of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4D1-0450-4BAE-8626-D4D934126E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4F786-9DCE-4859-A147-57BDDFC9D9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terator for SORT-MERGE-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iterator for the left sub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iterator for the right sub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rt R; sort 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.open(); S.open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= R.next(); s = S.next(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le (r != NULL &amp;&amp; s != NULL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 while (r.c &lt; s.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 r = R.next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    if (r.c = s.c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     while (r.c = s.c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         output r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         r = R.next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     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 "rewind" r to first tuple of R where r.c = s.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 s = S.next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while (r.c &gt; s.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 s = S.next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46920" y="1432080"/>
            <a:ext cx="23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SORT-MERGE-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6781320" y="1752480"/>
            <a:ext cx="304920" cy="304920"/>
          </a:xfrm>
          <a:prstGeom prst="line">
            <a:avLst/>
          </a:prstGeom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91520" y="1752480"/>
            <a:ext cx="304560" cy="304920"/>
          </a:xfrm>
          <a:prstGeom prst="line">
            <a:avLst/>
          </a:prstGeom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72200" y="2133720"/>
            <a:ext cx="1143000" cy="1143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15200" y="2133720"/>
            <a:ext cx="762120" cy="7617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308640" y="1905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756200" y="1905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38680" y="35053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xity: some of the DBMSs (e.g. pgSQL) predate C++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879-5DAD-49AB-A8F5-0BD898F121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E35E4-DB40-4F04-B890-3C0E5685B4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y optim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One logical plan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“best” phys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enumerate possible pl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estimate cos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pick the “best” 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the goal is not getting the optimum plan, but instead avoiding the horrible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74480" y="5070600"/>
            <a:ext cx="7983720" cy="1409040"/>
            <a:chOff x="474480" y="5070600"/>
            <a:chExt cx="7983720" cy="1409040"/>
          </a:xfrm>
        </p:grpSpPr>
        <p:sp>
          <p:nvSpPr>
            <p:cNvPr id="328" name=""/>
            <p:cNvSpPr/>
            <p:nvPr/>
          </p:nvSpPr>
          <p:spPr>
            <a:xfrm>
              <a:off x="762120" y="5938920"/>
              <a:ext cx="76960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19320" y="5786280"/>
              <a:ext cx="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66880" y="5786280"/>
              <a:ext cx="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24680" y="5786280"/>
              <a:ext cx="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4480" y="6019920"/>
              <a:ext cx="145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1 seco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24200" y="6019920"/>
              <a:ext cx="112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1 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10160" y="6019920"/>
              <a:ext cx="14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1 min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716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876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5248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6696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3372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700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148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9588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0572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0876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010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1828800" y="5329080"/>
              <a:ext cx="533520" cy="3812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30840" y="5070600"/>
              <a:ext cx="29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Any of these will 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327-0CB4-43B3-842C-18EA313A3C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B5421-D66B-47E1-BEAE-87E5758DBA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enumeration in relational algeb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relational algebra equival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reordering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associative and commutative (except column ordering, but that is unimporta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20360" y="3478320"/>
            <a:ext cx="7551720" cy="2401200"/>
            <a:chOff x="720360" y="3478320"/>
            <a:chExt cx="7551720" cy="2401200"/>
          </a:xfrm>
        </p:grpSpPr>
        <p:sp>
          <p:nvSpPr>
            <p:cNvPr id="352" name=""/>
            <p:cNvSpPr/>
            <p:nvPr/>
          </p:nvSpPr>
          <p:spPr>
            <a:xfrm>
              <a:off x="1847880" y="358128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95280" y="437364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1562040" y="3987720"/>
              <a:ext cx="457200" cy="6098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25720" y="3987720"/>
              <a:ext cx="457200" cy="6098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0360" y="541980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933480" y="4800600"/>
              <a:ext cx="457200" cy="6094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92200" y="4800600"/>
              <a:ext cx="457200" cy="6094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98920" y="54198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9256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57560" y="358128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05320" y="437364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692520" y="3987720"/>
              <a:ext cx="457200" cy="6098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51240" y="3987720"/>
              <a:ext cx="457200" cy="6098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30760" y="54198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159000" y="4800600"/>
              <a:ext cx="457200" cy="6094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18080" y="4800600"/>
              <a:ext cx="457200" cy="6094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39920" y="541980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1808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83280" y="347832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72160" y="427032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716440" y="3987720"/>
              <a:ext cx="457200" cy="6098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75520" y="3987720"/>
              <a:ext cx="457200" cy="6098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11640" y="541980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224760" y="4800600"/>
              <a:ext cx="457200" cy="6094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83480" y="4800600"/>
              <a:ext cx="457200" cy="6094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16840" y="5419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21320" y="45813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50520" y="396720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05560" y="4043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15240" y="4043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4520" y="4043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4A1-0A9D-45C8-984E-A5B0CF469D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F5BB6-72EF-4A24-951B-0C69854D4C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relational algebra equivalen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/from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/split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: 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 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cmsy10"/>
              </a:rPr>
              <a:t>Æ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/split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: 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down/pull up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cmsy10"/>
              </a:rPr>
              <a:t>Æ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cmsy10"/>
              </a:rPr>
              <a:t>Æ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 = (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cmsy10"/>
              </a:rPr>
              <a:t>Æ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predicate involving onl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lum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predicate involving onl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lum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predicates involving bo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lum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down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L L’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set of columns referenced b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are not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more (seemingly trivial) equivalenc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systematically used to transform a plan to new 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65D-895C-433D-8057-DA8AC9563F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743BB-D056-43D8-806E-9480637F25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query rewrit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9720" y="1066680"/>
            <a:ext cx="8508600" cy="1950120"/>
            <a:chOff x="189720" y="1066680"/>
            <a:chExt cx="8508600" cy="1950120"/>
          </a:xfrm>
        </p:grpSpPr>
        <p:sp>
          <p:nvSpPr>
            <p:cNvPr id="387" name=""/>
            <p:cNvSpPr/>
            <p:nvPr/>
          </p:nvSpPr>
          <p:spPr>
            <a:xfrm>
              <a:off x="1300320" y="1066680"/>
              <a:ext cx="79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03280" y="1434960"/>
              <a:ext cx="729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=“Bart”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msy10"/>
                </a:rPr>
                <a:t>Æ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msy10"/>
                </a:rPr>
                <a:t>Æ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ourse.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48920" y="1855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77560" y="261792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64120" y="223668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our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30360" y="144792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30360" y="1841400"/>
              <a:ext cx="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1187280" y="218448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82640" y="217152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83800" y="2176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712440" y="250020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08160" y="250020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9720" y="2617920"/>
              <a:ext cx="104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78120" y="2514600"/>
            <a:ext cx="5449680" cy="3397320"/>
            <a:chOff x="78120" y="2514600"/>
            <a:chExt cx="5449680" cy="3397320"/>
          </a:xfrm>
        </p:grpSpPr>
        <p:sp>
          <p:nvSpPr>
            <p:cNvPr id="401" name=""/>
            <p:cNvSpPr/>
            <p:nvPr/>
          </p:nvSpPr>
          <p:spPr>
            <a:xfrm>
              <a:off x="1676520" y="3124080"/>
              <a:ext cx="609480" cy="6098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1302480" y="2514600"/>
              <a:ext cx="4225320" cy="3397320"/>
              <a:chOff x="1302480" y="2514600"/>
              <a:chExt cx="4225320" cy="3397320"/>
            </a:xfrm>
          </p:grpSpPr>
          <p:sp>
            <p:nvSpPr>
              <p:cNvPr id="403" name=""/>
              <p:cNvSpPr/>
              <p:nvPr/>
            </p:nvSpPr>
            <p:spPr>
              <a:xfrm>
                <a:off x="2859120" y="2514600"/>
                <a:ext cx="792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mmi10"/>
                  </a:rPr>
                  <a:t>¼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931840" y="2882520"/>
                <a:ext cx="25959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mmi10"/>
                  </a:rPr>
                  <a:t>¾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Enroll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.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CID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 = 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Course.C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908080" y="3303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</a:rPr>
                  <a:t>£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328480" y="4751280"/>
                <a:ext cx="83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Enrol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23280" y="3684240"/>
                <a:ext cx="95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Cour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089160" y="2895480"/>
                <a:ext cx="0" cy="1519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089160" y="3288960"/>
                <a:ext cx="0" cy="15228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244240" y="3632040"/>
                <a:ext cx="730440" cy="4489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241800" y="3619080"/>
                <a:ext cx="228600" cy="15228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034720" y="4309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</a:rPr>
                  <a:t>£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1711440" y="4633560"/>
                <a:ext cx="380880" cy="43776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359080" y="4633560"/>
                <a:ext cx="228600" cy="15228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302480" y="5513040"/>
                <a:ext cx="104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Stud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043720" y="3903480"/>
                <a:ext cx="2633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mmi10"/>
                  </a:rPr>
                  <a:t>¾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Student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.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SID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 = 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Enroll.S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208240" y="4309920"/>
                <a:ext cx="0" cy="1519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32800" y="4933800"/>
                <a:ext cx="2510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mmi10"/>
                  </a:rPr>
                  <a:t>¾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Student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.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name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 = “Bart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711440" y="5452920"/>
                <a:ext cx="0" cy="1519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78120" y="3352680"/>
              <a:ext cx="20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Push down </a:t>
              </a:r>
              <a:r>
                <a:rPr b="0" lang="en-US" sz="2400" spc="-1" strike="noStrike">
                  <a:solidFill>
                    <a:srgbClr val="00ff00"/>
                  </a:solidFill>
                  <a:latin typeface="cmmi10"/>
                </a:rPr>
                <a:t>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863160" y="3218040"/>
            <a:ext cx="4964040" cy="3414600"/>
            <a:chOff x="3863160" y="3218040"/>
            <a:chExt cx="4964040" cy="3414600"/>
          </a:xfrm>
        </p:grpSpPr>
        <p:grpSp>
          <p:nvGrpSpPr>
            <p:cNvPr id="422" name=""/>
            <p:cNvGrpSpPr/>
            <p:nvPr/>
          </p:nvGrpSpPr>
          <p:grpSpPr>
            <a:xfrm>
              <a:off x="3863160" y="3657600"/>
              <a:ext cx="4964040" cy="2975040"/>
              <a:chOff x="3863160" y="3657600"/>
              <a:chExt cx="4964040" cy="2975040"/>
            </a:xfrm>
          </p:grpSpPr>
          <p:sp>
            <p:nvSpPr>
              <p:cNvPr id="423" name=""/>
              <p:cNvSpPr/>
              <p:nvPr/>
            </p:nvSpPr>
            <p:spPr>
              <a:xfrm>
                <a:off x="6262560" y="3657600"/>
                <a:ext cx="792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mmi10"/>
                  </a:rPr>
                  <a:t>¼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377400" y="4065480"/>
                <a:ext cx="2449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dbsym"/>
                    <a:ea typeface="dbsym"/>
                  </a:rPr>
                  <a:t>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Enroll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.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CID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 = 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Course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.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C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516280" y="5472000"/>
                <a:ext cx="83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Enrol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85320" y="4638240"/>
                <a:ext cx="95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Cour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481800" y="4078080"/>
                <a:ext cx="0" cy="1519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5490720" y="4495680"/>
                <a:ext cx="911160" cy="5328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78560" y="4495680"/>
                <a:ext cx="228600" cy="1519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4576320" y="5354280"/>
                <a:ext cx="762120" cy="507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605560" y="5354280"/>
                <a:ext cx="228600" cy="15228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863160" y="6233760"/>
                <a:ext cx="104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Stud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370120" y="4890960"/>
                <a:ext cx="2487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dbsym"/>
                    <a:ea typeface="dbsym"/>
                  </a:rPr>
                  <a:t>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Student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.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SID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 = 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Enroll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.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S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239360" y="5735520"/>
                <a:ext cx="1756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mmi10"/>
                  </a:rPr>
                  <a:t>¾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name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 = “Bart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424400" y="6167160"/>
                <a:ext cx="0" cy="1519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562720" y="3352680"/>
              <a:ext cx="609480" cy="6098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90880" y="3218040"/>
              <a:ext cx="266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Convert </a:t>
              </a:r>
              <a:r>
                <a:rPr b="0" lang="en-US" sz="2400" spc="-1" strike="noStrike">
                  <a:solidFill>
                    <a:srgbClr val="00ff00"/>
                  </a:solidFill>
                  <a:latin typeface="cmmi10"/>
                </a:rPr>
                <a:t>¾</a:t>
              </a:r>
              <a:r>
                <a:rPr b="0" i="1" lang="en-US" sz="2400" spc="-1" strike="noStrike" baseline="-25000">
                  <a:solidFill>
                    <a:srgbClr val="00ff00"/>
                  </a:solidFill>
                  <a:latin typeface="AmeriGarmnd BT"/>
                </a:rPr>
                <a:t>p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-</a:t>
              </a:r>
              <a:r>
                <a:rPr b="0" lang="en-US" sz="2400" spc="-1" strike="noStrike">
                  <a:solidFill>
                    <a:srgbClr val="00ff00"/>
                  </a:solidFill>
                  <a:latin typeface="cmsy10"/>
                </a:rPr>
                <a:t>£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 to </a:t>
              </a:r>
              <a:r>
                <a:rPr b="0" lang="en-US" sz="2400" spc="-1" strike="noStrike">
                  <a:solidFill>
                    <a:srgbClr val="00ff00"/>
                  </a:solidFill>
                  <a:latin typeface="dbsym"/>
                  <a:ea typeface="dbsym"/>
                </a:rPr>
                <a:t></a:t>
              </a:r>
              <a:r>
                <a:rPr b="0" i="1" lang="en-US" sz="2400" spc="-1" strike="noStrike" baseline="-25000">
                  <a:solidFill>
                    <a:srgbClr val="00ff00"/>
                  </a:solidFill>
                  <a:latin typeface="AmeriGarmnd BT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EE5-ADF0-48B7-8444-0E859B11097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B8FAE-16FF-4F8A-9DFD-D5303B5644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4 is due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5 is assigned today, it is due April 2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7EB-7666-41B8-97C5-66EF6FD886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230FB-C923-4C6D-BF76-928478E6B0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uristics-based query optim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Push selections/projections down as much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y? Reduce the size of intermediate resul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y not? May be expensive; maybe joins filter bet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Join smaller relations first, and avoid cross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y? Reduce the size of intermediate resul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y not? Size depends on join selectivity to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he transformed logical plan to a physical plan (by choosing appropriate physical oper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BC5-6152-4089-86FD-69ABEF244DC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81DFC-63C4-462A-A81D-EC3F08693D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 query rewr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plicated—subqueries and views divide a query into nested “block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cessing each block separately forces particular join methods and join or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ven if the plan is optimal for each block, it may not be optimal for the entire que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nest query: convert subqueries/views to 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just deal with select-project-join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the clean rules of relational algebra app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047-33F6-4A17-89C8-C4D7D24088B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89AAE-1A86-49A1-8998-5A57DF721F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 query rewrit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n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Stu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SID = ANY (SELECT SID FROM Enro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n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Student, Enro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Student.SID = Enroll.S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ong—consider two Bart’s, each taking two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n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(SELECT DISTINCT Student.SID, n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     FROM Student, Enro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     WHERE Student.SID = Enroll.SI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ght—assuming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tudent.S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1C4-448D-41D9-96FB-8355017C111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B24E7-14FC-42CC-B957-7FDDB09160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uristics- vs. cost-based optim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Heuristics-based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ply heuristics to rewrite plans into cheaper 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ost-based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Rewri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ogical plan to combine “blocks” as much as possi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Optimiz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query block by bl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umerate logical plans (already cove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cost of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a plan with acceptabl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cus: select-project-join b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81A-A2A0-4623-8B97-A4BEF1FE487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998F2-CAC1-4E52-9498-E99BBFC3B5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ap of Query Processing in DB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: SQL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riter:  parse tre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ptimizer: logical plan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ci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EBD-E378-4E40-9CAD-4A3F742275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926BE-408B-49E0-B297-347556086C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esti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28600" y="3995280"/>
            <a:ext cx="861048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: cost estimation for each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SORT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akes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ize of intermediat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3164760" y="1295280"/>
            <a:ext cx="5099760" cy="2913480"/>
            <a:chOff x="3164760" y="1295280"/>
            <a:chExt cx="5099760" cy="2913480"/>
          </a:xfrm>
        </p:grpSpPr>
        <p:sp>
          <p:nvSpPr>
            <p:cNvPr id="451" name=""/>
            <p:cNvSpPr/>
            <p:nvPr/>
          </p:nvSpPr>
          <p:spPr>
            <a:xfrm>
              <a:off x="5895360" y="1295280"/>
              <a:ext cx="184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PROJECT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itl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20120" y="164916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613840" y="1752480"/>
              <a:ext cx="228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MERGE-JOIN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64800" y="2268360"/>
              <a:ext cx="189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CAN (Cours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171840" y="2126880"/>
              <a:ext cx="53028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78800" y="212688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11200" y="2361960"/>
              <a:ext cx="143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ORT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5562360" y="266040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11720" y="2742840"/>
              <a:ext cx="22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MERGE-JOIN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50320" y="3581280"/>
              <a:ext cx="171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CAN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440" y="349848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18760" y="3184200"/>
              <a:ext cx="141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ORT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81760" y="306684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724280" y="3066840"/>
              <a:ext cx="533160" cy="3556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06840" y="3809880"/>
              <a:ext cx="192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CAN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64760" y="3336480"/>
              <a:ext cx="28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FILTER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= “Bart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48320" y="3727080"/>
              <a:ext cx="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234000" y="1325520"/>
            <a:ext cx="45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Garmnd BT"/>
              </a:rPr>
              <a:t>Physical plan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467640" y="2743200"/>
            <a:ext cx="7533360" cy="1523880"/>
            <a:chOff x="467640" y="2743200"/>
            <a:chExt cx="7533360" cy="1523880"/>
          </a:xfrm>
        </p:grpSpPr>
        <p:sp>
          <p:nvSpPr>
            <p:cNvPr id="470" name=""/>
            <p:cNvSpPr/>
            <p:nvPr/>
          </p:nvSpPr>
          <p:spPr>
            <a:xfrm>
              <a:off x="3276720" y="2743200"/>
              <a:ext cx="4724280" cy="1523880"/>
            </a:xfrm>
            <a:prstGeom prst="roundRect">
              <a:avLst>
                <a:gd name="adj" fmla="val 16667"/>
              </a:avLst>
            </a:prstGeom>
            <a:noFill/>
            <a:ln cap="rnd" w="25560">
              <a:solidFill>
                <a:srgbClr val="33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7640" y="2747880"/>
              <a:ext cx="29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Input to SOR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768-7CD0-4D82-AAB2-D8ACFD42A4C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32C4A-EC5D-4620-8D76-E0423EB22B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s with equality predic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 following information i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z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mber of distinc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alue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lue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uniformly distributed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lue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uniformly distributed ove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¼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⁄ |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ectivity factor of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1 ⁄ 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BA8-B1C0-49A4-B0F8-EA26F8B6EF0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81BA9-9895-4BAD-B811-F77308E9E5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junctive predic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and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re indepen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example: major and ad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“over”-sel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exampl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¼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⁄ (|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· |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ce total size by all selectivity fac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4017-D5C9-4C43-8AD5-4A43CAFF7C0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55668-CFA4-4A94-B512-B90E552D16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ed and disjunctive predic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¼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 · (1 – 1 ⁄ 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ity factor of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(1 – selectivity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or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 · (1 ⁄ |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 + 1 ⁄ |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)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 Tuples satisfying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re counted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¼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 · (1 – (1 – 1 ⁄ 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) · (1 – 1 ⁄ 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)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: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quivalent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565-306B-4458-BFF3-58DDFD3463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FF9F7-E6AC-480A-89F7-DE02B9A5E8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estimation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imilar ideas, we can estimate the size of projection, duplicate elimination, union, difference, aggregation (with group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assumptions and very rough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urate estimate is not nee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be okay if we overestimate or underestimate consisten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lead to very nasty optimizer “hint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ELECT * FROM Student WHERE GPA &gt; 3.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ELECT * FROM Student WHERE GPA &gt; 3.9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AND GPA &gt; 3.9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covered: better estimation using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hist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6D3-31C6-412B-877F-4688B710889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158DA-0818-4172-A4D8-420B2FDAB1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0" b="5577"/>
          <a:stretch/>
        </p:blipFill>
        <p:spPr>
          <a:xfrm>
            <a:off x="457200" y="1219320"/>
            <a:ext cx="8153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BMS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286000"/>
            <a:ext cx="8077320" cy="13716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C7DB-7B1A-4185-A6B6-D04E6E1377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D4D9F-DBF2-4502-B1C8-B858ABA2C943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for the best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search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hy” plan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considering different join orders, there are 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(2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– 2)! / 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– 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shy plan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0240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re are more if we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way jo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join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ment of selection and projection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349160" y="685800"/>
            <a:ext cx="3431520" cy="2796120"/>
            <a:chOff x="4349160" y="685800"/>
            <a:chExt cx="3431520" cy="2796120"/>
          </a:xfrm>
        </p:grpSpPr>
        <p:sp>
          <p:nvSpPr>
            <p:cNvPr id="483" name=""/>
            <p:cNvSpPr/>
            <p:nvPr/>
          </p:nvSpPr>
          <p:spPr>
            <a:xfrm>
              <a:off x="5596200" y="6858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5195880" y="119376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805720" y="119376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64440" y="190512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5881320" y="1933560"/>
              <a:ext cx="30492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26400" y="256860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6316920" y="256860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21440" y="1930320"/>
              <a:ext cx="279360" cy="4320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4611960" y="193032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49160" y="236232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54280" y="236232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20760" y="236232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3360" y="287028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24200" y="297180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99320" y="14778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42320" y="14778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675480" y="213372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4F9C-4261-4FEA-9AF5-BB1E0B08428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D85DA-612E-4724-89B5-20AEF29A88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-deep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28600" y="2869920"/>
            <a:ext cx="861048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: consider only “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left-d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plans, in which only the left child can be a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nd to be better than plans of other shapes, because many join algorithms scan inner (right) relation multiple times—you will not want it to be a complex subt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left-deep plans are ther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gnificantly fewer, but still lots—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720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825280" y="685800"/>
            <a:ext cx="3033000" cy="2412000"/>
            <a:chOff x="2825280" y="685800"/>
            <a:chExt cx="3033000" cy="2412000"/>
          </a:xfrm>
        </p:grpSpPr>
        <p:sp>
          <p:nvSpPr>
            <p:cNvPr id="503" name=""/>
            <p:cNvSpPr/>
            <p:nvPr/>
          </p:nvSpPr>
          <p:spPr>
            <a:xfrm>
              <a:off x="4896000" y="6858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4572000" y="1216080"/>
              <a:ext cx="38088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05520" y="1216080"/>
              <a:ext cx="38088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038120" y="1663920"/>
              <a:ext cx="38124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72000" y="1663920"/>
              <a:ext cx="38088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3538080" y="2087640"/>
              <a:ext cx="38124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71960" y="2087640"/>
              <a:ext cx="38088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072960" y="2502000"/>
              <a:ext cx="38124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06840" y="2502000"/>
              <a:ext cx="38088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25280" y="258768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77560" y="258768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68240" y="217332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82680" y="174960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01800" y="130176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375080" y="10638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41920" y="15210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71760" y="193212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395-26C5-4D10-9B08-82BBD37DB0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9B274-D023-4A91-AA5F-989E712EF9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reed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y selections have been pushed down; i.e.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the pai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e smallest estimated siz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until no relation is lef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remaining relations such that the joi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current result yields an intermediate result of the smalles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43200" y="5791320"/>
            <a:ext cx="1371600" cy="6858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0240" y="579600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Current sub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29200" y="4724280"/>
            <a:ext cx="2209680" cy="12193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47560" y="5040360"/>
            <a:ext cx="228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47000" y="4729320"/>
            <a:ext cx="188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Remaining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relations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to be jo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474920" y="472932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meriGarmnd BT"/>
              </a:rPr>
              <a:t>Pick most efficient joi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0" y="5105520"/>
            <a:ext cx="3048120" cy="15238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651240" y="5105520"/>
            <a:ext cx="5216040" cy="1200240"/>
            <a:chOff x="651240" y="5105520"/>
            <a:chExt cx="5216040" cy="1200240"/>
          </a:xfrm>
        </p:grpSpPr>
        <p:sp>
          <p:nvSpPr>
            <p:cNvPr id="530" name=""/>
            <p:cNvSpPr/>
            <p:nvPr/>
          </p:nvSpPr>
          <p:spPr>
            <a:xfrm>
              <a:off x="3594240" y="513396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0066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34240" y="5726160"/>
              <a:ext cx="462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0066"/>
                  </a:solidFill>
                  <a:latin typeface="AmeriGarmnd BT"/>
                </a:rPr>
                <a:t>S</a:t>
              </a:r>
              <a:r>
                <a:rPr b="0" i="1" lang="en-US" sz="2800" spc="-1" strike="noStrike" baseline="-25000">
                  <a:solidFill>
                    <a:srgbClr val="330066"/>
                  </a:solidFill>
                  <a:latin typeface="AmeriGarmnd BT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3428640" y="5562720"/>
              <a:ext cx="30492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49560" y="5562720"/>
              <a:ext cx="30492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572000" y="5638680"/>
              <a:ext cx="1219320" cy="444600"/>
            </a:xfrm>
            <a:custGeom>
              <a:avLst/>
              <a:gdLst/>
              <a:ahLst/>
              <a:rect l="l" t="t" r="r" b="b"/>
              <a:pathLst>
                <a:path w="768" h="280">
                  <a:moveTo>
                    <a:pt x="768" y="0"/>
                  </a:moveTo>
                  <a:cubicBezTo>
                    <a:pt x="688" y="100"/>
                    <a:pt x="608" y="200"/>
                    <a:pt x="480" y="240"/>
                  </a:cubicBezTo>
                  <a:cubicBezTo>
                    <a:pt x="352" y="280"/>
                    <a:pt x="176" y="260"/>
                    <a:pt x="0" y="24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1240" y="5235480"/>
              <a:ext cx="29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Minimize expected siz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562720" y="5105520"/>
              <a:ext cx="30456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B86-ECD8-4D6D-83BD-E5320BA371F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485C1-2364-4D86-A4F3-8579C64543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ynamic programming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optimal plans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1: Find the best single-table plans (for each t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2: Find the best two-table plans (for each pair of tables) by combining best single-table pl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Find the bes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able plans (for each combination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s) by combining two smaller best plans found in previous p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e: Any subplan of an optimal plan must also be optimal (otherwise, just replace the subplan to get a better overall p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not qui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C03D-0CE4-47B0-A194-4A830029AD4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A1BDF-B4B3-47A5-8387-CF602C3122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eed for “interesting order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pla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hash join (beats sort-merge 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overall plan: sort-merge jo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then sort-merge joi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plan of the optimal plan is not optimal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result of the sort-merge join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sorted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is an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interesting o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can be exploited by later processing (e.g., join, duplicate elimination,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)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7B3-DCB0-4A78-B35B-E83DF72CEF9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61CB3-DA63-4A81-8D8E-F412F4477D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algebra equiva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rewrite tr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istics-based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-based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statistics to estimate sizes of intermediate resul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reedy approa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ynamic programming approa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ABC-4B4B-4C45-AAF9-DE7A84B2AE8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DA6F5-7DEB-4436-A86B-A9088648A9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DBMS Archit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52760" y="4129200"/>
            <a:ext cx="4205520" cy="1393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88960" y="359568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88960" y="472284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88960" y="528804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ag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880240"/>
            <a:ext cx="2133720" cy="520560"/>
          </a:xfrm>
          <a:prstGeom prst="can">
            <a:avLst>
              <a:gd name="adj" fmla="val 25000"/>
            </a:avLst>
          </a:prstGeom>
          <a:solidFill>
            <a:srgbClr val="9900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68560" y="2003400"/>
            <a:ext cx="2134440" cy="368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9000" y="2959200"/>
            <a:ext cx="1250640" cy="6426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ging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68920" y="3063960"/>
            <a:ext cx="1523520" cy="368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24360" y="4419720"/>
            <a:ext cx="1206720" cy="6508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384800"/>
            <a:ext cx="1366920" cy="6508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43720" y="504180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90440" y="914400"/>
            <a:ext cx="46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/Web Forms/Applications/D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17440" y="1703520"/>
            <a:ext cx="8737560" cy="93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7440" y="5811840"/>
            <a:ext cx="8737560" cy="93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57520" y="1373040"/>
            <a:ext cx="0" cy="509760"/>
          </a:xfrm>
          <a:prstGeom prst="line">
            <a:avLst/>
          </a:prstGeom>
          <a:ln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97120" y="13669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8400" y="1384200"/>
            <a:ext cx="0" cy="509760"/>
          </a:xfrm>
          <a:prstGeom prst="line">
            <a:avLst/>
          </a:prstGeom>
          <a:ln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86920" y="137808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11280" y="3032280"/>
            <a:ext cx="2286000" cy="4060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Optim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11280" y="246852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Re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11280" y="190512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88960" y="415908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s &amp; Access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15960" y="3048120"/>
            <a:ext cx="2286000" cy="380880"/>
          </a:xfrm>
          <a:prstGeom prst="rect">
            <a:avLst/>
          </a:prstGeom>
          <a:solidFill>
            <a:srgbClr val="ff33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733920"/>
            <a:ext cx="304920" cy="2666880"/>
          </a:xfrm>
          <a:prstGeom prst="upArrow">
            <a:avLst>
              <a:gd name="adj1" fmla="val 50000"/>
              <a:gd name="adj2" fmla="val 218654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905120"/>
            <a:ext cx="304920" cy="1600200"/>
          </a:xfrm>
          <a:prstGeom prst="downArrow">
            <a:avLst>
              <a:gd name="adj1" fmla="val 50000"/>
              <a:gd name="adj2" fmla="val 131198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98680" y="3600360"/>
            <a:ext cx="2286000" cy="381240"/>
          </a:xfrm>
          <a:prstGeom prst="rect">
            <a:avLst/>
          </a:prstGeom>
          <a:solidFill>
            <a:srgbClr val="7e9ce8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9B6-3D5D-498D-9039-8BEA382594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E9105-9474-416A-8209-FD17054E4B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Operators in Q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y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operato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y do 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rcise: L: logical operator, P: physical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sted loop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rt-merge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3657600"/>
            <a:ext cx="1828800" cy="18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CCF-E52F-42FD-A9E7-27B9E15A04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E9008-9E4B-4642-80FB-0D26F938C5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696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Query Tree and Physical Op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4440" y="2752560"/>
            <a:ext cx="3733920" cy="173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P.buyer, P.i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     Purchase P, Person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  P.buyer=Q.name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urban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884480" y="3819600"/>
            <a:ext cx="4260600" cy="1668600"/>
            <a:chOff x="4884480" y="3819600"/>
            <a:chExt cx="4260600" cy="1668600"/>
          </a:xfrm>
        </p:grpSpPr>
        <p:sp>
          <p:nvSpPr>
            <p:cNvPr id="131" name=""/>
            <p:cNvSpPr/>
            <p:nvPr/>
          </p:nvSpPr>
          <p:spPr>
            <a:xfrm>
              <a:off x="7472520" y="3819600"/>
              <a:ext cx="1672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(Si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nested loop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84480" y="511992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(Table sca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89600" y="511992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(Index sca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435560" y="3362400"/>
            <a:ext cx="533160" cy="257040"/>
          </a:xfrm>
          <a:prstGeom prst="rightArrow">
            <a:avLst>
              <a:gd name="adj1" fmla="val 50000"/>
              <a:gd name="adj2" fmla="val 5185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922280" y="1697040"/>
            <a:ext cx="2705040" cy="3371040"/>
            <a:chOff x="4922280" y="1697040"/>
            <a:chExt cx="2705040" cy="3371040"/>
          </a:xfrm>
        </p:grpSpPr>
        <p:sp>
          <p:nvSpPr>
            <p:cNvPr id="136" name=""/>
            <p:cNvSpPr/>
            <p:nvPr/>
          </p:nvSpPr>
          <p:spPr>
            <a:xfrm>
              <a:off x="5943600" y="392436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91360" y="392436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43600" y="392436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3600" y="392436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79920" y="427680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96120" y="4276800"/>
              <a:ext cx="68400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51400" y="3211560"/>
              <a:ext cx="1800" cy="56052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51400" y="2284560"/>
              <a:ext cx="180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22280" y="4716360"/>
              <a:ext cx="1160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ff33"/>
                  </a:solidFill>
                  <a:latin typeface="Arial"/>
                </a:rPr>
                <a:t>Purchas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07880" y="4700520"/>
              <a:ext cx="9194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ff33"/>
                  </a:solidFill>
                  <a:latin typeface="Arial"/>
                </a:rPr>
                <a:t>Pers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81840" y="3971880"/>
              <a:ext cx="1536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Arial"/>
                </a:rPr>
                <a:t>buyer=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99800" y="2905200"/>
              <a:ext cx="1640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Arial"/>
                </a:rPr>
                <a:t>City=‘urban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86360" y="1995480"/>
              <a:ext cx="1340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Arial"/>
                </a:rPr>
                <a:t>buyer,i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39040" y="284472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07360" y="183816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39960" y="255420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33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0480" y="16970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33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6C8-BE73-4C76-94FC-6D8EF5C6C5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1B970-F502-426B-B707-5392091D40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iew A query’s trip through the DB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192480" y="1905120"/>
            <a:ext cx="2819520" cy="3828960"/>
            <a:chOff x="3192480" y="1905120"/>
            <a:chExt cx="2819520" cy="3828960"/>
          </a:xfrm>
        </p:grpSpPr>
        <p:sp>
          <p:nvSpPr>
            <p:cNvPr id="155" name=""/>
            <p:cNvSpPr/>
            <p:nvPr/>
          </p:nvSpPr>
          <p:spPr>
            <a:xfrm>
              <a:off x="3192480" y="1905120"/>
              <a:ext cx="28195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Par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92480" y="3029040"/>
              <a:ext cx="28195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Rewri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92480" y="4152960"/>
              <a:ext cx="28195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Optimiz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92480" y="5276880"/>
              <a:ext cx="28195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Execu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033800" y="5700600"/>
            <a:ext cx="1075320" cy="636120"/>
            <a:chOff x="4033800" y="5700600"/>
            <a:chExt cx="1075320" cy="636120"/>
          </a:xfrm>
        </p:grpSpPr>
        <p:sp>
          <p:nvSpPr>
            <p:cNvPr id="160" name=""/>
            <p:cNvSpPr/>
            <p:nvPr/>
          </p:nvSpPr>
          <p:spPr>
            <a:xfrm>
              <a:off x="4033800" y="5877000"/>
              <a:ext cx="107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es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2240" y="5700600"/>
              <a:ext cx="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810960" y="1380960"/>
            <a:ext cx="5337360" cy="1202400"/>
            <a:chOff x="3810960" y="1380960"/>
            <a:chExt cx="5337360" cy="1202400"/>
          </a:xfrm>
        </p:grpSpPr>
        <p:grpSp>
          <p:nvGrpSpPr>
            <p:cNvPr id="163" name=""/>
            <p:cNvGrpSpPr/>
            <p:nvPr/>
          </p:nvGrpSpPr>
          <p:grpSpPr>
            <a:xfrm>
              <a:off x="3810960" y="1380960"/>
              <a:ext cx="1549440" cy="614520"/>
              <a:chOff x="3810960" y="1380960"/>
              <a:chExt cx="1549440" cy="614520"/>
            </a:xfrm>
          </p:grpSpPr>
          <p:sp>
            <p:nvSpPr>
              <p:cNvPr id="164" name=""/>
              <p:cNvSpPr/>
              <p:nvPr/>
            </p:nvSpPr>
            <p:spPr>
              <a:xfrm>
                <a:off x="3810960" y="1380960"/>
                <a:ext cx="154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SQL que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602240" y="176688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361560" y="1392120"/>
              <a:ext cx="278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SELECT title, SI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FROM Enroll, Cours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WHERE Enroll.CID =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      Course.CID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-79200" y="1981080"/>
            <a:ext cx="5485680" cy="2151720"/>
            <a:chOff x="-79200" y="1981080"/>
            <a:chExt cx="5485680" cy="2151720"/>
          </a:xfrm>
        </p:grpSpPr>
        <p:grpSp>
          <p:nvGrpSpPr>
            <p:cNvPr id="168" name=""/>
            <p:cNvGrpSpPr/>
            <p:nvPr/>
          </p:nvGrpSpPr>
          <p:grpSpPr>
            <a:xfrm>
              <a:off x="3867840" y="2398680"/>
              <a:ext cx="1538640" cy="790560"/>
              <a:chOff x="3867840" y="2398680"/>
              <a:chExt cx="1538640" cy="790560"/>
            </a:xfrm>
          </p:grpSpPr>
          <p:sp>
            <p:nvSpPr>
              <p:cNvPr id="169" name=""/>
              <p:cNvSpPr/>
              <p:nvPr/>
            </p:nvSpPr>
            <p:spPr>
              <a:xfrm>
                <a:off x="3867840" y="2575080"/>
                <a:ext cx="153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Parse tre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602240" y="239868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02240" y="296064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993600" y="2362320"/>
              <a:ext cx="94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FW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-79200" y="2666880"/>
              <a:ext cx="150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elect-list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4840" y="289548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from-list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77720" y="2666880"/>
              <a:ext cx="179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where-con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6880" y="3260880"/>
              <a:ext cx="104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abl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4560" y="3260880"/>
              <a:ext cx="104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abl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4160" y="1981080"/>
              <a:ext cx="114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Query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39640" y="2279520"/>
              <a:ext cx="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9640" y="2660760"/>
              <a:ext cx="0" cy="3808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830160" y="2660760"/>
              <a:ext cx="457200" cy="759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68240" y="2660760"/>
              <a:ext cx="304920" cy="759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8920" y="2965320"/>
              <a:ext cx="15228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7880" y="2965320"/>
              <a:ext cx="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54040" y="2965320"/>
              <a:ext cx="22860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982080" y="319392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5960" y="319392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6480" y="3575160"/>
              <a:ext cx="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20880" y="3575160"/>
              <a:ext cx="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4160" y="373392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43520" y="373392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our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2160" y="304164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1520" y="304632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696120" y="3225960"/>
            <a:ext cx="5178240" cy="1568880"/>
            <a:chOff x="3696120" y="3225960"/>
            <a:chExt cx="5178240" cy="1568880"/>
          </a:xfrm>
        </p:grpSpPr>
        <p:grpSp>
          <p:nvGrpSpPr>
            <p:cNvPr id="195" name=""/>
            <p:cNvGrpSpPr/>
            <p:nvPr/>
          </p:nvGrpSpPr>
          <p:grpSpPr>
            <a:xfrm>
              <a:off x="3696120" y="3452760"/>
              <a:ext cx="1832760" cy="790560"/>
              <a:chOff x="3696120" y="3452760"/>
              <a:chExt cx="1832760" cy="790560"/>
            </a:xfrm>
          </p:grpSpPr>
          <p:sp>
            <p:nvSpPr>
              <p:cNvPr id="196" name=""/>
              <p:cNvSpPr/>
              <p:nvPr/>
            </p:nvSpPr>
            <p:spPr>
              <a:xfrm>
                <a:off x="3696120" y="3629160"/>
                <a:ext cx="183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Logical pl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02240" y="345276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02240" y="401472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6496560" y="3225960"/>
              <a:ext cx="1208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titl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78280" y="3606840"/>
              <a:ext cx="22960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Cours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58000" y="439596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0520" y="439596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our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62520" y="360684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62520" y="400068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319440" y="434340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15160" y="433080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98720" y="4003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-44640" y="4349880"/>
            <a:ext cx="5643000" cy="2144880"/>
            <a:chOff x="-44640" y="4349880"/>
            <a:chExt cx="5643000" cy="2144880"/>
          </a:xfrm>
        </p:grpSpPr>
        <p:grpSp>
          <p:nvGrpSpPr>
            <p:cNvPr id="209" name=""/>
            <p:cNvGrpSpPr/>
            <p:nvPr/>
          </p:nvGrpSpPr>
          <p:grpSpPr>
            <a:xfrm>
              <a:off x="-44640" y="4349880"/>
              <a:ext cx="5643000" cy="2144880"/>
              <a:chOff x="-44640" y="4349880"/>
              <a:chExt cx="5643000" cy="214488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3639240" y="4576680"/>
                <a:ext cx="1959120" cy="790560"/>
                <a:chOff x="3639240" y="4576680"/>
                <a:chExt cx="1959120" cy="7905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639240" y="4753080"/>
                  <a:ext cx="195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meriGarmnd BT"/>
                    </a:rPr>
                    <a:t>Physical pla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602240" y="457668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602240" y="513864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317520" y="4349880"/>
                <a:ext cx="236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PROJECT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titl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,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SID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65760" y="4802040"/>
                <a:ext cx="284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Sort MERGE-JOIN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CID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-44640" y="5781600"/>
                <a:ext cx="171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SCAN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Enrol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68720" y="6095880"/>
                <a:ext cx="183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SCAN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Cours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52360" y="4719600"/>
                <a:ext cx="0" cy="15228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809280" y="5181480"/>
                <a:ext cx="228600" cy="15264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305000" y="5181480"/>
                <a:ext cx="600120" cy="15264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5560" y="5324400"/>
                <a:ext cx="143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SORT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CID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4200" y="5676840"/>
                <a:ext cx="0" cy="15264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557360" y="5257800"/>
              <a:ext cx="143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ORT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33720" y="563868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746C-1C1E-4853-98B0-33C6D2FBD7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FA628-A73C-4C41-89CA-9176BD8853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ystem view of DBMS query process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wri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ecu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euristic based metho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st based metho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FB7-FA29-403D-885F-7E8DE917CB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8A9B9-936A-421C-A98F-0314EBF5D0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sing and valid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Parser: SQL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od old lex &amp; yac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ct and reject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synta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Validator: validate 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ct and reject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seman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xistent tables/views/colum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ufficient access privile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mismatch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AVG(name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name + GP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Student UNION Enr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 view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required for semantic checking is found in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system catalo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contains all schema inform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2CA-3451-456D-809E-8BAB07D3A5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351AE-E7D1-45B9-9857-F9B9D346ED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09T21:15:37Z</dcterms:modified>
  <cp:revision>978</cp:revision>
  <dc:subject/>
  <dc:title>CS186: Introduction to Database Systems</dc:title>
</cp:coreProperties>
</file>