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2D70C6-B561-4FBC-90C5-F1EC76A64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662205-522E-45F4-8D88-C83C3E61F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CB3B0D-5408-4AE3-9A75-D70801F03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E6FC48-E35F-4E7B-8C18-E5BA64F6F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501C9B-47FC-4820-823B-FC694AF67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BDD15E-8C69-47C9-894A-1FA2A8615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DF7CDF-46B4-455B-8E18-6D7B5B06F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CE87D0-9CF0-483F-9F94-AF1EF6F93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E15DA1-82B9-4600-9E01-A0C1BF7DD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385A3D-4FC0-4F2E-BF5A-4180C4529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C4C8F8-25D2-4964-B033-89D8F00C69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19529E-95FA-47C1-9003-880869201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D10D75-0114-42D8-B982-805CABEE8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A1DBAA-561E-4070-A58C-65B7F1FCA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4CAB4F-70DF-4C3C-971A-DBC7C95FB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4CAC46-4B55-4956-99A1-E0B78AB05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C41FDD-9289-4BE8-A296-E0960139D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DB65F6-1DE1-48F4-9BF4-91F70EA28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099A99-47CF-4D18-9FAF-880BAD03D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short-duration read/write lock: lock and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actice, probably just acquire latches on pages to prevent reading physically corrup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7D22F1-60B2-4528-BEF8-9FF6CEDAB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Lock the stuff before access, release lock right after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lock are long-duration: hold until the end (to prevent read uncommit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1ECE7E-9D2E-419B-9FED-9721DCA73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the stuff I access, and don’t release until I 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: you can lock entire table, but that’s b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lock things that don’t exist yet to prevent 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CCBCB2-0C22-4174-965E-06192A9FE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the stuff I access, and don’t release until I 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: you can lock entire table, but that’s b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lock things that don’t exist yet to prevent 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993CE3-352C-42E3-AC67-F5934A04E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EE7617-0CC7-4D33-975C-FFA3652DE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859D557-536B-4A7F-8019-A98D0CEF0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CC1F20-CBD8-4C1A-9DD5-1B79EF4E8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8668F1-5BFD-410D-AA32-CC02E0BF8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1BA434-0A44-4794-9299-D26D8976D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5534CC-DDCD-4F42-B444-0D6419A60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FE2A38-E767-4F08-984B-A136B2812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4BFA31-5AB4-4FE4-997B-A7B6EF987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AF2B-8E51-400E-83BE-B1AE2891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C0E-7CFC-4325-B00A-CE7DD2E4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C30-B7FE-4CE2-BA6D-EE40AE9D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5B9-10A3-4440-BCC0-83C84D0D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219-ACAD-44B9-9CE5-D2884360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02F-34BF-402B-870C-C747C134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67D-008D-46E0-9365-D6E85694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096-6173-417E-A1CF-E3DD103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F16-4BEA-4111-A0C1-A8CE2A83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188-A167-4226-82F4-6DA1A63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15C-85C0-439B-9E20-12464D5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36A-E4FC-4DBB-BB6C-4F6A01C5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308A-8626-4613-87CF-2D5E977F80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9D07-A9C0-45B5-9420-7C1BB781C0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eem to make sense since views ar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es make sense if that is how users see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modify the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base 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he modification would appear to have been accomplished on the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one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many ways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no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8EB-9B47-42AB-AEB1-CDB5057203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D7C24-5117-40C5-A195-634919BA83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mp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StudentGPA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GPA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670-42FC-4A54-8B3A-FF426FC134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8D142-5C8C-4529-9CA9-7D31F16A12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mpossib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HighGPAStudent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GPA &gt; 3.7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HighGPA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VALUES(987, 2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you do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serted row will not b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GPA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C9A-2EC9-4FC2-8732-E1DB0AAA28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B3967-D404-4755-9666-AE9FC80C98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with too many poss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AverageGPA(GPA)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AVG(GPA)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 that you can rename columns in view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PDATE AverageGPA SET GPA = 2.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verybody’s GPA to 2.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everybody’s GPA by the same am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ower Lisa’s G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EAB-5BBA-492A-BCE0-FDAE8DF39C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904FC-506B-4965-9C6D-B8004153E3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92 updateable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r less just single-table selectio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aggre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sub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ably somewhat restr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might get it wrong in so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 the slide titled “An impossible cas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HECK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P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end of the view definition will make DBMS reject such modif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75D-F2B3-414A-8451-BF79F3BF30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640B7-363B-4513-B70A-C3A8E5D02D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xes for Performance Tu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7f966a"/>
                </a:solidFill>
                <a:latin typeface="Times New Roman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uxiliary persistent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arch tree (e.g. B-tree, R-tre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okup table (e.g., hash table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speed up access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looku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range quer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ex on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can spe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…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n indexes in the second half of this cour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77C-0BEE-4414-A0E0-C520DDFCA90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D759F-D93D-4657-B704-3A2B3803E2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Hash Inde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Student WHERE name = ‘Kevi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an index on Student.name: must scan the entire table if we store Student as a flat file of unordered ro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index: go “directly” to rows with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name = ’Kevin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2971800"/>
          <a:ext cx="3504960" cy="220032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53316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1600200" y="2971800"/>
            <a:ext cx="2971800" cy="2200320"/>
            <a:chOff x="1600200" y="2971800"/>
            <a:chExt cx="2971800" cy="2200320"/>
          </a:xfrm>
        </p:grpSpPr>
        <p:sp>
          <p:nvSpPr>
            <p:cNvPr id="141" name=""/>
            <p:cNvSpPr/>
            <p:nvPr/>
          </p:nvSpPr>
          <p:spPr>
            <a:xfrm>
              <a:off x="1600200" y="480708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v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4441680"/>
              <a:ext cx="1631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s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407664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00200" y="371160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3346560"/>
              <a:ext cx="163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Joh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2971800"/>
              <a:ext cx="1631880" cy="374760"/>
            </a:xfrm>
            <a:prstGeom prst="rect">
              <a:avLst/>
            </a:prstGeom>
            <a:solidFill>
              <a:srgbClr val="e1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971800"/>
              <a:ext cx="1631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172120"/>
              <a:ext cx="1631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334656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371160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07664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444168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4807080"/>
              <a:ext cx="16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971800"/>
              <a:ext cx="0" cy="2200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32080" y="2971800"/>
              <a:ext cx="0" cy="2200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0400" y="35812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39625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43434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46483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9528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752480" y="5410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sh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A1C-74AB-46CC-9098-7CF455E080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083B9-1045-4AD5-A4CC-2224ED1BDA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inde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QUE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INDEX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index_name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ON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table_name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olumn_name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olumn_name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UNIQ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 DBMS will also enforce that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is a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INDE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ame_index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UDENT (SName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ROP INDEX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index_name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the DBMS will automatically create indexes for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aint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9E78-CB74-4423-88F7-484896A778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534BE-6C5C-4785-B446-EA9DD878CD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ing indexes to cre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ndexes =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tak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need to be maintained when data is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es have one more level of in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index selection depends on both query and update workload and the size of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376-6418-4FC4-BD8D-4B7E968830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94545-3E76-4E3A-8543-DE75BC2CEF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may carry out many operations on the data retrieved from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DBMS is only concerned about what data is read/written from/to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a fixed set of re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A, B, C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transaction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 sequenc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read(A), write(B)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’s abstract view of a user progr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1A8-77CD-4772-AC97-B5659651EC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97E80-F517-45D1-8A36-B870769DBF6D}" type="datetime1">
              <a:rPr lang="en-US"/>
              <a:t>07/28/26</a:t>
            </a:fld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book has been reserved in the engineering libr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mining : concepts and techniques by Jiawei Han and Micheline Kamb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490-43A6-4FC6-A79F-346B885727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CD74D-6394-46AD-87C2-4E482599A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 criteria: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tomic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actions in the Xact happen, or none ha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onsisten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ach Xact is consistent, and the DB starts consistent, it ends up consis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sol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ecution of one Xact is isolated from that of other X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669999"/>
                </a:solidFill>
                <a:latin typeface="Times New Roman"/>
              </a:rPr>
              <a:t>urabil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Xact commits, its effects pers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about SQL Trans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wo transaction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a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45720" y="1371600"/>
            <a:ext cx="61160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GIN   A=A+100,   B=B-100  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EGIN   A=1.06*A,   B=1.06*B  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209680"/>
            <a:ext cx="86104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xact transfers $100 from B’s account to 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nd credits both accounts with 6%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t first A and B each have $1000.  What ar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legal outco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running T1 and T2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100 *1.06 = $1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uarantee that T1 will execute before T2 or vice-versa, if both are submitted together.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t, the net effec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mus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e equivalent to these two transactions running serially in so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1177-0C2D-4212-A34F-2A68C59473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2E583-496B-4A2E-AFC7-7FC98B31DFB3}" type="datetime1">
              <a:rPr lang="en-US"/>
              <a:t>07/28/26</a:t>
            </a:fld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(Contd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outcomes: A=1166,B=954 or A=1160,B=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possible interleaved </a:t>
            </a:r>
            <a:r>
              <a:rPr b="0" i="1" lang="en-US" sz="2400" spc="-1" strike="noStrike" u="sng">
                <a:solidFill>
                  <a:srgbClr val="669999"/>
                </a:solidFill>
                <a:uFillTx/>
                <a:latin typeface="Times New Roman"/>
              </a:rPr>
              <a:t>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6720" y="1981080"/>
            <a:ext cx="708804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=A+100,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B=B-1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A=1.06*A,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B=1.06*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81952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s is OK (same as T1;T2).  But what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3000" y="3429000"/>
            <a:ext cx="709416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=A+100,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=B-10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A=1.06*A, B=1.06*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4343400"/>
            <a:ext cx="906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: A=1166, B=960; A+B = 2126, bank loses $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DBMS’s view of the second sched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92040" y="5389560"/>
            <a:ext cx="670428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R(A), W(A),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R(B), W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(A), W(A), R(B), W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08F-1660-4D79-A4F5-A239ABC56D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8081B-EA15-4A58-81C1-C9D7BEE82C02}" type="datetime1">
              <a:rPr lang="en-US"/>
              <a:t>07/28/26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in pgSQ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&lt;database opera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OMMIT [ROLLBACK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is automatically started when a user executes an SQL statement (begin is 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quent statements in the same session are executed as part of this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see changes made by earlier ones in the same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 in other concurrently running transactions do not see these chan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commits the transaction (flushing the update to disk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and aborts the transaction (all effects are und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795-98DC-4258-B83F-03CA400E44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8391F-2A4C-41AF-BECA-A53B194B43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effects of a transaction must be undone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 explicitly aborts the transaction using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OLLBA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pplication asks for user confirmation in the last step and issues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ing on the res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BMS crashes before a transaction comm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effects of a modification statement must be undone when any constraint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ever, only this statement is rolled back; the transaction contin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tomicity achie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ging (to support und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E3B-282B-4CFE-9641-92A0234AB4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BBCE7-0DDE-40CE-B474-BD643A794F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must appear to be executed in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rial sched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ith no interleaving oper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erformance, DBMS executes transactions using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erializabl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schedule, only those operations that can be interleaved are executed concurren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ose that can not be interleaved are in a serialized w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chedule guarantees to produce the same effects as a serial schedu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B73-0F7B-418F-81A5-4DDC7FD943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7196E-25AC-470A-B531-251B456D3A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isolation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est isolation level: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ete is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ually se as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er isolation levels: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PEATABLE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OMMIT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COM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 performance by eliminating overhead and allowing higher degrees of concurr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de-off: sometimes you get the “wrong” ans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gSQL default is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REA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OMMIT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B51-F868-4B41-B022-FA74C83F41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1AAF6-60AA-40A9-AF74-C930800D4D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AD UNCOMMIT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ad “dirty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ata item is dirty if it is written by an uncommitted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What if the transaction that wrote the dirty data eventually abo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wrong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T GPA = 3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 SID = 142;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ROLLBACK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6B0-C339-4ED5-9124-62DD31B695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D43B5-13DA-4EB3-9175-477BE7AE5E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AD COMMIT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ads see a snapshot of the database (including all committed transactions) right before the </a:t>
            </a:r>
            <a:r>
              <a:rPr b="0" i="1" lang="en-US" sz="2400" spc="-1" strike="noStrike">
                <a:solidFill>
                  <a:srgbClr val="7f966a"/>
                </a:solidFill>
                <a:latin typeface="Times New Roman"/>
              </a:rPr>
              <a:t>beginning of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dirty reads, but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non-repeatable rea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s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the same data item twice can produce different res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ifferent ave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T GPA = 3.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 SID = 142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E9B-79D6-4552-A73A-8749FF0A27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5664F-7173-41DF-AF0E-4325968D6F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REPEATABLE 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are repeatable, but may se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phan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Do not allow the modification of existing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ew rows may be inserted in the mean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different average (stil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 INTO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VALUES(789, ‘Nelson’, 10, 1.0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153-65EA-42C2-A433-16B466D092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6BDB0-5D42-48C8-9FA8-1A6D1D1D57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Data Integrity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CD5-37B3-4059-92F3-D9F42F52E5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6D05E-D814-4BCD-BE35-F577A011E5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SERIALIZABLE RE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see the snapshot of the database right before the </a:t>
            </a:r>
            <a:r>
              <a:rPr b="0" i="1" lang="en-US" sz="2800" spc="-1" strike="noStrike">
                <a:solidFill>
                  <a:srgbClr val="7f966a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the same a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1: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-- T2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 INTO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VALUES(789, ‘Nelson’, 10, 1.0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Studen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OMM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51A-19B2-4363-A1E4-331A6684FC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FB096-6F01-4328-9E05-C7EE2D8032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isolation lev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3470400"/>
            <a:ext cx="8610480" cy="28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 At the beginning of a transaction,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T TRANSACTION ISOLATION LEV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olation_level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READ 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AD UNCOMMITT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an only b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READ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143000"/>
          <a:ext cx="8686800" cy="2282760"/>
        </p:xfrm>
        <a:graphic>
          <a:graphicData uri="http://schemas.openxmlformats.org/drawingml/2006/table">
            <a:tbl>
              <a:tblPr/>
              <a:tblGrid>
                <a:gridCol w="2895480"/>
                <a:gridCol w="1524240"/>
                <a:gridCol w="2743200"/>
                <a:gridCol w="1523880"/>
              </a:tblGrid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lation level/anoma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Dirty r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Non-repeatable r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Times New Roman"/>
                        </a:rPr>
                        <a:t>Phanto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READ UNCOMMI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READ COMMI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REPEATABLE 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66"/>
                          </a:solidFill>
                          <a:latin typeface="LettrGoth12 BT"/>
                        </a:rPr>
                        <a:t>SERIALIZ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662-78BA-41D5-9030-A0E297AE22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4C492-1406-4F73-BA9B-30AE263B94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ursion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2 had no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find Bart’s parents, grandparents, great grandparent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p1.parent AS grandpa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Parent p1, Parent p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p1.child = p2.pa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 p2.child = ’Bar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you cannot find all his ancestors with a single 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3 introduces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mplemented in DB2 (called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mmon table express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fortunately, pgSQL does not support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73-89AA-44E0-B31E-F60F061F76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C4E20-5418-4DAA-91CC-ECF12D5F58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estor query in SQL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anc, desc)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(SELECT parent, child FROM Pa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UN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(SELECT a1.anc, a2.des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FROM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a1,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cesto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a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WHERE a1.desc = a2.an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n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Ances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desc = ’Bar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00280" y="3733920"/>
            <a:ext cx="3672360" cy="1218960"/>
            <a:chOff x="4400280" y="3733920"/>
            <a:chExt cx="3672360" cy="1218960"/>
          </a:xfrm>
        </p:grpSpPr>
        <p:sp>
          <p:nvSpPr>
            <p:cNvPr id="207" name=""/>
            <p:cNvSpPr/>
            <p:nvPr/>
          </p:nvSpPr>
          <p:spPr>
            <a:xfrm>
              <a:off x="4419720" y="3733920"/>
              <a:ext cx="304560" cy="12189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00280" y="3962520"/>
              <a:ext cx="367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Query using the relat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efine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clau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58000" y="1371600"/>
            <a:ext cx="1911600" cy="2819520"/>
            <a:chOff x="6858000" y="1371600"/>
            <a:chExt cx="1911600" cy="2819520"/>
          </a:xfrm>
        </p:grpSpPr>
        <p:sp>
          <p:nvSpPr>
            <p:cNvPr id="210" name=""/>
            <p:cNvSpPr/>
            <p:nvPr/>
          </p:nvSpPr>
          <p:spPr>
            <a:xfrm>
              <a:off x="6858000" y="1371600"/>
              <a:ext cx="304920" cy="2819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0520" y="2165400"/>
              <a:ext cx="17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Defin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 relation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recursive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838080" y="1219320"/>
            <a:ext cx="6684480" cy="838080"/>
            <a:chOff x="838080" y="1219320"/>
            <a:chExt cx="6684480" cy="838080"/>
          </a:xfrm>
        </p:grpSpPr>
        <p:sp>
          <p:nvSpPr>
            <p:cNvPr id="213" name=""/>
            <p:cNvSpPr/>
            <p:nvPr/>
          </p:nvSpPr>
          <p:spPr>
            <a:xfrm>
              <a:off x="838080" y="1600200"/>
              <a:ext cx="6019920" cy="4572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50440" y="121932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ase c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1905120"/>
            <a:ext cx="5970240" cy="1752480"/>
            <a:chOff x="762120" y="1905120"/>
            <a:chExt cx="5970240" cy="1752480"/>
          </a:xfrm>
        </p:grpSpPr>
        <p:sp>
          <p:nvSpPr>
            <p:cNvPr id="216" name=""/>
            <p:cNvSpPr/>
            <p:nvPr/>
          </p:nvSpPr>
          <p:spPr>
            <a:xfrm>
              <a:off x="762120" y="2286000"/>
              <a:ext cx="5410080" cy="1371600"/>
            </a:xfrm>
            <a:prstGeom prst="roundRect">
              <a:avLst>
                <a:gd name="adj" fmla="val 9838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7120" y="1905120"/>
              <a:ext cx="22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recursion ste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810520" y="5867280"/>
            <a:ext cx="65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How do we compute such a recursive qu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0D4-C1EB-4C54-8B42-75ACBE3DDB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870C4-CFD6-4FD7-B14C-2D80018E79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features covered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Databas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279-DCEA-44BC-BAD3-CE41CD1121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3C200-2145-4533-A8F2-CEEE77B923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ECS168AutoRecru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FTER INSERT ON 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REFERENCING NEW ROW AS new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OR EACH R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N (newStudent.GPA &gt; 3.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VALUES(newStudent.SID, ’EECS168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1523880"/>
            <a:ext cx="4821480" cy="459720"/>
            <a:chOff x="1981080" y="1523880"/>
            <a:chExt cx="4821480" cy="459720"/>
          </a:xfrm>
        </p:grpSpPr>
        <p:sp>
          <p:nvSpPr>
            <p:cNvPr id="100" name=""/>
            <p:cNvSpPr/>
            <p:nvPr/>
          </p:nvSpPr>
          <p:spPr>
            <a:xfrm>
              <a:off x="1981080" y="1523880"/>
              <a:ext cx="358128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2360" y="1752480"/>
              <a:ext cx="3049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26240" y="15238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752480" y="2743200"/>
            <a:ext cx="6385680" cy="459720"/>
            <a:chOff x="1752480" y="2743200"/>
            <a:chExt cx="6385680" cy="459720"/>
          </a:xfrm>
        </p:grpSpPr>
        <p:sp>
          <p:nvSpPr>
            <p:cNvPr id="104" name=""/>
            <p:cNvSpPr/>
            <p:nvPr/>
          </p:nvSpPr>
          <p:spPr>
            <a:xfrm>
              <a:off x="1752480" y="2743200"/>
              <a:ext cx="460584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58320" y="2971800"/>
              <a:ext cx="3121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62800" y="2743200"/>
              <a:ext cx="157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09480" y="3276720"/>
            <a:ext cx="8229240" cy="1526400"/>
            <a:chOff x="609480" y="3276720"/>
            <a:chExt cx="8229240" cy="1526400"/>
          </a:xfrm>
        </p:grpSpPr>
        <p:sp>
          <p:nvSpPr>
            <p:cNvPr id="108" name=""/>
            <p:cNvSpPr/>
            <p:nvPr/>
          </p:nvSpPr>
          <p:spPr>
            <a:xfrm>
              <a:off x="609480" y="3276720"/>
              <a:ext cx="8229240" cy="9140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83960" y="4190760"/>
              <a:ext cx="0" cy="228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9760" y="434340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20E-245E-4861-A874-EF79603826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A2B3-2C90-44BE-B0B8-3C9B1C4FC3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027-D51A-4AD3-94AF-634191348A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AF6C1-A269-4CCA-9D6C-84EAD0CF2E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ike a “virtual”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by a query, which describes how to compute the view contents on the f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stores th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view definition qu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stead of view cont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be used in queries just like a regula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FFB-0B72-4477-8E64-21BB2F8C9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35915-2BBE-4521-99B8-6329587D8A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EECS647r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REATE VIEW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EECS647Roster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ID IN (SELECT SID FROM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         WHERE CID = ’EECS647’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op a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DROP VIE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iew_name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4960" y="1981080"/>
            <a:ext cx="5636520" cy="914400"/>
            <a:chOff x="3504960" y="1981080"/>
            <a:chExt cx="5636520" cy="914400"/>
          </a:xfrm>
        </p:grpSpPr>
        <p:sp>
          <p:nvSpPr>
            <p:cNvPr id="118" name=""/>
            <p:cNvSpPr/>
            <p:nvPr/>
          </p:nvSpPr>
          <p:spPr>
            <a:xfrm>
              <a:off x="6159600" y="198108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alled “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ase tables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504960" y="2285640"/>
              <a:ext cx="2895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23619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2E4-D1F5-41D7-8A0B-C446F7CE39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68DCD-3F2C-4A05-975D-6BBDF4955F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views in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nd the average GPA of EECS647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 FROM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ECS647Roste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process the query, replace the reference to the view by its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(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WHERE SID IN (SELECT S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FROM Enroll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WHERE CID = ’EECS647’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CD6-6935-4EF4-885C-C28F83E640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B7584-E927-4EE3-99EF-EB7ECFD1F0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use view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data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complexity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applications deal with views, we can change the underlying schem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hysical data indepen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hange the physical organization of dat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a uniform interface for different implementations or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database applications use tons of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843-C466-44FE-B372-FFE331DECC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7E6D6-7F37-4F43-B42B-88E783109E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28T16:44:45Z</dcterms:modified>
  <cp:revision>1266</cp:revision>
  <dc:subject/>
  <dc:title>CS186: Introduction to Database Systems</dc:title>
</cp:coreProperties>
</file>