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41534A-85E4-4DA6-8B78-40DA9240F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B0537C-33B7-4E7F-91EB-363C9957F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224100-76AA-4FB0-B043-D10FF45A05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6AA392-4668-42F3-BD6B-9F5487FDA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FD8F2B-4D57-4D45-AAF6-F3C42CFAF2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C6C1E5-E775-45CC-BCC7-ACD505584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1F522C-89B2-4A63-AB97-F8F840F47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228CE2-26D7-4C32-BCFE-8C231A70C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7E750B-6076-41FF-A3F0-58DE402F84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2395F1-23E3-4AAB-8626-CB85A9C6E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EC3A6A-9CA4-4A23-98D3-71D4BE5AA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E04E7F-3760-4EB5-9EA5-225857A705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75E685-2E27-453A-AA61-3B59EC175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6FF-0611-4D8E-951A-1B9883DD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C18-F29C-4C94-BC64-D6AF084F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B4F-F489-4451-9955-3FAB442A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04D-1410-4A3B-AAB7-86C7C3CE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DEF-3759-4646-9389-4C5EB6B3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DB8-3875-483B-8E99-C1C24025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23D-7E42-4097-95A1-9B8E1743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05B-E0AD-440F-A417-B290D0CE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33E-BA2B-4F7A-A8D3-F6FBECBE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0E5-9B2A-4EE3-BE7F-1CA6700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080-6749-4F26-AACC-8999FC0E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186-874F-4B9B-AA49-C4553D60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5CF9-1AB0-4667-B482-1442A891730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11C2-CFF6-43C0-A56C-90A90E56C1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weak entity s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“borrowed”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ch out for attribute name confl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10520" y="4572000"/>
            <a:ext cx="8945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Building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building_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year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Rooms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building_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room_number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apacity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eats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building_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room_number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seat_number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left_or_righ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2895480"/>
            <a:ext cx="9907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2819520"/>
            <a:ext cx="1143000" cy="6094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895480"/>
            <a:ext cx="121896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2895480"/>
            <a:ext cx="838080" cy="4572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2971800"/>
            <a:ext cx="83808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259092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32004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5909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20040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28195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133720" y="32004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81680" y="281916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320040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066680" y="3352680"/>
            <a:ext cx="2514600" cy="2286000"/>
            <a:chOff x="1066680" y="3352680"/>
            <a:chExt cx="2514600" cy="2286000"/>
          </a:xfrm>
        </p:grpSpPr>
        <p:sp>
          <p:nvSpPr>
            <p:cNvPr id="153" name=""/>
            <p:cNvSpPr/>
            <p:nvPr/>
          </p:nvSpPr>
          <p:spPr>
            <a:xfrm>
              <a:off x="3014640" y="33526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066680" y="3809880"/>
              <a:ext cx="2514600" cy="1828800"/>
              <a:chOff x="1066680" y="3809880"/>
              <a:chExt cx="2514600" cy="1828800"/>
            </a:xfrm>
          </p:grpSpPr>
          <p:sp>
            <p:nvSpPr>
              <p:cNvPr id="155" name=""/>
              <p:cNvSpPr/>
              <p:nvPr/>
            </p:nvSpPr>
            <p:spPr>
              <a:xfrm>
                <a:off x="2438280" y="3809880"/>
                <a:ext cx="1143000" cy="609840"/>
              </a:xfrm>
              <a:prstGeom prst="flowChartDecision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1066680" y="3886200"/>
                <a:ext cx="2438640" cy="1752480"/>
                <a:chOff x="1066680" y="3886200"/>
                <a:chExt cx="2438640" cy="17524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590920" y="3886200"/>
                  <a:ext cx="838080" cy="457200"/>
                </a:xfrm>
                <a:prstGeom prst="flowChartDecision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514600" y="4876920"/>
                  <a:ext cx="990720" cy="457200"/>
                </a:xfrm>
                <a:prstGeom prst="rect">
                  <a:avLst/>
                </a:prstGeom>
                <a:noFill/>
                <a:ln w="255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0066"/>
                      </a:solidFill>
                      <a:latin typeface="AmeriGarmnd BT"/>
                    </a:rPr>
                    <a:t>Sea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590920" y="4952880"/>
                  <a:ext cx="838080" cy="304920"/>
                </a:xfrm>
                <a:prstGeom prst="rect">
                  <a:avLst/>
                </a:prstGeom>
                <a:noFill/>
                <a:ln w="255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016080" y="441972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66680" y="4572000"/>
                  <a:ext cx="1067040" cy="457200"/>
                </a:xfrm>
                <a:prstGeom prst="ellipse">
                  <a:avLst/>
                </a:prstGeom>
                <a:noFill/>
                <a:ln w="255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330066"/>
                      </a:solidFill>
                      <a:uFillTx/>
                      <a:latin typeface="AmeriGarmnd BT"/>
                    </a:rPr>
                    <a:t>numb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066680" y="5181480"/>
                  <a:ext cx="1067040" cy="457200"/>
                </a:xfrm>
                <a:prstGeom prst="ellipse">
                  <a:avLst/>
                </a:prstGeom>
                <a:noFill/>
                <a:ln w="255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0066"/>
                      </a:solidFill>
                      <a:latin typeface="AmeriGarmnd BT"/>
                    </a:rPr>
                    <a:t>L/R?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133720" y="480060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2133720" y="518148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C1A-23F5-4CFE-8E58-5ABA63BC58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F7866-355F-45F2-8E6F-04E4B69365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1:1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6583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 a 1:1 relationship between two e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ging the two entity types and the relationship into a single tabl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rks well for total particip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48006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uden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SID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aid,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3276720"/>
            <a:ext cx="8001000" cy="1066680"/>
            <a:chOff x="457200" y="3276720"/>
            <a:chExt cx="8001000" cy="1066680"/>
          </a:xfrm>
        </p:grpSpPr>
        <p:sp>
          <p:nvSpPr>
            <p:cNvPr id="169" name=""/>
            <p:cNvSpPr/>
            <p:nvPr/>
          </p:nvSpPr>
          <p:spPr>
            <a:xfrm>
              <a:off x="1905120" y="3505320"/>
              <a:ext cx="1371600" cy="60948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505320"/>
              <a:ext cx="1371600" cy="60948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1520" y="327672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a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388620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3429000"/>
              <a:ext cx="1523880" cy="76212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327672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S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388620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3880" y="3505320"/>
              <a:ext cx="38124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523520" y="3886200"/>
              <a:ext cx="38124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76720" y="38098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8098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086600" y="3504960"/>
              <a:ext cx="30492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6600" y="3886200"/>
              <a:ext cx="30492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76720" y="38862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81480" y="38862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073-5E43-47A6-9854-0AEE613596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2E23D-314E-4FF5-A36E-796EB249CA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1:1 Relationship (I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1:1 relationship using foreign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ually choose the entity type with total participation to include the foreign key (why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04920" y="2895480"/>
            <a:ext cx="8229600" cy="1066680"/>
            <a:chOff x="304920" y="2895480"/>
            <a:chExt cx="8229600" cy="1066680"/>
          </a:xfrm>
        </p:grpSpPr>
        <p:sp>
          <p:nvSpPr>
            <p:cNvPr id="187" name=""/>
            <p:cNvSpPr/>
            <p:nvPr/>
          </p:nvSpPr>
          <p:spPr>
            <a:xfrm>
              <a:off x="1752480" y="3124080"/>
              <a:ext cx="1371600" cy="60948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86400" y="3124080"/>
              <a:ext cx="1676520" cy="60948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0066"/>
                  </a:solidFill>
                  <a:latin typeface="AmeriGarmnd BT"/>
                </a:rPr>
                <a:t>Bschool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67480" y="2895480"/>
              <a:ext cx="106704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Ba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67480" y="3504960"/>
              <a:ext cx="106704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05320" y="3047760"/>
              <a:ext cx="1523880" cy="76212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289548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S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920" y="350496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71600" y="3124080"/>
              <a:ext cx="38088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371600" y="3504960"/>
              <a:ext cx="38088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4080" y="3429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9200" y="3429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162920" y="3123720"/>
              <a:ext cx="30456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3581280"/>
              <a:ext cx="30456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2880" y="35049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33520" y="45720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uden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SID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45720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Bschoool accoun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Baid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, SID, dat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76F-456B-4929-866A-5F43E64FD8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80474-0948-402E-9DB8-B7AA68DAAC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1:1 Relationship (II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1:1 relationship using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rmed as relationship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743200"/>
            <a:ext cx="137160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2743200"/>
            <a:ext cx="167652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66"/>
                </a:solidFill>
                <a:latin typeface="AmeriGarmnd BT"/>
              </a:rPr>
              <a:t>Bschool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251460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B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312408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2666880"/>
            <a:ext cx="1523880" cy="7621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25146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12408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27432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371600" y="312408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3048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162920" y="2742840"/>
            <a:ext cx="30456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3124080"/>
            <a:ext cx="30456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343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uden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SID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267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Bschoool accoun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Baid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, dat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5029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accoun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SID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Baid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461-C358-48CA-9533-DE12E0CA44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124C9-CA50-44C5-AC93-8511CCAB01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lating 1:N Relation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1:N relationship using foreign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using relationship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2819520"/>
            <a:ext cx="137160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2819520"/>
            <a:ext cx="167652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25909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320040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2743200"/>
            <a:ext cx="1523880" cy="7621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works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59092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32004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28195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371600" y="32004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124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162920" y="2819160"/>
            <a:ext cx="30456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276720"/>
            <a:ext cx="30456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3200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76920" y="3200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4114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Employe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EID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, Dnum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Department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, Manager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4952880"/>
            <a:ext cx="8229600" cy="1221840"/>
            <a:chOff x="304920" y="4952880"/>
            <a:chExt cx="8229600" cy="1221840"/>
          </a:xfrm>
        </p:grpSpPr>
        <p:sp>
          <p:nvSpPr>
            <p:cNvPr id="240" name=""/>
            <p:cNvSpPr/>
            <p:nvPr/>
          </p:nvSpPr>
          <p:spPr>
            <a:xfrm>
              <a:off x="304920" y="495288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Employe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 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EID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nam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, 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Department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Dnum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Manager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09680" y="57150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workFor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Eid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, Dnum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43C-3C91-46E0-9B9D-151241F6C1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5E29A-8146-46A1-950C-F0F5DD6FDE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M:N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96240" cy="50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relationship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2362320"/>
            <a:ext cx="137160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2362320"/>
            <a:ext cx="167652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67480" y="21337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P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67480" y="274320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2286000"/>
            <a:ext cx="1523880" cy="7621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wor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13372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27432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23623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371600" y="27432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2666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666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162920" y="2361960"/>
            <a:ext cx="30456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2819520"/>
            <a:ext cx="30456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27432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3886200"/>
            <a:ext cx="8229600" cy="1221840"/>
            <a:chOff x="533520" y="3886200"/>
            <a:chExt cx="8229600" cy="1221840"/>
          </a:xfrm>
        </p:grpSpPr>
        <p:sp>
          <p:nvSpPr>
            <p:cNvPr id="260" name=""/>
            <p:cNvSpPr/>
            <p:nvPr/>
          </p:nvSpPr>
          <p:spPr>
            <a:xfrm>
              <a:off x="533520" y="38862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Employe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 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EID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nam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, 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Project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Pnum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Budget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38280" y="4648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workon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Eid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Pnum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7EE-E815-436D-A5B6-9529CCF5FF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30BA3-2685-49CF-89A2-ECE740696A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of Multivalued attribut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562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multivalued attribute using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imary key attribute from the original entity as a foreign key in the new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124080"/>
            <a:ext cx="1676520" cy="60984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289548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350532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029200" y="312372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358128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2004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71" idx="6"/>
            <a:endCxn id="264" idx="1"/>
          </p:cNvCxnSpPr>
          <p:nvPr/>
        </p:nvCxnSpPr>
        <p:spPr>
          <a:xfrm>
            <a:off x="3016080" y="3428640"/>
            <a:ext cx="3247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1708200" y="3124080"/>
            <a:ext cx="1295280" cy="60984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3520" y="44956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Department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(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, Manager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7560" y="5257800"/>
            <a:ext cx="60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DepartmentLocation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(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location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3E3-7808-4163-8334-F7D74D41C1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B6779-7982-47C5-8C69-9DA40885AA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of N-ary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43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n-ary (n&gt;2) relationship type, create a new relationship relation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lude as foreign key attributes in S the primary keys of the relations that represent the participating entity typ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762120" y="3505320"/>
            <a:ext cx="6858000" cy="1904400"/>
            <a:chOff x="762120" y="3505320"/>
            <a:chExt cx="6858000" cy="1904400"/>
          </a:xfrm>
        </p:grpSpPr>
        <p:sp>
          <p:nvSpPr>
            <p:cNvPr id="277" name=""/>
            <p:cNvSpPr/>
            <p:nvPr/>
          </p:nvSpPr>
          <p:spPr>
            <a:xfrm>
              <a:off x="3657600" y="3733560"/>
              <a:ext cx="1143000" cy="609480"/>
            </a:xfrm>
            <a:prstGeom prst="flowChartDecision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upp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0400" y="403848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00600" y="403848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9680" y="3809880"/>
              <a:ext cx="99072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7800" y="3809880"/>
              <a:ext cx="99072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33920" y="4647960"/>
              <a:ext cx="9903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P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35400" y="4343400"/>
              <a:ext cx="0" cy="304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3080" y="3505320"/>
              <a:ext cx="106704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meriGarmnd BT"/>
                </a:rPr>
                <a:t>P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4114800"/>
              <a:ext cx="106704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M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120" y="3505320"/>
              <a:ext cx="106668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meriGarmnd BT"/>
                </a:rPr>
                <a:t>S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20" y="4114800"/>
              <a:ext cx="106668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8800" y="3733560"/>
              <a:ext cx="38088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828800" y="4114800"/>
              <a:ext cx="38088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248520" y="3733560"/>
              <a:ext cx="30456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4114800"/>
              <a:ext cx="30456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6000" y="4343400"/>
              <a:ext cx="106668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meriGarmnd BT"/>
                </a:rPr>
                <a:t>Pa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6000" y="4952880"/>
              <a:ext cx="106668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P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52680" y="4572000"/>
              <a:ext cx="38124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352320" y="4952880"/>
              <a:ext cx="38124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514600" y="563868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Supply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(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S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Pa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413-E269-44D2-8606-93F83C7ACD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DF87D-D90E-433F-A6DC-1FC0FBCAA8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37160" y="3581280"/>
            <a:ext cx="51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Marry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husband_SSN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wife_SSN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447920" y="1523880"/>
            <a:ext cx="4267080" cy="1526760"/>
            <a:chOff x="1447920" y="1523880"/>
            <a:chExt cx="4267080" cy="1526760"/>
          </a:xfrm>
        </p:grpSpPr>
        <p:grpSp>
          <p:nvGrpSpPr>
            <p:cNvPr id="300" name=""/>
            <p:cNvGrpSpPr/>
            <p:nvPr/>
          </p:nvGrpSpPr>
          <p:grpSpPr>
            <a:xfrm>
              <a:off x="2895480" y="1523880"/>
              <a:ext cx="2819520" cy="1526760"/>
              <a:chOff x="2895480" y="1523880"/>
              <a:chExt cx="2819520" cy="1526760"/>
            </a:xfrm>
          </p:grpSpPr>
          <p:sp>
            <p:nvSpPr>
              <p:cNvPr id="301" name=""/>
              <p:cNvSpPr/>
              <p:nvPr/>
            </p:nvSpPr>
            <p:spPr>
              <a:xfrm>
                <a:off x="2895480" y="2070000"/>
                <a:ext cx="99072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Pers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72000" y="1994040"/>
                <a:ext cx="1143000" cy="609480"/>
              </a:xfrm>
              <a:prstGeom prst="flowChartDecision">
                <a:avLst/>
              </a:prstGeom>
              <a:noFill/>
              <a:ln w="255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0066"/>
                    </a:solidFill>
                    <a:latin typeface="AmeriGarmnd BT"/>
                  </a:rPr>
                  <a:t>Mar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86200" y="1905120"/>
                <a:ext cx="990720" cy="241200"/>
              </a:xfrm>
              <a:custGeom>
                <a:avLst/>
                <a:gdLst/>
                <a:ahLst/>
                <a:rect l="l" t="t" r="r" b="b"/>
                <a:pathLst>
                  <a:path w="624" h="152">
                    <a:moveTo>
                      <a:pt x="0" y="104"/>
                    </a:moveTo>
                    <a:cubicBezTo>
                      <a:pt x="92" y="52"/>
                      <a:pt x="184" y="0"/>
                      <a:pt x="288" y="8"/>
                    </a:cubicBezTo>
                    <a:cubicBezTo>
                      <a:pt x="392" y="16"/>
                      <a:pt x="508" y="84"/>
                      <a:pt x="624" y="152"/>
                    </a:cubicBezTo>
                  </a:path>
                </a:pathLst>
              </a:custGeom>
              <a:noFill/>
              <a:ln w="25560">
                <a:solidFill>
                  <a:srgbClr val="330066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3886200" y="2451240"/>
                <a:ext cx="990720" cy="241200"/>
              </a:xfrm>
              <a:custGeom>
                <a:avLst/>
                <a:gdLst/>
                <a:ahLst/>
                <a:rect l="l" t="t" r="r" b="b"/>
                <a:pathLst>
                  <a:path w="624" h="152">
                    <a:moveTo>
                      <a:pt x="0" y="104"/>
                    </a:moveTo>
                    <a:cubicBezTo>
                      <a:pt x="92" y="52"/>
                      <a:pt x="184" y="0"/>
                      <a:pt x="288" y="8"/>
                    </a:cubicBezTo>
                    <a:cubicBezTo>
                      <a:pt x="392" y="16"/>
                      <a:pt x="508" y="84"/>
                      <a:pt x="624" y="152"/>
                    </a:cubicBezTo>
                  </a:path>
                </a:pathLst>
              </a:custGeom>
              <a:noFill/>
              <a:ln w="25560">
                <a:solidFill>
                  <a:srgbClr val="330066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68400" y="1523880"/>
                <a:ext cx="136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0066"/>
                    </a:solidFill>
                    <a:latin typeface="AmeriGarmnd BT"/>
                  </a:rPr>
                  <a:t>husban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978000" y="2590920"/>
                <a:ext cx="73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0066"/>
                    </a:solidFill>
                    <a:latin typeface="AmeriGarmnd BT"/>
                  </a:rPr>
                  <a:t>wif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447920" y="2057400"/>
              <a:ext cx="10666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meriGarmnd BT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4600" y="2286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505320" y="4114800"/>
            <a:ext cx="1752480" cy="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5000" y="4114800"/>
            <a:ext cx="1143000" cy="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C58-65A6-495F-89C5-347639A6B2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FCC44-EA5E-4E57-83F9-A03BDD78E8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It Simple, Stup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ndancy wastes space, complicates updates and deletes, promotes inconsist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essential constraints, but don’t introduce unnecessar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your common s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rning: Mechanical translation procedures given in this lecture are no substitute for your own judg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F3F-1F76-4D9D-82B6-BB4FC3627B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0F200-2795-4EAB-B2CD-86CBC00F56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38080" y="1828800"/>
          <a:ext cx="76201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6201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8600" y="1066680"/>
            <a:ext cx="8610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 of quiz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9FB-88B8-4CDC-B738-E500ADE15C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8E067-B195-4C56-8750-33BC561265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-ent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1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N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:N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attrib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e attribu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valued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05320" y="1066680"/>
            <a:ext cx="5638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, including the primary key from the 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 as a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d relation, Foreign key, Relationship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eign key, Relationship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lationship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mary k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set of attribu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lation and foreig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6C7-F21D-436F-BFBC-DBD1FB9D727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00DC0-1336-4DA1-979B-0F9BC869F6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temporary vari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foreign key to join rel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omparison is to identify a relation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minus in non-monotonic oper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44D-9557-4146-9CFB-60537243D4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3AA93-18A6-427A-B0FD-B8C2E1C399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database design: Translation ER to relation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D2D-681A-446C-B73E-A5E646FF41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B62E3-05F1-4119-9B69-79D7128EA9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143000" y="990720"/>
            <a:ext cx="7010280" cy="5395680"/>
            <a:chOff x="1143000" y="990720"/>
            <a:chExt cx="7010280" cy="539568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1143000" y="990720"/>
              <a:ext cx="649116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324480" y="990720"/>
              <a:ext cx="18288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505320"/>
            <a:ext cx="2787480" cy="1676160"/>
          </a:xfrm>
          <a:custGeom>
            <a:avLst/>
            <a:gdLst/>
            <a:ahLst/>
            <a:rect l="l" t="t" r="r" b="b"/>
            <a:pathLst>
              <a:path w="1882" h="1734">
                <a:moveTo>
                  <a:pt x="1633" y="1629"/>
                </a:moveTo>
                <a:cubicBezTo>
                  <a:pt x="1213" y="1625"/>
                  <a:pt x="562" y="1734"/>
                  <a:pt x="148" y="1458"/>
                </a:cubicBezTo>
                <a:cubicBezTo>
                  <a:pt x="124" y="1386"/>
                  <a:pt x="82" y="1318"/>
                  <a:pt x="67" y="1242"/>
                </a:cubicBezTo>
                <a:cubicBezTo>
                  <a:pt x="45" y="1134"/>
                  <a:pt x="39" y="1023"/>
                  <a:pt x="4" y="918"/>
                </a:cubicBezTo>
                <a:cubicBezTo>
                  <a:pt x="15" y="644"/>
                  <a:pt x="0" y="769"/>
                  <a:pt x="58" y="594"/>
                </a:cubicBezTo>
                <a:cubicBezTo>
                  <a:pt x="70" y="558"/>
                  <a:pt x="130" y="504"/>
                  <a:pt x="130" y="504"/>
                </a:cubicBezTo>
                <a:cubicBezTo>
                  <a:pt x="149" y="429"/>
                  <a:pt x="122" y="500"/>
                  <a:pt x="166" y="450"/>
                </a:cubicBezTo>
                <a:cubicBezTo>
                  <a:pt x="189" y="424"/>
                  <a:pt x="206" y="395"/>
                  <a:pt x="229" y="369"/>
                </a:cubicBezTo>
                <a:cubicBezTo>
                  <a:pt x="342" y="240"/>
                  <a:pt x="443" y="166"/>
                  <a:pt x="598" y="99"/>
                </a:cubicBezTo>
                <a:cubicBezTo>
                  <a:pt x="633" y="84"/>
                  <a:pt x="661" y="58"/>
                  <a:pt x="697" y="45"/>
                </a:cubicBezTo>
                <a:cubicBezTo>
                  <a:pt x="769" y="18"/>
                  <a:pt x="864" y="8"/>
                  <a:pt x="940" y="0"/>
                </a:cubicBezTo>
                <a:cubicBezTo>
                  <a:pt x="1029" y="5"/>
                  <a:pt x="1094" y="3"/>
                  <a:pt x="1174" y="27"/>
                </a:cubicBezTo>
                <a:cubicBezTo>
                  <a:pt x="1238" y="46"/>
                  <a:pt x="1290" y="87"/>
                  <a:pt x="1354" y="108"/>
                </a:cubicBezTo>
                <a:cubicBezTo>
                  <a:pt x="1400" y="154"/>
                  <a:pt x="1459" y="181"/>
                  <a:pt x="1507" y="225"/>
                </a:cubicBezTo>
                <a:cubicBezTo>
                  <a:pt x="1563" y="276"/>
                  <a:pt x="1607" y="334"/>
                  <a:pt x="1660" y="387"/>
                </a:cubicBezTo>
                <a:cubicBezTo>
                  <a:pt x="1684" y="458"/>
                  <a:pt x="1648" y="364"/>
                  <a:pt x="1696" y="441"/>
                </a:cubicBezTo>
                <a:cubicBezTo>
                  <a:pt x="1705" y="455"/>
                  <a:pt x="1707" y="471"/>
                  <a:pt x="1714" y="486"/>
                </a:cubicBezTo>
                <a:cubicBezTo>
                  <a:pt x="1742" y="545"/>
                  <a:pt x="1771" y="601"/>
                  <a:pt x="1804" y="657"/>
                </a:cubicBezTo>
                <a:cubicBezTo>
                  <a:pt x="1812" y="699"/>
                  <a:pt x="1817" y="742"/>
                  <a:pt x="1831" y="783"/>
                </a:cubicBezTo>
                <a:cubicBezTo>
                  <a:pt x="1851" y="961"/>
                  <a:pt x="1841" y="841"/>
                  <a:pt x="1831" y="1161"/>
                </a:cubicBezTo>
                <a:cubicBezTo>
                  <a:pt x="1825" y="1344"/>
                  <a:pt x="1882" y="1489"/>
                  <a:pt x="1687" y="1521"/>
                </a:cubicBezTo>
                <a:cubicBezTo>
                  <a:pt x="1684" y="1530"/>
                  <a:pt x="1682" y="1540"/>
                  <a:pt x="1678" y="1548"/>
                </a:cubicBezTo>
                <a:cubicBezTo>
                  <a:pt x="1673" y="1558"/>
                  <a:pt x="1664" y="1565"/>
                  <a:pt x="1660" y="1575"/>
                </a:cubicBezTo>
                <a:cubicBezTo>
                  <a:pt x="1635" y="1632"/>
                  <a:pt x="1662" y="1629"/>
                  <a:pt x="1633" y="1629"/>
                </a:cubicBezTo>
                <a:close/>
              </a:path>
            </a:pathLst>
          </a:custGeom>
          <a:noFill/>
          <a:ln w="12600">
            <a:solidFill>
              <a:srgbClr val="e81f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4114800"/>
            <a:ext cx="1295280" cy="380880"/>
          </a:xfrm>
          <a:prstGeom prst="leftArrow">
            <a:avLst>
              <a:gd name="adj1" fmla="val 50000"/>
              <a:gd name="adj2" fmla="val 85019"/>
            </a:avLst>
          </a:prstGeom>
          <a:solidFill>
            <a:srgbClr val="e81f11"/>
          </a:solidFill>
          <a:ln w="12600">
            <a:solidFill>
              <a:srgbClr val="e81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38C-D59B-4A35-A591-73FAEE96435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7A194-A20B-4446-B1AB-27FD9A941C44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 steps: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mini-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it using a database design model (e.g., E/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 specification to the data model of DBMS (e.g., rela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BM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translating E/R design to relation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136-62E3-4C73-BD61-7709B4E6E0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D9266-58D4-4165-82A6-FF9F7556FF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/R model: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tributes on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ultiplic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nary versu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ary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ry relationships with weak entity sets and binary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F129-D0A8-46DD-9296-8BE20B3705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A1371-822E-4802-A0F9-9FED29B61F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entity s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ity set translates directly to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tributes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lum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 attributes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imary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57200" y="3276720"/>
            <a:ext cx="8001000" cy="1523880"/>
            <a:chOff x="457200" y="3276720"/>
            <a:chExt cx="8001000" cy="1523880"/>
          </a:xfrm>
        </p:grpSpPr>
        <p:sp>
          <p:nvSpPr>
            <p:cNvPr id="114" name=""/>
            <p:cNvSpPr/>
            <p:nvPr/>
          </p:nvSpPr>
          <p:spPr>
            <a:xfrm>
              <a:off x="1905120" y="3505320"/>
              <a:ext cx="1371600" cy="60948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15000" y="3505320"/>
              <a:ext cx="1371600" cy="60948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Cour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327672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388620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3920" y="3429000"/>
              <a:ext cx="1523880" cy="76212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327672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S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388620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23880" y="3505320"/>
              <a:ext cx="38124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523520" y="3886200"/>
              <a:ext cx="38124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6720" y="38102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800" y="38102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086600" y="3504960"/>
              <a:ext cx="30492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86600" y="3886200"/>
              <a:ext cx="30492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62520" y="4343400"/>
              <a:ext cx="10666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4191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64920" y="5029200"/>
            <a:ext cx="7292880" cy="459720"/>
            <a:chOff x="664920" y="5029200"/>
            <a:chExt cx="7292880" cy="459720"/>
          </a:xfrm>
        </p:grpSpPr>
        <p:sp>
          <p:nvSpPr>
            <p:cNvPr id="130" name=""/>
            <p:cNvSpPr/>
            <p:nvPr/>
          </p:nvSpPr>
          <p:spPr>
            <a:xfrm>
              <a:off x="664920" y="5029200"/>
              <a:ext cx="28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tudent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 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SID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nam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28440" y="5029200"/>
              <a:ext cx="25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Cours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 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CID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titl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C45-2EEB-4AE6-9143-E4FEC298C0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3ED3A-52BF-474D-82D0-F571555AA2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entity set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multi-valued attributes (called first Normal 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osite attributes is broken down into a list of atomic 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758-150F-4262-9433-595E62E680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8DE82-4D12-499F-AA9D-A9B5A0905C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07T20:01:53Z</dcterms:modified>
  <cp:revision>819</cp:revision>
  <dc:subject/>
  <dc:title>CS186: Introduction to Database Systems</dc:title>
</cp:coreProperties>
</file>