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B742B0-6FA8-4EAF-BD22-0FBA6339D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58B08E-4CF7-4437-9903-0546B08B8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581D17-0BFD-44C1-A727-E869226CA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8060BD-309D-4DFB-ACC7-0FF1ADF54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665528-3B83-491B-A478-2C6E7CE89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D96AC8-783A-434D-A0C3-744E59D46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F6D9E0-E0AA-4BD1-8983-879955CD5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C3E3B0-102B-4DF7-B3AA-52AA3E51F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B34983-4002-4004-A737-961C7C83E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95D700-DBDB-4C81-9D6D-47F4A8A6A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59BD92-ED76-48F5-AC20-66C3602B6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34E06B-A19A-4675-929A-2F5DD4632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A17F67-243C-4B56-B0C2-DB6F1431D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3C53BF-248F-4B7F-93BD-53A3A1FBA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965069-D84B-41FB-8FE9-2D834091F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D7E9F7-8369-479F-8130-24AF98959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A64565-30CC-4528-805C-99F3C3ADE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0D68AF-C12C-4968-94BB-2DFCE9448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D36E27-0E7C-461A-8264-B9F71582A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F38FDC-9232-4292-BD38-412E90509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FF9855-B4A3-429B-97DC-51D510D7B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16D80E-6BE1-40A7-8843-AAFEFE6BB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49F1BC2-5179-4A29-908B-EC7E4E2F0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BD1201-4711-4361-AE64-A22327821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9274D3-9F32-43D9-AB79-B4559BFAAE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07FF87-F04E-46FA-86F3-673F01EEE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71B6DA-2CEC-4E7C-9B99-EA87E7225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E09C3D-ADB7-4CEF-85B5-9693CACC5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8F34FF-0E12-40D0-8ACC-DC4ACEF24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802AF6-958F-4B66-BA9C-DF0481916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B890F9-EA62-4386-B02D-53EFEF217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489EB0-A5D6-4B58-B33E-BF179327C6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D6C-4998-4C8A-910E-FD301FA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B015-64B8-40CB-88FB-C63DB5EE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5AA-04FB-4833-948B-7F475015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4850-47E4-41A9-A341-2C796224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385-F8B4-4427-89AB-639E7088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33C-DBBB-426C-9424-6295162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E56-88B6-4F1B-A3D6-6FA3A8CF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5FB-FEB2-45BD-BBD0-F9DFD99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B1C-06EC-4AD7-AEA0-3E47B5F5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575-EF72-49DE-8C20-F9318411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A02-D166-4D33-8C84-993F4DA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88B-4298-48EC-964A-93487F2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CDE9-E338-4E16-9DE5-CD59042471C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9C08-0F81-4AAC-BC52-A634FCAFB8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key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non-trivial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not a super key, there are some attributes (sa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at are not functionally determined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732960" y="5337000"/>
            <a:ext cx="106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alway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recorded by multiple r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update anomal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deletion anom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81080" y="31240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F81-1774-4F3F-B221-BA8A8A43AF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3D3D-DA58-4E18-88D3-365C491447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l with Non-key F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66880" y="1066680"/>
          <a:ext cx="373392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4" name=""/>
          <p:cNvGrpSpPr/>
          <p:nvPr/>
        </p:nvGrpSpPr>
        <p:grpSpPr>
          <a:xfrm>
            <a:off x="1905120" y="2286000"/>
            <a:ext cx="4419360" cy="457200"/>
            <a:chOff x="1905120" y="2286000"/>
            <a:chExt cx="4419360" cy="457200"/>
          </a:xfrm>
        </p:grpSpPr>
        <p:sp>
          <p:nvSpPr>
            <p:cNvPr id="135" name=""/>
            <p:cNvSpPr/>
            <p:nvPr/>
          </p:nvSpPr>
          <p:spPr>
            <a:xfrm flipH="1">
              <a:off x="1905120" y="2286000"/>
              <a:ext cx="26668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2286000"/>
              <a:ext cx="175248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533520" y="2743200"/>
          <a:ext cx="2276280" cy="1185840"/>
        </p:xfrm>
        <a:graphic>
          <a:graphicData uri="http://schemas.openxmlformats.org/drawingml/2006/table">
            <a:tbl>
              <a:tblPr/>
              <a:tblGrid>
                <a:gridCol w="10573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800600" y="2743200"/>
          <a:ext cx="2514600" cy="79056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553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6520" y="3581280"/>
            <a:ext cx="4647600" cy="990720"/>
            <a:chOff x="1676520" y="3581280"/>
            <a:chExt cx="4647600" cy="990720"/>
          </a:xfrm>
        </p:grpSpPr>
        <p:sp>
          <p:nvSpPr>
            <p:cNvPr id="141" name=""/>
            <p:cNvSpPr/>
            <p:nvPr/>
          </p:nvSpPr>
          <p:spPr>
            <a:xfrm flipH="1">
              <a:off x="4419360" y="3581280"/>
              <a:ext cx="1904760" cy="9907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962520"/>
              <a:ext cx="274320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819520" y="4648320"/>
          <a:ext cx="3733560" cy="1185840"/>
        </p:xfrm>
        <a:graphic>
          <a:graphicData uri="http://schemas.openxmlformats.org/drawingml/2006/table">
            <a:tbl>
              <a:tblPr/>
              <a:tblGrid>
                <a:gridCol w="105696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733920" y="396252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3352680"/>
            <a:ext cx="350496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3352680"/>
            <a:ext cx="3504960" cy="45720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984-25A0-4739-954A-EBBA6B5FF4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DD30E-B720-4389-990E-C0D2A8FAE7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ing with Nonkey Dependency: BC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no non-key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long as some relation is not in B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ways decompose on a BCNF violation (details n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it is guaranteed to be a lossless join decompositio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164-F86D-4ABA-B7B5-909E97B90D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F2ABE-86A3-430C-A92E-2D0DA21513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CNF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in neith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i.e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Z = attr(R) – X – 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all relations are i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E0F-2D17-46D7-8659-1ED9E426C3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B78DE-5E03-41BB-8E87-4D66B21F8E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9810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17280" y="2470320"/>
            <a:ext cx="5752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000" y="2905200"/>
            <a:ext cx="8477640" cy="1447560"/>
            <a:chOff x="27000" y="2905200"/>
            <a:chExt cx="8477640" cy="1447560"/>
          </a:xfrm>
        </p:grpSpPr>
        <p:sp>
          <p:nvSpPr>
            <p:cNvPr id="156" name=""/>
            <p:cNvSpPr/>
            <p:nvPr/>
          </p:nvSpPr>
          <p:spPr>
            <a:xfrm>
              <a:off x="27000" y="3875040"/>
              <a:ext cx="4553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84320" y="3871800"/>
              <a:ext cx="3820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81080" y="2905200"/>
              <a:ext cx="1981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2905200"/>
              <a:ext cx="198108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367640" y="4287960"/>
            <a:ext cx="5783040" cy="582480"/>
            <a:chOff x="1367640" y="4287960"/>
            <a:chExt cx="5783040" cy="582480"/>
          </a:xfrm>
        </p:grpSpPr>
        <p:sp>
          <p:nvSpPr>
            <p:cNvPr id="161" name=""/>
            <p:cNvSpPr/>
            <p:nvPr/>
          </p:nvSpPr>
          <p:spPr>
            <a:xfrm>
              <a:off x="1367640" y="43498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61680" y="42879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914400" y="990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, PID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Hour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ail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96D-E029-4A66-8F32-8AE6138EA9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82C9A-2856-43DD-9AA7-7CEF5C4A71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9040" y="199692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27160" y="2486160"/>
            <a:ext cx="448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78480" y="2921040"/>
            <a:ext cx="9411480" cy="1534680"/>
            <a:chOff x="-78480" y="2921040"/>
            <a:chExt cx="9411480" cy="1534680"/>
          </a:xfrm>
        </p:grpSpPr>
        <p:sp>
          <p:nvSpPr>
            <p:cNvPr id="168" name=""/>
            <p:cNvSpPr/>
            <p:nvPr/>
          </p:nvSpPr>
          <p:spPr>
            <a:xfrm>
              <a:off x="-78480" y="344484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38440" y="397800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684080" y="292104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0200" y="292104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934200" y="38386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6520" y="4505400"/>
            <a:ext cx="5031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67960" y="4959360"/>
            <a:ext cx="8155800" cy="1477800"/>
            <a:chOff x="867960" y="4959360"/>
            <a:chExt cx="8155800" cy="1477800"/>
          </a:xfrm>
        </p:grpSpPr>
        <p:sp>
          <p:nvSpPr>
            <p:cNvPr id="175" name=""/>
            <p:cNvSpPr/>
            <p:nvPr/>
          </p:nvSpPr>
          <p:spPr>
            <a:xfrm flipH="1">
              <a:off x="3155760" y="495936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7960" y="555948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3720" y="495936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65400" y="595944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64640" y="5972040"/>
            <a:ext cx="4975200" cy="963360"/>
            <a:chOff x="2564640" y="5972040"/>
            <a:chExt cx="4975200" cy="963360"/>
          </a:xfrm>
        </p:grpSpPr>
        <p:sp>
          <p:nvSpPr>
            <p:cNvPr id="180" name=""/>
            <p:cNvSpPr/>
            <p:nvPr/>
          </p:nvSpPr>
          <p:spPr>
            <a:xfrm>
              <a:off x="2564640" y="597204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50840" y="641484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90720" y="10350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, PID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Hour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mail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3DA-D3B1-4ED1-B5DF-AA0771ED05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F3F0-DE36-417F-A27F-0025212C10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ty(Property_id#, County_name, Lot#, Area, Price, Tax_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#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316E-1170-4F98-A8FA-CD7CE5B52A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B6A80-2597-4658-9A29-7026AE4A70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operty(Property_id#, County_name, Lot#, Area, Price, Tax_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9051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County_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ax_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91400" y="2438280"/>
            <a:ext cx="8888400" cy="1620720"/>
            <a:chOff x="491400" y="2438280"/>
            <a:chExt cx="8888400" cy="1620720"/>
          </a:xfrm>
        </p:grpSpPr>
        <p:sp>
          <p:nvSpPr>
            <p:cNvPr id="189" name=""/>
            <p:cNvSpPr/>
            <p:nvPr/>
          </p:nvSpPr>
          <p:spPr>
            <a:xfrm>
              <a:off x="491400" y="2962440"/>
              <a:ext cx="5209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1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ounty_name, Tax_r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2520" y="3581280"/>
              <a:ext cx="856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274480" y="24382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70600" y="2438280"/>
              <a:ext cx="1776240" cy="10479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276720" y="4038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Are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7440" y="4495680"/>
            <a:ext cx="8985960" cy="1620720"/>
            <a:chOff x="397440" y="4495680"/>
            <a:chExt cx="8985960" cy="1620720"/>
          </a:xfrm>
        </p:grpSpPr>
        <p:sp>
          <p:nvSpPr>
            <p:cNvPr id="195" name=""/>
            <p:cNvSpPr/>
            <p:nvPr/>
          </p:nvSpPr>
          <p:spPr>
            <a:xfrm>
              <a:off x="397440" y="5019480"/>
              <a:ext cx="334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9880" y="5638680"/>
              <a:ext cx="7823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2080800" y="44956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449568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0480" y="32004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080" y="53341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6120" y="5938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E57-2AFB-4BE1-9B88-C6BC93642A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34584-2EF4-4D50-9FBA-289161E1AB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BCNF decomposition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non-trivial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eed to 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we project always comes back in the joi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re; and it doesn’t depend on the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comes back in the join must be in the original relatio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of makes use of the fact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AE6-5C75-465D-8BD5-EED8374CFD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2E77-CC79-49D9-90E0-ECC08FFB77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: a method removes </a:t>
            </a:r>
            <a:r>
              <a:rPr b="0" lang="en-US" sz="2800" spc="-1" strike="noStrike">
                <a:solidFill>
                  <a:srgbClr val="70966a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 and therefore completely removes any</a:t>
            </a:r>
            <a:r>
              <a:rPr b="0" lang="en-US" sz="2800" spc="-1" strike="noStrike">
                <a:solidFill>
                  <a:srgbClr val="70966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-dependency-related redund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us, BNCF decomposition is a lossless join decompos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F84-6586-4802-A25A-730376130D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9AB35-1CF6-4B55-BDF5-AEBDC28000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Homework #1 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e next Monday (Feb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use your EECS password to login either cycle2 or wozniak (the same machin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 psql and use your psql password to lo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me know if there is anything wrong with you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in typing O, 0, 1,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&amp; Computer Science Spring Career Fair is tomorrow (Feb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rom 12:30-5:0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me night with employer is tonight 7:30-10:30pm in the Burge Union, Relays room on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loo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3DC-BC7C-4EB6-822C-E955F3C66A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2D747-CC49-44CC-97DB-BBDE9AA875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057400"/>
            <a:ext cx="3505320" cy="350532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80160" y="487692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1143000"/>
            <a:ext cx="381240" cy="3886200"/>
          </a:xfrm>
          <a:prstGeom prst="downArrow">
            <a:avLst>
              <a:gd name="adj1" fmla="val 50000"/>
              <a:gd name="adj2" fmla="val 254839"/>
            </a:avLst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E7C-B119-49FB-BE0B-883DA7D4BF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D5E32-F49A-43A2-AAB0-D8647AE58354}" type="datetime1">
              <a:rPr lang="en-US"/>
              <a:t>07/28/26</a:t>
            </a:fld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: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Structured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nounced “S-Q-L” or “seque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tandard query language supported by most commercial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System 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92 (SQL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99 (SQL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SI SQL 2003 (+OLAP, XML, etc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BBB-303A-40D5-BF08-B3A2B76524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D5D43-A248-4D2C-BA31-2B96ACBB46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nd dropping t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_typ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DROP TABLE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4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Student (SID integer,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                    name varchar(30), email varchar(30),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                    age integer, GPA float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Course (CID char(10), title varchar(100)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create table Enroll (SID integer, CID char(10)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Studen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Course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ettrGoth12 BT"/>
              </a:rPr>
              <a:t>drop table Enroll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everything from -- to the end of the line is ignor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SQL is insensitive to white spac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SQL is insensitive to case (e.g., ...Course... is equivalent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LettrGoth12 BT"/>
              </a:rPr>
              <a:t>-- ...COURSE..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001-62E7-4078-AE85-55833E034A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396EF-98E2-4218-A926-8C830E59AA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queries: SFW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br>
              <a:rPr sz="2800"/>
            </a:b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called an SPJ (select-project-join)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lm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quivalent to relational algebra que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5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AC2-7316-4F64-A406-1A715B940C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07829-4B85-4F72-8424-428F08405F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100% correct, we will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6BC0-1315-4BD7-B223-7618D46C28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F6EB4-4DBE-4638-B76C-9B166948DA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selection and 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of students under 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name FROM Student WHERE age &lt; 2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ge &lt;2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66680" y="321948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029200" y="321948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029200" y="3600360"/>
            <a:ext cx="3429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343400"/>
            <a:ext cx="3352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3048120"/>
            <a:ext cx="457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91520" y="3048120"/>
            <a:ext cx="10666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9BC-C888-435F-8D04-A690A0EF88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841BD-2704-415D-B1D6-078F1B24DF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as Lisa bo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2006 – age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name = ’Lisa’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can contain express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use built-in functions such as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 literals (case sensitive) are enclosed in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ing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o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B462-D1BE-4AE9-89AB-172560CB31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F966F-CC1E-4CE1-B052-8049A38432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reading a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SELECT * FROM Stud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gle-table query, so no cross product 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short hand for “all column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EAB-E549-43A0-8896-5285ABB99E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AB15D-937F-4D77-9F3E-5ADA62E2F9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’s and names of students taking the “Database”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Student.SID, Student.nam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Student, Enroll, Course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Student.SID = Enroll.S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Enroll.CID = Course.C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title = ’Database’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kay to omi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lumn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etter way to deal with string is to use “LIKE” and % , which matches with any string with length 0 or m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title LIKE ’%Database%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\ is the escape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‘</a:t>
            </a: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_’ is used for representing any a single charac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5B8-13EA-4966-AC2B-E6760AE93A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66917-9963-40E1-B0D9-8CD452F90C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 WHERE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ORDER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utput_column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scending,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esc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ist has been computed, sort the output according to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pecifi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315-A4AF-41E1-9E54-9BDECB6349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688BC-E6AE-4FB1-925D-31133D3B35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losure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ll attributes {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…} functionally determined by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that is, Z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753-F885-4023-8C3C-5F9C47ED06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3925-1A77-4506-A55B-F6D3D55C74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students, sort them by GPA (descending) and name (asce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SID, name, age, GPA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Student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GPA DESC, nam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AS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default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ctly speaking, only output columns can appear in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ORD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B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use (although some DBMS support mo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use sequence numbers instead of names to refer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ut columns: 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ORDER BY 4 DESC,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C01-A53F-41D2-B21A-CCCA945085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0EDE5-844A-4516-AA2A-2365F94CA7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rena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algebra query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=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.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: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SELECT e1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1, e2.SID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SID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FROM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1, Enroll </a:t>
            </a: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 e2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600"/>
            </a:br>
            <a:r>
              <a:rPr b="0" lang="en-US" sz="26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966a"/>
                </a:solidFill>
                <a:latin typeface="LettrGoth12 BT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keyword is op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0A2-85AC-4FCE-83F4-3D70C3B9E05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BA4D2-44AE-4BA7-9C87-9E0ECA4C9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icated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s of all courses that Bart and Lisa are taking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53720" y="487692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ip: Write the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clause first,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, and then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-55800" y="2895480"/>
            <a:ext cx="91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FROM Student sb, Student sl, Enroll eb, Enroll el, Cours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55440" y="3352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WHERE sb.name = ’Bart’ AND sl.name = ’Lis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74520" y="38098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SID = sb.SID AND el.SID = sl.S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74520" y="4267080"/>
            <a:ext cx="59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AND eb.CID = c.CID AND el.CID = c.C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-55800" y="24382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LettrGoth12 BT"/>
              </a:rPr>
              <a:t>SELECT c.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0C00-B748-48D4-9C20-30C00EA020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C2E97-0953-484B-AFE5-CF8E13C383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FW statemen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many possible ways of structuring SQL statements, why did the designers choose 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number of queries can be written using only selection, projection, and cross product (or joi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y query that uses only these operators can be written in a canonical form: 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…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)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aptures this canonical 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C52-DA47-4E3D-9038-4A9BA7890E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D7D9B-C899-4941-B84F-570CC1F164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 and algebra use set seman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plicates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duplicates is signific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 uses bag semantics by defaul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020-86B0-4199-AF05-5902DC974C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EF118-DBDD-496E-8E49-67C2C6D7E5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versus ba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02800" y="1295280"/>
            <a:ext cx="153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2640" y="205740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En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73392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SI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Enro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85800" y="2666880"/>
          <a:ext cx="2514600" cy="18259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105520" y="1905120"/>
          <a:ext cx="685800" cy="14605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181480" y="4572000"/>
          <a:ext cx="685800" cy="1825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035-AA05-4E1E-B3CD-68128D70F49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BAD8A-A8D0-4539-A81A-DD4011F359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se for bag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aves time of eliminating duplic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 is mor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ettrGoth12 BT"/>
              </a:rPr>
              <a:t>SELECT GPA FROM Studen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query just returns all possible GPA’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econd query returns the actual GPA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ides, SQL provides the option of set semantics with </a:t>
            </a:r>
            <a:r>
              <a:rPr b="0" lang="en-US" sz="28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5D8-5196-4048-A8AF-DE483930DC7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FBD5E-FCEF-40ED-82BD-DF7FADED45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cing set seman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all pairs of class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SELECT e1.SID AS SID1, e2.SID AS SID2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FROM Enroll AS e1, Enroll AS e2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WHERE e1.CID = e2.CID</a:t>
            </a:r>
            <a:br>
              <a:rPr sz="2200"/>
            </a:b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AND e1.SID &gt; e2.SID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y Bart and Lisa both take CPS116 and CPS1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200" spc="-1" strike="noStrike">
                <a:solidFill>
                  <a:srgbClr val="330066"/>
                </a:solidFill>
                <a:latin typeface="LettrGoth12 BT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 e1.SID AS SID1, e2.SID AS SID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LettrGoth12 BT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l duplicate (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I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ID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airs are removed from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AEF-9F92-4864-BEC5-BA368891077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596B2-2394-48D3-A07B-5DA0850783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onal semantics of SF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FROM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WHERE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…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For each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If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over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Compute and output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r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LettrGoth12 BT"/>
              </a:rPr>
              <a:t>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Eliminate duplicate rows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ten called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tupl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629-CF24-4985-BFE2-A9FCC11904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70D56-0414-4567-8CC1-BDC2CB9CEC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 is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BCNF to remove dependency related redunda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LettrGoth12 BT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 (select-project-join que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and ba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how to nest SQ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2EF-C495-4C73-B1F8-06CAB3AF2B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D4618-277B-411C-BCC3-453CF95C13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y(County_name, Lot#, Area, Price, Tax_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the closur of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Tax_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Tax_rate, Are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y_name, Lot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uper ke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60A-D6E1-4B55-9F3E-C6DBFCE52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6F47D-6513-4DBC-B8B4-32450728AC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-from-wher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 vs. ba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D2D-B46A-4120-BCD2-61D002EE39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15475-B983-4841-BBD4-B6F29BF975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204880"/>
            <a:ext cx="8610480" cy="16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turns more rows than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1259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5120" y="297180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971800"/>
            <a:ext cx="17524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95480" y="113040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91440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3429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31C-64C6-49F6-AFEB-CC823F7A0D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2D4E-B314-4FF4-A8DC-68D2F0FA26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less join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 i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ssless join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, given know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as FD’s, we can guarant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decomposition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loss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 is one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D37-CF19-4E23-8783-8EE7755F57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3177A-BC2E-463D-93B1-F48456A52E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? But I got more row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” refers not to the loss of tuples, but to the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the ability to distinguish different original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55101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0720" y="4267080"/>
            <a:ext cx="25909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6708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95480" y="2425680"/>
          <a:ext cx="307656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14400" y="45594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34120" y="4572000"/>
          <a:ext cx="2209680" cy="18414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120" name=""/>
            <p:cNvSpPr/>
            <p:nvPr/>
          </p:nvSpPr>
          <p:spPr>
            <a:xfrm>
              <a:off x="3048120" y="5105520"/>
              <a:ext cx="3504960" cy="7617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971800" y="5181120"/>
              <a:ext cx="3581280" cy="6858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123" name=""/>
            <p:cNvSpPr/>
            <p:nvPr/>
          </p:nvSpPr>
          <p:spPr>
            <a:xfrm>
              <a:off x="2971800" y="5105520"/>
              <a:ext cx="3581280" cy="759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5867280"/>
              <a:ext cx="35053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53D-E5F4-4603-947E-2B6EBBDC7D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693C2-5623-48F6-B0E3-F764295EA1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bout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 (i.e., lossless join decom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1FE-54FB-48BA-95A9-15CEEC9F97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C921-7A51-4BF7-BA16-A41AC7B40A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4T20:29:21Z</dcterms:modified>
  <cp:revision>962</cp:revision>
  <dc:subject/>
  <dc:title>CS186: Introduction to Database Systems</dc:title>
</cp:coreProperties>
</file>