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E2C16E-F931-40B1-BEF1-D91F5E8B63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D49207-CA24-4165-9853-D49E4E0D2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2488B1-820B-4DF9-81DA-5C8D326E0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DCB24E-433B-4DFF-A4E0-AD233063F4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CARE WHEN EQUIVALENCES ARE BROK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O. is ha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0CF2D1-1C7E-45FC-9BF5-1608CFBE0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2EFD93-6DA6-4091-85E8-D691BF56BA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useful in information integration as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B08EF5-C79C-4FFA-8001-C0300F0415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E2FA95-19DE-4895-AC89-AB8913542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F4CD74-8309-404A-BEAC-83039CC9A5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A2B266-A8D6-433E-AFE0-96C73F26F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974E2B-C421-4310-9390-7517128C55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763E0B-9883-43A1-9915-B929D1E8F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3CF0D0-73D0-4394-BAD5-1FE398A671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AD072A-4A8F-4ABF-BD01-C98318004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F85DD5-8030-49E5-9AFF-0A6FCC656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55208D-0650-4B15-B46E-E0B8CFE3F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22800" cy="38415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3252BF-42A0-4842-BBB2-AF4CA17301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9B4D72-FB8B-431F-BAC8-53C1E8C49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331BB4-7AEE-48F1-9089-9572A24B2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E8FD65-CECC-4A67-96EB-D1D420C578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5BA6E4-F00B-4BE1-89E7-7F78DE9B12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ranslate a relationship set in E/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tial integr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F570D3-50D7-4AF7-ACDE-9ADC87C1F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04EEA8-DE01-4E84-B07D-E7CD7C4C0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C42AA8-1B7C-4173-AF69-9E9031D7F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7C8B46-8DDA-4E29-A597-9DF7A93556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55AF3D-3695-4480-B0EC-3DD77709B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D8C01C-CE54-4F93-9602-089E76E2DC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B1034A-35BC-4180-B9BD-A7BEB693BF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0929E8-94F7-46C1-BA5F-1FD945094E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08E55B-16D2-4E96-B1C4-D2BA64426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836CD2-7775-414A-B9CC-69D19E452D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7A1DEE-5855-44C3-8B64-00A8DB9A0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EE1-BDEC-4B21-9E1B-8477A7B0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3AF-7C44-4C47-BC6E-45843263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F8A-2B0A-4AEC-9BFB-B16BC2E7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F31-C1A2-4D7C-A63A-D82196D3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81F-CAC4-46AC-97EC-17D9AB77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495-1857-4F88-9A1A-11EDBDF8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3B58-965D-40A4-9E4F-D859EB4F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49F5-F052-4BD4-B326-9B9ECB52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5C8A-A35B-4C6C-8742-32A2A306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6EB-B8A0-46E6-B7C5-CDF74DA8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23C-A7DB-4824-A0B1-4FA9A5F5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409-F90D-4420-B097-A796E939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34FE-9124-4584-9E4E-24DB1B730D3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8B45-EC57-4314-A4E7-1B6F2D1630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’s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al value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very dom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ecial rules for dealing with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789, “Nelson”,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6E5-227B-4884-AE72-87CCDAB73E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62E1E-A982-4B47-A570-59D655B3D4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-valued log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i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ax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 only select rows for output if the condition evaluates to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UNKNOW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t enou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2743200"/>
          <a:ext cx="4191120" cy="1822320"/>
        </p:xfrm>
        <a:graphic>
          <a:graphicData uri="http://schemas.openxmlformats.org/drawingml/2006/table">
            <a:tbl>
              <a:tblPr/>
              <a:tblGrid>
                <a:gridCol w="1047600"/>
                <a:gridCol w="1047960"/>
                <a:gridCol w="1047600"/>
                <a:gridCol w="1047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213372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00600" y="2743200"/>
          <a:ext cx="4191120" cy="1822320"/>
        </p:xfrm>
        <a:graphic>
          <a:graphicData uri="http://schemas.openxmlformats.org/drawingml/2006/table">
            <a:tbl>
              <a:tblPr/>
              <a:tblGrid>
                <a:gridCol w="1047600"/>
                <a:gridCol w="1047960"/>
                <a:gridCol w="1047600"/>
                <a:gridCol w="1047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647712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32767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1911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1911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37339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41911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32767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41911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37339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41911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41911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A54-65A5-4097-A728-D64A23E050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0B419-CFBA-4F07-8584-603B76D165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ing with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rithmetic operation) when we operate on a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nother value (including another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using +, –, etc., the result is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e functions ignor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xcept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COUNT(*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ince it counts ro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compare a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nother value (including another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using =, &gt;, etc., the result is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84D-6F4E-4ED3-BE07-C31C849947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F0DB6-3BFD-43AA-8C04-4F90B47731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fortunate consequen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AVG(GPA) FROM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3.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SUM(GPA)/COUNT(*) FROM Stud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2.7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* FROM Stud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* FROM Student WHERE GPA = G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equival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09880" y="4191120"/>
          <a:ext cx="4114800" cy="2190600"/>
        </p:xfrm>
        <a:graphic>
          <a:graphicData uri="http://schemas.openxmlformats.org/drawingml/2006/table">
            <a:tbl>
              <a:tblPr/>
              <a:tblGrid>
                <a:gridCol w="768600"/>
                <a:gridCol w="1914480"/>
                <a:gridCol w="627120"/>
                <a:gridCol w="804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429000" y="548640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8F5-69AD-48AB-9507-C8BFEBFCC9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E767F-0F25-4B60-9EBE-A97392B183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Who has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PA valu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* FROM Student WHERE GPA = NULL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work; never return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(SELECT * FROM Student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EXCEPT A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(SELECT * FROM Student WHERE GPA = GP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, but u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roduced built-in predicates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IS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IS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NOT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NU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* FROM Student WHERE GPA IS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ED7-EAC0-4EC9-93A9-46B22ECED7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43558-DB79-41C3-ACCA-DF58E7CEF8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erjoin mot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a master class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c.CID, s.SID</a:t>
            </a:r>
            <a:br>
              <a:rPr sz="22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 Enroll e, Student s, Course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WHERE e.SID = s.SID and c.CID = e.CI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f a student take no cla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se student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umn should be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f a course with no student enrolled ye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se cours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be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7A2-9A59-4F14-92CB-A36F3DD284D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40921-09EE-4240-A870-CF4961B600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er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FULL OUTER JOIN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ull outer jo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enoted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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cludes all rows in the resul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ngling”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ows (those that do not join with an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ows) padded with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colum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ngling”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ows (those that do not join with an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ows) padded with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colum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162920" y="1781280"/>
            <a:ext cx="75960" cy="199800"/>
            <a:chOff x="7162920" y="1781280"/>
            <a:chExt cx="75960" cy="199800"/>
          </a:xfrm>
        </p:grpSpPr>
        <p:sp>
          <p:nvSpPr>
            <p:cNvPr id="141" name=""/>
            <p:cNvSpPr/>
            <p:nvPr/>
          </p:nvSpPr>
          <p:spPr>
            <a:xfrm>
              <a:off x="7162920" y="17812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62920" y="19810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543800" y="1752480"/>
            <a:ext cx="76320" cy="199800"/>
            <a:chOff x="7543800" y="1752480"/>
            <a:chExt cx="76320" cy="199800"/>
          </a:xfrm>
        </p:grpSpPr>
        <p:sp>
          <p:nvSpPr>
            <p:cNvPr id="144" name=""/>
            <p:cNvSpPr/>
            <p:nvPr/>
          </p:nvSpPr>
          <p:spPr>
            <a:xfrm>
              <a:off x="7543800" y="17524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1952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1C6-511E-4F65-9C0D-34467E742DB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0378C-CC12-4A40-BFC4-F35CED098E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erjoin (I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LEFT  OUTER JOIN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RIGHT OUTER JOIN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669999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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cludes row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us dangl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ws padded with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669999"/>
                </a:solidFill>
                <a:latin typeface="Times New Roman"/>
              </a:rPr>
              <a:t>righ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cludes row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us dangl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ws padded with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81280" y="2971800"/>
            <a:ext cx="76320" cy="199800"/>
            <a:chOff x="3581280" y="2971800"/>
            <a:chExt cx="76320" cy="199800"/>
          </a:xfrm>
        </p:grpSpPr>
        <p:sp>
          <p:nvSpPr>
            <p:cNvPr id="149" name=""/>
            <p:cNvSpPr/>
            <p:nvPr/>
          </p:nvSpPr>
          <p:spPr>
            <a:xfrm>
              <a:off x="3581280" y="2971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1280" y="3171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24080" y="2162160"/>
            <a:ext cx="76320" cy="199800"/>
            <a:chOff x="3124080" y="2162160"/>
            <a:chExt cx="76320" cy="199800"/>
          </a:xfrm>
        </p:grpSpPr>
        <p:sp>
          <p:nvSpPr>
            <p:cNvPr id="152" name=""/>
            <p:cNvSpPr/>
            <p:nvPr/>
          </p:nvSpPr>
          <p:spPr>
            <a:xfrm>
              <a:off x="3124080" y="21621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24080" y="2361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8BD-0C1B-4A0F-AACA-C34DD0AED7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F1C3E-504E-4698-BE37-5E1966AF9E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erjoin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960" y="35053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600" y="10666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4038480"/>
          <a:ext cx="2514600" cy="1460520"/>
        </p:xfrm>
        <a:graphic>
          <a:graphicData uri="http://schemas.openxmlformats.org/drawingml/2006/table">
            <a:tbl>
              <a:tblPr/>
              <a:tblGrid>
                <a:gridCol w="533520"/>
                <a:gridCol w="83808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33520" y="1676520"/>
          <a:ext cx="2286000" cy="146052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3505320" y="9907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mployee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LEFT OU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artment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id = M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200400" y="1752480"/>
          <a:ext cx="5562720" cy="1460520"/>
        </p:xfrm>
        <a:graphic>
          <a:graphicData uri="http://schemas.openxmlformats.org/drawingml/2006/table">
            <a:tbl>
              <a:tblPr/>
              <a:tblGrid>
                <a:gridCol w="868320"/>
                <a:gridCol w="1874880"/>
                <a:gridCol w="838440"/>
                <a:gridCol w="83808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581280" y="32767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mployee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RIGHT OUTER 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artment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id = M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76720" y="3962520"/>
          <a:ext cx="5562360" cy="1460520"/>
        </p:xfrm>
        <a:graphic>
          <a:graphicData uri="http://schemas.openxmlformats.org/drawingml/2006/table">
            <a:tbl>
              <a:tblPr/>
              <a:tblGrid>
                <a:gridCol w="867960"/>
                <a:gridCol w="1874880"/>
                <a:gridCol w="838440"/>
                <a:gridCol w="83808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3581280" y="32767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mployee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FULL OU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artment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id = M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76720" y="3962520"/>
          <a:ext cx="5562360" cy="1825560"/>
        </p:xfrm>
        <a:graphic>
          <a:graphicData uri="http://schemas.openxmlformats.org/drawingml/2006/table">
            <a:tbl>
              <a:tblPr/>
              <a:tblGrid>
                <a:gridCol w="868320"/>
                <a:gridCol w="1874880"/>
                <a:gridCol w="838080"/>
                <a:gridCol w="83808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FFD-90EC-4B9B-9BF8-4AEE035AFF1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D37E2-120F-4F57-A6F7-5277F8D18B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d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 and bag oper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ggregation and group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 expressions, sub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B2F-1DC8-4A8F-A3B4-2A9927C040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0FAF4-8722-49AD-9030-C958A05B0E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project is posted at the class webs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o through it and we will discuss the final project at next class mee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E8A-A3E9-4294-8870-49AEC0A4F2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DE194-1431-4441-8C77-AA81AFB4D0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Get the Name of one’s super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(Eid, Mid,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QL Stat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EID, Name 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 MId =E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E1.EID, E2.Name 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E1, EMPLOYEE E2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 E1.MId = E2.EId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49200" y="4057560"/>
          <a:ext cx="3917880" cy="2190600"/>
        </p:xfrm>
        <a:graphic>
          <a:graphicData uri="http://schemas.openxmlformats.org/drawingml/2006/table">
            <a:tbl>
              <a:tblPr/>
              <a:tblGrid>
                <a:gridCol w="653760"/>
                <a:gridCol w="1632240"/>
                <a:gridCol w="163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a W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ck S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943600" y="4057560"/>
          <a:ext cx="2286000" cy="219096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ck S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ck S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ck S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4648320" y="489600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629400" y="2286000"/>
            <a:ext cx="1371600" cy="380880"/>
            <a:chOff x="6629400" y="2286000"/>
            <a:chExt cx="1371600" cy="380880"/>
          </a:xfrm>
        </p:grpSpPr>
        <p:sp>
          <p:nvSpPr>
            <p:cNvPr id="173" name=""/>
            <p:cNvSpPr/>
            <p:nvPr/>
          </p:nvSpPr>
          <p:spPr>
            <a:xfrm flipV="1">
              <a:off x="6629400" y="2361960"/>
              <a:ext cx="1371600" cy="2286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9400" y="2286000"/>
              <a:ext cx="1371600" cy="3808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E4B-30EE-4879-8C2F-311A1584E72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7C51E-1C2C-4B93-B9C8-E0E4E76024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group employees according to their department, for each department, list EIds of its employees and list the head c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(Eid, Name), DEPARTMENT(Eid, D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QL Stat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Did, Eid, COUNT(Ei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e, DEPARTMENT d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 e.Eid = d.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GROUP BY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thing wro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shful thinking (list a group of Eid after grouping) won’t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produce (1) a summary table listing Did and head count, and (2) sort Department according to Did.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77A-BEBF-412F-A486-158E0F1D74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D9642-49FF-4B11-A765-92427E9372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on Nested Queries: Sco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ut which table a column belong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art with the immediately surrounding que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not found, look in the one surrounding that; repeat if necess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_name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lumn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tation and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naming) to avoid con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FAE-BA9E-489A-8CCE-A15547AAB2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96AB9-835B-4D84-97A5-58C22802C1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* FROM Student 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 EXIS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  (SELECT * FROM Enroll 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   WHERE SID = s.SI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   AND EXIS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       (SELECT * FROM Enro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        WHERE SID = s.SI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        AND CID &lt;&gt; e.CID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312120" y="5440320"/>
            <a:ext cx="87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Garmnd BT"/>
              </a:rPr>
              <a:t>Students who are taking at least two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3657600"/>
            <a:ext cx="76176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200400"/>
            <a:ext cx="1447920" cy="457200"/>
          </a:xfrm>
          <a:custGeom>
            <a:avLst/>
            <a:gdLst/>
            <a:ahLst/>
            <a:rect l="l" t="t" r="r" b="b"/>
            <a:pathLst>
              <a:path w="912" h="336">
                <a:moveTo>
                  <a:pt x="0" y="336"/>
                </a:moveTo>
                <a:lnTo>
                  <a:pt x="0" y="0"/>
                </a:lnTo>
                <a:lnTo>
                  <a:pt x="912" y="0"/>
                </a:lnTo>
                <a:lnTo>
                  <a:pt x="912" y="96"/>
                </a:lnTo>
              </a:path>
            </a:pathLst>
          </a:custGeom>
          <a:noFill/>
          <a:ln w="25560">
            <a:solidFill>
              <a:srgbClr val="33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2362320"/>
            <a:ext cx="76176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1828800"/>
            <a:ext cx="1447920" cy="533520"/>
          </a:xfrm>
          <a:custGeom>
            <a:avLst/>
            <a:gdLst/>
            <a:ahLst/>
            <a:rect l="l" t="t" r="r" b="b"/>
            <a:pathLst>
              <a:path w="912" h="336">
                <a:moveTo>
                  <a:pt x="0" y="336"/>
                </a:moveTo>
                <a:lnTo>
                  <a:pt x="0" y="0"/>
                </a:lnTo>
                <a:lnTo>
                  <a:pt x="912" y="0"/>
                </a:lnTo>
                <a:lnTo>
                  <a:pt x="912" y="96"/>
                </a:lnTo>
              </a:path>
            </a:pathLst>
          </a:custGeom>
          <a:noFill/>
          <a:ln w="25560">
            <a:solidFill>
              <a:srgbClr val="33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3657600"/>
            <a:ext cx="12193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1066680"/>
            <a:ext cx="1371600" cy="2590920"/>
          </a:xfrm>
          <a:custGeom>
            <a:avLst/>
            <a:gdLst/>
            <a:ahLst/>
            <a:rect l="l" t="t" r="r" b="b"/>
            <a:pathLst>
              <a:path w="816" h="1872">
                <a:moveTo>
                  <a:pt x="816" y="1872"/>
                </a:moveTo>
                <a:lnTo>
                  <a:pt x="816" y="0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noFill/>
          <a:ln w="25560">
            <a:solidFill>
              <a:srgbClr val="33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952160" y="4191120"/>
            <a:ext cx="129564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828800"/>
            <a:ext cx="228600" cy="2362320"/>
          </a:xfrm>
          <a:custGeom>
            <a:avLst/>
            <a:gdLst/>
            <a:ahLst/>
            <a:rect l="l" t="t" r="r" b="b"/>
            <a:pathLst>
              <a:path w="816" h="1872">
                <a:moveTo>
                  <a:pt x="816" y="1872"/>
                </a:moveTo>
                <a:lnTo>
                  <a:pt x="816" y="0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noFill/>
          <a:ln w="25560">
            <a:solidFill>
              <a:srgbClr val="33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ADD-8581-45E3-B69D-9346FBCD8B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5F3D4-3C09-4D72-8A13-24CB015D5F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fied sub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antified subquery can be used as a value in a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Universal quant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or all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ue iff for al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e resul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Existential quant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xists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ue iff there exists som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e resul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ommon parlance, “any” and “all” seem to be synony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QL,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ally means “so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B65-16AD-4E6E-BE9A-B4804D6623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E59FF-9DAF-43DA-AF4E-A85C8B649C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quantified sub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employees have the highest sal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mployee (Sid, Name, Salar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*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 Employe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 Salary &gt;=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(SELECT Salary FROM Employee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the lowest sal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*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 Employe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 Salary &lt;= AL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(SELECT salary FROM Employee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845-EC02-4062-818D-95A88D8DE93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7AD67-B859-410B-BA78-69A7CDE09E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ways of getting the highest Sal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has the highest Sal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* FROM Employee 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 NOT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EXIS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(SELECT * FROM Employe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 WHERE Salary &gt; e.Salary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* FROM Employee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 Eid NOT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I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(SELECT e1.SI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 FROM Employee e1, Employee e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 e1.Salary &lt; e2.Salary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5DB-90D2-4449-BA45-FEF9B551FC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9EA89-ED3B-4A84-A5BE-21FDE8519D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sted 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queries do not add expression power to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conveni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intuitive SQL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always use SQL queries without nesting to complete the same task (though sometime it is hard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C9E-4036-433A-AC8F-0E82C9706D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713D4-9BCB-43CD-98B6-905BBDB7AC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lors (sid: INTEGER, sname: string, rating: INTEGER, age: R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ats (bid: INTEGER, bname: string, color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es (sid: INTEGER, bid: 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33520" y="2819520"/>
          <a:ext cx="4343400" cy="1822320"/>
        </p:xfrm>
        <a:graphic>
          <a:graphicData uri="http://schemas.openxmlformats.org/drawingml/2006/table">
            <a:tbl>
              <a:tblPr/>
              <a:tblGrid>
                <a:gridCol w="1085760"/>
                <a:gridCol w="1085760"/>
                <a:gridCol w="1085760"/>
                <a:gridCol w="108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433440" y="23623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ai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981080" y="4724280"/>
          <a:ext cx="2171880" cy="1366920"/>
        </p:xfrm>
        <a:graphic>
          <a:graphicData uri="http://schemas.openxmlformats.org/drawingml/2006/table">
            <a:tbl>
              <a:tblPr/>
              <a:tblGrid>
                <a:gridCol w="1086120"/>
                <a:gridCol w="1085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247680" y="4829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86400" y="2819520"/>
          <a:ext cx="3429000" cy="2187360"/>
        </p:xfrm>
        <a:graphic>
          <a:graphicData uri="http://schemas.openxmlformats.org/drawingml/2006/table">
            <a:tbl>
              <a:tblPr/>
              <a:tblGrid>
                <a:gridCol w="857160"/>
                <a:gridCol w="158112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 Ma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62560" y="23623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371-9CC6-4BB7-A0F4-0DADE8FB5E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4441B-87A4-43DF-8DD2-3B3FC988B5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 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sid’s of sailors who’ve reserved a red AND a green b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ats B1, Reserves R1, Boats B2, Reserves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1.color=‘red’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2.color=‘gree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.bid=B1.bid 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2.bid=B2.bid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.sid=R2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ats, Rese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.color = ‘re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LettrGoth12 BT"/>
              </a:rPr>
              <a:t>INTERS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ats, Rese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.color = ‘green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85E-B42C-4175-BF28-73204F9726D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984ED-352E-433F-81D5-B6E2C2CDBD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FW stat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the outputs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ag ope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force set ope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averag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rows in a ta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certain group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15238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ORDER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ggregation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3667-DCEF-4A9E-9A43-19B5A22CB4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43095-52A0-4D03-BE11-15AA6ED4AF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 I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sid’s of sailors who have not reserved a b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Sail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LettrGoth12 BT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.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Sailors S, Reserves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.sid=R.s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19810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966a"/>
                </a:solidFill>
                <a:latin typeface="Arial"/>
              </a:rPr>
              <a:t>Non-monotonic oper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720-A92D-4956-9B90-B13F98927B4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58380-9753-4177-8D34-D6BFC4ECD3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 III (a tough on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sailors who’ve reserved all bo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(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d, 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Boat, Sai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1600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966a"/>
                </a:solidFill>
                <a:latin typeface="Arial"/>
              </a:rPr>
              <a:t>Non-monotonic oper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41148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All possible combinations between sid and b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53341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Existing re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31240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Those who do not reserve all bo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2286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All sai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239-697A-453C-92EE-1248AA91974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8EED6-C0DA-4E3C-B19B-5B87BF8BB8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SQL featur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ed so f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nd ba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 and grou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expressions, sub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and outer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data modification statements,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5C4-12EE-47A0-97A8-17A2C7CA43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19521-C429-46AC-BEB6-A62BED65E6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Query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ublangu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DL – Data Definit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e and modify sche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ML – Data Manipulat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eries can be written intuitive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ert, delete, update rows in a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is responsible for efficient eval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key: precise semantics for relational quer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timizer can re-order operations, without affecting query answ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oices driven by “cost model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aints in Table Decla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s on allowable data in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ddition to the simple structure and type restrictions imposed by the table defini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clared a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art of the sche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forced by the DB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use constrai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tect data integrity (catch error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ll the DBMS about the data (so it can optimize bett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7E7-DB6E-4989-A752-CB4E3AABA61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02D48-15E9-4D98-9C2A-F591B69E80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SQL constra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constr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tial integrity (foreign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E7E-78C6-4BDE-96AA-450E40DBA89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3BF63-60EF-40E2-8AB5-412CDF0267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decla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ost one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PRIMARY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ly implies a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rimary inde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ws are stored inside the index, typically sorted by the primary key value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st speedup for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number of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UN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s per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ly implies a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econdary inde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speedup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FCE-17CD-47FC-BFE3-0BB922A072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9B664-A23E-4AAF-BF80-04706ED078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s that the value of an attribute can not be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FA0-9546-4101-A446-BB13BA9588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7AE81-6BE8-4F69-864F-AAAAD86D45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CREATE TABLE Stud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(SID INTEGER NOT NULL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PRIMARY KEY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 name VARCHAR(30) NOT NUL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 email VARCHAR(30)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 age INTEGE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 GPA FLOA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CREATE TABLE Cour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(CID CHAR(10) NOT NULL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PRIMARY KEY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 title VARCHAR(100) NOT 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CREATE TABLE Enro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(SID INTEGER NOT NUL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 CID CHAR(10) NOT NUL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PRIMARY KEY(SID, CID)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43400" y="1676520"/>
            <a:ext cx="3939120" cy="901800"/>
            <a:chOff x="4343400" y="1676520"/>
            <a:chExt cx="3939120" cy="901800"/>
          </a:xfrm>
        </p:grpSpPr>
        <p:sp>
          <p:nvSpPr>
            <p:cNvPr id="235" name=""/>
            <p:cNvSpPr/>
            <p:nvPr/>
          </p:nvSpPr>
          <p:spPr>
            <a:xfrm>
              <a:off x="5888880" y="1676520"/>
              <a:ext cx="2393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Used for quer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proces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343400" y="2146320"/>
              <a:ext cx="175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535400" y="4800600"/>
            <a:ext cx="6554160" cy="843840"/>
            <a:chOff x="1535400" y="4800600"/>
            <a:chExt cx="6554160" cy="843840"/>
          </a:xfrm>
        </p:grpSpPr>
        <p:sp>
          <p:nvSpPr>
            <p:cNvPr id="238" name=""/>
            <p:cNvSpPr/>
            <p:nvPr/>
          </p:nvSpPr>
          <p:spPr>
            <a:xfrm>
              <a:off x="1535400" y="5184720"/>
              <a:ext cx="655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This form is required for multi-attribute ke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516040" y="480060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FD9-EC9F-4B3F-AF58-F2C66533EBD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98536-8F2E-4D9D-AAEC-88D9793DA7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tial integrity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SID appea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t must appear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CID appea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t must appear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, no “dangling pointer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E99-A5E9-44AF-A3E2-70B61FDAE57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5834B-E1AE-441F-B3C0-63B04EBB06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eat as a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eat as a sca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EX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836-43F1-4AAE-A4DD-6317D6BF27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19499-08EE-4D4B-9FAC-7625B9248C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tial integrity in 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d column(s) must b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PRI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ing column(s) form a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FOREIGN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REATE TABLE Enro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(SID INTEGER NOT NULL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CID CHAR(10) NOT NULL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PRIMARY KEY(SID, CID)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OREIGN KEY CID REFERENCES Course(CI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OREIGN KEY SID REFERENCES Student(SID)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142-C8F0-4B7E-A00A-7554E94462C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D00A8-023B-417D-AB5D-5B77B11B01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forcing referential integrit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references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or update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w so it refers to a non-existent 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Re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or updat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w whose SID is referenced by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Re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ascad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ripple changes to all referring ro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et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et all references to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NU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et DEFAULT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the default value of the attrib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four options can be specified in SQ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B58-DF10-4A61-85FD-94096B4D8A2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6A8E0-E0A3-45B2-948F-7FA0FF767C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CREATE TABLE Enro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(SID INTEGER NOT NULL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CID CHAR(10) NOT NULL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PRIMARY KEY(SID, CID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FOREIGN KEY CID REFERENCES Course(CID) </a:t>
            </a:r>
            <a:r>
              <a:rPr b="0" lang="en-US" sz="2800" spc="-1" strike="noStrike">
                <a:solidFill>
                  <a:srgbClr val="669999"/>
                </a:solidFill>
                <a:latin typeface="LettrGoth12 BT"/>
              </a:rPr>
              <a:t>CASCADE ON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OREIGN KEY SID REFERENCES Student(SID) </a:t>
            </a:r>
            <a:r>
              <a:rPr b="0" lang="en-US" sz="2600" spc="-1" strike="noStrike">
                <a:solidFill>
                  <a:srgbClr val="669999"/>
                </a:solidFill>
                <a:latin typeface="LettrGoth12 BT"/>
              </a:rPr>
              <a:t>CASCADE ON DELETE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ete all student enrollments for a canceled cla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ete all student enrollments for a dropped 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EB0-5675-44A1-8488-36C0A67455B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C7D5B-4DB2-4817-BDCD-7E133F1794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Modification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16A-0FDB-4584-A4F1-6A0908A5431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AB8F5-8256-43FB-87C7-0D265314B3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INSE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one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800" indent="-312840">
              <a:lnSpc>
                <a:spcPct val="12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INSERT INTO Enroll VALUES (456, ’EECS647’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480" indent="-264240">
              <a:lnSpc>
                <a:spcPct val="12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456 takes EECS6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the result of a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800" indent="-312840">
              <a:lnSpc>
                <a:spcPct val="12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INSERT INTO Enro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(SELECT SID, ’EECS647’ FROM Studen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WHERE SID NOT IN (SELECT SID FROM Enro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8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HERE CID = ’EECS647’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480" indent="-264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everybody to take EECS647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998-1EC5-4A3C-8AD9-A003AB02073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16A33-CDA4-4612-A632-03E0478BD6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DELE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ELETE FROM Enrol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according to a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Student 456 drops CPS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ELETE FROM Enroll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SID = 456 AND CID = ’EECS647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Drop students from all EECS classes with GPA lower than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ELETE FROM Enroll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SID IN (SELECT SID FROM Student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                           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GPA &lt; 1.0)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AND CID LIKE ’EECS%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07C-575A-4333-A154-F1E7B1465A7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93DBA-FB03-4AB2-B015-8BCB1ED600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UP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tudent 142 changes name to “Barne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UPDATE Studen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T name = ’Barney’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HERE SID = 142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A18-CA50-491B-A248-939E39C97C5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25DF8-FB08-4E83-8EC9-373F4D3041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SQL featur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ed so f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and bag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 expressions, subque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gregation and group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de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INSE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DELE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: triggers, views, index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C19-F6FF-49E0-A576-5A683E698CD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4A6DC-5F62-45C6-9BBA-6378F5648E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L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creation and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AF4-4CC0-4F73-BB79-4BFBE2A191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FC666-9F93-43BC-AA59-9CD76891D8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plet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do not know Nelson’s 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t appli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lson has not taken any classes yet; what is his GPA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74E-422B-49DD-AF0D-EF9FBFDFF1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120D0-6AC1-488E-8F10-B889D81FF9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dicated special value for each domain (ty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PA cannot be –1, so use –1 as a special value to indicate a missing or invalid GP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ads to incorrect answers if not carefu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AVG(GPA) FROM Stud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licates app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AVG(GPA) FROM Stu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GPA &lt;&gt; 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member the Y2K bu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” was used as a missing or invalid year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9D2-AB42-44D3-B678-1CE02A83A3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21FE1-6D43-4B78-BFAC-29744D88B5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lid-bit for every col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_is_val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_is_val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PA_is_val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licates schema and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AVG(GPA) FROM Stu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GPA_is_val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F21-C3CF-4B73-9B4C-4042692C35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F43D1-2B9D-43F1-8F63-F891E7A664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 3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the table; missing row = missing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GPA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I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ceptually the cleanest solu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ill complicates schema and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get all information about a student in a t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natural join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B31-6D7F-49B6-83E0-24B9999672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749DE-6971-4B72-B08C-A4527EC6D2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2-21T20:49:18Z</dcterms:modified>
  <cp:revision>1135</cp:revision>
  <dc:subject/>
  <dc:title>CS186: Introduction to Database Systems</dc:title>
</cp:coreProperties>
</file>