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07051D-455E-4C6B-927B-F2EAFE5608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99410B-BDAB-4296-86CA-A4B6E5DA6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8A5AD6-A5D8-447C-8F9A-200721D85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A379CB-DCFF-4324-8E3D-8015F9E16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858085-D662-4D25-AD98-85BEF511C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A44C9F-73D0-4D3E-BC39-0F765C20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F05359-BD85-404E-BB4B-4609ABE0D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E99145-45AF-41D8-8BEC-3910423B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1B3BCE-19A4-4C50-BBDF-A3072163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AD6A0D-D471-4E6F-B044-3A5A81A3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2897C0-4F77-4D5D-AD9E-100E15F2D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FE10E3-4D4E-474F-B483-2A40422E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CB037E-A3A9-4FD5-ACEF-373A08F0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29EB0B-CE6F-44E6-A570-05C94B350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F0F7A4-DCFD-4A64-A616-D6CF70EDE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7C7215-DDBF-47CA-9C97-487927888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927CBF-E319-487E-84F5-6F435259B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7ECB5E-7EBC-4F8A-B204-7FC0DCCE3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5E4FB2-4887-4257-B26D-B17EFE071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1D0C98-AFA2-4AFB-AFCC-9DB6D49F6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534185-7CB4-4D79-9005-C38348784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3E646F-1924-4736-9B21-2145D92B9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865AFF-06CD-4926-BA4D-59D35D737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D643CA-3750-4100-9C58-7C75424D0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D2C8D4-E2E1-4167-9376-4627E2823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188BD3-F8AD-4597-AEC3-F40692A90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FBAD95-A77B-4BAA-9EE5-4E2836527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1FBA40-EC9F-4112-8D14-CB8E7ECB3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82F206-5F7A-4860-982F-3CB28E6DF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6F1EE1-6554-43D8-83C6-31E365353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635A1D-B1BE-4927-BA3F-A214A2B84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D2A1D4-174A-4480-BD71-5FD93E7CD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C8DEDD-A9A2-48DD-97E3-D3156BCF8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004760" y="776160"/>
            <a:ext cx="5092920" cy="3821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44640" y="4862520"/>
            <a:ext cx="52084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CDDC6F-A2D4-41DD-A80B-AA28F3492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3F22D-F48A-4BF7-B6DB-414D85835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1A0D16-440C-4274-AE46-7F14FE9E2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CD8A77-62FA-4DAC-8B9B-CCCCB553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BBB987-928D-415C-B220-C5381F7F9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1D1104-DF7C-4B86-A7E5-D71860D9A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262B75-B22A-414F-AC3B-9878E03BA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EE5E7E-BBBB-48CF-8516-86BE4F5E4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5AE0EB-870C-4C7D-8924-7E081BFA2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302-6330-496B-9FF6-3706086D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FB3-B6A9-4559-8CED-6E939F5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9E1-F30D-45D6-9FDD-B58B0F3D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256-50D2-46B1-A198-C8AAB2D8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4AD-A840-4AF6-91BC-90761DA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6FA-3721-4F7E-93CD-9EB10C01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438-B80F-40D4-AA16-B6855E1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88A-2039-48F0-9C44-4855BD98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97C-2BC0-489F-BA72-81CEB121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3A5-D43A-45F3-A2E8-DBF8E9B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C23-0B14-4064-89FD-32DDDAA8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313-69CD-4F10-8119-557CDE75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F658-1752-4430-8ED7-37FFFFC0887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D889-8853-4A89-B5C3-60794A8E83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40"/>
          <p:cNvSpPr/>
          <p:nvPr/>
        </p:nvSpPr>
        <p:spPr>
          <a:xfrm flipV="1">
            <a:off x="0" y="837720"/>
            <a:ext cx="9016920" cy="77760"/>
          </a:xfrm>
          <a:prstGeom prst="pie">
            <a:avLst/>
          </a:pr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1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3" name="Oval 42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3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4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S 405G: Introduction to Database Systems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59A-003A-4F0A-B0EB-465A4CDF5A4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5E08-107C-41C3-AA22-74B522290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e and Continuous Attribu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only a finite or countablely infinite set of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zip codes, counts, or the set of words in a collection of docu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represented as integer variable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e: binary attributes are a special case of discrete attribut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real numbers as attribute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temperature, height, or weight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ctically, real values can only be measured and represented using a finite number of dig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inuous attributes are typically represented as floating-point variabl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547-78BB-48F9-9A71-7EC9CF27137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9E0-7C56-47A0-B09C-BEBA0766DA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d vs Unstructure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n a relational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aphs, trees, sequen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-structured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age, 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21E3-6DCC-4BAF-90C6-9B261BB0FB4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AD44-485A-43C8-9123-5FB682984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3240" y="266400"/>
            <a:ext cx="8583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Characteristics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1360" y="1131840"/>
            <a:ext cx="813744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se of Dimension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presence cou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5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tterns depend on the sca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2086-936E-40AA-936B-F50A98D6F5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5F6-6EC1-40A6-85A3-40F3F76B54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Dat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hat consists of a collection of records, each of which consists of a fixed set of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2219400" y="2514600"/>
          <a:ext cx="341928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9400" y="2514600"/>
                    <a:ext cx="341928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28B3-9928-4533-9A15-D4AF6B5C67C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9CA2-946E-4B25-9E81-06E39AB4E0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atri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1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objects have the same fixed set of numeric attributes, then the data objects can be thought of as points in a multi-dimensional space, where each dimension represents a distinct 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data set can be represented by an m by n matrix, where there are m rows, one for each object, and n columns, one for each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001880" y="4033800"/>
          <a:ext cx="670716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4033800"/>
                    <a:ext cx="67071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504-6E0C-4642-8635-AE14252F8C1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3FE-4C7F-417A-8042-61F1621DE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ocument becomes a `term' vect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erm is a component (attribute) of the vecto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value of each component is the number of times the corresponding term occurs in the docum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1219320" y="3132000"/>
          <a:ext cx="6705360" cy="31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32000"/>
                    <a:ext cx="6705360" cy="31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2F6D-B9C8-4BE2-9FCA-E71FE47F771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795-A4F8-470D-A70E-9DA7C902ED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type of record data,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ecord (transaction) involves a set of item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consider a grocery store.  The set of products purchased by a customer during one shopping trip constitute a transaction, while the individual products that were purchased are the i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1743120" y="3695760"/>
          <a:ext cx="4495680" cy="235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3695760"/>
                    <a:ext cx="44956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E62C-3D04-4738-BB3D-C3A4916A0B7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0A00-CF0C-4B4C-9DD5-1AEE7C2FB8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Qual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inds of data quality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detect problems with the dat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an we do about these problem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data quality probl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ise and outli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ssing and duplicated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F7DD-D272-4D65-B521-215CCD174C6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B23C-3172-4D86-B709-38A8B9EBD8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refers to modification of origina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distortion of a person’s voice when talking on a poor phone and “snow” on television scre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6250" t="0" r="0" b="0"/>
          <a:stretch/>
        </p:blipFill>
        <p:spPr>
          <a:xfrm>
            <a:off x="609480" y="2508120"/>
            <a:ext cx="4103640" cy="3283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8394" t="0" r="6250" b="0"/>
          <a:stretch/>
        </p:blipFill>
        <p:spPr>
          <a:xfrm>
            <a:off x="4719600" y="2514600"/>
            <a:ext cx="3738600" cy="3284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1676520" y="59436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181480" y="59436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 + Noi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0712-B7F9-4205-9608-83CB9F5B738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CB4-DF50-489D-9533-12026FA3EE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Data to a New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6160" y="990720"/>
            <a:ext cx="8394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676520" y="36576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717560" y="59850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rcRect l="0" t="0" r="8295" b="0"/>
          <a:stretch/>
        </p:blipFill>
        <p:spPr>
          <a:xfrm>
            <a:off x="5791320" y="2362320"/>
            <a:ext cx="3352680" cy="2741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2"/>
          <a:srcRect l="6257" t="0" r="0" b="0"/>
          <a:stretch/>
        </p:blipFill>
        <p:spPr>
          <a:xfrm>
            <a:off x="0" y="2362320"/>
            <a:ext cx="3427560" cy="2741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"/>
          <p:cNvPicPr/>
          <p:nvPr/>
        </p:nvPicPr>
        <p:blipFill>
          <a:blip r:embed="rId3"/>
          <a:srcRect l="8337" t="0" r="6207" b="0"/>
          <a:stretch/>
        </p:blipFill>
        <p:spPr>
          <a:xfrm>
            <a:off x="3048120" y="2362320"/>
            <a:ext cx="3124080" cy="2741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"/>
          <p:cNvSpPr/>
          <p:nvPr/>
        </p:nvSpPr>
        <p:spPr>
          <a:xfrm>
            <a:off x="685800" y="5410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3429000" y="54864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ine Waves + Noi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6324480" y="54864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298440" y="1143000"/>
            <a:ext cx="8394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5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ier trans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5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t transfor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70CF-1D57-4681-AED9-8030188619F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3707-2E36-4D53-A73E-BCC0476380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27160" y="289080"/>
            <a:ext cx="6642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What Is Data Min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 (knowledge discovery from da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ction of interesting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n-trivial,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implicit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eviously unknown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otentially useful)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atterns or knowledge from huge amount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class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dict the value of unsee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Grouping similar objects into grou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6007-8939-4FAE-88EC-32ED776DAA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D672-317B-4194-8D4B-19EDB7EE24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"/>
          <p:cNvGrpSpPr/>
          <p:nvPr/>
        </p:nvGrpSpPr>
        <p:grpSpPr>
          <a:xfrm>
            <a:off x="2527200" y="1976400"/>
            <a:ext cx="4268520" cy="3504960"/>
            <a:chOff x="2527200" y="1976400"/>
            <a:chExt cx="4268520" cy="3504960"/>
          </a:xfrm>
        </p:grpSpPr>
        <p:pic>
          <p:nvPicPr>
            <p:cNvPr id="247" name="Picture 3" descr=""/>
            <p:cNvPicPr/>
            <p:nvPr/>
          </p:nvPicPr>
          <p:blipFill>
            <a:blip r:embed="rId1"/>
            <a:stretch/>
          </p:blipFill>
          <p:spPr>
            <a:xfrm>
              <a:off x="2527200" y="1976400"/>
              <a:ext cx="426852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Oval 4"/>
            <p:cNvSpPr/>
            <p:nvPr/>
          </p:nvSpPr>
          <p:spPr>
            <a:xfrm>
              <a:off x="2765520" y="2936880"/>
              <a:ext cx="173520" cy="1573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"/>
            <p:cNvSpPr/>
            <p:nvPr/>
          </p:nvSpPr>
          <p:spPr>
            <a:xfrm>
              <a:off x="3050640" y="342936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6496560" y="4640760"/>
              <a:ext cx="173880" cy="1591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3883320" y="4764240"/>
              <a:ext cx="173520" cy="15696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5146560" y="3144960"/>
              <a:ext cx="387720" cy="44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3012120" y="3234240"/>
              <a:ext cx="38808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3680" y="1072800"/>
            <a:ext cx="8364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56680" indent="-256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ers are data objects with characteristics that are considerably different than most of the other data objects in the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erson’s outlier can be another one’s treasure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BBFF-15FC-4D7D-B9B3-401CFE6B9D0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96D-0745-4630-880A-4F7905FAF6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ng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for miss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is not collecte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.g., people decline to give their age and weigh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may not be applicable to all case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e.g., annual income is not applicable to childre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missin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iminate Data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imate Missing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gnore the Missing Value During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lace with all possible values (weighted by their probabilit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50E-95B4-4A28-8E8E-D4428E00103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EC3-4090-431E-A222-A59E57B5C4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t may include data objects that are duplicates, or almost duplicates of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jor issue when merging data from heterogeous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person with multiple email addr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cess of dealing with duplicate data iss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561-6810-43E0-9525-BE15BBBD67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60F5-C12C-4085-8899-8128E0912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A: Exploratory Data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 pl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E9B3-5F38-4E4C-B186-DE1DCD2E75A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DB42-D696-432C-B11C-CA11EF362A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tion Techniques: Hist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ually shows the distribution of values of a singl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e the values into bins and show a bar plot of the number of objects in each bi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eight of each bar indicates the number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pe of histogram depends on the number of b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etal Wid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 and 20 bins, respectivel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rcRect l="2281" t="0" r="0" b="3260"/>
          <a:stretch/>
        </p:blipFill>
        <p:spPr>
          <a:xfrm>
            <a:off x="762120" y="3962520"/>
            <a:ext cx="3268440" cy="220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rcRect l="2281" t="0" r="0" b="3260"/>
          <a:stretch/>
        </p:blipFill>
        <p:spPr>
          <a:xfrm>
            <a:off x="4495680" y="3962520"/>
            <a:ext cx="3268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45FA-B23D-46B3-9FC3-0C8CF0F9C0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19FC-8E2D-4B54-A6A9-1388A94B8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990720" y="2517840"/>
            <a:ext cx="5657760" cy="38829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Dimensional Hist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0760" y="1066320"/>
            <a:ext cx="8427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e joint distribution of the values of two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petal width and petal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does this tell u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02D0-AE16-4DC6-B4E5-3071B9FB407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00A4-4D11-4077-AF73-548309B242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tion Techniques: Box Plo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0760" y="1143000"/>
            <a:ext cx="8427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vented by J. Tu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other way of displaying the distribution of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llowing figure shows the basic part of a box pl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2819520" y="2944800"/>
            <a:ext cx="2514240" cy="3227040"/>
            <a:chOff x="2819520" y="2944800"/>
            <a:chExt cx="2514240" cy="3227040"/>
          </a:xfrm>
        </p:grpSpPr>
        <p:grpSp>
          <p:nvGrpSpPr>
            <p:cNvPr id="284" name="Group 5"/>
            <p:cNvGrpSpPr/>
            <p:nvPr/>
          </p:nvGrpSpPr>
          <p:grpSpPr>
            <a:xfrm>
              <a:off x="2819520" y="3074760"/>
              <a:ext cx="644400" cy="3097080"/>
              <a:chOff x="2819520" y="3074760"/>
              <a:chExt cx="644400" cy="3097080"/>
            </a:xfrm>
          </p:grpSpPr>
          <p:sp>
            <p:nvSpPr>
              <p:cNvPr id="285" name="Line 6"/>
              <p:cNvSpPr/>
              <p:nvPr/>
            </p:nvSpPr>
            <p:spPr>
              <a:xfrm flipV="1">
                <a:off x="3145680" y="3612600"/>
                <a:ext cx="720" cy="888480"/>
              </a:xfrm>
              <a:prstGeom prst="line">
                <a:avLst/>
              </a:prstGeom>
              <a:ln w="0">
                <a:solidFill>
                  <a:srgbClr val="0000ff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7"/>
              <p:cNvSpPr/>
              <p:nvPr/>
            </p:nvSpPr>
            <p:spPr>
              <a:xfrm flipV="1">
                <a:off x="3145680" y="5128560"/>
                <a:ext cx="720" cy="749880"/>
              </a:xfrm>
              <a:prstGeom prst="line">
                <a:avLst/>
              </a:prstGeom>
              <a:ln w="0">
                <a:solidFill>
                  <a:srgbClr val="0000ff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"/>
              <p:cNvSpPr/>
              <p:nvPr/>
            </p:nvSpPr>
            <p:spPr>
              <a:xfrm>
                <a:off x="2982600" y="5878800"/>
                <a:ext cx="317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9"/>
              <p:cNvSpPr/>
              <p:nvPr/>
            </p:nvSpPr>
            <p:spPr>
              <a:xfrm>
                <a:off x="2982600" y="3612600"/>
                <a:ext cx="3178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0"/>
              <p:cNvSpPr/>
              <p:nvPr/>
            </p:nvSpPr>
            <p:spPr>
              <a:xfrm>
                <a:off x="2819520" y="4501080"/>
                <a:ext cx="644400" cy="627840"/>
              </a:xfrm>
              <a:prstGeom prst="rect">
                <a:avLst/>
              </a:pr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1"/>
              <p:cNvSpPr/>
              <p:nvPr/>
            </p:nvSpPr>
            <p:spPr>
              <a:xfrm>
                <a:off x="2819520" y="4876200"/>
                <a:ext cx="64440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2"/>
              <p:cNvSpPr/>
              <p:nvPr/>
            </p:nvSpPr>
            <p:spPr>
              <a:xfrm>
                <a:off x="3105000" y="310788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3"/>
              <p:cNvSpPr/>
              <p:nvPr/>
            </p:nvSpPr>
            <p:spPr>
              <a:xfrm>
                <a:off x="3145680" y="3074760"/>
                <a:ext cx="720" cy="65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4"/>
              <p:cNvSpPr/>
              <p:nvPr/>
            </p:nvSpPr>
            <p:spPr>
              <a:xfrm>
                <a:off x="3105000" y="3482280"/>
                <a:ext cx="72720" cy="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5"/>
              <p:cNvSpPr/>
              <p:nvPr/>
            </p:nvSpPr>
            <p:spPr>
              <a:xfrm>
                <a:off x="3145680" y="3449880"/>
                <a:ext cx="720" cy="72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6"/>
              <p:cNvSpPr/>
              <p:nvPr/>
            </p:nvSpPr>
            <p:spPr>
              <a:xfrm>
                <a:off x="3105000" y="336060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7"/>
              <p:cNvSpPr/>
              <p:nvPr/>
            </p:nvSpPr>
            <p:spPr>
              <a:xfrm>
                <a:off x="3145680" y="3327480"/>
                <a:ext cx="720" cy="65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8"/>
              <p:cNvSpPr/>
              <p:nvPr/>
            </p:nvSpPr>
            <p:spPr>
              <a:xfrm>
                <a:off x="3105000" y="6139080"/>
                <a:ext cx="72720" cy="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9"/>
              <p:cNvSpPr/>
              <p:nvPr/>
            </p:nvSpPr>
            <p:spPr>
              <a:xfrm>
                <a:off x="3145680" y="6106680"/>
                <a:ext cx="720" cy="65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3619440" y="2944800"/>
              <a:ext cx="1143000" cy="228600"/>
              <a:chOff x="3619440" y="2944800"/>
              <a:chExt cx="1143000" cy="22860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3619440" y="3086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2"/>
              <p:cNvSpPr/>
              <p:nvPr/>
            </p:nvSpPr>
            <p:spPr>
              <a:xfrm>
                <a:off x="4076640" y="2944800"/>
                <a:ext cx="685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utlier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3"/>
            <p:cNvGrpSpPr/>
            <p:nvPr/>
          </p:nvGrpSpPr>
          <p:grpSpPr>
            <a:xfrm>
              <a:off x="3619440" y="5715000"/>
              <a:ext cx="1714320" cy="342720"/>
              <a:chOff x="3619440" y="5715000"/>
              <a:chExt cx="1714320" cy="342720"/>
            </a:xfrm>
          </p:grpSpPr>
          <p:sp>
            <p:nvSpPr>
              <p:cNvPr id="303" name="Line 24"/>
              <p:cNvSpPr/>
              <p:nvPr/>
            </p:nvSpPr>
            <p:spPr>
              <a:xfrm>
                <a:off x="3619440" y="5856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5"/>
              <p:cNvSpPr/>
              <p:nvPr/>
            </p:nvSpPr>
            <p:spPr>
              <a:xfrm>
                <a:off x="4076640" y="57150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26"/>
            <p:cNvGrpSpPr/>
            <p:nvPr/>
          </p:nvGrpSpPr>
          <p:grpSpPr>
            <a:xfrm>
              <a:off x="3619440" y="5029200"/>
              <a:ext cx="1714320" cy="342720"/>
              <a:chOff x="3619440" y="5029200"/>
              <a:chExt cx="1714320" cy="342720"/>
            </a:xfrm>
          </p:grpSpPr>
          <p:sp>
            <p:nvSpPr>
              <p:cNvPr id="306" name="Line 27"/>
              <p:cNvSpPr/>
              <p:nvPr/>
            </p:nvSpPr>
            <p:spPr>
              <a:xfrm>
                <a:off x="3619440" y="5170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8"/>
              <p:cNvSpPr/>
              <p:nvPr/>
            </p:nvSpPr>
            <p:spPr>
              <a:xfrm>
                <a:off x="4076640" y="50292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9"/>
            <p:cNvGrpSpPr/>
            <p:nvPr/>
          </p:nvGrpSpPr>
          <p:grpSpPr>
            <a:xfrm>
              <a:off x="3619440" y="4343400"/>
              <a:ext cx="1714320" cy="342720"/>
              <a:chOff x="3619440" y="4343400"/>
              <a:chExt cx="1714320" cy="342720"/>
            </a:xfrm>
          </p:grpSpPr>
          <p:sp>
            <p:nvSpPr>
              <p:cNvPr id="309" name="Line 30"/>
              <p:cNvSpPr/>
              <p:nvPr/>
            </p:nvSpPr>
            <p:spPr>
              <a:xfrm>
                <a:off x="3619440" y="4484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31"/>
              <p:cNvSpPr/>
              <p:nvPr/>
            </p:nvSpPr>
            <p:spPr>
              <a:xfrm>
                <a:off x="4076640" y="434340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2"/>
            <p:cNvGrpSpPr/>
            <p:nvPr/>
          </p:nvGrpSpPr>
          <p:grpSpPr>
            <a:xfrm>
              <a:off x="3619440" y="4754880"/>
              <a:ext cx="1714320" cy="342720"/>
              <a:chOff x="3619440" y="4754880"/>
              <a:chExt cx="1714320" cy="342720"/>
            </a:xfrm>
          </p:grpSpPr>
          <p:sp>
            <p:nvSpPr>
              <p:cNvPr id="312" name="Line 33"/>
              <p:cNvSpPr/>
              <p:nvPr/>
            </p:nvSpPr>
            <p:spPr>
              <a:xfrm>
                <a:off x="3619440" y="489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34"/>
              <p:cNvSpPr/>
              <p:nvPr/>
            </p:nvSpPr>
            <p:spPr>
              <a:xfrm>
                <a:off x="4076640" y="475488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5"/>
            <p:cNvGrpSpPr/>
            <p:nvPr/>
          </p:nvGrpSpPr>
          <p:grpSpPr>
            <a:xfrm>
              <a:off x="3619440" y="3493080"/>
              <a:ext cx="1714320" cy="342720"/>
              <a:chOff x="3619440" y="3493080"/>
              <a:chExt cx="1714320" cy="342720"/>
            </a:xfrm>
          </p:grpSpPr>
          <p:sp>
            <p:nvSpPr>
              <p:cNvPr id="315" name="Line 36"/>
              <p:cNvSpPr/>
              <p:nvPr/>
            </p:nvSpPr>
            <p:spPr>
              <a:xfrm>
                <a:off x="3619440" y="3634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7"/>
              <p:cNvSpPr/>
              <p:nvPr/>
            </p:nvSpPr>
            <p:spPr>
              <a:xfrm>
                <a:off x="4076640" y="3493080"/>
                <a:ext cx="1257120" cy="3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t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percentil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8E5-88B4-49FD-BB9D-2502CC4721F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AB6B-AD63-4AF9-8EBF-CEDAA98507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6654600" cy="45687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Box Plo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x plots can be used to compar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BF8-50EA-4579-865E-0FA73D0D298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8F5-EC4E-4D76-BFFB-2393B9C6E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rcRect l="0" t="4140" r="0" b="2776"/>
          <a:stretch/>
        </p:blipFill>
        <p:spPr>
          <a:xfrm>
            <a:off x="380880" y="1066680"/>
            <a:ext cx="7989840" cy="51055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Plot Array of Iris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C7F-99D2-4B90-B5C1-254A307A676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7CDA-1314-4E53-9A05-6DA96AD4B4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measures the linear relationship between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ute correlation, we standardize data objects, p and q, and then take their dot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1574640" y="3443400"/>
                <a:ext cx="5511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1650960" y="4357800"/>
                <a:ext cx="5256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1628640" y="5348160"/>
                <a:ext cx="4643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rrelatio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12ED-DAD9-4934-AFF8-DEE073DDEDD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5D99-B1B3-4214-AFD3-506B9A40F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s of Data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and Heterogeneou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wnership and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P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F840-38BA-4035-898F-BBE2C906DC6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863B-7449-436C-85F4-CA18B64069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80360" cy="5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ly Evaluating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457200" y="1143000"/>
          <a:ext cx="77724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77724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4"/>
          <p:cNvSpPr/>
          <p:nvPr/>
        </p:nvSpPr>
        <p:spPr>
          <a:xfrm>
            <a:off x="6858000" y="297180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tter plots showing the similarity from –1 to 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D53-0961-470C-8EA2-250BE49B06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77A-52EA-4C62-99A7-EDCDD115B1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over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ori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94F-9E31-41BB-AF5E-CB91BEBDB39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4EB4-ABB5-48F9-AD0E-C06A1E459E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ociation Rule Mi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transactions, find rules that will predict the occurrence of an item based on the occurrences of other items in th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304920" y="281952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arket-Basket trans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5"/>
          <p:cNvGraphicFramePr/>
          <p:nvPr/>
        </p:nvGraphicFramePr>
        <p:xfrm>
          <a:off x="228600" y="3429000"/>
          <a:ext cx="4343400" cy="25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429000"/>
                    <a:ext cx="434340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Text Box 6"/>
          <p:cNvSpPr/>
          <p:nvPr/>
        </p:nvSpPr>
        <p:spPr>
          <a:xfrm>
            <a:off x="48769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of Association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334120" y="365760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Diaper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Beer}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Milk, Bread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Eggs,Coke}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Beer, Bread}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Milk}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4876920" y="49528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means co-occurrence, not causality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4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1758-BE41-4345-BC12-729E3FBE50C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6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44FE-4B31-4D0B-B7D1-D847FB6A0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 Frequent Items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876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llection of one or more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{Milk, Bread, Diaper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temset that contains 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count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of occurrence of an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{Milk, Bread,Diaper}) =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ransactions that contain an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  s({Milk, Bread, Diaper})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equent Item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temset whose support is greater than or equal to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ns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4"/>
          <p:cNvGraphicFramePr/>
          <p:nvPr/>
        </p:nvGraphicFramePr>
        <p:xfrm>
          <a:off x="5410080" y="2089080"/>
          <a:ext cx="3657600" cy="21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089080"/>
                    <a:ext cx="365760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4C20-7B6C-44EF-A933-E89D6413FEA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69F-A4D7-48CE-ADA3-EEE86AD1E9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 Association R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4784760" y="3657600"/>
            <a:ext cx="3978360" cy="2527200"/>
            <a:chOff x="4784760" y="3657600"/>
            <a:chExt cx="3978360" cy="2527200"/>
          </a:xfrm>
        </p:grpSpPr>
        <p:sp>
          <p:nvSpPr>
            <p:cNvPr id="363" name="Text Box 4"/>
            <p:cNvSpPr/>
            <p:nvPr/>
          </p:nvSpPr>
          <p:spPr>
            <a:xfrm>
              <a:off x="5181480" y="36576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Example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5"/>
                <p:cNvSpPr txBox="1"/>
                <p:nvPr/>
              </p:nvSpPr>
              <p:spPr>
                <a:xfrm>
                  <a:off x="5999040" y="4040280"/>
                  <a:ext cx="276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</m:t>
                          </m:r>
                        </m:e>
                      </m:d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Beer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6"/>
                <p:cNvSpPr txBox="1"/>
                <p:nvPr/>
              </p:nvSpPr>
              <p:spPr>
                <a:xfrm>
                  <a:off x="4857840" y="4648320"/>
                  <a:ext cx="39052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,Bee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t xml:space="preserve">T</m:t>
                          </m:r>
                          <m:r>
                            <m:t xml:space="preserve">|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7"/>
                <p:cNvSpPr txBox="1"/>
                <p:nvPr/>
              </p:nvSpPr>
              <p:spPr>
                <a:xfrm>
                  <a:off x="4784760" y="5486400"/>
                  <a:ext cx="392904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,Diaper,Beer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σ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ilk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iaper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Rectangle 8"/>
          <p:cNvSpPr/>
          <p:nvPr/>
        </p:nvSpPr>
        <p:spPr>
          <a:xfrm>
            <a:off x="304920" y="1066680"/>
            <a:ext cx="48765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ociation R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mplication expression of the form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, where X and Y are item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{Milk, 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{Beer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le Evaluation Metr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ransactions that contain both X and 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dence (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s how often items in 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 in transactions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9"/>
          <p:cNvGraphicFramePr/>
          <p:nvPr/>
        </p:nvGraphicFramePr>
        <p:xfrm>
          <a:off x="5410080" y="1295280"/>
          <a:ext cx="3587760" cy="21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95280"/>
                    <a:ext cx="358776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2DFE-06FF-4089-BA88-8E298E89CD3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3504-CC11-43A8-AD76-EAF6B2B9DF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ng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4267080" y="1219320"/>
            <a:ext cx="47246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ample of Rules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Beer} (s=0.4, c=0.67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iaper} (s=0.4, c=1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Diaper,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} (s=0.4, c=0.6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Be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,Diaper} (s=0.4, c=0.67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Diaper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Milk,Beer} (s=0.4, c=0.5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}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iaper,Beer} (s=0.4, c=0.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304920" y="1523880"/>
          <a:ext cx="3733560" cy="224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373356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 Box 5"/>
          <p:cNvSpPr/>
          <p:nvPr/>
        </p:nvSpPr>
        <p:spPr>
          <a:xfrm>
            <a:off x="380880" y="3886200"/>
            <a:ext cx="79250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bserv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bove rules are binary partitions of the same itemset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Milk, Diaper, Bee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originating from the same itemset have identical support b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an have different conf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we may decouple the support and confidence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4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2A8-770C-4D71-8F88-B41E6FD9CE9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5CFD-6425-41B3-97E5-9F9AD0EB11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440" y="1142640"/>
            <a:ext cx="462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value of pattern {acm}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up(acm)=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pport of pattern {ac}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up(ac)=3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min_sup=3, acm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equ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fidence of the rule: {ac} =&gt; {m}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4909680" y="1414440"/>
            <a:ext cx="3806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 database TD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920" y="1295280"/>
          <a:ext cx="3578040" cy="2610000"/>
        </p:xfrm>
        <a:graphic>
          <a:graphicData uri="http://schemas.openxmlformats.org/drawingml/2006/table">
            <a:tbl>
              <a:tblPr/>
              <a:tblGrid>
                <a:gridCol w="1528560"/>
                <a:gridCol w="2049480"/>
              </a:tblGrid>
              <a:tr h="473040">
                <a:tc>
                  <a:txBody>
                    <a:bodyPr lIns="85680" rIns="8568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ansaction-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tems bough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42732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f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d, g, I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2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b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f, l,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3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b, f, h, j, 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4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b, c, k, s, p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5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f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e, l, p, </a:t>
                      </a: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>
                          <a:solidFill>
                            <a:srgbClr val="868686"/>
                          </a:solidFill>
                          <a:latin typeface="Times New Roman"/>
                        </a:rPr>
                        <a:t>, 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856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2B50-331F-4096-B383-2D45BD047F0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16FE-F967-4588-91E4-3AC78B9D57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ng Association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ep approa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Frequent Itemset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cccc00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ll itemsets whose suppor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ule Gen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cccc00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high confidence rules from each frequent itemset, where each rule is a binary partitioning of a frequent item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 itemset generation is still computationally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2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139-1387-4C3A-8169-83F9F41A713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B9D4-A24A-4819-BACE-D49A348EB3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t Itemset Gen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3"/>
          <p:cNvGraphicFramePr/>
          <p:nvPr/>
        </p:nvGraphicFramePr>
        <p:xfrm>
          <a:off x="304920" y="990720"/>
          <a:ext cx="7034040" cy="53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7034040" cy="53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6248520" y="5257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d items, there are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sible candidate item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52D2-2526-4D50-9340-C8DEDEB2BEB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8424-6CDD-4321-B97F-5DA317AA37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ori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64960" y="116856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evel-wise, candidate-generation-and-test approach (Agrawal &amp; Srikant 199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438120" y="2398680"/>
          <a:ext cx="1523880" cy="1397160"/>
        </p:xfrm>
        <a:graphic>
          <a:graphicData uri="http://schemas.openxmlformats.org/drawingml/2006/table">
            <a:tbl>
              <a:tblPr/>
              <a:tblGrid>
                <a:gridCol w="533520"/>
                <a:gridCol w="99036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c,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 c,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b, c,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Text Box 24"/>
          <p:cNvSpPr/>
          <p:nvPr/>
        </p:nvSpPr>
        <p:spPr>
          <a:xfrm>
            <a:off x="474120" y="3728880"/>
            <a:ext cx="143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_sup=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914560" y="2400480"/>
          <a:ext cx="1524240" cy="1676160"/>
        </p:xfrm>
        <a:graphic>
          <a:graphicData uri="http://schemas.openxmlformats.org/drawingml/2006/table">
            <a:tbl>
              <a:tblPr/>
              <a:tblGrid>
                <a:gridCol w="914400"/>
                <a:gridCol w="60984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0" name="Text Box 48"/>
          <p:cNvSpPr/>
          <p:nvPr/>
        </p:nvSpPr>
        <p:spPr>
          <a:xfrm>
            <a:off x="427320" y="2028960"/>
            <a:ext cx="159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base 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2821680" y="204156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0"/>
          <p:cNvSpPr/>
          <p:nvPr/>
        </p:nvSpPr>
        <p:spPr>
          <a:xfrm>
            <a:off x="2084400" y="312264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1"/>
          <p:cNvSpPr/>
          <p:nvPr/>
        </p:nvSpPr>
        <p:spPr>
          <a:xfrm>
            <a:off x="1966680" y="276552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086440" y="2416320"/>
          <a:ext cx="1523880" cy="143640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Text Box 72"/>
          <p:cNvSpPr/>
          <p:nvPr/>
        </p:nvSpPr>
        <p:spPr>
          <a:xfrm>
            <a:off x="4840200" y="205740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1-item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3"/>
          <p:cNvSpPr/>
          <p:nvPr/>
        </p:nvSpPr>
        <p:spPr>
          <a:xfrm>
            <a:off x="4576680" y="31021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7448400" y="2416320"/>
          <a:ext cx="914400" cy="19555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Text Box 92"/>
          <p:cNvSpPr/>
          <p:nvPr/>
        </p:nvSpPr>
        <p:spPr>
          <a:xfrm>
            <a:off x="7050600" y="205740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3"/>
          <p:cNvSpPr/>
          <p:nvPr/>
        </p:nvSpPr>
        <p:spPr>
          <a:xfrm>
            <a:off x="6775560" y="31273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29320" y="4414680"/>
          <a:ext cx="1523880" cy="195588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</a:tblGrid>
              <a:tr h="27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120"/>
          <p:cNvSpPr/>
          <p:nvPr/>
        </p:nvSpPr>
        <p:spPr>
          <a:xfrm>
            <a:off x="5847840" y="4022640"/>
            <a:ext cx="1203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305840" y="4317840"/>
            <a:ext cx="647640" cy="10922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2"/>
          <p:cNvSpPr/>
          <p:nvPr/>
        </p:nvSpPr>
        <p:spPr>
          <a:xfrm>
            <a:off x="7978680" y="477216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495600" y="4430880"/>
          <a:ext cx="1524240" cy="1396800"/>
        </p:xfrm>
        <a:graphic>
          <a:graphicData uri="http://schemas.openxmlformats.org/drawingml/2006/table">
            <a:tbl>
              <a:tblPr/>
              <a:tblGrid>
                <a:gridCol w="914400"/>
                <a:gridCol w="60984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Text Box 143"/>
          <p:cNvSpPr/>
          <p:nvPr/>
        </p:nvSpPr>
        <p:spPr>
          <a:xfrm>
            <a:off x="3284280" y="403704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2-item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4"/>
          <p:cNvSpPr/>
          <p:nvPr/>
        </p:nvSpPr>
        <p:spPr>
          <a:xfrm>
            <a:off x="5095800" y="51800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476360" y="4430880"/>
          <a:ext cx="914400" cy="55872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Text Box 153"/>
          <p:cNvSpPr/>
          <p:nvPr/>
        </p:nvSpPr>
        <p:spPr>
          <a:xfrm>
            <a:off x="1154520" y="4037040"/>
            <a:ext cx="1643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candid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54"/>
          <p:cNvSpPr/>
          <p:nvPr/>
        </p:nvSpPr>
        <p:spPr>
          <a:xfrm>
            <a:off x="2658960" y="4724280"/>
            <a:ext cx="684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133640" y="5572080"/>
          <a:ext cx="1525320" cy="558720"/>
        </p:xfrm>
        <a:graphic>
          <a:graphicData uri="http://schemas.openxmlformats.org/drawingml/2006/table">
            <a:tbl>
              <a:tblPr/>
              <a:tblGrid>
                <a:gridCol w="915840"/>
                <a:gridCol w="609480"/>
              </a:tblGrid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s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Text Box 166"/>
          <p:cNvSpPr/>
          <p:nvPr/>
        </p:nvSpPr>
        <p:spPr>
          <a:xfrm>
            <a:off x="922320" y="5180040"/>
            <a:ext cx="195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 3-item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7"/>
          <p:cNvSpPr/>
          <p:nvPr/>
        </p:nvSpPr>
        <p:spPr>
          <a:xfrm>
            <a:off x="676440" y="4724280"/>
            <a:ext cx="533160" cy="1067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68"/>
          <p:cNvSpPr/>
          <p:nvPr/>
        </p:nvSpPr>
        <p:spPr>
          <a:xfrm>
            <a:off x="26280" y="509256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6D92-6492-4FA7-8939-6B8BD5A09F6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E4E-875D-4C27-A175-0E46302504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the Nature of Your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: nominal, ordinal, interval, rat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CD4F-F172-40D2-96AF-8D4E94DD7E5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255-ED62-4CE9-9E35-EE4CAE238F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ad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mperature (degree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is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l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ssing/duplicat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E78D-4C40-4945-978F-1736A2435E0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2DE8-DC05-493A-9DE8-962ECB95F2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ools for exploratory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ox plo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atter pl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ule: L =&gt; R has two parts: L, the left hand item set and R the right hand item s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ule is measured by two parameter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B930-F0EF-4B44-BA15-2E17B746EB7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04B8-2B26-4E59-8884-44506931C5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Dat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040" y="1152360"/>
            <a:ext cx="4114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lection of data objects and their attrib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attribute is a property or characteristic of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: eye color of a person, temperatur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is also known as variable, field, characteristic, or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llection of attributes describe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is also known as record, point, case, sample, entity, or in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4186080" y="1176480"/>
            <a:ext cx="4654440" cy="4428360"/>
            <a:chOff x="4186080" y="1176480"/>
            <a:chExt cx="4654440" cy="4428360"/>
          </a:xfrm>
        </p:grpSpPr>
        <p:grpSp>
          <p:nvGrpSpPr>
            <p:cNvPr id="109" name="Group 5"/>
            <p:cNvGrpSpPr/>
            <p:nvPr/>
          </p:nvGrpSpPr>
          <p:grpSpPr>
            <a:xfrm>
              <a:off x="5544360" y="1676520"/>
              <a:ext cx="3296160" cy="3928320"/>
              <a:chOff x="5544360" y="1676520"/>
              <a:chExt cx="3296160" cy="3928320"/>
            </a:xfrm>
          </p:grpSpPr>
          <p:graphicFrame>
            <p:nvGraphicFramePr>
              <p:cNvPr id="110" name="Object 6"/>
              <p:cNvGraphicFramePr/>
              <p:nvPr/>
            </p:nvGraphicFramePr>
            <p:xfrm>
              <a:off x="5544360" y="2084400"/>
              <a:ext cx="3296160" cy="352044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11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544360" y="2084400"/>
                        <a:ext cx="3296160" cy="352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AutoShape 7"/>
              <p:cNvSpPr/>
              <p:nvPr/>
            </p:nvSpPr>
            <p:spPr>
              <a:xfrm rot="5400000">
                <a:off x="6940080" y="389160"/>
                <a:ext cx="357120" cy="2931120"/>
              </a:xfrm>
              <a:custGeom>
                <a:avLst/>
                <a:gdLst>
                  <a:gd name="textAreaLeft" fmla="*/ 228240 w 357120"/>
                  <a:gd name="textAreaRight" fmla="*/ 357480 w 357120"/>
                  <a:gd name="textAreaTop" fmla="*/ 76320 h 2931120"/>
                  <a:gd name="textAreaBottom" fmla="*/ 2854800 h 2931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8"/>
            <p:cNvSpPr/>
            <p:nvPr/>
          </p:nvSpPr>
          <p:spPr>
            <a:xfrm>
              <a:off x="6330960" y="1176480"/>
              <a:ext cx="135828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Attributes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5186880" y="2533680"/>
              <a:ext cx="357480" cy="2928600"/>
            </a:xfrm>
            <a:custGeom>
              <a:avLst/>
              <a:gdLst>
                <a:gd name="textAreaLeft" fmla="*/ 228600 w 357480"/>
                <a:gd name="textAreaRight" fmla="*/ 357840 w 357480"/>
                <a:gd name="textAreaTop" fmla="*/ 76320 h 2928600"/>
                <a:gd name="textAreaBottom" fmla="*/ 2852280 h 29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4186080" y="3819600"/>
              <a:ext cx="107244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Objects</a:t>
              </a:r>
              <a:endParaRPr b="1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00B0-C74D-46E4-B316-BB6F37F4409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18C-05F1-41A7-BD40-8FA04D658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0760" y="1142640"/>
            <a:ext cx="8427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numbers or symbols assigned to an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ion between attributes and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attribute can be mapped to different attribute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height can be measured in feet or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t attributes can be mapped to the same set of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Attribute values for ID and age ar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properties of attribute values can b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 has no limit but age has a maximum and minimum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BC8C-9587-4915-BEE3-0B6B3BC6D8F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4DE-F766-4966-BB64-32DD37F8CC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different types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Nom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ID numbers, eye color, zip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Ordi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rankings (e.g., taste of potato chips on a scale from 1-10), grades, height in {tall, medium, shor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terv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calendar dates, temperatures in Celsius or Fahrenh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342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at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9384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temperature in Kelvin, length, time, cou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57CF-0BC4-4EAC-824E-0EE3072F83A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13EB-BC50-4769-8659-FF73079F01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 of Attribute Valu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of an attribute depends on which of the following properties it posse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inctness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lt;  &gt;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: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+ 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ltiplication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* /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minal attribute: distinc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inal attribute: distinctness &amp;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val attribute: distinctness, order &amp; add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tio attribute: all 4 proper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D2D3-9714-4004-A30B-D3013A3BB0D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EF6-E407-4060-ACDA-C3A4DC684E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76"/>
          <p:cNvGrpSpPr/>
          <p:nvPr/>
        </p:nvGrpSpPr>
        <p:grpSpPr>
          <a:xfrm>
            <a:off x="152280" y="1143000"/>
            <a:ext cx="8686080" cy="5000760"/>
            <a:chOff x="152280" y="1143000"/>
            <a:chExt cx="8686080" cy="5000760"/>
          </a:xfrm>
        </p:grpSpPr>
        <p:grpSp>
          <p:nvGrpSpPr>
            <p:cNvPr id="131" name="Group 4"/>
            <p:cNvGrpSpPr/>
            <p:nvPr/>
          </p:nvGrpSpPr>
          <p:grpSpPr>
            <a:xfrm>
              <a:off x="152280" y="1143000"/>
              <a:ext cx="1955880" cy="565200"/>
              <a:chOff x="152280" y="1143000"/>
              <a:chExt cx="1955880" cy="56520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152280" y="1143000"/>
                <a:ext cx="195588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6"/>
              <p:cNvGrpSpPr/>
              <p:nvPr/>
            </p:nvGrpSpPr>
            <p:grpSpPr>
              <a:xfrm>
                <a:off x="152280" y="1143000"/>
                <a:ext cx="1955520" cy="565200"/>
                <a:chOff x="152280" y="1143000"/>
                <a:chExt cx="1955520" cy="565200"/>
              </a:xfrm>
            </p:grpSpPr>
            <p:sp>
              <p:nvSpPr>
                <p:cNvPr id="134" name="Rectangle 7"/>
                <p:cNvSpPr/>
                <p:nvPr/>
              </p:nvSpPr>
              <p:spPr>
                <a:xfrm>
                  <a:off x="275400" y="1143000"/>
                  <a:ext cx="170964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tribute Type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8"/>
                <p:cNvSpPr/>
                <p:nvPr/>
              </p:nvSpPr>
              <p:spPr>
                <a:xfrm>
                  <a:off x="152280" y="1143000"/>
                  <a:ext cx="195552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Group 75"/>
            <p:cNvGrpSpPr/>
            <p:nvPr/>
          </p:nvGrpSpPr>
          <p:grpSpPr>
            <a:xfrm>
              <a:off x="2108520" y="1143000"/>
              <a:ext cx="4013280" cy="565200"/>
              <a:chOff x="2108520" y="1143000"/>
              <a:chExt cx="4013280" cy="565200"/>
            </a:xfrm>
          </p:grpSpPr>
          <p:sp>
            <p:nvSpPr>
              <p:cNvPr id="137" name="Rectangle 10"/>
              <p:cNvSpPr/>
              <p:nvPr/>
            </p:nvSpPr>
            <p:spPr>
              <a:xfrm>
                <a:off x="2108520" y="1143000"/>
                <a:ext cx="401328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11"/>
              <p:cNvGrpSpPr/>
              <p:nvPr/>
            </p:nvGrpSpPr>
            <p:grpSpPr>
              <a:xfrm>
                <a:off x="2108520" y="1143000"/>
                <a:ext cx="4012920" cy="565200"/>
                <a:chOff x="2108520" y="1143000"/>
                <a:chExt cx="4012920" cy="565200"/>
              </a:xfrm>
            </p:grpSpPr>
            <p:sp>
              <p:nvSpPr>
                <p:cNvPr id="139" name="Rectangle 12"/>
                <p:cNvSpPr/>
                <p:nvPr/>
              </p:nvSpPr>
              <p:spPr>
                <a:xfrm>
                  <a:off x="2231640" y="1143000"/>
                  <a:ext cx="376632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3"/>
                <p:cNvSpPr/>
                <p:nvPr/>
              </p:nvSpPr>
              <p:spPr>
                <a:xfrm>
                  <a:off x="2108520" y="1143000"/>
                  <a:ext cx="401292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Group 14"/>
            <p:cNvGrpSpPr/>
            <p:nvPr/>
          </p:nvGrpSpPr>
          <p:grpSpPr>
            <a:xfrm>
              <a:off x="6122520" y="1143000"/>
              <a:ext cx="2715840" cy="565200"/>
              <a:chOff x="6122520" y="1143000"/>
              <a:chExt cx="2715840" cy="565200"/>
            </a:xfrm>
          </p:grpSpPr>
          <p:sp>
            <p:nvSpPr>
              <p:cNvPr id="142" name="Rectangle 15"/>
              <p:cNvSpPr/>
              <p:nvPr/>
            </p:nvSpPr>
            <p:spPr>
              <a:xfrm>
                <a:off x="6122520" y="1143000"/>
                <a:ext cx="2715840" cy="5652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16"/>
              <p:cNvGrpSpPr/>
              <p:nvPr/>
            </p:nvGrpSpPr>
            <p:grpSpPr>
              <a:xfrm>
                <a:off x="6122520" y="1143000"/>
                <a:ext cx="2715480" cy="565200"/>
                <a:chOff x="6122520" y="1143000"/>
                <a:chExt cx="2715480" cy="565200"/>
              </a:xfrm>
            </p:grpSpPr>
            <p:sp>
              <p:nvSpPr>
                <p:cNvPr id="144" name="Rectangle 17"/>
                <p:cNvSpPr/>
                <p:nvPr/>
              </p:nvSpPr>
              <p:spPr>
                <a:xfrm>
                  <a:off x="6245640" y="1143000"/>
                  <a:ext cx="2469600" cy="5652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xamples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"/>
                <p:cNvSpPr/>
                <p:nvPr/>
              </p:nvSpPr>
              <p:spPr>
                <a:xfrm>
                  <a:off x="6122520" y="1143000"/>
                  <a:ext cx="2715480" cy="56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24"/>
            <p:cNvGrpSpPr/>
            <p:nvPr/>
          </p:nvGrpSpPr>
          <p:grpSpPr>
            <a:xfrm>
              <a:off x="152280" y="1708200"/>
              <a:ext cx="1955880" cy="1073160"/>
              <a:chOff x="152280" y="1708200"/>
              <a:chExt cx="1955880" cy="1073160"/>
            </a:xfrm>
          </p:grpSpPr>
          <p:sp>
            <p:nvSpPr>
              <p:cNvPr id="147" name="Rectangle 25"/>
              <p:cNvSpPr/>
              <p:nvPr/>
            </p:nvSpPr>
            <p:spPr>
              <a:xfrm>
                <a:off x="275400" y="1708200"/>
                <a:ext cx="171000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ominal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6"/>
              <p:cNvSpPr/>
              <p:nvPr/>
            </p:nvSpPr>
            <p:spPr>
              <a:xfrm>
                <a:off x="152280" y="1708200"/>
                <a:ext cx="195588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7"/>
            <p:cNvGrpSpPr/>
            <p:nvPr/>
          </p:nvGrpSpPr>
          <p:grpSpPr>
            <a:xfrm>
              <a:off x="2108520" y="1708200"/>
              <a:ext cx="4013280" cy="1073160"/>
              <a:chOff x="2108520" y="1708200"/>
              <a:chExt cx="4013280" cy="1073160"/>
            </a:xfrm>
          </p:grpSpPr>
          <p:sp>
            <p:nvSpPr>
              <p:cNvPr id="150" name="Rectangle 28"/>
              <p:cNvSpPr/>
              <p:nvPr/>
            </p:nvSpPr>
            <p:spPr>
              <a:xfrm>
                <a:off x="2231640" y="1708200"/>
                <a:ext cx="37666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he values of a nominal attribute are just different names, i.e., nominal attributes provide only enough information to distinguish one object from another. (=,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)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9"/>
              <p:cNvSpPr/>
              <p:nvPr/>
            </p:nvSpPr>
            <p:spPr>
              <a:xfrm>
                <a:off x="2108520" y="1708200"/>
                <a:ext cx="401328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30"/>
            <p:cNvGrpSpPr/>
            <p:nvPr/>
          </p:nvGrpSpPr>
          <p:grpSpPr>
            <a:xfrm>
              <a:off x="6122520" y="1708200"/>
              <a:ext cx="2715840" cy="1073160"/>
              <a:chOff x="6122520" y="1708200"/>
              <a:chExt cx="2715840" cy="1073160"/>
            </a:xfrm>
          </p:grpSpPr>
          <p:sp>
            <p:nvSpPr>
              <p:cNvPr id="153" name="Rectangle 31"/>
              <p:cNvSpPr/>
              <p:nvPr/>
            </p:nvSpPr>
            <p:spPr>
              <a:xfrm>
                <a:off x="6245640" y="1708200"/>
                <a:ext cx="246996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zip codes, employee ID numbers, eye color, sex: {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male, femal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}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2"/>
              <p:cNvSpPr/>
              <p:nvPr/>
            </p:nvSpPr>
            <p:spPr>
              <a:xfrm>
                <a:off x="6122520" y="1708200"/>
                <a:ext cx="2715840" cy="1073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36"/>
            <p:cNvGrpSpPr/>
            <p:nvPr/>
          </p:nvGrpSpPr>
          <p:grpSpPr>
            <a:xfrm>
              <a:off x="152280" y="2781360"/>
              <a:ext cx="1955880" cy="1035000"/>
              <a:chOff x="152280" y="2781360"/>
              <a:chExt cx="1955880" cy="1035000"/>
            </a:xfrm>
          </p:grpSpPr>
          <p:sp>
            <p:nvSpPr>
              <p:cNvPr id="156" name="Rectangle 37"/>
              <p:cNvSpPr/>
              <p:nvPr/>
            </p:nvSpPr>
            <p:spPr>
              <a:xfrm>
                <a:off x="275400" y="2781360"/>
                <a:ext cx="171000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dinal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38"/>
              <p:cNvSpPr/>
              <p:nvPr/>
            </p:nvSpPr>
            <p:spPr>
              <a:xfrm>
                <a:off x="152280" y="2781360"/>
                <a:ext cx="195588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9"/>
            <p:cNvGrpSpPr/>
            <p:nvPr/>
          </p:nvGrpSpPr>
          <p:grpSpPr>
            <a:xfrm>
              <a:off x="2108520" y="2781360"/>
              <a:ext cx="4013280" cy="1035000"/>
              <a:chOff x="2108520" y="2781360"/>
              <a:chExt cx="4013280" cy="1035000"/>
            </a:xfrm>
          </p:grpSpPr>
          <p:sp>
            <p:nvSpPr>
              <p:cNvPr id="159" name="Rectangle 40"/>
              <p:cNvSpPr/>
              <p:nvPr/>
            </p:nvSpPr>
            <p:spPr>
              <a:xfrm>
                <a:off x="2231640" y="2781360"/>
                <a:ext cx="376668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he values of an ordinal attribute provide enough information to order objects. (&lt;, &gt;)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1"/>
              <p:cNvSpPr/>
              <p:nvPr/>
            </p:nvSpPr>
            <p:spPr>
              <a:xfrm>
                <a:off x="2108520" y="2781360"/>
                <a:ext cx="401328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42"/>
            <p:cNvGrpSpPr/>
            <p:nvPr/>
          </p:nvGrpSpPr>
          <p:grpSpPr>
            <a:xfrm>
              <a:off x="6122520" y="2781360"/>
              <a:ext cx="2715840" cy="1035000"/>
              <a:chOff x="6122520" y="2781360"/>
              <a:chExt cx="2715840" cy="1035000"/>
            </a:xfrm>
          </p:grpSpPr>
          <p:sp>
            <p:nvSpPr>
              <p:cNvPr id="162" name="Rectangle 43"/>
              <p:cNvSpPr/>
              <p:nvPr/>
            </p:nvSpPr>
            <p:spPr>
              <a:xfrm>
                <a:off x="6245640" y="2781360"/>
                <a:ext cx="2469960" cy="10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hardness of minerals, {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good, better, be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}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grades, street numbers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44"/>
              <p:cNvSpPr/>
              <p:nvPr/>
            </p:nvSpPr>
            <p:spPr>
              <a:xfrm>
                <a:off x="6122520" y="2781360"/>
                <a:ext cx="2715840" cy="1035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48"/>
            <p:cNvGrpSpPr/>
            <p:nvPr/>
          </p:nvGrpSpPr>
          <p:grpSpPr>
            <a:xfrm>
              <a:off x="152280" y="3816360"/>
              <a:ext cx="1955880" cy="1036800"/>
              <a:chOff x="152280" y="3816360"/>
              <a:chExt cx="1955880" cy="1036800"/>
            </a:xfrm>
          </p:grpSpPr>
          <p:sp>
            <p:nvSpPr>
              <p:cNvPr id="165" name="Rectangle 49"/>
              <p:cNvSpPr/>
              <p:nvPr/>
            </p:nvSpPr>
            <p:spPr>
              <a:xfrm>
                <a:off x="275400" y="3816360"/>
                <a:ext cx="171000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terval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50"/>
              <p:cNvSpPr/>
              <p:nvPr/>
            </p:nvSpPr>
            <p:spPr>
              <a:xfrm>
                <a:off x="152280" y="3816360"/>
                <a:ext cx="195588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51"/>
            <p:cNvGrpSpPr/>
            <p:nvPr/>
          </p:nvGrpSpPr>
          <p:grpSpPr>
            <a:xfrm>
              <a:off x="2108520" y="3816360"/>
              <a:ext cx="4013280" cy="1036800"/>
              <a:chOff x="2108520" y="3816360"/>
              <a:chExt cx="4013280" cy="1036800"/>
            </a:xfrm>
          </p:grpSpPr>
          <p:sp>
            <p:nvSpPr>
              <p:cNvPr id="168" name="Rectangle 52"/>
              <p:cNvSpPr/>
              <p:nvPr/>
            </p:nvSpPr>
            <p:spPr>
              <a:xfrm>
                <a:off x="2231640" y="3816360"/>
                <a:ext cx="376668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For interval attributes, the differences between values are meaningful, i.e., a unit of measurement exists. 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(+, - )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3"/>
              <p:cNvSpPr/>
              <p:nvPr/>
            </p:nvSpPr>
            <p:spPr>
              <a:xfrm>
                <a:off x="2108520" y="3816360"/>
                <a:ext cx="401328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54"/>
            <p:cNvGrpSpPr/>
            <p:nvPr/>
          </p:nvGrpSpPr>
          <p:grpSpPr>
            <a:xfrm>
              <a:off x="6122520" y="3816360"/>
              <a:ext cx="2715840" cy="1036800"/>
              <a:chOff x="6122520" y="3816360"/>
              <a:chExt cx="2715840" cy="1036800"/>
            </a:xfrm>
          </p:grpSpPr>
          <p:sp>
            <p:nvSpPr>
              <p:cNvPr id="171" name="Rectangle 55"/>
              <p:cNvSpPr/>
              <p:nvPr/>
            </p:nvSpPr>
            <p:spPr>
              <a:xfrm>
                <a:off x="6245640" y="3816360"/>
                <a:ext cx="2469960" cy="10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calendar dates, temperature in Celsius or Fahrenhei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56"/>
              <p:cNvSpPr/>
              <p:nvPr/>
            </p:nvSpPr>
            <p:spPr>
              <a:xfrm>
                <a:off x="6122520" y="3816360"/>
                <a:ext cx="2715840" cy="103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60"/>
            <p:cNvGrpSpPr/>
            <p:nvPr/>
          </p:nvGrpSpPr>
          <p:grpSpPr>
            <a:xfrm>
              <a:off x="152280" y="4853160"/>
              <a:ext cx="1955880" cy="1290600"/>
              <a:chOff x="152280" y="4853160"/>
              <a:chExt cx="1955880" cy="1290600"/>
            </a:xfrm>
          </p:grpSpPr>
          <p:sp>
            <p:nvSpPr>
              <p:cNvPr id="174" name="Rectangle 61"/>
              <p:cNvSpPr/>
              <p:nvPr/>
            </p:nvSpPr>
            <p:spPr>
              <a:xfrm>
                <a:off x="275400" y="4853160"/>
                <a:ext cx="171000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atio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62"/>
              <p:cNvSpPr/>
              <p:nvPr/>
            </p:nvSpPr>
            <p:spPr>
              <a:xfrm>
                <a:off x="152280" y="4853160"/>
                <a:ext cx="195588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3"/>
            <p:cNvGrpSpPr/>
            <p:nvPr/>
          </p:nvGrpSpPr>
          <p:grpSpPr>
            <a:xfrm>
              <a:off x="2108520" y="4853160"/>
              <a:ext cx="4013280" cy="1290600"/>
              <a:chOff x="2108520" y="4853160"/>
              <a:chExt cx="4013280" cy="1290600"/>
            </a:xfrm>
          </p:grpSpPr>
          <p:sp>
            <p:nvSpPr>
              <p:cNvPr id="177" name="Rectangle 64"/>
              <p:cNvSpPr/>
              <p:nvPr/>
            </p:nvSpPr>
            <p:spPr>
              <a:xfrm>
                <a:off x="2231640" y="4853160"/>
                <a:ext cx="376668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For ratio variables, both differences and ratios are meaningful. (*, /)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65"/>
              <p:cNvSpPr/>
              <p:nvPr/>
            </p:nvSpPr>
            <p:spPr>
              <a:xfrm>
                <a:off x="2108520" y="4853160"/>
                <a:ext cx="401328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6"/>
            <p:cNvGrpSpPr/>
            <p:nvPr/>
          </p:nvGrpSpPr>
          <p:grpSpPr>
            <a:xfrm>
              <a:off x="6122520" y="4853160"/>
              <a:ext cx="2715840" cy="1290600"/>
              <a:chOff x="6122520" y="4853160"/>
              <a:chExt cx="2715840" cy="1290600"/>
            </a:xfrm>
          </p:grpSpPr>
          <p:sp>
            <p:nvSpPr>
              <p:cNvPr id="180" name="Rectangle 67"/>
              <p:cNvSpPr/>
              <p:nvPr/>
            </p:nvSpPr>
            <p:spPr>
              <a:xfrm>
                <a:off x="6245640" y="4853160"/>
                <a:ext cx="2469960" cy="12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temperature in Kelvin, monetary quantities, counts, age, mass, length, electrical curren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68"/>
              <p:cNvSpPr/>
              <p:nvPr/>
            </p:nvSpPr>
            <p:spPr>
              <a:xfrm>
                <a:off x="6122520" y="4853160"/>
                <a:ext cx="2715840" cy="129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74"/>
          <p:cNvSpPr/>
          <p:nvPr/>
        </p:nvSpPr>
        <p:spPr>
          <a:xfrm>
            <a:off x="1752480" y="304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ies of Attribute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iuj</cp:lastModifiedBy>
  <dcterms:modified xsi:type="dcterms:W3CDTF">2007-11-30T14:09:43Z</dcterms:modified>
  <cp:revision>1116</cp:revision>
  <dc:subject/>
  <dc:title>CS186: Introduction to Database Systems</dc:title>
</cp:coreProperties>
</file>