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7BB432-9491-41A9-B311-BFACB8B52F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555570-100E-4FA3-8BD5-5DFF844AE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007D0C-8124-4148-9C21-80ABD1B2D6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883EE3-A279-4850-B3C2-74497264C1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4508B7-8192-42C0-AFF9-7BC109E255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0407D2-337F-45B6-B6A8-67121C300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DD77FB-7BB5-44BB-BDE1-E7327B0F4A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10805F-03B4-4725-8C55-8EB98257C1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5CE609-EA51-4D7F-BB70-268F43FACE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643EA4-D29D-46AD-884E-ACF379E27F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385EEA-13B4-422A-8A39-86F683649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534B8B-8400-4F18-88EC-1B42834FDB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ACC90D-E402-4593-A3DF-304FEBC406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60CC0E-8B6D-4B8C-A1D3-07128E89F6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9365D1-B97F-46AA-B2DE-54A924105C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DD19C9-0E32-4F24-9302-88F17B0033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9F9320-4E17-4D3A-8FCF-1C986A51D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4BBF4CC-EA22-4987-9807-B804B8C402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FD258B-1D55-4D23-9453-935DB04777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83D486-AC46-42AB-925A-7C78748BD7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00ECB0-D9ED-4047-9A8A-72455D6C94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EFCF41-3FFD-405F-8F4D-D3013BF373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A31653-D876-495C-9F9F-BB91064319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D94D2E-2E43-4679-905E-C29E54EFCC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D57ED8-EC97-4EC5-8FF4-DF39348001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6B3E07-2B14-4477-81D9-7A0F49920D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577F74-F202-41B3-9A80-176664B660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51D945-026A-435A-9891-76C2FDBFB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FF3BAD-C771-45A7-AACC-0A17588006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56B6A9-BC94-4520-BBDE-D56C7417D9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B3F143-E478-444B-AFF4-E467A07BD6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12D5B2-B903-4A85-882E-049B6B6B27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7CA265-0395-4B48-9F21-A8EBBC886A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B74EBF0-1B38-47E2-8A60-1C32C4EF86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41B272-A9E2-484E-B538-4B3E39CAB8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DB4-5ADC-456F-AF28-180D212C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1A7-AB0F-4E92-8390-EF03ECA9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82D-1E17-431B-96A3-ED83E491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C279-9EEC-42BA-9C40-84B26964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133-DCB3-4490-9067-7DBDF61B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AA19-CF0F-4E22-97D0-562F3FC0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D8E6-BDAE-4A91-A3C7-C3331EF9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61A-CF4C-4E08-8663-19F58733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136-F642-4CB0-A38B-03FEA6E8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C122-882F-47ED-AA17-3C5FC607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D9E-DB37-45D8-B56E-D6CE30B4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92A-FDD4-41A9-9249-DABC53C5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7911-C6A3-408D-A33E-C6E0C62E62E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EF9A-5266-4361-973C-31DF472F0A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5237"/>
          <a:stretch/>
        </p:blipFill>
        <p:spPr>
          <a:xfrm>
            <a:off x="304920" y="4875120"/>
            <a:ext cx="3619440" cy="15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ore complicated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s of all course titles that Bart and Lisa are taking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153720" y="4876920"/>
            <a:ext cx="89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Tip: Write the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clause first, then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and then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55800" y="2895480"/>
            <a:ext cx="91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FROM Student sb, Student sl, Enroll eb, Enroll el, Cours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55440" y="3352680"/>
            <a:ext cx="67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WHERE sb.name = ’Bart’ AND sl.name = ’Lis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9880" y="3809880"/>
            <a:ext cx="61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AND eb.SID = sb.SID AND el.SID = sl.S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9880" y="4267080"/>
            <a:ext cx="59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AND eb.CID = c.CID AND el.CID = c.C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55800" y="24382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ELECT c.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D089-A756-4A6F-9FD4-38C9A1EA4F1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48586-D7E8-4FDA-90D3-E886FFEE38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SFW statement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many possible ways of structuring SQL statements, why did the designers choos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large number of queries can be written using only selection, projection, and cross product (or joi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query that uses only these operators can be written in a canonical form: 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…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aptures this canonical fo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8B5-C485-4E5F-A8E2-FC8190F3E5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289AB-0904-4AF0-9191-F736920165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versus bag seman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duplic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 model and algebra use set seman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plicates allow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mber of duplicates is significa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 uses bag semantics by defa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E56B-ADED-456F-ACC6-F232DFB910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DC2BD-967A-467C-BA98-B39B7C157A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versus bag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02800" y="1295280"/>
            <a:ext cx="15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meriGarmnd BT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En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32640" y="20574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En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373392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SI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Enro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2666880"/>
          <a:ext cx="2514600" cy="182592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105520" y="1905120"/>
          <a:ext cx="685800" cy="146052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181480" y="4572000"/>
          <a:ext cx="685800" cy="1825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DA1-B83C-4CE5-9B06-98A686B9214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DEB4F-DDA5-416E-97F1-1FF7D8AD38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ase for bag seman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ves time of eliminating duplic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ne is mor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GPA FROM Studen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irst query just returns all possible GPA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econd query returns the actual GPA distribu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6198-4F8E-4502-AE8D-B38DDC41BE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30BB3-00F4-477B-996A-45F849ACF6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 set and bag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UN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INTERS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t seman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s in input tables, if any, are first eli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ctly like set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relational algeb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UNION 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EXCEPT 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INTERSECT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g seman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nk of each row as having an implicit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the number of times it appears in the tabl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g union: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u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up the counts from two tab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g difference: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ubtra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two counts (a row with negative count vanish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g intersection: take the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minimu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the two cou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6CF-EC0F-49A4-BB82-6BCE463F258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1AA7B-EC87-48BE-8BA6-8AE7EB0AE9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bag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440" y="1066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Ba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73000" y="1066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Ba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1840" y="33526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Bag1 UNION ALL Ba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92720" y="420516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Bag1 EXCEPT ALL Ba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33000" y="335268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Bag1 INTERSECT ALL Ba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33520" y="1523880"/>
          <a:ext cx="990360" cy="146052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905120" y="1523880"/>
          <a:ext cx="990360" cy="146052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295280" y="3733920"/>
          <a:ext cx="990720" cy="255564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809880" y="4800600"/>
          <a:ext cx="990720" cy="73008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934320" y="3962520"/>
          <a:ext cx="990360" cy="109512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83D-AAFD-4B46-BBEA-77BCFEE9793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B47B4-F78D-4F80-9B14-BF1EEF606F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Me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(SELECT SID FROM ClubMember)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EXCEPT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(SELECT SID FROM Enroll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’s of students who are in clubs but not taking any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(SELECT SID FROM ClubMember)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EXCEPT A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(SELECT SID FROM Enroll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’s of students who are in more clubs than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DCC0-1E76-44A1-8A2B-D8F45E9FD40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75BE6-E826-4C47-B405-31F5F1A776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cing set seman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provides the option of set semantics with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’s of all enrolled stu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SELECT SI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FROM Enrol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 Bart takes EECS700 and EECS6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SELECT DISTINCT SI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FROM Enro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all duplicate SIDs are removed from the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72B-472E-4F00-A629-EAC551F6846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1E705-DB0E-4F9C-BEC4-EE7301E53D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onal Semantics of SF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For each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…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For each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If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ue over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Compute and output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ro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Eliminate duplicate rows in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often called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tupl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0CD-EAFD-4357-8279-4E894B734D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B9601-3DB4-4333-9719-7E70C1ECAD4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Homework #1 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ue tod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#2 is assigned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e March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two weeks away from now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DDD-060C-485C-8850-6595D1126A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A4148-B862-442A-A910-0776EF1F91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SQL fea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 (select-project-join que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ming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and ba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ION, DIFFERENCE, INTERS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aggregation and grou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7A8-E91E-43FB-A809-8F917582386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2A393-DAB6-49C4-A75E-9A6AB26084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greg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SQL aggregate functions: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number of students under 18, and their average G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COUNT(*)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AVG(GPA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 Studen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 age &lt; 18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COUNT(*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nts the number of row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6E0B-DED7-40A3-B73C-21D2D16A678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0CE3D-8F5F-4085-A2F3-49AFC47406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gregates with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How many students are taking clas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COUNT (SID)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ROM Enroll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COUNT(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SID)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ROM Enroll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5E5-F01D-4853-A9AA-C554E96B096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6047F-F2EA-408C-AEFF-3EB94138FE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B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W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GROUP BY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list_of_columns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ind the average GPA for each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age, AVG(GPA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 Studen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GROUP BY age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B87-60BF-45A9-9260-5BC656EF76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68EA0-9CA7-4627-A848-5FF14BC6A4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onal semantics of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B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 FROM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 WHER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 GROUP BY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oup rows according to the values of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group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ggregation functions with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puts, first eliminate duplicates within the gro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groups = number of rows in the final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ED4-CC22-4276-A0C8-A5D193D3F05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EB0C7-429E-4491-8453-B565860C26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of computing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B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age, AVG(GPA) FROM Student GROUP BY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14800" y="2013120"/>
            <a:ext cx="3809880" cy="1873080"/>
            <a:chOff x="4114800" y="2013120"/>
            <a:chExt cx="3809880" cy="1873080"/>
          </a:xfrm>
        </p:grpSpPr>
        <p:sp>
          <p:nvSpPr>
            <p:cNvPr id="181" name=""/>
            <p:cNvSpPr/>
            <p:nvPr/>
          </p:nvSpPr>
          <p:spPr>
            <a:xfrm>
              <a:off x="4267080" y="20131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ompute </a:t>
              </a: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GROUP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BY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: group rows according to the values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GROUP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BY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 colum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14800" y="3429000"/>
              <a:ext cx="609480" cy="457200"/>
            </a:xfrm>
            <a:prstGeom prst="rightArrow">
              <a:avLst>
                <a:gd name="adj1" fmla="val 50000"/>
                <a:gd name="adj2" fmla="val 33327"/>
              </a:avLst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33520" y="4191120"/>
            <a:ext cx="4190400" cy="1066680"/>
            <a:chOff x="533520" y="4191120"/>
            <a:chExt cx="4190400" cy="1066680"/>
          </a:xfrm>
        </p:grpSpPr>
        <p:sp>
          <p:nvSpPr>
            <p:cNvPr id="184" name=""/>
            <p:cNvSpPr/>
            <p:nvPr/>
          </p:nvSpPr>
          <p:spPr>
            <a:xfrm>
              <a:off x="533520" y="4191120"/>
              <a:ext cx="411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ompute </a:t>
              </a: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 for each 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114080" y="4800600"/>
              <a:ext cx="609480" cy="457200"/>
            </a:xfrm>
            <a:prstGeom prst="rightArrow">
              <a:avLst>
                <a:gd name="adj1" fmla="val 50000"/>
                <a:gd name="adj2" fmla="val 33327"/>
              </a:avLst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6" name=""/>
          <p:cNvGraphicFramePr/>
          <p:nvPr/>
        </p:nvGraphicFramePr>
        <p:xfrm>
          <a:off x="380880" y="1600200"/>
          <a:ext cx="3505320" cy="219060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5029200" y="3429000"/>
          <a:ext cx="3505320" cy="219060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600200" y="4648320"/>
          <a:ext cx="1219320" cy="1460520"/>
        </p:xfrm>
        <a:graphic>
          <a:graphicData uri="http://schemas.openxmlformats.org/drawingml/2006/table">
            <a:tbl>
              <a:tblPr/>
              <a:tblGrid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9FA-2993-40A7-96BB-3FA4E1779C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81AC0-14CB-4E40-9834-2E337519E3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gregates with no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B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ggregate query with no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 represent a special case where all rows go into on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AVG(GPA) FROM Stud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352680" y="2286000"/>
            <a:ext cx="2514600" cy="1600200"/>
            <a:chOff x="3352680" y="2286000"/>
            <a:chExt cx="2514600" cy="1600200"/>
          </a:xfrm>
        </p:grpSpPr>
        <p:sp>
          <p:nvSpPr>
            <p:cNvPr id="192" name=""/>
            <p:cNvSpPr/>
            <p:nvPr/>
          </p:nvSpPr>
          <p:spPr>
            <a:xfrm>
              <a:off x="4114800" y="3429000"/>
              <a:ext cx="609480" cy="457200"/>
            </a:xfrm>
            <a:prstGeom prst="rightArrow">
              <a:avLst>
                <a:gd name="adj1" fmla="val 50000"/>
                <a:gd name="adj2" fmla="val 33327"/>
              </a:avLst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52680" y="2286000"/>
              <a:ext cx="251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ompute aggregat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over the 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380880" y="3124080"/>
          <a:ext cx="3505320" cy="220032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952880" y="3127320"/>
          <a:ext cx="3505320" cy="221940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038480" y="5562720"/>
          <a:ext cx="685800" cy="74592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grpSp>
        <p:nvGrpSpPr>
          <p:cNvPr id="197" name=""/>
          <p:cNvGrpSpPr/>
          <p:nvPr/>
        </p:nvGrpSpPr>
        <p:grpSpPr>
          <a:xfrm>
            <a:off x="4952880" y="5562720"/>
            <a:ext cx="3230640" cy="1557000"/>
            <a:chOff x="4952880" y="5562720"/>
            <a:chExt cx="3230640" cy="1557000"/>
          </a:xfrm>
        </p:grpSpPr>
        <p:sp>
          <p:nvSpPr>
            <p:cNvPr id="198" name=""/>
            <p:cNvSpPr/>
            <p:nvPr/>
          </p:nvSpPr>
          <p:spPr>
            <a:xfrm>
              <a:off x="6248520" y="5562720"/>
              <a:ext cx="1935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Group all row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into one 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52880" y="5715000"/>
              <a:ext cx="685800" cy="457200"/>
            </a:xfrm>
            <a:prstGeom prst="leftArrow">
              <a:avLst>
                <a:gd name="adj1" fmla="val 50000"/>
                <a:gd name="adj2" fmla="val 37500"/>
              </a:avLst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43E6-D0B2-46E5-B752-EFEE482B683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36ED4-0D9A-45A2-AAC1-45C2F0F98D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riction on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SEL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query uses aggregation/group by, then every column referenced in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be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ggregated, 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lum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striction ensures that any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ression produces only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 for each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0B3-9F23-4CA7-97C6-B3B060AC19D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8F479-29CC-4EF5-9FA1-3F94EFBB06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invalid 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SID, age FROM Student GROUP BY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all there is one output row per gro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can be multiple SID values per gro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SID, MAX(GPA) FROM Stud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all there is only one group for an aggregate query with no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can be multiple SID val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shful thinking (that the output SID value is the one associated with the highest GPA) does NOT 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905120" y="1066680"/>
            <a:ext cx="838080" cy="380880"/>
            <a:chOff x="1905120" y="1066680"/>
            <a:chExt cx="838080" cy="380880"/>
          </a:xfrm>
        </p:grpSpPr>
        <p:sp>
          <p:nvSpPr>
            <p:cNvPr id="205" name=""/>
            <p:cNvSpPr/>
            <p:nvPr/>
          </p:nvSpPr>
          <p:spPr>
            <a:xfrm>
              <a:off x="1905120" y="1066680"/>
              <a:ext cx="838080" cy="3808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5120" y="1066680"/>
              <a:ext cx="838080" cy="3808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905120" y="2514600"/>
            <a:ext cx="838080" cy="380880"/>
            <a:chOff x="1905120" y="2514600"/>
            <a:chExt cx="838080" cy="380880"/>
          </a:xfrm>
        </p:grpSpPr>
        <p:sp>
          <p:nvSpPr>
            <p:cNvPr id="208" name=""/>
            <p:cNvSpPr/>
            <p:nvPr/>
          </p:nvSpPr>
          <p:spPr>
            <a:xfrm>
              <a:off x="1905120" y="2514600"/>
              <a:ext cx="838080" cy="3808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905120" y="2514600"/>
              <a:ext cx="838080" cy="3808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48D-6023-4D60-8742-79A37EE0B15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6088F-B52F-44EE-B8D0-957668D823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HAV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filter groups based on the group properties (e.g., aggregate values,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umn valu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W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GROUP B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2800"/>
            </a:br>
            <a:r>
              <a:rPr b="0" lang="en-US" sz="2800" spc="-1" strike="noStrike">
                <a:solidFill>
                  <a:srgbClr val="669999"/>
                </a:solidFill>
                <a:latin typeface="LettrGoth12 BT"/>
              </a:rPr>
              <a:t>HAVING </a:t>
            </a:r>
            <a:r>
              <a:rPr b="0" i="1" lang="en-US" sz="2800" spc="-1" strike="noStrike">
                <a:solidFill>
                  <a:srgbClr val="669999"/>
                </a:solidFill>
                <a:latin typeface="LettrGoth12 BT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group rows according to the values of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lum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HAV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another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ver the group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for each group that passes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HA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760-D681-4604-A201-23F19FE4B65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4D5ED-DA46-49C3-97DD-FF1F402430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list of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list of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may have logical operators AND, OR,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may have comparison operators: &lt;. &lt;=, &lt;&gt;, &gt;=, 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comparison may use “=” (exactly match) or “LIKE” (matching with regular express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%, _, \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rithmetic) expressions of attributes are all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3EED-D8F9-4A46-B7E1-194B4C49DC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54B57-76A7-4999-A90C-85BB8C0E25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HAV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average GPA for each age group ov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SELECT age, AVG(GPA)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FROM Student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GROUP BY age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HAVING age &gt; 1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written using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thout table expres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the average GPA for each age group with more than a hundred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SELECT age, AVG(GPA)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FROM Student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GROUP BY age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HAVING COUNT(*) &gt; 10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written using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table expres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696C-9686-4288-ACDA-B20DAB0529B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7B684-CA45-4D0C-9E3D-11413495FC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SQL featur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ed so f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ming ope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and ba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 and grou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Table expressions, sub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a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CB4-6A75-4FC1-ABC1-4C2E8734B40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EC12F-8C08-40F1-8E20-5A69EE239C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 expre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query result as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set and bag operations,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s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way to “nest”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names of students who are in more clubs than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32600" y="4386240"/>
            <a:ext cx="5301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(SELECT SID FROM ClubMembe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EXCEPT 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(SELECT SID FROM Enro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6160" y="3733920"/>
            <a:ext cx="6764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SELECT DISTINCT name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FROM Student,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    (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                             ) AS S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WHERE Student.SID = S.S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4D18-4E2E-4ACF-9204-C78CCC5AD10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AA65E-C23C-469B-840A-DDA84D2BF2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ar sub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ery that returns a single row can be used as a value in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students at the same age as B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39400" y="2209680"/>
            <a:ext cx="639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SELECT *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FROM Student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WHERE age = (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                              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12760" y="297180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Stud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name = ’Bar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74120" y="236232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What’s Bart’s 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4191120"/>
            <a:ext cx="86868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time error if subquery returns more than one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 what condition will this runtime error never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key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f subquery returns no row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ue returned is a special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, and the comparison f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406-E6C7-4F57-9BE0-3404B9BBA38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CFBD8-C39F-4CB5-9C71-4987F3608E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 IN 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ubquery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ecks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the resul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tudents at the same age as (some)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60480" y="3035160"/>
            <a:ext cx="658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SELECT *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FROM Student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WHERE age IN (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                               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69960" y="375120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Stud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name = ’Bar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96480" y="304812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What’s Bart’s 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92E-6055-48E3-AFAD-23D6C6ED15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75AC7-4444-47F1-BB90-3BA29E3F66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EXI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EXISTS 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ubquery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ecks if the resul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n-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tudents at the same age as (some)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SELECT *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FROM Student AS </a:t>
            </a:r>
            <a:r>
              <a:rPr b="0" lang="en-US" sz="2200" spc="-1" strike="noStrike">
                <a:solidFill>
                  <a:srgbClr val="ff3300"/>
                </a:solidFill>
                <a:latin typeface="LettrGoth12 BT"/>
              </a:rPr>
              <a:t>s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EXISTS (SELECT * FROM Student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              WHERE name = ’Bart’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              AND age = </a:t>
            </a:r>
            <a:r>
              <a:rPr b="0" lang="en-US" sz="2200" spc="-1" strike="noStrike">
                <a:solidFill>
                  <a:srgbClr val="ff3300"/>
                </a:solidFill>
                <a:latin typeface="LettrGoth12 BT"/>
              </a:rPr>
              <a:t>s.age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happens to be a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orrelated subqu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—a subquery that references tuple variables in surrounding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3048120"/>
            <a:ext cx="2971800" cy="1295280"/>
          </a:xfrm>
          <a:custGeom>
            <a:avLst/>
            <a:gdLst/>
            <a:ahLst/>
            <a:rect l="l" t="t" r="r" b="b"/>
            <a:pathLst>
              <a:path w="1968" h="864">
                <a:moveTo>
                  <a:pt x="1008" y="768"/>
                </a:moveTo>
                <a:lnTo>
                  <a:pt x="1008" y="864"/>
                </a:lnTo>
                <a:lnTo>
                  <a:pt x="1968" y="864"/>
                </a:lnTo>
                <a:lnTo>
                  <a:pt x="1968" y="0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536-8B9D-4EEC-BF3F-8D075361732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E3CBD-07D6-48B6-B366-9909AFBAA2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onal semantics of sub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ELECT *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FROM Student AS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WHERE EXISTS (SELECT * FROM Student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              WHERE name = ’Bart’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              AND age =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.age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ow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aluate the subquery with the appropriate value of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.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result of the subquery is not empty, output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.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BMS query optimizer may choose to process the query in an equivalent, but more efficient way (exampl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711-CF7B-4000-90EC-95BA58D7E7D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E6680-6C42-4736-BD06-F3DCA4DD6B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SQL featur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ed so f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and ba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 and grou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expressions, sub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, outerjoins, data modification, constraint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C850-50AA-4B66-AD12-84E23E13DA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5FB51-BFC7-4058-8CF3-066D84A93D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007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g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‘%John%’ OR GPA &gt; 3.6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3048120"/>
          <a:ext cx="3504960" cy="2190600"/>
        </p:xfrm>
        <a:graphic>
          <a:graphicData uri="http://schemas.openxmlformats.org/drawingml/2006/table">
            <a:tbl>
              <a:tblPr/>
              <a:tblGrid>
                <a:gridCol w="65376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648320" y="3048120"/>
          <a:ext cx="3504960" cy="2190600"/>
        </p:xfrm>
        <a:graphic>
          <a:graphicData uri="http://schemas.openxmlformats.org/drawingml/2006/table">
            <a:tbl>
              <a:tblPr/>
              <a:tblGrid>
                <a:gridCol w="653760"/>
                <a:gridCol w="1632240"/>
                <a:gridCol w="53316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4343400" y="4343400"/>
            <a:ext cx="4114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4724280"/>
            <a:ext cx="4038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5105520"/>
            <a:ext cx="4038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48320" y="3048120"/>
          <a:ext cx="3504960" cy="2190600"/>
        </p:xfrm>
        <a:graphic>
          <a:graphicData uri="http://schemas.openxmlformats.org/drawingml/2006/table">
            <a:tbl>
              <a:tblPr/>
              <a:tblGrid>
                <a:gridCol w="653760"/>
                <a:gridCol w="1479600"/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5334120" y="2743200"/>
            <a:ext cx="2895480" cy="2819520"/>
            <a:chOff x="5334120" y="2743200"/>
            <a:chExt cx="2895480" cy="2819520"/>
          </a:xfrm>
        </p:grpSpPr>
        <p:sp>
          <p:nvSpPr>
            <p:cNvPr id="107" name=""/>
            <p:cNvSpPr/>
            <p:nvPr/>
          </p:nvSpPr>
          <p:spPr>
            <a:xfrm>
              <a:off x="5334120" y="2743200"/>
              <a:ext cx="1523880" cy="281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43800" y="2743200"/>
              <a:ext cx="685800" cy="281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838080" y="59436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dfsa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99" idx="2"/>
          </p:cNvCxnSpPr>
          <p:nvPr/>
        </p:nvCxnSpPr>
        <p:spPr>
          <a:xfrm>
            <a:off x="4533480" y="632412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11" name=""/>
          <p:cNvGrpSpPr/>
          <p:nvPr/>
        </p:nvGrpSpPr>
        <p:grpSpPr>
          <a:xfrm>
            <a:off x="4191120" y="3504960"/>
            <a:ext cx="456840" cy="228960"/>
            <a:chOff x="4191120" y="3504960"/>
            <a:chExt cx="456840" cy="228960"/>
          </a:xfrm>
        </p:grpSpPr>
        <p:sp>
          <p:nvSpPr>
            <p:cNvPr id="112" name=""/>
            <p:cNvSpPr/>
            <p:nvPr/>
          </p:nvSpPr>
          <p:spPr>
            <a:xfrm>
              <a:off x="4191120" y="3596760"/>
              <a:ext cx="101520" cy="137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292640" y="3504960"/>
              <a:ext cx="3553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191120" y="3885840"/>
            <a:ext cx="456840" cy="228960"/>
            <a:chOff x="4191120" y="3885840"/>
            <a:chExt cx="456840" cy="228960"/>
          </a:xfrm>
        </p:grpSpPr>
        <p:sp>
          <p:nvSpPr>
            <p:cNvPr id="115" name=""/>
            <p:cNvSpPr/>
            <p:nvPr/>
          </p:nvSpPr>
          <p:spPr>
            <a:xfrm>
              <a:off x="4191120" y="3977640"/>
              <a:ext cx="101520" cy="137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292640" y="3885840"/>
              <a:ext cx="3553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902-72BC-48F4-9771-DEDC3DE407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CA2AC-B735-4C26-AD6E-B1A1BD00FC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tudent (SID integer, name varchar(30), age integer, GPA float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Course (CID char(10), title varchar(100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Enroll (SID integer, CID char(10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Create table Student (SID integer, name varchar(30), age integer, GPA float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Create table Course (CID char(10), title varchar(100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Create table Enroll (SID integer, CID char(10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D0D-61BE-4E94-AE51-E78F61A48F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FAD73-A9EB-421D-9CA6-7131384A0A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and Bag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ION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SECTION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TIN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666880"/>
            <a:ext cx="5105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15960" indent="-309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ELECT age, AVG(G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FROM Student S ENROLL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WHERE S.SID = E.S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 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AND E.CID = ‘EECS108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GROUP BY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HAVING age &gt;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--Compute the average GPA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tudents who are at least 2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old and are enrolled in 108 with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09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ame 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836-0843-4672-9198-5DCDA65D9B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747A4-63AC-46E6-80C6-4A1FD8D134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B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ORDER BY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output_column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[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ASC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|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DESC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AS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scending,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DES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desc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al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ist has been computed, sort the output according to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pecif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AFB-C6D1-48CA-8A1C-4EE167D6AF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9F4D9-BD00-4E3E-9796-8C23B3BDE4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ll students, sort them by GPA (descending) and name (ascen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SID, name, age, GPA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ROM Student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RDER BY GPA DESC, name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AS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default o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speaking, only output columns can appear in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use sequence numbers instead of names to refer t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put columns: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RDER BY 4 DESC, 2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ABF-FCBD-4E60-8F83-BB77CBC15E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D499E-0CBF-45C1-B860-FF6CC1AFA9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’s of all pairs of class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 algebra query: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2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 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Enroll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CID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2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CID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cmsy10"/>
              </a:rPr>
              <a:t>Æ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&gt;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2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Enroll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: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e1.SID </a:t>
            </a: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SID1, e2.SID </a:t>
            </a: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SID2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ROM Enroll </a:t>
            </a: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e1, Enroll </a:t>
            </a: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e2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WHERE e1.CID = e2.CID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AND e1.SID &gt; e2.SID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keyword is opt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B94-372C-455E-9943-A719A93982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43F6E-12A5-44BC-8F09-57F04FDB5E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2-17T23:48:36Z</dcterms:modified>
  <cp:revision>1000</cp:revision>
  <dc:subject/>
  <dc:title>CS186: Introduction to Database Systems</dc:title>
</cp:coreProperties>
</file>