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154C25-062D-48D5-93F1-AFC5EC45D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85ECC8-F7F4-4ACF-A911-805B5886F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E0E7A0-3025-4228-A107-28B0DBABB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ECEF1D-867A-4DE6-8F8A-EE1C54E13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08469D-C5E8-422D-99ED-16349C830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92F1A3-D36B-4C03-B24F-3091FEFF4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95F884-6981-44AF-B97A-258382FDE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601DD1-1DDD-42B1-A46E-B1729DB7A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FC5B5A-42A0-49F5-849F-8620E330B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056EC1-70DA-4C16-B112-30EA34860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CAAA6D-0DF8-4A29-8E3E-79883861B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2E6D3C-C4C7-4BE8-B893-50F002150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822700-932A-4AC7-97B9-8E83C933E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F3B3C5-80DD-4A17-B8E8-043E5397B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A7A9D3-10E6-4C94-B431-188B820D3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B6611D-5137-44FA-89DE-8FA3795E3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591609-6AC7-4C27-B6BF-1501607F6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608C58-B91B-4EE9-99CA-08337CE89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11CE5A-8385-4CBA-9719-655E24A63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5E4232-4EFF-40C8-A10D-AF699F859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553A18-B981-4958-BD48-136ED7960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9D4BE7-C656-41E4-8039-C93804136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8351E6-814D-471A-ACA9-65A001620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81C90C-86CF-49A6-91F8-F1F695F56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anom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anonmaity: Bar not taking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 anomaly: Bart drops all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00A14A-975E-4592-9A20-A2EDEEAE9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556D7C-79B6-4172-A12E-8D3A50346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479FBA-454A-41EC-A9F4-A59C66698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CF4B24-0FB0-4DBE-9E27-64C7A375B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72673D-019A-461D-8D00-8141019B9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67B3BC-CD9A-4B69-82A9-E54664774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B92DC2B-EBDB-4745-98FA-36F6A9068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5EC30B-B143-4B5F-8E84-7F642E930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D3CC98-1695-4288-993E-1C20F87D4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03FC37-C981-4647-AECA-EF2967696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5BCDB6-AF55-4820-AACE-513E8D486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58D283-9254-40C2-9954-FF730EDFE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701-78BA-4A84-BB5E-DDAB114A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A7E-8AF8-4723-A745-7D070063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758-9AC3-48FA-9415-D63334F7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602-6FA3-49A2-8F27-306BB12A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C49-8D27-492C-A41D-170F001D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E2F-A313-4FB9-BECA-5CCA9918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B1D-1A86-41A6-ACC0-1787AA56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1A2-35DC-4B05-A9A0-C921273C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D81-5814-46BD-B3CB-93FC53CF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3D7-B1BB-4F65-9B1D-F9D3B586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36F-667E-4B6E-9582-4DFF979D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A8D-2C9D-4D0B-9F8C-5BB6CD56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104E-5105-4FE9-B559-D2AF53509A5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F632-1F16-4DF9-AC7B-83A36EF7B3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40"/>
          <p:cNvSpPr/>
          <p:nvPr/>
        </p:nvSpPr>
        <p:spPr>
          <a:xfrm flipV="1">
            <a:off x="0" y="837720"/>
            <a:ext cx="9016920" cy="77760"/>
          </a:xfrm>
          <a:prstGeom prst="pie">
            <a:avLst/>
          </a:pr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1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3" name="Oval 42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8"/>
                </a:gs>
                <a:gs pos="50000">
                  <a:srgbClr val="666633"/>
                </a:gs>
                <a:gs pos="100000">
                  <a:srgbClr val="2f2f18"/>
                </a:gs>
              </a:gsLst>
              <a:lin ang="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3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8"/>
                </a:gs>
                <a:gs pos="50000">
                  <a:srgbClr val="666633"/>
                </a:gs>
                <a:gs pos="100000">
                  <a:srgbClr val="2f2f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44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bliu@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bliu@ac.com" TargetMode="External"/><Relationship Id="rId2" Type="http://schemas.openxmlformats.org/officeDocument/2006/relationships/hyperlink" Target="mailto:bliu@ac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bliu@ac.com" TargetMode="External"/><Relationship Id="rId2" Type="http://schemas.openxmlformats.org/officeDocument/2006/relationships/hyperlink" Target="mailto:bliu@ac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5239-3DA6-4C2A-AEC3-9E5468F5F91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12CC-A04C-4888-B1BC-7C3EB45EB4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ribute clos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set of FD’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hol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 set of attrib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losure of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enoted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800" spc="-1" strike="noStrike" baseline="30000">
                <a:solidFill>
                  <a:srgbClr val="330066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ith respect to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all attributes {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, …} functionally determined by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hat is, Z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for computing the 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art with closure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lready in the closure, then also ad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the clos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eat until no more attributes can be ad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4196-6DE7-4AB3-B611-6A08F1AADE6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2F2B-C617-427C-BE63-A2AC9659F6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ore complex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I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Pname, Ho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I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-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ot a good design, and we will see why la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A4C4-ABB7-4B42-9248-5F61DB7978A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8D43-D429-4DF0-895C-B4A8E3F57C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f computing clos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ID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-&gt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o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{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mail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}</a:t>
            </a:r>
            <a:r>
              <a:rPr b="0" lang="en-US" sz="2400" spc="-1" strike="noStrike" baseline="30000">
                <a:solidFill>
                  <a:srgbClr val="330066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closure = {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email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closure is now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{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PID, email, EID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ame, 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name, emai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closure is now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{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PID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email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EID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Ename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D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-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Pname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 is no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{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PID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Pname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email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EID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Ename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closure is now </a:t>
            </a:r>
            <a:r>
              <a:rPr b="0" lang="en-US" sz="2200" spc="-1" strike="noStrike">
                <a:solidFill>
                  <a:srgbClr val="330066"/>
                </a:solidFill>
                <a:latin typeface="Times New Roman"/>
              </a:rPr>
              <a:t>all the attributes in </a:t>
            </a:r>
            <a:r>
              <a:rPr b="0" i="1" lang="en-US" sz="2200" spc="-1" strike="noStrike">
                <a:solidFill>
                  <a:srgbClr val="330066"/>
                </a:solidFill>
                <a:latin typeface="Times New Roman"/>
              </a:rPr>
              <a:t>Work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CFBB-AA6F-4ED0-AC52-8795B4212B1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BFAB-232C-471A-A6E1-ADF78B8F8E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attribute clos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set of FD’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oes another FD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follow from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F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spect to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MS Shell Dlg"/>
              </a:rPr>
              <a:t>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llow from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a super key of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ith respect to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ntains all the attribute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super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Is a super key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a key of 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’ = K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| 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is a super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all possibl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1523880" y="2666880"/>
                <a:ext cx="2890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1240-684E-48C8-95CB-6F72200ABDD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D923-2F6D-497B-AF9E-224974690D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 of FD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Armstrong’s axi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Reflexiv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MS Shell Dlg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Augment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an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Transitiv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derived from axi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plit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ombin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Z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3124080" y="1676520"/>
                <a:ext cx="1526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D39D-EE76-44AE-BADF-9692781400C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C97F-37CC-4416-8244-4268AFB55F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rules of FD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set of FD’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oes another FD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follow from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F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the rules to come up with a pro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cludes:</a:t>
            </a:r>
            <a:br>
              <a:rPr sz="2600"/>
            </a:b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ours, Pi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na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given i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D, email </a:t>
            </a:r>
            <a:r>
              <a:rPr b="0" i="1" lang="en-US" sz="24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ID, E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ug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given in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ransiti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78D8-4A6F-4614-9BC0-8EA4B014A7E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4081-3008-4A04-8B7F-77943D3A94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f redunda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a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partial depend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re exist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.g. E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full depen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.g. EID, PID </a:t>
            </a:r>
            <a:r>
              <a:rPr b="0" lang="en-US" sz="23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ou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3520" y="4025880"/>
          <a:ext cx="7877160" cy="184464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1523880"/>
                <a:gridCol w="1752840"/>
                <a:gridCol w="1523880"/>
                <a:gridCol w="86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mith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 L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7e9ce8"/>
                          </a:solidFill>
                          <a:uFillTx/>
                          <a:latin typeface="Times New Roman"/>
                          <a:hlinkClick r:id="rId1"/>
                        </a:rPr>
                        <a:t>bliu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mith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Sidh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idhuk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AD05-BBD1-48FF-AF05-CD3B7C69919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58E0-370F-42A3-A5A1-7C587162D3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 normal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process of decomposing unsatisfactory "bad" relations by breaking up their attributes into smaller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 normal for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ification that tells whether a relation schema is in a particular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4800-9CF3-40E0-965B-3957AF1593F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1648-7E9F-48F4-8212-80064AE442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attrib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of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nonprimary 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it is not part of any key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primary attribu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(general)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rmal form if every nonprimary attrib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partially functionally dependent on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905120" y="3809880"/>
          <a:ext cx="4952880" cy="158436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896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 Box 105"/>
          <p:cNvSpPr/>
          <p:nvPr/>
        </p:nvSpPr>
        <p:spPr>
          <a:xfrm>
            <a:off x="990720" y="5392800"/>
            <a:ext cx="2209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 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,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 -&gt;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6"/>
          <p:cNvSpPr/>
          <p:nvPr/>
        </p:nvSpPr>
        <p:spPr>
          <a:xfrm>
            <a:off x="4114800" y="5410080"/>
            <a:ext cx="396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7"/>
          <p:cNvSpPr/>
          <p:nvPr/>
        </p:nvSpPr>
        <p:spPr>
          <a:xfrm>
            <a:off x="3352680" y="5697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A100-EF9E-4960-9BD9-F60BE5DCD29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C951-5F14-4B67-B1B7-BD2FCD5CA2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about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rm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definition,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very nonprimary attribute is functionally dependent on every 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other words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in its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ormal form if we could not find a partial dependency of a nonprimary key to a key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6B12-0DD8-4252-8801-0E7063C50E1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6AFE-6940-4C41-9271-72E114928B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depen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C973-72F6-4C04-9AE2-0C4B660BD69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48AA-657C-4A5F-955A-5E2D878DFA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5435640"/>
            <a:ext cx="861048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eliminates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back to the original re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6324120" y="5973840"/>
            <a:ext cx="3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85800" y="1143000"/>
          <a:ext cx="7877160" cy="184464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1524240"/>
                <a:gridCol w="1752480"/>
                <a:gridCol w="1523880"/>
                <a:gridCol w="86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mith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 L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7e9ce8"/>
                          </a:solidFill>
                          <a:uFillTx/>
                          <a:latin typeface="Times New Roman"/>
                          <a:hlinkClick r:id="rId1"/>
                        </a:rPr>
                        <a:t>bliu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mith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Sidh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idhuk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2" name="Group 64"/>
          <p:cNvGrpSpPr/>
          <p:nvPr/>
        </p:nvGrpSpPr>
        <p:grpSpPr>
          <a:xfrm>
            <a:off x="2362320" y="2971800"/>
            <a:ext cx="5409720" cy="533520"/>
            <a:chOff x="2362320" y="2971800"/>
            <a:chExt cx="5409720" cy="533520"/>
          </a:xfrm>
        </p:grpSpPr>
        <p:sp>
          <p:nvSpPr>
            <p:cNvPr id="213" name="Line 65"/>
            <p:cNvSpPr/>
            <p:nvPr/>
          </p:nvSpPr>
          <p:spPr>
            <a:xfrm flipH="1">
              <a:off x="2362320" y="2971800"/>
              <a:ext cx="2666880" cy="5335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6"/>
            <p:cNvSpPr/>
            <p:nvPr/>
          </p:nvSpPr>
          <p:spPr>
            <a:xfrm>
              <a:off x="4952880" y="2971800"/>
              <a:ext cx="2819160" cy="5335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67"/>
          <p:cNvSpPr/>
          <p:nvPr/>
        </p:nvSpPr>
        <p:spPr>
          <a:xfrm>
            <a:off x="0" y="2971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8"/>
          <p:cNvSpPr/>
          <p:nvPr/>
        </p:nvSpPr>
        <p:spPr>
          <a:xfrm>
            <a:off x="1676520" y="3200400"/>
            <a:ext cx="1143000" cy="152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5680" y="3581280"/>
          <a:ext cx="4334040" cy="1509840"/>
        </p:xfrm>
        <a:graphic>
          <a:graphicData uri="http://schemas.openxmlformats.org/drawingml/2006/table">
            <a:tbl>
              <a:tblPr/>
              <a:tblGrid>
                <a:gridCol w="1057320"/>
                <a:gridCol w="1523880"/>
                <a:gridCol w="1752840"/>
              </a:tblGrid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mith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 L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7e9ce8"/>
                          </a:solidFill>
                          <a:uFillTx/>
                          <a:latin typeface="Times New Roman"/>
                          <a:hlinkClick r:id="rId2"/>
                        </a:rPr>
                        <a:t>bliu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Sidh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idhuk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495680" y="3568680"/>
          <a:ext cx="4600800" cy="1844640"/>
        </p:xfrm>
        <a:graphic>
          <a:graphicData uri="http://schemas.openxmlformats.org/drawingml/2006/table">
            <a:tbl>
              <a:tblPr/>
              <a:tblGrid>
                <a:gridCol w="1057320"/>
                <a:gridCol w="1152720"/>
                <a:gridCol w="1523880"/>
                <a:gridCol w="86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Arc 185"/>
          <p:cNvSpPr/>
          <p:nvPr/>
        </p:nvSpPr>
        <p:spPr>
          <a:xfrm>
            <a:off x="838080" y="2514600"/>
            <a:ext cx="3915000" cy="1219320"/>
          </a:xfrm>
          <a:prstGeom prst="pie">
            <a:avLst/>
          </a:prstGeom>
          <a:noFill/>
          <a:ln w="1260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86"/>
          <p:cNvSpPr/>
          <p:nvPr/>
        </p:nvSpPr>
        <p:spPr>
          <a:xfrm>
            <a:off x="4800600" y="3124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90"/>
          <p:cNvGrpSpPr/>
          <p:nvPr/>
        </p:nvGrpSpPr>
        <p:grpSpPr>
          <a:xfrm>
            <a:off x="762120" y="1187280"/>
            <a:ext cx="5343480" cy="1762200"/>
            <a:chOff x="762120" y="1187280"/>
            <a:chExt cx="5343480" cy="1762200"/>
          </a:xfrm>
        </p:grpSpPr>
        <p:sp>
          <p:nvSpPr>
            <p:cNvPr id="222" name="Rectangle 187"/>
            <p:cNvSpPr/>
            <p:nvPr/>
          </p:nvSpPr>
          <p:spPr>
            <a:xfrm>
              <a:off x="762120" y="1187280"/>
              <a:ext cx="838080" cy="1752840"/>
            </a:xfrm>
            <a:prstGeom prst="rect">
              <a:avLst/>
            </a:prstGeom>
            <a:solidFill>
              <a:srgbClr val="cccc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88"/>
            <p:cNvSpPr/>
            <p:nvPr/>
          </p:nvSpPr>
          <p:spPr>
            <a:xfrm>
              <a:off x="2914560" y="1197000"/>
              <a:ext cx="1447920" cy="1752480"/>
            </a:xfrm>
            <a:prstGeom prst="rect">
              <a:avLst/>
            </a:prstGeom>
            <a:solidFill>
              <a:srgbClr val="cccc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89"/>
            <p:cNvSpPr/>
            <p:nvPr/>
          </p:nvSpPr>
          <p:spPr>
            <a:xfrm>
              <a:off x="4505400" y="1197000"/>
              <a:ext cx="1600200" cy="1752480"/>
            </a:xfrm>
            <a:prstGeom prst="rect">
              <a:avLst/>
            </a:prstGeom>
            <a:solidFill>
              <a:srgbClr val="cccc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F712-4625-403B-AB2F-05F0AF9307B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6F31-C43E-4BA2-AB39-0A3AB881A2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may be applied recurs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58"/>
          <p:cNvGrpSpPr/>
          <p:nvPr/>
        </p:nvGrpSpPr>
        <p:grpSpPr>
          <a:xfrm>
            <a:off x="2514600" y="3886200"/>
            <a:ext cx="5409720" cy="304920"/>
            <a:chOff x="2514600" y="3886200"/>
            <a:chExt cx="5409720" cy="304920"/>
          </a:xfrm>
        </p:grpSpPr>
        <p:sp>
          <p:nvSpPr>
            <p:cNvPr id="231" name="Line 59"/>
            <p:cNvSpPr/>
            <p:nvPr/>
          </p:nvSpPr>
          <p:spPr>
            <a:xfrm flipH="1">
              <a:off x="2514600" y="3886200"/>
              <a:ext cx="2666880" cy="304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60"/>
            <p:cNvSpPr/>
            <p:nvPr/>
          </p:nvSpPr>
          <p:spPr>
            <a:xfrm>
              <a:off x="5105160" y="3886200"/>
              <a:ext cx="2819160" cy="304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2819520" y="2057400"/>
          <a:ext cx="4600440" cy="184464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1523880"/>
                <a:gridCol w="86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685800" y="4222800"/>
          <a:ext cx="2676600" cy="1112760"/>
        </p:xfrm>
        <a:graphic>
          <a:graphicData uri="http://schemas.openxmlformats.org/drawingml/2006/table">
            <a:tbl>
              <a:tblPr/>
              <a:tblGrid>
                <a:gridCol w="1152360"/>
                <a:gridCol w="152424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5562720" y="4191120"/>
          <a:ext cx="3076560" cy="184464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86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6" name="Group 232"/>
          <p:cNvGrpSpPr/>
          <p:nvPr/>
        </p:nvGrpSpPr>
        <p:grpSpPr>
          <a:xfrm>
            <a:off x="4038480" y="2111400"/>
            <a:ext cx="2438640" cy="1752480"/>
            <a:chOff x="4038480" y="2111400"/>
            <a:chExt cx="2438640" cy="1752480"/>
          </a:xfrm>
        </p:grpSpPr>
        <p:sp>
          <p:nvSpPr>
            <p:cNvPr id="237" name="Rectangle 229"/>
            <p:cNvSpPr/>
            <p:nvPr/>
          </p:nvSpPr>
          <p:spPr>
            <a:xfrm>
              <a:off x="4038480" y="2111400"/>
              <a:ext cx="838440" cy="1752480"/>
            </a:xfrm>
            <a:prstGeom prst="rect">
              <a:avLst/>
            </a:prstGeom>
            <a:solidFill>
              <a:srgbClr val="cccc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30"/>
            <p:cNvSpPr/>
            <p:nvPr/>
          </p:nvSpPr>
          <p:spPr>
            <a:xfrm>
              <a:off x="5029200" y="2111400"/>
              <a:ext cx="1447920" cy="1752480"/>
            </a:xfrm>
            <a:prstGeom prst="rect">
              <a:avLst/>
            </a:prstGeom>
            <a:solidFill>
              <a:srgbClr val="cccc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AF85-2993-4CCB-99DA-EF40543068F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807E-84FB-472E-8415-32A797A3AD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necessary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"/>
          <p:cNvSpPr/>
          <p:nvPr/>
        </p:nvSpPr>
        <p:spPr>
          <a:xfrm flipH="1">
            <a:off x="1828440" y="2590920"/>
            <a:ext cx="2514600" cy="38088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4343400" y="2590920"/>
            <a:ext cx="2666880" cy="45720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4597200"/>
            <a:ext cx="861048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e: join returns the original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necessary: no redundancy is removed, and n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tored twice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09680" y="1066680"/>
          <a:ext cx="4334040" cy="1509840"/>
        </p:xfrm>
        <a:graphic>
          <a:graphicData uri="http://schemas.openxmlformats.org/drawingml/2006/table">
            <a:tbl>
              <a:tblPr/>
              <a:tblGrid>
                <a:gridCol w="1057320"/>
                <a:gridCol w="1524240"/>
                <a:gridCol w="1752480"/>
              </a:tblGrid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mith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 L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7e9ce8"/>
                          </a:solidFill>
                          <a:uFillTx/>
                          <a:latin typeface="Times New Roman"/>
                          <a:hlinkClick r:id="rId1"/>
                        </a:rPr>
                        <a:t>bliu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Sidh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idhuk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762120" y="3019320"/>
          <a:ext cx="2581200" cy="1494000"/>
        </p:xfrm>
        <a:graphic>
          <a:graphicData uri="http://schemas.openxmlformats.org/drawingml/2006/table">
            <a:tbl>
              <a:tblPr/>
              <a:tblGrid>
                <a:gridCol w="1057320"/>
                <a:gridCol w="152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 L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Sidh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715000" y="3048120"/>
          <a:ext cx="2809800" cy="1509480"/>
        </p:xfrm>
        <a:graphic>
          <a:graphicData uri="http://schemas.openxmlformats.org/drawingml/2006/table">
            <a:tbl>
              <a:tblPr/>
              <a:tblGrid>
                <a:gridCol w="1057320"/>
                <a:gridCol w="1752480"/>
              </a:tblGrid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smith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7e9ce8"/>
                          </a:solidFill>
                          <a:uFillTx/>
                          <a:latin typeface="Times New Roman"/>
                          <a:hlinkClick r:id="rId2"/>
                        </a:rPr>
                        <a:t>bliu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idhuk@ac.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AECF-3263-4D30-8A89-584E0143B43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5846-108D-4F04-AE90-464F4F487B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5204880"/>
            <a:ext cx="861048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on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returns more rows than the original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6248520" y="4125960"/>
            <a:ext cx="1295280" cy="0"/>
          </a:xfrm>
          <a:prstGeom prst="line">
            <a:avLst/>
          </a:prstGeom>
          <a:ln w="291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 flipH="1">
            <a:off x="1905120" y="2971800"/>
            <a:ext cx="2666880" cy="45720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4572000" y="2971800"/>
            <a:ext cx="1752480" cy="45720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2895480" y="1130400"/>
          <a:ext cx="3076560" cy="1844640"/>
        </p:xfrm>
        <a:graphic>
          <a:graphicData uri="http://schemas.openxmlformats.org/drawingml/2006/table">
            <a:tbl>
              <a:tblPr/>
              <a:tblGrid>
                <a:gridCol w="1057320"/>
                <a:gridCol w="1152720"/>
                <a:gridCol w="866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914400" y="3429000"/>
          <a:ext cx="2209680" cy="184464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334120" y="3429000"/>
          <a:ext cx="2209680" cy="184464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1656-D92F-459D-97E9-6475A702B5D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6009-5956-4C63-976C-292444DF30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sless join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rel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attrs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omposition is 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lossless join decom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, given known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constra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as FD’s, we can guarante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decomposition giv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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hy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loss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composition is one with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dbsym"/>
                <a:ea typeface="dbsym"/>
              </a:rPr>
              <a:t>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82A3-97F5-4652-8C80-269F2ED53B4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A4E0-79A6-4F89-BA4D-66340C1152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s? But I got more rows-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” refers not to the loss of tuples, but to the loss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, the ability to distinguish different original tup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6248520" y="5510160"/>
            <a:ext cx="1295280" cy="0"/>
          </a:xfrm>
          <a:prstGeom prst="line">
            <a:avLst/>
          </a:prstGeom>
          <a:ln w="291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3"/>
          <p:cNvSpPr/>
          <p:nvPr/>
        </p:nvSpPr>
        <p:spPr>
          <a:xfrm flipH="1">
            <a:off x="1980720" y="4267080"/>
            <a:ext cx="2590920" cy="30492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4572000" y="4267080"/>
            <a:ext cx="1905120" cy="30492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895480" y="2425680"/>
          <a:ext cx="3076560" cy="1844640"/>
        </p:xfrm>
        <a:graphic>
          <a:graphicData uri="http://schemas.openxmlformats.org/drawingml/2006/table">
            <a:tbl>
              <a:tblPr/>
              <a:tblGrid>
                <a:gridCol w="1057320"/>
                <a:gridCol w="1152720"/>
                <a:gridCol w="866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914400" y="4559400"/>
          <a:ext cx="2209680" cy="184464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5334120" y="4572000"/>
          <a:ext cx="2209680" cy="184464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6" name="Group 108"/>
          <p:cNvGrpSpPr/>
          <p:nvPr/>
        </p:nvGrpSpPr>
        <p:grpSpPr>
          <a:xfrm>
            <a:off x="2971800" y="5105520"/>
            <a:ext cx="3581280" cy="761760"/>
            <a:chOff x="2971800" y="5105520"/>
            <a:chExt cx="3581280" cy="761760"/>
          </a:xfrm>
        </p:grpSpPr>
        <p:sp>
          <p:nvSpPr>
            <p:cNvPr id="277" name="Line 106"/>
            <p:cNvSpPr/>
            <p:nvPr/>
          </p:nvSpPr>
          <p:spPr>
            <a:xfrm>
              <a:off x="3048120" y="5105520"/>
              <a:ext cx="3504960" cy="7617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07"/>
            <p:cNvSpPr/>
            <p:nvPr/>
          </p:nvSpPr>
          <p:spPr>
            <a:xfrm flipV="1">
              <a:off x="2971800" y="5181120"/>
              <a:ext cx="3581280" cy="68580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11"/>
          <p:cNvGrpSpPr/>
          <p:nvPr/>
        </p:nvGrpSpPr>
        <p:grpSpPr>
          <a:xfrm>
            <a:off x="2971800" y="5105520"/>
            <a:ext cx="3581280" cy="761760"/>
            <a:chOff x="2971800" y="5105520"/>
            <a:chExt cx="3581280" cy="761760"/>
          </a:xfrm>
        </p:grpSpPr>
        <p:sp>
          <p:nvSpPr>
            <p:cNvPr id="280" name="Line 109"/>
            <p:cNvSpPr/>
            <p:nvPr/>
          </p:nvSpPr>
          <p:spPr>
            <a:xfrm>
              <a:off x="2971800" y="5105520"/>
              <a:ext cx="3581280" cy="7596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0"/>
            <p:cNvSpPr/>
            <p:nvPr/>
          </p:nvSpPr>
          <p:spPr>
            <a:xfrm>
              <a:off x="2971800" y="5867280"/>
              <a:ext cx="350532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6036-D8B4-453B-A4CC-61EDF249DA0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DCE3-A7F2-481B-839C-0AA7EBCEAF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 about de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decom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ome up with a correct decomposition (i.e., lossless join decompos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6E41-6681-4BFA-8E5C-6E16917CF8C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BEA0-FF7B-4AC7-8EF7-8F3A3C8FD8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key FD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non-trivial F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super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not a super key, there are some attributes (sa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that are not functionally determined b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-732960" y="5337000"/>
            <a:ext cx="106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That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is always associated with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is recorded by multiple row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redundancy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update anomaly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deletion anom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981080" y="3124080"/>
          <a:ext cx="3733920" cy="118908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5635-3FF3-4BD5-BBDF-976F1B38AD8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A2DD-3983-4D39-9DE7-151F15C8D7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ling with Nonkey Dependency: BCN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yce-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mal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m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For every non-trivial FD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is a super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all FDs follow from “key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ther attribut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o decom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 long as some relation is not in BCN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ome up with a correct 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ways decompose on a BCNF violation (details nex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n it is guaranteed to be a lossless join decomposition-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A99F-DBB7-4DF0-BB25-661F7FD1275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EEC9-B425-40F5-9A97-9ED6C78E74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NF decomposition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BCNF vi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a non-trivial FD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 super key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has attributes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ntains all attribute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are in neithe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i.e.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Z = attr(R) – X – 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until all relations are in 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356C-375E-411F-A1EA-474055AC083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4040-6B34-4B25-9C13-94E10B75DD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tell if a design is bad, e.g.,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I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Pname, Ho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esign h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ecause the name of an employee is recorded multiple times, once for each project the employee is 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3880" y="3657600"/>
          <a:ext cx="6324840" cy="1828800"/>
        </p:xfrm>
        <a:graphic>
          <a:graphicData uri="http://schemas.openxmlformats.org/drawingml/2006/table">
            <a:tbl>
              <a:tblPr/>
              <a:tblGrid>
                <a:gridCol w="1057320"/>
                <a:gridCol w="1152720"/>
                <a:gridCol w="1523880"/>
                <a:gridCol w="1552680"/>
                <a:gridCol w="1038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 L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Sidh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D1C2-576B-4432-B51A-650905B8426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EF08-04E9-4C72-B045-E845F651B7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NF decomposi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853200" y="1523880"/>
            <a:ext cx="645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hours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1721160" y="2013120"/>
            <a:ext cx="597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 violation: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5"/>
          <p:cNvGrpSpPr/>
          <p:nvPr/>
        </p:nvGrpSpPr>
        <p:grpSpPr>
          <a:xfrm>
            <a:off x="-226440" y="2448000"/>
            <a:ext cx="8534160" cy="1447560"/>
            <a:chOff x="-226440" y="2448000"/>
            <a:chExt cx="8534160" cy="1447560"/>
          </a:xfrm>
        </p:grpSpPr>
        <p:sp>
          <p:nvSpPr>
            <p:cNvPr id="311" name="Rectangle 6"/>
            <p:cNvSpPr/>
            <p:nvPr/>
          </p:nvSpPr>
          <p:spPr>
            <a:xfrm>
              <a:off x="-226440" y="3417840"/>
              <a:ext cx="4553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7"/>
            <p:cNvSpPr/>
            <p:nvPr/>
          </p:nvSpPr>
          <p:spPr>
            <a:xfrm>
              <a:off x="4487400" y="3414600"/>
              <a:ext cx="3820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Grad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8"/>
            <p:cNvSpPr/>
            <p:nvPr/>
          </p:nvSpPr>
          <p:spPr>
            <a:xfrm flipH="1">
              <a:off x="1981080" y="2448000"/>
              <a:ext cx="1981440" cy="9903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9"/>
            <p:cNvSpPr/>
            <p:nvPr/>
          </p:nvSpPr>
          <p:spPr>
            <a:xfrm>
              <a:off x="4648320" y="2448000"/>
              <a:ext cx="1981080" cy="9903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10"/>
          <p:cNvGrpSpPr/>
          <p:nvPr/>
        </p:nvGrpSpPr>
        <p:grpSpPr>
          <a:xfrm>
            <a:off x="1343880" y="3830760"/>
            <a:ext cx="5783040" cy="582480"/>
            <a:chOff x="1343880" y="3830760"/>
            <a:chExt cx="5783040" cy="582480"/>
          </a:xfrm>
        </p:grpSpPr>
        <p:sp>
          <p:nvSpPr>
            <p:cNvPr id="316" name="Text Box 11"/>
            <p:cNvSpPr/>
            <p:nvPr/>
          </p:nvSpPr>
          <p:spPr>
            <a:xfrm>
              <a:off x="1343880" y="389268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BC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2"/>
            <p:cNvSpPr/>
            <p:nvPr/>
          </p:nvSpPr>
          <p:spPr>
            <a:xfrm>
              <a:off x="6037920" y="383076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BC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4F4B-954A-42AD-A0F8-D008610DBF2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13D9-8DD3-495F-9A86-A783962F28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666000" y="1457280"/>
            <a:ext cx="645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WorkOn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name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ID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hours</a:t>
            </a:r>
            <a:r>
              <a:rPr b="0" lang="en-US" sz="2800" spc="-1" strike="noStrike">
                <a:solidFill>
                  <a:srgbClr val="000000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070360" y="1946160"/>
            <a:ext cx="4708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 violation: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-108720" y="2381400"/>
            <a:ext cx="9161640" cy="1534680"/>
            <a:chOff x="-108720" y="2381400"/>
            <a:chExt cx="9161640" cy="1534680"/>
          </a:xfrm>
        </p:grpSpPr>
        <p:sp>
          <p:nvSpPr>
            <p:cNvPr id="325" name="Rectangle 6"/>
            <p:cNvSpPr/>
            <p:nvPr/>
          </p:nvSpPr>
          <p:spPr>
            <a:xfrm>
              <a:off x="-108720" y="2905200"/>
              <a:ext cx="36388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2358360" y="3438360"/>
              <a:ext cx="6694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Grade’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 flipH="1">
              <a:off x="1828440" y="2381400"/>
              <a:ext cx="2109960" cy="5140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>
              <a:off x="4624560" y="2381400"/>
              <a:ext cx="1776240" cy="1047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10"/>
          <p:cNvSpPr/>
          <p:nvPr/>
        </p:nvSpPr>
        <p:spPr>
          <a:xfrm>
            <a:off x="1054800" y="329868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3521520" y="3965400"/>
            <a:ext cx="5252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 violation: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mail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2"/>
          <p:cNvGrpSpPr/>
          <p:nvPr/>
        </p:nvGrpSpPr>
        <p:grpSpPr>
          <a:xfrm>
            <a:off x="722160" y="4419720"/>
            <a:ext cx="8197560" cy="1477800"/>
            <a:chOff x="722160" y="4419720"/>
            <a:chExt cx="8197560" cy="1477800"/>
          </a:xfrm>
        </p:grpSpPr>
        <p:sp>
          <p:nvSpPr>
            <p:cNvPr id="332" name="Line 13"/>
            <p:cNvSpPr/>
            <p:nvPr/>
          </p:nvSpPr>
          <p:spPr>
            <a:xfrm flipH="1">
              <a:off x="3300480" y="4419720"/>
              <a:ext cx="2109600" cy="5140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4"/>
            <p:cNvSpPr/>
            <p:nvPr/>
          </p:nvSpPr>
          <p:spPr>
            <a:xfrm>
              <a:off x="722160" y="5019840"/>
              <a:ext cx="4772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Student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nam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6148440" y="4419720"/>
              <a:ext cx="1090440" cy="9903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6"/>
            <p:cNvSpPr/>
            <p:nvPr/>
          </p:nvSpPr>
          <p:spPr>
            <a:xfrm>
              <a:off x="4761360" y="5419800"/>
              <a:ext cx="4158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Grad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email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ID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,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7"/>
          <p:cNvGrpSpPr/>
          <p:nvPr/>
        </p:nvGrpSpPr>
        <p:grpSpPr>
          <a:xfrm>
            <a:off x="2685240" y="5432400"/>
            <a:ext cx="4975200" cy="963360"/>
            <a:chOff x="2685240" y="5432400"/>
            <a:chExt cx="4975200" cy="963360"/>
          </a:xfrm>
        </p:grpSpPr>
        <p:sp>
          <p:nvSpPr>
            <p:cNvPr id="337" name="Text Box 18"/>
            <p:cNvSpPr/>
            <p:nvPr/>
          </p:nvSpPr>
          <p:spPr>
            <a:xfrm>
              <a:off x="2685240" y="543240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BC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9"/>
            <p:cNvSpPr/>
            <p:nvPr/>
          </p:nvSpPr>
          <p:spPr>
            <a:xfrm>
              <a:off x="6571440" y="587520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AmeriGarmnd BT"/>
                </a:rPr>
                <a:t>BC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17BA-A7A7-416E-A451-01E55061A76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9DBB-D1F6-4EBD-8867-BCB6145B3A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perty(Property_id#, County_name, Lot#, Area, Price, Tax_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perty_id#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unty_name, Lot#, Area, Price, Tax_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unty_name, Lot#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perty_id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#, Area, Price, Tax_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unty_name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ax_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rea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71FD-2A13-44E2-A087-12C39C28F5E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CBEE-2472-414C-AC1C-BD736450F5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roperty(Property_id#, County_name, Lot#, Area, Price, Tax_r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1143000" y="19051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CNF violation: County_na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-&gt;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Tax_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21"/>
          <p:cNvGrpSpPr/>
          <p:nvPr/>
        </p:nvGrpSpPr>
        <p:grpSpPr>
          <a:xfrm>
            <a:off x="491400" y="2438280"/>
            <a:ext cx="8888400" cy="1620720"/>
            <a:chOff x="491400" y="2438280"/>
            <a:chExt cx="8888400" cy="1620720"/>
          </a:xfrm>
        </p:grpSpPr>
        <p:sp>
          <p:nvSpPr>
            <p:cNvPr id="351" name="Rectangle 6"/>
            <p:cNvSpPr/>
            <p:nvPr/>
          </p:nvSpPr>
          <p:spPr>
            <a:xfrm>
              <a:off x="491400" y="2962440"/>
              <a:ext cx="52099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LOTS1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County_name, Tax_rate 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7"/>
            <p:cNvSpPr/>
            <p:nvPr/>
          </p:nvSpPr>
          <p:spPr>
            <a:xfrm>
              <a:off x="812520" y="3581280"/>
              <a:ext cx="8567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LOTS2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roperty_id#, County_name, Lot#, Area, Pric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8"/>
            <p:cNvSpPr/>
            <p:nvPr/>
          </p:nvSpPr>
          <p:spPr>
            <a:xfrm flipH="1">
              <a:off x="2274480" y="2438280"/>
              <a:ext cx="2109960" cy="5144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9"/>
            <p:cNvSpPr/>
            <p:nvPr/>
          </p:nvSpPr>
          <p:spPr>
            <a:xfrm>
              <a:off x="5070600" y="2438280"/>
              <a:ext cx="1776240" cy="10479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10"/>
          <p:cNvSpPr/>
          <p:nvPr/>
        </p:nvSpPr>
        <p:spPr>
          <a:xfrm>
            <a:off x="3276720" y="40384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BCNF violation: Are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-&gt; 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2"/>
          <p:cNvGrpSpPr/>
          <p:nvPr/>
        </p:nvGrpSpPr>
        <p:grpSpPr>
          <a:xfrm>
            <a:off x="397440" y="4495680"/>
            <a:ext cx="8985960" cy="1620720"/>
            <a:chOff x="397440" y="4495680"/>
            <a:chExt cx="8985960" cy="1620720"/>
          </a:xfrm>
        </p:grpSpPr>
        <p:sp>
          <p:nvSpPr>
            <p:cNvPr id="357" name="Rectangle 13"/>
            <p:cNvSpPr/>
            <p:nvPr/>
          </p:nvSpPr>
          <p:spPr>
            <a:xfrm>
              <a:off x="397440" y="5019480"/>
              <a:ext cx="3341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LOTS2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Area, Price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4"/>
            <p:cNvSpPr/>
            <p:nvPr/>
          </p:nvSpPr>
          <p:spPr>
            <a:xfrm>
              <a:off x="1559880" y="5638680"/>
              <a:ext cx="78235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LOTS2B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meriGarmnd BT"/>
                </a:rPr>
                <a:t>Property_id#, County_name, Lot#, Area</a:t>
              </a:r>
              <a:r>
                <a:rPr b="0" lang="en-US" sz="2800" spc="-1" strike="noStrike">
                  <a:solidFill>
                    <a:srgbClr val="000000"/>
                  </a:solidFill>
                  <a:latin typeface="AmeriGarmnd B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5"/>
            <p:cNvSpPr/>
            <p:nvPr/>
          </p:nvSpPr>
          <p:spPr>
            <a:xfrm flipH="1">
              <a:off x="2080800" y="4495680"/>
              <a:ext cx="2109960" cy="5144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6"/>
            <p:cNvSpPr/>
            <p:nvPr/>
          </p:nvSpPr>
          <p:spPr>
            <a:xfrm>
              <a:off x="4876920" y="4495680"/>
              <a:ext cx="1776240" cy="1047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 Box 17"/>
          <p:cNvSpPr/>
          <p:nvPr/>
        </p:nvSpPr>
        <p:spPr>
          <a:xfrm>
            <a:off x="240480" y="32004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469080" y="53341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6846120" y="59389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B6E9-14F3-4784-BC4D-C58F258ECD6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1656-246E-403E-87E7-78CCE0F5FB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is BCNF decomposition lossl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non-trivial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super ke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eed to pr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hing we project always comes back in the join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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re; and it doesn’t depend on the F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hing that comes back in the join must be in the original relation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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of makes use of the fact th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2AB7-AD22-4F2F-9C2F-6C52057A249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37C9-1C67-4D70-A705-4DFA71EDFC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dependencies: a generalization of the key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al dependencies: a source of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Normal form to remove partial depend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key functional dependencies: a source of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NF decomposition: a method for removing ALL functional dependency related redunda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lus, BNCF decomposition is a lossless join decomposi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8FF6-C29F-4A90-929E-7DAC4F2C8B5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CDE9-3B10-46AD-AC54-BA0515C442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redundancy is ba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te disk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we want to perform update operations to the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ERT an new project that no employee has been assigned to it ye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PDATE the name of “John Smith” to “John L. Smith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ETE the last employee who works for a certain proj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33720" y="4498920"/>
          <a:ext cx="6324480" cy="1828800"/>
        </p:xfrm>
        <a:graphic>
          <a:graphicData uri="http://schemas.openxmlformats.org/drawingml/2006/table">
            <a:tbl>
              <a:tblPr/>
              <a:tblGrid>
                <a:gridCol w="1057320"/>
                <a:gridCol w="1152360"/>
                <a:gridCol w="1523880"/>
                <a:gridCol w="1552680"/>
                <a:gridCol w="1038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 L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Sidh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B plat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11AE-B246-44FD-98F9-76D050E9A38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A190-73AD-42A1-9D2B-6044B2D392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depen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1070-17CF-4F0A-A126-296F949A42F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BFD2-F638-48CE-B81C-E909DAFE23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al dependenc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unctional depend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F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s the form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sets of attributes in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hat whenever two tupl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ree on all the attribut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y must also agree on all attribut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 =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X]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Y] = 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[Y]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057400" y="4191120"/>
          <a:ext cx="3733920" cy="118908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057400" y="4191120"/>
          <a:ext cx="3733920" cy="118908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2" name="Group 94"/>
          <p:cNvGrpSpPr/>
          <p:nvPr/>
        </p:nvGrpSpPr>
        <p:grpSpPr>
          <a:xfrm>
            <a:off x="609480" y="5410080"/>
            <a:ext cx="2667240" cy="612000"/>
            <a:chOff x="609480" y="5410080"/>
            <a:chExt cx="2667240" cy="612000"/>
          </a:xfrm>
        </p:grpSpPr>
        <p:sp>
          <p:nvSpPr>
            <p:cNvPr id="123" name="Freeform 89"/>
            <p:cNvSpPr/>
            <p:nvPr/>
          </p:nvSpPr>
          <p:spPr>
            <a:xfrm>
              <a:off x="2286000" y="5410080"/>
              <a:ext cx="990720" cy="380880"/>
            </a:xfrm>
            <a:prstGeom prst="pie">
              <a:avLst/>
            </a:prstGeom>
            <a:noFill/>
            <a:ln w="5076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90"/>
            <p:cNvSpPr/>
            <p:nvPr/>
          </p:nvSpPr>
          <p:spPr>
            <a:xfrm>
              <a:off x="609480" y="556236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Must be “b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93"/>
          <p:cNvGrpSpPr/>
          <p:nvPr/>
        </p:nvGrpSpPr>
        <p:grpSpPr>
          <a:xfrm>
            <a:off x="5275440" y="5410080"/>
            <a:ext cx="3566160" cy="901800"/>
            <a:chOff x="5275440" y="5410080"/>
            <a:chExt cx="3566160" cy="901800"/>
          </a:xfrm>
        </p:grpSpPr>
        <p:sp>
          <p:nvSpPr>
            <p:cNvPr id="126" name="Text Box 91"/>
            <p:cNvSpPr/>
            <p:nvPr/>
          </p:nvSpPr>
          <p:spPr>
            <a:xfrm>
              <a:off x="5958720" y="5410080"/>
              <a:ext cx="28828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ould be anything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e.g.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2"/>
            <p:cNvSpPr/>
            <p:nvPr/>
          </p:nvSpPr>
          <p:spPr>
            <a:xfrm flipH="1">
              <a:off x="5275440" y="5410080"/>
              <a:ext cx="914400" cy="304920"/>
            </a:xfrm>
            <a:prstGeom prst="pie">
              <a:avLst/>
            </a:prstGeom>
            <a:noFill/>
            <a:ln w="5076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2057400" y="4191120"/>
          <a:ext cx="3733920" cy="1189080"/>
        </p:xfrm>
        <a:graphic>
          <a:graphicData uri="http://schemas.openxmlformats.org/drawingml/2006/table">
            <a:tbl>
              <a:tblPr/>
              <a:tblGrid>
                <a:gridCol w="1057320"/>
                <a:gridCol w="145728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99CD-B22E-4F0F-85A0-4ADB4182729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A1CC-CD72-4E6C-9112-7015B9F222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D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a trivial F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Trivial F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LHS     RH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non-trivial, but not completely non-triv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Completely non-trivial F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LHS ∩ RHS = </a:t>
            </a:r>
            <a:r>
              <a:rPr b="0" lang="en-US" sz="2600" spc="-1" strike="noStrike">
                <a:solidFill>
                  <a:srgbClr val="000000"/>
                </a:solidFill>
                <a:latin typeface="msbm10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1676520" y="1523880"/>
            <a:ext cx="350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5"/>
              <p:cNvSpPr txBox="1"/>
              <p:nvPr/>
            </p:nvSpPr>
            <p:spPr>
              <a:xfrm>
                <a:off x="3200400" y="3657600"/>
                <a:ext cx="609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⊇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2B13-098F-4EB5-BDD9-F21FD0ECE2C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FB6A-B62B-40F6-8DDB-FB7E9B94A9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s redefined using FD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set of all attribut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set of attrib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(candidate)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r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) - K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“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uper ke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roper sub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tisfies the above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minimal (full functional dependen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e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street_address, city, state, zip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street_address, city, zip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street_address, zip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{zip}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2057400" y="419112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5029200" y="4191120"/>
            <a:ext cx="3429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er k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er ke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n-ke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45720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8C2A-B17F-4C1A-977B-F27C32E2D4F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47712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ke Huan Univ. of Kan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477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BD09-BE1A-42BC-8E5D-515904F806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soning with FD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rel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FD’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Does another FD follow from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F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some of the FD’s in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edundant (i.e., they follow from the others)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a key of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are all the key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liuj</cp:lastModifiedBy>
  <dcterms:modified xsi:type="dcterms:W3CDTF">2007-10-05T03:28:44Z</dcterms:modified>
  <cp:revision>925</cp:revision>
  <dc:subject/>
  <dc:title>CS186: Introduction to Database Systems</dc:title>
</cp:coreProperties>
</file>