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9BFB-82F1-4293-B930-7E3DCB368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11B3-A262-4000-8266-37F275199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DED8-3E1C-4079-BF4E-7284737157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AF8-2DC5-48E4-9D26-30F62C0E2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536D-D77D-49F1-AA00-63793F889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29E7-BBED-4762-ABD5-F89F0486D3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14D6-6399-4D97-8DE4-A086BA72F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C18-F247-4DE7-B2FA-161F3D0962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907B-B317-4D61-A901-214620F50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2950-1F72-46AB-957B-E540988A7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CF4D-65D4-4A7C-8A3D-1B9CE03C51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6E1-7FF4-4878-B6FA-BC1A1F159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B9D-C740-4E5A-AD25-469F166F2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C93E-FF1D-4434-BA6E-3D4373EB6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495F-A605-41BC-9F01-4223D3043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ED2A-F627-4F6B-BD6D-70E96B545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948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6FA-42C7-44EC-8475-DFD2033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E8B-1FD4-4474-9E7C-A84478DE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367-3CB7-41E9-8EB7-2AD8FF9B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F9D-4FC9-434C-874D-103B64E7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7E5-1259-4711-B8FE-63EE1542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992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1240" y="106632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992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1240" y="3812760"/>
            <a:ext cx="277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242-41ED-4852-8F23-480735F3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C8E-1B8C-406F-99DF-90CB8C6C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3DE-2755-4859-97B5-EA0F2ABA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5438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944-AF57-4F5F-9040-87A0DBDB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B18-C906-462C-AFB7-08BC117F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81276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12B-AB84-4961-849D-BA4B57D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066320"/>
            <a:ext cx="4201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2760"/>
            <a:ext cx="8610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14C-902F-44FE-9EDC-CE60D217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1240" indent="-292320">
              <a:spcBef>
                <a:spcPts val="7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98760" indent="-316080">
              <a:spcBef>
                <a:spcPts val="700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98760" indent="-316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611-1AC8-4160-A791-4315FCB3A88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CDF-B7C5-4B6F-B771-F6D6799DEA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837720"/>
            <a:ext cx="9016920" cy="77760"/>
          </a:xfrm>
          <a:custGeom>
            <a:avLst/>
            <a:gdLst/>
            <a:ahLst/>
            <a:rect l="l" t="t" r="r" b="b"/>
            <a:pathLst>
              <a:path w="6344" h="1">
                <a:moveTo>
                  <a:pt x="0" y="0"/>
                </a:moveTo>
                <a:lnTo>
                  <a:pt x="6344" y="0"/>
                </a:lnTo>
              </a:path>
            </a:pathLst>
          </a:custGeom>
          <a:solidFill>
            <a:srgbClr val="af8a01"/>
          </a:solidFill>
          <a:ln w="38160">
            <a:solidFill>
              <a:srgbClr val="ef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21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91320" y="3962520"/>
            <a:ext cx="3120840" cy="2708280"/>
            <a:chOff x="5791320" y="3962520"/>
            <a:chExt cx="3120840" cy="2708280"/>
          </a:xfrm>
        </p:grpSpPr>
        <p:sp>
          <p:nvSpPr>
            <p:cNvPr id="44" name=""/>
            <p:cNvSpPr/>
            <p:nvPr/>
          </p:nvSpPr>
          <p:spPr>
            <a:xfrm>
              <a:off x="5791320" y="5908680"/>
              <a:ext cx="3120840" cy="76212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91320" y="4383360"/>
              <a:ext cx="3120840" cy="190476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3962520"/>
              <a:ext cx="3120840" cy="76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693720" algn="ctr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huan@eecs.ku.edu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752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ff"/>
                </a:solidFill>
                <a:latin typeface="Arial"/>
              </a:rPr>
              <a:t>EECS 647: Introduction to Database Systems</a:t>
            </a:r>
            <a:endParaRPr b="1" lang="en-US" sz="41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33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or: Luke Hu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pring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Database Management Syste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atabase Management System (DBM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programs that enable uses to create and mainta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ore, manage, and access data in a databa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this term is us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databases with 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Oracle, DB2, SQ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ly because they predate other large reposit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because of technical ric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we say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DB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this class we will usually follow this conv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keep an open mind about applying the ide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E09-D0BA-4359-85BF-EDBD79110E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01827-7DBB-4B68-95D5-F8C11E4842F9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the WWW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rly sophisticated search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awler indexes pages on the we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word-based search for p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is mostly unstructured and untyp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arch onl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modify th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’t get summaries, complex combination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w guarantees provided for freshness of data, consistency across data items, fault tolerance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b sites typically have a (relational) DBMS in the background to provide these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EE0-B275-4210-9D18-B1ABACE3CC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832B7-7716-4643-9521-7294651FCE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the WWW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cture is changing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tion Extraction to get structure from unstructur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w standards e.g., XML, Semantic Web can help data mode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5EA-C52A-4153-A1FD-54E1C06BFF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9E133-CC34-4A21-B5C4-4099CB1FC6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12511" r="0" b="19585"/>
          <a:stretch/>
        </p:blipFill>
        <p:spPr>
          <a:xfrm>
            <a:off x="3352680" y="990720"/>
            <a:ext cx="5410440" cy="5294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“Search” vs. Qu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you wanted to find out which actors donated to John Kerry’s presidential campaig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</a:t>
            </a:r>
            <a:r>
              <a:rPr b="0" lang="en-US" sz="2400" spc="-1" strike="noStrike">
                <a:solidFill>
                  <a:srgbClr val="e81f11"/>
                </a:solidFill>
                <a:latin typeface="Times New Roman"/>
              </a:rPr>
              <a:t>“actors donated to john kerry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your favorite search en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Osaka"/>
              </a:rPr>
              <a:t>If it isn’t “published”, it can’t be search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BA0-5D3A-46F5-97C9-C38291FCC9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1985F-963B-4C0A-AEB9-74C2A87A81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0" b="36563"/>
          <a:stretch/>
        </p:blipFill>
        <p:spPr>
          <a:xfrm>
            <a:off x="380880" y="1295280"/>
            <a:ext cx="4038840" cy="4667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>
            <a:lum bright="26000"/>
          </a:blip>
          <a:srcRect l="0" t="0" r="0" b="26188"/>
          <a:stretch/>
        </p:blipFill>
        <p:spPr>
          <a:xfrm>
            <a:off x="4572000" y="1219320"/>
            <a:ext cx="4086360" cy="4572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126" name=""/>
          <p:cNvGrpSpPr/>
          <p:nvPr/>
        </p:nvGrpSpPr>
        <p:grpSpPr>
          <a:xfrm>
            <a:off x="3733920" y="3276720"/>
            <a:ext cx="1371600" cy="1447200"/>
            <a:chOff x="3733920" y="3276720"/>
            <a:chExt cx="1371600" cy="1447200"/>
          </a:xfrm>
        </p:grpSpPr>
        <p:sp>
          <p:nvSpPr>
            <p:cNvPr id="127" name=""/>
            <p:cNvSpPr/>
            <p:nvPr/>
          </p:nvSpPr>
          <p:spPr>
            <a:xfrm>
              <a:off x="3733920" y="4316760"/>
              <a:ext cx="1371600" cy="407160"/>
            </a:xfrm>
            <a:prstGeom prst="ellipse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3501360"/>
              <a:ext cx="1371600" cy="1018080"/>
            </a:xfrm>
            <a:prstGeom prst="rect">
              <a:avLst/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3733920" y="3276720"/>
            <a:ext cx="1371600" cy="407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3276720"/>
                      <a:ext cx="137160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“Database Query”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rcRect l="38947" t="22663" r="31717" b="69249"/>
          <a:stretch/>
        </p:blipFill>
        <p:spPr>
          <a:xfrm>
            <a:off x="457200" y="1143000"/>
            <a:ext cx="441972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rcRect l="61057" t="19423" r="19219" b="66819"/>
          <a:stretch/>
        </p:blipFill>
        <p:spPr>
          <a:xfrm>
            <a:off x="5181480" y="990720"/>
            <a:ext cx="297180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C8F-078C-43A4-B5A3-942EC249F2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762C4-D441-41DF-A964-1E0176F768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3200400"/>
            <a:ext cx="37735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Experiment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’re updating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goe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hanges surv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120" y="2971800"/>
            <a:ext cx="16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Y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22400" y="297324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Partner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3520" y="297324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57400" y="29732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N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39200" y="2973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" y="54928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7120" y="549288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1360" y="549288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All Since Last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13160" y="5492880"/>
            <a:ext cx="13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)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Is a File System a DBM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30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Experiment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nd your project partner are editing the same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both save it at the same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ose changes surviv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828800"/>
            <a:ext cx="5486400" cy="312300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Q: How do you wri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grams over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ubsystem when 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omises you only “???”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Book Antiqua"/>
              </a:rPr>
              <a:t>A: Very, very carefully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87E-4941-4BB1-9F6B-99EDB10147A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1B002-1255-4C25-9863-C25EF849B7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S Support for Data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7440" y="1066680"/>
            <a:ext cx="813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an be stored in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what every programming language offer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AM is fast, and random ac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n’t this heave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OS includes a Fi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fi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magnetic dis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pen, read, seek, clos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protections to be set on a f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wbacks relative to RA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F4C-9B6E-4A8E-A96C-668EBBB359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66520-5C70-44AE-86B0-4105D18489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anagement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327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ore could we want than a fil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e, efficien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d hoc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nefits of good data model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M.O.P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 Not real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 we’ll see this seme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fact, the OS often gets in the way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240" y="5273640"/>
            <a:ext cx="855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cf0e3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</a:rPr>
              <a:t>ad hoc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d or used for specific or immediate problems o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7e9ce8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7e9ce8"/>
                </a:solidFill>
                <a:latin typeface="Times New Roman"/>
              </a:rPr>
              <a:t>SMOP</a:t>
            </a:r>
            <a:r>
              <a:rPr b="0" lang="en-US" sz="2400" spc="-1" strike="noStrike">
                <a:solidFill>
                  <a:srgbClr val="d8d8e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Matter Of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7364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CB5-C683-48B7-AAC6-38E4C98A62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727A0-AC5F-4403-BDEA-D5426461C1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Commercial Outl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ajor part of the software industr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cle, IBM, Microso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Sybase, Informix (now IBM), Tera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er players: java-based dbms, devices, OO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ts of related indus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warehouse, document management, storage, backup, reporting, business intelligence, ERP, CRM, app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ditional Relational DBMS products dominant and evol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apted for extensibility (user-defined types), native XML suppo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merger of file system/DB…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 Source coming on str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ySQL, PostgreSQL, Apache Derby, BerkeleyDB, Ingres, Eigen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 of course, the other “database” technolog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engines, P2P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52C-7FB8-4B98-8E52-26BCB6A7C3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EDCF3-B43E-4BDB-A566-D8C6257622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a DBMS: a short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redund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 unauthorized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persistent storage for progra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storage structure for efficient query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backup and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Times New Roman"/>
              </a:rPr>
              <a:t>And many many others that are going to be explored in this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4F8-FC87-47F4-8752-51B3DB396F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C74BF-6301-41D0-A3E4-2DBB8ED8FD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952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ies for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1327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atabas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database management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ake a database cour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will te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take the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ew of class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D01-93D4-4D94-B7A4-B272C1108D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8FDB0-C74F-48B8-BDCA-FE5E8020D4FF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atabase systems will we cov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be try to be broad and touch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DB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Oracle, SQL Server, DB2, Postg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mi-structured”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DB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XML repositories like Xind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: transfer data into knowledge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assume you have used web search eng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assume you don’t know relational datab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 they pioneered many of the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focus will be on relational DBM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requent side-notes on search engines, XM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14F-D561-4B33-9D4E-68B8543BB3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D5B90-4352-4731-8FEE-37D178DC7CF8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ystems are at the core of 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incredibly important to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ic is intellectually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n’t that much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0066"/>
              </a:buClr>
              <a:buSzPct val="70000"/>
              <a:buFont typeface="Times New Roman"/>
              <a:buAutoNum type="alphaUcPeriod"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s good on your re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spcAft>
                <a:spcPts val="11"/>
              </a:spcAft>
              <a:buNone/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pend a little time on each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819520"/>
            <a:ext cx="5105160" cy="12600"/>
          </a:xfrm>
          <a:prstGeom prst="line">
            <a:avLst/>
          </a:prstGeom>
          <a:ln w="38160">
            <a:solidFill>
              <a:srgbClr val="d60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FC4-0405-4B72-9DE4-D93257BB82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386E5-1A8D-4EB2-97DE-A3E2B9576E53}" type="datetime1">
              <a:rPr lang="en-US"/>
              <a:t>07/28/2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ft from computation to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ue in corporate computing for yea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, p2p made this clear for personal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ingly true of scientific compu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DB technology has exploded in the last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Corpor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retail swipe/clickstreams, “customer relationship mgmt”, “supply chain mgmt”, “data warehouses”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We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not just “documents”. Search engines, e-commerce, blogs, wikis, other “web service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Scientif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digital libraries, genomics, satellite imagery, physical sensors, simulation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9ce8"/>
                </a:solidFill>
                <a:latin typeface="Times New Roman"/>
              </a:rPr>
              <a:t>Person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usic, photo, &amp; video libraries.  Email archives. File contents (“desktop search”)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5320" y="952560"/>
            <a:ext cx="49798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. Database systems are the core of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AB-BDB3-4BDA-A566-FA4BC5D79E7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3A936-8FD6-4106-9261-E17F615E5ADB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5181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is power.” -- Sir Francis B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great power comes great responsibility.” -- SpiderMan’s Uncle 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90120" y="952560"/>
            <a:ext cx="5354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. DBs are incredibly important to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632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9240" y="5514840"/>
            <a:ext cx="84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Arial"/>
              </a:rPr>
              <a:t>Policy-makers should understand technological pos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f11"/>
                </a:solidFill>
                <a:latin typeface="Arial"/>
              </a:rPr>
              <a:t>Informed Technologists needed in public discourse on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67280" y="1903320"/>
            <a:ext cx="3016440" cy="30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E8B-AC0C-4C99-BC55-5D683D986C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0E1D-35D9-4E70-9B0B-35A7D7107474}" type="datetime1">
              <a:rPr lang="en-US"/>
              <a:t>07/28/26</a:t>
            </a:fld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ode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 and systems for query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queries &amp; query semantics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massive data 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for 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ling concurrent ac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suring transactional seman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tain data semantics even if you pull the plu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 your data sp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mantics: the meaning or relationship of meanings of a sign or set of 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02000" y="952560"/>
            <a:ext cx="42526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.  The topic is intellectually r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36A-5E4F-4708-B73E-B2F10B2DCE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FEE9B-E004-4F22-9D7F-BF4F5731FF3D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news: It is a lot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news: the course is front 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of the hard work is in the first half of the seme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ad balanced with most other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1066680"/>
            <a:ext cx="3657600" cy="12960"/>
          </a:xfrm>
          <a:prstGeom prst="line">
            <a:avLst/>
          </a:prstGeom>
          <a:ln w="25560">
            <a:solidFill>
              <a:srgbClr val="d60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07400" y="952560"/>
            <a:ext cx="3457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.  It isn’t that much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2BC-3329-4B4F-9DD8-97409595922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DB5CF-F965-4122-9650-C1B5044E290B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398"/>
              </a:lnSpc>
              <a:spcBef>
                <a:spcPts val="601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but why?  This is not a cours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acle administ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DB2 engine develop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ough it’s useful for both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398"/>
              </a:lnSpc>
              <a:spcBef>
                <a:spcPts val="601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course for well-educated computer scient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system concepts and techniques increasingly used “outside the box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 your friends at Microsoft, Yahoo!, Google, Apple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ts val="2200"/>
              </a:lnSpc>
              <a:spcBef>
                <a:spcPts val="550"/>
              </a:spcBef>
              <a:spcAft>
                <a:spcPts val="400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ually, they may or may not realize it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398"/>
              </a:lnSpc>
              <a:spcBef>
                <a:spcPts val="550"/>
              </a:spcBef>
              <a:spcAft>
                <a:spcPts val="1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rich understanding of these issues is a basic and (un?)fortunately unusual ski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22480" y="1563840"/>
            <a:ext cx="915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200"/>
              </a:lnSpc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ke this cla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04880" y="952560"/>
            <a:ext cx="38199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76320">
              <a:lnSpc>
                <a:spcPts val="2200"/>
              </a:lnSpc>
              <a:spcAft>
                <a:spcPts val="300"/>
              </a:spcAft>
              <a:tabLst>
                <a:tab algn="l" pos="0"/>
                <a:tab algn="l" pos="355680"/>
                <a:tab algn="l" pos="45720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.  Looks good on my res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79B-3B60-45C4-8ED5-6E29D6FC87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A4582-69AE-4629-A9AD-18D15A3CEAF7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f. Luke Huan, EE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Times New Roman"/>
                <a:hlinkClick r:id="rId1"/>
              </a:rPr>
              <a:t>jhuan@eecs.ku.ed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. Office Hou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ton Hall 2034, M, W 4:15-5:15p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A61-3B0A-4138-B09A-F72C649517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E3D25-FCB5-4F66-8DE8-5BC1D678A7FD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ow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Workloa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with a “real world” foc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a web-based application w/PostgreSQL and your favorite internet programming languge (PHP, JAVA, PERL, just naming a fe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work assignments and quiz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s – 1 Midterm &amp; 1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to be done in groups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your partner AS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se is “front-load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474480">
              <a:lnSpc>
                <a:spcPts val="2200"/>
              </a:lnSpc>
              <a:spcBef>
                <a:spcPts val="649"/>
              </a:spcBef>
              <a:spcAft>
                <a:spcPts val="499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343080"/>
                <a:tab algn="l" pos="743040"/>
                <a:tab algn="l" pos="91440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of the hard work is in the first hal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FC9-57DC-4EA2-8F61-C2FAA23BDF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5E68A-59CA-41B4-B2B0-44CE3001BC16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H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Administ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spcAft>
                <a:spcPts val="4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 book: Elmasri &amp; Navatgh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website - people.eecs.ku.edu/~jhuan/EECS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t regul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include eecs 647 in your mail to the instructor (for quick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ing, hand-in policies, etc. is on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 textbook will be available at the KU bookstore today or tom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200-A98D-4B83-83A6-437C1A9A015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0F64C-DF94-42FD-B423-D7676936B71B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54360" y="1066680"/>
            <a:ext cx="4147920" cy="539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h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ED7-6C78-4450-8020-FED5E24F5E1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D9B3C-2142-4055-A12B-4BABFCBDC5CE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ademic Miscondu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ake academic misconduc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ncourage student to work together for doing homework and projects, but each student should write down their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w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absolutely encouraged to discuss with your classmates about your homework assignments, programming exercises, and final pro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8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responsible for all your work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homework assignments and projects resulted from discussion, please always acknowledge other people’s contribution by including a sentence at the beginning of the hand-in saying “I discussed the homework (project) with XXX (include more names if necessary)”. There is absolutely NO penalty for doing 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8B0-7426-4311-AAC8-F2EDD057A4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ADED-32C5-4C22-AD7E-40A55191FA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for the rest of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a preview of the class cont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gical database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in the fu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Entity-Relationship mo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lecture is from Chapter 1 and 2 in E &amp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Chapter 3 for nex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1523880"/>
            <a:ext cx="4419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67D-052B-4A26-AAD0-BE58ADB9F3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D32EE-C75E-455D-89A8-399003BDB2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R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base logical desig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y with SQ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D62-4A7D-4F32-AC63-F8468AD367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7BED0-A5E5-412B-8B98-227855B440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odels Describ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7200" y="1218960"/>
            <a:ext cx="81313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data model</a:t>
            </a:r>
            <a:r>
              <a:rPr b="0" i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llection of concepts for describing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levels of data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ptual (semantic) data model uses data (facts) to describe a physical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resentational model describes data in database management system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data model describe how data is stored in files in compute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9467-5D9F-40A9-A6E7-6B0A95383B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1DAA4-971B-49C5-B26A-77889249EC8B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R Model for a mini-Wor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3276720"/>
            <a:ext cx="89917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Ent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world object distinguishable from other objects. An entity is described (in DB) using a set of attributes.</a:t>
            </a: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9999"/>
                </a:solidFill>
                <a:uFillTx/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669999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 among two or more entities.  E.g., John works in Pharmacy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07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219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224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 Describes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elational mode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most popular representational data model that are used by current commercial DB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model describes data us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3276720"/>
          <a:ext cx="6095880" cy="1955520"/>
        </p:xfrm>
        <a:graphic>
          <a:graphicData uri="http://schemas.openxmlformats.org/drawingml/2006/table">
            <a:tbl>
              <a:tblPr/>
              <a:tblGrid>
                <a:gridCol w="2031840"/>
                <a:gridCol w="2235240"/>
                <a:gridCol w="182880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6629400" y="3276720"/>
            <a:ext cx="2449800" cy="1441440"/>
            <a:chOff x="6629400" y="3276720"/>
            <a:chExt cx="2449800" cy="1441440"/>
          </a:xfrm>
        </p:grpSpPr>
        <p:sp>
          <p:nvSpPr>
            <p:cNvPr id="241" name=""/>
            <p:cNvSpPr/>
            <p:nvPr/>
          </p:nvSpPr>
          <p:spPr>
            <a:xfrm>
              <a:off x="7378560" y="32767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29400" y="35910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63000" y="35910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5600" y="42786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88280" y="36576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44080" y="33195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14760" y="43434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5800" y="36450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64480" y="36896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07400" y="40356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183520" y="40356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5410080"/>
            <a:ext cx="764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rdinality = 3, degree = 3, all rows disti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715000"/>
            <a:ext cx="716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o all columns in a relation instance have to be distin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755-3C3C-45C6-98A7-33A20510AA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35161-4F45-4354-987C-9B3D7E60ACF3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56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268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273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152280" y="3200400"/>
          <a:ext cx="365760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4191120" y="3178080"/>
          <a:ext cx="3733560" cy="914400"/>
        </p:xfrm>
        <a:graphic>
          <a:graphicData uri="http://schemas.openxmlformats.org/drawingml/2006/table">
            <a:tbl>
              <a:tblPr/>
              <a:tblGrid>
                <a:gridCol w="1218960"/>
                <a:gridCol w="1108080"/>
                <a:gridCol w="140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191120" y="4245120"/>
          <a:ext cx="2438280" cy="1927080"/>
        </p:xfrm>
        <a:graphic>
          <a:graphicData uri="http://schemas.openxmlformats.org/drawingml/2006/table">
            <a:tbl>
              <a:tblPr/>
              <a:tblGrid>
                <a:gridCol w="1371240"/>
                <a:gridCol w="1067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867-B13F-4088-AC10-3AD922BDA85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85A2-8462-4310-BF5A-046A06A7FC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289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301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306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7" name=""/>
          <p:cNvGraphicFramePr/>
          <p:nvPr/>
        </p:nvGraphicFramePr>
        <p:xfrm>
          <a:off x="152280" y="3200400"/>
          <a:ext cx="487692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  <a:gridCol w="121932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181480" y="3200400"/>
          <a:ext cx="3733920" cy="914400"/>
        </p:xfrm>
        <a:graphic>
          <a:graphicData uri="http://schemas.openxmlformats.org/drawingml/2006/table">
            <a:tbl>
              <a:tblPr/>
              <a:tblGrid>
                <a:gridCol w="1219320"/>
                <a:gridCol w="1108080"/>
                <a:gridCol w="140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C96-3B42-4316-8AAE-C5F74AC8547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001C-9397-4685-BD36-815080EC13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ical Database Design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33520" y="3276720"/>
          <a:ext cx="8153280" cy="1990440"/>
        </p:xfrm>
        <a:graphic>
          <a:graphicData uri="http://schemas.openxmlformats.org/drawingml/2006/table">
            <a:tbl>
              <a:tblPr/>
              <a:tblGrid>
                <a:gridCol w="1420560"/>
                <a:gridCol w="1908360"/>
                <a:gridCol w="1055520"/>
                <a:gridCol w="1254240"/>
                <a:gridCol w="1143000"/>
                <a:gridCol w="13716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1442880" y="1446120"/>
            <a:ext cx="2449800" cy="1441440"/>
            <a:chOff x="1442880" y="1446120"/>
            <a:chExt cx="2449800" cy="1441440"/>
          </a:xfrm>
        </p:grpSpPr>
        <p:sp>
          <p:nvSpPr>
            <p:cNvPr id="322" name=""/>
            <p:cNvSpPr/>
            <p:nvPr/>
          </p:nvSpPr>
          <p:spPr>
            <a:xfrm>
              <a:off x="2192040" y="1446120"/>
              <a:ext cx="838440" cy="428760"/>
            </a:xfrm>
            <a:custGeom>
              <a:avLst/>
              <a:gdLst/>
              <a:ahLst/>
              <a:rect l="l" t="t" r="r" b="b"/>
              <a:pathLst>
                <a:path w="528" h="270">
                  <a:moveTo>
                    <a:pt x="527" y="134"/>
                  </a:moveTo>
                  <a:lnTo>
                    <a:pt x="525" y="123"/>
                  </a:lnTo>
                  <a:lnTo>
                    <a:pt x="522" y="111"/>
                  </a:lnTo>
                  <a:lnTo>
                    <a:pt x="517" y="100"/>
                  </a:lnTo>
                  <a:lnTo>
                    <a:pt x="510" y="88"/>
                  </a:lnTo>
                  <a:lnTo>
                    <a:pt x="501" y="78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5" y="48"/>
                  </a:lnTo>
                  <a:lnTo>
                    <a:pt x="449" y="40"/>
                  </a:lnTo>
                  <a:lnTo>
                    <a:pt x="433" y="32"/>
                  </a:lnTo>
                  <a:lnTo>
                    <a:pt x="414" y="24"/>
                  </a:lnTo>
                  <a:lnTo>
                    <a:pt x="394" y="18"/>
                  </a:lnTo>
                  <a:lnTo>
                    <a:pt x="374" y="14"/>
                  </a:lnTo>
                  <a:lnTo>
                    <a:pt x="353" y="8"/>
                  </a:lnTo>
                  <a:lnTo>
                    <a:pt x="331" y="5"/>
                  </a:lnTo>
                  <a:lnTo>
                    <a:pt x="309" y="2"/>
                  </a:lnTo>
                  <a:lnTo>
                    <a:pt x="286" y="1"/>
                  </a:lnTo>
                  <a:lnTo>
                    <a:pt x="262" y="0"/>
                  </a:lnTo>
                  <a:lnTo>
                    <a:pt x="240" y="1"/>
                  </a:lnTo>
                  <a:lnTo>
                    <a:pt x="218" y="2"/>
                  </a:lnTo>
                  <a:lnTo>
                    <a:pt x="195" y="5"/>
                  </a:lnTo>
                  <a:lnTo>
                    <a:pt x="173" y="8"/>
                  </a:lnTo>
                  <a:lnTo>
                    <a:pt x="152" y="14"/>
                  </a:lnTo>
                  <a:lnTo>
                    <a:pt x="132" y="18"/>
                  </a:lnTo>
                  <a:lnTo>
                    <a:pt x="112" y="24"/>
                  </a:lnTo>
                  <a:lnTo>
                    <a:pt x="94" y="32"/>
                  </a:lnTo>
                  <a:lnTo>
                    <a:pt x="77" y="40"/>
                  </a:lnTo>
                  <a:lnTo>
                    <a:pt x="62" y="48"/>
                  </a:lnTo>
                  <a:lnTo>
                    <a:pt x="48" y="57"/>
                  </a:lnTo>
                  <a:lnTo>
                    <a:pt x="36" y="67"/>
                  </a:lnTo>
                  <a:lnTo>
                    <a:pt x="25" y="78"/>
                  </a:lnTo>
                  <a:lnTo>
                    <a:pt x="16" y="88"/>
                  </a:lnTo>
                  <a:lnTo>
                    <a:pt x="9" y="100"/>
                  </a:lnTo>
                  <a:lnTo>
                    <a:pt x="4" y="111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8"/>
                  </a:lnTo>
                  <a:lnTo>
                    <a:pt x="9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6" y="201"/>
                  </a:lnTo>
                  <a:lnTo>
                    <a:pt x="48" y="211"/>
                  </a:lnTo>
                  <a:lnTo>
                    <a:pt x="62" y="220"/>
                  </a:lnTo>
                  <a:lnTo>
                    <a:pt x="77" y="228"/>
                  </a:lnTo>
                  <a:lnTo>
                    <a:pt x="94" y="237"/>
                  </a:lnTo>
                  <a:lnTo>
                    <a:pt x="112" y="244"/>
                  </a:lnTo>
                  <a:lnTo>
                    <a:pt x="132" y="250"/>
                  </a:lnTo>
                  <a:lnTo>
                    <a:pt x="152" y="256"/>
                  </a:lnTo>
                  <a:lnTo>
                    <a:pt x="173" y="260"/>
                  </a:lnTo>
                  <a:lnTo>
                    <a:pt x="195" y="264"/>
                  </a:lnTo>
                  <a:lnTo>
                    <a:pt x="218" y="266"/>
                  </a:lnTo>
                  <a:lnTo>
                    <a:pt x="240" y="267"/>
                  </a:lnTo>
                  <a:lnTo>
                    <a:pt x="262" y="269"/>
                  </a:lnTo>
                  <a:lnTo>
                    <a:pt x="286" y="267"/>
                  </a:lnTo>
                  <a:lnTo>
                    <a:pt x="309" y="266"/>
                  </a:lnTo>
                  <a:lnTo>
                    <a:pt x="331" y="264"/>
                  </a:lnTo>
                  <a:lnTo>
                    <a:pt x="353" y="260"/>
                  </a:lnTo>
                  <a:lnTo>
                    <a:pt x="374" y="256"/>
                  </a:lnTo>
                  <a:lnTo>
                    <a:pt x="394" y="250"/>
                  </a:lnTo>
                  <a:lnTo>
                    <a:pt x="414" y="244"/>
                  </a:lnTo>
                  <a:lnTo>
                    <a:pt x="433" y="237"/>
                  </a:lnTo>
                  <a:lnTo>
                    <a:pt x="449" y="228"/>
                  </a:lnTo>
                  <a:lnTo>
                    <a:pt x="465" y="220"/>
                  </a:lnTo>
                  <a:lnTo>
                    <a:pt x="478" y="211"/>
                  </a:lnTo>
                  <a:lnTo>
                    <a:pt x="490" y="201"/>
                  </a:lnTo>
                  <a:lnTo>
                    <a:pt x="501" y="190"/>
                  </a:lnTo>
                  <a:lnTo>
                    <a:pt x="510" y="180"/>
                  </a:lnTo>
                  <a:lnTo>
                    <a:pt x="517" y="168"/>
                  </a:lnTo>
                  <a:lnTo>
                    <a:pt x="522" y="158"/>
                  </a:lnTo>
                  <a:lnTo>
                    <a:pt x="525" y="145"/>
                  </a:lnTo>
                  <a:lnTo>
                    <a:pt x="527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2880" y="1760400"/>
              <a:ext cx="835200" cy="428760"/>
            </a:xfrm>
            <a:custGeom>
              <a:avLst/>
              <a:gdLst/>
              <a:ahLst/>
              <a:rect l="l" t="t" r="r" b="b"/>
              <a:pathLst>
                <a:path w="526" h="270">
                  <a:moveTo>
                    <a:pt x="525" y="134"/>
                  </a:moveTo>
                  <a:lnTo>
                    <a:pt x="523" y="123"/>
                  </a:lnTo>
                  <a:lnTo>
                    <a:pt x="520" y="110"/>
                  </a:lnTo>
                  <a:lnTo>
                    <a:pt x="516" y="100"/>
                  </a:lnTo>
                  <a:lnTo>
                    <a:pt x="508" y="88"/>
                  </a:lnTo>
                  <a:lnTo>
                    <a:pt x="500" y="77"/>
                  </a:lnTo>
                  <a:lnTo>
                    <a:pt x="489" y="67"/>
                  </a:lnTo>
                  <a:lnTo>
                    <a:pt x="477" y="57"/>
                  </a:lnTo>
                  <a:lnTo>
                    <a:pt x="463" y="48"/>
                  </a:lnTo>
                  <a:lnTo>
                    <a:pt x="447" y="40"/>
                  </a:lnTo>
                  <a:lnTo>
                    <a:pt x="431" y="31"/>
                  </a:lnTo>
                  <a:lnTo>
                    <a:pt x="413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2" y="8"/>
                  </a:lnTo>
                  <a:lnTo>
                    <a:pt x="330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1" y="0"/>
                  </a:lnTo>
                  <a:lnTo>
                    <a:pt x="240" y="1"/>
                  </a:lnTo>
                  <a:lnTo>
                    <a:pt x="217" y="2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8"/>
                  </a:lnTo>
                  <a:lnTo>
                    <a:pt x="111" y="24"/>
                  </a:lnTo>
                  <a:lnTo>
                    <a:pt x="94" y="31"/>
                  </a:lnTo>
                  <a:lnTo>
                    <a:pt x="77" y="40"/>
                  </a:lnTo>
                  <a:lnTo>
                    <a:pt x="61" y="48"/>
                  </a:lnTo>
                  <a:lnTo>
                    <a:pt x="47" y="57"/>
                  </a:lnTo>
                  <a:lnTo>
                    <a:pt x="35" y="67"/>
                  </a:lnTo>
                  <a:lnTo>
                    <a:pt x="25" y="77"/>
                  </a:lnTo>
                  <a:lnTo>
                    <a:pt x="16" y="88"/>
                  </a:lnTo>
                  <a:lnTo>
                    <a:pt x="8" y="100"/>
                  </a:lnTo>
                  <a:lnTo>
                    <a:pt x="4" y="110"/>
                  </a:lnTo>
                  <a:lnTo>
                    <a:pt x="1" y="123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8" y="168"/>
                  </a:lnTo>
                  <a:lnTo>
                    <a:pt x="16" y="180"/>
                  </a:lnTo>
                  <a:lnTo>
                    <a:pt x="25" y="190"/>
                  </a:lnTo>
                  <a:lnTo>
                    <a:pt x="35" y="201"/>
                  </a:lnTo>
                  <a:lnTo>
                    <a:pt x="47" y="211"/>
                  </a:lnTo>
                  <a:lnTo>
                    <a:pt x="61" y="220"/>
                  </a:lnTo>
                  <a:lnTo>
                    <a:pt x="77" y="228"/>
                  </a:lnTo>
                  <a:lnTo>
                    <a:pt x="94" y="236"/>
                  </a:lnTo>
                  <a:lnTo>
                    <a:pt x="111" y="244"/>
                  </a:lnTo>
                  <a:lnTo>
                    <a:pt x="131" y="250"/>
                  </a:lnTo>
                  <a:lnTo>
                    <a:pt x="151" y="254"/>
                  </a:lnTo>
                  <a:lnTo>
                    <a:pt x="172" y="260"/>
                  </a:lnTo>
                  <a:lnTo>
                    <a:pt x="194" y="263"/>
                  </a:lnTo>
                  <a:lnTo>
                    <a:pt x="217" y="266"/>
                  </a:lnTo>
                  <a:lnTo>
                    <a:pt x="240" y="267"/>
                  </a:lnTo>
                  <a:lnTo>
                    <a:pt x="261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30" y="263"/>
                  </a:lnTo>
                  <a:lnTo>
                    <a:pt x="352" y="260"/>
                  </a:lnTo>
                  <a:lnTo>
                    <a:pt x="373" y="254"/>
                  </a:lnTo>
                  <a:lnTo>
                    <a:pt x="393" y="250"/>
                  </a:lnTo>
                  <a:lnTo>
                    <a:pt x="413" y="244"/>
                  </a:lnTo>
                  <a:lnTo>
                    <a:pt x="431" y="236"/>
                  </a:lnTo>
                  <a:lnTo>
                    <a:pt x="447" y="228"/>
                  </a:lnTo>
                  <a:lnTo>
                    <a:pt x="463" y="220"/>
                  </a:lnTo>
                  <a:lnTo>
                    <a:pt x="477" y="211"/>
                  </a:lnTo>
                  <a:lnTo>
                    <a:pt x="489" y="201"/>
                  </a:lnTo>
                  <a:lnTo>
                    <a:pt x="500" y="190"/>
                  </a:lnTo>
                  <a:lnTo>
                    <a:pt x="508" y="180"/>
                  </a:lnTo>
                  <a:lnTo>
                    <a:pt x="516" y="168"/>
                  </a:lnTo>
                  <a:lnTo>
                    <a:pt x="520" y="157"/>
                  </a:lnTo>
                  <a:lnTo>
                    <a:pt x="523" y="145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76480" y="1760400"/>
              <a:ext cx="833400" cy="428760"/>
            </a:xfrm>
            <a:custGeom>
              <a:avLst/>
              <a:gdLst/>
              <a:ahLst/>
              <a:rect l="l" t="t" r="r" b="b"/>
              <a:pathLst>
                <a:path w="525" h="270">
                  <a:moveTo>
                    <a:pt x="0" y="134"/>
                  </a:moveTo>
                  <a:lnTo>
                    <a:pt x="1" y="145"/>
                  </a:lnTo>
                  <a:lnTo>
                    <a:pt x="3" y="157"/>
                  </a:lnTo>
                  <a:lnTo>
                    <a:pt x="8" y="168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1"/>
                  </a:lnTo>
                  <a:lnTo>
                    <a:pt x="46" y="211"/>
                  </a:lnTo>
                  <a:lnTo>
                    <a:pt x="60" y="220"/>
                  </a:lnTo>
                  <a:lnTo>
                    <a:pt x="76" y="228"/>
                  </a:lnTo>
                  <a:lnTo>
                    <a:pt x="93" y="236"/>
                  </a:lnTo>
                  <a:lnTo>
                    <a:pt x="111" y="244"/>
                  </a:lnTo>
                  <a:lnTo>
                    <a:pt x="130" y="250"/>
                  </a:lnTo>
                  <a:lnTo>
                    <a:pt x="151" y="254"/>
                  </a:lnTo>
                  <a:lnTo>
                    <a:pt x="171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7"/>
                  </a:lnTo>
                  <a:lnTo>
                    <a:pt x="262" y="269"/>
                  </a:lnTo>
                  <a:lnTo>
                    <a:pt x="284" y="267"/>
                  </a:lnTo>
                  <a:lnTo>
                    <a:pt x="307" y="266"/>
                  </a:lnTo>
                  <a:lnTo>
                    <a:pt x="329" y="263"/>
                  </a:lnTo>
                  <a:lnTo>
                    <a:pt x="351" y="260"/>
                  </a:lnTo>
                  <a:lnTo>
                    <a:pt x="372" y="254"/>
                  </a:lnTo>
                  <a:lnTo>
                    <a:pt x="392" y="250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8"/>
                  </a:lnTo>
                  <a:lnTo>
                    <a:pt x="462" y="220"/>
                  </a:lnTo>
                  <a:lnTo>
                    <a:pt x="476" y="210"/>
                  </a:lnTo>
                  <a:lnTo>
                    <a:pt x="489" y="201"/>
                  </a:lnTo>
                  <a:lnTo>
                    <a:pt x="498" y="190"/>
                  </a:lnTo>
                  <a:lnTo>
                    <a:pt x="507" y="180"/>
                  </a:lnTo>
                  <a:lnTo>
                    <a:pt x="515" y="168"/>
                  </a:lnTo>
                  <a:lnTo>
                    <a:pt x="519" y="157"/>
                  </a:lnTo>
                  <a:lnTo>
                    <a:pt x="522" y="145"/>
                  </a:lnTo>
                  <a:lnTo>
                    <a:pt x="524" y="134"/>
                  </a:lnTo>
                  <a:lnTo>
                    <a:pt x="522" y="123"/>
                  </a:lnTo>
                  <a:lnTo>
                    <a:pt x="519" y="110"/>
                  </a:lnTo>
                  <a:lnTo>
                    <a:pt x="515" y="100"/>
                  </a:lnTo>
                  <a:lnTo>
                    <a:pt x="507" y="88"/>
                  </a:lnTo>
                  <a:lnTo>
                    <a:pt x="498" y="77"/>
                  </a:lnTo>
                  <a:lnTo>
                    <a:pt x="489" y="67"/>
                  </a:lnTo>
                  <a:lnTo>
                    <a:pt x="476" y="57"/>
                  </a:lnTo>
                  <a:lnTo>
                    <a:pt x="462" y="48"/>
                  </a:lnTo>
                  <a:lnTo>
                    <a:pt x="446" y="40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8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2"/>
                  </a:lnTo>
                  <a:lnTo>
                    <a:pt x="284" y="1"/>
                  </a:lnTo>
                  <a:lnTo>
                    <a:pt x="262" y="0"/>
                  </a:lnTo>
                  <a:lnTo>
                    <a:pt x="239" y="1"/>
                  </a:lnTo>
                  <a:lnTo>
                    <a:pt x="216" y="2"/>
                  </a:lnTo>
                  <a:lnTo>
                    <a:pt x="193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40"/>
                  </a:lnTo>
                  <a:lnTo>
                    <a:pt x="60" y="48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100"/>
                  </a:lnTo>
                  <a:lnTo>
                    <a:pt x="3" y="110"/>
                  </a:lnTo>
                  <a:lnTo>
                    <a:pt x="1" y="123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89080" y="2448000"/>
              <a:ext cx="1154160" cy="439560"/>
            </a:xfrm>
            <a:custGeom>
              <a:avLst/>
              <a:gdLst/>
              <a:ahLst/>
              <a:rect l="l" t="t" r="r" b="b"/>
              <a:pathLst>
                <a:path w="727" h="277">
                  <a:moveTo>
                    <a:pt x="726" y="276"/>
                  </a:moveTo>
                  <a:lnTo>
                    <a:pt x="726" y="0"/>
                  </a:lnTo>
                  <a:lnTo>
                    <a:pt x="0" y="0"/>
                  </a:lnTo>
                  <a:lnTo>
                    <a:pt x="0" y="276"/>
                  </a:lnTo>
                  <a:lnTo>
                    <a:pt x="726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01760" y="1827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57560" y="148896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28240" y="2512800"/>
              <a:ext cx="125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loye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9280" y="1814400"/>
              <a:ext cx="53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ss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77960" y="1859040"/>
              <a:ext cx="0" cy="5331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20880" y="2205000"/>
              <a:ext cx="626760" cy="2476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997000" y="2205000"/>
              <a:ext cx="401760" cy="22536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6720" y="2286000"/>
            <a:ext cx="2255760" cy="701640"/>
            <a:chOff x="3276720" y="2286000"/>
            <a:chExt cx="2255760" cy="701640"/>
          </a:xfrm>
        </p:grpSpPr>
        <p:sp>
          <p:nvSpPr>
            <p:cNvPr id="334" name=""/>
            <p:cNvSpPr/>
            <p:nvPr/>
          </p:nvSpPr>
          <p:spPr>
            <a:xfrm>
              <a:off x="3904200" y="249228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_F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9200" y="2286000"/>
              <a:ext cx="1251000" cy="701640"/>
            </a:xfrm>
            <a:custGeom>
              <a:avLst/>
              <a:gdLst/>
              <a:ahLst/>
              <a:rect l="l" t="t" r="r" b="b"/>
              <a:pathLst>
                <a:path w="788" h="442">
                  <a:moveTo>
                    <a:pt x="0" y="221"/>
                  </a:moveTo>
                  <a:lnTo>
                    <a:pt x="388" y="0"/>
                  </a:lnTo>
                  <a:lnTo>
                    <a:pt x="787" y="229"/>
                  </a:lnTo>
                  <a:lnTo>
                    <a:pt x="388" y="441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276720" y="2666880"/>
              <a:ext cx="58104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10200" y="2651040"/>
              <a:ext cx="422280" cy="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648320" y="1440000"/>
            <a:ext cx="2680560" cy="1439280"/>
            <a:chOff x="4648320" y="1440000"/>
            <a:chExt cx="2680560" cy="1439280"/>
          </a:xfrm>
        </p:grpSpPr>
        <p:sp>
          <p:nvSpPr>
            <p:cNvPr id="339" name=""/>
            <p:cNvSpPr/>
            <p:nvPr/>
          </p:nvSpPr>
          <p:spPr>
            <a:xfrm>
              <a:off x="4648320" y="1752480"/>
              <a:ext cx="98604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524" y="133"/>
                  </a:moveTo>
                  <a:lnTo>
                    <a:pt x="522" y="121"/>
                  </a:lnTo>
                  <a:lnTo>
                    <a:pt x="519" y="110"/>
                  </a:lnTo>
                  <a:lnTo>
                    <a:pt x="515" y="98"/>
                  </a:lnTo>
                  <a:lnTo>
                    <a:pt x="507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6" y="57"/>
                  </a:lnTo>
                  <a:lnTo>
                    <a:pt x="463" y="47"/>
                  </a:lnTo>
                  <a:lnTo>
                    <a:pt x="446" y="38"/>
                  </a:lnTo>
                  <a:lnTo>
                    <a:pt x="430" y="31"/>
                  </a:lnTo>
                  <a:lnTo>
                    <a:pt x="412" y="24"/>
                  </a:lnTo>
                  <a:lnTo>
                    <a:pt x="392" y="17"/>
                  </a:lnTo>
                  <a:lnTo>
                    <a:pt x="372" y="12"/>
                  </a:lnTo>
                  <a:lnTo>
                    <a:pt x="351" y="8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1" y="8"/>
                  </a:lnTo>
                  <a:lnTo>
                    <a:pt x="151" y="12"/>
                  </a:lnTo>
                  <a:lnTo>
                    <a:pt x="130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5"/>
                  </a:lnTo>
                  <a:lnTo>
                    <a:pt x="23" y="77"/>
                  </a:lnTo>
                  <a:lnTo>
                    <a:pt x="15" y="87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7"/>
                  </a:lnTo>
                  <a:lnTo>
                    <a:pt x="8" y="167"/>
                  </a:lnTo>
                  <a:lnTo>
                    <a:pt x="15" y="179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19"/>
                  </a:lnTo>
                  <a:lnTo>
                    <a:pt x="76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0" y="249"/>
                  </a:lnTo>
                  <a:lnTo>
                    <a:pt x="151" y="255"/>
                  </a:lnTo>
                  <a:lnTo>
                    <a:pt x="171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29" y="263"/>
                  </a:lnTo>
                  <a:lnTo>
                    <a:pt x="351" y="259"/>
                  </a:lnTo>
                  <a:lnTo>
                    <a:pt x="372" y="255"/>
                  </a:lnTo>
                  <a:lnTo>
                    <a:pt x="392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6" y="227"/>
                  </a:lnTo>
                  <a:lnTo>
                    <a:pt x="463" y="219"/>
                  </a:lnTo>
                  <a:lnTo>
                    <a:pt x="476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7" y="179"/>
                  </a:lnTo>
                  <a:lnTo>
                    <a:pt x="515" y="167"/>
                  </a:lnTo>
                  <a:lnTo>
                    <a:pt x="519" y="157"/>
                  </a:lnTo>
                  <a:lnTo>
                    <a:pt x="522" y="144"/>
                  </a:lnTo>
                  <a:lnTo>
                    <a:pt x="524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32760" y="1752480"/>
              <a:ext cx="833400" cy="426600"/>
            </a:xfrm>
            <a:custGeom>
              <a:avLst/>
              <a:gdLst/>
              <a:ahLst/>
              <a:rect l="l" t="t" r="r" b="b"/>
              <a:pathLst>
                <a:path w="525" h="269">
                  <a:moveTo>
                    <a:pt x="0" y="134"/>
                  </a:moveTo>
                  <a:lnTo>
                    <a:pt x="1" y="144"/>
                  </a:lnTo>
                  <a:lnTo>
                    <a:pt x="4" y="157"/>
                  </a:lnTo>
                  <a:lnTo>
                    <a:pt x="8" y="167"/>
                  </a:lnTo>
                  <a:lnTo>
                    <a:pt x="16" y="179"/>
                  </a:lnTo>
                  <a:lnTo>
                    <a:pt x="25" y="190"/>
                  </a:lnTo>
                  <a:lnTo>
                    <a:pt x="34" y="200"/>
                  </a:lnTo>
                  <a:lnTo>
                    <a:pt x="47" y="210"/>
                  </a:lnTo>
                  <a:lnTo>
                    <a:pt x="61" y="219"/>
                  </a:lnTo>
                  <a:lnTo>
                    <a:pt x="77" y="227"/>
                  </a:lnTo>
                  <a:lnTo>
                    <a:pt x="93" y="236"/>
                  </a:lnTo>
                  <a:lnTo>
                    <a:pt x="111" y="243"/>
                  </a:lnTo>
                  <a:lnTo>
                    <a:pt x="131" y="249"/>
                  </a:lnTo>
                  <a:lnTo>
                    <a:pt x="151" y="255"/>
                  </a:lnTo>
                  <a:lnTo>
                    <a:pt x="172" y="259"/>
                  </a:lnTo>
                  <a:lnTo>
                    <a:pt x="194" y="263"/>
                  </a:lnTo>
                  <a:lnTo>
                    <a:pt x="216" y="265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4" y="268"/>
                  </a:lnTo>
                  <a:lnTo>
                    <a:pt x="307" y="265"/>
                  </a:lnTo>
                  <a:lnTo>
                    <a:pt x="330" y="263"/>
                  </a:lnTo>
                  <a:lnTo>
                    <a:pt x="352" y="259"/>
                  </a:lnTo>
                  <a:lnTo>
                    <a:pt x="372" y="255"/>
                  </a:lnTo>
                  <a:lnTo>
                    <a:pt x="393" y="249"/>
                  </a:lnTo>
                  <a:lnTo>
                    <a:pt x="412" y="243"/>
                  </a:lnTo>
                  <a:lnTo>
                    <a:pt x="430" y="236"/>
                  </a:lnTo>
                  <a:lnTo>
                    <a:pt x="447" y="227"/>
                  </a:lnTo>
                  <a:lnTo>
                    <a:pt x="463" y="219"/>
                  </a:lnTo>
                  <a:lnTo>
                    <a:pt x="477" y="210"/>
                  </a:lnTo>
                  <a:lnTo>
                    <a:pt x="489" y="200"/>
                  </a:lnTo>
                  <a:lnTo>
                    <a:pt x="500" y="190"/>
                  </a:lnTo>
                  <a:lnTo>
                    <a:pt x="508" y="179"/>
                  </a:lnTo>
                  <a:lnTo>
                    <a:pt x="515" y="167"/>
                  </a:lnTo>
                  <a:lnTo>
                    <a:pt x="520" y="157"/>
                  </a:lnTo>
                  <a:lnTo>
                    <a:pt x="522" y="144"/>
                  </a:lnTo>
                  <a:lnTo>
                    <a:pt x="524" y="133"/>
                  </a:lnTo>
                  <a:lnTo>
                    <a:pt x="522" y="121"/>
                  </a:lnTo>
                  <a:lnTo>
                    <a:pt x="520" y="110"/>
                  </a:lnTo>
                  <a:lnTo>
                    <a:pt x="515" y="98"/>
                  </a:lnTo>
                  <a:lnTo>
                    <a:pt x="508" y="87"/>
                  </a:lnTo>
                  <a:lnTo>
                    <a:pt x="500" y="77"/>
                  </a:lnTo>
                  <a:lnTo>
                    <a:pt x="489" y="65"/>
                  </a:lnTo>
                  <a:lnTo>
                    <a:pt x="477" y="55"/>
                  </a:lnTo>
                  <a:lnTo>
                    <a:pt x="463" y="47"/>
                  </a:lnTo>
                  <a:lnTo>
                    <a:pt x="447" y="38"/>
                  </a:lnTo>
                  <a:lnTo>
                    <a:pt x="430" y="31"/>
                  </a:lnTo>
                  <a:lnTo>
                    <a:pt x="412" y="22"/>
                  </a:lnTo>
                  <a:lnTo>
                    <a:pt x="393" y="17"/>
                  </a:lnTo>
                  <a:lnTo>
                    <a:pt x="372" y="12"/>
                  </a:lnTo>
                  <a:lnTo>
                    <a:pt x="352" y="7"/>
                  </a:lnTo>
                  <a:lnTo>
                    <a:pt x="329" y="4"/>
                  </a:lnTo>
                  <a:lnTo>
                    <a:pt x="307" y="1"/>
                  </a:lnTo>
                  <a:lnTo>
                    <a:pt x="284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2" y="8"/>
                  </a:lnTo>
                  <a:lnTo>
                    <a:pt x="151" y="12"/>
                  </a:lnTo>
                  <a:lnTo>
                    <a:pt x="131" y="17"/>
                  </a:lnTo>
                  <a:lnTo>
                    <a:pt x="111" y="24"/>
                  </a:lnTo>
                  <a:lnTo>
                    <a:pt x="93" y="31"/>
                  </a:lnTo>
                  <a:lnTo>
                    <a:pt x="77" y="38"/>
                  </a:lnTo>
                  <a:lnTo>
                    <a:pt x="61" y="47"/>
                  </a:lnTo>
                  <a:lnTo>
                    <a:pt x="47" y="57"/>
                  </a:lnTo>
                  <a:lnTo>
                    <a:pt x="34" y="67"/>
                  </a:lnTo>
                  <a:lnTo>
                    <a:pt x="25" y="77"/>
                  </a:lnTo>
                  <a:lnTo>
                    <a:pt x="16" y="87"/>
                  </a:lnTo>
                  <a:lnTo>
                    <a:pt x="8" y="98"/>
                  </a:lnTo>
                  <a:lnTo>
                    <a:pt x="4" y="110"/>
                  </a:lnTo>
                  <a:lnTo>
                    <a:pt x="1" y="121"/>
                  </a:lnTo>
                  <a:lnTo>
                    <a:pt x="0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50120" y="2438280"/>
              <a:ext cx="1351080" cy="441000"/>
            </a:xfrm>
            <a:custGeom>
              <a:avLst/>
              <a:gdLst/>
              <a:ahLst/>
              <a:rect l="l" t="t" r="r" b="b"/>
              <a:pathLst>
                <a:path w="851" h="278">
                  <a:moveTo>
                    <a:pt x="850" y="277"/>
                  </a:moveTo>
                  <a:lnTo>
                    <a:pt x="850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850" y="2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0120" y="1440000"/>
              <a:ext cx="835200" cy="426600"/>
            </a:xfrm>
            <a:custGeom>
              <a:avLst/>
              <a:gdLst/>
              <a:ahLst/>
              <a:rect l="l" t="t" r="r" b="b"/>
              <a:pathLst>
                <a:path w="526" h="269">
                  <a:moveTo>
                    <a:pt x="525" y="134"/>
                  </a:moveTo>
                  <a:lnTo>
                    <a:pt x="523" y="121"/>
                  </a:lnTo>
                  <a:lnTo>
                    <a:pt x="521" y="110"/>
                  </a:lnTo>
                  <a:lnTo>
                    <a:pt x="516" y="98"/>
                  </a:lnTo>
                  <a:lnTo>
                    <a:pt x="509" y="88"/>
                  </a:lnTo>
                  <a:lnTo>
                    <a:pt x="501" y="77"/>
                  </a:lnTo>
                  <a:lnTo>
                    <a:pt x="490" y="67"/>
                  </a:lnTo>
                  <a:lnTo>
                    <a:pt x="478" y="57"/>
                  </a:lnTo>
                  <a:lnTo>
                    <a:pt x="464" y="47"/>
                  </a:lnTo>
                  <a:lnTo>
                    <a:pt x="448" y="38"/>
                  </a:lnTo>
                  <a:lnTo>
                    <a:pt x="431" y="31"/>
                  </a:lnTo>
                  <a:lnTo>
                    <a:pt x="412" y="24"/>
                  </a:lnTo>
                  <a:lnTo>
                    <a:pt x="393" y="18"/>
                  </a:lnTo>
                  <a:lnTo>
                    <a:pt x="373" y="12"/>
                  </a:lnTo>
                  <a:lnTo>
                    <a:pt x="351" y="8"/>
                  </a:lnTo>
                  <a:lnTo>
                    <a:pt x="330" y="4"/>
                  </a:lnTo>
                  <a:lnTo>
                    <a:pt x="308" y="1"/>
                  </a:lnTo>
                  <a:lnTo>
                    <a:pt x="285" y="0"/>
                  </a:lnTo>
                  <a:lnTo>
                    <a:pt x="262" y="0"/>
                  </a:lnTo>
                  <a:lnTo>
                    <a:pt x="239" y="0"/>
                  </a:lnTo>
                  <a:lnTo>
                    <a:pt x="216" y="1"/>
                  </a:lnTo>
                  <a:lnTo>
                    <a:pt x="194" y="4"/>
                  </a:lnTo>
                  <a:lnTo>
                    <a:pt x="173" y="8"/>
                  </a:lnTo>
                  <a:lnTo>
                    <a:pt x="151" y="12"/>
                  </a:lnTo>
                  <a:lnTo>
                    <a:pt x="130" y="18"/>
                  </a:lnTo>
                  <a:lnTo>
                    <a:pt x="112" y="24"/>
                  </a:lnTo>
                  <a:lnTo>
                    <a:pt x="93" y="31"/>
                  </a:lnTo>
                  <a:lnTo>
                    <a:pt x="76" y="38"/>
                  </a:lnTo>
                  <a:lnTo>
                    <a:pt x="60" y="47"/>
                  </a:lnTo>
                  <a:lnTo>
                    <a:pt x="46" y="57"/>
                  </a:lnTo>
                  <a:lnTo>
                    <a:pt x="34" y="67"/>
                  </a:lnTo>
                  <a:lnTo>
                    <a:pt x="23" y="77"/>
                  </a:lnTo>
                  <a:lnTo>
                    <a:pt x="15" y="88"/>
                  </a:lnTo>
                  <a:lnTo>
                    <a:pt x="8" y="98"/>
                  </a:lnTo>
                  <a:lnTo>
                    <a:pt x="3" y="110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1" y="146"/>
                  </a:lnTo>
                  <a:lnTo>
                    <a:pt x="3" y="157"/>
                  </a:lnTo>
                  <a:lnTo>
                    <a:pt x="8" y="169"/>
                  </a:lnTo>
                  <a:lnTo>
                    <a:pt x="15" y="180"/>
                  </a:lnTo>
                  <a:lnTo>
                    <a:pt x="23" y="190"/>
                  </a:lnTo>
                  <a:lnTo>
                    <a:pt x="34" y="200"/>
                  </a:lnTo>
                  <a:lnTo>
                    <a:pt x="46" y="210"/>
                  </a:lnTo>
                  <a:lnTo>
                    <a:pt x="60" y="220"/>
                  </a:lnTo>
                  <a:lnTo>
                    <a:pt x="76" y="229"/>
                  </a:lnTo>
                  <a:lnTo>
                    <a:pt x="93" y="236"/>
                  </a:lnTo>
                  <a:lnTo>
                    <a:pt x="112" y="243"/>
                  </a:lnTo>
                  <a:lnTo>
                    <a:pt x="130" y="250"/>
                  </a:lnTo>
                  <a:lnTo>
                    <a:pt x="151" y="256"/>
                  </a:lnTo>
                  <a:lnTo>
                    <a:pt x="173" y="260"/>
                  </a:lnTo>
                  <a:lnTo>
                    <a:pt x="194" y="263"/>
                  </a:lnTo>
                  <a:lnTo>
                    <a:pt x="216" y="266"/>
                  </a:lnTo>
                  <a:lnTo>
                    <a:pt x="239" y="268"/>
                  </a:lnTo>
                  <a:lnTo>
                    <a:pt x="262" y="268"/>
                  </a:lnTo>
                  <a:lnTo>
                    <a:pt x="285" y="268"/>
                  </a:lnTo>
                  <a:lnTo>
                    <a:pt x="308" y="266"/>
                  </a:lnTo>
                  <a:lnTo>
                    <a:pt x="330" y="263"/>
                  </a:lnTo>
                  <a:lnTo>
                    <a:pt x="351" y="260"/>
                  </a:lnTo>
                  <a:lnTo>
                    <a:pt x="373" y="256"/>
                  </a:lnTo>
                  <a:lnTo>
                    <a:pt x="393" y="250"/>
                  </a:lnTo>
                  <a:lnTo>
                    <a:pt x="412" y="243"/>
                  </a:lnTo>
                  <a:lnTo>
                    <a:pt x="431" y="236"/>
                  </a:lnTo>
                  <a:lnTo>
                    <a:pt x="448" y="229"/>
                  </a:lnTo>
                  <a:lnTo>
                    <a:pt x="464" y="220"/>
                  </a:lnTo>
                  <a:lnTo>
                    <a:pt x="478" y="210"/>
                  </a:lnTo>
                  <a:lnTo>
                    <a:pt x="490" y="200"/>
                  </a:lnTo>
                  <a:lnTo>
                    <a:pt x="501" y="190"/>
                  </a:lnTo>
                  <a:lnTo>
                    <a:pt x="509" y="180"/>
                  </a:lnTo>
                  <a:lnTo>
                    <a:pt x="516" y="169"/>
                  </a:lnTo>
                  <a:lnTo>
                    <a:pt x="521" y="157"/>
                  </a:lnTo>
                  <a:lnTo>
                    <a:pt x="523" y="146"/>
                  </a:lnTo>
                  <a:lnTo>
                    <a:pt x="525" y="1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5400" y="1479240"/>
              <a:ext cx="71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03240" y="1803240"/>
              <a:ext cx="1025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49040" y="1806480"/>
              <a:ext cx="923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91440" y="2492280"/>
              <a:ext cx="141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part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21440" y="2206440"/>
              <a:ext cx="555840" cy="21564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42160" y="1890360"/>
              <a:ext cx="119160" cy="55872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410520" y="2176200"/>
              <a:ext cx="317520" cy="245880"/>
            </a:xfrm>
            <a:prstGeom prst="line">
              <a:avLst/>
            </a:prstGeom>
            <a:ln w="12600">
              <a:solidFill>
                <a:srgbClr val="33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486-13FD-47D3-8AD3-192574CEB1B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FCBD1-6A9F-43AA-9C68-DD2ACED03F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: Query Information from a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029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ery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ieve the salary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in W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1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AME=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klin Wong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105520" y="1206360"/>
          <a:ext cx="3657600" cy="2679840"/>
        </p:xfrm>
        <a:graphic>
          <a:graphicData uri="http://schemas.openxmlformats.org/drawingml/2006/table">
            <a:tbl>
              <a:tblPr/>
              <a:tblGrid>
                <a:gridCol w="1371600"/>
                <a:gridCol w="1067040"/>
                <a:gridCol w="1218960"/>
              </a:tblGrid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567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4445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klin W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34534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yc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0E9-03F9-4A08-A710-702F2A61CF5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BAAA4-21EE-4D45-8732-720B064B08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110" t="24789" r="5550" b="8263"/>
          <a:stretch/>
        </p:blipFill>
        <p:spPr>
          <a:xfrm>
            <a:off x="304920" y="1143000"/>
            <a:ext cx="8480160" cy="502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3468600"/>
            <a:ext cx="1189080" cy="327240"/>
          </a:xfrm>
          <a:custGeom>
            <a:avLst/>
            <a:gdLst/>
            <a:ahLst/>
            <a:rect l="l" t="t" r="r" b="b"/>
            <a:pathLst>
              <a:path w="749" h="206">
                <a:moveTo>
                  <a:pt x="0" y="135"/>
                </a:moveTo>
                <a:cubicBezTo>
                  <a:pt x="72" y="98"/>
                  <a:pt x="151" y="83"/>
                  <a:pt x="229" y="64"/>
                </a:cubicBezTo>
                <a:cubicBezTo>
                  <a:pt x="301" y="27"/>
                  <a:pt x="377" y="11"/>
                  <a:pt x="457" y="1"/>
                </a:cubicBezTo>
                <a:cubicBezTo>
                  <a:pt x="564" y="10"/>
                  <a:pt x="642" y="0"/>
                  <a:pt x="726" y="56"/>
                </a:cubicBezTo>
                <a:cubicBezTo>
                  <a:pt x="748" y="88"/>
                  <a:pt x="749" y="132"/>
                  <a:pt x="726" y="166"/>
                </a:cubicBezTo>
                <a:cubicBezTo>
                  <a:pt x="720" y="175"/>
                  <a:pt x="712" y="184"/>
                  <a:pt x="702" y="190"/>
                </a:cubicBezTo>
                <a:cubicBezTo>
                  <a:pt x="688" y="198"/>
                  <a:pt x="655" y="206"/>
                  <a:pt x="655" y="206"/>
                </a:cubicBezTo>
                <a:cubicBezTo>
                  <a:pt x="518" y="203"/>
                  <a:pt x="381" y="202"/>
                  <a:pt x="244" y="198"/>
                </a:cubicBezTo>
                <a:cubicBezTo>
                  <a:pt x="186" y="196"/>
                  <a:pt x="128" y="196"/>
                  <a:pt x="71" y="190"/>
                </a:cubicBezTo>
                <a:cubicBezTo>
                  <a:pt x="54" y="188"/>
                  <a:pt x="23" y="174"/>
                  <a:pt x="23" y="174"/>
                </a:cubicBezTo>
                <a:cubicBezTo>
                  <a:pt x="5" y="146"/>
                  <a:pt x="12" y="159"/>
                  <a:pt x="0" y="135"/>
                </a:cubicBezTo>
                <a:close/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1F4-171E-4F2D-9009-18C8E584CA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B59B8-F661-4E83-B4D6-818E5230DC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Database 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l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ery proces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4F7-9528-438B-91ED-061629498A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B3000-E01B-42B4-B72E-76D72AA849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 Dis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759200" y="1792440"/>
            <a:ext cx="3149640" cy="1801800"/>
            <a:chOff x="4759200" y="1792440"/>
            <a:chExt cx="3149640" cy="1801800"/>
          </a:xfrm>
        </p:grpSpPr>
        <p:sp>
          <p:nvSpPr>
            <p:cNvPr id="359" name=""/>
            <p:cNvSpPr/>
            <p:nvPr/>
          </p:nvSpPr>
          <p:spPr>
            <a:xfrm>
              <a:off x="4759200" y="2379600"/>
              <a:ext cx="3149640" cy="121464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0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0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0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0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59200" y="1792440"/>
              <a:ext cx="3149640" cy="1214280"/>
            </a:xfrm>
            <a:custGeom>
              <a:avLst/>
              <a:gdLst/>
              <a:ahLst/>
              <a:rect l="l" t="t" r="r" b="b"/>
              <a:pathLst>
                <a:path w="1984" h="765">
                  <a:moveTo>
                    <a:pt x="0" y="386"/>
                  </a:moveTo>
                  <a:lnTo>
                    <a:pt x="16" y="321"/>
                  </a:lnTo>
                  <a:lnTo>
                    <a:pt x="57" y="255"/>
                  </a:lnTo>
                  <a:lnTo>
                    <a:pt x="131" y="197"/>
                  </a:lnTo>
                  <a:lnTo>
                    <a:pt x="230" y="140"/>
                  </a:lnTo>
                  <a:lnTo>
                    <a:pt x="353" y="91"/>
                  </a:lnTo>
                  <a:lnTo>
                    <a:pt x="493" y="58"/>
                  </a:lnTo>
                  <a:lnTo>
                    <a:pt x="650" y="25"/>
                  </a:lnTo>
                  <a:lnTo>
                    <a:pt x="814" y="8"/>
                  </a:lnTo>
                  <a:lnTo>
                    <a:pt x="987" y="0"/>
                  </a:lnTo>
                  <a:lnTo>
                    <a:pt x="1160" y="8"/>
                  </a:lnTo>
                  <a:lnTo>
                    <a:pt x="1333" y="25"/>
                  </a:lnTo>
                  <a:lnTo>
                    <a:pt x="1489" y="58"/>
                  </a:lnTo>
                  <a:lnTo>
                    <a:pt x="1629" y="91"/>
                  </a:lnTo>
                  <a:lnTo>
                    <a:pt x="1753" y="140"/>
                  </a:lnTo>
                  <a:lnTo>
                    <a:pt x="1852" y="197"/>
                  </a:lnTo>
                  <a:lnTo>
                    <a:pt x="1926" y="255"/>
                  </a:lnTo>
                  <a:lnTo>
                    <a:pt x="1967" y="321"/>
                  </a:lnTo>
                  <a:lnTo>
                    <a:pt x="1983" y="386"/>
                  </a:lnTo>
                  <a:lnTo>
                    <a:pt x="1967" y="452"/>
                  </a:lnTo>
                  <a:lnTo>
                    <a:pt x="1926" y="518"/>
                  </a:lnTo>
                  <a:lnTo>
                    <a:pt x="1852" y="575"/>
                  </a:lnTo>
                  <a:lnTo>
                    <a:pt x="1753" y="633"/>
                  </a:lnTo>
                  <a:lnTo>
                    <a:pt x="1629" y="674"/>
                  </a:lnTo>
                  <a:lnTo>
                    <a:pt x="1489" y="715"/>
                  </a:lnTo>
                  <a:lnTo>
                    <a:pt x="1333" y="740"/>
                  </a:lnTo>
                  <a:lnTo>
                    <a:pt x="1160" y="764"/>
                  </a:lnTo>
                  <a:lnTo>
                    <a:pt x="987" y="764"/>
                  </a:lnTo>
                  <a:lnTo>
                    <a:pt x="814" y="764"/>
                  </a:lnTo>
                  <a:lnTo>
                    <a:pt x="650" y="740"/>
                  </a:lnTo>
                  <a:lnTo>
                    <a:pt x="493" y="715"/>
                  </a:lnTo>
                  <a:lnTo>
                    <a:pt x="353" y="674"/>
                  </a:lnTo>
                  <a:lnTo>
                    <a:pt x="230" y="633"/>
                  </a:lnTo>
                  <a:lnTo>
                    <a:pt x="131" y="575"/>
                  </a:lnTo>
                  <a:lnTo>
                    <a:pt x="57" y="518"/>
                  </a:lnTo>
                  <a:lnTo>
                    <a:pt x="16" y="452"/>
                  </a:lnTo>
                  <a:lnTo>
                    <a:pt x="0" y="386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32200" y="1062000"/>
            <a:ext cx="3176640" cy="4594320"/>
            <a:chOff x="4732200" y="1062000"/>
            <a:chExt cx="3176640" cy="4594320"/>
          </a:xfrm>
        </p:grpSpPr>
        <p:grpSp>
          <p:nvGrpSpPr>
            <p:cNvPr id="362" name=""/>
            <p:cNvGrpSpPr/>
            <p:nvPr/>
          </p:nvGrpSpPr>
          <p:grpSpPr>
            <a:xfrm>
              <a:off x="4732200" y="1739880"/>
              <a:ext cx="3176640" cy="3916440"/>
              <a:chOff x="4732200" y="1739880"/>
              <a:chExt cx="3176640" cy="39164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4759200" y="2327400"/>
                <a:ext cx="3149640" cy="1214280"/>
                <a:chOff x="4759200" y="2327400"/>
                <a:chExt cx="3149640" cy="1214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759200" y="2327400"/>
                  <a:ext cx="3149640" cy="1214280"/>
                </a:xfrm>
                <a:custGeom>
                  <a:avLst/>
                  <a:gdLst/>
                  <a:ahLst/>
                  <a:rect l="l" t="t" r="r" b="b"/>
                  <a:pathLst>
                    <a:path w="1984" h="765">
                      <a:moveTo>
                        <a:pt x="0" y="378"/>
                      </a:moveTo>
                      <a:lnTo>
                        <a:pt x="16" y="312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49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49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2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4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49920" y="2419200"/>
                  <a:ext cx="2941560" cy="103212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8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6"/>
                      </a:lnTo>
                      <a:lnTo>
                        <a:pt x="371" y="65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5"/>
                      </a:lnTo>
                      <a:lnTo>
                        <a:pt x="1613" y="106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8"/>
                      </a:lnTo>
                      <a:lnTo>
                        <a:pt x="1836" y="386"/>
                      </a:lnTo>
                      <a:lnTo>
                        <a:pt x="1795" y="443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3"/>
                      </a:lnTo>
                      <a:lnTo>
                        <a:pt x="17" y="386"/>
                      </a:lnTo>
                      <a:lnTo>
                        <a:pt x="0" y="32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94280" y="252252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7"/>
                      </a:moveTo>
                      <a:lnTo>
                        <a:pt x="16" y="198"/>
                      </a:lnTo>
                      <a:lnTo>
                        <a:pt x="66" y="148"/>
                      </a:lnTo>
                      <a:lnTo>
                        <a:pt x="148" y="107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7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7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7"/>
                      </a:lnTo>
                      <a:lnTo>
                        <a:pt x="1605" y="148"/>
                      </a:lnTo>
                      <a:lnTo>
                        <a:pt x="1654" y="198"/>
                      </a:lnTo>
                      <a:lnTo>
                        <a:pt x="1671" y="247"/>
                      </a:lnTo>
                      <a:lnTo>
                        <a:pt x="1654" y="296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7"/>
                      </a:lnTo>
                      <a:lnTo>
                        <a:pt x="996" y="485"/>
                      </a:lnTo>
                      <a:lnTo>
                        <a:pt x="839" y="493"/>
                      </a:lnTo>
                      <a:lnTo>
                        <a:pt x="675" y="485"/>
                      </a:lnTo>
                      <a:lnTo>
                        <a:pt x="518" y="477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6"/>
                      </a:lnTo>
                      <a:lnTo>
                        <a:pt x="0" y="24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759200" y="1739880"/>
                <a:ext cx="3149640" cy="1216080"/>
                <a:chOff x="4759200" y="1739880"/>
                <a:chExt cx="3149640" cy="12160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759200" y="1739880"/>
                  <a:ext cx="3149640" cy="1216080"/>
                </a:xfrm>
                <a:custGeom>
                  <a:avLst/>
                  <a:gdLst/>
                  <a:ahLst/>
                  <a:rect l="l" t="t" r="r" b="b"/>
                  <a:pathLst>
                    <a:path w="1984" h="766">
                      <a:moveTo>
                        <a:pt x="0" y="378"/>
                      </a:moveTo>
                      <a:lnTo>
                        <a:pt x="16" y="313"/>
                      </a:lnTo>
                      <a:lnTo>
                        <a:pt x="57" y="247"/>
                      </a:lnTo>
                      <a:lnTo>
                        <a:pt x="131" y="189"/>
                      </a:lnTo>
                      <a:lnTo>
                        <a:pt x="230" y="132"/>
                      </a:lnTo>
                      <a:lnTo>
                        <a:pt x="353" y="91"/>
                      </a:lnTo>
                      <a:lnTo>
                        <a:pt x="493" y="50"/>
                      </a:lnTo>
                      <a:lnTo>
                        <a:pt x="650" y="25"/>
                      </a:lnTo>
                      <a:lnTo>
                        <a:pt x="814" y="0"/>
                      </a:lnTo>
                      <a:lnTo>
                        <a:pt x="987" y="0"/>
                      </a:lnTo>
                      <a:lnTo>
                        <a:pt x="1160" y="0"/>
                      </a:lnTo>
                      <a:lnTo>
                        <a:pt x="1333" y="25"/>
                      </a:lnTo>
                      <a:lnTo>
                        <a:pt x="1489" y="50"/>
                      </a:lnTo>
                      <a:lnTo>
                        <a:pt x="1629" y="91"/>
                      </a:lnTo>
                      <a:lnTo>
                        <a:pt x="1753" y="132"/>
                      </a:lnTo>
                      <a:lnTo>
                        <a:pt x="1852" y="189"/>
                      </a:lnTo>
                      <a:lnTo>
                        <a:pt x="1926" y="247"/>
                      </a:lnTo>
                      <a:lnTo>
                        <a:pt x="1967" y="313"/>
                      </a:lnTo>
                      <a:lnTo>
                        <a:pt x="1983" y="378"/>
                      </a:lnTo>
                      <a:lnTo>
                        <a:pt x="1967" y="444"/>
                      </a:lnTo>
                      <a:lnTo>
                        <a:pt x="1926" y="510"/>
                      </a:lnTo>
                      <a:lnTo>
                        <a:pt x="1852" y="567"/>
                      </a:lnTo>
                      <a:lnTo>
                        <a:pt x="1753" y="625"/>
                      </a:lnTo>
                      <a:lnTo>
                        <a:pt x="1629" y="674"/>
                      </a:lnTo>
                      <a:lnTo>
                        <a:pt x="1489" y="707"/>
                      </a:lnTo>
                      <a:lnTo>
                        <a:pt x="1333" y="740"/>
                      </a:lnTo>
                      <a:lnTo>
                        <a:pt x="1160" y="756"/>
                      </a:lnTo>
                      <a:lnTo>
                        <a:pt x="987" y="765"/>
                      </a:lnTo>
                      <a:lnTo>
                        <a:pt x="814" y="756"/>
                      </a:lnTo>
                      <a:lnTo>
                        <a:pt x="650" y="740"/>
                      </a:lnTo>
                      <a:lnTo>
                        <a:pt x="493" y="707"/>
                      </a:lnTo>
                      <a:lnTo>
                        <a:pt x="353" y="674"/>
                      </a:lnTo>
                      <a:lnTo>
                        <a:pt x="230" y="625"/>
                      </a:lnTo>
                      <a:lnTo>
                        <a:pt x="131" y="567"/>
                      </a:lnTo>
                      <a:lnTo>
                        <a:pt x="57" y="510"/>
                      </a:lnTo>
                      <a:lnTo>
                        <a:pt x="16" y="444"/>
                      </a:lnTo>
                      <a:lnTo>
                        <a:pt x="0" y="378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849920" y="1832040"/>
                  <a:ext cx="2941560" cy="1031760"/>
                </a:xfrm>
                <a:custGeom>
                  <a:avLst/>
                  <a:gdLst/>
                  <a:ahLst/>
                  <a:rect l="l" t="t" r="r" b="b"/>
                  <a:pathLst>
                    <a:path w="1853" h="650">
                      <a:moveTo>
                        <a:pt x="0" y="329"/>
                      </a:moveTo>
                      <a:lnTo>
                        <a:pt x="17" y="263"/>
                      </a:lnTo>
                      <a:lnTo>
                        <a:pt x="66" y="205"/>
                      </a:lnTo>
                      <a:lnTo>
                        <a:pt x="140" y="156"/>
                      </a:lnTo>
                      <a:lnTo>
                        <a:pt x="247" y="107"/>
                      </a:lnTo>
                      <a:lnTo>
                        <a:pt x="371" y="66"/>
                      </a:lnTo>
                      <a:lnTo>
                        <a:pt x="519" y="33"/>
                      </a:lnTo>
                      <a:lnTo>
                        <a:pt x="675" y="16"/>
                      </a:lnTo>
                      <a:lnTo>
                        <a:pt x="840" y="0"/>
                      </a:lnTo>
                      <a:lnTo>
                        <a:pt x="1013" y="0"/>
                      </a:lnTo>
                      <a:lnTo>
                        <a:pt x="1177" y="16"/>
                      </a:lnTo>
                      <a:lnTo>
                        <a:pt x="1342" y="33"/>
                      </a:lnTo>
                      <a:lnTo>
                        <a:pt x="1482" y="66"/>
                      </a:lnTo>
                      <a:lnTo>
                        <a:pt x="1613" y="107"/>
                      </a:lnTo>
                      <a:lnTo>
                        <a:pt x="1712" y="156"/>
                      </a:lnTo>
                      <a:lnTo>
                        <a:pt x="1795" y="205"/>
                      </a:lnTo>
                      <a:lnTo>
                        <a:pt x="1836" y="263"/>
                      </a:lnTo>
                      <a:lnTo>
                        <a:pt x="1852" y="329"/>
                      </a:lnTo>
                      <a:lnTo>
                        <a:pt x="1836" y="386"/>
                      </a:lnTo>
                      <a:lnTo>
                        <a:pt x="1795" y="444"/>
                      </a:lnTo>
                      <a:lnTo>
                        <a:pt x="1712" y="493"/>
                      </a:lnTo>
                      <a:lnTo>
                        <a:pt x="1613" y="542"/>
                      </a:lnTo>
                      <a:lnTo>
                        <a:pt x="1482" y="583"/>
                      </a:lnTo>
                      <a:lnTo>
                        <a:pt x="1342" y="616"/>
                      </a:lnTo>
                      <a:lnTo>
                        <a:pt x="1177" y="641"/>
                      </a:lnTo>
                      <a:lnTo>
                        <a:pt x="1013" y="649"/>
                      </a:lnTo>
                      <a:lnTo>
                        <a:pt x="840" y="649"/>
                      </a:lnTo>
                      <a:lnTo>
                        <a:pt x="675" y="641"/>
                      </a:lnTo>
                      <a:lnTo>
                        <a:pt x="519" y="616"/>
                      </a:lnTo>
                      <a:lnTo>
                        <a:pt x="371" y="583"/>
                      </a:lnTo>
                      <a:lnTo>
                        <a:pt x="247" y="542"/>
                      </a:lnTo>
                      <a:lnTo>
                        <a:pt x="140" y="493"/>
                      </a:lnTo>
                      <a:lnTo>
                        <a:pt x="66" y="444"/>
                      </a:lnTo>
                      <a:lnTo>
                        <a:pt x="17" y="386"/>
                      </a:lnTo>
                      <a:lnTo>
                        <a:pt x="0" y="32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994280" y="1936800"/>
                  <a:ext cx="2654280" cy="784080"/>
                </a:xfrm>
                <a:custGeom>
                  <a:avLst/>
                  <a:gdLst/>
                  <a:ahLst/>
                  <a:rect l="l" t="t" r="r" b="b"/>
                  <a:pathLst>
                    <a:path w="1672" h="494">
                      <a:moveTo>
                        <a:pt x="0" y="246"/>
                      </a:moveTo>
                      <a:lnTo>
                        <a:pt x="16" y="197"/>
                      </a:lnTo>
                      <a:lnTo>
                        <a:pt x="66" y="147"/>
                      </a:lnTo>
                      <a:lnTo>
                        <a:pt x="148" y="106"/>
                      </a:lnTo>
                      <a:lnTo>
                        <a:pt x="247" y="74"/>
                      </a:lnTo>
                      <a:lnTo>
                        <a:pt x="370" y="41"/>
                      </a:lnTo>
                      <a:lnTo>
                        <a:pt x="518" y="16"/>
                      </a:lnTo>
                      <a:lnTo>
                        <a:pt x="675" y="0"/>
                      </a:lnTo>
                      <a:lnTo>
                        <a:pt x="839" y="0"/>
                      </a:lnTo>
                      <a:lnTo>
                        <a:pt x="996" y="0"/>
                      </a:lnTo>
                      <a:lnTo>
                        <a:pt x="1152" y="16"/>
                      </a:lnTo>
                      <a:lnTo>
                        <a:pt x="1300" y="41"/>
                      </a:lnTo>
                      <a:lnTo>
                        <a:pt x="1424" y="74"/>
                      </a:lnTo>
                      <a:lnTo>
                        <a:pt x="1531" y="106"/>
                      </a:lnTo>
                      <a:lnTo>
                        <a:pt x="1605" y="147"/>
                      </a:lnTo>
                      <a:lnTo>
                        <a:pt x="1654" y="197"/>
                      </a:lnTo>
                      <a:lnTo>
                        <a:pt x="1671" y="246"/>
                      </a:lnTo>
                      <a:lnTo>
                        <a:pt x="1654" y="295"/>
                      </a:lnTo>
                      <a:lnTo>
                        <a:pt x="1605" y="337"/>
                      </a:lnTo>
                      <a:lnTo>
                        <a:pt x="1531" y="378"/>
                      </a:lnTo>
                      <a:lnTo>
                        <a:pt x="1424" y="419"/>
                      </a:lnTo>
                      <a:lnTo>
                        <a:pt x="1300" y="452"/>
                      </a:lnTo>
                      <a:lnTo>
                        <a:pt x="1152" y="476"/>
                      </a:lnTo>
                      <a:lnTo>
                        <a:pt x="996" y="484"/>
                      </a:lnTo>
                      <a:lnTo>
                        <a:pt x="839" y="493"/>
                      </a:lnTo>
                      <a:lnTo>
                        <a:pt x="675" y="484"/>
                      </a:lnTo>
                      <a:lnTo>
                        <a:pt x="518" y="476"/>
                      </a:lnTo>
                      <a:lnTo>
                        <a:pt x="370" y="452"/>
                      </a:lnTo>
                      <a:lnTo>
                        <a:pt x="247" y="419"/>
                      </a:lnTo>
                      <a:lnTo>
                        <a:pt x="148" y="378"/>
                      </a:lnTo>
                      <a:lnTo>
                        <a:pt x="66" y="337"/>
                      </a:lnTo>
                      <a:lnTo>
                        <a:pt x="16" y="295"/>
                      </a:lnTo>
                      <a:lnTo>
                        <a:pt x="0" y="2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4732200" y="444024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78"/>
                    </a:moveTo>
                    <a:lnTo>
                      <a:pt x="17" y="313"/>
                    </a:lnTo>
                    <a:lnTo>
                      <a:pt x="66" y="247"/>
                    </a:lnTo>
                    <a:lnTo>
                      <a:pt x="132" y="189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0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0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89"/>
                    </a:lnTo>
                    <a:lnTo>
                      <a:pt x="1926" y="247"/>
                    </a:lnTo>
                    <a:lnTo>
                      <a:pt x="1976" y="313"/>
                    </a:lnTo>
                    <a:lnTo>
                      <a:pt x="1992" y="378"/>
                    </a:lnTo>
                    <a:lnTo>
                      <a:pt x="1976" y="444"/>
                    </a:lnTo>
                    <a:lnTo>
                      <a:pt x="1926" y="510"/>
                    </a:lnTo>
                    <a:lnTo>
                      <a:pt x="1860" y="576"/>
                    </a:lnTo>
                    <a:lnTo>
                      <a:pt x="1753" y="625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25"/>
                    </a:lnTo>
                    <a:lnTo>
                      <a:pt x="132" y="576"/>
                    </a:lnTo>
                    <a:lnTo>
                      <a:pt x="66" y="510"/>
                    </a:lnTo>
                    <a:lnTo>
                      <a:pt x="17" y="444"/>
                    </a:lnTo>
                    <a:lnTo>
                      <a:pt x="0" y="37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732200" y="4375080"/>
              <a:ext cx="3164040" cy="1216080"/>
              <a:chOff x="4732200" y="4375080"/>
              <a:chExt cx="3164040" cy="1216080"/>
            </a:xfrm>
          </p:grpSpPr>
          <p:sp>
            <p:nvSpPr>
              <p:cNvPr id="373" name=""/>
              <p:cNvSpPr/>
              <p:nvPr/>
            </p:nvSpPr>
            <p:spPr>
              <a:xfrm>
                <a:off x="4732200" y="4375080"/>
                <a:ext cx="3164040" cy="1216080"/>
              </a:xfrm>
              <a:custGeom>
                <a:avLst/>
                <a:gdLst/>
                <a:ahLst/>
                <a:rect l="l" t="t" r="r" b="b"/>
                <a:pathLst>
                  <a:path w="1993" h="766">
                    <a:moveTo>
                      <a:pt x="0" y="387"/>
                    </a:moveTo>
                    <a:lnTo>
                      <a:pt x="17" y="321"/>
                    </a:lnTo>
                    <a:lnTo>
                      <a:pt x="66" y="255"/>
                    </a:lnTo>
                    <a:lnTo>
                      <a:pt x="132" y="198"/>
                    </a:lnTo>
                    <a:lnTo>
                      <a:pt x="239" y="140"/>
                    </a:lnTo>
                    <a:lnTo>
                      <a:pt x="354" y="91"/>
                    </a:lnTo>
                    <a:lnTo>
                      <a:pt x="502" y="58"/>
                    </a:lnTo>
                    <a:lnTo>
                      <a:pt x="659" y="25"/>
                    </a:lnTo>
                    <a:lnTo>
                      <a:pt x="823" y="9"/>
                    </a:lnTo>
                    <a:lnTo>
                      <a:pt x="996" y="0"/>
                    </a:lnTo>
                    <a:lnTo>
                      <a:pt x="1169" y="9"/>
                    </a:lnTo>
                    <a:lnTo>
                      <a:pt x="1334" y="25"/>
                    </a:lnTo>
                    <a:lnTo>
                      <a:pt x="1490" y="58"/>
                    </a:lnTo>
                    <a:lnTo>
                      <a:pt x="1638" y="91"/>
                    </a:lnTo>
                    <a:lnTo>
                      <a:pt x="1753" y="140"/>
                    </a:lnTo>
                    <a:lnTo>
                      <a:pt x="1860" y="198"/>
                    </a:lnTo>
                    <a:lnTo>
                      <a:pt x="1926" y="255"/>
                    </a:lnTo>
                    <a:lnTo>
                      <a:pt x="1976" y="321"/>
                    </a:lnTo>
                    <a:lnTo>
                      <a:pt x="1992" y="387"/>
                    </a:lnTo>
                    <a:lnTo>
                      <a:pt x="1976" y="452"/>
                    </a:lnTo>
                    <a:lnTo>
                      <a:pt x="1926" y="518"/>
                    </a:lnTo>
                    <a:lnTo>
                      <a:pt x="1860" y="576"/>
                    </a:lnTo>
                    <a:lnTo>
                      <a:pt x="1753" y="633"/>
                    </a:lnTo>
                    <a:lnTo>
                      <a:pt x="1638" y="674"/>
                    </a:lnTo>
                    <a:lnTo>
                      <a:pt x="1490" y="715"/>
                    </a:lnTo>
                    <a:lnTo>
                      <a:pt x="1334" y="740"/>
                    </a:lnTo>
                    <a:lnTo>
                      <a:pt x="1169" y="756"/>
                    </a:lnTo>
                    <a:lnTo>
                      <a:pt x="996" y="765"/>
                    </a:lnTo>
                    <a:lnTo>
                      <a:pt x="823" y="756"/>
                    </a:lnTo>
                    <a:lnTo>
                      <a:pt x="659" y="740"/>
                    </a:lnTo>
                    <a:lnTo>
                      <a:pt x="502" y="715"/>
                    </a:lnTo>
                    <a:lnTo>
                      <a:pt x="354" y="674"/>
                    </a:lnTo>
                    <a:lnTo>
                      <a:pt x="239" y="633"/>
                    </a:lnTo>
                    <a:lnTo>
                      <a:pt x="132" y="576"/>
                    </a:lnTo>
                    <a:lnTo>
                      <a:pt x="66" y="518"/>
                    </a:lnTo>
                    <a:lnTo>
                      <a:pt x="17" y="452"/>
                    </a:lnTo>
                    <a:lnTo>
                      <a:pt x="0" y="38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36960" y="4479840"/>
                <a:ext cx="2941920" cy="1019160"/>
              </a:xfrm>
              <a:custGeom>
                <a:avLst/>
                <a:gdLst/>
                <a:ahLst/>
                <a:rect l="l" t="t" r="r" b="b"/>
                <a:pathLst>
                  <a:path w="1853" h="642">
                    <a:moveTo>
                      <a:pt x="0" y="321"/>
                    </a:moveTo>
                    <a:lnTo>
                      <a:pt x="16" y="263"/>
                    </a:lnTo>
                    <a:lnTo>
                      <a:pt x="58" y="206"/>
                    </a:lnTo>
                    <a:lnTo>
                      <a:pt x="140" y="148"/>
                    </a:lnTo>
                    <a:lnTo>
                      <a:pt x="239" y="107"/>
                    </a:lnTo>
                    <a:lnTo>
                      <a:pt x="362" y="66"/>
                    </a:lnTo>
                    <a:lnTo>
                      <a:pt x="510" y="33"/>
                    </a:lnTo>
                    <a:lnTo>
                      <a:pt x="667" y="8"/>
                    </a:lnTo>
                    <a:lnTo>
                      <a:pt x="840" y="0"/>
                    </a:lnTo>
                    <a:lnTo>
                      <a:pt x="1012" y="0"/>
                    </a:lnTo>
                    <a:lnTo>
                      <a:pt x="1177" y="8"/>
                    </a:lnTo>
                    <a:lnTo>
                      <a:pt x="1333" y="33"/>
                    </a:lnTo>
                    <a:lnTo>
                      <a:pt x="1482" y="66"/>
                    </a:lnTo>
                    <a:lnTo>
                      <a:pt x="1605" y="107"/>
                    </a:lnTo>
                    <a:lnTo>
                      <a:pt x="1712" y="148"/>
                    </a:lnTo>
                    <a:lnTo>
                      <a:pt x="1786" y="206"/>
                    </a:lnTo>
                    <a:lnTo>
                      <a:pt x="1835" y="263"/>
                    </a:lnTo>
                    <a:lnTo>
                      <a:pt x="1852" y="321"/>
                    </a:lnTo>
                    <a:lnTo>
                      <a:pt x="1835" y="378"/>
                    </a:lnTo>
                    <a:lnTo>
                      <a:pt x="1786" y="436"/>
                    </a:lnTo>
                    <a:lnTo>
                      <a:pt x="1712" y="493"/>
                    </a:lnTo>
                    <a:lnTo>
                      <a:pt x="1605" y="542"/>
                    </a:lnTo>
                    <a:lnTo>
                      <a:pt x="1482" y="584"/>
                    </a:lnTo>
                    <a:lnTo>
                      <a:pt x="1333" y="608"/>
                    </a:lnTo>
                    <a:lnTo>
                      <a:pt x="1177" y="633"/>
                    </a:lnTo>
                    <a:lnTo>
                      <a:pt x="1012" y="641"/>
                    </a:lnTo>
                    <a:lnTo>
                      <a:pt x="840" y="641"/>
                    </a:lnTo>
                    <a:lnTo>
                      <a:pt x="667" y="633"/>
                    </a:lnTo>
                    <a:lnTo>
                      <a:pt x="510" y="608"/>
                    </a:lnTo>
                    <a:lnTo>
                      <a:pt x="362" y="584"/>
                    </a:lnTo>
                    <a:lnTo>
                      <a:pt x="239" y="542"/>
                    </a:lnTo>
                    <a:lnTo>
                      <a:pt x="140" y="493"/>
                    </a:lnTo>
                    <a:lnTo>
                      <a:pt x="58" y="436"/>
                    </a:lnTo>
                    <a:lnTo>
                      <a:pt x="16" y="378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880" y="4572000"/>
                <a:ext cx="2654280" cy="784080"/>
              </a:xfrm>
              <a:custGeom>
                <a:avLst/>
                <a:gdLst/>
                <a:ahLst/>
                <a:rect l="l" t="t" r="r" b="b"/>
                <a:pathLst>
                  <a:path w="1672" h="494">
                    <a:moveTo>
                      <a:pt x="0" y="246"/>
                    </a:moveTo>
                    <a:lnTo>
                      <a:pt x="17" y="197"/>
                    </a:lnTo>
                    <a:lnTo>
                      <a:pt x="66" y="156"/>
                    </a:lnTo>
                    <a:lnTo>
                      <a:pt x="140" y="115"/>
                    </a:lnTo>
                    <a:lnTo>
                      <a:pt x="247" y="74"/>
                    </a:lnTo>
                    <a:lnTo>
                      <a:pt x="371" y="41"/>
                    </a:lnTo>
                    <a:lnTo>
                      <a:pt x="519" y="24"/>
                    </a:lnTo>
                    <a:lnTo>
                      <a:pt x="675" y="8"/>
                    </a:lnTo>
                    <a:lnTo>
                      <a:pt x="832" y="0"/>
                    </a:lnTo>
                    <a:lnTo>
                      <a:pt x="996" y="8"/>
                    </a:lnTo>
                    <a:lnTo>
                      <a:pt x="1153" y="24"/>
                    </a:lnTo>
                    <a:lnTo>
                      <a:pt x="1301" y="41"/>
                    </a:lnTo>
                    <a:lnTo>
                      <a:pt x="1424" y="74"/>
                    </a:lnTo>
                    <a:lnTo>
                      <a:pt x="1523" y="115"/>
                    </a:lnTo>
                    <a:lnTo>
                      <a:pt x="1606" y="156"/>
                    </a:lnTo>
                    <a:lnTo>
                      <a:pt x="1655" y="197"/>
                    </a:lnTo>
                    <a:lnTo>
                      <a:pt x="1671" y="246"/>
                    </a:lnTo>
                    <a:lnTo>
                      <a:pt x="1655" y="295"/>
                    </a:lnTo>
                    <a:lnTo>
                      <a:pt x="1606" y="345"/>
                    </a:lnTo>
                    <a:lnTo>
                      <a:pt x="1523" y="386"/>
                    </a:lnTo>
                    <a:lnTo>
                      <a:pt x="1424" y="427"/>
                    </a:lnTo>
                    <a:lnTo>
                      <a:pt x="1301" y="452"/>
                    </a:lnTo>
                    <a:lnTo>
                      <a:pt x="1153" y="476"/>
                    </a:lnTo>
                    <a:lnTo>
                      <a:pt x="996" y="493"/>
                    </a:lnTo>
                    <a:lnTo>
                      <a:pt x="832" y="493"/>
                    </a:lnTo>
                    <a:lnTo>
                      <a:pt x="675" y="493"/>
                    </a:lnTo>
                    <a:lnTo>
                      <a:pt x="519" y="476"/>
                    </a:lnTo>
                    <a:lnTo>
                      <a:pt x="371" y="452"/>
                    </a:lnTo>
                    <a:lnTo>
                      <a:pt x="247" y="427"/>
                    </a:lnTo>
                    <a:lnTo>
                      <a:pt x="140" y="386"/>
                    </a:lnTo>
                    <a:lnTo>
                      <a:pt x="66" y="345"/>
                    </a:lnTo>
                    <a:lnTo>
                      <a:pt x="17" y="295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013440" y="1062000"/>
              <a:ext cx="681120" cy="3994200"/>
              <a:chOff x="6013440" y="1062000"/>
              <a:chExt cx="681120" cy="3994200"/>
            </a:xfrm>
          </p:grpSpPr>
          <p:sp>
            <p:nvSpPr>
              <p:cNvPr id="377" name=""/>
              <p:cNvSpPr/>
              <p:nvPr/>
            </p:nvSpPr>
            <p:spPr>
              <a:xfrm>
                <a:off x="6103800" y="1244520"/>
                <a:ext cx="393840" cy="1176480"/>
              </a:xfrm>
              <a:custGeom>
                <a:avLst/>
                <a:gdLst/>
                <a:ahLst/>
                <a:rect l="l" t="t" r="r" b="b"/>
                <a:pathLst>
                  <a:path w="248" h="741">
                    <a:moveTo>
                      <a:pt x="247" y="649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649"/>
                    </a:lnTo>
                    <a:lnTo>
                      <a:pt x="0" y="657"/>
                    </a:lnTo>
                    <a:lnTo>
                      <a:pt x="17" y="699"/>
                    </a:lnTo>
                    <a:lnTo>
                      <a:pt x="50" y="723"/>
                    </a:lnTo>
                    <a:lnTo>
                      <a:pt x="99" y="740"/>
                    </a:lnTo>
                    <a:lnTo>
                      <a:pt x="157" y="740"/>
                    </a:lnTo>
                    <a:lnTo>
                      <a:pt x="206" y="723"/>
                    </a:lnTo>
                    <a:lnTo>
                      <a:pt x="239" y="699"/>
                    </a:lnTo>
                    <a:lnTo>
                      <a:pt x="247" y="657"/>
                    </a:lnTo>
                    <a:lnTo>
                      <a:pt x="247" y="649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103800" y="1062000"/>
                <a:ext cx="393840" cy="249120"/>
              </a:xfrm>
              <a:custGeom>
                <a:avLst/>
                <a:gdLst/>
                <a:ahLst/>
                <a:rect l="l" t="t" r="r" b="b"/>
                <a:pathLst>
                  <a:path w="248" h="157">
                    <a:moveTo>
                      <a:pt x="0" y="74"/>
                    </a:moveTo>
                    <a:lnTo>
                      <a:pt x="17" y="41"/>
                    </a:lnTo>
                    <a:lnTo>
                      <a:pt x="50" y="8"/>
                    </a:lnTo>
                    <a:lnTo>
                      <a:pt x="99" y="0"/>
                    </a:lnTo>
                    <a:lnTo>
                      <a:pt x="157" y="0"/>
                    </a:lnTo>
                    <a:lnTo>
                      <a:pt x="206" y="8"/>
                    </a:lnTo>
                    <a:lnTo>
                      <a:pt x="239" y="41"/>
                    </a:lnTo>
                    <a:lnTo>
                      <a:pt x="247" y="74"/>
                    </a:lnTo>
                    <a:lnTo>
                      <a:pt x="239" y="115"/>
                    </a:lnTo>
                    <a:lnTo>
                      <a:pt x="206" y="140"/>
                    </a:lnTo>
                    <a:lnTo>
                      <a:pt x="157" y="156"/>
                    </a:lnTo>
                    <a:lnTo>
                      <a:pt x="99" y="156"/>
                    </a:lnTo>
                    <a:lnTo>
                      <a:pt x="50" y="140"/>
                    </a:lnTo>
                    <a:lnTo>
                      <a:pt x="17" y="115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03800" y="3592440"/>
                <a:ext cx="393840" cy="1463760"/>
              </a:xfrm>
              <a:custGeom>
                <a:avLst/>
                <a:gdLst/>
                <a:ahLst/>
                <a:rect l="l" t="t" r="r" b="b"/>
                <a:pathLst>
                  <a:path w="248" h="922">
                    <a:moveTo>
                      <a:pt x="247" y="814"/>
                    </a:moveTo>
                    <a:lnTo>
                      <a:pt x="247" y="0"/>
                    </a:lnTo>
                    <a:lnTo>
                      <a:pt x="0" y="0"/>
                    </a:lnTo>
                    <a:lnTo>
                      <a:pt x="0" y="814"/>
                    </a:lnTo>
                    <a:lnTo>
                      <a:pt x="0" y="822"/>
                    </a:lnTo>
                    <a:lnTo>
                      <a:pt x="17" y="871"/>
                    </a:lnTo>
                    <a:lnTo>
                      <a:pt x="50" y="904"/>
                    </a:lnTo>
                    <a:lnTo>
                      <a:pt x="99" y="921"/>
                    </a:lnTo>
                    <a:lnTo>
                      <a:pt x="157" y="921"/>
                    </a:lnTo>
                    <a:lnTo>
                      <a:pt x="206" y="904"/>
                    </a:lnTo>
                    <a:lnTo>
                      <a:pt x="239" y="871"/>
                    </a:lnTo>
                    <a:lnTo>
                      <a:pt x="247" y="822"/>
                    </a:lnTo>
                    <a:lnTo>
                      <a:pt x="247" y="8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3440" y="1349280"/>
                <a:ext cx="681120" cy="392040"/>
              </a:xfrm>
              <a:custGeom>
                <a:avLst/>
                <a:gdLst/>
                <a:ahLst/>
                <a:rect l="l" t="t" r="r" b="b"/>
                <a:pathLst>
                  <a:path w="429" h="247">
                    <a:moveTo>
                      <a:pt x="57" y="0"/>
                    </a:moveTo>
                    <a:lnTo>
                      <a:pt x="16" y="49"/>
                    </a:lnTo>
                    <a:lnTo>
                      <a:pt x="0" y="98"/>
                    </a:lnTo>
                    <a:lnTo>
                      <a:pt x="16" y="156"/>
                    </a:lnTo>
                    <a:lnTo>
                      <a:pt x="66" y="205"/>
                    </a:lnTo>
                    <a:lnTo>
                      <a:pt x="131" y="230"/>
                    </a:lnTo>
                    <a:lnTo>
                      <a:pt x="214" y="246"/>
                    </a:lnTo>
                    <a:lnTo>
                      <a:pt x="296" y="230"/>
                    </a:lnTo>
                    <a:lnTo>
                      <a:pt x="362" y="205"/>
                    </a:lnTo>
                    <a:lnTo>
                      <a:pt x="411" y="156"/>
                    </a:lnTo>
                    <a:lnTo>
                      <a:pt x="428" y="98"/>
                    </a:lnTo>
                    <a:lnTo>
                      <a:pt x="411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6600960" y="1349280"/>
            <a:ext cx="171360" cy="1717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25" y="107"/>
                </a:moveTo>
                <a:lnTo>
                  <a:pt x="0" y="0"/>
                </a:lnTo>
                <a:lnTo>
                  <a:pt x="107" y="41"/>
                </a:lnTo>
                <a:lnTo>
                  <a:pt x="25" y="10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45040" y="232740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45040" y="294012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5040" y="5027760"/>
            <a:ext cx="78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45040" y="3502080"/>
            <a:ext cx="0" cy="156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5040" y="2327040"/>
            <a:ext cx="0" cy="117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29120" y="4989600"/>
            <a:ext cx="157320" cy="79200"/>
          </a:xfrm>
          <a:custGeom>
            <a:avLst/>
            <a:gdLst/>
            <a:ahLst/>
            <a:rect l="l" t="t" r="r" b="b"/>
            <a:pathLst>
              <a:path w="99" h="50">
                <a:moveTo>
                  <a:pt x="0" y="49"/>
                </a:moveTo>
                <a:lnTo>
                  <a:pt x="98" y="49"/>
                </a:lnTo>
                <a:lnTo>
                  <a:pt x="98" y="0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29120" y="2287440"/>
            <a:ext cx="157320" cy="68400"/>
          </a:xfrm>
          <a:custGeom>
            <a:avLst/>
            <a:gdLst/>
            <a:ahLst/>
            <a:rect l="l" t="t" r="r" b="b"/>
            <a:pathLst>
              <a:path w="99" h="43">
                <a:moveTo>
                  <a:pt x="0" y="42"/>
                </a:moveTo>
                <a:lnTo>
                  <a:pt x="98" y="42"/>
                </a:lnTo>
                <a:lnTo>
                  <a:pt x="98" y="0"/>
                </a:lnTo>
                <a:lnTo>
                  <a:pt x="0" y="0"/>
                </a:lnTo>
                <a:lnTo>
                  <a:pt x="0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29120" y="2914560"/>
            <a:ext cx="157320" cy="66600"/>
          </a:xfrm>
          <a:custGeom>
            <a:avLst/>
            <a:gdLst/>
            <a:ahLst/>
            <a:rect l="l" t="t" r="r" b="b"/>
            <a:pathLst>
              <a:path w="99" h="42">
                <a:moveTo>
                  <a:pt x="0" y="41"/>
                </a:moveTo>
                <a:lnTo>
                  <a:pt x="98" y="41"/>
                </a:lnTo>
                <a:lnTo>
                  <a:pt x="98" y="0"/>
                </a:lnTo>
                <a:lnTo>
                  <a:pt x="0" y="0"/>
                </a:lnTo>
                <a:lnTo>
                  <a:pt x="0" y="4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91480" y="3782880"/>
            <a:ext cx="830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tt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72320" y="3305160"/>
            <a:ext cx="39204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667640" y="4084200"/>
            <a:ext cx="392040" cy="58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-37800" y="1662120"/>
            <a:ext cx="46479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platters spin (say, 90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32320" y="1055520"/>
            <a:ext cx="8200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97640" y="1189080"/>
            <a:ext cx="695160" cy="117360"/>
          </a:xfrm>
          <a:custGeom>
            <a:avLst/>
            <a:gdLst/>
            <a:ahLst/>
            <a:rect l="l" t="t" r="r" b="b"/>
            <a:pathLst>
              <a:path w="438" h="74">
                <a:moveTo>
                  <a:pt x="437" y="8"/>
                </a:moveTo>
                <a:lnTo>
                  <a:pt x="288" y="0"/>
                </a:lnTo>
                <a:lnTo>
                  <a:pt x="140" y="24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760" y="2120760"/>
            <a:ext cx="4124520" cy="23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arm assembly is moved in or out to position  a head on a desired track. Tracks under heads  make    a </a:t>
            </a: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ylinder</a:t>
            </a: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imaginary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20560" y="1371600"/>
            <a:ext cx="1033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k he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41680" y="3713040"/>
            <a:ext cx="1476720" cy="517320"/>
            <a:chOff x="4441680" y="3713040"/>
            <a:chExt cx="1476720" cy="517320"/>
          </a:xfrm>
        </p:grpSpPr>
        <p:sp>
          <p:nvSpPr>
            <p:cNvPr id="399" name=""/>
            <p:cNvSpPr/>
            <p:nvPr/>
          </p:nvSpPr>
          <p:spPr>
            <a:xfrm>
              <a:off x="4494240" y="3713040"/>
              <a:ext cx="1373040" cy="196920"/>
            </a:xfrm>
            <a:custGeom>
              <a:avLst/>
              <a:gdLst/>
              <a:ahLst/>
              <a:rect l="l" t="t" r="r" b="b"/>
              <a:pathLst>
                <a:path w="865" h="124">
                  <a:moveTo>
                    <a:pt x="0" y="65"/>
                  </a:moveTo>
                  <a:lnTo>
                    <a:pt x="41" y="0"/>
                  </a:lnTo>
                  <a:lnTo>
                    <a:pt x="41" y="41"/>
                  </a:lnTo>
                  <a:lnTo>
                    <a:pt x="831" y="41"/>
                  </a:lnTo>
                  <a:lnTo>
                    <a:pt x="831" y="0"/>
                  </a:lnTo>
                  <a:lnTo>
                    <a:pt x="864" y="65"/>
                  </a:lnTo>
                  <a:lnTo>
                    <a:pt x="831" y="123"/>
                  </a:lnTo>
                  <a:lnTo>
                    <a:pt x="831" y="82"/>
                  </a:lnTo>
                  <a:lnTo>
                    <a:pt x="41" y="82"/>
                  </a:lnTo>
                  <a:lnTo>
                    <a:pt x="41" y="123"/>
                  </a:lnTo>
                  <a:lnTo>
                    <a:pt x="0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41680" y="3913200"/>
              <a:ext cx="14767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mov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283200" y="4675320"/>
            <a:ext cx="1393200" cy="794880"/>
            <a:chOff x="3283200" y="4675320"/>
            <a:chExt cx="1393200" cy="794880"/>
          </a:xfrm>
        </p:grpSpPr>
        <p:sp>
          <p:nvSpPr>
            <p:cNvPr id="402" name=""/>
            <p:cNvSpPr/>
            <p:nvPr/>
          </p:nvSpPr>
          <p:spPr>
            <a:xfrm>
              <a:off x="3283200" y="5153040"/>
              <a:ext cx="13932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m assembl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1840" y="4675320"/>
              <a:ext cx="406440" cy="484200"/>
            </a:xfrm>
            <a:custGeom>
              <a:avLst/>
              <a:gdLst/>
              <a:ahLst/>
              <a:rect l="l" t="t" r="r" b="b"/>
              <a:pathLst>
                <a:path w="256" h="305">
                  <a:moveTo>
                    <a:pt x="8" y="304"/>
                  </a:moveTo>
                  <a:lnTo>
                    <a:pt x="0" y="230"/>
                  </a:lnTo>
                  <a:lnTo>
                    <a:pt x="16" y="156"/>
                  </a:lnTo>
                  <a:lnTo>
                    <a:pt x="57" y="91"/>
                  </a:lnTo>
                  <a:lnTo>
                    <a:pt x="115" y="41"/>
                  </a:lnTo>
                  <a:lnTo>
                    <a:pt x="181" y="9"/>
                  </a:lnTo>
                  <a:lnTo>
                    <a:pt x="25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734000" y="1596960"/>
            <a:ext cx="288720" cy="731880"/>
          </a:xfrm>
          <a:custGeom>
            <a:avLst/>
            <a:gdLst/>
            <a:ahLst/>
            <a:rect l="l" t="t" r="r" b="b"/>
            <a:pathLst>
              <a:path w="182" h="461">
                <a:moveTo>
                  <a:pt x="0" y="0"/>
                </a:moveTo>
                <a:lnTo>
                  <a:pt x="82" y="66"/>
                </a:lnTo>
                <a:lnTo>
                  <a:pt x="140" y="156"/>
                </a:lnTo>
                <a:lnTo>
                  <a:pt x="173" y="255"/>
                </a:lnTo>
                <a:lnTo>
                  <a:pt x="181" y="353"/>
                </a:lnTo>
                <a:lnTo>
                  <a:pt x="165" y="4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226280" y="1262160"/>
            <a:ext cx="1290960" cy="790560"/>
            <a:chOff x="7226280" y="1262160"/>
            <a:chExt cx="1290960" cy="790560"/>
          </a:xfrm>
        </p:grpSpPr>
        <p:sp>
          <p:nvSpPr>
            <p:cNvPr id="406" name=""/>
            <p:cNvSpPr/>
            <p:nvPr/>
          </p:nvSpPr>
          <p:spPr>
            <a:xfrm>
              <a:off x="7316640" y="1568520"/>
              <a:ext cx="590760" cy="484200"/>
            </a:xfrm>
            <a:custGeom>
              <a:avLst/>
              <a:gdLst/>
              <a:ahLst/>
              <a:rect l="l" t="t" r="r" b="b"/>
              <a:pathLst>
                <a:path w="372" h="305">
                  <a:moveTo>
                    <a:pt x="371" y="0"/>
                  </a:moveTo>
                  <a:lnTo>
                    <a:pt x="255" y="33"/>
                  </a:lnTo>
                  <a:lnTo>
                    <a:pt x="148" y="107"/>
                  </a:lnTo>
                  <a:lnTo>
                    <a:pt x="58" y="197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7226280" y="1262160"/>
              <a:ext cx="1290960" cy="699840"/>
              <a:chOff x="7226280" y="1262160"/>
              <a:chExt cx="1290960" cy="69984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1240" y="1262160"/>
                <a:ext cx="75600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rack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26280" y="1568520"/>
                <a:ext cx="484200" cy="393480"/>
              </a:xfrm>
              <a:custGeom>
                <a:avLst/>
                <a:gdLst/>
                <a:ahLst/>
                <a:rect l="l" t="t" r="r" b="b"/>
                <a:pathLst>
                  <a:path w="305" h="248">
                    <a:moveTo>
                      <a:pt x="304" y="0"/>
                    </a:moveTo>
                    <a:lnTo>
                      <a:pt x="222" y="0"/>
                    </a:lnTo>
                    <a:lnTo>
                      <a:pt x="139" y="33"/>
                    </a:lnTo>
                    <a:lnTo>
                      <a:pt x="74" y="90"/>
                    </a:lnTo>
                    <a:lnTo>
                      <a:pt x="24" y="164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"/>
          <p:cNvSpPr/>
          <p:nvPr/>
        </p:nvSpPr>
        <p:spPr>
          <a:xfrm>
            <a:off x="7750080" y="2131920"/>
            <a:ext cx="174600" cy="444600"/>
          </a:xfrm>
          <a:custGeom>
            <a:avLst/>
            <a:gdLst/>
            <a:ahLst/>
            <a:rect l="l" t="t" r="r" b="b"/>
            <a:pathLst>
              <a:path w="110" h="280">
                <a:moveTo>
                  <a:pt x="0" y="279"/>
                </a:moveTo>
                <a:lnTo>
                  <a:pt x="64" y="238"/>
                </a:lnTo>
                <a:lnTo>
                  <a:pt x="100" y="181"/>
                </a:lnTo>
                <a:lnTo>
                  <a:pt x="109" y="115"/>
                </a:lnTo>
                <a:lnTo>
                  <a:pt x="81" y="49"/>
                </a:lnTo>
                <a:lnTo>
                  <a:pt x="28" y="0"/>
                </a:lnTo>
                <a:lnTo>
                  <a:pt x="55" y="33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50480" y="2152800"/>
            <a:ext cx="7347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97640" y="2131920"/>
            <a:ext cx="1471680" cy="484200"/>
          </a:xfrm>
          <a:custGeom>
            <a:avLst/>
            <a:gdLst/>
            <a:ahLst/>
            <a:rect l="l" t="t" r="r" b="b"/>
            <a:pathLst>
              <a:path w="927" h="305">
                <a:moveTo>
                  <a:pt x="890" y="304"/>
                </a:moveTo>
                <a:lnTo>
                  <a:pt x="0" y="123"/>
                </a:lnTo>
                <a:lnTo>
                  <a:pt x="926" y="0"/>
                </a:lnTo>
              </a:path>
            </a:pathLst>
          </a:custGeom>
          <a:solidFill>
            <a:srgbClr val="d8d8e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23240" y="2079720"/>
            <a:ext cx="520560" cy="276120"/>
          </a:xfrm>
          <a:custGeom>
            <a:avLst/>
            <a:gdLst/>
            <a:ahLst/>
            <a:rect l="l" t="t" r="r" b="b"/>
            <a:pathLst>
              <a:path w="328" h="174">
                <a:moveTo>
                  <a:pt x="327" y="33"/>
                </a:moveTo>
                <a:lnTo>
                  <a:pt x="264" y="0"/>
                </a:lnTo>
                <a:lnTo>
                  <a:pt x="191" y="0"/>
                </a:lnTo>
                <a:lnTo>
                  <a:pt x="118" y="16"/>
                </a:lnTo>
                <a:lnTo>
                  <a:pt x="64" y="49"/>
                </a:lnTo>
                <a:lnTo>
                  <a:pt x="19" y="107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ing is the Key to Speed up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 Oper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`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 all employees whose salary &gt; $25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data is in sorted file, do binary search to find first such employee, then scan to find oth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st of binary search can be quite hig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:  Create an `index’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7840" y="6081840"/>
            <a:ext cx="644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669999"/>
                </a:solidFill>
                <a:latin typeface="Book Antiqua"/>
              </a:rPr>
              <a:t>Can do binary search on (smaller) index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22400" y="5423040"/>
            <a:ext cx="1052640" cy="398160"/>
          </a:xfrm>
          <a:custGeom>
            <a:avLst/>
            <a:gdLst/>
            <a:ahLst/>
            <a:rect l="l" t="t" r="r" b="b"/>
            <a:pathLst>
              <a:path w="663" h="251">
                <a:moveTo>
                  <a:pt x="0" y="250"/>
                </a:moveTo>
                <a:lnTo>
                  <a:pt x="0" y="0"/>
                </a:lnTo>
                <a:lnTo>
                  <a:pt x="662" y="0"/>
                </a:lnTo>
                <a:lnTo>
                  <a:pt x="662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68640" y="5423040"/>
            <a:ext cx="105084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794200" y="5423040"/>
            <a:ext cx="1051200" cy="398160"/>
          </a:xfrm>
          <a:custGeom>
            <a:avLst/>
            <a:gdLst/>
            <a:ahLst/>
            <a:rect l="l" t="t" r="r" b="b"/>
            <a:pathLst>
              <a:path w="662" h="251">
                <a:moveTo>
                  <a:pt x="0" y="250"/>
                </a:moveTo>
                <a:lnTo>
                  <a:pt x="0" y="0"/>
                </a:lnTo>
                <a:lnTo>
                  <a:pt x="661" y="0"/>
                </a:lnTo>
                <a:lnTo>
                  <a:pt x="661" y="250"/>
                </a:lnTo>
                <a:lnTo>
                  <a:pt x="0" y="25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65160" y="5356080"/>
            <a:ext cx="5943600" cy="513000"/>
          </a:xfrm>
          <a:custGeom>
            <a:avLst/>
            <a:gdLst/>
            <a:ahLst/>
            <a:rect l="l" t="t" r="r" b="b"/>
            <a:pathLst>
              <a:path w="3744" h="323">
                <a:moveTo>
                  <a:pt x="0" y="322"/>
                </a:moveTo>
                <a:lnTo>
                  <a:pt x="0" y="0"/>
                </a:lnTo>
                <a:lnTo>
                  <a:pt x="3743" y="0"/>
                </a:lnTo>
                <a:lnTo>
                  <a:pt x="3743" y="322"/>
                </a:lnTo>
                <a:lnTo>
                  <a:pt x="0" y="3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3240" y="4389480"/>
            <a:ext cx="198360" cy="968400"/>
          </a:xfrm>
          <a:custGeom>
            <a:avLst/>
            <a:gdLst/>
            <a:ahLst/>
            <a:rect l="l" t="t" r="r" b="b"/>
            <a:pathLst>
              <a:path w="125" h="610">
                <a:moveTo>
                  <a:pt x="0" y="0"/>
                </a:moveTo>
                <a:lnTo>
                  <a:pt x="124" y="60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6160" y="5229360"/>
            <a:ext cx="58680" cy="128520"/>
          </a:xfrm>
          <a:custGeom>
            <a:avLst/>
            <a:gdLst/>
            <a:ahLst/>
            <a:rect l="l" t="t" r="r" b="b"/>
            <a:pathLst>
              <a:path w="37" h="81">
                <a:moveTo>
                  <a:pt x="36" y="0"/>
                </a:moveTo>
                <a:lnTo>
                  <a:pt x="34" y="80"/>
                </a:lnTo>
                <a:lnTo>
                  <a:pt x="0" y="8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14880" y="5429160"/>
            <a:ext cx="1052280" cy="40032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43160" y="4379760"/>
            <a:ext cx="1440" cy="935280"/>
          </a:xfrm>
          <a:custGeom>
            <a:avLst/>
            <a:gdLst/>
            <a:ahLst/>
            <a:rect l="l" t="t" r="r" b="b"/>
            <a:pathLst>
              <a:path w="1" h="589">
                <a:moveTo>
                  <a:pt x="0" y="0"/>
                </a:moveTo>
                <a:lnTo>
                  <a:pt x="0" y="5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12920" y="5186520"/>
            <a:ext cx="61920" cy="128520"/>
          </a:xfrm>
          <a:custGeom>
            <a:avLst/>
            <a:gdLst/>
            <a:ahLst/>
            <a:rect l="l" t="t" r="r" b="b"/>
            <a:pathLst>
              <a:path w="39" h="81">
                <a:moveTo>
                  <a:pt x="38" y="0"/>
                </a:moveTo>
                <a:lnTo>
                  <a:pt x="19" y="80"/>
                </a:lnTo>
                <a:lnTo>
                  <a:pt x="0" y="0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68600" y="4397400"/>
            <a:ext cx="757080" cy="917640"/>
          </a:xfrm>
          <a:custGeom>
            <a:avLst/>
            <a:gdLst/>
            <a:ahLst/>
            <a:rect l="l" t="t" r="r" b="b"/>
            <a:pathLst>
              <a:path w="477" h="578">
                <a:moveTo>
                  <a:pt x="0" y="0"/>
                </a:moveTo>
                <a:lnTo>
                  <a:pt x="476" y="57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20920" y="5197320"/>
            <a:ext cx="104760" cy="117720"/>
          </a:xfrm>
          <a:custGeom>
            <a:avLst/>
            <a:gdLst/>
            <a:ahLst/>
            <a:rect l="l" t="t" r="r" b="b"/>
            <a:pathLst>
              <a:path w="66" h="74">
                <a:moveTo>
                  <a:pt x="29" y="0"/>
                </a:moveTo>
                <a:lnTo>
                  <a:pt x="65" y="73"/>
                </a:lnTo>
                <a:lnTo>
                  <a:pt x="0" y="27"/>
                </a:lnTo>
                <a:lnTo>
                  <a:pt x="2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55520" y="4248000"/>
            <a:ext cx="973440" cy="1087560"/>
          </a:xfrm>
          <a:custGeom>
            <a:avLst/>
            <a:gdLst/>
            <a:ahLst/>
            <a:rect l="l" t="t" r="r" b="b"/>
            <a:pathLst>
              <a:path w="613" h="685">
                <a:moveTo>
                  <a:pt x="612" y="0"/>
                </a:moveTo>
                <a:lnTo>
                  <a:pt x="0" y="684"/>
                </a:lnTo>
                <a:lnTo>
                  <a:pt x="6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55520" y="5219640"/>
            <a:ext cx="106560" cy="115920"/>
          </a:xfrm>
          <a:custGeom>
            <a:avLst/>
            <a:gdLst/>
            <a:ahLst/>
            <a:rect l="l" t="t" r="r" b="b"/>
            <a:pathLst>
              <a:path w="67" h="73">
                <a:moveTo>
                  <a:pt x="66" y="27"/>
                </a:moveTo>
                <a:lnTo>
                  <a:pt x="0" y="72"/>
                </a:lnTo>
                <a:lnTo>
                  <a:pt x="38" y="0"/>
                </a:lnTo>
                <a:lnTo>
                  <a:pt x="66" y="2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085400" y="543096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77720" y="544680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72680" y="5397480"/>
            <a:ext cx="7848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44480" y="5423040"/>
            <a:ext cx="7560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55080" y="5343480"/>
            <a:ext cx="1082160" cy="3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52640" y="4070520"/>
            <a:ext cx="1049400" cy="399960"/>
          </a:xfrm>
          <a:custGeom>
            <a:avLst/>
            <a:gdLst/>
            <a:ahLst/>
            <a:rect l="l" t="t" r="r" b="b"/>
            <a:pathLst>
              <a:path w="661" h="252">
                <a:moveTo>
                  <a:pt x="0" y="251"/>
                </a:moveTo>
                <a:lnTo>
                  <a:pt x="0" y="0"/>
                </a:lnTo>
                <a:lnTo>
                  <a:pt x="660" y="0"/>
                </a:lnTo>
                <a:lnTo>
                  <a:pt x="660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137040" y="4070520"/>
            <a:ext cx="1052280" cy="399960"/>
          </a:xfrm>
          <a:custGeom>
            <a:avLst/>
            <a:gdLst/>
            <a:ahLst/>
            <a:rect l="l" t="t" r="r" b="b"/>
            <a:pathLst>
              <a:path w="663" h="252">
                <a:moveTo>
                  <a:pt x="0" y="251"/>
                </a:moveTo>
                <a:lnTo>
                  <a:pt x="0" y="0"/>
                </a:lnTo>
                <a:lnTo>
                  <a:pt x="662" y="0"/>
                </a:lnTo>
                <a:lnTo>
                  <a:pt x="662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49920" y="4070520"/>
            <a:ext cx="1050840" cy="399960"/>
          </a:xfrm>
          <a:custGeom>
            <a:avLst/>
            <a:gdLst/>
            <a:ahLst/>
            <a:rect l="l" t="t" r="r" b="b"/>
            <a:pathLst>
              <a:path w="662" h="252">
                <a:moveTo>
                  <a:pt x="0" y="251"/>
                </a:moveTo>
                <a:lnTo>
                  <a:pt x="0" y="0"/>
                </a:lnTo>
                <a:lnTo>
                  <a:pt x="661" y="0"/>
                </a:lnTo>
                <a:lnTo>
                  <a:pt x="661" y="251"/>
                </a:lnTo>
                <a:lnTo>
                  <a:pt x="0" y="25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76320" y="3973680"/>
            <a:ext cx="4068720" cy="574560"/>
          </a:xfrm>
          <a:custGeom>
            <a:avLst/>
            <a:gdLst/>
            <a:ahLst/>
            <a:rect l="l" t="t" r="r" b="b"/>
            <a:pathLst>
              <a:path w="2563" h="362">
                <a:moveTo>
                  <a:pt x="0" y="361"/>
                </a:moveTo>
                <a:lnTo>
                  <a:pt x="0" y="0"/>
                </a:lnTo>
                <a:lnTo>
                  <a:pt x="2562" y="0"/>
                </a:lnTo>
                <a:lnTo>
                  <a:pt x="2562" y="361"/>
                </a:lnTo>
                <a:lnTo>
                  <a:pt x="0" y="3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67720" y="4097160"/>
            <a:ext cx="37944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06480" y="4078440"/>
            <a:ext cx="40860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67840" y="4100400"/>
            <a:ext cx="379440" cy="30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09360" y="3976560"/>
            <a:ext cx="1178280" cy="3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dex F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execution of user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tilize CPU while waiting for disk I/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atabase programs make heavy use of d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oid short programs waiting behind long 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TM withdrawal while bank manager sums balance across al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CF2-54DB-4411-89C5-4A247E1FFC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797EE-8F1C-41FC-8AB8-36F81CE49429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concep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tomic 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base actions (reads/wri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DB from one 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consistent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2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38680" y="28954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676480" y="321300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onsistent stat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3429000"/>
            <a:ext cx="220968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97840" y="2916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07D-F498-49EB-81B9-6D665880F64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E8E46-9210-4EB4-9060-1A1F7C7892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61048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</a:rPr>
              <a:t>consis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ased on our knowledge of banking “semantic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up to writer of transaction to ensure transaction preserves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provides (limited) automatic enforcement, via 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tegr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.g., balances must be &gt;=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1523880"/>
            <a:ext cx="2819520" cy="1067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9680" y="167652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1447920"/>
            <a:ext cx="281952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2057400"/>
            <a:ext cx="2210040" cy="0"/>
          </a:xfrm>
          <a:prstGeom prst="line">
            <a:avLst/>
          </a:prstGeom>
          <a:ln w="38160">
            <a:solidFill>
              <a:srgbClr val="d8d8e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131616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cf0e30"/>
                </a:solidFill>
                <a:latin typeface="Book Antiqua"/>
              </a:rPr>
              <a:t>transfer $100 from Saving to check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61160" y="160020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checking: 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Book Antiqua"/>
              </a:rPr>
              <a:t>savings: $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7CB-8AED-48E2-8259-4F9415F6380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59D5E-6F4C-4407-BD55-4398D4CD56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31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spcBef>
                <a:spcPts val="60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base in the fu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810-6042-401A-881F-A6A7B8EE1F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AC1B9-E7D9-454F-8B87-035F1FD25E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6858000" cy="5234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5BC-6D0C-460B-8CD8-497291FC3F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2CBE6-9AD9-4C71-81D6-D1D2BAD517F6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Database Systems To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6D7-6A6E-4BD1-9C2C-1CEBA9CEF9B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C14DC-50CD-4FF8-8171-10939E793423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… </a:t>
            </a:r>
            <a:r>
              <a:rPr b="1" lang="en-US" sz="3200" spc="-1" strike="noStrike">
                <a:solidFill>
                  <a:srgbClr val="7e9ce8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Databa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066680"/>
            <a:ext cx="8142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very large, integrated collection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a group of facts that can be recorded and have an implicit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a database is used to model a real-world “enterprise” (or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iniwor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Entitie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.g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asketball tea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lationshi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e.g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U’s basketball t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you name it&gt; last wee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surprise you how flexible thi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searc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ies: words,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: word in document, document links to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2P fileshar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ies: words, filenames, h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ships: word in filename, file available at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F52-22B1-4A64-8129-E115BB0F09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2B128-E062-429E-A9F9-C90C7A3DD0A8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Characteristics of Datab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20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describing nature of a 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DBM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cata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ore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database. The description is called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meta-dat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ion between program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changing data storage structures and operations without having to change the DBMS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bs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ta mod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hide storage details and present the users with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onceptual vi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of the datab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multiple views of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user may see a different view of the database, which describ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he data of interest to that us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 of data and multi-user 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3E1-CC2E-41A5-8BCC-9683DA18C8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08B91-F120-4926-BACA-495DC96EA9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s make these folks happy 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us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, education, science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application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data entry &amp; analysis tools on top of DB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 web services that run off DBM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administrators (DB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logical/physical 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 security and auth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vailability, crash reco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tuning as needs ev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vendors,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acle, IBM, MS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8920" y="6400800"/>
            <a:ext cx="57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how a DBMS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705720" y="990720"/>
          <a:ext cx="167616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990720"/>
                    <a:ext cx="16761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ke Huan Univ. of Kans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954-F6A4-40E7-8AB6-4BE7F68C70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296BE-8D8B-4D6E-AA67-7B895EFBD953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huan</cp:lastModifiedBy>
  <dcterms:modified xsi:type="dcterms:W3CDTF">2007-01-22T20:32:37Z</dcterms:modified>
  <cp:revision>214</cp:revision>
  <dc:subject/>
  <dc:title>CS186: Introduction to Database Systems</dc:title>
</cp:coreProperties>
</file>