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9EFC40-4285-4D35-B33A-28B171FC7D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BB9B0C4-F607-41E6-AC31-9AA7F8D553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6FB87A6-3ED0-4200-9D01-90A88A17BC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39459FE-2C40-446C-AFB8-A7F217D976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2481BF6-4746-4343-A8EF-71809292FD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A5023DF-7703-4D96-A038-5A8A2B1516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DAD49B-7CEC-4670-A985-B56BB4E861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98115F-C5ED-41CB-934F-A94C45C0C9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A3AE97F-025A-4F48-BBF7-14E5C4613F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FF20C8-997B-4401-8B10-A81E26E6F6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74D8E92-A6D2-4615-9406-39961FBB92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004760" y="777960"/>
            <a:ext cx="5092920" cy="38196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44640" y="4861080"/>
            <a:ext cx="52084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A1E692-244A-4057-9076-0DF09E07BB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7D9FBE0-2D4C-4251-A44E-1DC7865522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3572A55-5018-4C56-9977-507D3FA913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 from the SGM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ML (Standardized Generalized Markup Langu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7349E2-D6FB-4709-90D5-9621342D9C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1B19FD-B2D2-418B-ADC9-A06FA8D102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link: creates and describes links to resources (e.g., hyperlinks in 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pointer: supports addressing into the internal structure of a document; can be used with Xlink (as a language for describing location of internal stu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979933C-6108-4CDE-AF1B-233FC471A6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004760" y="777960"/>
            <a:ext cx="5092920" cy="38196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44640" y="4861080"/>
            <a:ext cx="52084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190DCB-AC15-4513-9DE2-5BCF6DCEE5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58E6-2532-4545-89E0-8385D280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F089-1D6A-4F27-B9A2-926148E7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9C03-CE83-44D5-A833-304AB220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9F66-7F4F-495E-96CC-2AB2A67A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4E6-3A99-4129-A949-230F54D6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9268-F014-4C83-8260-7BE665FD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4CD4-2D5D-4D19-A347-FF66BC2A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4847-C8DD-4409-A735-CCF38034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3A79-798C-4B2F-B7E7-717F64AB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8AE3-7F90-40DD-BC31-004473B0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F6F3-652D-4723-9A04-7F3704AC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79E0-E111-4AF6-A89B-B44CA137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3199-3073-422A-99A3-8236CBBD95D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0590-C890-4900-BEA9-2C80407D24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29756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s in Cluster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51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lu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collection of data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one another within the same clus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similar to the objects in other clus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luster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ding similarities between data according to the characteristics found in the data and grouping similar data objects into clus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supervised lear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 predefined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ha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ustering can be used as a stand-alone tool to get insight into data distribu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ustering can be used as a preprocessing step for other algorithms such as discret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DE72-CE4C-4AF6-A668-1D598538A5B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19053-072C-4CDA-959E-315B6F0343D5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Clus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separated clu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er-based clu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guous clu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C9C9-1D94-4FE6-B91B-786276E247D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38F54-82EB-4FCB-A793-3C8CDB85CFE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s of Clusters: Well-Separ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6560" y="1066680"/>
            <a:ext cx="8280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Separated Cluster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luster is a set of points such that any point in a cluster is closer (or more similar) to every other point in the cluster than to any point not in the cluste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4570560"/>
            <a:ext cx="1143000" cy="114300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8120" y="4570560"/>
            <a:ext cx="1143000" cy="11430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06760" y="2971800"/>
            <a:ext cx="1143000" cy="1143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5791320"/>
            <a:ext cx="3200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well-separated 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BDD1-BEF6-4457-8467-798D22A124E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EB02F-F840-4D82-9C1E-EF7A0CE43B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s of Clusters: Center-Ba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6560" y="1066680"/>
            <a:ext cx="8280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er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luster is a set of objects such that an object in a cluster is closer (more similar) to the “center” of a cluster, than to the center of any other cluster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center of a cluster is often a </a:t>
            </a:r>
            <a:r>
              <a:rPr b="1" i="1" lang="en-US" sz="2600" spc="-1" strike="noStrike">
                <a:solidFill>
                  <a:srgbClr val="0033cc"/>
                </a:solidFill>
                <a:latin typeface="Times New Roman"/>
              </a:rPr>
              <a:t>centro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the average of all the points in the cluster, or a </a:t>
            </a:r>
            <a:r>
              <a:rPr b="1" i="1" lang="en-US" sz="2600" spc="-1" strike="noStrike">
                <a:solidFill>
                  <a:srgbClr val="0033cc"/>
                </a:solidFill>
                <a:latin typeface="Times New Roman"/>
              </a:rPr>
              <a:t>medo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the most “representative” point of a cluste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4191120"/>
            <a:ext cx="1371600" cy="1371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4191120"/>
            <a:ext cx="1371600" cy="137160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22960" y="4329000"/>
            <a:ext cx="1166760" cy="110016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694560" y="4329000"/>
            <a:ext cx="1166760" cy="1100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5791320"/>
            <a:ext cx="3200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center-based 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7BFC-4F8E-402E-88F0-8FE957164A9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814F7-ECF1-4C72-ACCA-534126229F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59000" y="324000"/>
            <a:ext cx="6456240" cy="52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or Clustering Approaches (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82240" y="113616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ing approach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 various partitions and then evaluate them by some criterion, e.g., minimizing the sum of square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ical methods: k-means, k-medoids, CLAR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archical approach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 hierarchical decomposition of the set of data (or objects) using some criter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ical methods: Diana, Agnes, BIRCH, ROCK, CAMELE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B5C-8D94-436C-AE2E-A19D744439D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1A7270-C6EB-42F7-990B-B6A9C2E28784}" type="datetime1">
              <a:rPr lang="en-US"/>
              <a:t>07/28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tional Cluste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4240" y="2517840"/>
            <a:ext cx="96840" cy="101520"/>
          </a:xfrm>
          <a:custGeom>
            <a:avLst/>
            <a:gdLst/>
            <a:ahLst/>
            <a:rect l="l" t="t" r="r" b="b"/>
            <a:pathLst>
              <a:path w="61" h="64">
                <a:moveTo>
                  <a:pt x="61" y="30"/>
                </a:moveTo>
                <a:lnTo>
                  <a:pt x="55" y="49"/>
                </a:lnTo>
                <a:lnTo>
                  <a:pt x="43" y="61"/>
                </a:lnTo>
                <a:lnTo>
                  <a:pt x="24" y="64"/>
                </a:lnTo>
                <a:lnTo>
                  <a:pt x="9" y="55"/>
                </a:lnTo>
                <a:lnTo>
                  <a:pt x="0" y="39"/>
                </a:lnTo>
                <a:lnTo>
                  <a:pt x="0" y="24"/>
                </a:lnTo>
                <a:lnTo>
                  <a:pt x="9" y="9"/>
                </a:lnTo>
                <a:lnTo>
                  <a:pt x="24" y="0"/>
                </a:lnTo>
                <a:lnTo>
                  <a:pt x="43" y="3"/>
                </a:lnTo>
                <a:lnTo>
                  <a:pt x="55" y="15"/>
                </a:lnTo>
                <a:lnTo>
                  <a:pt x="61" y="3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54240" y="2716200"/>
            <a:ext cx="96840" cy="98280"/>
          </a:xfrm>
          <a:custGeom>
            <a:avLst/>
            <a:gdLst/>
            <a:ahLst/>
            <a:rect l="l" t="t" r="r" b="b"/>
            <a:pathLst>
              <a:path w="61" h="62">
                <a:moveTo>
                  <a:pt x="61" y="31"/>
                </a:moveTo>
                <a:lnTo>
                  <a:pt x="55" y="49"/>
                </a:lnTo>
                <a:lnTo>
                  <a:pt x="43" y="62"/>
                </a:lnTo>
                <a:lnTo>
                  <a:pt x="24" y="62"/>
                </a:lnTo>
                <a:lnTo>
                  <a:pt x="9" y="55"/>
                </a:lnTo>
                <a:lnTo>
                  <a:pt x="0" y="40"/>
                </a:lnTo>
                <a:lnTo>
                  <a:pt x="0" y="22"/>
                </a:lnTo>
                <a:lnTo>
                  <a:pt x="9" y="9"/>
                </a:lnTo>
                <a:lnTo>
                  <a:pt x="24" y="0"/>
                </a:lnTo>
                <a:lnTo>
                  <a:pt x="43" y="3"/>
                </a:lnTo>
                <a:lnTo>
                  <a:pt x="55" y="16"/>
                </a:lnTo>
                <a:lnTo>
                  <a:pt x="61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51200" y="4711680"/>
            <a:ext cx="96840" cy="98280"/>
          </a:xfrm>
          <a:custGeom>
            <a:avLst/>
            <a:gdLst/>
            <a:ahLst/>
            <a:rect l="l" t="t" r="r" b="b"/>
            <a:pathLst>
              <a:path w="61" h="62">
                <a:moveTo>
                  <a:pt x="61" y="31"/>
                </a:moveTo>
                <a:lnTo>
                  <a:pt x="55" y="46"/>
                </a:lnTo>
                <a:lnTo>
                  <a:pt x="43" y="59"/>
                </a:lnTo>
                <a:lnTo>
                  <a:pt x="24" y="62"/>
                </a:lnTo>
                <a:lnTo>
                  <a:pt x="9" y="53"/>
                </a:lnTo>
                <a:lnTo>
                  <a:pt x="0" y="40"/>
                </a:lnTo>
                <a:lnTo>
                  <a:pt x="0" y="22"/>
                </a:lnTo>
                <a:lnTo>
                  <a:pt x="9" y="7"/>
                </a:lnTo>
                <a:lnTo>
                  <a:pt x="24" y="0"/>
                </a:lnTo>
                <a:lnTo>
                  <a:pt x="43" y="0"/>
                </a:lnTo>
                <a:lnTo>
                  <a:pt x="55" y="13"/>
                </a:lnTo>
                <a:lnTo>
                  <a:pt x="61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50880" y="2619360"/>
            <a:ext cx="96840" cy="96840"/>
          </a:xfrm>
          <a:custGeom>
            <a:avLst/>
            <a:gdLst/>
            <a:ahLst/>
            <a:rect l="l" t="t" r="r" b="b"/>
            <a:pathLst>
              <a:path w="61" h="61">
                <a:moveTo>
                  <a:pt x="61" y="31"/>
                </a:moveTo>
                <a:lnTo>
                  <a:pt x="58" y="46"/>
                </a:lnTo>
                <a:lnTo>
                  <a:pt x="43" y="58"/>
                </a:lnTo>
                <a:lnTo>
                  <a:pt x="25" y="61"/>
                </a:lnTo>
                <a:lnTo>
                  <a:pt x="9" y="55"/>
                </a:lnTo>
                <a:lnTo>
                  <a:pt x="0" y="40"/>
                </a:lnTo>
                <a:lnTo>
                  <a:pt x="0" y="21"/>
                </a:lnTo>
                <a:lnTo>
                  <a:pt x="9" y="6"/>
                </a:lnTo>
                <a:lnTo>
                  <a:pt x="25" y="0"/>
                </a:lnTo>
                <a:lnTo>
                  <a:pt x="43" y="3"/>
                </a:lnTo>
                <a:lnTo>
                  <a:pt x="58" y="12"/>
                </a:lnTo>
                <a:lnTo>
                  <a:pt x="61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51200" y="3914640"/>
            <a:ext cx="96840" cy="96840"/>
          </a:xfrm>
          <a:custGeom>
            <a:avLst/>
            <a:gdLst/>
            <a:ahLst/>
            <a:rect l="l" t="t" r="r" b="b"/>
            <a:pathLst>
              <a:path w="61" h="61">
                <a:moveTo>
                  <a:pt x="61" y="30"/>
                </a:moveTo>
                <a:lnTo>
                  <a:pt x="55" y="46"/>
                </a:lnTo>
                <a:lnTo>
                  <a:pt x="43" y="58"/>
                </a:lnTo>
                <a:lnTo>
                  <a:pt x="24" y="61"/>
                </a:lnTo>
                <a:lnTo>
                  <a:pt x="9" y="55"/>
                </a:lnTo>
                <a:lnTo>
                  <a:pt x="0" y="39"/>
                </a:lnTo>
                <a:lnTo>
                  <a:pt x="0" y="21"/>
                </a:lnTo>
                <a:lnTo>
                  <a:pt x="9" y="6"/>
                </a:lnTo>
                <a:lnTo>
                  <a:pt x="24" y="0"/>
                </a:lnTo>
                <a:lnTo>
                  <a:pt x="43" y="3"/>
                </a:lnTo>
                <a:lnTo>
                  <a:pt x="55" y="12"/>
                </a:lnTo>
                <a:lnTo>
                  <a:pt x="61" y="3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20760" y="1825560"/>
            <a:ext cx="98640" cy="9864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lnTo>
                  <a:pt x="56" y="46"/>
                </a:lnTo>
                <a:lnTo>
                  <a:pt x="43" y="58"/>
                </a:lnTo>
                <a:lnTo>
                  <a:pt x="25" y="62"/>
                </a:lnTo>
                <a:lnTo>
                  <a:pt x="9" y="55"/>
                </a:lnTo>
                <a:lnTo>
                  <a:pt x="0" y="40"/>
                </a:lnTo>
                <a:lnTo>
                  <a:pt x="0" y="22"/>
                </a:lnTo>
                <a:lnTo>
                  <a:pt x="9" y="6"/>
                </a:lnTo>
                <a:lnTo>
                  <a:pt x="25" y="0"/>
                </a:lnTo>
                <a:lnTo>
                  <a:pt x="43" y="3"/>
                </a:lnTo>
                <a:lnTo>
                  <a:pt x="56" y="12"/>
                </a:lnTo>
                <a:lnTo>
                  <a:pt x="62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51160" y="2021040"/>
            <a:ext cx="96840" cy="96840"/>
          </a:xfrm>
          <a:custGeom>
            <a:avLst/>
            <a:gdLst/>
            <a:ahLst/>
            <a:rect l="l" t="t" r="r" b="b"/>
            <a:pathLst>
              <a:path w="61" h="61">
                <a:moveTo>
                  <a:pt x="61" y="31"/>
                </a:moveTo>
                <a:lnTo>
                  <a:pt x="55" y="49"/>
                </a:lnTo>
                <a:lnTo>
                  <a:pt x="43" y="58"/>
                </a:lnTo>
                <a:lnTo>
                  <a:pt x="24" y="61"/>
                </a:lnTo>
                <a:lnTo>
                  <a:pt x="9" y="55"/>
                </a:lnTo>
                <a:lnTo>
                  <a:pt x="0" y="40"/>
                </a:lnTo>
                <a:lnTo>
                  <a:pt x="0" y="21"/>
                </a:lnTo>
                <a:lnTo>
                  <a:pt x="9" y="6"/>
                </a:lnTo>
                <a:lnTo>
                  <a:pt x="24" y="0"/>
                </a:lnTo>
                <a:lnTo>
                  <a:pt x="43" y="3"/>
                </a:lnTo>
                <a:lnTo>
                  <a:pt x="55" y="15"/>
                </a:lnTo>
                <a:lnTo>
                  <a:pt x="61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48000" y="2317680"/>
            <a:ext cx="96840" cy="101520"/>
          </a:xfrm>
          <a:custGeom>
            <a:avLst/>
            <a:gdLst/>
            <a:ahLst/>
            <a:rect l="l" t="t" r="r" b="b"/>
            <a:pathLst>
              <a:path w="61" h="64">
                <a:moveTo>
                  <a:pt x="61" y="31"/>
                </a:moveTo>
                <a:lnTo>
                  <a:pt x="58" y="49"/>
                </a:lnTo>
                <a:lnTo>
                  <a:pt x="43" y="61"/>
                </a:lnTo>
                <a:lnTo>
                  <a:pt x="28" y="64"/>
                </a:lnTo>
                <a:lnTo>
                  <a:pt x="9" y="55"/>
                </a:lnTo>
                <a:lnTo>
                  <a:pt x="0" y="40"/>
                </a:lnTo>
                <a:lnTo>
                  <a:pt x="0" y="24"/>
                </a:lnTo>
                <a:lnTo>
                  <a:pt x="9" y="9"/>
                </a:lnTo>
                <a:lnTo>
                  <a:pt x="28" y="0"/>
                </a:lnTo>
                <a:lnTo>
                  <a:pt x="43" y="3"/>
                </a:lnTo>
                <a:lnTo>
                  <a:pt x="58" y="15"/>
                </a:lnTo>
                <a:lnTo>
                  <a:pt x="61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47960" y="2317680"/>
            <a:ext cx="96840" cy="101520"/>
          </a:xfrm>
          <a:custGeom>
            <a:avLst/>
            <a:gdLst/>
            <a:ahLst/>
            <a:rect l="l" t="t" r="r" b="b"/>
            <a:pathLst>
              <a:path w="61" h="64">
                <a:moveTo>
                  <a:pt x="61" y="31"/>
                </a:moveTo>
                <a:lnTo>
                  <a:pt x="58" y="49"/>
                </a:lnTo>
                <a:lnTo>
                  <a:pt x="43" y="61"/>
                </a:lnTo>
                <a:lnTo>
                  <a:pt x="27" y="64"/>
                </a:lnTo>
                <a:lnTo>
                  <a:pt x="9" y="55"/>
                </a:lnTo>
                <a:lnTo>
                  <a:pt x="0" y="40"/>
                </a:lnTo>
                <a:lnTo>
                  <a:pt x="0" y="24"/>
                </a:lnTo>
                <a:lnTo>
                  <a:pt x="9" y="9"/>
                </a:lnTo>
                <a:lnTo>
                  <a:pt x="27" y="0"/>
                </a:lnTo>
                <a:lnTo>
                  <a:pt x="43" y="3"/>
                </a:lnTo>
                <a:lnTo>
                  <a:pt x="58" y="15"/>
                </a:lnTo>
                <a:lnTo>
                  <a:pt x="61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47800" y="2117880"/>
            <a:ext cx="96840" cy="102960"/>
          </a:xfrm>
          <a:custGeom>
            <a:avLst/>
            <a:gdLst/>
            <a:ahLst/>
            <a:rect l="l" t="t" r="r" b="b"/>
            <a:pathLst>
              <a:path w="61" h="65">
                <a:moveTo>
                  <a:pt x="61" y="34"/>
                </a:moveTo>
                <a:lnTo>
                  <a:pt x="58" y="49"/>
                </a:lnTo>
                <a:lnTo>
                  <a:pt x="43" y="61"/>
                </a:lnTo>
                <a:lnTo>
                  <a:pt x="28" y="65"/>
                </a:lnTo>
                <a:lnTo>
                  <a:pt x="9" y="55"/>
                </a:lnTo>
                <a:lnTo>
                  <a:pt x="0" y="40"/>
                </a:lnTo>
                <a:lnTo>
                  <a:pt x="0" y="25"/>
                </a:lnTo>
                <a:lnTo>
                  <a:pt x="9" y="9"/>
                </a:lnTo>
                <a:lnTo>
                  <a:pt x="28" y="0"/>
                </a:lnTo>
                <a:lnTo>
                  <a:pt x="43" y="3"/>
                </a:lnTo>
                <a:lnTo>
                  <a:pt x="58" y="16"/>
                </a:lnTo>
                <a:lnTo>
                  <a:pt x="61" y="34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47800" y="1724040"/>
            <a:ext cx="96840" cy="96840"/>
          </a:xfrm>
          <a:custGeom>
            <a:avLst/>
            <a:gdLst/>
            <a:ahLst/>
            <a:rect l="l" t="t" r="r" b="b"/>
            <a:pathLst>
              <a:path w="61" h="61">
                <a:moveTo>
                  <a:pt x="61" y="30"/>
                </a:moveTo>
                <a:lnTo>
                  <a:pt x="58" y="49"/>
                </a:lnTo>
                <a:lnTo>
                  <a:pt x="43" y="61"/>
                </a:lnTo>
                <a:lnTo>
                  <a:pt x="28" y="61"/>
                </a:lnTo>
                <a:lnTo>
                  <a:pt x="9" y="55"/>
                </a:lnTo>
                <a:lnTo>
                  <a:pt x="0" y="40"/>
                </a:lnTo>
                <a:lnTo>
                  <a:pt x="0" y="21"/>
                </a:lnTo>
                <a:lnTo>
                  <a:pt x="9" y="9"/>
                </a:lnTo>
                <a:lnTo>
                  <a:pt x="28" y="0"/>
                </a:lnTo>
                <a:lnTo>
                  <a:pt x="43" y="3"/>
                </a:lnTo>
                <a:lnTo>
                  <a:pt x="58" y="15"/>
                </a:lnTo>
                <a:lnTo>
                  <a:pt x="61" y="3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44760" y="4711680"/>
            <a:ext cx="103320" cy="98280"/>
          </a:xfrm>
          <a:custGeom>
            <a:avLst/>
            <a:gdLst/>
            <a:ahLst/>
            <a:rect l="l" t="t" r="r" b="b"/>
            <a:pathLst>
              <a:path w="65" h="62">
                <a:moveTo>
                  <a:pt x="65" y="31"/>
                </a:moveTo>
                <a:lnTo>
                  <a:pt x="58" y="46"/>
                </a:lnTo>
                <a:lnTo>
                  <a:pt x="46" y="59"/>
                </a:lnTo>
                <a:lnTo>
                  <a:pt x="28" y="62"/>
                </a:lnTo>
                <a:lnTo>
                  <a:pt x="12" y="53"/>
                </a:lnTo>
                <a:lnTo>
                  <a:pt x="0" y="40"/>
                </a:lnTo>
                <a:lnTo>
                  <a:pt x="0" y="22"/>
                </a:lnTo>
                <a:lnTo>
                  <a:pt x="12" y="7"/>
                </a:lnTo>
                <a:lnTo>
                  <a:pt x="28" y="0"/>
                </a:lnTo>
                <a:lnTo>
                  <a:pt x="46" y="0"/>
                </a:lnTo>
                <a:lnTo>
                  <a:pt x="58" y="13"/>
                </a:lnTo>
                <a:lnTo>
                  <a:pt x="65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50880" y="2220840"/>
            <a:ext cx="96840" cy="96840"/>
          </a:xfrm>
          <a:custGeom>
            <a:avLst/>
            <a:gdLst/>
            <a:ahLst/>
            <a:rect l="l" t="t" r="r" b="b"/>
            <a:pathLst>
              <a:path w="61" h="61">
                <a:moveTo>
                  <a:pt x="61" y="30"/>
                </a:moveTo>
                <a:lnTo>
                  <a:pt x="58" y="49"/>
                </a:lnTo>
                <a:lnTo>
                  <a:pt x="43" y="58"/>
                </a:lnTo>
                <a:lnTo>
                  <a:pt x="25" y="61"/>
                </a:lnTo>
                <a:lnTo>
                  <a:pt x="9" y="55"/>
                </a:lnTo>
                <a:lnTo>
                  <a:pt x="0" y="39"/>
                </a:lnTo>
                <a:lnTo>
                  <a:pt x="0" y="21"/>
                </a:lnTo>
                <a:lnTo>
                  <a:pt x="9" y="6"/>
                </a:lnTo>
                <a:lnTo>
                  <a:pt x="25" y="0"/>
                </a:lnTo>
                <a:lnTo>
                  <a:pt x="43" y="3"/>
                </a:lnTo>
                <a:lnTo>
                  <a:pt x="58" y="12"/>
                </a:lnTo>
                <a:lnTo>
                  <a:pt x="61" y="3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24000" y="4410000"/>
            <a:ext cx="98280" cy="9864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lnTo>
                  <a:pt x="56" y="49"/>
                </a:lnTo>
                <a:lnTo>
                  <a:pt x="43" y="62"/>
                </a:lnTo>
                <a:lnTo>
                  <a:pt x="25" y="62"/>
                </a:lnTo>
                <a:lnTo>
                  <a:pt x="9" y="55"/>
                </a:lnTo>
                <a:lnTo>
                  <a:pt x="0" y="40"/>
                </a:lnTo>
                <a:lnTo>
                  <a:pt x="0" y="22"/>
                </a:lnTo>
                <a:lnTo>
                  <a:pt x="9" y="10"/>
                </a:lnTo>
                <a:lnTo>
                  <a:pt x="25" y="0"/>
                </a:lnTo>
                <a:lnTo>
                  <a:pt x="43" y="3"/>
                </a:lnTo>
                <a:lnTo>
                  <a:pt x="56" y="16"/>
                </a:lnTo>
                <a:lnTo>
                  <a:pt x="62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54240" y="5008680"/>
            <a:ext cx="96840" cy="98280"/>
          </a:xfrm>
          <a:custGeom>
            <a:avLst/>
            <a:gdLst/>
            <a:ahLst/>
            <a:rect l="l" t="t" r="r" b="b"/>
            <a:pathLst>
              <a:path w="61" h="62">
                <a:moveTo>
                  <a:pt x="61" y="31"/>
                </a:moveTo>
                <a:lnTo>
                  <a:pt x="55" y="49"/>
                </a:lnTo>
                <a:lnTo>
                  <a:pt x="43" y="59"/>
                </a:lnTo>
                <a:lnTo>
                  <a:pt x="24" y="62"/>
                </a:lnTo>
                <a:lnTo>
                  <a:pt x="9" y="56"/>
                </a:lnTo>
                <a:lnTo>
                  <a:pt x="0" y="40"/>
                </a:lnTo>
                <a:lnTo>
                  <a:pt x="0" y="22"/>
                </a:lnTo>
                <a:lnTo>
                  <a:pt x="9" y="7"/>
                </a:lnTo>
                <a:lnTo>
                  <a:pt x="24" y="0"/>
                </a:lnTo>
                <a:lnTo>
                  <a:pt x="43" y="3"/>
                </a:lnTo>
                <a:lnTo>
                  <a:pt x="55" y="16"/>
                </a:lnTo>
                <a:lnTo>
                  <a:pt x="61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20800" y="1990800"/>
            <a:ext cx="98640" cy="9828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lnTo>
                  <a:pt x="56" y="46"/>
                </a:lnTo>
                <a:lnTo>
                  <a:pt x="43" y="59"/>
                </a:lnTo>
                <a:lnTo>
                  <a:pt x="25" y="62"/>
                </a:lnTo>
                <a:lnTo>
                  <a:pt x="10" y="56"/>
                </a:lnTo>
                <a:lnTo>
                  <a:pt x="0" y="40"/>
                </a:lnTo>
                <a:lnTo>
                  <a:pt x="0" y="22"/>
                </a:lnTo>
                <a:lnTo>
                  <a:pt x="10" y="7"/>
                </a:lnTo>
                <a:lnTo>
                  <a:pt x="25" y="0"/>
                </a:lnTo>
                <a:lnTo>
                  <a:pt x="43" y="4"/>
                </a:lnTo>
                <a:lnTo>
                  <a:pt x="56" y="13"/>
                </a:lnTo>
                <a:lnTo>
                  <a:pt x="62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5562720"/>
            <a:ext cx="236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ginal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724280" y="1295280"/>
            <a:ext cx="3581640" cy="4633560"/>
            <a:chOff x="4724280" y="1295280"/>
            <a:chExt cx="3581640" cy="4633560"/>
          </a:xfrm>
        </p:grpSpPr>
        <p:graphicFrame>
          <p:nvGraphicFramePr>
            <p:cNvPr id="187" name=""/>
            <p:cNvGraphicFramePr/>
            <p:nvPr/>
          </p:nvGraphicFramePr>
          <p:xfrm>
            <a:off x="4724280" y="1295280"/>
            <a:ext cx="3373560" cy="456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24280" y="1295280"/>
                      <a:ext cx="3373560" cy="456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5486400" y="5562720"/>
              <a:ext cx="28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 Partitional  Cluste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81B8-A3D3-421B-A117-823878FCF2A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294759-D9D5-4671-AC5F-76380B10DC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erarchical Cluste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990720" y="3962520"/>
          <a:ext cx="275256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962520"/>
                    <a:ext cx="275256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914400" y="1447920"/>
          <a:ext cx="2760840" cy="17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447920"/>
                    <a:ext cx="276084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400720" y="1066680"/>
          <a:ext cx="1773360" cy="228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0720" y="1066680"/>
                    <a:ext cx="1773360" cy="22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400720" y="3657600"/>
          <a:ext cx="1909800" cy="228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00720" y="3657600"/>
                    <a:ext cx="1909800" cy="22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914400" y="320040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ditional Hierarchical Clus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5791320"/>
            <a:ext cx="358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n-traditional Hierarchical Clus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5791320"/>
            <a:ext cx="3809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n-traditional Dend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320040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ditional Dend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3488-A4C0-4A29-9B9F-98CEC67D3B6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206FA-8008-4B7B-B867-834A71A8EC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tioning Algorithms: Basic Concep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27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artitioning method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struct a partition of a database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s into a set of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usters, s.t., min sum of squared dis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iven a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find a partition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 cluster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at optimizes the chosen partitioning criter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lobal optimal: exhaustively enumerate all parti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uristic methods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-mea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-medoi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lgorith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k-mea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MacQueen’67): Each cluster is represented by the center of the clus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k-medoi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PAM (Partition around medoids) (Kaufman &amp; Rousseeuw’87): Each cluster is represented by one of the objects in the cluster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743200" y="1981080"/>
                <a:ext cx="3040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B77E-A6F5-4B03-ABEA-3F21466A245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A8F26-34DF-48BE-9BBA-F456CE9CC92E}" type="datetime1">
              <a:rPr lang="en-US"/>
              <a:t>07/28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95200" y="345600"/>
            <a:ext cx="706428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-Mea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lustering Meth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6360" y="1146240"/>
            <a:ext cx="8067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-me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gorithm is implemented in four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tition objects in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onempty sub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ute seed points as the centroids of the clusters of the curren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ti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the centroid is th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an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f the clust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 each object to the cluster with the nearest seed point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 back to Step 2, stop when no more new assig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D60C-B748-4750-B169-F193519D740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76972-CE35-47D7-8AF9-399C30F80A52}" type="datetime1">
              <a:rPr lang="en-US"/>
              <a:t>07/28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95200" y="345600"/>
            <a:ext cx="706428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K-Mea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Clustering Meth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06360" y="1587600"/>
            <a:ext cx="8278920" cy="4142880"/>
            <a:chOff x="306360" y="1587600"/>
            <a:chExt cx="8278920" cy="4142880"/>
          </a:xfrm>
        </p:grpSpPr>
        <p:grpSp>
          <p:nvGrpSpPr>
            <p:cNvPr id="210" name=""/>
            <p:cNvGrpSpPr/>
            <p:nvPr/>
          </p:nvGrpSpPr>
          <p:grpSpPr>
            <a:xfrm>
              <a:off x="3223800" y="1587600"/>
              <a:ext cx="2144520" cy="1928520"/>
              <a:chOff x="3223800" y="1587600"/>
              <a:chExt cx="2144520" cy="1928520"/>
            </a:xfrm>
          </p:grpSpPr>
          <p:graphicFrame>
            <p:nvGraphicFramePr>
              <p:cNvPr id="211" name=""/>
              <p:cNvGraphicFramePr/>
              <p:nvPr/>
            </p:nvGraphicFramePr>
            <p:xfrm>
              <a:off x="3223800" y="1587600"/>
              <a:ext cx="2144520" cy="192852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21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223800" y="1587600"/>
                        <a:ext cx="2144520" cy="192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13" name=""/>
              <p:cNvSpPr/>
              <p:nvPr/>
            </p:nvSpPr>
            <p:spPr>
              <a:xfrm>
                <a:off x="3704400" y="1914120"/>
                <a:ext cx="852840" cy="1297800"/>
              </a:xfrm>
              <a:custGeom>
                <a:avLst/>
                <a:gdLst/>
                <a:ahLst/>
                <a:rect l="l" t="t" r="r" b="b"/>
                <a:pathLst>
                  <a:path w="852" h="1260">
                    <a:moveTo>
                      <a:pt x="518" y="280"/>
                    </a:moveTo>
                    <a:cubicBezTo>
                      <a:pt x="509" y="187"/>
                      <a:pt x="497" y="69"/>
                      <a:pt x="392" y="36"/>
                    </a:cubicBezTo>
                    <a:cubicBezTo>
                      <a:pt x="339" y="0"/>
                      <a:pt x="309" y="15"/>
                      <a:pt x="237" y="21"/>
                    </a:cubicBezTo>
                    <a:cubicBezTo>
                      <a:pt x="194" y="31"/>
                      <a:pt x="168" y="45"/>
                      <a:pt x="133" y="73"/>
                    </a:cubicBezTo>
                    <a:cubicBezTo>
                      <a:pt x="84" y="168"/>
                      <a:pt x="20" y="262"/>
                      <a:pt x="0" y="369"/>
                    </a:cubicBezTo>
                    <a:cubicBezTo>
                      <a:pt x="5" y="481"/>
                      <a:pt x="3" y="584"/>
                      <a:pt x="44" y="688"/>
                    </a:cubicBezTo>
                    <a:cubicBezTo>
                      <a:pt x="78" y="870"/>
                      <a:pt x="173" y="1057"/>
                      <a:pt x="362" y="1117"/>
                    </a:cubicBezTo>
                    <a:cubicBezTo>
                      <a:pt x="415" y="1152"/>
                      <a:pt x="347" y="1112"/>
                      <a:pt x="429" y="1139"/>
                    </a:cubicBezTo>
                    <a:cubicBezTo>
                      <a:pt x="437" y="1142"/>
                      <a:pt x="443" y="1150"/>
                      <a:pt x="451" y="1154"/>
                    </a:cubicBezTo>
                    <a:cubicBezTo>
                      <a:pt x="473" y="1165"/>
                      <a:pt x="501" y="1168"/>
                      <a:pt x="525" y="1176"/>
                    </a:cubicBezTo>
                    <a:cubicBezTo>
                      <a:pt x="562" y="1201"/>
                      <a:pt x="581" y="1218"/>
                      <a:pt x="622" y="1228"/>
                    </a:cubicBezTo>
                    <a:cubicBezTo>
                      <a:pt x="684" y="1260"/>
                      <a:pt x="714" y="1249"/>
                      <a:pt x="792" y="1243"/>
                    </a:cubicBezTo>
                    <a:cubicBezTo>
                      <a:pt x="852" y="1183"/>
                      <a:pt x="819" y="1088"/>
                      <a:pt x="785" y="1021"/>
                    </a:cubicBezTo>
                    <a:cubicBezTo>
                      <a:pt x="770" y="992"/>
                      <a:pt x="773" y="979"/>
                      <a:pt x="748" y="954"/>
                    </a:cubicBezTo>
                    <a:cubicBezTo>
                      <a:pt x="735" y="917"/>
                      <a:pt x="711" y="888"/>
                      <a:pt x="688" y="858"/>
                    </a:cubicBezTo>
                    <a:cubicBezTo>
                      <a:pt x="676" y="821"/>
                      <a:pt x="643" y="795"/>
                      <a:pt x="622" y="762"/>
                    </a:cubicBezTo>
                    <a:cubicBezTo>
                      <a:pt x="616" y="753"/>
                      <a:pt x="613" y="742"/>
                      <a:pt x="607" y="732"/>
                    </a:cubicBezTo>
                    <a:cubicBezTo>
                      <a:pt x="603" y="724"/>
                      <a:pt x="597" y="717"/>
                      <a:pt x="592" y="710"/>
                    </a:cubicBezTo>
                    <a:cubicBezTo>
                      <a:pt x="580" y="671"/>
                      <a:pt x="589" y="694"/>
                      <a:pt x="555" y="643"/>
                    </a:cubicBezTo>
                    <a:cubicBezTo>
                      <a:pt x="550" y="636"/>
                      <a:pt x="540" y="621"/>
                      <a:pt x="540" y="621"/>
                    </a:cubicBezTo>
                    <a:cubicBezTo>
                      <a:pt x="519" y="510"/>
                      <a:pt x="518" y="392"/>
                      <a:pt x="518" y="280"/>
                    </a:cubicBez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284000" y="2256120"/>
                <a:ext cx="768960" cy="648720"/>
              </a:xfrm>
              <a:custGeom>
                <a:avLst/>
                <a:gdLst/>
                <a:ahLst/>
                <a:rect l="l" t="t" r="r" b="b"/>
                <a:pathLst>
                  <a:path w="768" h="630">
                    <a:moveTo>
                      <a:pt x="183" y="67"/>
                    </a:moveTo>
                    <a:cubicBezTo>
                      <a:pt x="146" y="41"/>
                      <a:pt x="112" y="61"/>
                      <a:pt x="72" y="74"/>
                    </a:cubicBezTo>
                    <a:cubicBezTo>
                      <a:pt x="13" y="114"/>
                      <a:pt x="28" y="107"/>
                      <a:pt x="5" y="170"/>
                    </a:cubicBezTo>
                    <a:cubicBezTo>
                      <a:pt x="8" y="217"/>
                      <a:pt x="0" y="266"/>
                      <a:pt x="13" y="311"/>
                    </a:cubicBezTo>
                    <a:cubicBezTo>
                      <a:pt x="19" y="331"/>
                      <a:pt x="45" y="339"/>
                      <a:pt x="57" y="356"/>
                    </a:cubicBezTo>
                    <a:cubicBezTo>
                      <a:pt x="92" y="407"/>
                      <a:pt x="72" y="390"/>
                      <a:pt x="109" y="415"/>
                    </a:cubicBezTo>
                    <a:cubicBezTo>
                      <a:pt x="145" y="467"/>
                      <a:pt x="187" y="508"/>
                      <a:pt x="235" y="548"/>
                    </a:cubicBezTo>
                    <a:cubicBezTo>
                      <a:pt x="243" y="555"/>
                      <a:pt x="248" y="565"/>
                      <a:pt x="257" y="570"/>
                    </a:cubicBezTo>
                    <a:cubicBezTo>
                      <a:pt x="283" y="584"/>
                      <a:pt x="305" y="583"/>
                      <a:pt x="331" y="593"/>
                    </a:cubicBezTo>
                    <a:cubicBezTo>
                      <a:pt x="371" y="608"/>
                      <a:pt x="408" y="621"/>
                      <a:pt x="450" y="630"/>
                    </a:cubicBezTo>
                    <a:cubicBezTo>
                      <a:pt x="498" y="625"/>
                      <a:pt x="551" y="623"/>
                      <a:pt x="598" y="607"/>
                    </a:cubicBezTo>
                    <a:cubicBezTo>
                      <a:pt x="618" y="600"/>
                      <a:pt x="657" y="585"/>
                      <a:pt x="657" y="585"/>
                    </a:cubicBezTo>
                    <a:cubicBezTo>
                      <a:pt x="675" y="536"/>
                      <a:pt x="651" y="594"/>
                      <a:pt x="687" y="533"/>
                    </a:cubicBezTo>
                    <a:cubicBezTo>
                      <a:pt x="698" y="514"/>
                      <a:pt x="717" y="474"/>
                      <a:pt x="717" y="474"/>
                    </a:cubicBezTo>
                    <a:cubicBezTo>
                      <a:pt x="719" y="462"/>
                      <a:pt x="720" y="449"/>
                      <a:pt x="724" y="437"/>
                    </a:cubicBezTo>
                    <a:cubicBezTo>
                      <a:pt x="727" y="429"/>
                      <a:pt x="736" y="423"/>
                      <a:pt x="739" y="415"/>
                    </a:cubicBezTo>
                    <a:cubicBezTo>
                      <a:pt x="750" y="382"/>
                      <a:pt x="760" y="332"/>
                      <a:pt x="768" y="296"/>
                    </a:cubicBezTo>
                    <a:cubicBezTo>
                      <a:pt x="766" y="257"/>
                      <a:pt x="766" y="217"/>
                      <a:pt x="761" y="178"/>
                    </a:cubicBezTo>
                    <a:cubicBezTo>
                      <a:pt x="754" y="127"/>
                      <a:pt x="750" y="142"/>
                      <a:pt x="724" y="111"/>
                    </a:cubicBezTo>
                    <a:cubicBezTo>
                      <a:pt x="653" y="27"/>
                      <a:pt x="566" y="24"/>
                      <a:pt x="465" y="0"/>
                    </a:cubicBezTo>
                    <a:cubicBezTo>
                      <a:pt x="370" y="4"/>
                      <a:pt x="294" y="6"/>
                      <a:pt x="205" y="30"/>
                    </a:cubicBezTo>
                    <a:cubicBezTo>
                      <a:pt x="154" y="63"/>
                      <a:pt x="144" y="53"/>
                      <a:pt x="183" y="67"/>
                    </a:cubicBez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6392880" y="1612800"/>
              <a:ext cx="2084760" cy="1866240"/>
              <a:chOff x="6392880" y="1612800"/>
              <a:chExt cx="2084760" cy="1866240"/>
            </a:xfrm>
          </p:grpSpPr>
          <p:sp>
            <p:nvSpPr>
              <p:cNvPr id="216" name=""/>
              <p:cNvSpPr/>
              <p:nvPr/>
            </p:nvSpPr>
            <p:spPr>
              <a:xfrm>
                <a:off x="6392880" y="1612800"/>
                <a:ext cx="2084760" cy="1866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592320" y="1745280"/>
                <a:ext cx="1788120" cy="150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592320" y="3099600"/>
                <a:ext cx="17881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592320" y="2949120"/>
                <a:ext cx="1788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592320" y="2797200"/>
                <a:ext cx="1788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592320" y="2647080"/>
                <a:ext cx="17881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592320" y="2495160"/>
                <a:ext cx="1788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592320" y="2349360"/>
                <a:ext cx="1788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592320" y="2199240"/>
                <a:ext cx="17881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592320" y="2047320"/>
                <a:ext cx="17881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592320" y="1897200"/>
                <a:ext cx="17881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592320" y="1745280"/>
                <a:ext cx="17881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772320" y="1745280"/>
                <a:ext cx="1440" cy="1505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946560" y="1745280"/>
                <a:ext cx="1440" cy="1505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128000" y="1745280"/>
                <a:ext cx="1440" cy="1505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308360" y="1745280"/>
                <a:ext cx="1080" cy="1505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488360" y="1745280"/>
                <a:ext cx="1440" cy="1505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664400" y="1745280"/>
                <a:ext cx="1080" cy="1505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844400" y="1745280"/>
                <a:ext cx="1440" cy="1505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024760" y="1745280"/>
                <a:ext cx="1080" cy="1505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200080" y="1745280"/>
                <a:ext cx="1440" cy="1505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380440" y="1745280"/>
                <a:ext cx="1080" cy="1505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592320" y="1745280"/>
                <a:ext cx="1788120" cy="15055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592320" y="1745280"/>
                <a:ext cx="1080" cy="1505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574320" y="325116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574320" y="3099600"/>
                <a:ext cx="176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574320" y="294912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574320" y="279720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574320" y="2647080"/>
                <a:ext cx="176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574320" y="249516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574320" y="234936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574320" y="2199240"/>
                <a:ext cx="176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574320" y="2047320"/>
                <a:ext cx="176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574320" y="1897200"/>
                <a:ext cx="176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574320" y="1745280"/>
                <a:ext cx="176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592320" y="3251160"/>
                <a:ext cx="1788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6592320" y="3251160"/>
                <a:ext cx="1080" cy="1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6772320" y="3251160"/>
                <a:ext cx="1440" cy="1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6946560" y="3251160"/>
                <a:ext cx="1440" cy="1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7128000" y="3251160"/>
                <a:ext cx="1440" cy="1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7308360" y="3251160"/>
                <a:ext cx="1080" cy="1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7488360" y="3251160"/>
                <a:ext cx="1440" cy="1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7664400" y="3251160"/>
                <a:ext cx="1080" cy="1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7844400" y="3251160"/>
                <a:ext cx="1440" cy="1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8024760" y="3251160"/>
                <a:ext cx="1080" cy="1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8200080" y="3251160"/>
                <a:ext cx="1440" cy="1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8380440" y="3251160"/>
                <a:ext cx="1080" cy="1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084800" y="2602440"/>
                <a:ext cx="84960" cy="8748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29" y="0"/>
                    </a:moveTo>
                    <a:lnTo>
                      <a:pt x="57" y="30"/>
                    </a:lnTo>
                    <a:lnTo>
                      <a:pt x="29" y="59"/>
                    </a:lnTo>
                    <a:lnTo>
                      <a:pt x="0" y="3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ff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084800" y="2306160"/>
                <a:ext cx="84960" cy="8748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9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ff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802640" y="2754360"/>
                <a:ext cx="83160" cy="87480"/>
              </a:xfrm>
              <a:custGeom>
                <a:avLst/>
                <a:gdLst/>
                <a:ahLst/>
                <a:rect l="l" t="t" r="r" b="b"/>
                <a:pathLst>
                  <a:path w="56" h="59">
                    <a:moveTo>
                      <a:pt x="28" y="0"/>
                    </a:moveTo>
                    <a:lnTo>
                      <a:pt x="56" y="29"/>
                    </a:lnTo>
                    <a:lnTo>
                      <a:pt x="28" y="59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266600" y="2154240"/>
                <a:ext cx="83160" cy="87840"/>
              </a:xfrm>
              <a:custGeom>
                <a:avLst/>
                <a:gdLst/>
                <a:ahLst/>
                <a:rect l="l" t="t" r="r" b="b"/>
                <a:pathLst>
                  <a:path w="56" h="59">
                    <a:moveTo>
                      <a:pt x="28" y="0"/>
                    </a:moveTo>
                    <a:lnTo>
                      <a:pt x="56" y="30"/>
                    </a:lnTo>
                    <a:lnTo>
                      <a:pt x="28" y="59"/>
                    </a:lnTo>
                    <a:lnTo>
                      <a:pt x="0" y="3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ffff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084800" y="2004120"/>
                <a:ext cx="84960" cy="8748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9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ff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982640" y="2456640"/>
                <a:ext cx="84960" cy="88920"/>
              </a:xfrm>
              <a:custGeom>
                <a:avLst/>
                <a:gdLst/>
                <a:ahLst/>
                <a:rect l="l" t="t" r="r" b="b"/>
                <a:pathLst>
                  <a:path w="57" h="60">
                    <a:moveTo>
                      <a:pt x="28" y="0"/>
                    </a:moveTo>
                    <a:lnTo>
                      <a:pt x="57" y="30"/>
                    </a:lnTo>
                    <a:lnTo>
                      <a:pt x="28" y="60"/>
                    </a:lnTo>
                    <a:lnTo>
                      <a:pt x="0" y="3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266600" y="2456640"/>
                <a:ext cx="83160" cy="88920"/>
              </a:xfrm>
              <a:custGeom>
                <a:avLst/>
                <a:gdLst/>
                <a:ahLst/>
                <a:rect l="l" t="t" r="r" b="b"/>
                <a:pathLst>
                  <a:path w="56" h="60">
                    <a:moveTo>
                      <a:pt x="28" y="0"/>
                    </a:moveTo>
                    <a:lnTo>
                      <a:pt x="56" y="30"/>
                    </a:lnTo>
                    <a:lnTo>
                      <a:pt x="28" y="60"/>
                    </a:lnTo>
                    <a:lnTo>
                      <a:pt x="0" y="3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ffff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446960" y="3056400"/>
                <a:ext cx="84600" cy="8748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9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ffff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802640" y="2602440"/>
                <a:ext cx="83160" cy="87480"/>
              </a:xfrm>
              <a:custGeom>
                <a:avLst/>
                <a:gdLst/>
                <a:ahLst/>
                <a:rect l="l" t="t" r="r" b="b"/>
                <a:pathLst>
                  <a:path w="56" h="59">
                    <a:moveTo>
                      <a:pt x="28" y="0"/>
                    </a:moveTo>
                    <a:lnTo>
                      <a:pt x="56" y="30"/>
                    </a:lnTo>
                    <a:lnTo>
                      <a:pt x="28" y="59"/>
                    </a:lnTo>
                    <a:lnTo>
                      <a:pt x="0" y="3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446960" y="2456640"/>
                <a:ext cx="84600" cy="88920"/>
              </a:xfrm>
              <a:custGeom>
                <a:avLst/>
                <a:gdLst/>
                <a:ahLst/>
                <a:rect l="l" t="t" r="r" b="b"/>
                <a:pathLst>
                  <a:path w="57" h="60">
                    <a:moveTo>
                      <a:pt x="28" y="0"/>
                    </a:moveTo>
                    <a:lnTo>
                      <a:pt x="57" y="30"/>
                    </a:lnTo>
                    <a:lnTo>
                      <a:pt x="28" y="60"/>
                    </a:lnTo>
                    <a:lnTo>
                      <a:pt x="0" y="3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199640" y="2425320"/>
                <a:ext cx="78840" cy="81720"/>
              </a:xfrm>
              <a:prstGeom prst="ellipse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747920" y="2557440"/>
                <a:ext cx="78480" cy="81720"/>
              </a:xfrm>
              <a:prstGeom prst="ellipse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505560" y="3206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505560" y="3056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505560" y="2904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505560" y="2754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505560" y="260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505560" y="2450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505560" y="2306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505560" y="2154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505560" y="200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05560" y="185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68840" y="1700280"/>
                <a:ext cx="860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1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572520" y="330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52880" y="330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926760" y="330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08560" y="330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288920" y="330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468920" y="330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644600" y="330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824960" y="330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004960" y="330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180640" y="330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341920" y="3307680"/>
                <a:ext cx="860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1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392880" y="1612800"/>
                <a:ext cx="2084760" cy="1866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812280" y="1883520"/>
                <a:ext cx="853200" cy="1299240"/>
              </a:xfrm>
              <a:custGeom>
                <a:avLst/>
                <a:gdLst/>
                <a:ahLst/>
                <a:rect l="l" t="t" r="r" b="b"/>
                <a:pathLst>
                  <a:path w="852" h="1260">
                    <a:moveTo>
                      <a:pt x="518" y="280"/>
                    </a:moveTo>
                    <a:cubicBezTo>
                      <a:pt x="509" y="187"/>
                      <a:pt x="497" y="69"/>
                      <a:pt x="392" y="36"/>
                    </a:cubicBezTo>
                    <a:cubicBezTo>
                      <a:pt x="339" y="0"/>
                      <a:pt x="309" y="15"/>
                      <a:pt x="237" y="21"/>
                    </a:cubicBezTo>
                    <a:cubicBezTo>
                      <a:pt x="194" y="31"/>
                      <a:pt x="168" y="45"/>
                      <a:pt x="133" y="73"/>
                    </a:cubicBezTo>
                    <a:cubicBezTo>
                      <a:pt x="84" y="168"/>
                      <a:pt x="20" y="262"/>
                      <a:pt x="0" y="369"/>
                    </a:cubicBezTo>
                    <a:cubicBezTo>
                      <a:pt x="5" y="481"/>
                      <a:pt x="3" y="584"/>
                      <a:pt x="44" y="688"/>
                    </a:cubicBezTo>
                    <a:cubicBezTo>
                      <a:pt x="78" y="870"/>
                      <a:pt x="173" y="1057"/>
                      <a:pt x="362" y="1117"/>
                    </a:cubicBezTo>
                    <a:cubicBezTo>
                      <a:pt x="415" y="1152"/>
                      <a:pt x="347" y="1112"/>
                      <a:pt x="429" y="1139"/>
                    </a:cubicBezTo>
                    <a:cubicBezTo>
                      <a:pt x="437" y="1142"/>
                      <a:pt x="443" y="1150"/>
                      <a:pt x="451" y="1154"/>
                    </a:cubicBezTo>
                    <a:cubicBezTo>
                      <a:pt x="473" y="1165"/>
                      <a:pt x="501" y="1168"/>
                      <a:pt x="525" y="1176"/>
                    </a:cubicBezTo>
                    <a:cubicBezTo>
                      <a:pt x="562" y="1201"/>
                      <a:pt x="581" y="1218"/>
                      <a:pt x="622" y="1228"/>
                    </a:cubicBezTo>
                    <a:cubicBezTo>
                      <a:pt x="684" y="1260"/>
                      <a:pt x="714" y="1249"/>
                      <a:pt x="792" y="1243"/>
                    </a:cubicBezTo>
                    <a:cubicBezTo>
                      <a:pt x="852" y="1183"/>
                      <a:pt x="819" y="1088"/>
                      <a:pt x="785" y="1021"/>
                    </a:cubicBezTo>
                    <a:cubicBezTo>
                      <a:pt x="770" y="992"/>
                      <a:pt x="773" y="979"/>
                      <a:pt x="748" y="954"/>
                    </a:cubicBezTo>
                    <a:cubicBezTo>
                      <a:pt x="735" y="917"/>
                      <a:pt x="711" y="888"/>
                      <a:pt x="688" y="858"/>
                    </a:cubicBezTo>
                    <a:cubicBezTo>
                      <a:pt x="676" y="821"/>
                      <a:pt x="643" y="795"/>
                      <a:pt x="622" y="762"/>
                    </a:cubicBezTo>
                    <a:cubicBezTo>
                      <a:pt x="616" y="753"/>
                      <a:pt x="613" y="742"/>
                      <a:pt x="607" y="732"/>
                    </a:cubicBezTo>
                    <a:cubicBezTo>
                      <a:pt x="603" y="724"/>
                      <a:pt x="597" y="717"/>
                      <a:pt x="592" y="710"/>
                    </a:cubicBezTo>
                    <a:cubicBezTo>
                      <a:pt x="580" y="671"/>
                      <a:pt x="589" y="694"/>
                      <a:pt x="555" y="643"/>
                    </a:cubicBezTo>
                    <a:cubicBezTo>
                      <a:pt x="550" y="636"/>
                      <a:pt x="540" y="621"/>
                      <a:pt x="540" y="621"/>
                    </a:cubicBezTo>
                    <a:cubicBezTo>
                      <a:pt x="519" y="510"/>
                      <a:pt x="518" y="392"/>
                      <a:pt x="518" y="280"/>
                    </a:cubicBez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437960" y="2279520"/>
                <a:ext cx="767880" cy="648360"/>
              </a:xfrm>
              <a:custGeom>
                <a:avLst/>
                <a:gdLst/>
                <a:ahLst/>
                <a:rect l="l" t="t" r="r" b="b"/>
                <a:pathLst>
                  <a:path w="768" h="630">
                    <a:moveTo>
                      <a:pt x="183" y="67"/>
                    </a:moveTo>
                    <a:cubicBezTo>
                      <a:pt x="146" y="41"/>
                      <a:pt x="112" y="61"/>
                      <a:pt x="72" y="74"/>
                    </a:cubicBezTo>
                    <a:cubicBezTo>
                      <a:pt x="13" y="114"/>
                      <a:pt x="28" y="107"/>
                      <a:pt x="5" y="170"/>
                    </a:cubicBezTo>
                    <a:cubicBezTo>
                      <a:pt x="8" y="217"/>
                      <a:pt x="0" y="266"/>
                      <a:pt x="13" y="311"/>
                    </a:cubicBezTo>
                    <a:cubicBezTo>
                      <a:pt x="19" y="331"/>
                      <a:pt x="45" y="339"/>
                      <a:pt x="57" y="356"/>
                    </a:cubicBezTo>
                    <a:cubicBezTo>
                      <a:pt x="92" y="407"/>
                      <a:pt x="72" y="390"/>
                      <a:pt x="109" y="415"/>
                    </a:cubicBezTo>
                    <a:cubicBezTo>
                      <a:pt x="145" y="467"/>
                      <a:pt x="187" y="508"/>
                      <a:pt x="235" y="548"/>
                    </a:cubicBezTo>
                    <a:cubicBezTo>
                      <a:pt x="243" y="555"/>
                      <a:pt x="248" y="565"/>
                      <a:pt x="257" y="570"/>
                    </a:cubicBezTo>
                    <a:cubicBezTo>
                      <a:pt x="283" y="584"/>
                      <a:pt x="305" y="583"/>
                      <a:pt x="331" y="593"/>
                    </a:cubicBezTo>
                    <a:cubicBezTo>
                      <a:pt x="371" y="608"/>
                      <a:pt x="408" y="621"/>
                      <a:pt x="450" y="630"/>
                    </a:cubicBezTo>
                    <a:cubicBezTo>
                      <a:pt x="498" y="625"/>
                      <a:pt x="551" y="623"/>
                      <a:pt x="598" y="607"/>
                    </a:cubicBezTo>
                    <a:cubicBezTo>
                      <a:pt x="618" y="600"/>
                      <a:pt x="657" y="585"/>
                      <a:pt x="657" y="585"/>
                    </a:cubicBezTo>
                    <a:cubicBezTo>
                      <a:pt x="675" y="536"/>
                      <a:pt x="651" y="594"/>
                      <a:pt x="687" y="533"/>
                    </a:cubicBezTo>
                    <a:cubicBezTo>
                      <a:pt x="698" y="514"/>
                      <a:pt x="717" y="474"/>
                      <a:pt x="717" y="474"/>
                    </a:cubicBezTo>
                    <a:cubicBezTo>
                      <a:pt x="719" y="462"/>
                      <a:pt x="720" y="449"/>
                      <a:pt x="724" y="437"/>
                    </a:cubicBezTo>
                    <a:cubicBezTo>
                      <a:pt x="727" y="429"/>
                      <a:pt x="736" y="423"/>
                      <a:pt x="739" y="415"/>
                    </a:cubicBezTo>
                    <a:cubicBezTo>
                      <a:pt x="750" y="382"/>
                      <a:pt x="760" y="332"/>
                      <a:pt x="768" y="296"/>
                    </a:cubicBezTo>
                    <a:cubicBezTo>
                      <a:pt x="766" y="257"/>
                      <a:pt x="766" y="217"/>
                      <a:pt x="761" y="178"/>
                    </a:cubicBezTo>
                    <a:cubicBezTo>
                      <a:pt x="754" y="127"/>
                      <a:pt x="750" y="142"/>
                      <a:pt x="724" y="111"/>
                    </a:cubicBezTo>
                    <a:cubicBezTo>
                      <a:pt x="653" y="27"/>
                      <a:pt x="566" y="24"/>
                      <a:pt x="465" y="0"/>
                    </a:cubicBezTo>
                    <a:cubicBezTo>
                      <a:pt x="370" y="4"/>
                      <a:pt x="294" y="6"/>
                      <a:pt x="205" y="30"/>
                    </a:cubicBezTo>
                    <a:cubicBezTo>
                      <a:pt x="154" y="63"/>
                      <a:pt x="144" y="53"/>
                      <a:pt x="183" y="67"/>
                    </a:cubicBez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5605560" y="2618280"/>
              <a:ext cx="5752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6440760" y="3587760"/>
              <a:ext cx="2144520" cy="2142360"/>
              <a:chOff x="6440760" y="3587760"/>
              <a:chExt cx="2144520" cy="2142360"/>
            </a:xfrm>
          </p:grpSpPr>
          <p:graphicFrame>
            <p:nvGraphicFramePr>
              <p:cNvPr id="302" name=""/>
              <p:cNvGraphicFramePr/>
              <p:nvPr/>
            </p:nvGraphicFramePr>
            <p:xfrm>
              <a:off x="6440760" y="3872880"/>
              <a:ext cx="2144520" cy="185724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30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440760" y="3872880"/>
                        <a:ext cx="2144520" cy="1857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04" name=""/>
              <p:cNvSpPr/>
              <p:nvPr/>
            </p:nvSpPr>
            <p:spPr>
              <a:xfrm>
                <a:off x="7441200" y="3587760"/>
                <a:ext cx="0" cy="21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3295440" y="3873600"/>
              <a:ext cx="3001680" cy="1856880"/>
              <a:chOff x="3295440" y="3873600"/>
              <a:chExt cx="3001680" cy="185688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3295440" y="3873600"/>
                <a:ext cx="2144160" cy="1856880"/>
                <a:chOff x="3295440" y="3873600"/>
                <a:chExt cx="2144160" cy="1856880"/>
              </a:xfrm>
            </p:grpSpPr>
            <p:graphicFrame>
              <p:nvGraphicFramePr>
                <p:cNvPr id="307" name=""/>
                <p:cNvGraphicFramePr/>
                <p:nvPr/>
              </p:nvGraphicFramePr>
              <p:xfrm>
                <a:off x="3295440" y="3873600"/>
                <a:ext cx="2144160" cy="1856880"/>
              </p:xfrm>
              <a:graphic>
                <a:graphicData uri="http://schemas.openxmlformats.org/presentationml/2006/ole">
                  <p:oleObj progId="Excel.Sheet.12" r:id="rId5" spid="">
                    <p:embed/>
                    <p:pic>
                      <p:nvPicPr>
                        <p:cNvPr id="308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3295440" y="3873600"/>
                          <a:ext cx="2144160" cy="1856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09" name=""/>
                <p:cNvSpPr/>
                <p:nvPr/>
              </p:nvSpPr>
              <p:spPr>
                <a:xfrm>
                  <a:off x="3824640" y="4185720"/>
                  <a:ext cx="726480" cy="888840"/>
                </a:xfrm>
                <a:custGeom>
                  <a:avLst/>
                  <a:gdLst/>
                  <a:ahLst/>
                  <a:rect l="l" t="t" r="r" b="b"/>
                  <a:pathLst>
                    <a:path w="728" h="896">
                      <a:moveTo>
                        <a:pt x="199" y="7"/>
                      </a:moveTo>
                      <a:cubicBezTo>
                        <a:pt x="148" y="19"/>
                        <a:pt x="135" y="54"/>
                        <a:pt x="110" y="96"/>
                      </a:cubicBezTo>
                      <a:cubicBezTo>
                        <a:pt x="101" y="111"/>
                        <a:pt x="90" y="125"/>
                        <a:pt x="80" y="140"/>
                      </a:cubicBezTo>
                      <a:cubicBezTo>
                        <a:pt x="75" y="147"/>
                        <a:pt x="65" y="162"/>
                        <a:pt x="65" y="162"/>
                      </a:cubicBezTo>
                      <a:cubicBezTo>
                        <a:pt x="50" y="210"/>
                        <a:pt x="33" y="254"/>
                        <a:pt x="21" y="303"/>
                      </a:cubicBezTo>
                      <a:cubicBezTo>
                        <a:pt x="4" y="446"/>
                        <a:pt x="0" y="574"/>
                        <a:pt x="65" y="703"/>
                      </a:cubicBezTo>
                      <a:cubicBezTo>
                        <a:pt x="79" y="731"/>
                        <a:pt x="83" y="744"/>
                        <a:pt x="110" y="763"/>
                      </a:cubicBezTo>
                      <a:cubicBezTo>
                        <a:pt x="159" y="835"/>
                        <a:pt x="250" y="874"/>
                        <a:pt x="332" y="896"/>
                      </a:cubicBezTo>
                      <a:cubicBezTo>
                        <a:pt x="394" y="889"/>
                        <a:pt x="441" y="878"/>
                        <a:pt x="495" y="851"/>
                      </a:cubicBezTo>
                      <a:cubicBezTo>
                        <a:pt x="537" y="789"/>
                        <a:pt x="571" y="751"/>
                        <a:pt x="636" y="711"/>
                      </a:cubicBezTo>
                      <a:cubicBezTo>
                        <a:pt x="660" y="674"/>
                        <a:pt x="672" y="647"/>
                        <a:pt x="688" y="607"/>
                      </a:cubicBezTo>
                      <a:cubicBezTo>
                        <a:pt x="694" y="593"/>
                        <a:pt x="697" y="578"/>
                        <a:pt x="702" y="563"/>
                      </a:cubicBezTo>
                      <a:cubicBezTo>
                        <a:pt x="705" y="555"/>
                        <a:pt x="710" y="540"/>
                        <a:pt x="710" y="540"/>
                      </a:cubicBezTo>
                      <a:cubicBezTo>
                        <a:pt x="720" y="459"/>
                        <a:pt x="728" y="366"/>
                        <a:pt x="680" y="296"/>
                      </a:cubicBezTo>
                      <a:cubicBezTo>
                        <a:pt x="659" y="231"/>
                        <a:pt x="621" y="176"/>
                        <a:pt x="569" y="133"/>
                      </a:cubicBezTo>
                      <a:cubicBezTo>
                        <a:pt x="550" y="117"/>
                        <a:pt x="530" y="103"/>
                        <a:pt x="510" y="88"/>
                      </a:cubicBezTo>
                      <a:cubicBezTo>
                        <a:pt x="496" y="77"/>
                        <a:pt x="465" y="59"/>
                        <a:pt x="465" y="59"/>
                      </a:cubicBezTo>
                      <a:cubicBezTo>
                        <a:pt x="428" y="0"/>
                        <a:pt x="358" y="5"/>
                        <a:pt x="295" y="0"/>
                      </a:cubicBezTo>
                      <a:cubicBezTo>
                        <a:pt x="265" y="2"/>
                        <a:pt x="236" y="3"/>
                        <a:pt x="206" y="7"/>
                      </a:cubicBezTo>
                      <a:cubicBezTo>
                        <a:pt x="198" y="8"/>
                        <a:pt x="192" y="14"/>
                        <a:pt x="184" y="14"/>
                      </a:cubicBezTo>
                      <a:cubicBezTo>
                        <a:pt x="178" y="14"/>
                        <a:pt x="194" y="9"/>
                        <a:pt x="199" y="7"/>
                      </a:cubicBez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275720" y="4546080"/>
                  <a:ext cx="800280" cy="881640"/>
                </a:xfrm>
                <a:custGeom>
                  <a:avLst/>
                  <a:gdLst/>
                  <a:ahLst/>
                  <a:rect l="l" t="t" r="r" b="b"/>
                  <a:pathLst>
                    <a:path w="802" h="889">
                      <a:moveTo>
                        <a:pt x="510" y="44"/>
                      </a:moveTo>
                      <a:cubicBezTo>
                        <a:pt x="455" y="80"/>
                        <a:pt x="422" y="133"/>
                        <a:pt x="376" y="177"/>
                      </a:cubicBezTo>
                      <a:cubicBezTo>
                        <a:pt x="346" y="236"/>
                        <a:pt x="298" y="273"/>
                        <a:pt x="236" y="296"/>
                      </a:cubicBezTo>
                      <a:cubicBezTo>
                        <a:pt x="231" y="303"/>
                        <a:pt x="227" y="312"/>
                        <a:pt x="221" y="318"/>
                      </a:cubicBezTo>
                      <a:cubicBezTo>
                        <a:pt x="215" y="324"/>
                        <a:pt x="205" y="326"/>
                        <a:pt x="199" y="333"/>
                      </a:cubicBezTo>
                      <a:cubicBezTo>
                        <a:pt x="194" y="339"/>
                        <a:pt x="195" y="348"/>
                        <a:pt x="191" y="355"/>
                      </a:cubicBezTo>
                      <a:cubicBezTo>
                        <a:pt x="185" y="366"/>
                        <a:pt x="176" y="375"/>
                        <a:pt x="169" y="385"/>
                      </a:cubicBezTo>
                      <a:cubicBezTo>
                        <a:pt x="156" y="422"/>
                        <a:pt x="155" y="463"/>
                        <a:pt x="132" y="496"/>
                      </a:cubicBezTo>
                      <a:cubicBezTo>
                        <a:pt x="126" y="504"/>
                        <a:pt x="116" y="510"/>
                        <a:pt x="110" y="518"/>
                      </a:cubicBezTo>
                      <a:cubicBezTo>
                        <a:pt x="99" y="532"/>
                        <a:pt x="80" y="562"/>
                        <a:pt x="80" y="562"/>
                      </a:cubicBezTo>
                      <a:cubicBezTo>
                        <a:pt x="68" y="602"/>
                        <a:pt x="78" y="578"/>
                        <a:pt x="43" y="629"/>
                      </a:cubicBezTo>
                      <a:cubicBezTo>
                        <a:pt x="28" y="651"/>
                        <a:pt x="22" y="678"/>
                        <a:pt x="13" y="703"/>
                      </a:cubicBezTo>
                      <a:cubicBezTo>
                        <a:pt x="15" y="727"/>
                        <a:pt x="0" y="812"/>
                        <a:pt x="36" y="844"/>
                      </a:cubicBezTo>
                      <a:cubicBezTo>
                        <a:pt x="49" y="856"/>
                        <a:pt x="65" y="864"/>
                        <a:pt x="80" y="874"/>
                      </a:cubicBezTo>
                      <a:cubicBezTo>
                        <a:pt x="93" y="883"/>
                        <a:pt x="124" y="888"/>
                        <a:pt x="124" y="888"/>
                      </a:cubicBezTo>
                      <a:cubicBezTo>
                        <a:pt x="167" y="886"/>
                        <a:pt x="287" y="889"/>
                        <a:pt x="354" y="874"/>
                      </a:cubicBezTo>
                      <a:cubicBezTo>
                        <a:pt x="410" y="861"/>
                        <a:pt x="461" y="835"/>
                        <a:pt x="517" y="822"/>
                      </a:cubicBezTo>
                      <a:cubicBezTo>
                        <a:pt x="534" y="811"/>
                        <a:pt x="553" y="804"/>
                        <a:pt x="569" y="792"/>
                      </a:cubicBezTo>
                      <a:cubicBezTo>
                        <a:pt x="613" y="757"/>
                        <a:pt x="651" y="702"/>
                        <a:pt x="673" y="651"/>
                      </a:cubicBezTo>
                      <a:cubicBezTo>
                        <a:pt x="680" y="634"/>
                        <a:pt x="685" y="615"/>
                        <a:pt x="695" y="600"/>
                      </a:cubicBezTo>
                      <a:cubicBezTo>
                        <a:pt x="711" y="577"/>
                        <a:pt x="747" y="533"/>
                        <a:pt x="747" y="533"/>
                      </a:cubicBezTo>
                      <a:cubicBezTo>
                        <a:pt x="756" y="504"/>
                        <a:pt x="784" y="451"/>
                        <a:pt x="784" y="451"/>
                      </a:cubicBezTo>
                      <a:cubicBezTo>
                        <a:pt x="787" y="439"/>
                        <a:pt x="798" y="395"/>
                        <a:pt x="798" y="385"/>
                      </a:cubicBezTo>
                      <a:cubicBezTo>
                        <a:pt x="798" y="264"/>
                        <a:pt x="802" y="46"/>
                        <a:pt x="650" y="0"/>
                      </a:cubicBezTo>
                      <a:cubicBezTo>
                        <a:pt x="598" y="5"/>
                        <a:pt x="575" y="6"/>
                        <a:pt x="532" y="22"/>
                      </a:cubicBezTo>
                      <a:cubicBezTo>
                        <a:pt x="516" y="46"/>
                        <a:pt x="526" y="44"/>
                        <a:pt x="510" y="44"/>
                      </a:cubicBez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 flipH="1">
                <a:off x="5654160" y="4516200"/>
                <a:ext cx="64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35960" y="4016160"/>
              <a:ext cx="1787040" cy="98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  <a:ea typeface="Gulim"/>
                </a:rPr>
                <a:t>K=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  <a:ea typeface="Gulim"/>
                </a:rPr>
                <a:t>Arbitrarily choose K object as initial cluster cent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1213200" y="3729960"/>
              <a:ext cx="1800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01360" y="2670480"/>
              <a:ext cx="5310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37560" y="2658960"/>
              <a:ext cx="785880" cy="12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  <a:ea typeface="Gulim"/>
                </a:rPr>
                <a:t>Assign each objects to most similar cent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11240" y="2587680"/>
              <a:ext cx="786240" cy="8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  <a:ea typeface="Gulim"/>
                </a:rPr>
                <a:t>Update the cluster mea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11240" y="4730760"/>
              <a:ext cx="786240" cy="8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  <a:ea typeface="Gulim"/>
                </a:rPr>
                <a:t>Update the cluster mea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21456600">
              <a:off x="7584480" y="3587400"/>
              <a:ext cx="9288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  <a:ea typeface="Gulim"/>
                </a:rPr>
                <a:t>reassig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4220280" y="3587400"/>
              <a:ext cx="86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21456600">
              <a:off x="4367520" y="3587400"/>
              <a:ext cx="9288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  <a:ea typeface="Gulim"/>
                </a:rPr>
                <a:t>reassig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6360" y="1652760"/>
              <a:ext cx="2084760" cy="1866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5800" y="1785600"/>
              <a:ext cx="1788480" cy="150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5800" y="3139920"/>
              <a:ext cx="1788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5800" y="2989440"/>
              <a:ext cx="1788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5800" y="2837520"/>
              <a:ext cx="1788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05800" y="2687400"/>
              <a:ext cx="1788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5800" y="2535480"/>
              <a:ext cx="1788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5800" y="2389680"/>
              <a:ext cx="1788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5800" y="2239560"/>
              <a:ext cx="1788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5800" y="2087640"/>
              <a:ext cx="1788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5800" y="1937160"/>
              <a:ext cx="1788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05800" y="1785600"/>
              <a:ext cx="1788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6160" y="1785600"/>
              <a:ext cx="1080" cy="150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60400" y="1785600"/>
              <a:ext cx="1080" cy="150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42200" y="1785600"/>
              <a:ext cx="1080" cy="150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22200" y="1785600"/>
              <a:ext cx="1440" cy="150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02560" y="1785600"/>
              <a:ext cx="1080" cy="150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77880" y="1785600"/>
              <a:ext cx="1440" cy="150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58240" y="1785600"/>
              <a:ext cx="1080" cy="150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38240" y="1785600"/>
              <a:ext cx="1440" cy="150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14280" y="1785600"/>
              <a:ext cx="1080" cy="150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94280" y="1785600"/>
              <a:ext cx="1440" cy="150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5800" y="1785600"/>
              <a:ext cx="1788480" cy="1505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5800" y="1785600"/>
              <a:ext cx="1440" cy="150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" y="329148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800" y="3139920"/>
              <a:ext cx="1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7800" y="298944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7800" y="283752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87800" y="2687400"/>
              <a:ext cx="1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7800" y="253548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87800" y="2389680"/>
              <a:ext cx="1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7800" y="2239560"/>
              <a:ext cx="1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87800" y="2087640"/>
              <a:ext cx="1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7800" y="193716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87800" y="1785600"/>
              <a:ext cx="1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5800" y="3291480"/>
              <a:ext cx="1788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505800" y="3291480"/>
              <a:ext cx="144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86160" y="3291480"/>
              <a:ext cx="108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860400" y="3291480"/>
              <a:ext cx="108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1042200" y="3291480"/>
              <a:ext cx="108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1222200" y="3291480"/>
              <a:ext cx="144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1402560" y="3291480"/>
              <a:ext cx="108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1577880" y="3291480"/>
              <a:ext cx="144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1758240" y="3291480"/>
              <a:ext cx="108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1938240" y="3291480"/>
              <a:ext cx="144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2114280" y="3291480"/>
              <a:ext cx="108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294280" y="3291480"/>
              <a:ext cx="144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999000" y="2346480"/>
              <a:ext cx="84600" cy="8748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29" y="0"/>
                  </a:moveTo>
                  <a:lnTo>
                    <a:pt x="57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16480" y="2794320"/>
              <a:ext cx="83160" cy="87840"/>
            </a:xfrm>
            <a:custGeom>
              <a:avLst/>
              <a:gdLst/>
              <a:ahLst/>
              <a:rect l="l" t="t" r="r" b="b"/>
              <a:pathLst>
                <a:path w="56" h="59">
                  <a:moveTo>
                    <a:pt x="28" y="0"/>
                  </a:moveTo>
                  <a:lnTo>
                    <a:pt x="56" y="29"/>
                  </a:lnTo>
                  <a:lnTo>
                    <a:pt x="28" y="59"/>
                  </a:lnTo>
                  <a:lnTo>
                    <a:pt x="0" y="2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64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80440" y="2194560"/>
              <a:ext cx="83160" cy="87840"/>
            </a:xfrm>
            <a:custGeom>
              <a:avLst/>
              <a:gdLst/>
              <a:ahLst/>
              <a:rect l="l" t="t" r="r" b="b"/>
              <a:pathLst>
                <a:path w="56" h="59">
                  <a:moveTo>
                    <a:pt x="28" y="0"/>
                  </a:moveTo>
                  <a:lnTo>
                    <a:pt x="56" y="30"/>
                  </a:lnTo>
                  <a:lnTo>
                    <a:pt x="28" y="59"/>
                  </a:lnTo>
                  <a:lnTo>
                    <a:pt x="0" y="3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99000" y="2044440"/>
              <a:ext cx="84600" cy="8748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29" y="0"/>
                  </a:moveTo>
                  <a:lnTo>
                    <a:pt x="57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96840" y="2496960"/>
              <a:ext cx="84600" cy="8892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28" y="0"/>
                  </a:moveTo>
                  <a:lnTo>
                    <a:pt x="57" y="30"/>
                  </a:lnTo>
                  <a:lnTo>
                    <a:pt x="28" y="60"/>
                  </a:lnTo>
                  <a:lnTo>
                    <a:pt x="0" y="3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64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80440" y="2496960"/>
              <a:ext cx="83160" cy="8892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28" y="0"/>
                  </a:moveTo>
                  <a:lnTo>
                    <a:pt x="56" y="30"/>
                  </a:lnTo>
                  <a:lnTo>
                    <a:pt x="28" y="60"/>
                  </a:lnTo>
                  <a:lnTo>
                    <a:pt x="0" y="3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60440" y="3096720"/>
              <a:ext cx="84960" cy="8748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28" y="0"/>
                  </a:moveTo>
                  <a:lnTo>
                    <a:pt x="57" y="29"/>
                  </a:lnTo>
                  <a:lnTo>
                    <a:pt x="28" y="59"/>
                  </a:lnTo>
                  <a:lnTo>
                    <a:pt x="0" y="2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60440" y="2496960"/>
              <a:ext cx="84960" cy="8892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28" y="0"/>
                  </a:moveTo>
                  <a:lnTo>
                    <a:pt x="57" y="30"/>
                  </a:lnTo>
                  <a:lnTo>
                    <a:pt x="28" y="60"/>
                  </a:lnTo>
                  <a:lnTo>
                    <a:pt x="0" y="3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64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9040" y="3246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9040" y="3096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19040" y="2944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9040" y="2794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19040" y="2642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9040" y="2490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9040" y="2346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19040" y="2194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19040" y="20444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9040" y="1892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2320" y="174060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86000" y="3348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6360" y="3348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40600" y="3348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22400" y="3348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02760" y="3348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382760" y="3348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58440" y="3348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38800" y="3348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19160" y="3348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094480" y="3348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56120" y="334800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6360" y="1652760"/>
              <a:ext cx="2084760" cy="1866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97560" y="2639520"/>
              <a:ext cx="82800" cy="8892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28" y="0"/>
                  </a:moveTo>
                  <a:lnTo>
                    <a:pt x="56" y="30"/>
                  </a:lnTo>
                  <a:lnTo>
                    <a:pt x="28" y="60"/>
                  </a:lnTo>
                  <a:lnTo>
                    <a:pt x="0" y="3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712160" y="2484720"/>
              <a:ext cx="83160" cy="87480"/>
            </a:xfrm>
            <a:custGeom>
              <a:avLst/>
              <a:gdLst/>
              <a:ahLst/>
              <a:rect l="l" t="t" r="r" b="b"/>
              <a:pathLst>
                <a:path w="56" h="59">
                  <a:moveTo>
                    <a:pt x="28" y="0"/>
                  </a:moveTo>
                  <a:lnTo>
                    <a:pt x="56" y="29"/>
                  </a:lnTo>
                  <a:lnTo>
                    <a:pt x="28" y="59"/>
                  </a:lnTo>
                  <a:lnTo>
                    <a:pt x="0" y="2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64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39720" y="2760120"/>
              <a:ext cx="78840" cy="81720"/>
            </a:xfrm>
            <a:prstGeom prst="ellipse">
              <a:avLst/>
            </a:prstGeom>
            <a:solidFill>
              <a:srgbClr val="ff0000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062080" y="2617560"/>
              <a:ext cx="78840" cy="81360"/>
            </a:xfrm>
            <a:prstGeom prst="ellipse">
              <a:avLst/>
            </a:prstGeom>
            <a:solidFill>
              <a:srgbClr val="ff0000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44C3-E1E6-48D0-8FB3-48DA73873C9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4ACCA-25D2-4CE5-A7EF-531A8BB9CE6C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aining data se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ing data se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ification Mode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FB64-49C5-4B97-9606-36DBFFD5D92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FE428-F3CC-4496-B218-F026212AE7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26800" y="287280"/>
            <a:ext cx="720252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ents on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-Mea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20348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elatively effici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k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# objects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# clusters,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# iterations. Norm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: Often terminates at a local optimu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global optimum may be found using techniques such as genetic algorith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AC62-17F7-45B0-840C-9F501B5EF0F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CCB5F-8762-453E-9834-408098523371}" type="datetime1">
              <a:rPr lang="en-US"/>
              <a:t>07/28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ents on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-Mea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k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2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pplicable only whe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defined, then what about categorical data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2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ed to specif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k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clusters, in adv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2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able to handle noisy data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utli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2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t suitable to discover clusters with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on-convex shap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82A4-6850-42DA-A888-1E9A9F14178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18C7A-5764-4967-8654-47809A4D6C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2840" y="340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roblem K-means: Differing Dens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66560" y="1066680"/>
            <a:ext cx="828072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2120" y="4952880"/>
            <a:ext cx="213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l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4268880" cy="32004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4267080" y="1447920"/>
            <a:ext cx="4268880" cy="32004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335560" y="4902120"/>
            <a:ext cx="246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-means (3 Clus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EE0C-42F9-4A25-8B4E-84D5A8C69F9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D4907-DA74-404A-B57B-954A82D62CD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roblem of K-mean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on-globular Sha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6560" y="1066680"/>
            <a:ext cx="828072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143000" y="4876920"/>
            <a:ext cx="205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l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268880" cy="32004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4268520" cy="32004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5335560" y="4902120"/>
            <a:ext cx="246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-means (2 Clus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1A25-4574-4611-9E21-0F3E754379C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84B99-27FB-4DB7-BC8A-E39685201E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HTML to XM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eXtensible Markup Languag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 describes presentation of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h1&gt;Bibliography&lt;/h1&g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p&gt;&lt;i&gt;Foundations of Databases&lt;/i&g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Abiteboul, Hull, and Vianu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br&gt;Addison Wesley, 1995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p&gt;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describes only the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bibliography&g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book&g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title&gt;Foundations of Databases&lt;/title&g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author&gt;Abiteboul&lt;/author&g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author&gt;Hull&lt;/author&g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author&gt;Vianu&lt;/author&g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publisher&gt;Addison Wesley&lt;/publisher&g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year&gt;1995&lt;/year&g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/book&g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book&gt;…&lt;/book&g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/bibliography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aration of content from presentation simplifies content extraction and allows the same content to be presented easily in different loo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5410080" y="1447920"/>
            <a:ext cx="3657600" cy="240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6B50-99CF-4E71-9DC6-0205F1100C4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918F2-22F1-44F0-8A90-8C6A714B29C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nice features of X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ability: Just like HTML, you can ship XML data across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ational data requires heavy-weight protocols, e.g., JDB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ility: You can represent any information (structured, semi-structured, documents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ational data is best suited for structured 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bility: Since data describes itself, you can change the schema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ational schema is rigid and difficult to cha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2329-77B9-45D4-8659-A8B9D353E23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0836C-2642-466B-9803-6DD42ED385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ML termi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ames: </a:t>
            </a:r>
            <a:r>
              <a:rPr b="0" lang="en-US" sz="2800" spc="-1" strike="noStrike">
                <a:solidFill>
                  <a:srgbClr val="00ff00"/>
                </a:solidFill>
                <a:latin typeface="LettrGoth12 BT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ff00"/>
                </a:solidFill>
                <a:latin typeface="LettrGoth12 BT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Start ta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ff00"/>
                </a:solidFill>
                <a:latin typeface="LettrGoth12 BT"/>
              </a:rPr>
              <a:t>&lt;book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ff00"/>
                </a:solidFill>
                <a:latin typeface="LettrGoth12 BT"/>
              </a:rPr>
              <a:t>&lt;title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End ta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ff00"/>
                </a:solidFill>
                <a:latin typeface="LettrGoth12 BT"/>
              </a:rPr>
              <a:t>&lt;/book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ff00"/>
                </a:solidFill>
                <a:latin typeface="LettrGoth12 BT"/>
              </a:rPr>
              <a:t>&lt;/title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nclosed by a pair of start and end tags: </a:t>
            </a:r>
            <a:r>
              <a:rPr b="0" lang="en-US" sz="2800" spc="-1" strike="noStrike">
                <a:solidFill>
                  <a:srgbClr val="00ff00"/>
                </a:solidFill>
                <a:latin typeface="LettrGoth12 BT"/>
              </a:rPr>
              <a:t>&lt;book&gt;…&lt;/book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lements can be nested: </a:t>
            </a:r>
            <a:r>
              <a:rPr b="0" lang="en-US" sz="2600" spc="-1" strike="noStrike">
                <a:solidFill>
                  <a:srgbClr val="00ff00"/>
                </a:solidFill>
                <a:latin typeface="LettrGoth12 BT"/>
              </a:rPr>
              <a:t>&lt;book&gt;…&lt;title&gt;…&lt;/title&gt;…&lt;/book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mpty elements: </a:t>
            </a:r>
            <a:r>
              <a:rPr b="0" lang="en-US" sz="2600" spc="-1" strike="noStrike">
                <a:solidFill>
                  <a:srgbClr val="00ff00"/>
                </a:solidFill>
                <a:latin typeface="LettrGoth12 BT"/>
              </a:rPr>
              <a:t>&lt;is_textbook&gt;&lt;/is_textbook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abbreviated: </a:t>
            </a:r>
            <a:r>
              <a:rPr b="0" lang="en-US" sz="2400" spc="-1" strike="noStrike">
                <a:solidFill>
                  <a:srgbClr val="00ff00"/>
                </a:solidFill>
                <a:latin typeface="LettrGoth12 BT"/>
              </a:rPr>
              <a:t>&lt;is_textbook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can also have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attribu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&lt;book </a:t>
            </a:r>
            <a:r>
              <a:rPr b="0" lang="en-US" sz="2800" spc="-1" strike="noStrike">
                <a:solidFill>
                  <a:srgbClr val="00ff00"/>
                </a:solidFill>
                <a:latin typeface="LettrGoth12 BT"/>
              </a:rPr>
              <a:t>ISBN=”…” price=”80.00”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24000" y="987480"/>
            <a:ext cx="456984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bibliography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book ISBN=”ISBN-10” price=”80.00”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title&gt;Foundations of Databases&lt;/titl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is_textbook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author&gt;Abiteboul&lt;/autho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author&gt;Hull&lt;/autho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author&gt;Vianu&lt;/autho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publisher&gt;Addison Wesley&lt;/publishe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year&gt;1995&lt;/yea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/book&gt;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/bibliograph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604E-3C38-40F9-ADBE-FFAD3239330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17C4B-28A3-4CC7-982A-EDF68B23A1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ll-formed XML docu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well-form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ML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s XML lexical conv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&lt;section&gt;We show that x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 0…&lt;/section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&lt;section&gt;We show that x </a:t>
            </a:r>
            <a:r>
              <a:rPr b="0" lang="en-US" sz="2200" spc="-1" strike="noStrike">
                <a:solidFill>
                  <a:srgbClr val="00ff00"/>
                </a:solidFill>
                <a:latin typeface="LettrGoth12 BT"/>
              </a:rPr>
              <a:t>&amp;lt;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 0…&lt;/section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600" indent="-284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special entities: 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comes </a:t>
            </a:r>
            <a:r>
              <a:rPr b="0" lang="en-US" sz="2000" spc="-1" strike="noStrike">
                <a:solidFill>
                  <a:srgbClr val="66ff33"/>
                </a:solidFill>
                <a:latin typeface="LettrGoth12 BT"/>
              </a:rPr>
              <a:t>&amp;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comes </a:t>
            </a:r>
            <a:r>
              <a:rPr b="0" lang="en-US" sz="2000" spc="-1" strike="noStrike">
                <a:solidFill>
                  <a:srgbClr val="66ff33"/>
                </a:solidFill>
                <a:latin typeface="LettrGoth12 BT"/>
              </a:rPr>
              <a:t>&amp;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a single root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tags that are properly matched and elements that are properly n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2200" spc="-1" strike="noStrike">
                <a:solidFill>
                  <a:srgbClr val="00ff00"/>
                </a:solidFill>
                <a:latin typeface="LettrGoth12 BT"/>
              </a:rPr>
              <a:t>&lt;section&gt;…&lt;subsection&gt;…&lt;/subsection&gt;…&lt;/section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&lt;section&gt;…&lt;subsection&gt;…&lt;/section&gt;…&lt;/subsection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D820-1063-4944-AC09-4678034CAAC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374C6-55A2-47F4-8BAE-3C8C8D28B1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XML fea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Com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ff00"/>
                </a:solidFill>
                <a:latin typeface="LettrGoth12 BT"/>
              </a:rPr>
              <a:t>&lt;!--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Comments here </a:t>
            </a:r>
            <a:r>
              <a:rPr b="0" lang="en-US" sz="2400" spc="-1" strike="noStrike">
                <a:solidFill>
                  <a:srgbClr val="00ff00"/>
                </a:solidFill>
                <a:latin typeface="LettrGoth12 BT"/>
              </a:rPr>
              <a:t>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C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ff00"/>
                </a:solidFill>
                <a:latin typeface="LettrGoth12 BT"/>
              </a:rPr>
              <a:t>&lt;![CDATA[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Tags: &lt;book&gt;,…</a:t>
            </a:r>
            <a:r>
              <a:rPr b="0" lang="en-US" sz="2400" spc="-1" strike="noStrike">
                <a:solidFill>
                  <a:srgbClr val="00ff00"/>
                </a:solidFill>
                <a:latin typeface="LettrGoth12 BT"/>
              </a:rPr>
              <a:t>]]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ID’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person </a:t>
            </a:r>
            <a:r>
              <a:rPr b="0" lang="en-US" sz="1500" spc="-1" strike="noStrike">
                <a:solidFill>
                  <a:srgbClr val="00ff00"/>
                </a:solidFill>
                <a:latin typeface="LettrGoth12 BT"/>
                <a:ea typeface="Arial Unicode MS"/>
              </a:rPr>
              <a:t>id=”o12”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gt;&lt;name&gt;Homer&lt;/name&gt;…&lt;/person&g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person </a:t>
            </a:r>
            <a:r>
              <a:rPr b="0" lang="en-US" sz="1500" spc="-1" strike="noStrike">
                <a:solidFill>
                  <a:srgbClr val="00ff00"/>
                </a:solidFill>
                <a:latin typeface="LettrGoth12 BT"/>
                <a:ea typeface="Arial Unicode MS"/>
              </a:rPr>
              <a:t>id=”o34”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gt;&lt;name&gt;Marge&lt;/name&gt;…&lt;/person&g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person </a:t>
            </a:r>
            <a:r>
              <a:rPr b="0" lang="en-US" sz="1500" spc="-1" strike="noStrike">
                <a:solidFill>
                  <a:srgbClr val="00ff00"/>
                </a:solidFill>
                <a:latin typeface="LettrGoth12 BT"/>
                <a:ea typeface="Arial Unicode MS"/>
              </a:rPr>
              <a:t>id=”o56” father=”o12” mother=”o34”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gt;&lt;name&gt;Bart&lt;/name&gt;…&lt;/person&gt;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Namespa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ow external schemas and qualified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book </a:t>
            </a:r>
            <a:r>
              <a:rPr b="0" lang="en-US" sz="1500" spc="-1" strike="noStrike">
                <a:solidFill>
                  <a:srgbClr val="00ff00"/>
                </a:solidFill>
                <a:latin typeface="LettrGoth12 BT"/>
                <a:ea typeface="Arial Unicode MS"/>
              </a:rPr>
              <a:t>xmlns:myCitationStyle=”http://…/mySchema”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g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ff00"/>
                </a:solidFill>
                <a:latin typeface="LettrGoth12 BT"/>
                <a:ea typeface="Arial Unicode MS"/>
              </a:rPr>
              <a:t>&lt;myCitationStyle:title&gt;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…</a:t>
            </a:r>
            <a:r>
              <a:rPr b="0" lang="en-US" sz="1500" spc="-1" strike="noStrike">
                <a:solidFill>
                  <a:srgbClr val="00ff00"/>
                </a:solidFill>
                <a:latin typeface="LettrGoth12 BT"/>
                <a:ea typeface="Arial Unicode MS"/>
              </a:rPr>
              <a:t>&lt;/myCitationStyle:title&g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ff00"/>
                </a:solidFill>
                <a:latin typeface="LettrGoth12 BT"/>
                <a:ea typeface="Arial Unicode MS"/>
              </a:rPr>
              <a:t>&lt;myCitationStyle:author&gt;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…</a:t>
            </a:r>
            <a:r>
              <a:rPr b="0" lang="en-US" sz="1500" spc="-1" strike="noStrike">
                <a:solidFill>
                  <a:srgbClr val="00ff00"/>
                </a:solidFill>
                <a:latin typeface="LettrGoth12 BT"/>
                <a:ea typeface="Arial Unicode MS"/>
              </a:rPr>
              <a:t>&lt;/myCitationStyle:author&gt;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…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/book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Processing instru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apps: </a:t>
            </a:r>
            <a:r>
              <a:rPr b="0" lang="en-US" sz="2400" spc="-1" strike="noStrike">
                <a:solidFill>
                  <a:srgbClr val="00ff00"/>
                </a:solidFill>
                <a:latin typeface="LettrGoth12 BT"/>
              </a:rPr>
              <a:t>&lt;?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va app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LettrGoth12 BT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0901-1A57-4596-88CE-082B1C283FB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CED5D-8AB5-4C35-B174-E76E4C1D1B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id XML docu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val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ML document conforms to a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Document Type 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DT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DTD is opt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TD specif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grammar for the doc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aints on structures and values of elements, attributes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!DOCTYPE bibliography [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!ELEMENT bibliography (book+)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!ELEMENT book (title, author*, publisher?, year?, section*)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!ATTLIST book ISBN CDATA #REQUIRED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!ATTLIST book price CDATA #IMPLIED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!ELEMENT title (#PCDATA)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!ELEMENT author (#PCDATA)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!ELEMENT publisher (#PCDATA)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!ELEMENT year (#PCDATA)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!ELEMENT section (title, (#PCDATA)?, section*)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]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7462-212A-42F3-BBC5-ADB932F0C47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5CA51-F1A9-4B97-A81E-13E9C3C459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rics for Performance Evaluation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widely-used metri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09480" y="4875120"/>
                <a:ext cx="75837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curacy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N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F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F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98" name=""/>
          <p:cNvGraphicFramePr/>
          <p:nvPr/>
        </p:nvGraphicFramePr>
        <p:xfrm>
          <a:off x="1430280" y="1143000"/>
          <a:ext cx="5718240" cy="2816280"/>
        </p:xfrm>
        <a:graphic>
          <a:graphicData uri="http://schemas.openxmlformats.org/drawingml/2006/table">
            <a:tbl>
              <a:tblPr/>
              <a:tblGrid>
                <a:gridCol w="1430280"/>
                <a:gridCol w="1428840"/>
                <a:gridCol w="1430280"/>
                <a:gridCol w="1428840"/>
              </a:tblGrid>
              <a:tr h="660240">
                <a:tc>
                  <a:txBody>
                    <a:bodyPr lIns="85680" rIns="8568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85680" rIns="85680"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DICTED 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rowSpan="3">
                  <a:txBody>
                    <a:bodyPr lIns="85680" rIns="85680"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UAL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=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=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=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=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76E2-B446-4C91-9E77-49FD827694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A4245-FEBA-4EE1-AC12-F0F2A872CF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TD explained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!DOCTYPE bibliography [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!ELEMENT bibliography (book+)&gt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!ELEMENT book (title, author*, publisher?, year?, section*)&gt;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!ATTLIST book ISBN ID #REQUIRED&gt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!ATTLIST book price CDATA #IMPLIE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01880" y="1295280"/>
            <a:ext cx="6384960" cy="398880"/>
            <a:chOff x="1001880" y="1295280"/>
            <a:chExt cx="6384960" cy="398880"/>
          </a:xfrm>
        </p:grpSpPr>
        <p:sp>
          <p:nvSpPr>
            <p:cNvPr id="436" name=""/>
            <p:cNvSpPr/>
            <p:nvPr/>
          </p:nvSpPr>
          <p:spPr>
            <a:xfrm>
              <a:off x="1001880" y="1295280"/>
              <a:ext cx="638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bibliography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is the root element of the docu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71520" y="1312920"/>
              <a:ext cx="3049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0"/>
                  </a:moveTo>
                  <a:lnTo>
                    <a:pt x="0" y="96"/>
                  </a:lnTo>
                  <a:lnTo>
                    <a:pt x="192" y="9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751320" y="1982880"/>
            <a:ext cx="8456040" cy="398880"/>
            <a:chOff x="751320" y="1982880"/>
            <a:chExt cx="8456040" cy="398880"/>
          </a:xfrm>
        </p:grpSpPr>
        <p:sp>
          <p:nvSpPr>
            <p:cNvPr id="439" name=""/>
            <p:cNvSpPr/>
            <p:nvPr/>
          </p:nvSpPr>
          <p:spPr>
            <a:xfrm>
              <a:off x="751320" y="1982880"/>
              <a:ext cx="845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bibliography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consists of a sequence of one or more </a:t>
              </a: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book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ele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271520" y="1998720"/>
              <a:ext cx="3049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0"/>
                  </a:moveTo>
                  <a:lnTo>
                    <a:pt x="0" y="96"/>
                  </a:lnTo>
                  <a:lnTo>
                    <a:pt x="192" y="9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4572000" y="1770120"/>
            <a:ext cx="2126880" cy="398880"/>
            <a:chOff x="4572000" y="1770120"/>
            <a:chExt cx="2126880" cy="398880"/>
          </a:xfrm>
        </p:grpSpPr>
        <p:sp>
          <p:nvSpPr>
            <p:cNvPr id="442" name=""/>
            <p:cNvSpPr/>
            <p:nvPr/>
          </p:nvSpPr>
          <p:spPr>
            <a:xfrm>
              <a:off x="4572000" y="1922400"/>
              <a:ext cx="609480" cy="763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0"/>
                  </a:moveTo>
                  <a:lnTo>
                    <a:pt x="0" y="96"/>
                  </a:lnTo>
                  <a:lnTo>
                    <a:pt x="192" y="9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89600" y="1770120"/>
              <a:ext cx="17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One or m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4932000" y="4370400"/>
            <a:ext cx="45698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bibliography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book ISBN=”ISBN-10” price=”80.00”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title&gt;Foundations of Databases&lt;/titl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author&gt;Abiteboul&lt;/autho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author&gt;Hull&lt;/autho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author&gt;Vianu&lt;/autho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publisher&gt;Addison Wesley&lt;/publishe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year&gt;1995&lt;/yea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/book&gt;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/bibliograph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34840" y="2608200"/>
            <a:ext cx="8000280" cy="1145160"/>
            <a:chOff x="834840" y="2608200"/>
            <a:chExt cx="8000280" cy="1145160"/>
          </a:xfrm>
        </p:grpSpPr>
        <p:sp>
          <p:nvSpPr>
            <p:cNvPr id="446" name=""/>
            <p:cNvSpPr/>
            <p:nvPr/>
          </p:nvSpPr>
          <p:spPr>
            <a:xfrm>
              <a:off x="834840" y="3049560"/>
              <a:ext cx="8000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book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consists of a </a:t>
              </a: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title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, zero or more </a:t>
              </a: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author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,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an optional </a:t>
              </a: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publisher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, and zero or more </a:t>
              </a: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sec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, in sequ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71520" y="2608200"/>
              <a:ext cx="304920" cy="68580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0"/>
                  </a:moveTo>
                  <a:lnTo>
                    <a:pt x="0" y="96"/>
                  </a:lnTo>
                  <a:lnTo>
                    <a:pt x="192" y="9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687920" y="2608200"/>
            <a:ext cx="2170440" cy="475200"/>
            <a:chOff x="4687920" y="2608200"/>
            <a:chExt cx="2170440" cy="475200"/>
          </a:xfrm>
        </p:grpSpPr>
        <p:sp>
          <p:nvSpPr>
            <p:cNvPr id="449" name=""/>
            <p:cNvSpPr/>
            <p:nvPr/>
          </p:nvSpPr>
          <p:spPr>
            <a:xfrm>
              <a:off x="4687920" y="2608200"/>
              <a:ext cx="609480" cy="3049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0"/>
                  </a:moveTo>
                  <a:lnTo>
                    <a:pt x="0" y="96"/>
                  </a:lnTo>
                  <a:lnTo>
                    <a:pt x="192" y="9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98680" y="2684520"/>
              <a:ext cx="175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Zero or m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172200" y="2455920"/>
            <a:ext cx="2000880" cy="398880"/>
            <a:chOff x="6172200" y="2455920"/>
            <a:chExt cx="2000880" cy="398880"/>
          </a:xfrm>
        </p:grpSpPr>
        <p:sp>
          <p:nvSpPr>
            <p:cNvPr id="452" name=""/>
            <p:cNvSpPr/>
            <p:nvPr/>
          </p:nvSpPr>
          <p:spPr>
            <a:xfrm>
              <a:off x="6172200" y="2608200"/>
              <a:ext cx="609480" cy="763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0"/>
                  </a:moveTo>
                  <a:lnTo>
                    <a:pt x="0" y="96"/>
                  </a:lnTo>
                  <a:lnTo>
                    <a:pt x="192" y="9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599520" y="2455920"/>
              <a:ext cx="157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Zero or 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887760" y="4040280"/>
            <a:ext cx="7649640" cy="398880"/>
            <a:chOff x="887760" y="4040280"/>
            <a:chExt cx="7649640" cy="398880"/>
          </a:xfrm>
        </p:grpSpPr>
        <p:sp>
          <p:nvSpPr>
            <p:cNvPr id="455" name=""/>
            <p:cNvSpPr/>
            <p:nvPr/>
          </p:nvSpPr>
          <p:spPr>
            <a:xfrm>
              <a:off x="887760" y="4040280"/>
              <a:ext cx="76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book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has a required </a:t>
              </a: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ISBN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attribute which is a unique identif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271520" y="4056120"/>
              <a:ext cx="3049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0"/>
                  </a:moveTo>
                  <a:lnTo>
                    <a:pt x="0" y="96"/>
                  </a:lnTo>
                  <a:lnTo>
                    <a:pt x="192" y="9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253880" y="4649760"/>
            <a:ext cx="4134240" cy="1008720"/>
            <a:chOff x="1253880" y="4649760"/>
            <a:chExt cx="4134240" cy="1008720"/>
          </a:xfrm>
        </p:grpSpPr>
        <p:sp>
          <p:nvSpPr>
            <p:cNvPr id="458" name=""/>
            <p:cNvSpPr/>
            <p:nvPr/>
          </p:nvSpPr>
          <p:spPr>
            <a:xfrm>
              <a:off x="1253880" y="4649760"/>
              <a:ext cx="4134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book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has an optional (</a:t>
              </a: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#IMPLIED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price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attribute which contains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character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95280" y="4665600"/>
              <a:ext cx="304920" cy="15264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0"/>
                  </a:moveTo>
                  <a:lnTo>
                    <a:pt x="0" y="96"/>
                  </a:lnTo>
                  <a:lnTo>
                    <a:pt x="192" y="9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CFCC-1AC9-492F-BACE-A4AC3787C69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65898-8F69-40BA-AB95-CBDD2C2B28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TD explained (cont’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LettrGoth12 BT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330066"/>
                </a:solidFill>
                <a:latin typeface="LettrGoth12 BT"/>
                <a:ea typeface="Arial Unicode MS"/>
              </a:rPr>
              <a:t>  </a:t>
            </a:r>
            <a:r>
              <a:rPr b="0" lang="en-US" sz="1800" spc="-1" strike="noStrike">
                <a:solidFill>
                  <a:srgbClr val="330066"/>
                </a:solidFill>
                <a:latin typeface="LettrGoth12 BT"/>
                <a:ea typeface="Arial Unicode MS"/>
              </a:rPr>
              <a:t>&lt;!ELEMENT title (#PCDATA)&gt;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  <a:ea typeface="Arial Unicode MS"/>
              </a:rPr>
              <a:t>  &lt;!ELEMENT author (#PCDATA)&gt;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  <a:ea typeface="Arial Unicode MS"/>
              </a:rPr>
              <a:t>  &lt;!ELEMENT publisher (#PCDATA)&gt;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  <a:ea typeface="Arial Unicode MS"/>
              </a:rPr>
              <a:t>  &lt;!ELEMENT year (#PCDATA)&gt;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  <a:ea typeface="Arial Unicode MS"/>
              </a:rPr>
              <a:t>  &lt;!ELEMENT section (title, (#PCDATA)?, section*)&gt;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  <a:ea typeface="Arial Unicode MS"/>
              </a:rPr>
              <a:t>]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189080" y="2362320"/>
            <a:ext cx="5103720" cy="703800"/>
            <a:chOff x="1189080" y="2362320"/>
            <a:chExt cx="5103720" cy="703800"/>
          </a:xfrm>
        </p:grpSpPr>
        <p:sp>
          <p:nvSpPr>
            <p:cNvPr id="463" name=""/>
            <p:cNvSpPr/>
            <p:nvPr/>
          </p:nvSpPr>
          <p:spPr>
            <a:xfrm>
              <a:off x="1189080" y="2362320"/>
              <a:ext cx="510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title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author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publisher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, and </a:t>
              </a: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year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all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contain parsed character data (</a:t>
              </a: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#PCDAT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71520" y="2378160"/>
              <a:ext cx="3049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0"/>
                  </a:moveTo>
                  <a:lnTo>
                    <a:pt x="0" y="96"/>
                  </a:lnTo>
                  <a:lnTo>
                    <a:pt x="192" y="9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4622400" y="1219320"/>
            <a:ext cx="4991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PCDATA</a:t>
            </a: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 is text that will be pars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 will be treated as a markup ta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&amp;lt;</a:t>
            </a: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 etc. will be treated as entities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CDATA</a:t>
            </a: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 is unparsed charact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1113120" y="3429000"/>
            <a:ext cx="4996440" cy="1008720"/>
            <a:chOff x="1113120" y="3429000"/>
            <a:chExt cx="4996440" cy="1008720"/>
          </a:xfrm>
        </p:grpSpPr>
        <p:sp>
          <p:nvSpPr>
            <p:cNvPr id="467" name=""/>
            <p:cNvSpPr/>
            <p:nvPr/>
          </p:nvSpPr>
          <p:spPr>
            <a:xfrm>
              <a:off x="1113120" y="3429000"/>
              <a:ext cx="4996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Each </a:t>
              </a: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sec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starts with a </a:t>
              </a: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title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,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followed by some optional text and then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zero or more subsec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265400" y="3444840"/>
              <a:ext cx="30456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0"/>
                  </a:moveTo>
                  <a:lnTo>
                    <a:pt x="0" y="96"/>
                  </a:lnTo>
                  <a:lnTo>
                    <a:pt x="192" y="9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4824000" y="4226040"/>
            <a:ext cx="456984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section&gt;&lt;title&gt;Introduction&lt;/titl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In this section we introduce XML and DTD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section&gt;&lt;title&gt;XML&lt;/titl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XML stands for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/section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section&gt;&lt;title&gt;DTD&lt;/titl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section&gt;&lt;title&gt;Definition&lt;/titl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  DTD stands for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/section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section&gt;&lt;title&gt;Usage&lt;/titl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  You can use DTD to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/section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/section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/sec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5D88-CF31-46CB-890F-A375C1FC826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F495D-7AEF-4583-A711-5CB79E298B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istic” content decla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ch: the following declaration does not wor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&lt;!ELEMENT pub-venue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 ( (name, address, month, year) |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   (name, volume, number, year) )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ecause when looking at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the XML processor would not know which way to go without looking further ahe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ment: content declaration must be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“deterministic” (i.e., no look-ahead requir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BCBF-1247-4742-B59E-3B961269689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5E0C0-5E70-452F-A0A9-FBCC52C1CB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ML versus relational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29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al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 is always fixed in advance and difficult to chan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, flat table structur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ing of rows and columns is unimporta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exchange is proble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” support in all serious commercial DB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09800" y="1066320"/>
            <a:ext cx="422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formed XML does not require predefined, fixed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tructure;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IDR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permit arbitrary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ing forced by document format; may or may not be impor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ed for easy 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ten implemented as an “add-on” on top of 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8D37-A642-441C-94F0-EB15446A6D54}" type="slidenum">
              <a:t>3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ACB2F-979C-4B21-88CC-A30CC727B9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ry languages for X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th expressions with condi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uilding block of other standards (XQuery, XSLT, XLink, XPointer, etc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XPath + full-fledged SQL-like query langu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XPath + transformation templ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76F3-12E4-4A10-992B-44ECD8DB05B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81320-DAD1-4E4E-93CB-D3F68231D8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-Sensitive Meas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191120" y="1143000"/>
                <a:ext cx="4800600" cy="27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ecision 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call 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-measure 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p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1" name=""/>
          <p:cNvGraphicFramePr/>
          <p:nvPr/>
        </p:nvGraphicFramePr>
        <p:xfrm>
          <a:off x="76320" y="1295280"/>
          <a:ext cx="4038480" cy="231588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411120">
                <a:tc>
                  <a:txBody>
                    <a:bodyPr lIns="85680" rIns="8568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85680" rIns="85680"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DICTED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5040">
                <a:tc rowSpan="3">
                  <a:txBody>
                    <a:bodyPr lIns="85680" rIns="85680"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UAL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=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=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=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=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423E-C780-4E29-9CF4-2866D666E85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16307-DA6B-4226-ADF0-799374FA165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142C-5C85-4B7B-A6D0-AE5ECFE801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336CB-F9DF-465B-B7BA-2E8E24294EA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luster Analysi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groups of objects such that the objects in a group will be similar (or related) to one another and different from (or unrelated to) the objects in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073320" y="3346560"/>
            <a:ext cx="2858760" cy="2511000"/>
            <a:chOff x="3073320" y="3346560"/>
            <a:chExt cx="2858760" cy="2511000"/>
          </a:xfrm>
        </p:grpSpPr>
        <p:sp>
          <p:nvSpPr>
            <p:cNvPr id="107" name=""/>
            <p:cNvSpPr/>
            <p:nvPr/>
          </p:nvSpPr>
          <p:spPr>
            <a:xfrm>
              <a:off x="3930840" y="3346560"/>
              <a:ext cx="0" cy="171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30840" y="5061240"/>
              <a:ext cx="200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71240" y="5061240"/>
              <a:ext cx="759240" cy="796320"/>
            </a:xfrm>
            <a:custGeom>
              <a:avLst/>
              <a:gdLst/>
              <a:ahLst/>
              <a:rect l="l" t="t" r="r" b="b"/>
              <a:pathLst>
                <a:path w="510" h="535">
                  <a:moveTo>
                    <a:pt x="510" y="0"/>
                  </a:moveTo>
                  <a:lnTo>
                    <a:pt x="0" y="53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7080" y="3846600"/>
              <a:ext cx="142920" cy="142560"/>
            </a:xfrm>
            <a:prstGeom prst="octagon">
              <a:avLst>
                <a:gd name="adj" fmla="val 2928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31280" y="3846600"/>
              <a:ext cx="142920" cy="142560"/>
            </a:xfrm>
            <a:prstGeom prst="octagon">
              <a:avLst>
                <a:gd name="adj" fmla="val 2928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60000" y="3632400"/>
              <a:ext cx="142560" cy="142560"/>
            </a:xfrm>
            <a:prstGeom prst="octagon">
              <a:avLst>
                <a:gd name="adj" fmla="val 2928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60000" y="4060800"/>
              <a:ext cx="142560" cy="142560"/>
            </a:xfrm>
            <a:prstGeom prst="octagon">
              <a:avLst>
                <a:gd name="adj" fmla="val 2928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17480" y="3846600"/>
              <a:ext cx="142560" cy="142560"/>
            </a:xfrm>
            <a:prstGeom prst="octagon">
              <a:avLst>
                <a:gd name="adj" fmla="val 2928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74560" y="3703680"/>
              <a:ext cx="142560" cy="142560"/>
            </a:xfrm>
            <a:prstGeom prst="octagon">
              <a:avLst>
                <a:gd name="adj" fmla="val 2928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4160" y="3632400"/>
              <a:ext cx="142560" cy="142560"/>
            </a:xfrm>
            <a:prstGeom prst="octagon">
              <a:avLst>
                <a:gd name="adj" fmla="val 2928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74560" y="3989520"/>
              <a:ext cx="142560" cy="142920"/>
            </a:xfrm>
            <a:prstGeom prst="octagon">
              <a:avLst>
                <a:gd name="adj" fmla="val 2928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4160" y="3989520"/>
              <a:ext cx="142560" cy="142920"/>
            </a:xfrm>
            <a:prstGeom prst="octagon">
              <a:avLst>
                <a:gd name="adj" fmla="val 2928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73320" y="4418280"/>
              <a:ext cx="142560" cy="14292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87520" y="4489560"/>
              <a:ext cx="142560" cy="14256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87520" y="4704120"/>
              <a:ext cx="142560" cy="14256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02080" y="4489560"/>
              <a:ext cx="142560" cy="14256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59160" y="4275360"/>
              <a:ext cx="142560" cy="14256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02080" y="4704120"/>
              <a:ext cx="142560" cy="14256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73320" y="4632480"/>
              <a:ext cx="142560" cy="14292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74560" y="4846680"/>
              <a:ext cx="142560" cy="142920"/>
            </a:xfrm>
            <a:prstGeom prst="octagon">
              <a:avLst>
                <a:gd name="adj" fmla="val 29287"/>
              </a:avLst>
            </a:prstGeom>
            <a:solidFill>
              <a:srgbClr val="0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03320" y="4918320"/>
              <a:ext cx="142560" cy="142560"/>
            </a:xfrm>
            <a:prstGeom prst="octagon">
              <a:avLst>
                <a:gd name="adj" fmla="val 29287"/>
              </a:avLst>
            </a:prstGeom>
            <a:solidFill>
              <a:srgbClr val="0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89120" y="5061240"/>
              <a:ext cx="142560" cy="142920"/>
            </a:xfrm>
            <a:prstGeom prst="octagon">
              <a:avLst>
                <a:gd name="adj" fmla="val 29287"/>
              </a:avLst>
            </a:prstGeom>
            <a:solidFill>
              <a:srgbClr val="0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74560" y="5204160"/>
              <a:ext cx="142560" cy="142560"/>
            </a:xfrm>
            <a:prstGeom prst="octagon">
              <a:avLst>
                <a:gd name="adj" fmla="val 29287"/>
              </a:avLst>
            </a:prstGeom>
            <a:solidFill>
              <a:srgbClr val="0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60400" y="5204160"/>
              <a:ext cx="142920" cy="142560"/>
            </a:xfrm>
            <a:prstGeom prst="octagon">
              <a:avLst>
                <a:gd name="adj" fmla="val 29287"/>
              </a:avLst>
            </a:prstGeom>
            <a:solidFill>
              <a:srgbClr val="0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5074560" y="4989960"/>
              <a:ext cx="142560" cy="142560"/>
            </a:xfrm>
            <a:prstGeom prst="octagon">
              <a:avLst>
                <a:gd name="adj" fmla="val 29287"/>
              </a:avLst>
            </a:prstGeom>
            <a:solidFill>
              <a:srgbClr val="0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60400" y="4775400"/>
              <a:ext cx="142920" cy="142560"/>
            </a:xfrm>
            <a:prstGeom prst="octagon">
              <a:avLst>
                <a:gd name="adj" fmla="val 29287"/>
              </a:avLst>
            </a:prstGeom>
            <a:solidFill>
              <a:srgbClr val="0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932000" y="2500200"/>
            <a:ext cx="2859120" cy="2357280"/>
            <a:chOff x="4932000" y="2500200"/>
            <a:chExt cx="2859120" cy="2357280"/>
          </a:xfrm>
        </p:grpSpPr>
        <p:sp>
          <p:nvSpPr>
            <p:cNvPr id="134" name=""/>
            <p:cNvSpPr/>
            <p:nvPr/>
          </p:nvSpPr>
          <p:spPr>
            <a:xfrm flipH="1" flipV="1">
              <a:off x="4932000" y="4214520"/>
              <a:ext cx="214200" cy="642960"/>
            </a:xfrm>
            <a:prstGeom prst="line">
              <a:avLst/>
            </a:prstGeom>
            <a:ln w="25560">
              <a:solidFill>
                <a:srgbClr val="cc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32800" y="2500200"/>
              <a:ext cx="1858320" cy="1000080"/>
            </a:xfrm>
            <a:prstGeom prst="wedgeRectCallout">
              <a:avLst>
                <a:gd name="adj1" fmla="val -93509"/>
                <a:gd name="adj2" fmla="val 150893"/>
              </a:avLst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t">
              <a:no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Inter-cluster distances are maximize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716200" y="3429000"/>
            <a:ext cx="3072960" cy="2142720"/>
            <a:chOff x="2716200" y="3429000"/>
            <a:chExt cx="3072960" cy="2142720"/>
          </a:xfrm>
        </p:grpSpPr>
        <p:sp>
          <p:nvSpPr>
            <p:cNvPr id="137" name=""/>
            <p:cNvSpPr/>
            <p:nvPr/>
          </p:nvSpPr>
          <p:spPr>
            <a:xfrm>
              <a:off x="2716200" y="4000320"/>
              <a:ext cx="1215000" cy="1071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59960" y="3429000"/>
              <a:ext cx="1071720" cy="928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88720" y="4643280"/>
              <a:ext cx="1000440" cy="928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214280" y="2786040"/>
            <a:ext cx="2144520" cy="1571400"/>
            <a:chOff x="1214280" y="2786040"/>
            <a:chExt cx="2144520" cy="1571400"/>
          </a:xfrm>
        </p:grpSpPr>
        <p:sp>
          <p:nvSpPr>
            <p:cNvPr id="141" name=""/>
            <p:cNvSpPr/>
            <p:nvPr/>
          </p:nvSpPr>
          <p:spPr>
            <a:xfrm flipV="1">
              <a:off x="3073320" y="4214880"/>
              <a:ext cx="285480" cy="142560"/>
            </a:xfrm>
            <a:prstGeom prst="line">
              <a:avLst/>
            </a:prstGeom>
            <a:ln w="25560">
              <a:solidFill>
                <a:srgbClr val="cc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14280" y="2786040"/>
              <a:ext cx="1859040" cy="1000080"/>
            </a:xfrm>
            <a:prstGeom prst="wedgeRectCallout">
              <a:avLst>
                <a:gd name="adj1" fmla="val 56250"/>
                <a:gd name="adj2" fmla="val 92856"/>
              </a:avLst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t">
              <a:no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Intra-cluster distances are minimize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74D4-4F83-4E54-8F78-4F3D5C8A57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9065F-2228-4AE0-9DE4-DE5D1FAA5D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s of Cluster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related documents for browsing, group genes and proteins that have similar functionality, or group stocks with similar price fluc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the size of large data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2176-8968-4137-9510-9D9814E3D4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4DAA0-88F7-4A6F-9524-5642FE9982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29756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disciplinary Efforts of Cluste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10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tern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tial Data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thematic maps in GIS by clustering feature sp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ct spatial clusters or for other spatial mining tas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 Science (especially market resear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cument classif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uster Weblog data to discover groups of similar access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inf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hylogenetic tr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croarray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686D-9548-440B-9210-4E818822AEE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C16C6-300A-41F3-B432-F08670B6395C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441360"/>
            <a:ext cx="828036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not Cluster Analysi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6200" y="1066680"/>
            <a:ext cx="80442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vised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class label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seg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viding students into different registration groups alphabetically, by last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of a 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oupings are a result of an external specif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partiti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me mutual relevance and synergy, but areas are not identic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2EDA-658C-4DE6-81C0-F59B2A0F655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0C647-7733-47F7-ABA5-EBC741EC3E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5-02T15:32:49Z</dcterms:modified>
  <cp:revision>1146</cp:revision>
  <dc:subject/>
  <dc:title>CS186: Introduction to Database Systems</dc:title>
</cp:coreProperties>
</file>