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EE04A5-743C-4DB0-8C15-C344BCA012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CB64CF2-728C-432A-BDAB-8589C51CFF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C38371B-6BDE-439C-9B8D-0F9D683ABA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F68B64-104A-40F6-95ED-56D6EE6964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C68405-6EA7-4319-8731-4D564B5CD8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8660E7-9110-49C9-80D6-1E436CC932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EA5D1F-FFAD-492B-B48A-44E0A85572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CFEE59F-9436-47BD-AA30-F63083A45A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E8A60A-BC26-4910-9BBF-EAA73B16DC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1363D0D-D233-48A3-A7FE-64DAB0BD94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D3EC57-BB8C-4F32-A55C-1DD19A5E17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74E12C1-8705-4EA2-A142-A0D5BE4DE4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2844B5-F45C-4D48-BCA7-B9FA873164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246372-FB92-4DA8-9999-1D2A6B9FF3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B40745-AB8B-41A2-A4AE-1C363BC7F5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8D4D78-A512-4EED-84D2-F4828B04A9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103E050-9AC9-46AD-A796-86A1D13711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E07F4EC-CA6D-4918-BD40-F3D5EF8588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4AB0F29-242D-447D-AF50-0DE799623B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79C3FA3-B674-43F2-97E6-B9286BD565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7C9A353-066E-4005-938F-50A8B3DD62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8F66BC8-0E3F-4A4C-B8E4-14FB2B496D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0E70394-B7F3-485C-8305-5690AB7F69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0A084E1-7D6A-4942-A959-B38C07976F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6D3E385-3C14-4E4C-9145-96D9FF2D59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8068C39-7828-4F7A-B2CC-D589CD4DB0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66B876A-B95E-43AC-A3E7-DEBC1731AE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B596412-4FC6-4E19-9CB7-6836089870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anom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anonmaity: Bar not taking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 anomaly: Bart drops all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52EB-ED83-4A67-846A-D817A228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1020-35A4-4624-9BC5-9FE07B2C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A012-816E-426B-B699-59678694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2451-BEB7-407F-BD16-B4F49D36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89AD-72D0-44B2-91BD-EBCCB5FC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E880-94FA-43EE-BB35-1FAFC3BC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6449-C478-46D1-9EA0-931CB5FF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05F6-3C96-4355-9EE9-1C896008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3038-6932-4A3A-9F57-5CE6B9D2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AA95-87E7-4977-9E5E-871CC54D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E19A-47EA-4473-A4E5-CD41FF2E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EE30-38CA-4032-8CE5-03C777C4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6290-DE4E-4A0F-B74E-B4E0573B171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B40C-8C0F-44FB-AA72-25356A22FA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bliu@ac.co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bliu@ac.com" TargetMode="External"/><Relationship Id="rId2" Type="http://schemas.openxmlformats.org/officeDocument/2006/relationships/hyperlink" Target="mailto:bliu@ac.co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bliu@ac.com" TargetMode="External"/><Relationship Id="rId2" Type="http://schemas.openxmlformats.org/officeDocument/2006/relationships/hyperlink" Target="mailto:bliu@ac.co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depend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CAB7-0A4E-4EE3-AE85-A751750ADE2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F63F8-60F8-4118-8000-7BBF064833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tional dependenc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functional depend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F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has the form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sets of attributes in 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ans that whenever two tupl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gree on all the attribut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y must also agree on all attribut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 =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Y] =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Y]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057400" y="4191120"/>
          <a:ext cx="3733560" cy="1185840"/>
        </p:xfrm>
        <a:graphic>
          <a:graphicData uri="http://schemas.openxmlformats.org/drawingml/2006/table">
            <a:tbl>
              <a:tblPr/>
              <a:tblGrid>
                <a:gridCol w="1057320"/>
                <a:gridCol w="1457280"/>
                <a:gridCol w="1218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057400" y="4191120"/>
          <a:ext cx="3733920" cy="1185840"/>
        </p:xfrm>
        <a:graphic>
          <a:graphicData uri="http://schemas.openxmlformats.org/drawingml/2006/table">
            <a:tbl>
              <a:tblPr/>
              <a:tblGrid>
                <a:gridCol w="1057320"/>
                <a:gridCol w="1457280"/>
                <a:gridCol w="1219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609480" y="5410080"/>
            <a:ext cx="2667240" cy="612000"/>
            <a:chOff x="609480" y="5410080"/>
            <a:chExt cx="2667240" cy="612000"/>
          </a:xfrm>
        </p:grpSpPr>
        <p:sp>
          <p:nvSpPr>
            <p:cNvPr id="161" name=""/>
            <p:cNvSpPr/>
            <p:nvPr/>
          </p:nvSpPr>
          <p:spPr>
            <a:xfrm>
              <a:off x="2286000" y="5410080"/>
              <a:ext cx="990720" cy="380880"/>
            </a:xfrm>
            <a:custGeom>
              <a:avLst/>
              <a:gdLst/>
              <a:ahLst/>
              <a:rect l="l" t="t" r="r" b="b"/>
              <a:pathLst>
                <a:path w="576" h="168">
                  <a:moveTo>
                    <a:pt x="0" y="144"/>
                  </a:moveTo>
                  <a:cubicBezTo>
                    <a:pt x="96" y="156"/>
                    <a:pt x="192" y="168"/>
                    <a:pt x="288" y="144"/>
                  </a:cubicBezTo>
                  <a:cubicBezTo>
                    <a:pt x="384" y="120"/>
                    <a:pt x="480" y="60"/>
                    <a:pt x="576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9480" y="556236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Must be “b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275440" y="5410080"/>
            <a:ext cx="3566160" cy="901800"/>
            <a:chOff x="5275440" y="5410080"/>
            <a:chExt cx="3566160" cy="901800"/>
          </a:xfrm>
        </p:grpSpPr>
        <p:sp>
          <p:nvSpPr>
            <p:cNvPr id="164" name=""/>
            <p:cNvSpPr/>
            <p:nvPr/>
          </p:nvSpPr>
          <p:spPr>
            <a:xfrm>
              <a:off x="5958720" y="5410080"/>
              <a:ext cx="28828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Could be anything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e.g. 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275440" y="5410080"/>
              <a:ext cx="914400" cy="304920"/>
            </a:xfrm>
            <a:custGeom>
              <a:avLst/>
              <a:gdLst/>
              <a:ahLst/>
              <a:rect l="l" t="t" r="r" b="b"/>
              <a:pathLst>
                <a:path w="576" h="168">
                  <a:moveTo>
                    <a:pt x="0" y="144"/>
                  </a:moveTo>
                  <a:cubicBezTo>
                    <a:pt x="96" y="156"/>
                    <a:pt x="192" y="168"/>
                    <a:pt x="288" y="144"/>
                  </a:cubicBezTo>
                  <a:cubicBezTo>
                    <a:pt x="384" y="120"/>
                    <a:pt x="480" y="60"/>
                    <a:pt x="576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6" name=""/>
          <p:cNvGraphicFramePr/>
          <p:nvPr/>
        </p:nvGraphicFramePr>
        <p:xfrm>
          <a:off x="2057400" y="4191120"/>
          <a:ext cx="3733920" cy="1185840"/>
        </p:xfrm>
        <a:graphic>
          <a:graphicData uri="http://schemas.openxmlformats.org/drawingml/2006/table">
            <a:tbl>
              <a:tblPr/>
              <a:tblGrid>
                <a:gridCol w="1057320"/>
                <a:gridCol w="1457280"/>
                <a:gridCol w="1219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E76E-CC4A-4D65-BBDF-33A64D4F5B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0E1AB-CF2A-467C-A5DE-2594CB896D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D 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s a trivial F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Trivial F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LHS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¶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H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s non-trivial, but not completely non-trivi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Completely non-trivial F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LHS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HS = </a:t>
            </a:r>
            <a:r>
              <a:rPr b="0" lang="en-US" sz="2600" spc="-1" strike="noStrike">
                <a:solidFill>
                  <a:srgbClr val="000000"/>
                </a:solidFill>
                <a:latin typeface="msbm10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1523880"/>
            <a:ext cx="350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C9D6-6201-426C-A21E-E6BB54807F2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FFC84-1BDE-4D46-AC3E-4833ED0717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s redefined using FD’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set of all attribut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 set of attribu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(candidate)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tr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) - K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 is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“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super ke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roper sub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tisfies the above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 is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minimal (full functional dependen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street_address, city, state, zip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street_address, city, zip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street_address, zip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zip}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419112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4191120"/>
            <a:ext cx="3429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lvl="1" marL="622800" indent="-312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er ke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er ke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n-key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7177-447D-42AB-8904-5F5114B3852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42D0A-F9A2-4F54-991A-B2FF35A088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soning with FD’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FD’s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Does another FD follow from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F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some of the FD’s in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edundant (i.e., they follow from the others)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a key of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are all the keys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E24B-4494-463D-8E61-9C01CB4E15C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3C1D5-55A8-4460-9239-F53A628774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ribute clos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 set of FD’s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hol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 set of attribu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closure of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denoted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Z</a:t>
            </a:r>
            <a:r>
              <a:rPr b="0" lang="en-US" sz="2800" spc="-1" strike="noStrike" baseline="30000">
                <a:solidFill>
                  <a:srgbClr val="330066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ith respect to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all attributes {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, …} functionally determined by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that is, Z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for computing the cl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art with closure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lready in the closure, then also ad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the closu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eat until no more attributes can be add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4C1D-96BB-4FFB-8013-FA29CCD4C24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DAFCF-CA28-4FDA-B962-FDC0B8360F5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more complex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ork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a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I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Pname, Hou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a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ID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ot a good design, and we will see why la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9F2F-9B56-4235-8242-DFA25D37E44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6C22C-93E5-4773-8A0A-4CD238207E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of computing clos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clu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mai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ID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!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ou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{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mail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}</a:t>
            </a:r>
            <a:r>
              <a:rPr b="0" lang="en-US" sz="2400" spc="-1" strike="noStrike" baseline="30000">
                <a:solidFill>
                  <a:srgbClr val="330066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closure = {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mail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a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 closure is now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{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PID, email, EID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ame, e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name, emai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 closure is now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{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PID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email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EID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Ename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I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Pname;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ose is now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{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PID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Pname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email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EID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Ename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ou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 closure is now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all the attributes in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Works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CC92-BB21-42B1-A12C-E28DBAB7A5A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C1FC3-FDE5-4C76-987F-C8E57D000A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attribute clos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set of FD’s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Does another FD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follow from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F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respect to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26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llow from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a super key of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respect to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ntains all the attributes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super 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Is a super key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a key of 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wher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K’ = K 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 | 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is a superkey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all possibl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215D-E0B6-4B98-8AC1-A65DE8D8289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8B66E-C150-4A38-92FD-B22477F441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les of FD’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Armstrong’s axi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Reflexiv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26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Augment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an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Transitiv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derived from axi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Splitt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Combin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7377-82A0-4F9E-9BAA-2213E87103D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12097-8794-4AAD-B9AF-37E3E6AFD9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143000" y="990720"/>
            <a:ext cx="7010280" cy="5395680"/>
            <a:chOff x="1143000" y="990720"/>
            <a:chExt cx="7010280" cy="539568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1143000" y="990720"/>
              <a:ext cx="6491160" cy="53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324480" y="990720"/>
              <a:ext cx="1828800" cy="167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3505320"/>
            <a:ext cx="2787480" cy="1676160"/>
          </a:xfrm>
          <a:custGeom>
            <a:avLst/>
            <a:gdLst/>
            <a:ahLst/>
            <a:rect l="l" t="t" r="r" b="b"/>
            <a:pathLst>
              <a:path w="1882" h="1734">
                <a:moveTo>
                  <a:pt x="1633" y="1629"/>
                </a:moveTo>
                <a:cubicBezTo>
                  <a:pt x="1213" y="1625"/>
                  <a:pt x="562" y="1734"/>
                  <a:pt x="148" y="1458"/>
                </a:cubicBezTo>
                <a:cubicBezTo>
                  <a:pt x="124" y="1386"/>
                  <a:pt x="82" y="1318"/>
                  <a:pt x="67" y="1242"/>
                </a:cubicBezTo>
                <a:cubicBezTo>
                  <a:pt x="45" y="1134"/>
                  <a:pt x="39" y="1023"/>
                  <a:pt x="4" y="918"/>
                </a:cubicBezTo>
                <a:cubicBezTo>
                  <a:pt x="15" y="644"/>
                  <a:pt x="0" y="769"/>
                  <a:pt x="58" y="594"/>
                </a:cubicBezTo>
                <a:cubicBezTo>
                  <a:pt x="70" y="558"/>
                  <a:pt x="130" y="504"/>
                  <a:pt x="130" y="504"/>
                </a:cubicBezTo>
                <a:cubicBezTo>
                  <a:pt x="149" y="429"/>
                  <a:pt x="122" y="500"/>
                  <a:pt x="166" y="450"/>
                </a:cubicBezTo>
                <a:cubicBezTo>
                  <a:pt x="189" y="424"/>
                  <a:pt x="206" y="395"/>
                  <a:pt x="229" y="369"/>
                </a:cubicBezTo>
                <a:cubicBezTo>
                  <a:pt x="342" y="240"/>
                  <a:pt x="443" y="166"/>
                  <a:pt x="598" y="99"/>
                </a:cubicBezTo>
                <a:cubicBezTo>
                  <a:pt x="633" y="84"/>
                  <a:pt x="661" y="58"/>
                  <a:pt x="697" y="45"/>
                </a:cubicBezTo>
                <a:cubicBezTo>
                  <a:pt x="769" y="18"/>
                  <a:pt x="864" y="8"/>
                  <a:pt x="940" y="0"/>
                </a:cubicBezTo>
                <a:cubicBezTo>
                  <a:pt x="1029" y="5"/>
                  <a:pt x="1094" y="3"/>
                  <a:pt x="1174" y="27"/>
                </a:cubicBezTo>
                <a:cubicBezTo>
                  <a:pt x="1238" y="46"/>
                  <a:pt x="1290" y="87"/>
                  <a:pt x="1354" y="108"/>
                </a:cubicBezTo>
                <a:cubicBezTo>
                  <a:pt x="1400" y="154"/>
                  <a:pt x="1459" y="181"/>
                  <a:pt x="1507" y="225"/>
                </a:cubicBezTo>
                <a:cubicBezTo>
                  <a:pt x="1563" y="276"/>
                  <a:pt x="1607" y="334"/>
                  <a:pt x="1660" y="387"/>
                </a:cubicBezTo>
                <a:cubicBezTo>
                  <a:pt x="1684" y="458"/>
                  <a:pt x="1648" y="364"/>
                  <a:pt x="1696" y="441"/>
                </a:cubicBezTo>
                <a:cubicBezTo>
                  <a:pt x="1705" y="455"/>
                  <a:pt x="1707" y="471"/>
                  <a:pt x="1714" y="486"/>
                </a:cubicBezTo>
                <a:cubicBezTo>
                  <a:pt x="1742" y="545"/>
                  <a:pt x="1771" y="601"/>
                  <a:pt x="1804" y="657"/>
                </a:cubicBezTo>
                <a:cubicBezTo>
                  <a:pt x="1812" y="699"/>
                  <a:pt x="1817" y="742"/>
                  <a:pt x="1831" y="783"/>
                </a:cubicBezTo>
                <a:cubicBezTo>
                  <a:pt x="1851" y="961"/>
                  <a:pt x="1841" y="841"/>
                  <a:pt x="1831" y="1161"/>
                </a:cubicBezTo>
                <a:cubicBezTo>
                  <a:pt x="1825" y="1344"/>
                  <a:pt x="1882" y="1489"/>
                  <a:pt x="1687" y="1521"/>
                </a:cubicBezTo>
                <a:cubicBezTo>
                  <a:pt x="1684" y="1530"/>
                  <a:pt x="1682" y="1540"/>
                  <a:pt x="1678" y="1548"/>
                </a:cubicBezTo>
                <a:cubicBezTo>
                  <a:pt x="1673" y="1558"/>
                  <a:pt x="1664" y="1565"/>
                  <a:pt x="1660" y="1575"/>
                </a:cubicBezTo>
                <a:cubicBezTo>
                  <a:pt x="1635" y="1632"/>
                  <a:pt x="1662" y="1629"/>
                  <a:pt x="1633" y="1629"/>
                </a:cubicBezTo>
                <a:close/>
              </a:path>
            </a:pathLst>
          </a:custGeom>
          <a:noFill/>
          <a:ln w="12600">
            <a:solidFill>
              <a:srgbClr val="e81f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4114800"/>
            <a:ext cx="1295280" cy="380880"/>
          </a:xfrm>
          <a:prstGeom prst="leftArrow">
            <a:avLst>
              <a:gd name="adj1" fmla="val 50000"/>
              <a:gd name="adj2" fmla="val 85019"/>
            </a:avLst>
          </a:prstGeom>
          <a:solidFill>
            <a:srgbClr val="e81f11"/>
          </a:solidFill>
          <a:ln w="12600">
            <a:solidFill>
              <a:srgbClr val="e81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E4C7-19A0-4184-9B12-41C2916A615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62A3D-6976-4687-A674-8457EECD054E}" type="datetime1">
              <a:rPr lang="en-US"/>
              <a:t>07/28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rules of FD’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set of FD’s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Does another FD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follow from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F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the rules to come up with a pro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cludes:</a:t>
            </a: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Hours, Pi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na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hou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a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given i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ID, email </a:t>
            </a:r>
            <a:r>
              <a:rPr b="0" i="1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ID, E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ug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given i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a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transitiv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B02A-DEF7-49CD-9D61-339C398E733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CEF0C1-63A8-4FB0-B598-430636C924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of redundan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ork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a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a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partial depend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there exist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.g. E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full depend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.g. EID, PID </a:t>
            </a:r>
            <a:r>
              <a:rPr b="0" lang="en-US" sz="23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hou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33520" y="4025880"/>
          <a:ext cx="7877160" cy="184140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  <a:gridCol w="1523880"/>
                <a:gridCol w="1752840"/>
                <a:gridCol w="1523880"/>
                <a:gridCol w="8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smith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B 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 L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7e9ce8"/>
                          </a:solidFill>
                          <a:uFillTx/>
                          <a:latin typeface="Times New Roman"/>
                          <a:hlinkClick r:id="rId1"/>
                        </a:rPr>
                        <a:t>bliu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smith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Sidh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idhuk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B 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DC65-D7BA-4B55-909E-856681071FF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90479-5FCC-43A6-8BFA-5B2B5BDA06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rmal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  <a:ea typeface="Times New Roman"/>
              </a:rPr>
              <a:t> normaliz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process of decomposing unsatisfactory "bad" relations by breaking up their attributes into smaller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  <a:ea typeface="Times New Roman"/>
              </a:rPr>
              <a:t> normal for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ification that tells whether a relation schema is in a particular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527B-C55A-4015-966E-B1DBA4DFC2D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D4FDC-AF1E-41CA-AD3A-8A35FD5708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attribu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of 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nonprimary attrib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it is not part of any key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primary attribut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n (general)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rmal form if every nonprimary attribu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partially functionally dependent on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905120" y="3809880"/>
          <a:ext cx="4952880" cy="1581120"/>
        </p:xfrm>
        <a:graphic>
          <a:graphicData uri="http://schemas.openxmlformats.org/drawingml/2006/table">
            <a:tbl>
              <a:tblPr/>
              <a:tblGrid>
                <a:gridCol w="1057320"/>
                <a:gridCol w="1457280"/>
                <a:gridCol w="1218960"/>
                <a:gridCol w="1219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990720" y="5392800"/>
            <a:ext cx="2209680" cy="11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 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,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 !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5410080"/>
            <a:ext cx="3962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56973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4D59-3309-4D67-8170-A0A08D7CB57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5710B-9788-4154-8035-CB9828803D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about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rmal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y definition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very nonprimary attribute is functionally dependent on every key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other words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in its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ormal form if we could not find a partial dependency of a nonprimary key to a key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52EA-385F-4A7B-B0D5-10A2014E422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5CCD3-08EC-46B2-9C42-1FCE72CDBC7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5435640"/>
            <a:ext cx="861048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ition eliminates redund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back to the original re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24120" y="5973840"/>
            <a:ext cx="3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85800" y="1143000"/>
          <a:ext cx="7877160" cy="184140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  <a:gridCol w="1523880"/>
                <a:gridCol w="1752840"/>
                <a:gridCol w="1523880"/>
                <a:gridCol w="8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smith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B 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 L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7e9ce8"/>
                          </a:solidFill>
                          <a:uFillTx/>
                          <a:latin typeface="Times New Roman"/>
                          <a:hlinkClick r:id="rId1"/>
                        </a:rPr>
                        <a:t>bliu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smith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Sidh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idhuk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B 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5" name=""/>
          <p:cNvGrpSpPr/>
          <p:nvPr/>
        </p:nvGrpSpPr>
        <p:grpSpPr>
          <a:xfrm>
            <a:off x="2362320" y="2971800"/>
            <a:ext cx="5409720" cy="533520"/>
            <a:chOff x="2362320" y="2971800"/>
            <a:chExt cx="5409720" cy="533520"/>
          </a:xfrm>
        </p:grpSpPr>
        <p:sp>
          <p:nvSpPr>
            <p:cNvPr id="206" name=""/>
            <p:cNvSpPr/>
            <p:nvPr/>
          </p:nvSpPr>
          <p:spPr>
            <a:xfrm flipH="1">
              <a:off x="2362320" y="2971800"/>
              <a:ext cx="2666880" cy="5335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52880" y="2971800"/>
              <a:ext cx="2819160" cy="5335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0" y="29718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76520" y="3200400"/>
            <a:ext cx="1143000" cy="152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85680" y="3581280"/>
          <a:ext cx="4334040" cy="1508400"/>
        </p:xfrm>
        <a:graphic>
          <a:graphicData uri="http://schemas.openxmlformats.org/drawingml/2006/table">
            <a:tbl>
              <a:tblPr/>
              <a:tblGrid>
                <a:gridCol w="1057320"/>
                <a:gridCol w="1524240"/>
                <a:gridCol w="1752480"/>
              </a:tblGrid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smith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 L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7e9ce8"/>
                          </a:solidFill>
                          <a:uFillTx/>
                          <a:latin typeface="Times New Roman"/>
                          <a:hlinkClick r:id="rId2"/>
                        </a:rPr>
                        <a:t>bliu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Sidh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idhuk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4495680" y="3568680"/>
          <a:ext cx="4600440" cy="184140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  <a:gridCol w="1524240"/>
                <a:gridCol w="866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B 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B 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813960" y="2514600"/>
            <a:ext cx="396324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" y="9112"/>
                </a:moveTo>
                <a:arcTo wR="10800" hR="10800" stAng="-10260570" swAng="9719033"/>
                <a:lnTo>
                  <a:pt x="10800" y="10800"/>
                </a:lnTo>
                <a:close/>
              </a:path>
              <a:path fill="none" w="21600" h="21600">
                <a:moveTo>
                  <a:pt x="133" y="9112"/>
                </a:moveTo>
                <a:arcTo wR="10800" hR="10800" stAng="-10260570" swAng="9719033"/>
              </a:path>
            </a:pathLst>
          </a:custGeom>
          <a:noFill/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3124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62120" y="1187280"/>
            <a:ext cx="5343480" cy="1762200"/>
            <a:chOff x="762120" y="1187280"/>
            <a:chExt cx="5343480" cy="1762200"/>
          </a:xfrm>
        </p:grpSpPr>
        <p:sp>
          <p:nvSpPr>
            <p:cNvPr id="215" name=""/>
            <p:cNvSpPr/>
            <p:nvPr/>
          </p:nvSpPr>
          <p:spPr>
            <a:xfrm>
              <a:off x="762120" y="1187280"/>
              <a:ext cx="838080" cy="1752840"/>
            </a:xfrm>
            <a:prstGeom prst="rect">
              <a:avLst/>
            </a:prstGeom>
            <a:solidFill>
              <a:srgbClr val="cccc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14560" y="1197000"/>
              <a:ext cx="1447920" cy="1752480"/>
            </a:xfrm>
            <a:prstGeom prst="rect">
              <a:avLst/>
            </a:prstGeom>
            <a:solidFill>
              <a:srgbClr val="cccc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05400" y="1197000"/>
              <a:ext cx="1600200" cy="1752480"/>
            </a:xfrm>
            <a:prstGeom prst="rect">
              <a:avLst/>
            </a:prstGeom>
            <a:solidFill>
              <a:srgbClr val="cccc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222C-D936-4B9F-9242-2F04599D6F9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F535E-1F07-4A68-8629-E176EA4A95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ition may be applied recurs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514600" y="3886200"/>
            <a:ext cx="5409720" cy="304920"/>
            <a:chOff x="2514600" y="3886200"/>
            <a:chExt cx="5409720" cy="304920"/>
          </a:xfrm>
        </p:grpSpPr>
        <p:sp>
          <p:nvSpPr>
            <p:cNvPr id="221" name=""/>
            <p:cNvSpPr/>
            <p:nvPr/>
          </p:nvSpPr>
          <p:spPr>
            <a:xfrm flipH="1">
              <a:off x="2514600" y="3886200"/>
              <a:ext cx="2666880" cy="3049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05160" y="3886200"/>
              <a:ext cx="2819160" cy="3049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3" name=""/>
          <p:cNvGraphicFramePr/>
          <p:nvPr/>
        </p:nvGraphicFramePr>
        <p:xfrm>
          <a:off x="2819520" y="2057400"/>
          <a:ext cx="4600440" cy="184140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  <a:gridCol w="1524240"/>
                <a:gridCol w="866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B 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B 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685800" y="4222800"/>
          <a:ext cx="2676600" cy="1111320"/>
        </p:xfrm>
        <a:graphic>
          <a:graphicData uri="http://schemas.openxmlformats.org/drawingml/2006/table">
            <a:tbl>
              <a:tblPr/>
              <a:tblGrid>
                <a:gridCol w="1152360"/>
                <a:gridCol w="1524240"/>
              </a:tblGrid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B 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5562720" y="4191120"/>
          <a:ext cx="3076560" cy="1841400"/>
        </p:xfrm>
        <a:graphic>
          <a:graphicData uri="http://schemas.openxmlformats.org/drawingml/2006/table">
            <a:tbl>
              <a:tblPr/>
              <a:tblGrid>
                <a:gridCol w="1057320"/>
                <a:gridCol w="1152720"/>
                <a:gridCol w="866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6" name=""/>
          <p:cNvGrpSpPr/>
          <p:nvPr/>
        </p:nvGrpSpPr>
        <p:grpSpPr>
          <a:xfrm>
            <a:off x="4038480" y="2111400"/>
            <a:ext cx="2438640" cy="1752480"/>
            <a:chOff x="4038480" y="2111400"/>
            <a:chExt cx="2438640" cy="1752480"/>
          </a:xfrm>
        </p:grpSpPr>
        <p:sp>
          <p:nvSpPr>
            <p:cNvPr id="227" name=""/>
            <p:cNvSpPr/>
            <p:nvPr/>
          </p:nvSpPr>
          <p:spPr>
            <a:xfrm>
              <a:off x="4038480" y="2111400"/>
              <a:ext cx="838440" cy="1752480"/>
            </a:xfrm>
            <a:prstGeom prst="rect">
              <a:avLst/>
            </a:prstGeom>
            <a:solidFill>
              <a:srgbClr val="cccc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29200" y="2111400"/>
              <a:ext cx="1447920" cy="1752480"/>
            </a:xfrm>
            <a:prstGeom prst="rect">
              <a:avLst/>
            </a:prstGeom>
            <a:solidFill>
              <a:srgbClr val="cccc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72D-F281-47E2-9A9B-7331022EF8F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6182F-3628-4F66-BD76-D4E27E3F47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necessary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828440" y="2590920"/>
            <a:ext cx="2514600" cy="380880"/>
          </a:xfrm>
          <a:prstGeom prst="line">
            <a:avLst/>
          </a:prstGeom>
          <a:ln w="255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2590920"/>
            <a:ext cx="2666880" cy="457200"/>
          </a:xfrm>
          <a:prstGeom prst="line">
            <a:avLst/>
          </a:prstGeom>
          <a:ln w="255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4597200"/>
            <a:ext cx="861048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e: join returns the original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necessary: no redundancy is removed, and now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tored twic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209680" y="1066680"/>
          <a:ext cx="4334040" cy="1508400"/>
        </p:xfrm>
        <a:graphic>
          <a:graphicData uri="http://schemas.openxmlformats.org/drawingml/2006/table">
            <a:tbl>
              <a:tblPr/>
              <a:tblGrid>
                <a:gridCol w="1057320"/>
                <a:gridCol w="1524240"/>
                <a:gridCol w="1752480"/>
              </a:tblGrid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smith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 L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7e9ce8"/>
                          </a:solidFill>
                          <a:uFillTx/>
                          <a:latin typeface="Times New Roman"/>
                          <a:hlinkClick r:id="rId1"/>
                        </a:rPr>
                        <a:t>bliu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Sidh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idhuk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762120" y="3019320"/>
          <a:ext cx="2581200" cy="1492200"/>
        </p:xfrm>
        <a:graphic>
          <a:graphicData uri="http://schemas.openxmlformats.org/drawingml/2006/table">
            <a:tbl>
              <a:tblPr/>
              <a:tblGrid>
                <a:gridCol w="1057320"/>
                <a:gridCol w="1523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 L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Sidh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5715000" y="3048120"/>
          <a:ext cx="2809800" cy="1508040"/>
        </p:xfrm>
        <a:graphic>
          <a:graphicData uri="http://schemas.openxmlformats.org/drawingml/2006/table">
            <a:tbl>
              <a:tblPr/>
              <a:tblGrid>
                <a:gridCol w="1057320"/>
                <a:gridCol w="1752480"/>
              </a:tblGrid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smith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7e9ce8"/>
                          </a:solidFill>
                          <a:uFillTx/>
                          <a:latin typeface="Times New Roman"/>
                          <a:hlinkClick r:id="rId2"/>
                        </a:rPr>
                        <a:t>bliu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idhuk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A233-4B56-4ECE-9E4D-BC7987A5B8A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C630D-372C-4A66-88B4-BBCF68FBB95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5204880"/>
            <a:ext cx="8610480" cy="16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ion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u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returns more rows than the original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48520" y="4125960"/>
            <a:ext cx="1295280" cy="0"/>
          </a:xfrm>
          <a:prstGeom prst="line">
            <a:avLst/>
          </a:prstGeom>
          <a:ln w="291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905120" y="2971800"/>
            <a:ext cx="2666880" cy="457200"/>
          </a:xfrm>
          <a:prstGeom prst="line">
            <a:avLst/>
          </a:prstGeom>
          <a:ln w="255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2971800"/>
            <a:ext cx="1752480" cy="457200"/>
          </a:xfrm>
          <a:prstGeom prst="line">
            <a:avLst/>
          </a:prstGeom>
          <a:ln w="255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895480" y="1130400"/>
          <a:ext cx="3076560" cy="1841400"/>
        </p:xfrm>
        <a:graphic>
          <a:graphicData uri="http://schemas.openxmlformats.org/drawingml/2006/table">
            <a:tbl>
              <a:tblPr/>
              <a:tblGrid>
                <a:gridCol w="1057320"/>
                <a:gridCol w="1152720"/>
                <a:gridCol w="866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914400" y="3429000"/>
          <a:ext cx="2209680" cy="184140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5334120" y="3429000"/>
          <a:ext cx="2209680" cy="184140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3983-5972-4540-8E27-FBA03DA8D01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D6415-0390-4ACC-9B33-430837B506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sless join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e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rela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tt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tt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tt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attr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attr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composition is 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lossless join decom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, given known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constrai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as FD’s, we can guarante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decomposition giv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why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loss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composition is one with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BB63-2DB2-4EAB-B63F-763DD6BE9DA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DE628-680B-4B57-879C-F7B956A23C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k-ent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:1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:N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ic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attribu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site attribu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valued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1066680"/>
            <a:ext cx="56386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, including the primary key from the 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ity as an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erged relation, Foreign key, Relationship 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lationship 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mary k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set of attribu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lation and foreign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A0DC-94C6-4BE3-8F05-F30EE117F3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3DB32-39FF-443A-AA7D-79D8B8B523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s? But I got more row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” refers not to the loss of tuples, but to the loss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, the ability to distinguish different original tup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5510160"/>
            <a:ext cx="1295280" cy="0"/>
          </a:xfrm>
          <a:prstGeom prst="line">
            <a:avLst/>
          </a:prstGeom>
          <a:ln w="291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980720" y="4267080"/>
            <a:ext cx="2590920" cy="304920"/>
          </a:xfrm>
          <a:prstGeom prst="line">
            <a:avLst/>
          </a:prstGeom>
          <a:ln w="255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0" y="4267080"/>
            <a:ext cx="1905120" cy="304920"/>
          </a:xfrm>
          <a:prstGeom prst="line">
            <a:avLst/>
          </a:prstGeom>
          <a:ln w="255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895480" y="2425680"/>
          <a:ext cx="3076560" cy="1841400"/>
        </p:xfrm>
        <a:graphic>
          <a:graphicData uri="http://schemas.openxmlformats.org/drawingml/2006/table">
            <a:tbl>
              <a:tblPr/>
              <a:tblGrid>
                <a:gridCol w="1057320"/>
                <a:gridCol w="1152720"/>
                <a:gridCol w="866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914400" y="4559400"/>
          <a:ext cx="2209680" cy="184140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5334120" y="4572000"/>
          <a:ext cx="2209680" cy="184140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4" name=""/>
          <p:cNvGrpSpPr/>
          <p:nvPr/>
        </p:nvGrpSpPr>
        <p:grpSpPr>
          <a:xfrm>
            <a:off x="2971800" y="5105520"/>
            <a:ext cx="3581280" cy="761760"/>
            <a:chOff x="2971800" y="5105520"/>
            <a:chExt cx="3581280" cy="761760"/>
          </a:xfrm>
        </p:grpSpPr>
        <p:sp>
          <p:nvSpPr>
            <p:cNvPr id="255" name=""/>
            <p:cNvSpPr/>
            <p:nvPr/>
          </p:nvSpPr>
          <p:spPr>
            <a:xfrm>
              <a:off x="3048120" y="5105520"/>
              <a:ext cx="3504960" cy="76176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971800" y="5181120"/>
              <a:ext cx="3581280" cy="68580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2971800" y="5105520"/>
            <a:ext cx="3581280" cy="761760"/>
            <a:chOff x="2971800" y="5105520"/>
            <a:chExt cx="3581280" cy="761760"/>
          </a:xfrm>
        </p:grpSpPr>
        <p:sp>
          <p:nvSpPr>
            <p:cNvPr id="258" name=""/>
            <p:cNvSpPr/>
            <p:nvPr/>
          </p:nvSpPr>
          <p:spPr>
            <a:xfrm>
              <a:off x="2971800" y="5105520"/>
              <a:ext cx="3581280" cy="7596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71800" y="5867280"/>
              <a:ext cx="350532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7695-0A80-4DCA-95A6-9126D009D67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0DE14-B3C1-4D05-92AB-158C5B39E0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s about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o decom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come up with a correct decomposition (i.e., lossless join decomposi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0DBD-39BC-405B-9BBC-BFE8FD41F61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DEE91-E066-4797-8723-DE3CE75338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key FD’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a non-trivial F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super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not a super key, there are some attributes (sa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at are not functionally determined b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-732960" y="5337000"/>
            <a:ext cx="106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That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 is always associated with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 is recorded by multiple row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redundancy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update anomaly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deletion anom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981080" y="3124080"/>
          <a:ext cx="3733920" cy="1185840"/>
        </p:xfrm>
        <a:graphic>
          <a:graphicData uri="http://schemas.openxmlformats.org/drawingml/2006/table">
            <a:tbl>
              <a:tblPr/>
              <a:tblGrid>
                <a:gridCol w="1057320"/>
                <a:gridCol w="1457280"/>
                <a:gridCol w="1219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4CD0-9156-4156-A1B6-51FFE8F3247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27378-1377-4F4B-9B7E-6FE8FE79D7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ling with Nonkey Dependency: BCN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yce-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d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mal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m 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For every non-trivial FD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is a super 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 is, all FDs follow from “key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ther attribute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o decom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 long as some relation is not in BCN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come up with a correct de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ways decompose on a BCNF violation (details nex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n it is guaranteed to be a lossless join decomposition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02E-1D8B-4802-AE03-931FDAD3A4F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D23B1-81E4-4420-8DE5-2903F21525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CNF decomposition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BCNF vi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 is, a non-trivial FD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super key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attributes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attributes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ntains all attributes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t are in neithe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i.e.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Z = attr(R) – X – 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until all relations are in B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B91A-7C34-4CF5-A3E8-C588ED09A9A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4E757-71DC-4AB2-AE3E-3C186EC279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CNF decompositio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53200" y="1523880"/>
            <a:ext cx="6459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WorkOn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ID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name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mail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PID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hours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590480" y="2013120"/>
            <a:ext cx="5752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CNF violation: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ID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name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-226440" y="2448000"/>
            <a:ext cx="8534160" cy="1447560"/>
            <a:chOff x="-226440" y="2448000"/>
            <a:chExt cx="8534160" cy="1447560"/>
          </a:xfrm>
        </p:grpSpPr>
        <p:sp>
          <p:nvSpPr>
            <p:cNvPr id="274" name=""/>
            <p:cNvSpPr/>
            <p:nvPr/>
          </p:nvSpPr>
          <p:spPr>
            <a:xfrm>
              <a:off x="-226440" y="3417840"/>
              <a:ext cx="45532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tudent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nam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87400" y="3414600"/>
              <a:ext cx="38203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Grad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P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hours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1981080" y="2448000"/>
              <a:ext cx="1981440" cy="99036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48320" y="2448000"/>
              <a:ext cx="1981080" cy="99036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343880" y="3830760"/>
            <a:ext cx="5783040" cy="582480"/>
            <a:chOff x="1343880" y="3830760"/>
            <a:chExt cx="5783040" cy="582480"/>
          </a:xfrm>
        </p:grpSpPr>
        <p:sp>
          <p:nvSpPr>
            <p:cNvPr id="279" name=""/>
            <p:cNvSpPr/>
            <p:nvPr/>
          </p:nvSpPr>
          <p:spPr>
            <a:xfrm>
              <a:off x="1343880" y="3892680"/>
              <a:ext cx="108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BCN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37920" y="3830760"/>
              <a:ext cx="108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BCN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2511-2730-4D43-A812-9CF2D803E6B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AA559-635C-49AA-A86B-9508EF32827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6000" y="1457280"/>
            <a:ext cx="6459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WorkOn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ID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name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mail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PID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hours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026080" y="1946160"/>
            <a:ext cx="4487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CNF violation: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mail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-108720" y="2381400"/>
            <a:ext cx="9161640" cy="1534680"/>
            <a:chOff x="-108720" y="2381400"/>
            <a:chExt cx="9161640" cy="1534680"/>
          </a:xfrm>
        </p:grpSpPr>
        <p:sp>
          <p:nvSpPr>
            <p:cNvPr id="285" name=""/>
            <p:cNvSpPr/>
            <p:nvPr/>
          </p:nvSpPr>
          <p:spPr>
            <a:xfrm>
              <a:off x="-108720" y="2905200"/>
              <a:ext cx="36388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tudent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58360" y="3438360"/>
              <a:ext cx="66945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tudentGrade’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nam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P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hours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828440" y="2381400"/>
              <a:ext cx="2109960" cy="5140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24560" y="2381400"/>
              <a:ext cx="1776240" cy="1047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054800" y="329868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C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07400" y="3965400"/>
            <a:ext cx="5031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CNF violation: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mail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722160" y="4419720"/>
            <a:ext cx="8197560" cy="1477800"/>
            <a:chOff x="722160" y="4419720"/>
            <a:chExt cx="8197560" cy="1477800"/>
          </a:xfrm>
        </p:grpSpPr>
        <p:sp>
          <p:nvSpPr>
            <p:cNvPr id="292" name=""/>
            <p:cNvSpPr/>
            <p:nvPr/>
          </p:nvSpPr>
          <p:spPr>
            <a:xfrm flipH="1">
              <a:off x="3300480" y="4419720"/>
              <a:ext cx="2109600" cy="5140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2160" y="5019840"/>
              <a:ext cx="47725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tudentNam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nam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48440" y="4419720"/>
              <a:ext cx="1090440" cy="99036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61360" y="5419800"/>
              <a:ext cx="4158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Grad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P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hours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685240" y="5432400"/>
            <a:ext cx="4975200" cy="963360"/>
            <a:chOff x="2685240" y="5432400"/>
            <a:chExt cx="4975200" cy="963360"/>
          </a:xfrm>
        </p:grpSpPr>
        <p:sp>
          <p:nvSpPr>
            <p:cNvPr id="297" name=""/>
            <p:cNvSpPr/>
            <p:nvPr/>
          </p:nvSpPr>
          <p:spPr>
            <a:xfrm>
              <a:off x="2685240" y="5432400"/>
              <a:ext cx="108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BCN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571440" y="5875200"/>
              <a:ext cx="108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BCN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C6AE-1CA1-4DFF-9D20-3FBC7F13106E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10B5B9-A8C6-4275-BD1C-668D5AC541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perty(Property_id#, County_name, Lot#, Area, Price, Tax_r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perty_id#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unty_name, Lot#, Area, Price, Tax_r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unty_name, Lot#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perty_id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#, Area, Price, Tax_r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unty_name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ax_r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rea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B713-DD44-4A6D-82D3-27682DEA5D4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057E9-54E8-4D2B-85A5-C7B9D22CA9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Property(Property_id#, County_name, Lot#, Area, Price, Tax_r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3000" y="19051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BCNF violation: County_nam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Tax_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91400" y="2438280"/>
            <a:ext cx="8888400" cy="1620720"/>
            <a:chOff x="491400" y="2438280"/>
            <a:chExt cx="8888400" cy="1620720"/>
          </a:xfrm>
        </p:grpSpPr>
        <p:sp>
          <p:nvSpPr>
            <p:cNvPr id="305" name=""/>
            <p:cNvSpPr/>
            <p:nvPr/>
          </p:nvSpPr>
          <p:spPr>
            <a:xfrm>
              <a:off x="491400" y="2962440"/>
              <a:ext cx="52099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LOTS1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County_name, Tax_rate 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12520" y="3581280"/>
              <a:ext cx="85672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LOTS2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Property_id#, County_name, Lot#, Area, Pric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274480" y="2438280"/>
              <a:ext cx="2109960" cy="51444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70600" y="2438280"/>
              <a:ext cx="1776240" cy="104796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276720" y="40384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BCNF violation: Are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97440" y="4495680"/>
            <a:ext cx="8985960" cy="1620720"/>
            <a:chOff x="397440" y="4495680"/>
            <a:chExt cx="8985960" cy="1620720"/>
          </a:xfrm>
        </p:grpSpPr>
        <p:sp>
          <p:nvSpPr>
            <p:cNvPr id="311" name=""/>
            <p:cNvSpPr/>
            <p:nvPr/>
          </p:nvSpPr>
          <p:spPr>
            <a:xfrm>
              <a:off x="397440" y="5019480"/>
              <a:ext cx="33415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LOTS2A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Area, Pric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59880" y="5638680"/>
              <a:ext cx="78235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LOTS2B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Property_id#, County_name, Lot#, Area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080800" y="4495680"/>
              <a:ext cx="2109960" cy="51444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876920" y="4495680"/>
              <a:ext cx="1776240" cy="1047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40480" y="32004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C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9080" y="53341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C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846120" y="59389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C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8011-39A5-4770-BBF1-0DFBF65EFE8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B54B1-F258-478B-8C14-C4F3D3F126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is BCNF decomposition lossl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non-trivial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super key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eed to pr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thing we project always comes back in the join: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re; and it doesn’t depend on the F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thing that comes back in the join must be in the original relation: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of makes use of the fact tha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4AEF-5449-486D-973B-E68DF1ABE75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053CD-387C-4807-9508-1D42925220D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1:N relationship to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2057400"/>
            <a:ext cx="1371600" cy="60948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2057400"/>
            <a:ext cx="1676160" cy="60948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43800" y="182880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D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43800" y="243828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1981080"/>
            <a:ext cx="1524240" cy="76212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works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82880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243828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205740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447920" y="243828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23623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23623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238880" y="2057040"/>
            <a:ext cx="30492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2514600"/>
            <a:ext cx="30492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24382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243828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41148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Employee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 (</a:t>
            </a: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EID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name, Dnum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)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Department(</a:t>
            </a: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Dnum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, Manager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4952880"/>
            <a:ext cx="8229600" cy="1221840"/>
            <a:chOff x="304920" y="4952880"/>
            <a:chExt cx="8229600" cy="1221840"/>
          </a:xfrm>
        </p:grpSpPr>
        <p:sp>
          <p:nvSpPr>
            <p:cNvPr id="121" name=""/>
            <p:cNvSpPr/>
            <p:nvPr/>
          </p:nvSpPr>
          <p:spPr>
            <a:xfrm>
              <a:off x="304920" y="495288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Employee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 (</a:t>
              </a: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EID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, </a:t>
              </a: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name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), 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	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	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	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	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Department(</a:t>
              </a: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Dnum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, </a:t>
              </a: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Manager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57150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workFor(</a:t>
              </a: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Eid</a:t>
              </a: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, Dnum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)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6EE0-8A60-44B7-8ACC-0DC6B551CA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2F910-5A30-45E9-9E0D-C9A6853DEB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dependencies: a generalization of the key con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al dependencies: a source of redund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ormal form to remove partial depende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key functional dependencies: a source of redund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NF decomposition: a method for removing ALL functional dependency related redunda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lus, BNCF decomposition is a lossless join decomposit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A85B-ED37-43DE-9958-50B0F49E390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B396B-BC25-4F34-A2B3-3B6868721A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about mapping ER to relational database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relation may have a multi-valued attribut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219320" y="2362320"/>
            <a:ext cx="4692600" cy="1066320"/>
            <a:chOff x="1219320" y="2362320"/>
            <a:chExt cx="4692600" cy="1066320"/>
          </a:xfrm>
        </p:grpSpPr>
        <p:sp>
          <p:nvSpPr>
            <p:cNvPr id="126" name=""/>
            <p:cNvSpPr/>
            <p:nvPr/>
          </p:nvSpPr>
          <p:spPr>
            <a:xfrm>
              <a:off x="2863800" y="2590560"/>
              <a:ext cx="1676520" cy="60948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Depart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45240" y="2362320"/>
              <a:ext cx="1066680" cy="45684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Dn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45240" y="2971800"/>
              <a:ext cx="1066680" cy="45684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Manag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540320" y="2590560"/>
              <a:ext cx="304920" cy="22824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40320" y="3047760"/>
              <a:ext cx="304920" cy="22824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39920" y="2666880"/>
              <a:ext cx="1066680" cy="45684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lo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" name=""/>
            <p:cNvCxnSpPr>
              <a:stCxn id="133" idx="6"/>
              <a:endCxn id="126" idx="1"/>
            </p:cNvCxnSpPr>
            <p:nvPr/>
          </p:nvCxnSpPr>
          <p:spPr>
            <a:xfrm>
              <a:off x="2527200" y="2895120"/>
              <a:ext cx="324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33" name=""/>
            <p:cNvSpPr/>
            <p:nvPr/>
          </p:nvSpPr>
          <p:spPr>
            <a:xfrm>
              <a:off x="1219320" y="2590560"/>
              <a:ext cx="1295280" cy="60948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039320" y="403848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Department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(</a:t>
            </a: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meriGarmnd BT"/>
              </a:rPr>
              <a:t>Dnum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, Manager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49680" y="4800600"/>
            <a:ext cx="60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DepartmentLocation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(</a:t>
            </a: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meriGarmnd BT"/>
              </a:rPr>
              <a:t>Dnum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meriGarmnd BT"/>
              </a:rPr>
              <a:t>location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2206-DDAC-44C8-9B8E-02E944976E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78452-43C1-458C-8C38-843ECDCFA5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ormal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438280" y="1828800"/>
          <a:ext cx="4496040" cy="1460520"/>
        </p:xfrm>
        <a:graphic>
          <a:graphicData uri="http://schemas.openxmlformats.org/drawingml/2006/table">
            <a:tbl>
              <a:tblPr/>
              <a:tblGrid>
                <a:gridCol w="1090800"/>
                <a:gridCol w="2109600"/>
                <a:gridCol w="1295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s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l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aron W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c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762120" y="3809880"/>
          <a:ext cx="3200400" cy="1460520"/>
        </p:xfrm>
        <a:graphic>
          <a:graphicData uri="http://schemas.openxmlformats.org/drawingml/2006/table">
            <a:tbl>
              <a:tblPr/>
              <a:tblGrid>
                <a:gridCol w="1090440"/>
                <a:gridCol w="2109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aron W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6072120" y="3809880"/>
          <a:ext cx="2385720" cy="1460520"/>
        </p:xfrm>
        <a:graphic>
          <a:graphicData uri="http://schemas.openxmlformats.org/drawingml/2006/table">
            <a:tbl>
              <a:tblPr/>
              <a:tblGrid>
                <a:gridCol w="1090440"/>
                <a:gridCol w="129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s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l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c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1" name=""/>
          <p:cNvGrpSpPr/>
          <p:nvPr/>
        </p:nvGrpSpPr>
        <p:grpSpPr>
          <a:xfrm>
            <a:off x="2209320" y="3276720"/>
            <a:ext cx="5410800" cy="533160"/>
            <a:chOff x="2209320" y="3276720"/>
            <a:chExt cx="5410800" cy="533160"/>
          </a:xfrm>
        </p:grpSpPr>
        <p:sp>
          <p:nvSpPr>
            <p:cNvPr id="142" name=""/>
            <p:cNvSpPr/>
            <p:nvPr/>
          </p:nvSpPr>
          <p:spPr>
            <a:xfrm flipH="1">
              <a:off x="2209320" y="3276720"/>
              <a:ext cx="2667240" cy="5331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00600" y="3276720"/>
              <a:ext cx="2819520" cy="5331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04920" y="3124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3429000"/>
            <a:ext cx="1143000" cy="152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E8F4-2003-4041-990F-0F07B82907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A33AF-5B5B-484D-944A-9FBAE53CF1C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depend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mal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ycd-Codd normal form (BCN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use an algorithmic approach to study functional depende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BDA8-451E-4582-94BC-6FD34BE184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25566-34CA-498A-BB4E-BC49F1DB79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tell if a design is bad, e.g.,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ork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I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Pname, Hou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design h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dunda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ecause the name of an employee is recorded multiple times, once for each project the employee is 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23880" y="3657600"/>
          <a:ext cx="6324840" cy="1825560"/>
        </p:xfrm>
        <a:graphic>
          <a:graphicData uri="http://schemas.openxmlformats.org/drawingml/2006/table">
            <a:tbl>
              <a:tblPr/>
              <a:tblGrid>
                <a:gridCol w="1057320"/>
                <a:gridCol w="1152720"/>
                <a:gridCol w="1523880"/>
                <a:gridCol w="1552680"/>
                <a:gridCol w="1038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B 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 L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Sidh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B 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07EC-6CBA-465C-B2E1-CAF3B5F0707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06E0F-1088-4865-BBAE-11EFFD60A9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redundancy is ba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te disk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f we want to perform update operations to the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ERT an new project that no employee has been assigned to it ye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PDATE the name of “John Smith” to “John L. Smith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LETE the last employee who works for a certain proje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133720" y="4498920"/>
          <a:ext cx="6324480" cy="1825560"/>
        </p:xfrm>
        <a:graphic>
          <a:graphicData uri="http://schemas.openxmlformats.org/drawingml/2006/table">
            <a:tbl>
              <a:tblPr/>
              <a:tblGrid>
                <a:gridCol w="1056960"/>
                <a:gridCol w="1152720"/>
                <a:gridCol w="1523880"/>
                <a:gridCol w="1552680"/>
                <a:gridCol w="1038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B 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 L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Sidh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B 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8163-AE15-457F-A5A5-E3A89E26385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6000A-F732-4896-AB6F-9C00CF4949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2-12T18:44:11Z</dcterms:modified>
  <cp:revision>908</cp:revision>
  <dc:subject/>
  <dc:title>CS186: Introduction to Database Systems</dc:title>
</cp:coreProperties>
</file>