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9F645B-0D50-4D78-A534-DFA3B2DDB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4F61A9-BB89-4F63-AD90-A8702D73C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A02-590B-4174-ABEB-EAE93353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525-BD78-4453-BCDF-179E670C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C39-9368-4C68-8EB0-79DCC6B4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35B-D80B-4549-B91A-9506541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DC5-B2D8-485F-9074-0C00FDD6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16E-EB0F-44AE-AD03-EE67AF9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562-3482-44AD-A7CB-753A1F9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AEA-3E6C-4762-AC1B-152764FA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5EC-E207-4C3D-854A-70314897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C4D-7DDB-4282-B0B2-F7A899A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839-A6D4-4CB4-9D82-606EEAE8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939-7E8E-4F7F-96EE-055A2DEF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95C-513E-4FE2-9C1D-531DC4EBE1F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7143-DCC1-4061-B3D3-FA226F4CF9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ampus jo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Molecular Graphics and Modeling Laboratory is recruiting a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on-line database applications for chemical informa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terested, contact Gerry Lushington (glushington at ku dot ed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LTEC center is recruiting a stud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database application development promoting efficient lea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information, see KU job ID 00008869 or contact Marilyn Ault (mault at altec dot 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CD4-7A22-49FF-970E-DFD0061A8C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E310D-346C-4CD5-BE8B-45030B2278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Transaction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Concurrency with 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133720"/>
          <a:ext cx="8305920" cy="370836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ver-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dlo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v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 with prior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28600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0481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9625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22B-A459-4F6D-9AFC-8C4443A1AF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70ED5-B01E-496D-8817-F100E5295E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ase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o not release locks until commit/ab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 with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Handled by lock mana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ay abort certain transaction in hold-and-wait sit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321-A79C-4606-9E0C-19D5F66CCA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74029-1770-4EFC-B276-0D2C8857DF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tamp for 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 Recover techniq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91A-297D-491E-BF9A-6750EA29E9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F1FCF-83D7-41A8-A08C-159ADAB68D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8T16:38:50Z</dcterms:modified>
  <cp:revision>1030</cp:revision>
  <dc:subject/>
  <dc:title>CS186: Introduction to Database Systems</dc:title>
</cp:coreProperties>
</file>