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EEA7A0-7015-466A-9D96-08CECEAAF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16BA9C-1F2D-418F-9BEF-683CF5A4F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05BAA9-A531-46E5-9E09-139E3A605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583CE8-9C97-4E31-8191-96CE68710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BD2611-9457-4EAB-9774-AA3DD83E7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00FCF9-11B6-49D4-9954-979E91A36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82C512-A55C-4A4B-AB17-F7B2309B0C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05E70D-8CAF-4AEE-AB73-2D3FBB71A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B57B90-FF53-496E-B244-7903706BF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3869FB-93B6-46C2-92B6-04AB94559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00CC6B-17AD-44DC-8D85-6E657FC03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ECE4F5-600F-4DD9-8BAB-EAA87B47A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F1F677-D9AF-45D6-8213-DAC17E7FF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231DAE-7E6B-4855-955C-D269BE08D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3BCBA8-ECD3-44E1-B643-DB3F7CC63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C83053-CE6F-4DC0-8B53-2DCEA0B1F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3F38C3-52FF-4279-8F4C-A330C5E33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790B14-4418-483A-983D-A217E6AC0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E9E603-E86A-4A06-9682-DBF5D3B39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6AFDD2-E2C1-4A22-AFF0-02D191D9A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31ABE8-BEC4-4434-9E7B-21BAC7801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92CA5C-3EBA-465A-8A37-9E969A936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9D1305-109E-407A-8253-D896619E1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04E034-B088-401B-9417-CAFB9843B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80FEC3-12E8-4A50-B55A-724C91FAE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D1ABC1-4C00-49C8-8331-A399112AD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647C1F-B4A0-4503-9CF8-55B801248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D441FE-A6D7-4DEB-875D-038C6A722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0A451A-B480-4C15-AFE3-600D80DA68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23F7F5-AB73-48A1-8C89-91C9402F4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B93DF7-A800-4D4B-B668-B3A59A7D3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D2A6B6-3378-4E7C-9A89-982F40496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4C9-FEDE-47DA-87C5-0E776F6C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D87D-D04B-40BA-96C6-CA833C0F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89C-FC90-44C8-929E-AE9C4C26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5CE-B0F5-4C6F-81FE-DA9550D7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675-759F-4CF5-8E57-965EF5C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0E6-28FF-4224-8700-CDEFACEF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E95-0E89-4699-9387-2A9A4990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B88-A328-4A04-967D-E925C944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8FD-3146-4ABF-8D2C-8C352C4D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DB5-A9B6-420D-9EBF-05641BF2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BFF-A17A-4C81-95DA-1221B4E0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DB4-D474-4CE8-B0D7-06E06C5D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0600-C6C8-4C17-B6ED-8AC591C9697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4D1-776F-49CB-BB57-25F003C3AB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key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non-trivial F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uper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not a super key, there are some attributes (sa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at are not functionally determined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732960" y="5337000"/>
            <a:ext cx="106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That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is always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is recorded by multiple row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update anomaly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deletion anom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81080" y="312408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705B-B0F4-4A7B-B288-81EB584213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BCC1B-D7BA-4CCD-975F-BB41E8BFFF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l with Non-key F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666880" y="106668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4" name=""/>
          <p:cNvGrpSpPr/>
          <p:nvPr/>
        </p:nvGrpSpPr>
        <p:grpSpPr>
          <a:xfrm>
            <a:off x="1905120" y="2286000"/>
            <a:ext cx="4419360" cy="457200"/>
            <a:chOff x="1905120" y="2286000"/>
            <a:chExt cx="4419360" cy="457200"/>
          </a:xfrm>
        </p:grpSpPr>
        <p:sp>
          <p:nvSpPr>
            <p:cNvPr id="135" name=""/>
            <p:cNvSpPr/>
            <p:nvPr/>
          </p:nvSpPr>
          <p:spPr>
            <a:xfrm flipH="1">
              <a:off x="1905120" y="2286000"/>
              <a:ext cx="266688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2286000"/>
              <a:ext cx="175248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533520" y="2743200"/>
          <a:ext cx="227628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800600" y="2743200"/>
          <a:ext cx="2514600" cy="79056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553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3581280"/>
            <a:ext cx="4647600" cy="990720"/>
            <a:chOff x="1676520" y="3581280"/>
            <a:chExt cx="4647600" cy="990720"/>
          </a:xfrm>
        </p:grpSpPr>
        <p:sp>
          <p:nvSpPr>
            <p:cNvPr id="141" name=""/>
            <p:cNvSpPr/>
            <p:nvPr/>
          </p:nvSpPr>
          <p:spPr>
            <a:xfrm flipH="1">
              <a:off x="4419360" y="3581280"/>
              <a:ext cx="1904760" cy="9907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962520"/>
              <a:ext cx="274320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2819520" y="4648320"/>
          <a:ext cx="3733560" cy="1185840"/>
        </p:xfrm>
        <a:graphic>
          <a:graphicData uri="http://schemas.openxmlformats.org/drawingml/2006/table">
            <a:tbl>
              <a:tblPr/>
              <a:tblGrid>
                <a:gridCol w="105696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733920" y="396252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3352680"/>
            <a:ext cx="3504960" cy="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447920" y="3352680"/>
            <a:ext cx="3504960" cy="45720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2FA-F25B-426F-9996-1B60FB51AC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2E36F-B9DE-4603-AAED-C381359A09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ling with Nonkey Dependency: BCN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ce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no non-key depend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long as some relation is not in BC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e up with a correct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ways decompose on a BCNF violation (details nex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it is guaranteed to be a lossless join decompositio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1F6-27C2-4465-887D-F84DA22CAE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6D254-966B-4E5D-A741-9DAA772FCC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decomposition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CNF 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super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ains all attribut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are in neithe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i.e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Z = attr(R) – X – 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until all relations are in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509-1AA2-46D6-9122-35FB2EA703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6E2FB-80FC-413F-BCC0-A80DE43C32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decomposi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40" y="19810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17280" y="2470320"/>
            <a:ext cx="5752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7000" y="2905200"/>
            <a:ext cx="8477640" cy="1447560"/>
            <a:chOff x="27000" y="2905200"/>
            <a:chExt cx="8477640" cy="1447560"/>
          </a:xfrm>
        </p:grpSpPr>
        <p:sp>
          <p:nvSpPr>
            <p:cNvPr id="156" name=""/>
            <p:cNvSpPr/>
            <p:nvPr/>
          </p:nvSpPr>
          <p:spPr>
            <a:xfrm>
              <a:off x="27000" y="3875040"/>
              <a:ext cx="4553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84320" y="3871800"/>
              <a:ext cx="3820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981080" y="2905200"/>
              <a:ext cx="1981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8320" y="2905200"/>
              <a:ext cx="198108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367640" y="4287960"/>
            <a:ext cx="5783040" cy="582480"/>
            <a:chOff x="1367640" y="4287960"/>
            <a:chExt cx="5783040" cy="582480"/>
          </a:xfrm>
        </p:grpSpPr>
        <p:sp>
          <p:nvSpPr>
            <p:cNvPr id="161" name=""/>
            <p:cNvSpPr/>
            <p:nvPr/>
          </p:nvSpPr>
          <p:spPr>
            <a:xfrm>
              <a:off x="1367640" y="43498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61680" y="428796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4400" y="990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, PID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Hour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mail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1F6-8486-470C-98A5-031E6C09DC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243C4-0626-46B4-A4FF-D804F2059C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9040" y="199692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27160" y="2486160"/>
            <a:ext cx="448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-78480" y="2921040"/>
            <a:ext cx="9411480" cy="1534680"/>
            <a:chOff x="-78480" y="2921040"/>
            <a:chExt cx="9411480" cy="1534680"/>
          </a:xfrm>
        </p:grpSpPr>
        <p:sp>
          <p:nvSpPr>
            <p:cNvPr id="168" name=""/>
            <p:cNvSpPr/>
            <p:nvPr/>
          </p:nvSpPr>
          <p:spPr>
            <a:xfrm>
              <a:off x="-78480" y="3444840"/>
              <a:ext cx="3638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38440" y="3978000"/>
              <a:ext cx="6694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Grade’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684080" y="2921040"/>
              <a:ext cx="210996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0200" y="292104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934200" y="38386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76520" y="4505400"/>
            <a:ext cx="5031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67960" y="4959360"/>
            <a:ext cx="8155800" cy="1477800"/>
            <a:chOff x="867960" y="4959360"/>
            <a:chExt cx="8155800" cy="1477800"/>
          </a:xfrm>
        </p:grpSpPr>
        <p:sp>
          <p:nvSpPr>
            <p:cNvPr id="175" name=""/>
            <p:cNvSpPr/>
            <p:nvPr/>
          </p:nvSpPr>
          <p:spPr>
            <a:xfrm flipH="1">
              <a:off x="3155760" y="4959360"/>
              <a:ext cx="210960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7960" y="5559480"/>
              <a:ext cx="477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03720" y="4959360"/>
              <a:ext cx="1090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65400" y="5959440"/>
              <a:ext cx="4158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564640" y="5972040"/>
            <a:ext cx="4975200" cy="963360"/>
            <a:chOff x="2564640" y="5972040"/>
            <a:chExt cx="4975200" cy="963360"/>
          </a:xfrm>
        </p:grpSpPr>
        <p:sp>
          <p:nvSpPr>
            <p:cNvPr id="180" name=""/>
            <p:cNvSpPr/>
            <p:nvPr/>
          </p:nvSpPr>
          <p:spPr>
            <a:xfrm>
              <a:off x="2564640" y="597204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50840" y="641484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90720" y="103500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, PID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Hour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mail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21C-68E8-44C9-BE6D-87F1F460E9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A6613-CB64-4663-86C6-D7C366F74F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perty(Property_id#, County_name, Lot#, Area, Price, Tax_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erty_id#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, Lot#, Area, Price, 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#, Area, Price, 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rea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5CA-42B2-4A0D-A8C4-084DD05D13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1BB45-26AC-496D-8488-E544260B90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roperty(Property_id#, County_name, Lot#, Area, Price, Tax_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9051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CNF violation: County_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Tax_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91400" y="2438280"/>
            <a:ext cx="8888400" cy="1620720"/>
            <a:chOff x="491400" y="2438280"/>
            <a:chExt cx="8888400" cy="1620720"/>
          </a:xfrm>
        </p:grpSpPr>
        <p:sp>
          <p:nvSpPr>
            <p:cNvPr id="189" name=""/>
            <p:cNvSpPr/>
            <p:nvPr/>
          </p:nvSpPr>
          <p:spPr>
            <a:xfrm>
              <a:off x="491400" y="2962440"/>
              <a:ext cx="5209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1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ounty_name, Tax_rate 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2520" y="3581280"/>
              <a:ext cx="8567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roperty_id#, County_name, Lot#, Area, 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274480" y="2438280"/>
              <a:ext cx="2109960" cy="5144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70600" y="2438280"/>
              <a:ext cx="1776240" cy="10479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276720" y="4038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CNF violation: Are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97440" y="4495680"/>
            <a:ext cx="8985960" cy="1620720"/>
            <a:chOff x="397440" y="4495680"/>
            <a:chExt cx="8985960" cy="1620720"/>
          </a:xfrm>
        </p:grpSpPr>
        <p:sp>
          <p:nvSpPr>
            <p:cNvPr id="195" name=""/>
            <p:cNvSpPr/>
            <p:nvPr/>
          </p:nvSpPr>
          <p:spPr>
            <a:xfrm>
              <a:off x="397440" y="5019480"/>
              <a:ext cx="3341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rea, 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9880" y="5638680"/>
              <a:ext cx="7823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roperty_id#, County_name, Lot#, Are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080800" y="4495680"/>
              <a:ext cx="2109960" cy="5144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449568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40480" y="32004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080" y="53341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6120" y="5938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633-E226-49A9-806F-1690DFC3A9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6D8B4-ACB6-409B-A7CA-5FDD2EE2FF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BCNF decomposition loss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non-trivial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uper ke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eed to pr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we project always comes back in the join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re; and it doesn’t depend on the F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comes back in the join must be in the original relation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of makes use of the fact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281-5380-4118-9723-B1C47987F64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7675D-AF58-4944-9131-4F75C61EF2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functional dependencies: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: a method removes </a:t>
            </a:r>
            <a:r>
              <a:rPr b="0" lang="en-US" sz="2800" spc="-1" strike="noStrike">
                <a:solidFill>
                  <a:srgbClr val="70966a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dependency and therefore completely removes any</a:t>
            </a:r>
            <a:r>
              <a:rPr b="0" lang="en-US" sz="2800" spc="-1" strike="noStrike">
                <a:solidFill>
                  <a:srgbClr val="70966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-dependency-related redund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us, BNCF decomposition is a lossless join decomposi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2C3-2D59-4664-A259-DBE8CC9247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611C0-C188-4B51-8E18-6B824C801C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Homework #1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e next Monday (Feb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use your EECS password to login either cycle2 or wozniak (the same machin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e psql and use your psql password to lo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me know if there is anything wrong with you 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careful in typing O, 0, 1, 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&amp; Computer Science Spring Career Fair is tomorrow (Feb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rom 12:30-5: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me night with employer is tonight 7:30-10:30pm in the Burge Union, Relays room on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loo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495-95A0-421F-B96A-9F670D6761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4019C-DA81-49AE-B94D-653BB03412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057400"/>
            <a:ext cx="3505320" cy="3505320"/>
          </a:xfrm>
          <a:custGeom>
            <a:avLst/>
            <a:gdLst/>
            <a:ahLst/>
            <a:rect l="l" t="t" r="r" b="b"/>
            <a:pathLst>
              <a:path w="1882" h="1734">
                <a:moveTo>
                  <a:pt x="1633" y="1629"/>
                </a:moveTo>
                <a:cubicBezTo>
                  <a:pt x="1213" y="1625"/>
                  <a:pt x="562" y="1734"/>
                  <a:pt x="148" y="1458"/>
                </a:cubicBezTo>
                <a:cubicBezTo>
                  <a:pt x="124" y="1386"/>
                  <a:pt x="82" y="1318"/>
                  <a:pt x="67" y="1242"/>
                </a:cubicBezTo>
                <a:cubicBezTo>
                  <a:pt x="45" y="1134"/>
                  <a:pt x="39" y="1023"/>
                  <a:pt x="4" y="918"/>
                </a:cubicBezTo>
                <a:cubicBezTo>
                  <a:pt x="15" y="644"/>
                  <a:pt x="0" y="769"/>
                  <a:pt x="58" y="594"/>
                </a:cubicBezTo>
                <a:cubicBezTo>
                  <a:pt x="70" y="558"/>
                  <a:pt x="130" y="504"/>
                  <a:pt x="130" y="504"/>
                </a:cubicBezTo>
                <a:cubicBezTo>
                  <a:pt x="149" y="429"/>
                  <a:pt x="122" y="500"/>
                  <a:pt x="166" y="450"/>
                </a:cubicBezTo>
                <a:cubicBezTo>
                  <a:pt x="189" y="424"/>
                  <a:pt x="206" y="395"/>
                  <a:pt x="229" y="369"/>
                </a:cubicBezTo>
                <a:cubicBezTo>
                  <a:pt x="342" y="240"/>
                  <a:pt x="443" y="166"/>
                  <a:pt x="598" y="99"/>
                </a:cubicBezTo>
                <a:cubicBezTo>
                  <a:pt x="633" y="84"/>
                  <a:pt x="661" y="58"/>
                  <a:pt x="697" y="45"/>
                </a:cubicBezTo>
                <a:cubicBezTo>
                  <a:pt x="769" y="18"/>
                  <a:pt x="864" y="8"/>
                  <a:pt x="940" y="0"/>
                </a:cubicBezTo>
                <a:cubicBezTo>
                  <a:pt x="1029" y="5"/>
                  <a:pt x="1094" y="3"/>
                  <a:pt x="1174" y="27"/>
                </a:cubicBezTo>
                <a:cubicBezTo>
                  <a:pt x="1238" y="46"/>
                  <a:pt x="1290" y="87"/>
                  <a:pt x="1354" y="108"/>
                </a:cubicBezTo>
                <a:cubicBezTo>
                  <a:pt x="1400" y="154"/>
                  <a:pt x="1459" y="181"/>
                  <a:pt x="1507" y="225"/>
                </a:cubicBezTo>
                <a:cubicBezTo>
                  <a:pt x="1563" y="276"/>
                  <a:pt x="1607" y="334"/>
                  <a:pt x="1660" y="387"/>
                </a:cubicBezTo>
                <a:cubicBezTo>
                  <a:pt x="1684" y="458"/>
                  <a:pt x="1648" y="364"/>
                  <a:pt x="1696" y="441"/>
                </a:cubicBezTo>
                <a:cubicBezTo>
                  <a:pt x="1705" y="455"/>
                  <a:pt x="1707" y="471"/>
                  <a:pt x="1714" y="486"/>
                </a:cubicBezTo>
                <a:cubicBezTo>
                  <a:pt x="1742" y="545"/>
                  <a:pt x="1771" y="601"/>
                  <a:pt x="1804" y="657"/>
                </a:cubicBezTo>
                <a:cubicBezTo>
                  <a:pt x="1812" y="699"/>
                  <a:pt x="1817" y="742"/>
                  <a:pt x="1831" y="783"/>
                </a:cubicBezTo>
                <a:cubicBezTo>
                  <a:pt x="1851" y="961"/>
                  <a:pt x="1841" y="841"/>
                  <a:pt x="1831" y="1161"/>
                </a:cubicBezTo>
                <a:cubicBezTo>
                  <a:pt x="1825" y="1344"/>
                  <a:pt x="1882" y="1489"/>
                  <a:pt x="1687" y="1521"/>
                </a:cubicBezTo>
                <a:cubicBezTo>
                  <a:pt x="1684" y="1530"/>
                  <a:pt x="1682" y="1540"/>
                  <a:pt x="1678" y="1548"/>
                </a:cubicBezTo>
                <a:cubicBezTo>
                  <a:pt x="1673" y="1558"/>
                  <a:pt x="1664" y="1565"/>
                  <a:pt x="1660" y="1575"/>
                </a:cubicBezTo>
                <a:cubicBezTo>
                  <a:pt x="1635" y="1632"/>
                  <a:pt x="1662" y="1629"/>
                  <a:pt x="1633" y="1629"/>
                </a:cubicBezTo>
                <a:close/>
              </a:path>
            </a:pathLst>
          </a:custGeom>
          <a:noFill/>
          <a:ln w="12600">
            <a:solidFill>
              <a:srgbClr val="e81f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80160" y="487692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e81f11"/>
          </a:solidFill>
          <a:ln w="12600">
            <a:solidFill>
              <a:srgbClr val="e81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1143000"/>
            <a:ext cx="381240" cy="3886200"/>
          </a:xfrm>
          <a:prstGeom prst="downArrow">
            <a:avLst>
              <a:gd name="adj1" fmla="val 50000"/>
              <a:gd name="adj2" fmla="val 254839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737-72CA-4ED4-A618-E17C4E497E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EFAC4-E603-4683-90BD-3FA5244D40F0}" type="datetime1">
              <a:rPr lang="en-US"/>
              <a:t>07/28/26</a:t>
            </a:fld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tructured Quer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nounced “S-Q-L” or “sequel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tandard query language supported by most commercial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rief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BM System 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SI SQL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SI SQL92 (SQL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SI SQL99 (SQL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SI SQL 2003 (+OLAP, XML, etc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916-3AEA-4B49-A75F-29C6E76746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F8B83-EB26-4660-9DFC-97AB20269E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ropping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umn_typ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create table Student (SID integer,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                    name varchar(30), email varchar(30),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                    age integer, GPA float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create table Course (CID char(10), title varchar(100)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create table Enroll (SID integer, CID char(10)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drop table Studen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drop table Cours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drop table Enro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ettrGoth12 BT"/>
              </a:rPr>
              <a:t>-- everything from -- to the end of the line is ignore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ettrGoth12 BT"/>
              </a:rPr>
              <a:t>-- SQL is insensitive to white spac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ettrGoth12 BT"/>
              </a:rPr>
              <a:t>-- SQL is insensitive to case (e.g., ...Course... is equivalent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ettrGoth12 BT"/>
              </a:rPr>
              <a:t>-- ...COURSE..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AAB-FB77-4696-9ECF-003E731D92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A24DB-B73B-4246-8CA1-B20CAD610C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queries: SFW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alled an SPJ (select-project-join)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l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quivalent to relational algebra que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4B0-5BA6-4EDE-9F46-A1D563E3F8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4C1EC-DC66-4A1E-AE1E-2BF9A58CE0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 of SF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…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If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over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Compute and outpu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ten called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tupl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100% correct, we will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286-4834-4807-918E-2EC7CFF379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64599-FBE3-4FEA-93B5-21CE947878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selection and proj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of students under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name FROM Student WHERE age &lt; 2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ge &lt;2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66680" y="321948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029200" y="321948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029200" y="3600360"/>
            <a:ext cx="3429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434340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3048120"/>
            <a:ext cx="4572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3048120"/>
            <a:ext cx="10666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C58-FC18-4F24-857C-6CDF296B7E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6C620-124A-4C12-8AEF-1C45EE8781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s Lisa bo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2006 – age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name = ’Lisa’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ist can contain expres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use built-in functions such as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 literals (case sensitive) are enclosed in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ing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quo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FAB-EFD0-45B4-863D-8E75DB23DC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D4DCE-F3DF-46A9-A52E-4296CBB42C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reading a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*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gle-table query, so no cross product 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is opt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short hand for “all column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316-7E1A-46D6-9B29-38FEB90050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6FBEE-7174-4698-9C18-711F303E9A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’s and names of students taking the “Database”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Student.SID, Student.name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Student, Enroll, Course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tudent.SID = Enroll.SID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Enroll.CID = Course.CID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title = ’Database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kay to omi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etter way to deal with string is to use “LIKE” and % , which matches with any string with length 0 or m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title LIKE ’%Database%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\ is the escape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‘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_’ is used for representing any a single charac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529-FE78-4877-8204-9C191C7656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1B0F0-DF32-408F-816A-24B1FDCDED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ORDER B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output_colum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ASC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ESC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scending,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c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ist has been computed, sort the output according t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pec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0D6-AD34-47B1-A231-0058B7D87E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AF98B-785A-4804-A96D-8884C86B6F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losure of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enote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330066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respect to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ll attributes {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…} functionally determined by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that is, Z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…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D1E-4799-423F-AE23-4EE05091A8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ED7FC-AEA6-40F8-BCB7-C6A1B24F4E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ll students, sort them by GPA (descending) and name (asce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RDER BY GPA DESC, nam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AS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default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speaking, only output columns can appear in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(although some DBMS support mor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use sequence numbers instead of names to refer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ut columns: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RDER BY 4 DESC, 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D6C-126A-4257-AFD5-868F32D547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98BB0-112E-4F7F-B60F-1AC80217BC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re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all pairs of class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algebra query: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: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e1.SID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1, e2.SID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2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Enroll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e1, Enroll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e2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e1.CID = e2.CID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ND e1.SID &gt; e2.SID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keyword is opt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738-6EC1-4ABC-8014-79E09DD873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C44CC-9F7A-4A68-97AF-0480F58B22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re complicated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 of all courses that Bart and Lisa are taking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153720" y="4876920"/>
            <a:ext cx="89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ip: Write th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clause first, t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and t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55800" y="2895480"/>
            <a:ext cx="91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FROM Student sb, Student sl, Enroll eb, Enroll el, Cours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55440" y="33526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b.name = ’Bart’ AND sl.name = ’Lis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74520" y="380988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b.SID = sb.SID AND el.SID = sl.S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74520" y="4267080"/>
            <a:ext cx="59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b.CID = c.CID AND el.CID = c.C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55800" y="2438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LECT c.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E13-EE3A-4D10-A93C-B0A236DCD8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8A620-5401-46FE-BF2B-ABB0B61458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FW statemen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many possible ways of structuring SQL statements, why did the designers choos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large number of queries can be written using only selection, projection, and cross product (or joi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query that uses only these operators can be written in a canonical form: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…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aptures this canonical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05D-737D-4E7D-8B54-DA5EAB1ADD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E9174-A544-40D9-929B-57961744E1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versus bag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duplic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model and algebra use set seman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plicates all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duplicates is signific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uses bag semantics by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1AA-2C06-49AE-94F0-1B7AFED89B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A24C7-89CF-4C73-B755-52710C301D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versus bag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02800" y="1295280"/>
            <a:ext cx="15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32640" y="20574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37339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S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Enro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5800" y="2666880"/>
          <a:ext cx="2514600" cy="18259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105520" y="1905120"/>
          <a:ext cx="685800" cy="14605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181480" y="4572000"/>
          <a:ext cx="685800" cy="1825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E4E-20D3-4B01-9BE2-AE926B7921B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C4DDE-9A9A-4226-87B3-338082DA39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se for bag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ves time of eliminating duplic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is mor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GPA FROM Studen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query just returns all possible GPA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 query returns the actual GPA distrib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ides, SQL provides the option of set semantics with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8CD-B538-4D88-AED9-8E089F5C84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60FF7-DAE4-49F8-8AC8-8CAEFBBF49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ing set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all pairs of class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e1.SID AS SID1, e2.SID AS SID2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Enroll AS e1, Enroll AS e2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e1.CID = e2.CID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e1.SID &gt; e2.SI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 Bart and Lisa both take CPS116 and CPS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e1.SID AS SID1, e2.SID AS SID2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ll duplicate (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I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ID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airs are removed from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CA0-0FC2-4592-9093-D625429E1D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31B83-904A-4802-9E3A-E525E32C65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 semantics of SF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…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If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over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Compute and outpu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r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iminate duplicate rows i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ten called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tupl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150-8578-4ECD-B70D-06421A5FAF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CF1DC-980C-4B2F-A04E-C20C0787B6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dependency is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ing BCNF to remove dependency related redunda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 (select-project-join que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how to nest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83D-7FAD-41E2-BF23-7402DC6DCC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B2523-69B7-4BDE-8002-14D8F6EB8A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erty(County_name, Lot#, Area, Price, Tax_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x_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e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closur of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, Tax_r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, Tax_rate, Are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, Area, Price, Tax_r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y_name, Lot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uper ke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5A0-F2A5-40B6-A965-F58FE41D31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46626-EB4B-47AE-BEDC-EA4063D7C8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-from-wher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vs. b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5B7-AD73-4934-93A7-CAE32CFFF1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AFC00-5D19-4E55-BF69-80B2E7EB01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204880"/>
            <a:ext cx="8610480" cy="16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eturns more rows than the original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12596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5120" y="2971800"/>
            <a:ext cx="26668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971800"/>
            <a:ext cx="17524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895480" y="113040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86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914400" y="34290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34120" y="34290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C02-53E1-4CA5-A904-BD29BCCD4E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95D76-2F9F-404B-B5ED-0E3B2C10C0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less join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rel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omposition is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ssless join decom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, given know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as FD’s, we can guarante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decomposition g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loss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omposition is one wi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997-EA7D-43DA-B859-47626488C0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1A6E3-A1EE-4702-9923-BE6878E1A5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? But I got more row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” refers not to the loss of tuples, but to the los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the ability to distinguish different original tu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551016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0720" y="4267080"/>
            <a:ext cx="25909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67080"/>
            <a:ext cx="19051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95480" y="242568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86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14400" y="45594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34120" y="45720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2971800" y="5105520"/>
            <a:ext cx="3581280" cy="761760"/>
            <a:chOff x="2971800" y="5105520"/>
            <a:chExt cx="3581280" cy="761760"/>
          </a:xfrm>
        </p:grpSpPr>
        <p:sp>
          <p:nvSpPr>
            <p:cNvPr id="120" name=""/>
            <p:cNvSpPr/>
            <p:nvPr/>
          </p:nvSpPr>
          <p:spPr>
            <a:xfrm>
              <a:off x="3048120" y="5105520"/>
              <a:ext cx="3504960" cy="7617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971800" y="5181120"/>
              <a:ext cx="3581280" cy="68580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971800" y="5105520"/>
            <a:ext cx="3581280" cy="761760"/>
            <a:chOff x="2971800" y="5105520"/>
            <a:chExt cx="3581280" cy="761760"/>
          </a:xfrm>
        </p:grpSpPr>
        <p:sp>
          <p:nvSpPr>
            <p:cNvPr id="123" name=""/>
            <p:cNvSpPr/>
            <p:nvPr/>
          </p:nvSpPr>
          <p:spPr>
            <a:xfrm>
              <a:off x="2971800" y="5105520"/>
              <a:ext cx="3581280" cy="759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1800" y="5867280"/>
              <a:ext cx="35053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8D4-4258-4F75-88FA-87A18CB2C6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E01F1-A76E-4714-92A5-A226BF3F9F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 about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e up with a correct decomposition (i.e., lossless join decompos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56E-B981-4FF5-909D-3030D604DC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1F035-0B89-4564-92BE-11B39C788D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14T20:29:21Z</dcterms:modified>
  <cp:revision>962</cp:revision>
  <dc:subject/>
  <dc:title>CS186: Introduction to Database Systems</dc:title>
</cp:coreProperties>
</file>