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932594-5CCB-4A65-B26B-9A4BE6771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13B79D-6386-45EE-94CF-27DB3B8E78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9716AE-807A-46AD-8CFA-C7E035F96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1C178A-FA2F-4F1A-8EB6-6AB64969F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FAF96C-D38D-4294-BC96-D0A86001B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A9DD55-5686-4F05-A2D3-E126C5FC1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FCC913-DCBB-4656-BEED-674ABF388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B2BC13-3489-44FB-9B6F-9A0848966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40ECFE-353C-4DA1-AFDD-5175DF965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775478-07EE-445F-8F0C-E998BA5F9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4A7E07-CA61-4D29-A060-4C8EED060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918810-DC2C-4513-BCF6-9D55C5E20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F128F8-55AE-43EB-A1EF-4F7323FA6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514A08-2CF3-4E43-A3E1-0383066B98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90CC56-96F2-4BEF-AC5C-542EC7707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5F019D-A579-43D1-9E59-2165E5EC7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77911D-EE19-4420-8854-72DCC285A1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EA8C80-DD9B-4A8E-AE50-292D4F964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E92696-F48B-402D-A8CD-45F18A2E1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C17BFA-9F9A-482C-8994-6CA1AA116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9A6BE4-1734-4ABC-B5F3-6080D059C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D4A57D-B588-44BF-8353-94660143D3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1A2095-5143-42BA-968A-9DF999BF4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7918CB-692C-466F-AAB8-5E9E90E53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297C11-D3AB-428D-B269-2A2155104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BCDBE9-817F-4C1C-90E6-9E9CE14F0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C06738-4BC8-44C8-89BB-C314B69F2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102280" cy="382572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B4B784-3BD4-4CD7-B0D5-6A906655F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DC0B28-E500-4EE4-B723-631221CEA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B55CEF-57D3-438E-94AF-53BC23B9E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use a block as a unit of transf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bits? Write a bit at location a, another at location b,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economy of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at it’s pluto. Maybe just grocery shop. Compare this with getting a book from a bookshelf in your 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appens throughout the memory hierarc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etching from cache, probably just one ad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etching from memory, what really happens is that an entire cache line is transfe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B3C-1821-4B33-BA22-1233DBF7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7B7-BD81-46A1-B9AB-379B1D7A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580-77D7-490D-925C-9DAC28A6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425-A4AA-4C87-BCB0-CA256D49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EE1-F476-494F-88A7-AED1228C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3A0-AAA7-442B-9CDD-5BD14934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8AC-03E6-47B6-BAF2-CF6D4549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3B9-D480-4117-B88E-DFD03380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309-F5DE-4C24-BB86-01202BAA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AE4-3130-41F2-A471-07D4D919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70C-398F-4AAE-AD2B-974488DE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F74-9E37-4B5C-A387-B7FFB456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5D46-5199-4725-A5C1-E4ABD244417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F3BC-07E7-424D-9551-36B125DB4D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5.png"/><Relationship Id="rId64" Type="http://schemas.openxmlformats.org/officeDocument/2006/relationships/image" Target="../media/image5.png"/><Relationship Id="rId65" Type="http://schemas.openxmlformats.org/officeDocument/2006/relationships/image" Target="../media/image5.png"/><Relationship Id="rId66" Type="http://schemas.openxmlformats.org/officeDocument/2006/relationships/image" Target="../media/image5.png"/><Relationship Id="rId67" Type="http://schemas.openxmlformats.org/officeDocument/2006/relationships/image" Target="../media/image5.png"/><Relationship Id="rId68" Type="http://schemas.openxmlformats.org/officeDocument/2006/relationships/image" Target="../media/image5.png"/><Relationship Id="rId69" Type="http://schemas.openxmlformats.org/officeDocument/2006/relationships/image" Target="../media/image5.png"/><Relationship Id="rId70" Type="http://schemas.openxmlformats.org/officeDocument/2006/relationships/image" Target="../media/image5.png"/><Relationship Id="rId71" Type="http://schemas.openxmlformats.org/officeDocument/2006/relationships/image" Target="../media/image5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image" Target="../media/image5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5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image" Target="../media/image5.png"/><Relationship Id="rId85" Type="http://schemas.openxmlformats.org/officeDocument/2006/relationships/image" Target="../media/image5.png"/><Relationship Id="rId86" Type="http://schemas.openxmlformats.org/officeDocument/2006/relationships/image" Target="../media/image5.png"/><Relationship Id="rId87" Type="http://schemas.openxmlformats.org/officeDocument/2006/relationships/image" Target="../media/image5.png"/><Relationship Id="rId88" Type="http://schemas.openxmlformats.org/officeDocument/2006/relationships/image" Target="../media/image5.png"/><Relationship Id="rId89" Type="http://schemas.openxmlformats.org/officeDocument/2006/relationships/image" Target="../media/image5.png"/><Relationship Id="rId90" Type="http://schemas.openxmlformats.org/officeDocument/2006/relationships/image" Target="../media/image5.png"/><Relationship Id="rId91" Type="http://schemas.openxmlformats.org/officeDocument/2006/relationships/image" Target="../media/image5.png"/><Relationship Id="rId92" Type="http://schemas.openxmlformats.org/officeDocument/2006/relationships/image" Target="../media/image5.png"/><Relationship Id="rId93" Type="http://schemas.openxmlformats.org/officeDocument/2006/relationships/image" Target="../media/image5.png"/><Relationship Id="rId94" Type="http://schemas.openxmlformats.org/officeDocument/2006/relationships/image" Target="../media/image5.png"/><Relationship Id="rId95" Type="http://schemas.openxmlformats.org/officeDocument/2006/relationships/image" Target="../media/image5.png"/><Relationship Id="rId96" Type="http://schemas.openxmlformats.org/officeDocument/2006/relationships/image" Target="../media/image5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image" Target="../media/image5.png"/><Relationship Id="rId114" Type="http://schemas.openxmlformats.org/officeDocument/2006/relationships/image" Target="../media/image5.png"/><Relationship Id="rId115" Type="http://schemas.openxmlformats.org/officeDocument/2006/relationships/image" Target="../media/image5.png"/><Relationship Id="rId116" Type="http://schemas.openxmlformats.org/officeDocument/2006/relationships/image" Target="../media/image5.png"/><Relationship Id="rId117" Type="http://schemas.openxmlformats.org/officeDocument/2006/relationships/image" Target="../media/image5.png"/><Relationship Id="rId118" Type="http://schemas.openxmlformats.org/officeDocument/2006/relationships/image" Target="../media/image5.png"/><Relationship Id="rId119" Type="http://schemas.openxmlformats.org/officeDocument/2006/relationships/image" Target="../media/image5.png"/><Relationship Id="rId120" Type="http://schemas.openxmlformats.org/officeDocument/2006/relationships/image" Target="../media/image5.png"/><Relationship Id="rId121" Type="http://schemas.openxmlformats.org/officeDocument/2006/relationships/image" Target="../media/image5.png"/><Relationship Id="rId122" Type="http://schemas.openxmlformats.org/officeDocument/2006/relationships/image" Target="../media/image5.png"/><Relationship Id="rId123" Type="http://schemas.openxmlformats.org/officeDocument/2006/relationships/image" Target="../media/image5.png"/><Relationship Id="rId124" Type="http://schemas.openxmlformats.org/officeDocument/2006/relationships/image" Target="../media/image5.png"/><Relationship Id="rId125" Type="http://schemas.openxmlformats.org/officeDocument/2006/relationships/image" Target="../media/image5.png"/><Relationship Id="rId126" Type="http://schemas.openxmlformats.org/officeDocument/2006/relationships/image" Target="../media/image5.png"/><Relationship Id="rId127" Type="http://schemas.openxmlformats.org/officeDocument/2006/relationships/image" Target="../media/image5.png"/><Relationship Id="rId128" Type="http://schemas.openxmlformats.org/officeDocument/2006/relationships/image" Target="../media/image5.png"/><Relationship Id="rId129" Type="http://schemas.openxmlformats.org/officeDocument/2006/relationships/image" Target="../media/image5.png"/><Relationship Id="rId130" Type="http://schemas.openxmlformats.org/officeDocument/2006/relationships/image" Target="../media/image5.png"/><Relationship Id="rId131" Type="http://schemas.openxmlformats.org/officeDocument/2006/relationships/image" Target="../media/image5.png"/><Relationship Id="rId132" Type="http://schemas.openxmlformats.org/officeDocument/2006/relationships/image" Target="../media/image5.png"/><Relationship Id="rId133" Type="http://schemas.openxmlformats.org/officeDocument/2006/relationships/image" Target="../media/image5.png"/><Relationship Id="rId134" Type="http://schemas.openxmlformats.org/officeDocument/2006/relationships/image" Target="../media/image5.png"/><Relationship Id="rId135" Type="http://schemas.openxmlformats.org/officeDocument/2006/relationships/image" Target="../media/image5.png"/><Relationship Id="rId136" Type="http://schemas.openxmlformats.org/officeDocument/2006/relationships/image" Target="../media/image5.png"/><Relationship Id="rId137" Type="http://schemas.openxmlformats.org/officeDocument/2006/relationships/image" Target="../media/image5.png"/><Relationship Id="rId138" Type="http://schemas.openxmlformats.org/officeDocument/2006/relationships/image" Target="../media/image5.png"/><Relationship Id="rId139" Type="http://schemas.openxmlformats.org/officeDocument/2006/relationships/image" Target="../media/image5.png"/><Relationship Id="rId140" Type="http://schemas.openxmlformats.org/officeDocument/2006/relationships/image" Target="../media/image5.png"/><Relationship Id="rId141" Type="http://schemas.openxmlformats.org/officeDocument/2006/relationships/image" Target="../media/image5.png"/><Relationship Id="rId142" Type="http://schemas.openxmlformats.org/officeDocument/2006/relationships/image" Target="../media/image5.png"/><Relationship Id="rId143" Type="http://schemas.openxmlformats.org/officeDocument/2006/relationships/image" Target="../media/image5.png"/><Relationship Id="rId144" Type="http://schemas.openxmlformats.org/officeDocument/2006/relationships/image" Target="../media/image7.png"/><Relationship Id="rId145" Type="http://schemas.openxmlformats.org/officeDocument/2006/relationships/slideLayout" Target="../slideLayouts/slideLayout3.xml"/><Relationship Id="rId14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k access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eek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for disk heads to move to the correct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Rotational del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for the desired block to rotate under the disk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Transfer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ime to read/write data in the block (= time for disk to rotate over the blo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87A-1FF4-43E8-A700-973B67B8F5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725ED-30AF-4868-88D3-70CD99AC94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dom disk ac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ime + rotational delay + transf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see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me to skip one half of the cylinder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quite; should be time to skip a third of the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hy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” value: 5 m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rotational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ime for a half rotation (a function of RP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” value: 4.2 ms (7200 RP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transf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08msec per 8K bl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F7C-5352-473A-A7D7-713DEAFB70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90FF6-B830-4C8C-8E53-2992A0DB80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ential Disk Access Improves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ime + rotational delay + transf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(assuming data is on the same trac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ional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0 (assuming data is in the next block on the trac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ly an order of magnitude faster than random disk acces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A8D-0C02-45FE-8426-14AE7DEC3D6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6E2DA-98B7-47A1-81B1-F11827E8F6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tri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k layout strate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related things (what are they?) close together: same sector/block ! same track ! same cylinder ! adjacent cylin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uble bu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le processing the current block in memory,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refetc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next block from disk (overlap I/O with process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k scheduling algorith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ck buff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/write one entire track at a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allel I/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disk heads working at the same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5AD-F8AF-4E14-8EF6-2859F62BB9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093AD-6560-46C4-9F5F-EC4ED96BA0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ocks are the interface for I/O, but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igher levels of DBMS operate on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files of 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69999"/>
                </a:solidFill>
                <a:uFillTx/>
                <a:latin typeface="Times New Roman"/>
              </a:rPr>
              <a:t>FI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A collection of pages, each containing a collection of records. Must suppor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/delete/modify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 a particular record (specified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ord 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ll records (possibly with some conditions on the records to be retrie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ordered (Heap)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st file structure contains records in no particular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file grows and shrinks, disk pages are allocated and de-al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upport record level operations, we mu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rack of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pag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rack of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free space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 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track of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cor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a p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any alternatives for keeping track of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consid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p File Implemented as a Lis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852624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page id and Heap file name must be stored some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8240" indent="-29556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“catalo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ge contains 2 `pointers’ plus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09480" y="1371600"/>
            <a:ext cx="7549200" cy="2739240"/>
            <a:chOff x="609480" y="1371600"/>
            <a:chExt cx="7549200" cy="2739240"/>
          </a:xfrm>
        </p:grpSpPr>
        <p:sp>
          <p:nvSpPr>
            <p:cNvPr id="1036" name=""/>
            <p:cNvSpPr/>
            <p:nvPr/>
          </p:nvSpPr>
          <p:spPr>
            <a:xfrm>
              <a:off x="1981080" y="1604880"/>
              <a:ext cx="1206360" cy="82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429000" y="1604880"/>
              <a:ext cx="1206360" cy="82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333760" y="1604880"/>
              <a:ext cx="1206720" cy="825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981080" y="3052440"/>
              <a:ext cx="1206360" cy="82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429000" y="3052440"/>
              <a:ext cx="1206360" cy="82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33760" y="3052440"/>
              <a:ext cx="1206720" cy="825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9480" y="2366640"/>
              <a:ext cx="1206360" cy="825120"/>
            </a:xfrm>
            <a:prstGeom prst="rect">
              <a:avLst/>
            </a:prstGeom>
            <a:solidFill>
              <a:srgbClr val="99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9280" y="2414520"/>
              <a:ext cx="975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37760" y="17287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685680" y="17287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514480" y="17269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63240" y="31003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611160" y="31003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92240" y="3098520"/>
              <a:ext cx="721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366560" y="1981080"/>
              <a:ext cx="121932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7560000">
              <a:off x="1617480" y="1809000"/>
              <a:ext cx="121860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570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5706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90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66760" y="226044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33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109760" y="226044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76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52760" y="226044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9080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966760" y="370836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03380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109760" y="3708360"/>
              <a:ext cx="83808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0048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76800" y="3708360"/>
              <a:ext cx="837720" cy="40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15"/>
                  </a:moveTo>
                  <a:arcTo wR="10800" hR="10800" stAng="-26962" swAng="11284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15"/>
                  </a:moveTo>
                  <a:arcTo wR="10800" hR="10800" stAng="-26962" swAng="11284353"/>
                </a:path>
              </a:pathLst>
            </a:custGeom>
            <a:noFill/>
            <a:ln cap="rnd" w="12600">
              <a:solidFill>
                <a:srgbClr val="b760f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3240000">
              <a:off x="1541160" y="2982240"/>
              <a:ext cx="1217880" cy="76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0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0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441440" y="2818080"/>
              <a:ext cx="121860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804720" y="3251160"/>
              <a:ext cx="135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s wi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ree 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810120" y="1804680"/>
              <a:ext cx="1270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Full P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319800" y="137160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cf0e3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7003800" y="1598400"/>
              <a:ext cx="228600" cy="151920"/>
              <a:chOff x="7003800" y="1598400"/>
              <a:chExt cx="228600" cy="151920"/>
            </a:xfrm>
          </p:grpSpPr>
          <p:sp>
            <p:nvSpPr>
              <p:cNvPr id="1070" name=""/>
              <p:cNvSpPr/>
              <p:nvPr/>
            </p:nvSpPr>
            <p:spPr>
              <a:xfrm>
                <a:off x="7003800" y="159840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041960" y="167436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080120" y="175032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927840" y="3046320"/>
              <a:ext cx="228600" cy="151920"/>
              <a:chOff x="6927840" y="3046320"/>
              <a:chExt cx="228600" cy="151920"/>
            </a:xfrm>
          </p:grpSpPr>
          <p:sp>
            <p:nvSpPr>
              <p:cNvPr id="1074" name=""/>
              <p:cNvSpPr/>
              <p:nvPr/>
            </p:nvSpPr>
            <p:spPr>
              <a:xfrm>
                <a:off x="6927840" y="30463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66000" y="31219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003800" y="319824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6243480" y="2819160"/>
              <a:ext cx="837720" cy="405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5"/>
                  </a:moveTo>
                  <a:arcTo wR="10800" hR="10800" stAng="-10773038" swAng="11178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5"/>
                  </a:moveTo>
                  <a:arcTo wR="10800" hR="10800" stAng="-10773038" swAng="11178673"/>
                </a:path>
              </a:pathLst>
            </a:custGeom>
            <a:noFill/>
            <a:ln cap="rnd" w="12600">
              <a:solidFill>
                <a:srgbClr val="063d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838080" y="1141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p File Using a Page Direc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762120" y="4267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try for a page can include the number of free bytes on the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rectory is a collection of pages; linked list implementation is just one altern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69999"/>
                </a:solidFill>
                <a:latin typeface="Times New Roman"/>
              </a:rPr>
              <a:t>Much smaller than linked list of all HF pages</a:t>
            </a:r>
            <a:r>
              <a:rPr b="0" lang="en-US" sz="2200" spc="-1" strike="noStrike">
                <a:solidFill>
                  <a:srgbClr val="669999"/>
                </a:solidFill>
                <a:latin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2232360" y="-360"/>
            <a:ext cx="5312520" cy="4169880"/>
            <a:chOff x="2232360" y="-360"/>
            <a:chExt cx="5312520" cy="4169880"/>
          </a:xfrm>
        </p:grpSpPr>
        <p:grpSp>
          <p:nvGrpSpPr>
            <p:cNvPr id="1083" name=""/>
            <p:cNvGrpSpPr/>
            <p:nvPr/>
          </p:nvGrpSpPr>
          <p:grpSpPr>
            <a:xfrm>
              <a:off x="3282840" y="1447920"/>
              <a:ext cx="978120" cy="685800"/>
              <a:chOff x="3282840" y="1447920"/>
              <a:chExt cx="978120" cy="685800"/>
            </a:xfrm>
          </p:grpSpPr>
          <p:sp>
            <p:nvSpPr>
              <p:cNvPr id="1084" name=""/>
              <p:cNvSpPr/>
              <p:nvPr/>
            </p:nvSpPr>
            <p:spPr>
              <a:xfrm>
                <a:off x="3282840" y="145404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282840" y="162576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282840" y="179712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282840" y="196848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586320" y="144792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957480" y="144792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3282840" y="2286000"/>
              <a:ext cx="978120" cy="685800"/>
              <a:chOff x="3282840" y="2286000"/>
              <a:chExt cx="978120" cy="685800"/>
            </a:xfrm>
          </p:grpSpPr>
          <p:sp>
            <p:nvSpPr>
              <p:cNvPr id="1091" name=""/>
              <p:cNvSpPr/>
              <p:nvPr/>
            </p:nvSpPr>
            <p:spPr>
              <a:xfrm>
                <a:off x="3282840" y="229248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282840" y="246384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282840" y="263520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282840" y="280656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586320" y="22860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957480" y="228600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3282840" y="3124080"/>
              <a:ext cx="978120" cy="685800"/>
              <a:chOff x="3282840" y="3124080"/>
              <a:chExt cx="978120" cy="685800"/>
            </a:xfrm>
          </p:grpSpPr>
          <p:sp>
            <p:nvSpPr>
              <p:cNvPr id="1098" name=""/>
              <p:cNvSpPr/>
              <p:nvPr/>
            </p:nvSpPr>
            <p:spPr>
              <a:xfrm>
                <a:off x="3282840" y="313056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282840" y="330192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282840" y="347328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282840" y="3645000"/>
                <a:ext cx="978120" cy="158760"/>
              </a:xfrm>
              <a:prstGeom prst="rect">
                <a:avLst/>
              </a:prstGeom>
              <a:solidFill>
                <a:srgbClr val="99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586320" y="31240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957480" y="31240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4" name=""/>
            <p:cNvSpPr/>
            <p:nvPr/>
          </p:nvSpPr>
          <p:spPr>
            <a:xfrm>
              <a:off x="5492880" y="1149480"/>
              <a:ext cx="977760" cy="67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92880" y="2063880"/>
              <a:ext cx="977760" cy="67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492880" y="3435480"/>
              <a:ext cx="977760" cy="6728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11600" y="1195560"/>
              <a:ext cx="911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511600" y="2109960"/>
              <a:ext cx="911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529960" y="3481560"/>
              <a:ext cx="954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 Antiqua"/>
                </a:rPr>
                <a:t>Pag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32360" y="1501920"/>
              <a:ext cx="1018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Book Antiqua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Book Antiqua"/>
                </a:rPr>
                <a:t>P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26320" y="3863880"/>
              <a:ext cx="1193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00"/>
                  </a:solidFill>
                  <a:latin typeface="Book Antiqua"/>
                </a:rPr>
                <a:t>DIREC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2" name=""/>
            <p:cNvGrpSpPr/>
            <p:nvPr/>
          </p:nvGrpSpPr>
          <p:grpSpPr>
            <a:xfrm>
              <a:off x="2897280" y="2057040"/>
              <a:ext cx="761400" cy="306720"/>
              <a:chOff x="2897280" y="2057040"/>
              <a:chExt cx="761400" cy="306720"/>
            </a:xfrm>
          </p:grpSpPr>
          <p:sp>
            <p:nvSpPr>
              <p:cNvPr id="1113" name=""/>
              <p:cNvSpPr/>
              <p:nvPr/>
            </p:nvSpPr>
            <p:spPr>
              <a:xfrm>
                <a:off x="2897280" y="2058840"/>
                <a:ext cx="76140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5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5677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897280" y="2057040"/>
                <a:ext cx="76140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2897280" y="2895840"/>
              <a:ext cx="761400" cy="305640"/>
              <a:chOff x="2897280" y="2895840"/>
              <a:chExt cx="761400" cy="305640"/>
            </a:xfrm>
          </p:grpSpPr>
          <p:sp>
            <p:nvSpPr>
              <p:cNvPr id="1116" name=""/>
              <p:cNvSpPr/>
              <p:nvPr/>
            </p:nvSpPr>
            <p:spPr>
              <a:xfrm>
                <a:off x="2897280" y="2897280"/>
                <a:ext cx="761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5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5677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897280" y="2895840"/>
                <a:ext cx="7614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e01a28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3430440" y="1220760"/>
              <a:ext cx="41144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34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348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35360" y="914040"/>
              <a:ext cx="350460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118040" y="-360"/>
              <a:ext cx="1783440" cy="30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1" y="21175"/>
                  </a:moveTo>
                  <a:arcTo wR="10800" hR="10800" stAng="4432026" swAng="6367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1" y="21175"/>
                  </a:moveTo>
                  <a:arcTo wR="10800" hR="10800" stAng="4432026" swAng="6367974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743560" y="3201840"/>
              <a:ext cx="2742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21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= row i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-forma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re in DBMS—table schema dictates the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evant for semi-structured data such as X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fixed-forma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fixed-length fields only, 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possible variable-length fiel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DEB-E1FC-4EA8-9F16-9134635928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EB517-F264-4B7A-80D6-C9C5C3C876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Formats:  Fixed L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80880" y="3428640"/>
            <a:ext cx="81043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eld lengths and offsets are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d from schema, stored in the system catalo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’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done via arithme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1835280" y="1490760"/>
            <a:ext cx="5244840" cy="749160"/>
            <a:chOff x="1835280" y="1490760"/>
            <a:chExt cx="5244840" cy="749160"/>
          </a:xfrm>
        </p:grpSpPr>
        <p:sp>
          <p:nvSpPr>
            <p:cNvPr id="1129" name=""/>
            <p:cNvSpPr/>
            <p:nvPr/>
          </p:nvSpPr>
          <p:spPr>
            <a:xfrm>
              <a:off x="1835280" y="1490760"/>
              <a:ext cx="135864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06880" y="1490760"/>
              <a:ext cx="135864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578480" y="1490760"/>
              <a:ext cx="173988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330960" y="1490760"/>
              <a:ext cx="749160" cy="74916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"/>
          <p:cNvSpPr/>
          <p:nvPr/>
        </p:nvSpPr>
        <p:spPr>
          <a:xfrm flipH="1" flipV="1">
            <a:off x="1828440" y="2246040"/>
            <a:ext cx="1522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370160" y="2833560"/>
            <a:ext cx="19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Base address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266200" y="16225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828800" y="1865160"/>
            <a:ext cx="45720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743200" y="1865160"/>
            <a:ext cx="457200" cy="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561480" y="16225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085720" y="16207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381000" y="162072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342520" y="101268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561480" y="101268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085720" y="10112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6381000" y="1011240"/>
            <a:ext cx="55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Courier New"/>
              </a:rPr>
              <a:t>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H="1" flipV="1">
            <a:off x="4571640" y="2246040"/>
            <a:ext cx="152280" cy="533160"/>
          </a:xfrm>
          <a:prstGeom prst="line">
            <a:avLst/>
          </a:prstGeom>
          <a:ln w="12600">
            <a:solidFill>
              <a:srgbClr val="33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017960" y="2832120"/>
            <a:ext cx="22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Address = B+L1+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3 is du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 is a team project with team siz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have 31 students, which means, (un) fortunately someone needs to work alo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lready find a volunt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need to find your partner asap, if you haven’t done 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0B2-0F7A-4627-AF9B-BA5A91040A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EC853-3D91-41DB-AB19-D439B10EE5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-length fiel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Student(SID INT, name CHAR(20), age INT, GPA FLOA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025280" y="1828800"/>
            <a:ext cx="6612840" cy="909720"/>
            <a:chOff x="1025280" y="1828800"/>
            <a:chExt cx="6612840" cy="909720"/>
          </a:xfrm>
        </p:grpSpPr>
        <p:sp>
          <p:nvSpPr>
            <p:cNvPr id="1150" name=""/>
            <p:cNvSpPr/>
            <p:nvPr/>
          </p:nvSpPr>
          <p:spPr>
            <a:xfrm>
              <a:off x="1219320" y="2281320"/>
              <a:ext cx="6858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1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25280" y="1828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711080" y="1828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905120" y="2281320"/>
              <a:ext cx="34290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Bart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(padded with spac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052600" y="1828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334120" y="2281320"/>
              <a:ext cx="6858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19920" y="2281320"/>
              <a:ext cx="1371600" cy="457200"/>
            </a:xfrm>
            <a:prstGeom prst="rect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LettrGoth12 BT"/>
                </a:rPr>
                <a:t>2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738400" y="1828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10000" y="18288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228600" y="3048120"/>
            <a:ext cx="8686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out for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y need to pad; reorder columns if that h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a bitmap at the beginning of the rec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640-925F-435F-8936-1D67821646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6A9B8-EF47-4C1E-B0E1-1758F25E39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Formats: Variable L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12480" y="1144080"/>
            <a:ext cx="8358120" cy="7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lternative formats (# fields is fix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10680" y="5622840"/>
            <a:ext cx="873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ffers direct access to i’th field, efficient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f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Book Antiqua"/>
              </a:rPr>
              <a:t>nulls</a:t>
            </a: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special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on’t know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alue); small directory overh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600200" y="2362320"/>
            <a:ext cx="99072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597040" y="23684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978280" y="23684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3968640" y="2368440"/>
            <a:ext cx="1359000" cy="596880"/>
            <a:chOff x="3968640" y="2368440"/>
            <a:chExt cx="1359000" cy="596880"/>
          </a:xfrm>
        </p:grpSpPr>
        <p:sp>
          <p:nvSpPr>
            <p:cNvPr id="1169" name=""/>
            <p:cNvSpPr/>
            <p:nvPr/>
          </p:nvSpPr>
          <p:spPr>
            <a:xfrm>
              <a:off x="3968640" y="2368440"/>
              <a:ext cx="36828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349880" y="2368440"/>
              <a:ext cx="97776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5340240" y="2368440"/>
            <a:ext cx="1359000" cy="596880"/>
            <a:chOff x="5340240" y="2368440"/>
            <a:chExt cx="1359000" cy="596880"/>
          </a:xfrm>
        </p:grpSpPr>
        <p:sp>
          <p:nvSpPr>
            <p:cNvPr id="1172" name=""/>
            <p:cNvSpPr/>
            <p:nvPr/>
          </p:nvSpPr>
          <p:spPr>
            <a:xfrm>
              <a:off x="5340240" y="2368440"/>
              <a:ext cx="36828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1480" y="2368440"/>
              <a:ext cx="977760" cy="596880"/>
            </a:xfrm>
            <a:prstGeom prst="rect">
              <a:avLst/>
            </a:prstGeom>
            <a:noFill/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2636640" y="24717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008240" y="24717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379840" y="24703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711840" y="23684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1440" y="24703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027880" y="2955960"/>
            <a:ext cx="526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Fields Delimited by Special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743840" y="2057400"/>
            <a:ext cx="46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F1                    F2                   F3                    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349080" y="3635280"/>
            <a:ext cx="350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F1             F2             F3             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60668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98756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36844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749680" y="3968640"/>
            <a:ext cx="36828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130560" y="39686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121280" y="39686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111640" y="3968640"/>
            <a:ext cx="97812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102360" y="3968640"/>
            <a:ext cx="977760" cy="59688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534040" y="5168880"/>
            <a:ext cx="318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Array of Field Off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1" name=""/>
          <p:cNvCxnSpPr/>
          <p:nvPr/>
        </p:nvCxnSpPr>
        <p:spPr>
          <a:xfrm flipH="1" flipV="1" rot="5400000">
            <a:off x="2422440" y="3635280"/>
            <a:ext cx="76680" cy="1340640"/>
          </a:xfrm>
          <a:prstGeom prst="curvedConnector5">
            <a:avLst>
              <a:gd name="adj1" fmla="val 702830"/>
              <a:gd name="adj2" fmla="val 25705"/>
              <a:gd name="adj3" fmla="val 70283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2" name=""/>
          <p:cNvCxnSpPr/>
          <p:nvPr/>
        </p:nvCxnSpPr>
        <p:spPr>
          <a:xfrm flipH="1" flipV="1" rot="5400000">
            <a:off x="3069360" y="3292200"/>
            <a:ext cx="76680" cy="2026440"/>
          </a:xfrm>
          <a:prstGeom prst="curvedConnector5">
            <a:avLst>
              <a:gd name="adj1" fmla="val -301415"/>
              <a:gd name="adj2" fmla="val 25461"/>
              <a:gd name="adj3" fmla="val -30141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3" name=""/>
          <p:cNvCxnSpPr/>
          <p:nvPr/>
        </p:nvCxnSpPr>
        <p:spPr>
          <a:xfrm flipH="1" flipV="1" rot="5400000">
            <a:off x="3785040" y="3006000"/>
            <a:ext cx="65520" cy="2586600"/>
          </a:xfrm>
          <a:prstGeom prst="curvedConnector5">
            <a:avLst>
              <a:gd name="adj1" fmla="val -370165"/>
              <a:gd name="adj2" fmla="val 25626"/>
              <a:gd name="adj3" fmla="val -37016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4" name=""/>
          <p:cNvCxnSpPr/>
          <p:nvPr/>
        </p:nvCxnSpPr>
        <p:spPr>
          <a:xfrm flipH="1" flipV="1" rot="5400000">
            <a:off x="4472640" y="2727000"/>
            <a:ext cx="76680" cy="3156840"/>
          </a:xfrm>
          <a:prstGeom prst="curvedConnector5">
            <a:avLst>
              <a:gd name="adj1" fmla="val -594339"/>
              <a:gd name="adj2" fmla="val 38526"/>
              <a:gd name="adj3" fmla="val -594339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5" name=""/>
          <p:cNvSpPr/>
          <p:nvPr/>
        </p:nvSpPr>
        <p:spPr>
          <a:xfrm>
            <a:off x="175248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05740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51460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895480" y="4267080"/>
            <a:ext cx="76320" cy="76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B fiel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Student(SID INT, name CHAR(20), age INT, GPA FLOAT, picture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BLOB(32000)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records get “de-cluster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d because most queries do not involv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pi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(automatically done by DBMS and transparent to the us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Pictu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259-454F-4438-9146-99A09CF35A2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47816-AAB3-4889-B6E5-806E6F1E07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organize records in a blo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ixed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Variable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S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N-ary Storage Model) is used in most commercial DB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718-0608-412A-8911-35C820C80B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94B97-FD3F-4231-BE1F-69E911F1F9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Formats: Fixed Length Rec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5345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Record id </a:t>
            </a:r>
            <a:r>
              <a:rPr b="0" i="1" lang="en-US" sz="2400" spc="-1" strike="noStrike">
                <a:solidFill>
                  <a:srgbClr val="669999"/>
                </a:solidFill>
                <a:latin typeface="Times New Roman"/>
              </a:rPr>
              <a:t>= &lt;page id, slot #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In first alternative, moving records for free space management changes rid; may not be accep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378080" y="17589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378080" y="19875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378080" y="22161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378080" y="2444760"/>
            <a:ext cx="1739880" cy="52056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378080" y="2978280"/>
            <a:ext cx="1739880" cy="21564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378080" y="3206880"/>
            <a:ext cx="1739880" cy="520560"/>
          </a:xfrm>
          <a:prstGeom prst="rect">
            <a:avLst/>
          </a:prstGeom>
          <a:solidFill>
            <a:srgbClr val="000000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378080" y="3740040"/>
            <a:ext cx="1739880" cy="52092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59092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035680" y="17589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035680" y="19875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035680" y="221616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035680" y="2444760"/>
            <a:ext cx="1739880" cy="52056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035680" y="2978280"/>
            <a:ext cx="1739880" cy="21564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5680" y="3206880"/>
            <a:ext cx="17398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035680" y="3740040"/>
            <a:ext cx="1739880" cy="52092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3244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530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8672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4100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181480" y="3733920"/>
            <a:ext cx="0" cy="53316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66040" y="17305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66040" y="19591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82960" y="2949480"/>
            <a:ext cx="82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940040" y="2378160"/>
            <a:ext cx="67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Book Antiqua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521680" y="2376360"/>
            <a:ext cx="67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Book Antiqua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657520" y="386388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463080" y="3863880"/>
            <a:ext cx="39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298560" y="3863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841360" y="38656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84520" y="3862440"/>
            <a:ext cx="48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49720" y="4245120"/>
            <a:ext cx="156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M  ...    3  2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629360" y="4549680"/>
            <a:ext cx="105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PA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785840" y="4624560"/>
            <a:ext cx="235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UNPACKED, 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152240" y="17305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152240" y="19591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169160" y="2948040"/>
            <a:ext cx="82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035680" y="2216160"/>
            <a:ext cx="1739880" cy="216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310200" y="2340000"/>
            <a:ext cx="81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035680" y="3511440"/>
            <a:ext cx="1739880" cy="216000"/>
          </a:xfrm>
          <a:prstGeom prst="rect">
            <a:avLst/>
          </a:prstGeom>
          <a:noFill/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166640" y="3481560"/>
            <a:ext cx="85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Slot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069960" y="3863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55560" y="386388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990160" y="4321080"/>
            <a:ext cx="12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of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344000" y="4319640"/>
            <a:ext cx="104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of s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2" name=""/>
          <p:cNvCxnSpPr>
            <a:stCxn id="1245" idx="2"/>
            <a:endCxn id="1212" idx="3"/>
          </p:cNvCxnSpPr>
          <p:nvPr/>
        </p:nvCxnSpPr>
        <p:spPr>
          <a:xfrm rot="5400000">
            <a:off x="3174840" y="2923200"/>
            <a:ext cx="486720" cy="602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53" name=""/>
          <p:cNvCxnSpPr>
            <a:stCxn id="1245" idx="3"/>
            <a:endCxn id="1244" idx="1"/>
          </p:cNvCxnSpPr>
          <p:nvPr/>
        </p:nvCxnSpPr>
        <p:spPr>
          <a:xfrm flipV="1">
            <a:off x="4101840" y="2323440"/>
            <a:ext cx="934200" cy="337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54" name=""/>
          <p:cNvCxnSpPr>
            <a:stCxn id="1245" idx="3"/>
            <a:endCxn id="1220" idx="1"/>
          </p:cNvCxnSpPr>
          <p:nvPr/>
        </p:nvCxnSpPr>
        <p:spPr>
          <a:xfrm>
            <a:off x="4101840" y="2660760"/>
            <a:ext cx="934200" cy="6926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55" name=""/>
          <p:cNvCxnSpPr>
            <a:stCxn id="1250" idx="0"/>
            <a:endCxn id="1233" idx="3"/>
          </p:cNvCxnSpPr>
          <p:nvPr/>
        </p:nvCxnSpPr>
        <p:spPr>
          <a:xfrm flipV="1" rot="16200000">
            <a:off x="3190680" y="3881160"/>
            <a:ext cx="273240" cy="606960"/>
          </a:xfrm>
          <a:prstGeom prst="curvedConnector2">
            <a:avLst/>
          </a:prstGeom>
          <a:ln w="12600">
            <a:solidFill>
              <a:srgbClr val="063de8"/>
            </a:solidFill>
            <a:miter/>
            <a:tailEnd len="med" type="triangle" w="lg"/>
          </a:ln>
        </p:spPr>
      </p:cxnSp>
      <p:cxnSp>
        <p:nvCxnSpPr>
          <p:cNvPr id="1256" name=""/>
          <p:cNvCxnSpPr>
            <a:stCxn id="1251" idx="0"/>
            <a:endCxn id="1234" idx="3"/>
          </p:cNvCxnSpPr>
          <p:nvPr/>
        </p:nvCxnSpPr>
        <p:spPr>
          <a:xfrm flipV="1" rot="16200000">
            <a:off x="7227360" y="3679200"/>
            <a:ext cx="272160" cy="1008720"/>
          </a:xfrm>
          <a:prstGeom prst="curvedConnector2">
            <a:avLst/>
          </a:prstGeom>
          <a:ln w="12600">
            <a:solidFill>
              <a:srgbClr val="063de8"/>
            </a:solidFill>
            <a:miter/>
            <a:tailEnd len="med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7" name=""/>
          <p:cNvGrpSpPr/>
          <p:nvPr/>
        </p:nvGrpSpPr>
        <p:grpSpPr>
          <a:xfrm>
            <a:off x="1828440" y="3352680"/>
            <a:ext cx="5639040" cy="2743200"/>
            <a:chOff x="1828440" y="3352680"/>
            <a:chExt cx="5639040" cy="2743200"/>
          </a:xfrm>
        </p:grpSpPr>
        <p:sp>
          <p:nvSpPr>
            <p:cNvPr id="1258" name=""/>
            <p:cNvSpPr/>
            <p:nvPr/>
          </p:nvSpPr>
          <p:spPr>
            <a:xfrm>
              <a:off x="1828800" y="3352680"/>
              <a:ext cx="5638680" cy="2743200"/>
            </a:xfrm>
            <a:prstGeom prst="rect">
              <a:avLst/>
            </a:prstGeom>
            <a:solidFill>
              <a:srgbClr val="6666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209680" y="3352680"/>
              <a:ext cx="2667240" cy="38124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142 Bart    10  2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876920" y="3352680"/>
              <a:ext cx="2590560" cy="38124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123 Milhouse  10 3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09880" y="4114800"/>
              <a:ext cx="259092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456 Ralph    8  2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828800" y="3733920"/>
              <a:ext cx="2666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LettrGoth12 BT"/>
                </a:rPr>
                <a:t>857  Lisa     8  4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86600" y="5715000"/>
              <a:ext cx="380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5720" y="5715000"/>
              <a:ext cx="380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24480" y="5715000"/>
              <a:ext cx="38124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43600" y="5715000"/>
              <a:ext cx="380880" cy="380880"/>
            </a:xfrm>
            <a:prstGeom prst="rect">
              <a:avLst/>
            </a:prstGeom>
            <a:solidFill>
              <a:srgbClr val="000022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1828440" y="3962160"/>
              <a:ext cx="4724280" cy="1904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4320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80988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19112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37228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4200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010280" y="3352680"/>
              <a:ext cx="0" cy="38124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87520" y="373392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581280" y="373392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86200" y="373392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43400" y="411480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486400" y="411480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1320" y="4114800"/>
              <a:ext cx="0" cy="3808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4876560" y="3581280"/>
              <a:ext cx="205740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809880" y="4343040"/>
              <a:ext cx="23623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 flipV="1">
              <a:off x="2209680" y="3504960"/>
              <a:ext cx="5029200" cy="236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records from the beginning of each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directory at the end of each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locate records and manage free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cessary for variable-length reco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-86400" y="4343400"/>
            <a:ext cx="43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Why store data and directory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at two different 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5120" y="519732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Both can grow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AB0-4380-4E82-A49D-A00054805BC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36FC8-1363-4121-A97B-BA282C3841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organize after every update/delete to avoid fragmentation (gaps between recor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rewrite half of the block on aver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records are fixed-leng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organize after dele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need to move one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pointer to the beginning of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reorganize after up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bitmap indicating which slots are i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2E5-2C13-4685-892C-CC2D8F8543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95410-9149-4159-8637-F0BA712BA9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Catalo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e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, file location, file structure (e.g., Heap fi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 name and type, for each attrib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ex name, for each 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ity constrai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ind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(e.g., B+ tree) and search key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ew nam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statistics, authorization, buffer pool siz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89040" y="5334120"/>
            <a:ext cx="710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99"/>
                </a:solidFill>
                <a:latin typeface="Book Antiqua"/>
              </a:rPr>
              <a:t>Catalogs are themselves stored as relations</a:t>
            </a:r>
            <a:r>
              <a:rPr b="0" lang="en-US" sz="2800" spc="-1" strike="noStrike">
                <a:solidFill>
                  <a:srgbClr val="669999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/>
          <p:nvPr/>
        </p:nvSpPr>
        <p:spPr>
          <a:xfrm>
            <a:off x="685800" y="5824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124080" y="5824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_Cat(attr_name, rel_name, type, posi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1706400" y="1219320"/>
            <a:ext cx="1559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265560" y="1219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273480" y="1219320"/>
            <a:ext cx="201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289480" y="1219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297400" y="1219320"/>
            <a:ext cx="1152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450120" y="121932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458040" y="1219320"/>
            <a:ext cx="1125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583400" y="1219320"/>
            <a:ext cx="14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706400" y="12272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265560" y="12272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289480" y="12272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450120" y="12272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7583400" y="12272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720800" y="1227240"/>
            <a:ext cx="154476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17200" y="1227240"/>
            <a:ext cx="141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273480" y="1227240"/>
            <a:ext cx="201600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286440" y="1227240"/>
            <a:ext cx="127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l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297400" y="1227240"/>
            <a:ext cx="115272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336640" y="1227240"/>
            <a:ext cx="599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458040" y="1227240"/>
            <a:ext cx="1125360" cy="3538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06280" y="1227240"/>
            <a:ext cx="1113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posi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706400" y="1581120"/>
            <a:ext cx="14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720800" y="1581120"/>
            <a:ext cx="1544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265560" y="15811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273480" y="1581120"/>
            <a:ext cx="2016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289480" y="15811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297400" y="1581120"/>
            <a:ext cx="1152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6450120" y="158112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6458040" y="1581120"/>
            <a:ext cx="1125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583400" y="1581120"/>
            <a:ext cx="14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706400" y="1587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5560" y="1587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289480" y="1587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450120" y="1587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583400" y="1587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717200" y="1587600"/>
            <a:ext cx="1410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312360" y="158760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324400" y="158760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935760" y="15876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706400" y="194148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265560" y="194148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289480" y="194148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450120" y="194148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583400" y="194148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729080" y="1941480"/>
            <a:ext cx="127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l_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312360" y="194148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324400" y="194148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935760" y="194148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706400" y="229536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265560" y="229536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289480" y="229536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450120" y="229536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583400" y="229536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753560" y="2295360"/>
            <a:ext cx="599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312360" y="229536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324400" y="229536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935760" y="22953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706400" y="2649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265560" y="2649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289480" y="2649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450120" y="264960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583400" y="264960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737360" y="2649600"/>
            <a:ext cx="1113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posi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312360" y="2649600"/>
            <a:ext cx="18097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ttribute_C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307480" y="2649600"/>
            <a:ext cx="992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935760" y="264960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706400" y="300348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265560" y="300348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289480" y="300348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450120" y="300348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583400" y="300348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762200" y="3003480"/>
            <a:ext cx="397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281040" y="300348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5324400" y="300348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935760" y="300348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706400" y="335772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265560" y="335772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289480" y="335772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450120" y="335772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7583400" y="335772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31240" y="3355920"/>
            <a:ext cx="785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281040" y="335592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324400" y="335592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935760" y="3355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706400" y="3711600"/>
            <a:ext cx="1440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265560" y="3711600"/>
            <a:ext cx="792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289480" y="3711600"/>
            <a:ext cx="792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450120" y="3711600"/>
            <a:ext cx="792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7583400" y="3711600"/>
            <a:ext cx="14400" cy="352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752480" y="3710160"/>
            <a:ext cx="69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log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281040" y="371016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324400" y="371016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935760" y="37101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706400" y="4064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265560" y="4064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289480" y="4064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450120" y="4064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7583400" y="4064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735920" y="4064040"/>
            <a:ext cx="509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281040" y="406404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307480" y="4064040"/>
            <a:ext cx="992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935760" y="406404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706400" y="4417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265560" y="4417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5289480" y="4417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450120" y="4417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7583400" y="4417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746720" y="4417920"/>
            <a:ext cx="524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gp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281040" y="4417920"/>
            <a:ext cx="1218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ud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329440" y="4417920"/>
            <a:ext cx="52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935760" y="4417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706400" y="477216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265560" y="477216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289480" y="477216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450120" y="477216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583400" y="477216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768320" y="4772160"/>
            <a:ext cx="35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318120" y="4772160"/>
            <a:ext cx="969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324400" y="477216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935760" y="477216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706400" y="5126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265560" y="5126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289480" y="5126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450120" y="5126040"/>
            <a:ext cx="792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583400" y="5126040"/>
            <a:ext cx="14400" cy="35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729440" y="5126040"/>
            <a:ext cx="886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318120" y="5126040"/>
            <a:ext cx="969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324400" y="5126040"/>
            <a:ext cx="80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935760" y="512604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706400" y="5479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706400" y="5834160"/>
            <a:ext cx="1559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3265560" y="5479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265560" y="58341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273480" y="5834160"/>
            <a:ext cx="201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289480" y="5479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289480" y="58341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5297400" y="5834160"/>
            <a:ext cx="1152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5479920"/>
            <a:ext cx="792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450120" y="58341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458040" y="5834160"/>
            <a:ext cx="1125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583400" y="5479920"/>
            <a:ext cx="14400" cy="3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7583400" y="5834160"/>
            <a:ext cx="14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753920" y="5479920"/>
            <a:ext cx="38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s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318120" y="5479920"/>
            <a:ext cx="969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Facul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329440" y="5479920"/>
            <a:ext cx="52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35760" y="5479920"/>
            <a:ext cx="168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676520" y="155736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125244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324480" y="125244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es (a sneak previe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eap file allows us to retrieve rec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specifying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id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scanning all records sequential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, we want to retrieve records by specify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s in one or more fiel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all students in the “CS” depart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all students with a gpa &gt;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Inde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file structures that enable us to answer such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value-based queri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143000" y="990720"/>
            <a:ext cx="7010280" cy="5395680"/>
            <a:chOff x="1143000" y="990720"/>
            <a:chExt cx="7010280" cy="539568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49116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324480" y="990720"/>
              <a:ext cx="18288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1066680"/>
            <a:ext cx="457200" cy="5105520"/>
          </a:xfrm>
          <a:prstGeom prst="downArrow">
            <a:avLst>
              <a:gd name="adj1" fmla="val 50000"/>
              <a:gd name="adj2" fmla="val 279173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362320"/>
            <a:ext cx="457200" cy="27432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F40-E8DE-448C-9AC7-871013D0D2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71DAE-CB30-42F5-ABBA-821E355E4E73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ks provide cheap, non-volatile stor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ndom access, but cost depends on location of page on disk; important to arrange data sequentially to minimiz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ee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otatio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ay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(Contd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vs. OS Fil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MS needs features not found in many OS’s, e.g., forcing a page to disk, controlling the order of page writes to disk, files spanning disks, ability to control pre-fetching and page replacement policy based on predictable access patterns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riable length record format with field offset directory offers support for direct access to i’th field and null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5577"/>
          <a:stretch/>
        </p:blipFill>
        <p:spPr>
          <a:xfrm>
            <a:off x="457200" y="1219320"/>
            <a:ext cx="8153280" cy="5181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BMS P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5257800"/>
            <a:ext cx="2209680" cy="8380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286000"/>
            <a:ext cx="8077320" cy="13716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4572000"/>
            <a:ext cx="2057400" cy="7621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BB5-115F-4922-8F86-D4838C019A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9F9F8-BA91-4B47-8DBF-A3FE2CC53DD2}" type="datetime1">
              <a:rPr lang="en-US"/>
              <a:t>07/28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all about disk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’s why we always draw databases 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why the single most important metric in database processing is the number of disk I/O’s perform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ing data on a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rd lay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ock lay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295280"/>
            <a:ext cx="685800" cy="60984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7096-5219-4DFA-96E9-57885EF313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A2791-9ADF-4247-94A9-E6B086FA1E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933960" cy="5029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orage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617220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Operating Systems Concepts 5th Ed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371600"/>
            <a:ext cx="4114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memory (RAM) for currently us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k for the main database (secondary stor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pes for archiving older versions of the data (tertiary stora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1371600"/>
            <a:ext cx="380880" cy="4191120"/>
          </a:xfrm>
          <a:prstGeom prst="upArrow">
            <a:avLst>
              <a:gd name="adj1" fmla="val 50000"/>
              <a:gd name="adj2" fmla="val 275095"/>
            </a:avLst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94720" y="106668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Arial"/>
              </a:rPr>
              <a:t>Smaller,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78600" y="5638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Arial"/>
              </a:rPr>
              <a:t>Bigger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 Gray’s Storage Latency Analogy: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ow Far Away is the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78680" y="1143000"/>
            <a:ext cx="7221960" cy="5109120"/>
            <a:chOff x="778680" y="1143000"/>
            <a:chExt cx="7221960" cy="5109120"/>
          </a:xfrm>
        </p:grpSpPr>
        <p:sp>
          <p:nvSpPr>
            <p:cNvPr id="121" name=""/>
            <p:cNvSpPr/>
            <p:nvPr/>
          </p:nvSpPr>
          <p:spPr>
            <a:xfrm>
              <a:off x="4002120" y="3413160"/>
              <a:ext cx="136440" cy="8424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0" y="22"/>
                  </a:moveTo>
                  <a:lnTo>
                    <a:pt x="55" y="0"/>
                  </a:lnTo>
                  <a:lnTo>
                    <a:pt x="86" y="0"/>
                  </a:lnTo>
                  <a:lnTo>
                    <a:pt x="86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03840" y="3449520"/>
              <a:ext cx="147600" cy="95400"/>
            </a:xfrm>
            <a:custGeom>
              <a:avLst/>
              <a:gdLst/>
              <a:ahLst/>
              <a:rect l="l" t="t" r="r" b="b"/>
              <a:pathLst>
                <a:path w="93" h="56">
                  <a:moveTo>
                    <a:pt x="0" y="28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93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16360" y="3497400"/>
              <a:ext cx="136440" cy="83880"/>
            </a:xfrm>
            <a:custGeom>
              <a:avLst/>
              <a:gdLst/>
              <a:ahLst/>
              <a:rect l="l" t="t" r="r" b="b"/>
              <a:pathLst>
                <a:path w="86" h="49">
                  <a:moveTo>
                    <a:pt x="0" y="21"/>
                  </a:moveTo>
                  <a:lnTo>
                    <a:pt x="55" y="0"/>
                  </a:lnTo>
                  <a:lnTo>
                    <a:pt x="86" y="0"/>
                  </a:lnTo>
                  <a:lnTo>
                    <a:pt x="86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41840" y="3533760"/>
              <a:ext cx="123840" cy="8424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0" y="21"/>
                  </a:moveTo>
                  <a:lnTo>
                    <a:pt x="47" y="0"/>
                  </a:lnTo>
                  <a:lnTo>
                    <a:pt x="78" y="0"/>
                  </a:lnTo>
                  <a:lnTo>
                    <a:pt x="78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66960" y="3568680"/>
              <a:ext cx="125640" cy="842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0" y="21"/>
                  </a:moveTo>
                  <a:lnTo>
                    <a:pt x="47" y="0"/>
                  </a:lnTo>
                  <a:lnTo>
                    <a:pt x="79" y="0"/>
                  </a:lnTo>
                  <a:lnTo>
                    <a:pt x="79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8000" y="3605040"/>
              <a:ext cx="100080" cy="8424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0" y="21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280" y="364176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4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2320" y="3665520"/>
              <a:ext cx="98280" cy="8244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21"/>
                  </a:moveTo>
                  <a:lnTo>
                    <a:pt x="31" y="0"/>
                  </a:lnTo>
                  <a:lnTo>
                    <a:pt x="62" y="0"/>
                  </a:lnTo>
                  <a:lnTo>
                    <a:pt x="62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06760" y="3700440"/>
              <a:ext cx="74520" cy="7452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0" y="14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3"/>
                  </a:lnTo>
                  <a:lnTo>
                    <a:pt x="0" y="43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70400" y="37242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0" y="21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7440" y="376092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8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36"/>
                  </a:lnTo>
                  <a:lnTo>
                    <a:pt x="0" y="36"/>
                  </a:lnTo>
                  <a:lnTo>
                    <a:pt x="0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44840" y="3774960"/>
              <a:ext cx="61920" cy="8280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44840" y="3809880"/>
              <a:ext cx="49320" cy="716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4840" y="383364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1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7440" y="385776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8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70400" y="387036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81560" y="38815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0"/>
                  </a:moveTo>
                  <a:lnTo>
                    <a:pt x="32" y="0"/>
                  </a:lnTo>
                  <a:lnTo>
                    <a:pt x="55" y="14"/>
                  </a:lnTo>
                  <a:lnTo>
                    <a:pt x="55" y="42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19360" y="3905280"/>
              <a:ext cx="98640" cy="8424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0"/>
                  </a:moveTo>
                  <a:lnTo>
                    <a:pt x="31" y="0"/>
                  </a:lnTo>
                  <a:lnTo>
                    <a:pt x="62" y="21"/>
                  </a:lnTo>
                  <a:lnTo>
                    <a:pt x="62" y="49"/>
                  </a:lnTo>
                  <a:lnTo>
                    <a:pt x="31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68680" y="3941640"/>
              <a:ext cx="74520" cy="7164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1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94240" y="3965400"/>
              <a:ext cx="98280" cy="7164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31" y="0"/>
                  </a:lnTo>
                  <a:lnTo>
                    <a:pt x="62" y="14"/>
                  </a:lnTo>
                  <a:lnTo>
                    <a:pt x="62" y="42"/>
                  </a:lnTo>
                  <a:lnTo>
                    <a:pt x="31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43200" y="398952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0"/>
                  </a:moveTo>
                  <a:lnTo>
                    <a:pt x="31" y="0"/>
                  </a:lnTo>
                  <a:lnTo>
                    <a:pt x="54" y="14"/>
                  </a:lnTo>
                  <a:lnTo>
                    <a:pt x="54" y="42"/>
                  </a:lnTo>
                  <a:lnTo>
                    <a:pt x="23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79920" y="401328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0"/>
                  </a:moveTo>
                  <a:lnTo>
                    <a:pt x="31" y="0"/>
                  </a:lnTo>
                  <a:lnTo>
                    <a:pt x="55" y="14"/>
                  </a:lnTo>
                  <a:lnTo>
                    <a:pt x="55" y="42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18080" y="4037040"/>
              <a:ext cx="85680" cy="6012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0"/>
                  </a:moveTo>
                  <a:lnTo>
                    <a:pt x="31" y="0"/>
                  </a:lnTo>
                  <a:lnTo>
                    <a:pt x="54" y="7"/>
                  </a:lnTo>
                  <a:lnTo>
                    <a:pt x="54" y="35"/>
                  </a:lnTo>
                  <a:lnTo>
                    <a:pt x="23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54440" y="4049640"/>
              <a:ext cx="74520" cy="586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5"/>
                  </a:lnTo>
                  <a:lnTo>
                    <a:pt x="16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0000" y="4060800"/>
              <a:ext cx="48960" cy="475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0000" y="4060800"/>
              <a:ext cx="74520" cy="6192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6"/>
                  </a:ln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3760" y="4073400"/>
              <a:ext cx="100080" cy="7308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0" y="0"/>
                  </a:moveTo>
                  <a:lnTo>
                    <a:pt x="32" y="0"/>
                  </a:lnTo>
                  <a:lnTo>
                    <a:pt x="63" y="14"/>
                  </a:lnTo>
                  <a:lnTo>
                    <a:pt x="63" y="43"/>
                  </a:lnTo>
                  <a:lnTo>
                    <a:pt x="32" y="43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54520" y="409716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0" y="0"/>
                  </a:moveTo>
                  <a:lnTo>
                    <a:pt x="31" y="0"/>
                  </a:lnTo>
                  <a:lnTo>
                    <a:pt x="46" y="15"/>
                  </a:lnTo>
                  <a:lnTo>
                    <a:pt x="46" y="43"/>
                  </a:lnTo>
                  <a:lnTo>
                    <a:pt x="15" y="43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78280" y="4122720"/>
              <a:ext cx="74520" cy="9540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0" y="0"/>
                  </a:moveTo>
                  <a:lnTo>
                    <a:pt x="31" y="0"/>
                  </a:lnTo>
                  <a:lnTo>
                    <a:pt x="47" y="28"/>
                  </a:lnTo>
                  <a:lnTo>
                    <a:pt x="47" y="56"/>
                  </a:lnTo>
                  <a:lnTo>
                    <a:pt x="16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03840" y="4170240"/>
              <a:ext cx="6156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0"/>
                  </a:moveTo>
                  <a:lnTo>
                    <a:pt x="31" y="0"/>
                  </a:lnTo>
                  <a:lnTo>
                    <a:pt x="39" y="21"/>
                  </a:lnTo>
                  <a:lnTo>
                    <a:pt x="39" y="49"/>
                  </a:lnTo>
                  <a:lnTo>
                    <a:pt x="8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16440" y="4206960"/>
              <a:ext cx="48960" cy="5868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16440" y="4218120"/>
              <a:ext cx="61920" cy="950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1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16440" y="426564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03840" y="4289400"/>
              <a:ext cx="6156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90880" y="432576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65680" y="434988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28960" y="438624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0" y="21"/>
                  </a:moveTo>
                  <a:lnTo>
                    <a:pt x="23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80000" y="4421160"/>
              <a:ext cx="98280" cy="8568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0" y="21"/>
                  </a:moveTo>
                  <a:lnTo>
                    <a:pt x="31" y="0"/>
                  </a:lnTo>
                  <a:lnTo>
                    <a:pt x="62" y="0"/>
                  </a:lnTo>
                  <a:lnTo>
                    <a:pt x="62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67040" y="4457880"/>
              <a:ext cx="61920" cy="61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8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36"/>
                  </a:lnTo>
                  <a:lnTo>
                    <a:pt x="0" y="36"/>
                  </a:lnTo>
                  <a:lnTo>
                    <a:pt x="0" y="8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4440" y="4470480"/>
              <a:ext cx="61920" cy="6012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41840" y="448308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880" y="449424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7"/>
                  </a:moveTo>
                  <a:lnTo>
                    <a:pt x="8" y="0"/>
                  </a:lnTo>
                  <a:lnTo>
                    <a:pt x="40" y="0"/>
                  </a:lnTo>
                  <a:lnTo>
                    <a:pt x="40" y="28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8080" y="450684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21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18080" y="454356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28880" y="4554360"/>
              <a:ext cx="51120" cy="6048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28880" y="4567320"/>
              <a:ext cx="63720" cy="586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0" y="0"/>
                  </a:moveTo>
                  <a:lnTo>
                    <a:pt x="32" y="0"/>
                  </a:lnTo>
                  <a:lnTo>
                    <a:pt x="40" y="7"/>
                  </a:lnTo>
                  <a:lnTo>
                    <a:pt x="40" y="35"/>
                  </a:lnTo>
                  <a:lnTo>
                    <a:pt x="8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41840" y="4578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2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67040" y="4602240"/>
              <a:ext cx="74880" cy="712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1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92600" y="4626000"/>
              <a:ext cx="98280" cy="7128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31" y="0"/>
                  </a:lnTo>
                  <a:lnTo>
                    <a:pt x="62" y="14"/>
                  </a:lnTo>
                  <a:lnTo>
                    <a:pt x="62" y="42"/>
                  </a:lnTo>
                  <a:lnTo>
                    <a:pt x="31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41920" y="4649760"/>
              <a:ext cx="85680" cy="730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0"/>
                  </a:moveTo>
                  <a:lnTo>
                    <a:pt x="31" y="0"/>
                  </a:lnTo>
                  <a:lnTo>
                    <a:pt x="54" y="14"/>
                  </a:lnTo>
                  <a:lnTo>
                    <a:pt x="54" y="42"/>
                  </a:lnTo>
                  <a:lnTo>
                    <a:pt x="23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78280" y="467352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5"/>
                  </a:lnTo>
                  <a:lnTo>
                    <a:pt x="16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03840" y="4686480"/>
              <a:ext cx="110880" cy="7128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0" y="0"/>
                  </a:moveTo>
                  <a:lnTo>
                    <a:pt x="31" y="0"/>
                  </a:lnTo>
                  <a:lnTo>
                    <a:pt x="70" y="14"/>
                  </a:lnTo>
                  <a:lnTo>
                    <a:pt x="70" y="42"/>
                  </a:lnTo>
                  <a:lnTo>
                    <a:pt x="39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5400" y="4710240"/>
              <a:ext cx="98640" cy="71280"/>
            </a:xfrm>
            <a:custGeom>
              <a:avLst/>
              <a:gdLst/>
              <a:ahLst/>
              <a:rect l="l" t="t" r="r" b="b"/>
              <a:pathLst>
                <a:path w="62" h="42">
                  <a:moveTo>
                    <a:pt x="0" y="0"/>
                  </a:moveTo>
                  <a:lnTo>
                    <a:pt x="31" y="0"/>
                  </a:lnTo>
                  <a:lnTo>
                    <a:pt x="62" y="14"/>
                  </a:lnTo>
                  <a:lnTo>
                    <a:pt x="62" y="42"/>
                  </a:lnTo>
                  <a:lnTo>
                    <a:pt x="31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14720" y="4734000"/>
              <a:ext cx="123840" cy="7128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0" y="0"/>
                  </a:moveTo>
                  <a:lnTo>
                    <a:pt x="31" y="0"/>
                  </a:lnTo>
                  <a:lnTo>
                    <a:pt x="78" y="14"/>
                  </a:lnTo>
                  <a:lnTo>
                    <a:pt x="78" y="42"/>
                  </a:lnTo>
                  <a:lnTo>
                    <a:pt x="47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9240" y="4757760"/>
              <a:ext cx="123840" cy="7308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0" y="0"/>
                  </a:moveTo>
                  <a:lnTo>
                    <a:pt x="31" y="0"/>
                  </a:lnTo>
                  <a:lnTo>
                    <a:pt x="78" y="14"/>
                  </a:lnTo>
                  <a:lnTo>
                    <a:pt x="78" y="43"/>
                  </a:lnTo>
                  <a:lnTo>
                    <a:pt x="47" y="43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64120" y="4781520"/>
              <a:ext cx="85680" cy="619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0"/>
                  </a:moveTo>
                  <a:lnTo>
                    <a:pt x="31" y="0"/>
                  </a:lnTo>
                  <a:lnTo>
                    <a:pt x="54" y="7"/>
                  </a:lnTo>
                  <a:lnTo>
                    <a:pt x="54" y="36"/>
                  </a:lnTo>
                  <a:lnTo>
                    <a:pt x="23" y="36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64120" y="4554360"/>
              <a:ext cx="866520" cy="455760"/>
            </a:xfrm>
            <a:custGeom>
              <a:avLst/>
              <a:gdLst/>
              <a:ahLst/>
              <a:rect l="l" t="t" r="r" b="b"/>
              <a:pathLst>
                <a:path w="546" h="267">
                  <a:moveTo>
                    <a:pt x="0" y="0"/>
                  </a:moveTo>
                  <a:lnTo>
                    <a:pt x="15" y="14"/>
                  </a:lnTo>
                  <a:lnTo>
                    <a:pt x="31" y="28"/>
                  </a:lnTo>
                  <a:lnTo>
                    <a:pt x="54" y="42"/>
                  </a:lnTo>
                  <a:lnTo>
                    <a:pt x="78" y="56"/>
                  </a:lnTo>
                  <a:lnTo>
                    <a:pt x="101" y="70"/>
                  </a:lnTo>
                  <a:lnTo>
                    <a:pt x="125" y="77"/>
                  </a:lnTo>
                  <a:lnTo>
                    <a:pt x="140" y="84"/>
                  </a:lnTo>
                  <a:lnTo>
                    <a:pt x="172" y="91"/>
                  </a:lnTo>
                  <a:lnTo>
                    <a:pt x="179" y="91"/>
                  </a:lnTo>
                  <a:lnTo>
                    <a:pt x="226" y="98"/>
                  </a:lnTo>
                  <a:lnTo>
                    <a:pt x="320" y="105"/>
                  </a:lnTo>
                  <a:lnTo>
                    <a:pt x="367" y="105"/>
                  </a:lnTo>
                  <a:lnTo>
                    <a:pt x="374" y="105"/>
                  </a:lnTo>
                  <a:lnTo>
                    <a:pt x="398" y="105"/>
                  </a:lnTo>
                  <a:lnTo>
                    <a:pt x="414" y="112"/>
                  </a:lnTo>
                  <a:lnTo>
                    <a:pt x="421" y="112"/>
                  </a:lnTo>
                  <a:lnTo>
                    <a:pt x="421" y="119"/>
                  </a:lnTo>
                  <a:lnTo>
                    <a:pt x="406" y="126"/>
                  </a:lnTo>
                  <a:lnTo>
                    <a:pt x="390" y="133"/>
                  </a:lnTo>
                  <a:lnTo>
                    <a:pt x="382" y="133"/>
                  </a:lnTo>
                  <a:lnTo>
                    <a:pt x="359" y="140"/>
                  </a:lnTo>
                  <a:lnTo>
                    <a:pt x="320" y="147"/>
                  </a:lnTo>
                  <a:lnTo>
                    <a:pt x="281" y="155"/>
                  </a:lnTo>
                  <a:lnTo>
                    <a:pt x="242" y="155"/>
                  </a:lnTo>
                  <a:lnTo>
                    <a:pt x="218" y="155"/>
                  </a:lnTo>
                  <a:lnTo>
                    <a:pt x="203" y="155"/>
                  </a:lnTo>
                  <a:lnTo>
                    <a:pt x="156" y="162"/>
                  </a:lnTo>
                  <a:lnTo>
                    <a:pt x="132" y="162"/>
                  </a:lnTo>
                  <a:lnTo>
                    <a:pt x="93" y="169"/>
                  </a:lnTo>
                  <a:lnTo>
                    <a:pt x="86" y="169"/>
                  </a:lnTo>
                  <a:lnTo>
                    <a:pt x="78" y="169"/>
                  </a:lnTo>
                  <a:lnTo>
                    <a:pt x="62" y="176"/>
                  </a:lnTo>
                  <a:lnTo>
                    <a:pt x="62" y="183"/>
                  </a:lnTo>
                  <a:lnTo>
                    <a:pt x="70" y="190"/>
                  </a:lnTo>
                  <a:lnTo>
                    <a:pt x="86" y="197"/>
                  </a:lnTo>
                  <a:lnTo>
                    <a:pt x="125" y="211"/>
                  </a:lnTo>
                  <a:lnTo>
                    <a:pt x="140" y="211"/>
                  </a:lnTo>
                  <a:lnTo>
                    <a:pt x="148" y="211"/>
                  </a:lnTo>
                  <a:lnTo>
                    <a:pt x="179" y="218"/>
                  </a:lnTo>
                  <a:lnTo>
                    <a:pt x="218" y="225"/>
                  </a:lnTo>
                  <a:lnTo>
                    <a:pt x="265" y="239"/>
                  </a:lnTo>
                  <a:lnTo>
                    <a:pt x="289" y="246"/>
                  </a:lnTo>
                  <a:lnTo>
                    <a:pt x="304" y="253"/>
                  </a:lnTo>
                  <a:lnTo>
                    <a:pt x="328" y="260"/>
                  </a:lnTo>
                  <a:lnTo>
                    <a:pt x="335" y="260"/>
                  </a:lnTo>
                  <a:lnTo>
                    <a:pt x="359" y="267"/>
                  </a:lnTo>
                  <a:lnTo>
                    <a:pt x="374" y="267"/>
                  </a:lnTo>
                  <a:lnTo>
                    <a:pt x="390" y="260"/>
                  </a:lnTo>
                  <a:lnTo>
                    <a:pt x="390" y="253"/>
                  </a:lnTo>
                  <a:lnTo>
                    <a:pt x="390" y="239"/>
                  </a:lnTo>
                  <a:lnTo>
                    <a:pt x="382" y="225"/>
                  </a:lnTo>
                  <a:lnTo>
                    <a:pt x="374" y="218"/>
                  </a:lnTo>
                  <a:lnTo>
                    <a:pt x="351" y="211"/>
                  </a:lnTo>
                  <a:lnTo>
                    <a:pt x="343" y="204"/>
                  </a:lnTo>
                  <a:lnTo>
                    <a:pt x="335" y="204"/>
                  </a:lnTo>
                  <a:lnTo>
                    <a:pt x="328" y="197"/>
                  </a:lnTo>
                  <a:lnTo>
                    <a:pt x="320" y="197"/>
                  </a:lnTo>
                  <a:lnTo>
                    <a:pt x="328" y="183"/>
                  </a:lnTo>
                  <a:lnTo>
                    <a:pt x="335" y="176"/>
                  </a:lnTo>
                  <a:lnTo>
                    <a:pt x="359" y="169"/>
                  </a:lnTo>
                  <a:lnTo>
                    <a:pt x="382" y="162"/>
                  </a:lnTo>
                  <a:lnTo>
                    <a:pt x="398" y="162"/>
                  </a:lnTo>
                  <a:lnTo>
                    <a:pt x="421" y="155"/>
                  </a:lnTo>
                  <a:lnTo>
                    <a:pt x="437" y="155"/>
                  </a:lnTo>
                  <a:lnTo>
                    <a:pt x="468" y="147"/>
                  </a:lnTo>
                  <a:lnTo>
                    <a:pt x="492" y="140"/>
                  </a:lnTo>
                  <a:lnTo>
                    <a:pt x="515" y="133"/>
                  </a:lnTo>
                  <a:lnTo>
                    <a:pt x="531" y="126"/>
                  </a:lnTo>
                  <a:lnTo>
                    <a:pt x="538" y="119"/>
                  </a:lnTo>
                  <a:lnTo>
                    <a:pt x="546" y="112"/>
                  </a:lnTo>
                  <a:lnTo>
                    <a:pt x="538" y="105"/>
                  </a:lnTo>
                  <a:lnTo>
                    <a:pt x="523" y="98"/>
                  </a:lnTo>
                  <a:lnTo>
                    <a:pt x="499" y="91"/>
                  </a:lnTo>
                  <a:lnTo>
                    <a:pt x="484" y="91"/>
                  </a:lnTo>
                  <a:lnTo>
                    <a:pt x="453" y="84"/>
                  </a:lnTo>
                  <a:lnTo>
                    <a:pt x="414" y="77"/>
                  </a:lnTo>
                  <a:lnTo>
                    <a:pt x="382" y="77"/>
                  </a:lnTo>
                  <a:lnTo>
                    <a:pt x="335" y="70"/>
                  </a:lnTo>
                  <a:lnTo>
                    <a:pt x="312" y="70"/>
                  </a:lnTo>
                  <a:lnTo>
                    <a:pt x="289" y="70"/>
                  </a:lnTo>
                  <a:lnTo>
                    <a:pt x="242" y="63"/>
                  </a:lnTo>
                  <a:lnTo>
                    <a:pt x="195" y="56"/>
                  </a:lnTo>
                  <a:lnTo>
                    <a:pt x="156" y="49"/>
                  </a:lnTo>
                  <a:lnTo>
                    <a:pt x="117" y="42"/>
                  </a:lnTo>
                  <a:lnTo>
                    <a:pt x="93" y="35"/>
                  </a:lnTo>
                  <a:lnTo>
                    <a:pt x="47" y="21"/>
                  </a:lnTo>
                  <a:lnTo>
                    <a:pt x="23" y="14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952440" y="4254480"/>
              <a:ext cx="11160" cy="9720"/>
            </a:xfrm>
            <a:prstGeom prst="line">
              <a:avLst/>
            </a:prstGeom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952440" y="4254480"/>
              <a:ext cx="34920" cy="33480"/>
            </a:xfrm>
            <a:prstGeom prst="line">
              <a:avLst/>
            </a:prstGeom>
            <a:ln w="255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952440" y="4254480"/>
              <a:ext cx="34920" cy="33480"/>
            </a:xfrm>
            <a:prstGeom prst="line">
              <a:avLst/>
            </a:prstGeom>
            <a:ln w="2556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952800" y="4254480"/>
              <a:ext cx="60480" cy="57240"/>
            </a:xfrm>
            <a:prstGeom prst="line">
              <a:avLst/>
            </a:prstGeom>
            <a:ln w="25560">
              <a:solidFill>
                <a:srgbClr val="101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952800" y="4254480"/>
              <a:ext cx="84240" cy="81000"/>
            </a:xfrm>
            <a:prstGeom prst="line">
              <a:avLst/>
            </a:prstGeom>
            <a:ln w="2556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952800" y="4254480"/>
              <a:ext cx="109440" cy="104760"/>
            </a:xfrm>
            <a:prstGeom prst="line">
              <a:avLst/>
            </a:prstGeom>
            <a:ln w="25560">
              <a:solidFill>
                <a:srgbClr val="14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952800" y="4254480"/>
              <a:ext cx="109440" cy="10476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952440" y="4254480"/>
              <a:ext cx="133560" cy="13032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952440" y="4254480"/>
              <a:ext cx="157320" cy="15408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952440" y="4254480"/>
              <a:ext cx="157320" cy="15408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952440" y="4254480"/>
              <a:ext cx="182520" cy="17784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952800" y="4254480"/>
              <a:ext cx="209520" cy="204840"/>
            </a:xfrm>
            <a:prstGeom prst="line">
              <a:avLst/>
            </a:prstGeom>
            <a:ln w="255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952800" y="4254480"/>
              <a:ext cx="231840" cy="225360"/>
            </a:xfrm>
            <a:prstGeom prst="line">
              <a:avLst/>
            </a:prstGeom>
            <a:ln w="255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952800" y="4254480"/>
              <a:ext cx="231840" cy="225360"/>
            </a:xfrm>
            <a:prstGeom prst="line">
              <a:avLst/>
            </a:prstGeom>
            <a:ln w="255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952440" y="4254480"/>
              <a:ext cx="257400" cy="250920"/>
            </a:xfrm>
            <a:prstGeom prst="line">
              <a:avLst/>
            </a:prstGeom>
            <a:ln w="255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952440" y="4254480"/>
              <a:ext cx="282600" cy="276120"/>
            </a:xfrm>
            <a:prstGeom prst="line">
              <a:avLst/>
            </a:prstGeom>
            <a:ln w="25560">
              <a:solidFill>
                <a:srgbClr val="28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952440" y="4254480"/>
              <a:ext cx="282600" cy="27612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952440" y="4254480"/>
              <a:ext cx="306360" cy="298440"/>
            </a:xfrm>
            <a:prstGeom prst="line">
              <a:avLst/>
            </a:prstGeom>
            <a:ln w="25560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967200" y="4254480"/>
              <a:ext cx="317520" cy="31284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978360" y="4254480"/>
              <a:ext cx="317520" cy="31284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989520" y="4254480"/>
              <a:ext cx="317520" cy="3128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014720" y="4254480"/>
              <a:ext cx="317520" cy="312840"/>
            </a:xfrm>
            <a:prstGeom prst="line">
              <a:avLst/>
            </a:prstGeom>
            <a:ln w="25560">
              <a:solidFill>
                <a:srgbClr val="35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40280" y="4254480"/>
              <a:ext cx="317520" cy="312840"/>
            </a:xfrm>
            <a:prstGeom prst="line">
              <a:avLst/>
            </a:prstGeom>
            <a:ln w="2556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040280" y="4254480"/>
              <a:ext cx="317520" cy="31284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065480" y="4254480"/>
              <a:ext cx="317520" cy="312840"/>
            </a:xfrm>
            <a:prstGeom prst="line">
              <a:avLst/>
            </a:prstGeom>
            <a:ln w="25560">
              <a:solidFill>
                <a:srgbClr val="3b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089240" y="4254480"/>
              <a:ext cx="317520" cy="312840"/>
            </a:xfrm>
            <a:prstGeom prst="line">
              <a:avLst/>
            </a:prstGeom>
            <a:ln w="255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100400" y="4254480"/>
              <a:ext cx="317520" cy="312840"/>
            </a:xfrm>
            <a:prstGeom prst="line">
              <a:avLst/>
            </a:prstGeom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113360" y="4254480"/>
              <a:ext cx="317520" cy="312840"/>
            </a:xfrm>
            <a:prstGeom prst="line">
              <a:avLst/>
            </a:prstGeom>
            <a:ln w="255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137120" y="4254480"/>
              <a:ext cx="317520" cy="312840"/>
            </a:xfrm>
            <a:prstGeom prst="line">
              <a:avLst/>
            </a:prstGeom>
            <a:ln w="2556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162320" y="4254480"/>
              <a:ext cx="317520" cy="312840"/>
            </a:xfrm>
            <a:prstGeom prst="line">
              <a:avLst/>
            </a:prstGeom>
            <a:ln w="255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162320" y="4254480"/>
              <a:ext cx="317520" cy="312840"/>
            </a:xfrm>
            <a:prstGeom prst="line">
              <a:avLst/>
            </a:prstGeom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87880" y="4254480"/>
              <a:ext cx="317520" cy="312840"/>
            </a:xfrm>
            <a:prstGeom prst="line">
              <a:avLst/>
            </a:prstGeom>
            <a:ln w="2556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213080" y="4254480"/>
              <a:ext cx="317520" cy="312840"/>
            </a:xfrm>
            <a:prstGeom prst="line">
              <a:avLst/>
            </a:prstGeom>
            <a:ln w="255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224240" y="4254480"/>
              <a:ext cx="317520" cy="31284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267080" y="4241880"/>
              <a:ext cx="317520" cy="312480"/>
            </a:xfrm>
            <a:prstGeom prst="line">
              <a:avLst/>
            </a:prstGeom>
            <a:ln w="255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260960" y="4254480"/>
              <a:ext cx="317520" cy="312840"/>
            </a:xfrm>
            <a:prstGeom prst="line">
              <a:avLst/>
            </a:prstGeom>
            <a:ln w="255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273560" y="4254480"/>
              <a:ext cx="317520" cy="312840"/>
            </a:xfrm>
            <a:prstGeom prst="line">
              <a:avLst/>
            </a:prstGeom>
            <a:ln w="25560">
              <a:solidFill>
                <a:srgbClr val="535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286160" y="4254480"/>
              <a:ext cx="317520" cy="312840"/>
            </a:xfrm>
            <a:prstGeom prst="line">
              <a:avLst/>
            </a:prstGeom>
            <a:ln w="2556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311720" y="4254480"/>
              <a:ext cx="317520" cy="312840"/>
            </a:xfrm>
            <a:prstGeom prst="line">
              <a:avLst/>
            </a:prstGeom>
            <a:ln w="2556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35480" y="4254480"/>
              <a:ext cx="317520" cy="31284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348080" y="4254480"/>
              <a:ext cx="317520" cy="312840"/>
            </a:xfrm>
            <a:prstGeom prst="line">
              <a:avLst/>
            </a:prstGeom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360680" y="4254480"/>
              <a:ext cx="317160" cy="312840"/>
            </a:xfrm>
            <a:prstGeom prst="line">
              <a:avLst/>
            </a:prstGeom>
            <a:ln w="25560">
              <a:solidFill>
                <a:srgbClr val="5e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386240" y="4254480"/>
              <a:ext cx="317520" cy="312840"/>
            </a:xfrm>
            <a:prstGeom prst="line">
              <a:avLst/>
            </a:prstGeom>
            <a:ln w="2556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98840" y="4254480"/>
              <a:ext cx="317520" cy="312840"/>
            </a:xfrm>
            <a:prstGeom prst="line">
              <a:avLst/>
            </a:prstGeom>
            <a:ln w="25560">
              <a:solidFill>
                <a:srgbClr val="6262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410000" y="4254480"/>
              <a:ext cx="317520" cy="312840"/>
            </a:xfrm>
            <a:prstGeom prst="line">
              <a:avLst/>
            </a:prstGeom>
            <a:ln w="2556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433760" y="4254480"/>
              <a:ext cx="317520" cy="312840"/>
            </a:xfrm>
            <a:prstGeom prst="line">
              <a:avLst/>
            </a:prstGeom>
            <a:ln w="255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459320" y="4254480"/>
              <a:ext cx="317520" cy="312840"/>
            </a:xfrm>
            <a:prstGeom prst="line">
              <a:avLst/>
            </a:prstGeom>
            <a:ln w="255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471920" y="4254480"/>
              <a:ext cx="317520" cy="312840"/>
            </a:xfrm>
            <a:prstGeom prst="line">
              <a:avLst/>
            </a:prstGeom>
            <a:ln w="25560">
              <a:solidFill>
                <a:srgbClr val="6a6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484520" y="4254480"/>
              <a:ext cx="317520" cy="312840"/>
            </a:xfrm>
            <a:prstGeom prst="line">
              <a:avLst/>
            </a:prstGeom>
            <a:ln w="25560">
              <a:solidFill>
                <a:srgbClr val="6c6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08640" y="4254480"/>
              <a:ext cx="317520" cy="312840"/>
            </a:xfrm>
            <a:prstGeom prst="line">
              <a:avLst/>
            </a:prstGeom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521240" y="4254480"/>
              <a:ext cx="317520" cy="31284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533840" y="4254480"/>
              <a:ext cx="317520" cy="312840"/>
            </a:xfrm>
            <a:prstGeom prst="line">
              <a:avLst/>
            </a:prstGeom>
            <a:ln w="255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557600" y="4254480"/>
              <a:ext cx="317520" cy="312840"/>
            </a:xfrm>
            <a:prstGeom prst="line">
              <a:avLst/>
            </a:prstGeom>
            <a:ln w="2556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570560" y="4254480"/>
              <a:ext cx="317520" cy="312840"/>
            </a:xfrm>
            <a:prstGeom prst="line">
              <a:avLst/>
            </a:prstGeom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595760" y="4254480"/>
              <a:ext cx="317520" cy="312840"/>
            </a:xfrm>
            <a:prstGeom prst="line">
              <a:avLst/>
            </a:prstGeom>
            <a:ln w="255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608360" y="4254480"/>
              <a:ext cx="317520" cy="312840"/>
            </a:xfrm>
            <a:prstGeom prst="line">
              <a:avLst/>
            </a:prstGeom>
            <a:ln w="25560">
              <a:solidFill>
                <a:srgbClr val="7a7a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630680" y="4254480"/>
              <a:ext cx="317520" cy="31284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643280" y="4254480"/>
              <a:ext cx="317520" cy="312840"/>
            </a:xfrm>
            <a:prstGeom prst="line">
              <a:avLst/>
            </a:prstGeom>
            <a:ln w="25560">
              <a:solidFill>
                <a:srgbClr val="7e7e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56240" y="4254480"/>
              <a:ext cx="317520" cy="312840"/>
            </a:xfrm>
            <a:prstGeom prst="line">
              <a:avLst/>
            </a:prstGeom>
            <a:ln w="2556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681440" y="4254480"/>
              <a:ext cx="317520" cy="312840"/>
            </a:xfrm>
            <a:prstGeom prst="line">
              <a:avLst/>
            </a:prstGeom>
            <a:ln w="25560">
              <a:solidFill>
                <a:srgbClr val="83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94040" y="4254480"/>
              <a:ext cx="317160" cy="312840"/>
            </a:xfrm>
            <a:prstGeom prst="line">
              <a:avLst/>
            </a:prstGeom>
            <a:ln w="25560">
              <a:solidFill>
                <a:srgbClr val="85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719600" y="4254480"/>
              <a:ext cx="317520" cy="312840"/>
            </a:xfrm>
            <a:prstGeom prst="line">
              <a:avLst/>
            </a:prstGeom>
            <a:ln w="255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730760" y="4254480"/>
              <a:ext cx="317520" cy="312840"/>
            </a:xfrm>
            <a:prstGeom prst="line">
              <a:avLst/>
            </a:prstGeom>
            <a:ln w="25560">
              <a:solidFill>
                <a:srgbClr val="8989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54520" y="4254480"/>
              <a:ext cx="317520" cy="312840"/>
            </a:xfrm>
            <a:prstGeom prst="line">
              <a:avLst/>
            </a:prstGeom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767120" y="4254480"/>
              <a:ext cx="317520" cy="312840"/>
            </a:xfrm>
            <a:prstGeom prst="line">
              <a:avLst/>
            </a:prstGeom>
            <a:ln w="25560">
              <a:solidFill>
                <a:srgbClr val="8d8d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778280" y="4254480"/>
              <a:ext cx="317520" cy="31284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803840" y="4254480"/>
              <a:ext cx="317520" cy="31284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816440" y="4254480"/>
              <a:ext cx="317520" cy="312840"/>
            </a:xfrm>
            <a:prstGeom prst="line">
              <a:avLst/>
            </a:prstGeom>
            <a:ln w="2556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842000" y="4254480"/>
              <a:ext cx="317520" cy="312840"/>
            </a:xfrm>
            <a:prstGeom prst="line">
              <a:avLst/>
            </a:prstGeom>
            <a:ln w="25560">
              <a:solidFill>
                <a:srgbClr val="95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854600" y="4254480"/>
              <a:ext cx="317520" cy="312840"/>
            </a:xfrm>
            <a:prstGeom prst="line">
              <a:avLst/>
            </a:prstGeom>
            <a:ln w="255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63960" y="4254480"/>
              <a:ext cx="317520" cy="312840"/>
            </a:xfrm>
            <a:prstGeom prst="line">
              <a:avLst/>
            </a:prstGeom>
            <a:ln w="255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889520" y="4254480"/>
              <a:ext cx="317520" cy="312840"/>
            </a:xfrm>
            <a:prstGeom prst="line">
              <a:avLst/>
            </a:prstGeom>
            <a:ln w="25560">
              <a:solidFill>
                <a:srgbClr val="9b9b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902120" y="4254480"/>
              <a:ext cx="317520" cy="312840"/>
            </a:xfrm>
            <a:prstGeom prst="line">
              <a:avLst/>
            </a:prstGeom>
            <a:ln w="25560">
              <a:solidFill>
                <a:srgbClr val="9d9d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27680" y="4254480"/>
              <a:ext cx="317520" cy="312840"/>
            </a:xfrm>
            <a:prstGeom prst="line">
              <a:avLst/>
            </a:prstGeom>
            <a:ln w="2556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940280" y="4254480"/>
              <a:ext cx="317520" cy="312840"/>
            </a:xfrm>
            <a:prstGeom prst="line">
              <a:avLst/>
            </a:prstGeom>
            <a:ln w="2556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4964040" y="4254480"/>
              <a:ext cx="317520" cy="312840"/>
            </a:xfrm>
            <a:prstGeom prst="line">
              <a:avLst/>
            </a:prstGeom>
            <a:ln w="255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4976640" y="4254480"/>
              <a:ext cx="317520" cy="31284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987800" y="4254480"/>
              <a:ext cx="317520" cy="31284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013360" y="4254480"/>
              <a:ext cx="317520" cy="312840"/>
            </a:xfrm>
            <a:prstGeom prst="line">
              <a:avLst/>
            </a:prstGeom>
            <a:ln w="2556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024520" y="4254480"/>
              <a:ext cx="317520" cy="312840"/>
            </a:xfrm>
            <a:prstGeom prst="line">
              <a:avLst/>
            </a:prstGeom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051520" y="4254480"/>
              <a:ext cx="317520" cy="312840"/>
            </a:xfrm>
            <a:prstGeom prst="line">
              <a:avLst/>
            </a:prstGeom>
            <a:ln w="255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62680" y="4254480"/>
              <a:ext cx="317520" cy="312840"/>
            </a:xfrm>
            <a:prstGeom prst="line">
              <a:avLst/>
            </a:prstGeom>
            <a:ln w="25560">
              <a:solidFill>
                <a:srgbClr val="b0b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087880" y="4254480"/>
              <a:ext cx="317520" cy="3128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100480" y="4254480"/>
              <a:ext cx="317520" cy="312840"/>
            </a:xfrm>
            <a:prstGeom prst="line">
              <a:avLst/>
            </a:prstGeom>
            <a:ln w="25560">
              <a:solidFill>
                <a:srgbClr val="b4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113440" y="4254480"/>
              <a:ext cx="317520" cy="312840"/>
            </a:xfrm>
            <a:prstGeom prst="line">
              <a:avLst/>
            </a:prstGeom>
            <a:ln w="25560">
              <a:solidFill>
                <a:srgbClr val="b6b6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137200" y="4254480"/>
              <a:ext cx="317520" cy="312840"/>
            </a:xfrm>
            <a:prstGeom prst="line">
              <a:avLst/>
            </a:prstGeom>
            <a:ln w="25560">
              <a:solidFill>
                <a:srgbClr val="b8b8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149800" y="4254480"/>
              <a:ext cx="317520" cy="312840"/>
            </a:xfrm>
            <a:prstGeom prst="line">
              <a:avLst/>
            </a:prstGeom>
            <a:ln w="255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62400" y="4254480"/>
              <a:ext cx="317520" cy="312840"/>
            </a:xfrm>
            <a:prstGeom prst="line">
              <a:avLst/>
            </a:prstGeom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186520" y="4254480"/>
              <a:ext cx="317520" cy="312840"/>
            </a:xfrm>
            <a:prstGeom prst="line">
              <a:avLst/>
            </a:prstGeom>
            <a:ln w="2556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210280" y="4254480"/>
              <a:ext cx="317520" cy="31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222880" y="4254480"/>
              <a:ext cx="317520" cy="312840"/>
            </a:xfrm>
            <a:prstGeom prst="line">
              <a:avLst/>
            </a:prstGeom>
            <a:ln w="255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5235480" y="4254480"/>
              <a:ext cx="317520" cy="312840"/>
            </a:xfrm>
            <a:prstGeom prst="line">
              <a:avLst/>
            </a:prstGeom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261040" y="4254480"/>
              <a:ext cx="317520" cy="31284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272200" y="4254480"/>
              <a:ext cx="317520" cy="312840"/>
            </a:xfrm>
            <a:prstGeom prst="line">
              <a:avLst/>
            </a:prstGeom>
            <a:ln w="25560">
              <a:solidFill>
                <a:srgbClr val="c8c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284800" y="4254480"/>
              <a:ext cx="317520" cy="312840"/>
            </a:xfrm>
            <a:prstGeom prst="line">
              <a:avLst/>
            </a:prstGeom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310000" y="4254480"/>
              <a:ext cx="317160" cy="312840"/>
            </a:xfrm>
            <a:prstGeom prst="line">
              <a:avLst/>
            </a:prstGeom>
            <a:ln w="255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334120" y="4254480"/>
              <a:ext cx="317520" cy="31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346720" y="4254480"/>
              <a:ext cx="317520" cy="312840"/>
            </a:xfrm>
            <a:prstGeom prst="line">
              <a:avLst/>
            </a:prstGeom>
            <a:ln w="2556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359320" y="4254480"/>
              <a:ext cx="317520" cy="312840"/>
            </a:xfrm>
            <a:prstGeom prst="line">
              <a:avLst/>
            </a:prstGeom>
            <a:ln w="255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383080" y="4254480"/>
              <a:ext cx="317520" cy="31284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96040" y="4254480"/>
              <a:ext cx="317520" cy="312840"/>
            </a:xfrm>
            <a:prstGeom prst="line">
              <a:avLst/>
            </a:prstGeom>
            <a:ln w="255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406840" y="4254480"/>
              <a:ext cx="317160" cy="312840"/>
            </a:xfrm>
            <a:prstGeom prst="line">
              <a:avLst/>
            </a:prstGeom>
            <a:ln w="255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432040" y="4280040"/>
              <a:ext cx="291960" cy="287280"/>
            </a:xfrm>
            <a:prstGeom prst="line">
              <a:avLst/>
            </a:prstGeom>
            <a:ln w="25560">
              <a:solidFill>
                <a:srgbClr val="dbd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454360" y="4302000"/>
              <a:ext cx="269640" cy="26532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454360" y="4302000"/>
              <a:ext cx="269640" cy="265320"/>
            </a:xfrm>
            <a:prstGeom prst="line">
              <a:avLst/>
            </a:prstGeom>
            <a:ln w="2556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481720" y="4327560"/>
              <a:ext cx="242640" cy="23976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505480" y="4351320"/>
              <a:ext cx="218880" cy="216000"/>
            </a:xfrm>
            <a:prstGeom prst="line">
              <a:avLst/>
            </a:prstGeom>
            <a:ln w="255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517720" y="4363920"/>
              <a:ext cx="206280" cy="20340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530680" y="4375080"/>
              <a:ext cx="193680" cy="19224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554440" y="4398840"/>
              <a:ext cx="169560" cy="16848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578200" y="4422600"/>
              <a:ext cx="145800" cy="144720"/>
            </a:xfrm>
            <a:prstGeom prst="line">
              <a:avLst/>
            </a:prstGeom>
            <a:ln w="255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578200" y="4422600"/>
              <a:ext cx="145800" cy="144720"/>
            </a:xfrm>
            <a:prstGeom prst="line">
              <a:avLst/>
            </a:prstGeom>
            <a:ln w="25560">
              <a:solidFill>
                <a:srgbClr val="ede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603400" y="4446720"/>
              <a:ext cx="120600" cy="12060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627160" y="4470480"/>
              <a:ext cx="96840" cy="96840"/>
            </a:xfrm>
            <a:prstGeom prst="line">
              <a:avLst/>
            </a:prstGeom>
            <a:ln w="25560">
              <a:solidFill>
                <a:srgbClr val="f1f1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640120" y="4483080"/>
              <a:ext cx="83880" cy="84240"/>
            </a:xfrm>
            <a:prstGeom prst="line">
              <a:avLst/>
            </a:prstGeom>
            <a:ln w="2556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651640" y="4494240"/>
              <a:ext cx="72720" cy="73080"/>
            </a:xfrm>
            <a:prstGeom prst="line">
              <a:avLst/>
            </a:prstGeom>
            <a:ln w="25560">
              <a:solidFill>
                <a:srgbClr val="f5f5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678280" y="4521240"/>
              <a:ext cx="45720" cy="4608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700600" y="4543560"/>
              <a:ext cx="23760" cy="23760"/>
            </a:xfrm>
            <a:prstGeom prst="line">
              <a:avLst/>
            </a:prstGeom>
            <a:ln w="255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700600" y="4543560"/>
              <a:ext cx="23760" cy="23760"/>
            </a:xfrm>
            <a:prstGeom prst="line">
              <a:avLst/>
            </a:prstGeom>
            <a:ln w="25560">
              <a:solidFill>
                <a:srgbClr val="fbfb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59280" y="4260960"/>
              <a:ext cx="1758960" cy="29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64120" y="4554360"/>
              <a:ext cx="2376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89320" y="4578480"/>
              <a:ext cx="23760" cy="21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4880" y="4602240"/>
              <a:ext cx="3492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51240" y="4626000"/>
              <a:ext cx="3672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87960" y="4649760"/>
              <a:ext cx="3636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29000" y="467352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62480" y="4686480"/>
              <a:ext cx="2376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92720" y="4697280"/>
              <a:ext cx="442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7000" y="471024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8160" y="4710240"/>
              <a:ext cx="7452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22680" y="4722840"/>
              <a:ext cx="1494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72080" y="4734000"/>
              <a:ext cx="7452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46600" y="473400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57760" y="4734000"/>
              <a:ext cx="38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95920" y="4734000"/>
              <a:ext cx="252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1120" y="4746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21120" y="474660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32280" y="4746600"/>
              <a:ext cx="18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808520" y="4757760"/>
              <a:ext cx="237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782960" y="4770360"/>
              <a:ext cx="2232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770000" y="478152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733640" y="478152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672080" y="479412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610160" y="4805280"/>
              <a:ext cx="61920" cy="12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548240" y="4819680"/>
              <a:ext cx="6192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510080" y="4819680"/>
              <a:ext cx="38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486320" y="481968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411800" y="4819680"/>
              <a:ext cx="6480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373640" y="4830840"/>
              <a:ext cx="38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311720" y="483084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4300200" y="4843440"/>
              <a:ext cx="111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287600" y="484344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262400" y="4843440"/>
              <a:ext cx="2232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62400" y="4854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62400" y="4854600"/>
              <a:ext cx="18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62400" y="4867200"/>
              <a:ext cx="126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75000" y="4878360"/>
              <a:ext cx="2556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00560" y="4890960"/>
              <a:ext cx="61920" cy="241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62480" y="491508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86240" y="491508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05320" y="4915080"/>
              <a:ext cx="42840" cy="10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48160" y="492768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14760" y="4938840"/>
              <a:ext cx="69840" cy="21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9640" y="4962600"/>
              <a:ext cx="331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22760" y="4975200"/>
              <a:ext cx="2376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1200" y="498636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84680" y="4998960"/>
              <a:ext cx="1116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00520" y="4998960"/>
              <a:ext cx="3348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734000" y="501012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57760" y="5010120"/>
              <a:ext cx="144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4761000" y="5000760"/>
              <a:ext cx="2196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82960" y="4998960"/>
              <a:ext cx="180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4782960" y="4986000"/>
              <a:ext cx="18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82960" y="498636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782960" y="4962600"/>
              <a:ext cx="1800" cy="237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82960" y="4962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4770000" y="4938840"/>
              <a:ext cx="12600" cy="237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70360" y="493884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4757400" y="4927320"/>
              <a:ext cx="126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4721040" y="491616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4708440" y="4903560"/>
              <a:ext cx="129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4695480" y="4903920"/>
              <a:ext cx="126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95840" y="4903920"/>
              <a:ext cx="144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4684320" y="4892400"/>
              <a:ext cx="111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671720" y="4890960"/>
              <a:ext cx="1260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4672080" y="4867200"/>
              <a:ext cx="12600" cy="237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684680" y="4855680"/>
              <a:ext cx="111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700520" y="4844520"/>
              <a:ext cx="3348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734000" y="483192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70360" y="4830840"/>
              <a:ext cx="255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4795920" y="4819320"/>
              <a:ext cx="363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32280" y="4819680"/>
              <a:ext cx="255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857840" y="4806720"/>
              <a:ext cx="4896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911840" y="4795920"/>
              <a:ext cx="3312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944960" y="4782600"/>
              <a:ext cx="367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981680" y="4770000"/>
              <a:ext cx="2520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006880" y="4758840"/>
              <a:ext cx="1116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019840" y="4747680"/>
              <a:ext cx="1080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30640" y="47466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5017680" y="4733640"/>
              <a:ext cx="1260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18040" y="4734000"/>
              <a:ext cx="180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4994280" y="4723920"/>
              <a:ext cx="2376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4955760" y="471132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4932360" y="4710240"/>
              <a:ext cx="23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4882680" y="4700160"/>
              <a:ext cx="4284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4821120" y="4687920"/>
              <a:ext cx="5400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770000" y="4686480"/>
              <a:ext cx="50760" cy="144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4695480" y="4673520"/>
              <a:ext cx="74520" cy="129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4659120" y="4673520"/>
              <a:ext cx="3636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622760" y="4673520"/>
              <a:ext cx="36720" cy="18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4547880" y="4664160"/>
              <a:ext cx="65160" cy="93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473360" y="4649400"/>
              <a:ext cx="7452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411800" y="4638240"/>
              <a:ext cx="6192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4349880" y="4625640"/>
              <a:ext cx="61920" cy="1260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4311720" y="4615920"/>
              <a:ext cx="3312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4238280" y="4592520"/>
              <a:ext cx="73080" cy="223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4200120" y="4579560"/>
              <a:ext cx="33480" cy="1116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4176720" y="4568400"/>
              <a:ext cx="23760" cy="9720"/>
            </a:xfrm>
            <a:prstGeom prst="line">
              <a:avLst/>
            </a:prstGeom>
            <a:ln w="12600">
              <a:solidFill>
                <a:srgbClr val="664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46280" y="5611680"/>
              <a:ext cx="112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46640" y="5275440"/>
              <a:ext cx="182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n Chip Cach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34040" y="4986360"/>
              <a:ext cx="2059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n Board  Cach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34400" y="4397400"/>
              <a:ext cx="1038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mory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95600" y="2727360"/>
              <a:ext cx="5205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39400" y="56116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14200" y="52754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41040" y="49626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8680" y="4397400"/>
              <a:ext cx="444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70400" y="1527120"/>
              <a:ext cx="1661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ape /Optical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71120" y="1827360"/>
              <a:ext cx="78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obo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9800" y="152712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63160" y="1393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64800" y="276372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99960" y="26319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88600" y="4241880"/>
              <a:ext cx="1425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cf305"/>
                  </a:solidFill>
                  <a:latin typeface="Arial"/>
                </a:rPr>
                <a:t>Kansas C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09880" y="4979880"/>
              <a:ext cx="3346560" cy="312840"/>
            </a:xfrm>
            <a:custGeom>
              <a:avLst/>
              <a:gdLst/>
              <a:ahLst/>
              <a:rect l="l" t="t" r="r" b="b"/>
              <a:pathLst>
                <a:path w="2108" h="183">
                  <a:moveTo>
                    <a:pt x="0" y="0"/>
                  </a:moveTo>
                  <a:lnTo>
                    <a:pt x="1632" y="7"/>
                  </a:lnTo>
                  <a:lnTo>
                    <a:pt x="2108" y="183"/>
                  </a:lnTo>
                  <a:lnTo>
                    <a:pt x="578" y="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1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58600" y="4900680"/>
              <a:ext cx="2001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This Lecture Hal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56200" y="5527800"/>
              <a:ext cx="471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95840" y="5478480"/>
              <a:ext cx="1103400" cy="133200"/>
            </a:xfrm>
            <a:custGeom>
              <a:avLst/>
              <a:gdLst/>
              <a:ahLst/>
              <a:rect l="l" t="t" r="r" b="b"/>
              <a:pathLst>
                <a:path w="695" h="78">
                  <a:moveTo>
                    <a:pt x="0" y="0"/>
                  </a:moveTo>
                  <a:lnTo>
                    <a:pt x="539" y="0"/>
                  </a:lnTo>
                  <a:lnTo>
                    <a:pt x="695" y="78"/>
                  </a:lnTo>
                  <a:lnTo>
                    <a:pt x="188" y="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080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47240" y="5307120"/>
              <a:ext cx="1289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his Roo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50000" y="5611680"/>
              <a:ext cx="10666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y Hea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57680" y="5618160"/>
              <a:ext cx="235080" cy="142920"/>
            </a:xfrm>
            <a:prstGeom prst="ellipse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75400" y="5767560"/>
              <a:ext cx="144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625720" y="5935680"/>
              <a:ext cx="4932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64240" y="5935680"/>
              <a:ext cx="7308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576400" y="5972040"/>
              <a:ext cx="4932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62440" y="5802480"/>
              <a:ext cx="5112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5613480" y="5802480"/>
              <a:ext cx="4896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61840" y="4962600"/>
              <a:ext cx="80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 mi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49680" y="4205160"/>
              <a:ext cx="681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.5 h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74360" y="2739960"/>
              <a:ext cx="91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 Yea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47600" y="5611680"/>
              <a:ext cx="653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mi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52800" y="4254480"/>
              <a:ext cx="1800" cy="1440"/>
            </a:xfrm>
            <a:prstGeom prst="line">
              <a:avLst/>
            </a:prstGeom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52800" y="4254480"/>
              <a:ext cx="1760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713560" y="4170240"/>
              <a:ext cx="23472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226040" y="4170240"/>
              <a:ext cx="172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3952440" y="4170240"/>
              <a:ext cx="26820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32280" y="3809880"/>
              <a:ext cx="38160" cy="179640"/>
            </a:xfrm>
            <a:custGeom>
              <a:avLst/>
              <a:gdLst/>
              <a:ahLst/>
              <a:rect l="l" t="t" r="r" b="b"/>
              <a:pathLst>
                <a:path w="24" h="105">
                  <a:moveTo>
                    <a:pt x="0" y="105"/>
                  </a:moveTo>
                  <a:lnTo>
                    <a:pt x="16" y="0"/>
                  </a:lnTo>
                  <a:lnTo>
                    <a:pt x="24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832280" y="3809520"/>
              <a:ext cx="2376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57840" y="3809880"/>
              <a:ext cx="1260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23240" y="2679840"/>
              <a:ext cx="60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lut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948280" y="4170240"/>
              <a:ext cx="1800" cy="25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5700600" y="4421160"/>
              <a:ext cx="24768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29680" y="1539720"/>
              <a:ext cx="1437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,000 Year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83040" y="1611360"/>
              <a:ext cx="123840" cy="4752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8" y="28"/>
                  </a:moveTo>
                  <a:lnTo>
                    <a:pt x="54" y="21"/>
                  </a:lnTo>
                  <a:lnTo>
                    <a:pt x="46" y="21"/>
                  </a:lnTo>
                  <a:lnTo>
                    <a:pt x="15" y="7"/>
                  </a:lnTo>
                  <a:lnTo>
                    <a:pt x="0" y="0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fcf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57760" y="1539720"/>
              <a:ext cx="50760" cy="478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8" y="0"/>
                  </a:moveTo>
                  <a:lnTo>
                    <a:pt x="32" y="14"/>
                  </a:lnTo>
                  <a:lnTo>
                    <a:pt x="24" y="28"/>
                  </a:lnTo>
                  <a:lnTo>
                    <a:pt x="0" y="21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95920" y="156384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14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7"/>
                  </a:lnTo>
                  <a:lnTo>
                    <a:pt x="8" y="21"/>
                  </a:lnTo>
                  <a:lnTo>
                    <a:pt x="0" y="21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57760" y="1574640"/>
              <a:ext cx="50760" cy="2412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0" y="0"/>
                  </a:moveTo>
                  <a:lnTo>
                    <a:pt x="8" y="0"/>
                  </a:lnTo>
                  <a:lnTo>
                    <a:pt x="32" y="7"/>
                  </a:lnTo>
                  <a:lnTo>
                    <a:pt x="32" y="14"/>
                  </a:lnTo>
                  <a:lnTo>
                    <a:pt x="24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57760" y="1539720"/>
              <a:ext cx="25200" cy="478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0" y="21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90880" y="177948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7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16360" y="1792440"/>
              <a:ext cx="123840" cy="8244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0" y="21"/>
                  </a:moveTo>
                  <a:lnTo>
                    <a:pt x="47" y="0"/>
                  </a:lnTo>
                  <a:lnTo>
                    <a:pt x="78" y="0"/>
                  </a:lnTo>
                  <a:lnTo>
                    <a:pt x="78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41840" y="1827360"/>
              <a:ext cx="123840" cy="83880"/>
            </a:xfrm>
            <a:custGeom>
              <a:avLst/>
              <a:gdLst/>
              <a:ahLst/>
              <a:rect l="l" t="t" r="r" b="b"/>
              <a:pathLst>
                <a:path w="78" h="49">
                  <a:moveTo>
                    <a:pt x="0" y="21"/>
                  </a:moveTo>
                  <a:lnTo>
                    <a:pt x="47" y="0"/>
                  </a:lnTo>
                  <a:lnTo>
                    <a:pt x="78" y="0"/>
                  </a:lnTo>
                  <a:lnTo>
                    <a:pt x="78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79920" y="1863720"/>
              <a:ext cx="112680" cy="8424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0" y="21"/>
                  </a:moveTo>
                  <a:lnTo>
                    <a:pt x="39" y="0"/>
                  </a:lnTo>
                  <a:lnTo>
                    <a:pt x="71" y="0"/>
                  </a:lnTo>
                  <a:lnTo>
                    <a:pt x="71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43200" y="1900080"/>
              <a:ext cx="85680" cy="7164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4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81280" y="1924200"/>
              <a:ext cx="111240" cy="8244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0" y="21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19360" y="1959120"/>
              <a:ext cx="111240" cy="85680"/>
            </a:xfrm>
            <a:custGeom>
              <a:avLst/>
              <a:gdLst/>
              <a:ahLst/>
              <a:rect l="l" t="t" r="r" b="b"/>
              <a:pathLst>
                <a:path w="70" h="50">
                  <a:moveTo>
                    <a:pt x="0" y="21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81560" y="199548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14"/>
                  </a:moveTo>
                  <a:lnTo>
                    <a:pt x="24" y="0"/>
                  </a:lnTo>
                  <a:lnTo>
                    <a:pt x="55" y="0"/>
                  </a:lnTo>
                  <a:lnTo>
                    <a:pt x="55" y="29"/>
                  </a:lnTo>
                  <a:lnTo>
                    <a:pt x="32" y="43"/>
                  </a:lnTo>
                  <a:lnTo>
                    <a:pt x="0" y="43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32240" y="2019240"/>
              <a:ext cx="100080" cy="8568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0" y="22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5520" y="2055960"/>
              <a:ext cx="86040" cy="7272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14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44760" y="2081160"/>
              <a:ext cx="100080" cy="82440"/>
            </a:xfrm>
            <a:custGeom>
              <a:avLst/>
              <a:gdLst/>
              <a:ahLst/>
              <a:rect l="l" t="t" r="r" b="b"/>
              <a:pathLst>
                <a:path w="63" h="49">
                  <a:moveTo>
                    <a:pt x="0" y="21"/>
                  </a:moveTo>
                  <a:lnTo>
                    <a:pt x="32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21000" y="2116080"/>
              <a:ext cx="74520" cy="7164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14"/>
                  </a:moveTo>
                  <a:lnTo>
                    <a:pt x="15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82840" y="213984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0" y="21"/>
                  </a:moveTo>
                  <a:lnTo>
                    <a:pt x="24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59080" y="2176560"/>
              <a:ext cx="74520" cy="824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5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33880" y="221148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14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09760" y="223524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21"/>
                  </a:moveTo>
                  <a:lnTo>
                    <a:pt x="15" y="0"/>
                  </a:lnTo>
                  <a:lnTo>
                    <a:pt x="46" y="0"/>
                  </a:lnTo>
                  <a:lnTo>
                    <a:pt x="46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97160" y="227160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84560" y="228456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71960" y="2308320"/>
              <a:ext cx="61920" cy="838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59000" y="234324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2" y="43"/>
                  </a:lnTo>
                  <a:lnTo>
                    <a:pt x="0" y="43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47840" y="2367000"/>
              <a:ext cx="61920" cy="856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2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47840" y="2405160"/>
              <a:ext cx="49320" cy="7128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47840" y="2428920"/>
              <a:ext cx="49320" cy="6012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47840" y="244008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1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59000" y="2489040"/>
              <a:ext cx="50760" cy="5904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59000" y="250020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2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1960" y="252396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1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84560" y="254808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0"/>
                  </a:moveTo>
                  <a:lnTo>
                    <a:pt x="31" y="0"/>
                  </a:lnTo>
                  <a:lnTo>
                    <a:pt x="47" y="21"/>
                  </a:lnTo>
                  <a:lnTo>
                    <a:pt x="47" y="49"/>
                  </a:lnTo>
                  <a:lnTo>
                    <a:pt x="16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09760" y="258444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0"/>
                  </a:moveTo>
                  <a:lnTo>
                    <a:pt x="31" y="0"/>
                  </a:lnTo>
                  <a:lnTo>
                    <a:pt x="39" y="7"/>
                  </a:lnTo>
                  <a:lnTo>
                    <a:pt x="39" y="35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20920" y="259560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2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46480" y="2619360"/>
              <a:ext cx="7452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0"/>
                  </a:moveTo>
                  <a:lnTo>
                    <a:pt x="31" y="0"/>
                  </a:lnTo>
                  <a:lnTo>
                    <a:pt x="47" y="14"/>
                  </a:lnTo>
                  <a:lnTo>
                    <a:pt x="47" y="42"/>
                  </a:lnTo>
                  <a:lnTo>
                    <a:pt x="16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1680" y="264312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0"/>
                  </a:moveTo>
                  <a:lnTo>
                    <a:pt x="31" y="0"/>
                  </a:lnTo>
                  <a:lnTo>
                    <a:pt x="46" y="14"/>
                  </a:lnTo>
                  <a:lnTo>
                    <a:pt x="46" y="42"/>
                  </a:lnTo>
                  <a:lnTo>
                    <a:pt x="15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95800" y="266868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0"/>
                  </a:moveTo>
                  <a:lnTo>
                    <a:pt x="31" y="0"/>
                  </a:lnTo>
                  <a:lnTo>
                    <a:pt x="47" y="7"/>
                  </a:lnTo>
                  <a:lnTo>
                    <a:pt x="47" y="36"/>
                  </a:lnTo>
                  <a:lnTo>
                    <a:pt x="16" y="3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21000" y="2679840"/>
              <a:ext cx="87480" cy="7272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0" y="0"/>
                  </a:moveTo>
                  <a:lnTo>
                    <a:pt x="31" y="0"/>
                  </a:lnTo>
                  <a:lnTo>
                    <a:pt x="55" y="14"/>
                  </a:lnTo>
                  <a:lnTo>
                    <a:pt x="55" y="43"/>
                  </a:lnTo>
                  <a:lnTo>
                    <a:pt x="23" y="43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57720" y="270360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0" y="0"/>
                  </a:moveTo>
                  <a:lnTo>
                    <a:pt x="32" y="0"/>
                  </a:lnTo>
                  <a:lnTo>
                    <a:pt x="71" y="29"/>
                  </a:lnTo>
                  <a:lnTo>
                    <a:pt x="71" y="57"/>
                  </a:lnTo>
                  <a:lnTo>
                    <a:pt x="39" y="57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19640" y="2752560"/>
              <a:ext cx="99720" cy="9684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0" y="0"/>
                  </a:moveTo>
                  <a:lnTo>
                    <a:pt x="32" y="0"/>
                  </a:lnTo>
                  <a:lnTo>
                    <a:pt x="63" y="28"/>
                  </a:lnTo>
                  <a:lnTo>
                    <a:pt x="63" y="56"/>
                  </a:lnTo>
                  <a:lnTo>
                    <a:pt x="32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70400" y="2800440"/>
              <a:ext cx="73080" cy="838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0"/>
                  </a:moveTo>
                  <a:lnTo>
                    <a:pt x="31" y="0"/>
                  </a:lnTo>
                  <a:lnTo>
                    <a:pt x="46" y="21"/>
                  </a:lnTo>
                  <a:lnTo>
                    <a:pt x="46" y="49"/>
                  </a:lnTo>
                  <a:lnTo>
                    <a:pt x="15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94160" y="2836800"/>
              <a:ext cx="87120" cy="10800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0" y="0"/>
                  </a:moveTo>
                  <a:lnTo>
                    <a:pt x="31" y="0"/>
                  </a:lnTo>
                  <a:lnTo>
                    <a:pt x="55" y="35"/>
                  </a:lnTo>
                  <a:lnTo>
                    <a:pt x="55" y="63"/>
                  </a:lnTo>
                  <a:lnTo>
                    <a:pt x="24" y="63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32320" y="2897280"/>
              <a:ext cx="61920" cy="950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1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543480" y="2944800"/>
              <a:ext cx="61560" cy="9540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2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8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43480" y="2992320"/>
              <a:ext cx="61560" cy="96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28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2" y="57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32320" y="304020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29"/>
                  </a:moveTo>
                  <a:lnTo>
                    <a:pt x="7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57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06760" y="3089160"/>
              <a:ext cx="74520" cy="9540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0" y="28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81560" y="3137040"/>
              <a:ext cx="74520" cy="838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2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32240" y="317340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0" y="42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1" y="70"/>
                  </a:lnTo>
                  <a:lnTo>
                    <a:pt x="0" y="70"/>
                  </a:lnTo>
                  <a:lnTo>
                    <a:pt x="0" y="42"/>
                  </a:lnTo>
                  <a:close/>
                </a:path>
              </a:pathLst>
            </a:cu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70320" y="3244680"/>
              <a:ext cx="111240" cy="9540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28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08400" y="3292560"/>
              <a:ext cx="111240" cy="9504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28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6"/>
                  </a:lnTo>
                  <a:lnTo>
                    <a:pt x="0" y="56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246480" y="3340080"/>
              <a:ext cx="111240" cy="9828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28"/>
                  </a:moveTo>
                  <a:lnTo>
                    <a:pt x="39" y="0"/>
                  </a:lnTo>
                  <a:lnTo>
                    <a:pt x="70" y="0"/>
                  </a:lnTo>
                  <a:lnTo>
                    <a:pt x="70" y="28"/>
                  </a:lnTo>
                  <a:lnTo>
                    <a:pt x="31" y="57"/>
                  </a:lnTo>
                  <a:lnTo>
                    <a:pt x="0" y="57"/>
                  </a:lnTo>
                  <a:lnTo>
                    <a:pt x="0" y="28"/>
                  </a:lnTo>
                  <a:close/>
                </a:path>
              </a:pathLst>
            </a:cu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47840" y="3387600"/>
              <a:ext cx="147960" cy="109800"/>
            </a:xfrm>
            <a:custGeom>
              <a:avLst/>
              <a:gdLst/>
              <a:ahLst/>
              <a:rect l="l" t="t" r="r" b="b"/>
              <a:pathLst>
                <a:path w="93" h="64">
                  <a:moveTo>
                    <a:pt x="0" y="36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93" y="29"/>
                  </a:lnTo>
                  <a:lnTo>
                    <a:pt x="31" y="64"/>
                  </a:lnTo>
                  <a:lnTo>
                    <a:pt x="0" y="64"/>
                  </a:lnTo>
                  <a:lnTo>
                    <a:pt x="0" y="36"/>
                  </a:lnTo>
                  <a:close/>
                </a:path>
              </a:pathLst>
            </a:cu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10040" y="3449520"/>
              <a:ext cx="87120" cy="7164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14"/>
                  </a:moveTo>
                  <a:lnTo>
                    <a:pt x="24" y="0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097080" y="347328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7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2" y="35"/>
                  </a:lnTo>
                  <a:lnTo>
                    <a:pt x="0" y="35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48120" y="3486240"/>
              <a:ext cx="99720" cy="71280"/>
            </a:xfrm>
            <a:custGeom>
              <a:avLst/>
              <a:gdLst/>
              <a:ahLst/>
              <a:rect l="l" t="t" r="r" b="b"/>
              <a:pathLst>
                <a:path w="63" h="42">
                  <a:moveTo>
                    <a:pt x="0" y="14"/>
                  </a:moveTo>
                  <a:lnTo>
                    <a:pt x="31" y="0"/>
                  </a:lnTo>
                  <a:lnTo>
                    <a:pt x="63" y="0"/>
                  </a:lnTo>
                  <a:lnTo>
                    <a:pt x="63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98800" y="3510000"/>
              <a:ext cx="98280" cy="84240"/>
            </a:xfrm>
            <a:custGeom>
              <a:avLst/>
              <a:gdLst/>
              <a:ahLst/>
              <a:rect l="l" t="t" r="r" b="b"/>
              <a:pathLst>
                <a:path w="62" h="49">
                  <a:moveTo>
                    <a:pt x="0" y="21"/>
                  </a:moveTo>
                  <a:lnTo>
                    <a:pt x="31" y="0"/>
                  </a:lnTo>
                  <a:lnTo>
                    <a:pt x="62" y="0"/>
                  </a:lnTo>
                  <a:lnTo>
                    <a:pt x="62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3240" y="3544920"/>
              <a:ext cx="74880" cy="730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14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36880" y="356868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21"/>
                  </a:moveTo>
                  <a:lnTo>
                    <a:pt x="23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11320" y="3605040"/>
              <a:ext cx="74880" cy="842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0" y="21"/>
                  </a:moveTo>
                  <a:lnTo>
                    <a:pt x="1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31" y="49"/>
                  </a:lnTo>
                  <a:lnTo>
                    <a:pt x="0" y="4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87560" y="364176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4"/>
                  </a:moveTo>
                  <a:lnTo>
                    <a:pt x="15" y="0"/>
                  </a:lnTo>
                  <a:lnTo>
                    <a:pt x="46" y="0"/>
                  </a:lnTo>
                  <a:lnTo>
                    <a:pt x="46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74960" y="366552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14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42"/>
                  </a:lnTo>
                  <a:lnTo>
                    <a:pt x="0" y="42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62360" y="3689280"/>
              <a:ext cx="61920" cy="856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8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49400" y="3724200"/>
              <a:ext cx="61920" cy="8568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0" y="21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1" y="50"/>
                  </a:lnTo>
                  <a:lnTo>
                    <a:pt x="0" y="50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36800" y="376092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57">
                  <a:moveTo>
                    <a:pt x="0" y="29"/>
                  </a:moveTo>
                  <a:lnTo>
                    <a:pt x="8" y="0"/>
                  </a:lnTo>
                  <a:lnTo>
                    <a:pt x="39" y="0"/>
                  </a:lnTo>
                  <a:lnTo>
                    <a:pt x="39" y="29"/>
                  </a:lnTo>
                  <a:lnTo>
                    <a:pt x="32" y="57"/>
                  </a:lnTo>
                  <a:lnTo>
                    <a:pt x="0" y="57"/>
                  </a:lnTo>
                  <a:lnTo>
                    <a:pt x="0" y="29"/>
                  </a:lnTo>
                  <a:close/>
                </a:path>
              </a:pathLst>
            </a:cu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36800" y="3809880"/>
              <a:ext cx="50760" cy="7164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36800" y="3833640"/>
              <a:ext cx="50760" cy="8424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36800" y="3870360"/>
              <a:ext cx="61920" cy="9504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0" y="0"/>
                  </a:moveTo>
                  <a:lnTo>
                    <a:pt x="32" y="0"/>
                  </a:lnTo>
                  <a:lnTo>
                    <a:pt x="39" y="28"/>
                  </a:lnTo>
                  <a:lnTo>
                    <a:pt x="39" y="56"/>
                  </a:lnTo>
                  <a:lnTo>
                    <a:pt x="8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49400" y="391788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0"/>
                  </a:moveTo>
                  <a:lnTo>
                    <a:pt x="31" y="0"/>
                  </a:lnTo>
                  <a:lnTo>
                    <a:pt x="39" y="21"/>
                  </a:lnTo>
                  <a:lnTo>
                    <a:pt x="39" y="49"/>
                  </a:lnTo>
                  <a:lnTo>
                    <a:pt x="8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62360" y="395280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0" y="0"/>
                  </a:moveTo>
                  <a:lnTo>
                    <a:pt x="31" y="0"/>
                  </a:lnTo>
                  <a:lnTo>
                    <a:pt x="39" y="21"/>
                  </a:lnTo>
                  <a:lnTo>
                    <a:pt x="39" y="49"/>
                  </a:lnTo>
                  <a:lnTo>
                    <a:pt x="8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74960" y="398952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0" y="0"/>
                  </a:moveTo>
                  <a:lnTo>
                    <a:pt x="31" y="0"/>
                  </a:lnTo>
                  <a:lnTo>
                    <a:pt x="39" y="14"/>
                  </a:lnTo>
                  <a:lnTo>
                    <a:pt x="39" y="42"/>
                  </a:lnTo>
                  <a:lnTo>
                    <a:pt x="8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87560" y="4013280"/>
              <a:ext cx="73080" cy="8388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0" y="0"/>
                  </a:moveTo>
                  <a:lnTo>
                    <a:pt x="31" y="0"/>
                  </a:lnTo>
                  <a:lnTo>
                    <a:pt x="46" y="21"/>
                  </a:lnTo>
                  <a:lnTo>
                    <a:pt x="46" y="49"/>
                  </a:lnTo>
                  <a:lnTo>
                    <a:pt x="15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11320" y="4049640"/>
              <a:ext cx="74880" cy="9684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0" y="0"/>
                  </a:moveTo>
                  <a:lnTo>
                    <a:pt x="31" y="0"/>
                  </a:lnTo>
                  <a:lnTo>
                    <a:pt x="47" y="28"/>
                  </a:lnTo>
                  <a:lnTo>
                    <a:pt x="47" y="57"/>
                  </a:lnTo>
                  <a:lnTo>
                    <a:pt x="16" y="57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36880" y="4097160"/>
              <a:ext cx="85680" cy="96840"/>
            </a:xfrm>
            <a:custGeom>
              <a:avLst/>
              <a:gdLst/>
              <a:ahLst/>
              <a:rect l="l" t="t" r="r" b="b"/>
              <a:pathLst>
                <a:path w="54" h="57">
                  <a:moveTo>
                    <a:pt x="0" y="0"/>
                  </a:moveTo>
                  <a:lnTo>
                    <a:pt x="31" y="0"/>
                  </a:lnTo>
                  <a:lnTo>
                    <a:pt x="54" y="29"/>
                  </a:lnTo>
                  <a:lnTo>
                    <a:pt x="54" y="57"/>
                  </a:lnTo>
                  <a:lnTo>
                    <a:pt x="23" y="57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3240" y="4146480"/>
              <a:ext cx="87480" cy="9540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0" y="0"/>
                  </a:moveTo>
                  <a:lnTo>
                    <a:pt x="31" y="0"/>
                  </a:lnTo>
                  <a:lnTo>
                    <a:pt x="55" y="28"/>
                  </a:lnTo>
                  <a:lnTo>
                    <a:pt x="55" y="56"/>
                  </a:lnTo>
                  <a:lnTo>
                    <a:pt x="24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11400" y="419400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0"/>
                  </a:moveTo>
                  <a:lnTo>
                    <a:pt x="31" y="0"/>
                  </a:lnTo>
                  <a:lnTo>
                    <a:pt x="54" y="21"/>
                  </a:lnTo>
                  <a:lnTo>
                    <a:pt x="54" y="49"/>
                  </a:lnTo>
                  <a:lnTo>
                    <a:pt x="23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48120" y="4230720"/>
              <a:ext cx="87120" cy="8244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0" y="0"/>
                  </a:moveTo>
                  <a:lnTo>
                    <a:pt x="31" y="0"/>
                  </a:lnTo>
                  <a:lnTo>
                    <a:pt x="55" y="21"/>
                  </a:lnTo>
                  <a:lnTo>
                    <a:pt x="55" y="49"/>
                  </a:lnTo>
                  <a:lnTo>
                    <a:pt x="24" y="49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86280" y="426564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31" y="0"/>
                  </a:lnTo>
                  <a:lnTo>
                    <a:pt x="62" y="28"/>
                  </a:lnTo>
                  <a:lnTo>
                    <a:pt x="62" y="56"/>
                  </a:lnTo>
                  <a:lnTo>
                    <a:pt x="31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35240" y="4313160"/>
              <a:ext cx="111240" cy="9684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0"/>
                  </a:moveTo>
                  <a:lnTo>
                    <a:pt x="31" y="0"/>
                  </a:lnTo>
                  <a:lnTo>
                    <a:pt x="70" y="28"/>
                  </a:lnTo>
                  <a:lnTo>
                    <a:pt x="70" y="56"/>
                  </a:lnTo>
                  <a:lnTo>
                    <a:pt x="39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97160" y="4362480"/>
              <a:ext cx="98640" cy="9540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31" y="0"/>
                  </a:lnTo>
                  <a:lnTo>
                    <a:pt x="62" y="28"/>
                  </a:lnTo>
                  <a:lnTo>
                    <a:pt x="62" y="56"/>
                  </a:lnTo>
                  <a:lnTo>
                    <a:pt x="31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46480" y="4410000"/>
              <a:ext cx="111240" cy="9684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0"/>
                  </a:moveTo>
                  <a:lnTo>
                    <a:pt x="31" y="0"/>
                  </a:lnTo>
                  <a:lnTo>
                    <a:pt x="70" y="28"/>
                  </a:lnTo>
                  <a:lnTo>
                    <a:pt x="70" y="57"/>
                  </a:lnTo>
                  <a:lnTo>
                    <a:pt x="39" y="57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08400" y="4457880"/>
              <a:ext cx="111240" cy="96480"/>
            </a:xfrm>
            <a:custGeom>
              <a:avLst/>
              <a:gdLst/>
              <a:ahLst/>
              <a:rect l="l" t="t" r="r" b="b"/>
              <a:pathLst>
                <a:path w="70" h="57">
                  <a:moveTo>
                    <a:pt x="0" y="0"/>
                  </a:moveTo>
                  <a:lnTo>
                    <a:pt x="31" y="0"/>
                  </a:lnTo>
                  <a:lnTo>
                    <a:pt x="70" y="29"/>
                  </a:lnTo>
                  <a:lnTo>
                    <a:pt x="70" y="57"/>
                  </a:lnTo>
                  <a:lnTo>
                    <a:pt x="39" y="57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70320" y="4506840"/>
              <a:ext cx="123840" cy="9540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0" y="0"/>
                  </a:moveTo>
                  <a:lnTo>
                    <a:pt x="31" y="0"/>
                  </a:lnTo>
                  <a:lnTo>
                    <a:pt x="78" y="28"/>
                  </a:lnTo>
                  <a:lnTo>
                    <a:pt x="78" y="56"/>
                  </a:lnTo>
                  <a:lnTo>
                    <a:pt x="47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44840" y="4554360"/>
              <a:ext cx="111240" cy="95400"/>
            </a:xfrm>
            <a:custGeom>
              <a:avLst/>
              <a:gdLst/>
              <a:ahLst/>
              <a:rect l="l" t="t" r="r" b="b"/>
              <a:pathLst>
                <a:path w="70" h="56">
                  <a:moveTo>
                    <a:pt x="0" y="0"/>
                  </a:moveTo>
                  <a:lnTo>
                    <a:pt x="31" y="0"/>
                  </a:lnTo>
                  <a:lnTo>
                    <a:pt x="70" y="28"/>
                  </a:lnTo>
                  <a:lnTo>
                    <a:pt x="70" y="56"/>
                  </a:lnTo>
                  <a:lnTo>
                    <a:pt x="39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06760" y="4602240"/>
              <a:ext cx="136440" cy="9504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0" y="0"/>
                  </a:moveTo>
                  <a:lnTo>
                    <a:pt x="31" y="0"/>
                  </a:lnTo>
                  <a:lnTo>
                    <a:pt x="86" y="28"/>
                  </a:lnTo>
                  <a:lnTo>
                    <a:pt x="86" y="56"/>
                  </a:lnTo>
                  <a:lnTo>
                    <a:pt x="55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94240" y="4649760"/>
              <a:ext cx="123840" cy="9684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0" y="0"/>
                  </a:moveTo>
                  <a:lnTo>
                    <a:pt x="31" y="0"/>
                  </a:lnTo>
                  <a:lnTo>
                    <a:pt x="78" y="28"/>
                  </a:lnTo>
                  <a:lnTo>
                    <a:pt x="78" y="56"/>
                  </a:lnTo>
                  <a:lnTo>
                    <a:pt x="46" y="5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66960" y="4697280"/>
              <a:ext cx="87480" cy="7308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0"/>
                  </a:moveTo>
                  <a:lnTo>
                    <a:pt x="32" y="0"/>
                  </a:lnTo>
                  <a:lnTo>
                    <a:pt x="55" y="14"/>
                  </a:lnTo>
                  <a:lnTo>
                    <a:pt x="55" y="42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3560" y="4546440"/>
              <a:ext cx="7920" cy="7920"/>
            </a:xfrm>
            <a:prstGeom prst="line">
              <a:avLst/>
            </a:prstGeom>
            <a:ln w="2556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13560" y="4546440"/>
              <a:ext cx="7920" cy="792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13560" y="4522680"/>
              <a:ext cx="33120" cy="31680"/>
            </a:xfrm>
            <a:prstGeom prst="line">
              <a:avLst/>
            </a:prstGeom>
            <a:ln w="25560">
              <a:solidFill>
                <a:srgbClr val="1f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13560" y="4498920"/>
              <a:ext cx="58680" cy="55440"/>
            </a:xfrm>
            <a:prstGeom prst="line">
              <a:avLst/>
            </a:prstGeom>
            <a:ln w="25560">
              <a:solidFill>
                <a:srgbClr val="25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13560" y="4498920"/>
              <a:ext cx="58680" cy="5544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13560" y="4476600"/>
              <a:ext cx="82440" cy="7776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13560" y="4452840"/>
              <a:ext cx="107640" cy="101520"/>
            </a:xfrm>
            <a:prstGeom prst="line">
              <a:avLst/>
            </a:prstGeom>
            <a:ln w="255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13560" y="4440240"/>
              <a:ext cx="120600" cy="114120"/>
            </a:xfrm>
            <a:prstGeom prst="line">
              <a:avLst/>
            </a:prstGeom>
            <a:ln w="25560">
              <a:solidFill>
                <a:srgbClr val="3e3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713560" y="4429080"/>
              <a:ext cx="134640" cy="125280"/>
            </a:xfrm>
            <a:prstGeom prst="line">
              <a:avLst/>
            </a:prstGeom>
            <a:ln w="255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13560" y="4403880"/>
              <a:ext cx="158760" cy="150480"/>
            </a:xfrm>
            <a:prstGeom prst="line">
              <a:avLst/>
            </a:prstGeom>
            <a:ln w="255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713560" y="4392720"/>
              <a:ext cx="171360" cy="161640"/>
            </a:xfrm>
            <a:prstGeom prst="line">
              <a:avLst/>
            </a:prstGeom>
            <a:ln w="255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13560" y="4379760"/>
              <a:ext cx="185760" cy="174600"/>
            </a:xfrm>
            <a:prstGeom prst="line">
              <a:avLst/>
            </a:prstGeom>
            <a:ln w="25560">
              <a:solidFill>
                <a:srgbClr val="5757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713560" y="4357800"/>
              <a:ext cx="209520" cy="196560"/>
            </a:xfrm>
            <a:prstGeom prst="line">
              <a:avLst/>
            </a:prstGeom>
            <a:ln w="255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13560" y="4334040"/>
              <a:ext cx="234720" cy="21888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13560" y="4322880"/>
              <a:ext cx="234720" cy="218880"/>
            </a:xfrm>
            <a:prstGeom prst="line">
              <a:avLst/>
            </a:prstGeom>
            <a:ln w="25560">
              <a:solidFill>
                <a:srgbClr val="6a6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13560" y="4309920"/>
              <a:ext cx="234720" cy="21924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13560" y="4286160"/>
              <a:ext cx="234720" cy="220680"/>
            </a:xfrm>
            <a:prstGeom prst="line">
              <a:avLst/>
            </a:prstGeom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13560" y="4275000"/>
              <a:ext cx="234720" cy="219240"/>
            </a:xfrm>
            <a:prstGeom prst="line">
              <a:avLst/>
            </a:prstGeom>
            <a:ln w="25560">
              <a:solidFill>
                <a:srgbClr val="7c7c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13560" y="4262400"/>
              <a:ext cx="234720" cy="220680"/>
            </a:xfrm>
            <a:prstGeom prst="line">
              <a:avLst/>
            </a:prstGeom>
            <a:ln w="25560">
              <a:solidFill>
                <a:srgbClr val="83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3560" y="4240080"/>
              <a:ext cx="234720" cy="219240"/>
            </a:xfrm>
            <a:prstGeom prst="line">
              <a:avLst/>
            </a:prstGeom>
            <a:ln w="25560">
              <a:solidFill>
                <a:srgbClr val="8989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3560" y="4229280"/>
              <a:ext cx="234720" cy="21744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13560" y="4205160"/>
              <a:ext cx="234720" cy="217440"/>
            </a:xfrm>
            <a:prstGeom prst="line">
              <a:avLst/>
            </a:prstGeom>
            <a:ln w="25560">
              <a:solidFill>
                <a:srgbClr val="95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13560" y="4192560"/>
              <a:ext cx="234720" cy="21924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000" y="4183200"/>
              <a:ext cx="233280" cy="215640"/>
            </a:xfrm>
            <a:prstGeom prst="line">
              <a:avLst/>
            </a:prstGeom>
            <a:ln w="255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40560" y="4183200"/>
              <a:ext cx="207720" cy="193680"/>
            </a:xfrm>
            <a:prstGeom prst="line">
              <a:avLst/>
            </a:prstGeom>
            <a:ln w="2556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53160" y="4183200"/>
              <a:ext cx="195120" cy="182520"/>
            </a:xfrm>
            <a:prstGeom prst="line">
              <a:avLst/>
            </a:prstGeom>
            <a:ln w="255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76920" y="4183200"/>
              <a:ext cx="171360" cy="160200"/>
            </a:xfrm>
            <a:prstGeom prst="line">
              <a:avLst/>
            </a:prstGeom>
            <a:ln w="255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91320" y="4183200"/>
              <a:ext cx="156960" cy="145800"/>
            </a:xfrm>
            <a:prstGeom prst="line">
              <a:avLst/>
            </a:prstGeom>
            <a:ln w="25560">
              <a:solidFill>
                <a:srgbClr val="bb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4183200"/>
              <a:ext cx="131760" cy="122040"/>
            </a:xfrm>
            <a:prstGeom prst="line">
              <a:avLst/>
            </a:prstGeom>
            <a:ln w="25560">
              <a:solidFill>
                <a:srgbClr val="c1c1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29480" y="4183200"/>
              <a:ext cx="118800" cy="11088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42080" y="4183200"/>
              <a:ext cx="106200" cy="9828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867280" y="4183200"/>
              <a:ext cx="81000" cy="7452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78440" y="4183200"/>
              <a:ext cx="69840" cy="63360"/>
            </a:xfrm>
            <a:prstGeom prst="line">
              <a:avLst/>
            </a:prstGeom>
            <a:ln w="255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91040" y="4183200"/>
              <a:ext cx="57240" cy="52200"/>
            </a:xfrm>
            <a:prstGeom prst="line">
              <a:avLst/>
            </a:prstGeom>
            <a:ln w="255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16600" y="4183200"/>
              <a:ext cx="31680" cy="2844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42160" y="4183200"/>
              <a:ext cx="6120" cy="4680"/>
            </a:xfrm>
            <a:prstGeom prst="line">
              <a:avLst/>
            </a:prstGeom>
            <a:ln w="25560">
              <a:solidFill>
                <a:srgbClr val="ede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42160" y="4183200"/>
              <a:ext cx="6120" cy="4680"/>
            </a:xfrm>
            <a:prstGeom prst="line">
              <a:avLst/>
            </a:prstGeom>
            <a:ln w="2556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13560" y="4170240"/>
              <a:ext cx="234720" cy="384120"/>
            </a:xfrm>
            <a:custGeom>
              <a:avLst/>
              <a:gdLst/>
              <a:ahLst/>
              <a:rect l="l" t="t" r="r" b="b"/>
              <a:pathLst>
                <a:path w="148" h="225">
                  <a:moveTo>
                    <a:pt x="0" y="49"/>
                  </a:moveTo>
                  <a:lnTo>
                    <a:pt x="148" y="0"/>
                  </a:lnTo>
                  <a:lnTo>
                    <a:pt x="148" y="140"/>
                  </a:lnTo>
                  <a:lnTo>
                    <a:pt x="0" y="225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5937120" y="4242960"/>
              <a:ext cx="11160" cy="1116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911920" y="4219200"/>
              <a:ext cx="36360" cy="34920"/>
            </a:xfrm>
            <a:prstGeom prst="line">
              <a:avLst/>
            </a:prstGeom>
            <a:ln w="25560">
              <a:solidFill>
                <a:srgbClr val="040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886360" y="4194000"/>
              <a:ext cx="61920" cy="60480"/>
            </a:xfrm>
            <a:prstGeom prst="line">
              <a:avLst/>
            </a:prstGeom>
            <a:ln w="2556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886360" y="4194000"/>
              <a:ext cx="61920" cy="60480"/>
            </a:xfrm>
            <a:prstGeom prst="line">
              <a:avLst/>
            </a:prstGeom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5862600" y="4171680"/>
              <a:ext cx="85680" cy="82440"/>
            </a:xfrm>
            <a:prstGeom prst="line">
              <a:avLst/>
            </a:prstGeom>
            <a:ln w="25560">
              <a:solidFill>
                <a:srgbClr val="0a0a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838840" y="4170240"/>
              <a:ext cx="85680" cy="84240"/>
            </a:xfrm>
            <a:prstGeom prst="line">
              <a:avLst/>
            </a:prstGeom>
            <a:ln w="255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838840" y="4170240"/>
              <a:ext cx="85680" cy="84240"/>
            </a:xfrm>
            <a:prstGeom prst="line">
              <a:avLst/>
            </a:prstGeom>
            <a:ln w="2556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810400" y="4170240"/>
              <a:ext cx="85680" cy="84240"/>
            </a:xfrm>
            <a:prstGeom prst="line">
              <a:avLst/>
            </a:prstGeom>
            <a:ln w="25560">
              <a:solidFill>
                <a:srgbClr val="101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5786280" y="4170240"/>
              <a:ext cx="86040" cy="84240"/>
            </a:xfrm>
            <a:prstGeom prst="line">
              <a:avLst/>
            </a:prstGeom>
            <a:ln w="2556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5761080" y="4170240"/>
              <a:ext cx="85680" cy="84240"/>
            </a:xfrm>
            <a:prstGeom prst="line">
              <a:avLst/>
            </a:prstGeom>
            <a:ln w="25560">
              <a:solidFill>
                <a:srgbClr val="141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5761080" y="4170240"/>
              <a:ext cx="85680" cy="8424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5737320" y="4170240"/>
              <a:ext cx="85680" cy="8424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713560" y="4170240"/>
              <a:ext cx="85680" cy="8424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713560" y="4170240"/>
              <a:ext cx="85680" cy="8424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5688000" y="4170240"/>
              <a:ext cx="85680" cy="8424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662440" y="4170240"/>
              <a:ext cx="86040" cy="8424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49840" y="4170240"/>
              <a:ext cx="85680" cy="8424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5637240" y="4170240"/>
              <a:ext cx="85680" cy="84240"/>
            </a:xfrm>
            <a:prstGeom prst="line">
              <a:avLst/>
            </a:prstGeom>
            <a:ln w="25560">
              <a:solidFill>
                <a:srgbClr val="25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613480" y="4170240"/>
              <a:ext cx="85680" cy="8424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5589720" y="4170240"/>
              <a:ext cx="85680" cy="84240"/>
            </a:xfrm>
            <a:prstGeom prst="line">
              <a:avLst/>
            </a:prstGeom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589720" y="4170240"/>
              <a:ext cx="85680" cy="8424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564160" y="4170240"/>
              <a:ext cx="85680" cy="84240"/>
            </a:xfrm>
            <a:prstGeom prst="line">
              <a:avLst/>
            </a:prstGeom>
            <a:ln w="25560">
              <a:solidFill>
                <a:srgbClr val="2d2d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5538960" y="4170240"/>
              <a:ext cx="85680" cy="8424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526000" y="4170240"/>
              <a:ext cx="85680" cy="8424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514840" y="4170240"/>
              <a:ext cx="86040" cy="842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489640" y="4170240"/>
              <a:ext cx="85680" cy="84240"/>
            </a:xfrm>
            <a:prstGeom prst="line">
              <a:avLst/>
            </a:prstGeom>
            <a:ln w="25560">
              <a:solidFill>
                <a:srgbClr val="35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465880" y="4170240"/>
              <a:ext cx="85680" cy="84240"/>
            </a:xfrm>
            <a:prstGeom prst="line">
              <a:avLst/>
            </a:prstGeom>
            <a:ln w="2556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465880" y="4170240"/>
              <a:ext cx="85680" cy="8424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440320" y="4170240"/>
              <a:ext cx="85680" cy="84240"/>
            </a:xfrm>
            <a:prstGeom prst="line">
              <a:avLst/>
            </a:prstGeom>
            <a:ln w="25560">
              <a:solidFill>
                <a:srgbClr val="3b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416560" y="4170240"/>
              <a:ext cx="85680" cy="84240"/>
            </a:xfrm>
            <a:prstGeom prst="line">
              <a:avLst/>
            </a:prstGeom>
            <a:ln w="255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5403960" y="4170240"/>
              <a:ext cx="85680" cy="84240"/>
            </a:xfrm>
            <a:prstGeom prst="line">
              <a:avLst/>
            </a:prstGeom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5391000" y="4170240"/>
              <a:ext cx="86040" cy="84240"/>
            </a:xfrm>
            <a:prstGeom prst="line">
              <a:avLst/>
            </a:prstGeom>
            <a:ln w="255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365800" y="4170240"/>
              <a:ext cx="85680" cy="84240"/>
            </a:xfrm>
            <a:prstGeom prst="line">
              <a:avLst/>
            </a:prstGeom>
            <a:ln w="2556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354640" y="4170240"/>
              <a:ext cx="85680" cy="84240"/>
            </a:xfrm>
            <a:prstGeom prst="line">
              <a:avLst/>
            </a:prstGeom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342040" y="4170240"/>
              <a:ext cx="85680" cy="84240"/>
            </a:xfrm>
            <a:prstGeom prst="line">
              <a:avLst/>
            </a:prstGeom>
            <a:ln w="25560">
              <a:solidFill>
                <a:srgbClr val="4848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316480" y="4170240"/>
              <a:ext cx="85680" cy="84240"/>
            </a:xfrm>
            <a:prstGeom prst="line">
              <a:avLst/>
            </a:prstGeom>
            <a:ln w="255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5292720" y="4170240"/>
              <a:ext cx="85680" cy="84240"/>
            </a:xfrm>
            <a:prstGeom prst="line">
              <a:avLst/>
            </a:prstGeom>
            <a:ln w="2556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5280120" y="4170240"/>
              <a:ext cx="85680" cy="84240"/>
            </a:xfrm>
            <a:prstGeom prst="line">
              <a:avLst/>
            </a:prstGeom>
            <a:ln w="25560">
              <a:solidFill>
                <a:srgbClr val="4e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267160" y="4170240"/>
              <a:ext cx="86040" cy="84240"/>
            </a:xfrm>
            <a:prstGeom prst="line">
              <a:avLst/>
            </a:prstGeom>
            <a:ln w="2556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241960" y="4170240"/>
              <a:ext cx="85680" cy="8424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230800" y="4170240"/>
              <a:ext cx="85680" cy="84240"/>
            </a:xfrm>
            <a:prstGeom prst="line">
              <a:avLst/>
            </a:prstGeom>
            <a:ln w="25560">
              <a:solidFill>
                <a:srgbClr val="5454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218200" y="4170240"/>
              <a:ext cx="85680" cy="84240"/>
            </a:xfrm>
            <a:prstGeom prst="line">
              <a:avLst/>
            </a:prstGeom>
            <a:ln w="2556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194440" y="4170240"/>
              <a:ext cx="85680" cy="84240"/>
            </a:xfrm>
            <a:prstGeom prst="line">
              <a:avLst/>
            </a:prstGeom>
            <a:ln w="2556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181480" y="4170240"/>
              <a:ext cx="85680" cy="8424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156280" y="4170240"/>
              <a:ext cx="85680" cy="84240"/>
            </a:xfrm>
            <a:prstGeom prst="line">
              <a:avLst/>
            </a:prstGeom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143680" y="4170240"/>
              <a:ext cx="85680" cy="84240"/>
            </a:xfrm>
            <a:prstGeom prst="line">
              <a:avLst/>
            </a:prstGeom>
            <a:ln w="25560">
              <a:solidFill>
                <a:srgbClr val="5e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118120" y="4170240"/>
              <a:ext cx="85680" cy="84240"/>
            </a:xfrm>
            <a:prstGeom prst="line">
              <a:avLst/>
            </a:prstGeom>
            <a:ln w="255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106960" y="4170240"/>
              <a:ext cx="85680" cy="8424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092560" y="4170240"/>
              <a:ext cx="86040" cy="84240"/>
            </a:xfrm>
            <a:prstGeom prst="line">
              <a:avLst/>
            </a:prstGeom>
            <a:ln w="25560">
              <a:solidFill>
                <a:srgbClr val="6565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5067360" y="4170240"/>
              <a:ext cx="85680" cy="8424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5054760" y="4170240"/>
              <a:ext cx="85680" cy="84240"/>
            </a:xfrm>
            <a:prstGeom prst="line">
              <a:avLst/>
            </a:prstGeom>
            <a:ln w="25560">
              <a:solidFill>
                <a:srgbClr val="69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5030640" y="4170240"/>
              <a:ext cx="86040" cy="84240"/>
            </a:xfrm>
            <a:prstGeom prst="line">
              <a:avLst/>
            </a:prstGeom>
            <a:ln w="2556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5018040" y="4170240"/>
              <a:ext cx="85680" cy="84240"/>
            </a:xfrm>
            <a:prstGeom prst="line">
              <a:avLst/>
            </a:prstGeom>
            <a:ln w="2556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4992840" y="4170240"/>
              <a:ext cx="85680" cy="84240"/>
            </a:xfrm>
            <a:prstGeom prst="line">
              <a:avLst/>
            </a:prstGeom>
            <a:ln w="25560">
              <a:solidFill>
                <a:srgbClr val="6f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4979880" y="4170240"/>
              <a:ext cx="85680" cy="84240"/>
            </a:xfrm>
            <a:prstGeom prst="line">
              <a:avLst/>
            </a:prstGeom>
            <a:ln w="25560">
              <a:solidFill>
                <a:srgbClr val="7171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4968720" y="4170240"/>
              <a:ext cx="86040" cy="84240"/>
            </a:xfrm>
            <a:prstGeom prst="line">
              <a:avLst/>
            </a:prstGeom>
            <a:ln w="25560">
              <a:solidFill>
                <a:srgbClr val="737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4944960" y="4170240"/>
              <a:ext cx="85680" cy="84240"/>
            </a:xfrm>
            <a:prstGeom prst="line">
              <a:avLst/>
            </a:prstGeom>
            <a:ln w="25560">
              <a:solidFill>
                <a:srgbClr val="75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4932360" y="4170240"/>
              <a:ext cx="85680" cy="8424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4906800" y="4170240"/>
              <a:ext cx="86040" cy="84240"/>
            </a:xfrm>
            <a:prstGeom prst="line">
              <a:avLst/>
            </a:prstGeom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4894200" y="4170240"/>
              <a:ext cx="85680" cy="84240"/>
            </a:xfrm>
            <a:prstGeom prst="line">
              <a:avLst/>
            </a:prstGeom>
            <a:ln w="2556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4881600" y="4170240"/>
              <a:ext cx="85680" cy="84240"/>
            </a:xfrm>
            <a:prstGeom prst="line">
              <a:avLst/>
            </a:prstGeom>
            <a:ln w="25560">
              <a:solidFill>
                <a:srgbClr val="7d7d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4857840" y="4170240"/>
              <a:ext cx="85680" cy="8424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844880" y="4170240"/>
              <a:ext cx="86040" cy="84240"/>
            </a:xfrm>
            <a:prstGeom prst="line">
              <a:avLst/>
            </a:prstGeom>
            <a:ln w="2556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4821120" y="4170240"/>
              <a:ext cx="85680" cy="84240"/>
            </a:xfrm>
            <a:prstGeom prst="line">
              <a:avLst/>
            </a:prstGeom>
            <a:ln w="25560">
              <a:solidFill>
                <a:srgbClr val="84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808520" y="4170240"/>
              <a:ext cx="85680" cy="8424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4795920" y="4170240"/>
              <a:ext cx="85680" cy="84240"/>
            </a:xfrm>
            <a:prstGeom prst="line">
              <a:avLst/>
            </a:prstGeom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770360" y="4170240"/>
              <a:ext cx="85680" cy="84240"/>
            </a:xfrm>
            <a:prstGeom prst="line">
              <a:avLst/>
            </a:prstGeom>
            <a:ln w="25560">
              <a:solidFill>
                <a:srgbClr val="8a8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4757760" y="4170240"/>
              <a:ext cx="85680" cy="84240"/>
            </a:xfrm>
            <a:prstGeom prst="line">
              <a:avLst/>
            </a:prstGeom>
            <a:ln w="25560">
              <a:solidFill>
                <a:srgbClr val="8c8c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734000" y="4170240"/>
              <a:ext cx="85680" cy="84240"/>
            </a:xfrm>
            <a:prstGeom prst="line">
              <a:avLst/>
            </a:prstGeom>
            <a:ln w="25560">
              <a:solidFill>
                <a:srgbClr val="8e8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4721400" y="4170240"/>
              <a:ext cx="85680" cy="84240"/>
            </a:xfrm>
            <a:prstGeom prst="line">
              <a:avLst/>
            </a:prstGeom>
            <a:ln w="25560">
              <a:solidFill>
                <a:srgbClr val="909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4710240" y="4170240"/>
              <a:ext cx="85680" cy="84240"/>
            </a:xfrm>
            <a:prstGeom prst="line">
              <a:avLst/>
            </a:prstGeom>
            <a:ln w="25560">
              <a:solidFill>
                <a:srgbClr val="92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4684680" y="4170240"/>
              <a:ext cx="85680" cy="84240"/>
            </a:xfrm>
            <a:prstGeom prst="line">
              <a:avLst/>
            </a:prstGeom>
            <a:ln w="25560">
              <a:solidFill>
                <a:srgbClr val="94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4672080" y="4170240"/>
              <a:ext cx="85680" cy="8424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648320" y="4170240"/>
              <a:ext cx="85680" cy="84240"/>
            </a:xfrm>
            <a:prstGeom prst="line">
              <a:avLst/>
            </a:prstGeom>
            <a:ln w="25560">
              <a:solidFill>
                <a:srgbClr val="98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4635360" y="4170240"/>
              <a:ext cx="86040" cy="84240"/>
            </a:xfrm>
            <a:prstGeom prst="line">
              <a:avLst/>
            </a:prstGeom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610160" y="4170240"/>
              <a:ext cx="85680" cy="8424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597560" y="4170240"/>
              <a:ext cx="85680" cy="84240"/>
            </a:xfrm>
            <a:prstGeom prst="line">
              <a:avLst/>
            </a:prstGeom>
            <a:ln w="255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4586400" y="4170240"/>
              <a:ext cx="85680" cy="84240"/>
            </a:xfrm>
            <a:prstGeom prst="line">
              <a:avLst/>
            </a:prstGeom>
            <a:ln w="2556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4560840" y="4170240"/>
              <a:ext cx="85680" cy="84240"/>
            </a:xfrm>
            <a:prstGeom prst="line">
              <a:avLst/>
            </a:prstGeom>
            <a:ln w="255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548240" y="4170240"/>
              <a:ext cx="85680" cy="8424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524480" y="4170240"/>
              <a:ext cx="85680" cy="8424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511520" y="4170240"/>
              <a:ext cx="86040" cy="84240"/>
            </a:xfrm>
            <a:prstGeom prst="line">
              <a:avLst/>
            </a:prstGeom>
            <a:ln w="2556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4486320" y="4170240"/>
              <a:ext cx="85680" cy="84240"/>
            </a:xfrm>
            <a:prstGeom prst="line">
              <a:avLst/>
            </a:prstGeom>
            <a:ln w="2556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473720" y="4170240"/>
              <a:ext cx="85680" cy="8424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4462560" y="4170240"/>
              <a:ext cx="85680" cy="84240"/>
            </a:xfrm>
            <a:prstGeom prst="line">
              <a:avLst/>
            </a:prstGeom>
            <a:ln w="255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437000" y="4170240"/>
              <a:ext cx="85680" cy="84240"/>
            </a:xfrm>
            <a:prstGeom prst="line">
              <a:avLst/>
            </a:prstGeom>
            <a:ln w="25560">
              <a:solidFill>
                <a:srgbClr val="b1b1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4425840" y="4170240"/>
              <a:ext cx="85680" cy="84240"/>
            </a:xfrm>
            <a:prstGeom prst="line">
              <a:avLst/>
            </a:prstGeom>
            <a:ln w="255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4413240" y="4170240"/>
              <a:ext cx="85680" cy="84240"/>
            </a:xfrm>
            <a:prstGeom prst="line">
              <a:avLst/>
            </a:prstGeom>
            <a:ln w="255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4387680" y="4170240"/>
              <a:ext cx="86040" cy="84240"/>
            </a:xfrm>
            <a:prstGeom prst="line">
              <a:avLst/>
            </a:prstGeom>
            <a:ln w="25560">
              <a:solidFill>
                <a:srgbClr val="b7b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4361040" y="4170240"/>
              <a:ext cx="85680" cy="84240"/>
            </a:xfrm>
            <a:prstGeom prst="line">
              <a:avLst/>
            </a:prstGeom>
            <a:ln w="25560">
              <a:solidFill>
                <a:srgbClr val="b9b9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348080" y="4170240"/>
              <a:ext cx="85680" cy="84240"/>
            </a:xfrm>
            <a:prstGeom prst="line">
              <a:avLst/>
            </a:prstGeom>
            <a:ln w="25560">
              <a:solidFill>
                <a:srgbClr val="bb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4336920" y="4170240"/>
              <a:ext cx="85680" cy="84240"/>
            </a:xfrm>
            <a:prstGeom prst="line">
              <a:avLst/>
            </a:prstGeom>
            <a:ln w="25560">
              <a:solidFill>
                <a:srgbClr val="bdb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311720" y="4170240"/>
              <a:ext cx="85680" cy="8424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4300560" y="4170240"/>
              <a:ext cx="85680" cy="84240"/>
            </a:xfrm>
            <a:prstGeom prst="line">
              <a:avLst/>
            </a:prstGeom>
            <a:ln w="255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287960" y="4170240"/>
              <a:ext cx="85680" cy="84240"/>
            </a:xfrm>
            <a:prstGeom prst="line">
              <a:avLst/>
            </a:prstGeom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262400" y="4170240"/>
              <a:ext cx="85680" cy="8424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4237200" y="4170240"/>
              <a:ext cx="85680" cy="84240"/>
            </a:xfrm>
            <a:prstGeom prst="line">
              <a:avLst/>
            </a:prstGeom>
            <a:ln w="25560">
              <a:solidFill>
                <a:srgbClr val="c8c8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4237200" y="4170240"/>
              <a:ext cx="85680" cy="84240"/>
            </a:xfrm>
            <a:prstGeom prst="line">
              <a:avLst/>
            </a:prstGeom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4211640" y="4170240"/>
              <a:ext cx="85680" cy="84240"/>
            </a:xfrm>
            <a:prstGeom prst="line">
              <a:avLst/>
            </a:prstGeom>
            <a:ln w="255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189320" y="4170240"/>
              <a:ext cx="85680" cy="842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176720" y="4170240"/>
              <a:ext cx="85680" cy="84240"/>
            </a:xfrm>
            <a:prstGeom prst="line">
              <a:avLst/>
            </a:prstGeom>
            <a:ln w="2556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164120" y="4170240"/>
              <a:ext cx="85680" cy="84240"/>
            </a:xfrm>
            <a:prstGeom prst="line">
              <a:avLst/>
            </a:prstGeom>
            <a:ln w="255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138560" y="4170240"/>
              <a:ext cx="85680" cy="8424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113360" y="4170240"/>
              <a:ext cx="85680" cy="84240"/>
            </a:xfrm>
            <a:prstGeom prst="line">
              <a:avLst/>
            </a:prstGeom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4113360" y="4170240"/>
              <a:ext cx="85680" cy="84240"/>
            </a:xfrm>
            <a:prstGeom prst="line">
              <a:avLst/>
            </a:prstGeom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089240" y="4170240"/>
              <a:ext cx="86040" cy="84240"/>
            </a:xfrm>
            <a:prstGeom prst="line">
              <a:avLst/>
            </a:prstGeom>
            <a:ln w="2556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064040" y="4170240"/>
              <a:ext cx="85680" cy="84240"/>
            </a:xfrm>
            <a:prstGeom prst="line">
              <a:avLst/>
            </a:prstGeom>
            <a:ln w="2556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4051440" y="4170240"/>
              <a:ext cx="85680" cy="84240"/>
            </a:xfrm>
            <a:prstGeom prst="line">
              <a:avLst/>
            </a:prstGeom>
            <a:ln w="2556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4040280" y="4170240"/>
              <a:ext cx="85680" cy="8424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014720" y="4170240"/>
              <a:ext cx="85680" cy="84240"/>
            </a:xfrm>
            <a:prstGeom prst="line">
              <a:avLst/>
            </a:prstGeom>
            <a:ln w="255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3990960" y="4170240"/>
              <a:ext cx="85680" cy="8424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990960" y="4170240"/>
              <a:ext cx="85680" cy="8424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3989520" y="4170240"/>
              <a:ext cx="60120" cy="6048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3989520" y="4170240"/>
              <a:ext cx="37800" cy="38160"/>
            </a:xfrm>
            <a:prstGeom prst="line">
              <a:avLst/>
            </a:prstGeom>
            <a:ln w="255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989520" y="4170240"/>
              <a:ext cx="37800" cy="38160"/>
            </a:xfrm>
            <a:prstGeom prst="line">
              <a:avLst/>
            </a:prstGeom>
            <a:ln w="25560">
              <a:solidFill>
                <a:srgbClr val="ede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3989520" y="4170240"/>
              <a:ext cx="12600" cy="1440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52800" y="4170240"/>
              <a:ext cx="1995480" cy="84240"/>
            </a:xfrm>
            <a:custGeom>
              <a:avLst/>
              <a:gdLst/>
              <a:ahLst/>
              <a:rect l="l" t="t" r="r" b="b"/>
              <a:pathLst>
                <a:path w="1257" h="49">
                  <a:moveTo>
                    <a:pt x="0" y="49"/>
                  </a:moveTo>
                  <a:lnTo>
                    <a:pt x="1109" y="49"/>
                  </a:lnTo>
                  <a:lnTo>
                    <a:pt x="1257" y="0"/>
                  </a:lnTo>
                  <a:lnTo>
                    <a:pt x="180" y="0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97560" y="3978360"/>
              <a:ext cx="1440" cy="2397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10160" y="3978360"/>
              <a:ext cx="1440" cy="239760"/>
            </a:xfrm>
            <a:prstGeom prst="line">
              <a:avLst/>
            </a:prstGeom>
            <a:ln w="36360">
              <a:solidFill>
                <a:srgbClr val="0b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22760" y="3978360"/>
              <a:ext cx="1800" cy="239760"/>
            </a:xfrm>
            <a:prstGeom prst="line">
              <a:avLst/>
            </a:prstGeom>
            <a:ln w="36360">
              <a:solidFill>
                <a:srgbClr val="1717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33920" y="3978360"/>
              <a:ext cx="1440" cy="239760"/>
            </a:xfrm>
            <a:prstGeom prst="line">
              <a:avLst/>
            </a:prstGeom>
            <a:ln w="363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46520" y="3978360"/>
              <a:ext cx="1800" cy="239760"/>
            </a:xfrm>
            <a:prstGeom prst="line">
              <a:avLst/>
            </a:prstGeom>
            <a:ln w="36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59480" y="3978360"/>
              <a:ext cx="1440" cy="239760"/>
            </a:xfrm>
            <a:prstGeom prst="line">
              <a:avLst/>
            </a:prstGeom>
            <a:ln w="36360">
              <a:solidFill>
                <a:srgbClr val="3a3a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72080" y="3978360"/>
              <a:ext cx="1440" cy="239760"/>
            </a:xfrm>
            <a:prstGeom prst="line">
              <a:avLst/>
            </a:prstGeom>
            <a:ln w="363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84680" y="3978360"/>
              <a:ext cx="1800" cy="239760"/>
            </a:xfrm>
            <a:prstGeom prst="line">
              <a:avLst/>
            </a:prstGeom>
            <a:ln w="3636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695840" y="3978360"/>
              <a:ext cx="1440" cy="239760"/>
            </a:xfrm>
            <a:prstGeom prst="line">
              <a:avLst/>
            </a:prstGeom>
            <a:ln w="3636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08440" y="3978360"/>
              <a:ext cx="1800" cy="239760"/>
            </a:xfrm>
            <a:prstGeom prst="line">
              <a:avLst/>
            </a:prstGeom>
            <a:ln w="363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21400" y="3978360"/>
              <a:ext cx="1440" cy="239760"/>
            </a:xfrm>
            <a:prstGeom prst="line">
              <a:avLst/>
            </a:prstGeom>
            <a:ln w="3636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734000" y="3978360"/>
              <a:ext cx="1440" cy="239760"/>
            </a:xfrm>
            <a:prstGeom prst="line">
              <a:avLst/>
            </a:prstGeom>
            <a:ln w="36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46600" y="3978360"/>
              <a:ext cx="1440" cy="239760"/>
            </a:xfrm>
            <a:prstGeom prst="line">
              <a:avLst/>
            </a:prstGeom>
            <a:ln w="363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57760" y="3978360"/>
              <a:ext cx="1440" cy="239760"/>
            </a:xfrm>
            <a:prstGeom prst="line">
              <a:avLst/>
            </a:prstGeom>
            <a:ln w="363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70360" y="3978360"/>
              <a:ext cx="1800" cy="239760"/>
            </a:xfrm>
            <a:prstGeom prst="line">
              <a:avLst/>
            </a:prstGeom>
            <a:ln w="36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782960" y="3978360"/>
              <a:ext cx="1800" cy="239760"/>
            </a:xfrm>
            <a:prstGeom prst="line">
              <a:avLst/>
            </a:prstGeom>
            <a:ln w="3636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95920" y="3978360"/>
              <a:ext cx="1440" cy="239760"/>
            </a:xfrm>
            <a:prstGeom prst="line">
              <a:avLst/>
            </a:prstGeom>
            <a:ln w="363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08520" y="3978360"/>
              <a:ext cx="1440" cy="239760"/>
            </a:xfrm>
            <a:prstGeom prst="line">
              <a:avLst/>
            </a:prstGeom>
            <a:ln w="36360">
              <a:solidFill>
                <a:srgbClr val="c5c5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21120" y="3978360"/>
              <a:ext cx="1800" cy="239760"/>
            </a:xfrm>
            <a:prstGeom prst="line">
              <a:avLst/>
            </a:prstGeom>
            <a:ln w="3636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32280" y="3978360"/>
              <a:ext cx="1800" cy="239760"/>
            </a:xfrm>
            <a:prstGeom prst="line">
              <a:avLst/>
            </a:prstGeom>
            <a:ln w="36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44880" y="3978360"/>
              <a:ext cx="1800" cy="239760"/>
            </a:xfrm>
            <a:prstGeom prst="line">
              <a:avLst/>
            </a:prstGeom>
            <a:ln w="36360">
              <a:solidFill>
                <a:srgbClr val="e8e8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57840" y="3978360"/>
              <a:ext cx="1440" cy="239760"/>
            </a:xfrm>
            <a:prstGeom prst="line">
              <a:avLst/>
            </a:prstGeom>
            <a:ln w="36360">
              <a:solidFill>
                <a:srgbClr val="f4f4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70440" y="3978360"/>
              <a:ext cx="1440" cy="23976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91080" y="3984480"/>
              <a:ext cx="5583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0"/>
                  </a:moveTo>
                  <a:arcTo wR="10800" hR="10800" stAng="-10777780" swAng="5377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0"/>
                  </a:moveTo>
                  <a:arcTo wR="10800" hR="10800" stAng="-10777780" swAng="537778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70440" y="3989520"/>
              <a:ext cx="1440" cy="228600"/>
            </a:xfrm>
            <a:prstGeom prst="line">
              <a:avLst/>
            </a:prstGeom>
            <a:ln w="36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83040" y="3989520"/>
              <a:ext cx="1800" cy="228600"/>
            </a:xfrm>
            <a:prstGeom prst="line">
              <a:avLst/>
            </a:prstGeom>
            <a:ln w="36360">
              <a:solidFill>
                <a:srgbClr val="f3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94200" y="3989520"/>
              <a:ext cx="1800" cy="228600"/>
            </a:xfrm>
            <a:prstGeom prst="line">
              <a:avLst/>
            </a:prstGeom>
            <a:ln w="363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06800" y="3989520"/>
              <a:ext cx="1800" cy="228600"/>
            </a:xfrm>
            <a:prstGeom prst="line">
              <a:avLst/>
            </a:prstGeom>
            <a:ln w="36360">
              <a:solidFill>
                <a:srgbClr val="dbd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19760" y="3989520"/>
              <a:ext cx="1440" cy="228600"/>
            </a:xfrm>
            <a:prstGeom prst="line">
              <a:avLst/>
            </a:prstGeom>
            <a:ln w="363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932360" y="3989520"/>
              <a:ext cx="1440" cy="228600"/>
            </a:xfrm>
            <a:prstGeom prst="line">
              <a:avLst/>
            </a:prstGeom>
            <a:ln w="36360">
              <a:solidFill>
                <a:srgbClr val="c3c3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44960" y="3989520"/>
              <a:ext cx="1800" cy="228600"/>
            </a:xfrm>
            <a:prstGeom prst="line">
              <a:avLst/>
            </a:prstGeom>
            <a:ln w="36360">
              <a:solidFill>
                <a:srgbClr val="b6b6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56120" y="3989520"/>
              <a:ext cx="1800" cy="228600"/>
            </a:xfrm>
            <a:prstGeom prst="line">
              <a:avLst/>
            </a:prstGeom>
            <a:ln w="363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968720" y="3989520"/>
              <a:ext cx="1800" cy="228600"/>
            </a:xfrm>
            <a:prstGeom prst="line">
              <a:avLst/>
            </a:prstGeom>
            <a:ln w="363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81680" y="3989520"/>
              <a:ext cx="1440" cy="228600"/>
            </a:xfrm>
            <a:prstGeom prst="line">
              <a:avLst/>
            </a:prstGeom>
            <a:ln w="36360">
              <a:solidFill>
                <a:srgbClr val="9292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94280" y="3989520"/>
              <a:ext cx="1440" cy="228600"/>
            </a:xfrm>
            <a:prstGeom prst="line">
              <a:avLst/>
            </a:prstGeom>
            <a:ln w="36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006880" y="3989520"/>
              <a:ext cx="1800" cy="228600"/>
            </a:xfrm>
            <a:prstGeom prst="line">
              <a:avLst/>
            </a:prstGeom>
            <a:ln w="363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018040" y="3989520"/>
              <a:ext cx="1800" cy="228600"/>
            </a:xfrm>
            <a:prstGeom prst="line">
              <a:avLst/>
            </a:prstGeom>
            <a:ln w="3636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30640" y="3989520"/>
              <a:ext cx="1800" cy="228600"/>
            </a:xfrm>
            <a:prstGeom prst="line">
              <a:avLst/>
            </a:prstGeom>
            <a:ln w="363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43600" y="3989520"/>
              <a:ext cx="1440" cy="228600"/>
            </a:xfrm>
            <a:prstGeom prst="line">
              <a:avLst/>
            </a:prstGeom>
            <a:ln w="363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56200" y="3989520"/>
              <a:ext cx="1440" cy="228600"/>
            </a:xfrm>
            <a:prstGeom prst="line">
              <a:avLst/>
            </a:prstGeom>
            <a:ln w="3636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68800" y="3989520"/>
              <a:ext cx="1800" cy="228600"/>
            </a:xfrm>
            <a:prstGeom prst="line">
              <a:avLst/>
            </a:prstGeom>
            <a:ln w="36360">
              <a:solidFill>
                <a:srgbClr val="3c3c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79960" y="3989520"/>
              <a:ext cx="1800" cy="228600"/>
            </a:xfrm>
            <a:prstGeom prst="line">
              <a:avLst/>
            </a:prstGeom>
            <a:ln w="3636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92560" y="3989520"/>
              <a:ext cx="1800" cy="228600"/>
            </a:xfrm>
            <a:prstGeom prst="line">
              <a:avLst/>
            </a:prstGeom>
            <a:ln w="36360">
              <a:solidFill>
                <a:srgbClr val="242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05520" y="3989520"/>
              <a:ext cx="1440" cy="228600"/>
            </a:xfrm>
            <a:prstGeom prst="line">
              <a:avLst/>
            </a:prstGeom>
            <a:ln w="363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18120" y="3989520"/>
              <a:ext cx="1440" cy="228600"/>
            </a:xfrm>
            <a:prstGeom prst="line">
              <a:avLst/>
            </a:prstGeom>
            <a:ln w="36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30720" y="3989520"/>
              <a:ext cx="1800" cy="22860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78840" y="3995640"/>
              <a:ext cx="5580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040280" y="3197160"/>
              <a:ext cx="7920" cy="6480"/>
            </a:xfrm>
            <a:prstGeom prst="line">
              <a:avLst/>
            </a:prstGeom>
            <a:ln w="25560">
              <a:solidFill>
                <a:srgbClr val="16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4040280" y="3197160"/>
              <a:ext cx="31680" cy="3024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4040280" y="3197160"/>
              <a:ext cx="31680" cy="3024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4040280" y="3197160"/>
              <a:ext cx="56880" cy="55800"/>
            </a:xfrm>
            <a:prstGeom prst="line">
              <a:avLst/>
            </a:prstGeom>
            <a:ln w="2556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039920" y="3197160"/>
              <a:ext cx="81000" cy="8100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4039920" y="3197160"/>
              <a:ext cx="106200" cy="104760"/>
            </a:xfrm>
            <a:prstGeom prst="line">
              <a:avLst/>
            </a:prstGeom>
            <a:ln w="25560">
              <a:solidFill>
                <a:srgbClr val="2c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4039920" y="3197160"/>
              <a:ext cx="106200" cy="104760"/>
            </a:xfrm>
            <a:prstGeom prst="line">
              <a:avLst/>
            </a:prstGeom>
            <a:ln w="2556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4039920" y="3197160"/>
              <a:ext cx="128520" cy="127080"/>
            </a:xfrm>
            <a:prstGeom prst="line">
              <a:avLst/>
            </a:prstGeom>
            <a:ln w="255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4039920" y="3197160"/>
              <a:ext cx="153720" cy="15264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4039920" y="3197160"/>
              <a:ext cx="153720" cy="152640"/>
            </a:xfrm>
            <a:prstGeom prst="line">
              <a:avLst/>
            </a:prstGeom>
            <a:ln w="25560">
              <a:solidFill>
                <a:srgbClr val="3d3d3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040280" y="3197160"/>
              <a:ext cx="177840" cy="176400"/>
            </a:xfrm>
            <a:prstGeom prst="line">
              <a:avLst/>
            </a:prstGeom>
            <a:ln w="255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4040280" y="3197160"/>
              <a:ext cx="203040" cy="201600"/>
            </a:xfrm>
            <a:prstGeom prst="line">
              <a:avLst/>
            </a:prstGeom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4039920" y="3197160"/>
              <a:ext cx="228600" cy="225360"/>
            </a:xfrm>
            <a:prstGeom prst="line">
              <a:avLst/>
            </a:prstGeom>
            <a:ln w="255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4039920" y="3197160"/>
              <a:ext cx="228600" cy="225360"/>
            </a:xfrm>
            <a:prstGeom prst="line">
              <a:avLst/>
            </a:prstGeom>
            <a:ln w="255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040280" y="3197160"/>
              <a:ext cx="250560" cy="247680"/>
            </a:xfrm>
            <a:prstGeom prst="line">
              <a:avLst/>
            </a:prstGeom>
            <a:ln w="25560">
              <a:solidFill>
                <a:srgbClr val="535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039920" y="3197160"/>
              <a:ext cx="276120" cy="273240"/>
            </a:xfrm>
            <a:prstGeom prst="line">
              <a:avLst/>
            </a:prstGeom>
            <a:ln w="2556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039920" y="3197160"/>
              <a:ext cx="276120" cy="273240"/>
            </a:xfrm>
            <a:prstGeom prst="line">
              <a:avLst/>
            </a:prstGeom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062240" y="3197160"/>
              <a:ext cx="277920" cy="276120"/>
            </a:xfrm>
            <a:prstGeom prst="line">
              <a:avLst/>
            </a:prstGeom>
            <a:ln w="25560">
              <a:solidFill>
                <a:srgbClr val="616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087800" y="3197160"/>
              <a:ext cx="277920" cy="276120"/>
            </a:xfrm>
            <a:prstGeom prst="line">
              <a:avLst/>
            </a:prstGeom>
            <a:ln w="25560">
              <a:solidFill>
                <a:srgbClr val="6565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113000" y="3197160"/>
              <a:ext cx="277560" cy="276120"/>
            </a:xfrm>
            <a:prstGeom prst="line">
              <a:avLst/>
            </a:prstGeom>
            <a:ln w="25560">
              <a:solidFill>
                <a:srgbClr val="69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13000" y="3197160"/>
              <a:ext cx="277560" cy="276120"/>
            </a:xfrm>
            <a:prstGeom prst="line">
              <a:avLst/>
            </a:prstGeom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135320" y="3197160"/>
              <a:ext cx="277920" cy="276120"/>
            </a:xfrm>
            <a:prstGeom prst="line">
              <a:avLst/>
            </a:prstGeom>
            <a:ln w="255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4160880" y="3197160"/>
              <a:ext cx="277920" cy="27612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4160880" y="3197160"/>
              <a:ext cx="277920" cy="276120"/>
            </a:xfrm>
            <a:prstGeom prst="line">
              <a:avLst/>
            </a:prstGeom>
            <a:ln w="2556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184640" y="3197160"/>
              <a:ext cx="277920" cy="27612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4209840" y="3197160"/>
              <a:ext cx="277560" cy="276120"/>
            </a:xfrm>
            <a:prstGeom prst="line">
              <a:avLst/>
            </a:prstGeom>
            <a:ln w="25560">
              <a:solidFill>
                <a:srgbClr val="84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4233600" y="3197160"/>
              <a:ext cx="277560" cy="276120"/>
            </a:xfrm>
            <a:prstGeom prst="line">
              <a:avLst/>
            </a:prstGeom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233600" y="3197160"/>
              <a:ext cx="277560" cy="276120"/>
            </a:xfrm>
            <a:prstGeom prst="line">
              <a:avLst/>
            </a:prstGeom>
            <a:ln w="25560">
              <a:solidFill>
                <a:srgbClr val="8d8d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4259160" y="3197160"/>
              <a:ext cx="277920" cy="276120"/>
            </a:xfrm>
            <a:prstGeom prst="line">
              <a:avLst/>
            </a:prstGeom>
            <a:ln w="255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4284720" y="3197160"/>
              <a:ext cx="277920" cy="27612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4284720" y="3197160"/>
              <a:ext cx="277920" cy="276120"/>
            </a:xfrm>
            <a:prstGeom prst="line">
              <a:avLst/>
            </a:prstGeom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4308480" y="3197160"/>
              <a:ext cx="277920" cy="276120"/>
            </a:xfrm>
            <a:prstGeom prst="line">
              <a:avLst/>
            </a:prstGeom>
            <a:ln w="2556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4333680" y="3197160"/>
              <a:ext cx="277560" cy="276120"/>
            </a:xfrm>
            <a:prstGeom prst="line">
              <a:avLst/>
            </a:prstGeom>
            <a:ln w="2556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357440" y="3197160"/>
              <a:ext cx="277560" cy="27612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4357440" y="3197160"/>
              <a:ext cx="277560" cy="276120"/>
            </a:xfrm>
            <a:prstGeom prst="line">
              <a:avLst/>
            </a:prstGeom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4381560" y="3197160"/>
              <a:ext cx="277920" cy="276120"/>
            </a:xfrm>
            <a:prstGeom prst="line">
              <a:avLst/>
            </a:prstGeom>
            <a:ln w="25560">
              <a:solidFill>
                <a:srgbClr val="b0b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4405320" y="3197160"/>
              <a:ext cx="277920" cy="276120"/>
            </a:xfrm>
            <a:prstGeom prst="line">
              <a:avLst/>
            </a:prstGeom>
            <a:ln w="25560">
              <a:solidFill>
                <a:srgbClr val="b4b4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4405320" y="3197160"/>
              <a:ext cx="277920" cy="276120"/>
            </a:xfrm>
            <a:prstGeom prst="line">
              <a:avLst/>
            </a:prstGeom>
            <a:ln w="25560">
              <a:solidFill>
                <a:srgbClr val="b9b9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4429080" y="3219480"/>
              <a:ext cx="255600" cy="253800"/>
            </a:xfrm>
            <a:prstGeom prst="line">
              <a:avLst/>
            </a:prstGeom>
            <a:ln w="25560">
              <a:solidFill>
                <a:srgbClr val="bdb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454280" y="3244680"/>
              <a:ext cx="230040" cy="228600"/>
            </a:xfrm>
            <a:prstGeom prst="line">
              <a:avLst/>
            </a:prstGeom>
            <a:ln w="25560">
              <a:solidFill>
                <a:srgbClr val="c2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4478040" y="3268800"/>
              <a:ext cx="206280" cy="20448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4478040" y="3268800"/>
              <a:ext cx="206280" cy="20448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4503240" y="3292560"/>
              <a:ext cx="181080" cy="180720"/>
            </a:xfrm>
            <a:prstGeom prst="line">
              <a:avLst/>
            </a:prstGeom>
            <a:ln w="255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4529160" y="3317760"/>
              <a:ext cx="155520" cy="155520"/>
            </a:xfrm>
            <a:prstGeom prst="line">
              <a:avLst/>
            </a:prstGeom>
            <a:ln w="25560">
              <a:solidFill>
                <a:srgbClr val="d3d3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529160" y="3317760"/>
              <a:ext cx="155520" cy="155520"/>
            </a:xfrm>
            <a:prstGeom prst="line">
              <a:avLst/>
            </a:prstGeom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4552920" y="3341520"/>
              <a:ext cx="131760" cy="131760"/>
            </a:xfrm>
            <a:prstGeom prst="line">
              <a:avLst/>
            </a:prstGeom>
            <a:ln w="25560">
              <a:solidFill>
                <a:srgbClr val="dcd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4576680" y="3365640"/>
              <a:ext cx="108000" cy="10764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601880" y="3392640"/>
              <a:ext cx="82440" cy="8064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4601880" y="3392640"/>
              <a:ext cx="82440" cy="8064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627080" y="3416400"/>
              <a:ext cx="57240" cy="56880"/>
            </a:xfrm>
            <a:prstGeom prst="line">
              <a:avLst/>
            </a:prstGeom>
            <a:ln w="255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650840" y="3440160"/>
              <a:ext cx="33480" cy="33120"/>
            </a:xfrm>
            <a:prstGeom prst="line">
              <a:avLst/>
            </a:prstGeom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650840" y="3440160"/>
              <a:ext cx="33480" cy="3312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4675320" y="3463920"/>
              <a:ext cx="9360" cy="9360"/>
            </a:xfrm>
            <a:prstGeom prst="line">
              <a:avLst/>
            </a:prstGeom>
            <a:ln w="25560">
              <a:solidFill>
                <a:srgbClr val="fbfb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040280" y="3197160"/>
              <a:ext cx="644400" cy="276120"/>
            </a:xfrm>
            <a:custGeom>
              <a:avLst/>
              <a:gdLst/>
              <a:ahLst/>
              <a:rect l="l" t="t" r="r" b="b"/>
              <a:pathLst>
                <a:path w="406" h="162">
                  <a:moveTo>
                    <a:pt x="0" y="14"/>
                  </a:moveTo>
                  <a:lnTo>
                    <a:pt x="31" y="0"/>
                  </a:lnTo>
                  <a:lnTo>
                    <a:pt x="54" y="7"/>
                  </a:lnTo>
                  <a:lnTo>
                    <a:pt x="70" y="28"/>
                  </a:lnTo>
                  <a:lnTo>
                    <a:pt x="93" y="56"/>
                  </a:lnTo>
                  <a:lnTo>
                    <a:pt x="117" y="63"/>
                  </a:lnTo>
                  <a:lnTo>
                    <a:pt x="148" y="77"/>
                  </a:lnTo>
                  <a:lnTo>
                    <a:pt x="218" y="63"/>
                  </a:lnTo>
                  <a:lnTo>
                    <a:pt x="296" y="49"/>
                  </a:lnTo>
                  <a:lnTo>
                    <a:pt x="320" y="42"/>
                  </a:lnTo>
                  <a:lnTo>
                    <a:pt x="351" y="49"/>
                  </a:lnTo>
                  <a:lnTo>
                    <a:pt x="406" y="77"/>
                  </a:lnTo>
                  <a:lnTo>
                    <a:pt x="406" y="84"/>
                  </a:lnTo>
                  <a:lnTo>
                    <a:pt x="406" y="98"/>
                  </a:lnTo>
                  <a:lnTo>
                    <a:pt x="398" y="105"/>
                  </a:lnTo>
                  <a:lnTo>
                    <a:pt x="398" y="119"/>
                  </a:lnTo>
                  <a:lnTo>
                    <a:pt x="367" y="126"/>
                  </a:lnTo>
                  <a:lnTo>
                    <a:pt x="343" y="134"/>
                  </a:lnTo>
                  <a:lnTo>
                    <a:pt x="289" y="134"/>
                  </a:lnTo>
                  <a:lnTo>
                    <a:pt x="250" y="141"/>
                  </a:lnTo>
                  <a:lnTo>
                    <a:pt x="148" y="155"/>
                  </a:lnTo>
                  <a:lnTo>
                    <a:pt x="101" y="162"/>
                  </a:lnTo>
                  <a:lnTo>
                    <a:pt x="62" y="148"/>
                  </a:lnTo>
                  <a:lnTo>
                    <a:pt x="54" y="134"/>
                  </a:lnTo>
                  <a:lnTo>
                    <a:pt x="31" y="91"/>
                  </a:lnTo>
                  <a:lnTo>
                    <a:pt x="15" y="49"/>
                  </a:lnTo>
                  <a:lnTo>
                    <a:pt x="7" y="35"/>
                  </a:lnTo>
                  <a:lnTo>
                    <a:pt x="0" y="21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138200" y="3387600"/>
              <a:ext cx="12600" cy="1296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4138560" y="3387600"/>
              <a:ext cx="38160" cy="3672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4138200" y="3387600"/>
              <a:ext cx="50760" cy="49320"/>
            </a:xfrm>
            <a:prstGeom prst="line">
              <a:avLst/>
            </a:prstGeom>
            <a:ln w="2556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4138200" y="3387600"/>
              <a:ext cx="63720" cy="61920"/>
            </a:xfrm>
            <a:prstGeom prst="line">
              <a:avLst/>
            </a:prstGeom>
            <a:ln w="255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4138200" y="3387600"/>
              <a:ext cx="88920" cy="85680"/>
            </a:xfrm>
            <a:prstGeom prst="line">
              <a:avLst/>
            </a:prstGeom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4138560" y="3387600"/>
              <a:ext cx="101520" cy="98640"/>
            </a:xfrm>
            <a:prstGeom prst="line">
              <a:avLst/>
            </a:prstGeom>
            <a:ln w="2556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138200" y="3387600"/>
              <a:ext cx="112680" cy="109800"/>
            </a:xfrm>
            <a:prstGeom prst="line">
              <a:avLst/>
            </a:prstGeom>
            <a:ln w="25560">
              <a:solidFill>
                <a:srgbClr val="5757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152960" y="3387600"/>
              <a:ext cx="123840" cy="12240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176720" y="3387600"/>
              <a:ext cx="123840" cy="12240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4189320" y="3387600"/>
              <a:ext cx="123840" cy="122400"/>
            </a:xfrm>
            <a:prstGeom prst="line">
              <a:avLst/>
            </a:prstGeom>
            <a:ln w="25560">
              <a:solidFill>
                <a:srgbClr val="6f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4201920" y="3387600"/>
              <a:ext cx="123480" cy="122400"/>
            </a:xfrm>
            <a:prstGeom prst="line">
              <a:avLst/>
            </a:prstGeom>
            <a:ln w="255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4226040" y="3387600"/>
              <a:ext cx="123840" cy="12240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4238640" y="3387600"/>
              <a:ext cx="123840" cy="122400"/>
            </a:xfrm>
            <a:prstGeom prst="line">
              <a:avLst/>
            </a:prstGeom>
            <a:ln w="255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4263840" y="3387600"/>
              <a:ext cx="123480" cy="12240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4276800" y="3387600"/>
              <a:ext cx="123840" cy="122400"/>
            </a:xfrm>
            <a:prstGeom prst="line">
              <a:avLst/>
            </a:prstGeom>
            <a:ln w="255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287960" y="3387600"/>
              <a:ext cx="123840" cy="122400"/>
            </a:xfrm>
            <a:prstGeom prst="line">
              <a:avLst/>
            </a:prstGeom>
            <a:ln w="2556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311720" y="3387600"/>
              <a:ext cx="123840" cy="122400"/>
            </a:xfrm>
            <a:prstGeom prst="line">
              <a:avLst/>
            </a:prstGeom>
            <a:ln w="2556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325760" y="3387600"/>
              <a:ext cx="123840" cy="122400"/>
            </a:xfrm>
            <a:prstGeom prst="line">
              <a:avLst/>
            </a:prstGeom>
            <a:ln w="255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4351320" y="3387600"/>
              <a:ext cx="123840" cy="122400"/>
            </a:xfrm>
            <a:prstGeom prst="line">
              <a:avLst/>
            </a:prstGeom>
            <a:ln w="25560">
              <a:solidFill>
                <a:srgbClr val="b7b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4362480" y="3387600"/>
              <a:ext cx="123840" cy="12240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4386240" y="3413160"/>
              <a:ext cx="100080" cy="9684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4398480" y="3424320"/>
              <a:ext cx="87480" cy="85680"/>
            </a:xfrm>
            <a:prstGeom prst="line">
              <a:avLst/>
            </a:prstGeom>
            <a:ln w="25560">
              <a:solidFill>
                <a:srgbClr val="cfcf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4411440" y="3436920"/>
              <a:ext cx="74520" cy="73080"/>
            </a:xfrm>
            <a:prstGeom prst="line">
              <a:avLst/>
            </a:prstGeom>
            <a:ln w="255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4435200" y="3460680"/>
              <a:ext cx="50760" cy="49320"/>
            </a:xfrm>
            <a:prstGeom prst="line">
              <a:avLst/>
            </a:prstGeom>
            <a:ln w="2556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4460400" y="3484440"/>
              <a:ext cx="25560" cy="2556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4460400" y="3484440"/>
              <a:ext cx="25560" cy="2556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4484160" y="3508200"/>
              <a:ext cx="1800" cy="180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138560" y="3387600"/>
              <a:ext cx="347760" cy="122400"/>
            </a:xfrm>
            <a:custGeom>
              <a:avLst/>
              <a:gdLst/>
              <a:ahLst/>
              <a:rect l="l" t="t" r="r" b="b"/>
              <a:pathLst>
                <a:path w="219" h="71">
                  <a:moveTo>
                    <a:pt x="219" y="7"/>
                  </a:moveTo>
                  <a:lnTo>
                    <a:pt x="195" y="0"/>
                  </a:lnTo>
                  <a:lnTo>
                    <a:pt x="55" y="14"/>
                  </a:lnTo>
                  <a:lnTo>
                    <a:pt x="47" y="22"/>
                  </a:lnTo>
                  <a:lnTo>
                    <a:pt x="24" y="29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8" y="71"/>
                  </a:lnTo>
                  <a:lnTo>
                    <a:pt x="31" y="64"/>
                  </a:lnTo>
                  <a:lnTo>
                    <a:pt x="47" y="64"/>
                  </a:lnTo>
                  <a:lnTo>
                    <a:pt x="219" y="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4275000" y="3305160"/>
              <a:ext cx="19872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4275000" y="3305160"/>
              <a:ext cx="198720" cy="192240"/>
            </a:xfrm>
            <a:prstGeom prst="line">
              <a:avLst/>
            </a:prstGeom>
            <a:ln w="2556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4287960" y="3305160"/>
              <a:ext cx="210960" cy="20484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4300560" y="3305160"/>
              <a:ext cx="223920" cy="216000"/>
            </a:xfrm>
            <a:prstGeom prst="line">
              <a:avLst/>
            </a:prstGeom>
            <a:ln w="25560">
              <a:solidFill>
                <a:srgbClr val="2a2a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300560" y="3305160"/>
              <a:ext cx="223920" cy="216000"/>
            </a:xfrm>
            <a:prstGeom prst="line">
              <a:avLst/>
            </a:prstGeom>
            <a:ln w="255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4311720" y="3305160"/>
              <a:ext cx="234720" cy="228600"/>
            </a:xfrm>
            <a:prstGeom prst="line">
              <a:avLst/>
            </a:prstGeom>
            <a:ln w="2556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4548240" y="3305160"/>
              <a:ext cx="25200" cy="23760"/>
            </a:xfrm>
            <a:prstGeom prst="line">
              <a:avLst/>
            </a:prstGeom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548240" y="3305160"/>
              <a:ext cx="38160" cy="3492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4547880" y="3305160"/>
              <a:ext cx="50760" cy="47520"/>
            </a:xfrm>
            <a:prstGeom prst="line">
              <a:avLst/>
            </a:prstGeom>
            <a:ln w="25560">
              <a:solidFill>
                <a:srgbClr val="7171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4547880" y="3305160"/>
              <a:ext cx="74520" cy="71280"/>
            </a:xfrm>
            <a:prstGeom prst="line">
              <a:avLst/>
            </a:prstGeom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4562640" y="3305160"/>
              <a:ext cx="72720" cy="71280"/>
            </a:xfrm>
            <a:prstGeom prst="line">
              <a:avLst/>
            </a:prstGeom>
            <a:ln w="25560">
              <a:solidFill>
                <a:srgbClr val="8e8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4586040" y="3305160"/>
              <a:ext cx="73080" cy="7128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4598640" y="3305160"/>
              <a:ext cx="73080" cy="71280"/>
            </a:xfrm>
            <a:prstGeom prst="line">
              <a:avLst/>
            </a:prstGeom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4611240" y="3305160"/>
              <a:ext cx="73080" cy="71280"/>
            </a:xfrm>
            <a:prstGeom prst="line">
              <a:avLst/>
            </a:prstGeom>
            <a:ln w="25560">
              <a:solidFill>
                <a:srgbClr val="b8b8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635000" y="3328920"/>
              <a:ext cx="49320" cy="4752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4659480" y="3351240"/>
              <a:ext cx="25200" cy="25200"/>
            </a:xfrm>
            <a:prstGeom prst="line">
              <a:avLst/>
            </a:prstGeom>
            <a:ln w="25560">
              <a:solidFill>
                <a:srgbClr val="d5d5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4659480" y="3351240"/>
              <a:ext cx="25200" cy="25200"/>
            </a:xfrm>
            <a:prstGeom prst="line">
              <a:avLst/>
            </a:prstGeom>
            <a:ln w="25560">
              <a:solidFill>
                <a:srgbClr val="e3e3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684320" y="3376440"/>
              <a:ext cx="1800" cy="1800"/>
            </a:xfrm>
            <a:prstGeom prst="line">
              <a:avLst/>
            </a:prstGeom>
            <a:ln w="25560">
              <a:solidFill>
                <a:srgbClr val="f1f1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535640" y="3305160"/>
              <a:ext cx="149040" cy="71280"/>
            </a:xfrm>
            <a:custGeom>
              <a:avLst/>
              <a:gdLst/>
              <a:ahLst/>
              <a:rect l="l" t="t" r="r" b="b"/>
              <a:pathLst>
                <a:path w="94" h="42">
                  <a:moveTo>
                    <a:pt x="70" y="0"/>
                  </a:moveTo>
                  <a:lnTo>
                    <a:pt x="0" y="21"/>
                  </a:lnTo>
                  <a:lnTo>
                    <a:pt x="16" y="42"/>
                  </a:lnTo>
                  <a:lnTo>
                    <a:pt x="94" y="21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81680" y="2308320"/>
              <a:ext cx="557280" cy="744480"/>
            </a:xfrm>
            <a:custGeom>
              <a:avLst/>
              <a:gdLst/>
              <a:ahLst/>
              <a:rect l="l" t="t" r="r" b="b"/>
              <a:pathLst>
                <a:path w="351" h="436">
                  <a:moveTo>
                    <a:pt x="312" y="78"/>
                  </a:moveTo>
                  <a:lnTo>
                    <a:pt x="351" y="162"/>
                  </a:lnTo>
                  <a:lnTo>
                    <a:pt x="336" y="261"/>
                  </a:lnTo>
                  <a:lnTo>
                    <a:pt x="297" y="338"/>
                  </a:lnTo>
                  <a:lnTo>
                    <a:pt x="226" y="387"/>
                  </a:lnTo>
                  <a:lnTo>
                    <a:pt x="125" y="422"/>
                  </a:lnTo>
                  <a:lnTo>
                    <a:pt x="0" y="436"/>
                  </a:lnTo>
                  <a:lnTo>
                    <a:pt x="141" y="373"/>
                  </a:lnTo>
                  <a:lnTo>
                    <a:pt x="203" y="331"/>
                  </a:lnTo>
                  <a:lnTo>
                    <a:pt x="242" y="282"/>
                  </a:lnTo>
                  <a:lnTo>
                    <a:pt x="265" y="197"/>
                  </a:lnTo>
                  <a:lnTo>
                    <a:pt x="265" y="106"/>
                  </a:lnTo>
                  <a:lnTo>
                    <a:pt x="195" y="0"/>
                  </a:lnTo>
                  <a:lnTo>
                    <a:pt x="312" y="78"/>
                  </a:lnTo>
                  <a:close/>
                </a:path>
              </a:pathLst>
            </a:custGeom>
            <a:solidFill>
              <a:srgbClr val="fcf305"/>
            </a:solidFill>
            <a:ln w="12600">
              <a:solidFill>
                <a:srgbClr val="fcf3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927600" y="1527120"/>
              <a:ext cx="1440" cy="1800"/>
            </a:xfrm>
            <a:prstGeom prst="line">
              <a:avLst/>
            </a:prstGeom>
            <a:ln w="25560">
              <a:solidFill>
                <a:srgbClr val="151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927240" y="1527120"/>
              <a:ext cx="27000" cy="25560"/>
            </a:xfrm>
            <a:prstGeom prst="line">
              <a:avLst/>
            </a:prstGeom>
            <a:ln w="25560">
              <a:solidFill>
                <a:srgbClr val="1a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27240" y="1527120"/>
              <a:ext cx="27000" cy="25560"/>
            </a:xfrm>
            <a:prstGeom prst="line">
              <a:avLst/>
            </a:prstGeom>
            <a:ln w="2556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27240" y="1527120"/>
              <a:ext cx="52200" cy="49320"/>
            </a:xfrm>
            <a:prstGeom prst="line">
              <a:avLst/>
            </a:prstGeom>
            <a:ln w="2556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7240" y="1527120"/>
              <a:ext cx="74520" cy="71640"/>
            </a:xfrm>
            <a:prstGeom prst="line">
              <a:avLst/>
            </a:prstGeom>
            <a:ln w="2556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927240" y="1527120"/>
              <a:ext cx="74520" cy="71640"/>
            </a:xfrm>
            <a:prstGeom prst="line">
              <a:avLst/>
            </a:prstGeom>
            <a:ln w="2556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927240" y="1527120"/>
              <a:ext cx="99720" cy="95400"/>
            </a:xfrm>
            <a:prstGeom prst="line">
              <a:avLst/>
            </a:prstGeom>
            <a:ln w="255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927600" y="1527120"/>
              <a:ext cx="125280" cy="120600"/>
            </a:xfrm>
            <a:prstGeom prst="line">
              <a:avLst/>
            </a:prstGeom>
            <a:ln w="25560">
              <a:solidFill>
                <a:srgbClr val="3434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927240" y="1527120"/>
              <a:ext cx="150840" cy="144360"/>
            </a:xfrm>
            <a:prstGeom prst="line">
              <a:avLst/>
            </a:prstGeom>
            <a:ln w="25560">
              <a:solidFill>
                <a:srgbClr val="3838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927240" y="1527120"/>
              <a:ext cx="150840" cy="144360"/>
            </a:xfrm>
            <a:prstGeom prst="line">
              <a:avLst/>
            </a:prstGeom>
            <a:ln w="25560">
              <a:solidFill>
                <a:srgbClr val="3c3c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927240" y="1527120"/>
              <a:ext cx="174600" cy="169920"/>
            </a:xfrm>
            <a:prstGeom prst="line">
              <a:avLst/>
            </a:prstGeom>
            <a:ln w="2556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927240" y="1527120"/>
              <a:ext cx="198360" cy="190440"/>
            </a:xfrm>
            <a:prstGeom prst="line">
              <a:avLst/>
            </a:prstGeom>
            <a:ln w="2556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927240" y="1527120"/>
              <a:ext cx="198360" cy="190440"/>
            </a:xfrm>
            <a:prstGeom prst="line">
              <a:avLst/>
            </a:prstGeom>
            <a:ln w="2556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927240" y="1527120"/>
              <a:ext cx="223560" cy="216000"/>
            </a:xfrm>
            <a:prstGeom prst="line">
              <a:avLst/>
            </a:prstGeom>
            <a:ln w="25560">
              <a:solidFill>
                <a:srgbClr val="4e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927600" y="1527120"/>
              <a:ext cx="249120" cy="24120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927600" y="1527120"/>
              <a:ext cx="249120" cy="241200"/>
            </a:xfrm>
            <a:prstGeom prst="line">
              <a:avLst/>
            </a:prstGeom>
            <a:ln w="2556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927600" y="1527120"/>
              <a:ext cx="272880" cy="263520"/>
            </a:xfrm>
            <a:prstGeom prst="line">
              <a:avLst/>
            </a:prstGeom>
            <a:ln w="25560">
              <a:solidFill>
                <a:srgbClr val="5b5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941640" y="1527120"/>
              <a:ext cx="284400" cy="27612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965400" y="1527120"/>
              <a:ext cx="284400" cy="27612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965400" y="1527120"/>
              <a:ext cx="284400" cy="276120"/>
            </a:xfrm>
            <a:prstGeom prst="line">
              <a:avLst/>
            </a:prstGeom>
            <a:ln w="25560">
              <a:solidFill>
                <a:srgbClr val="686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990600" y="1527120"/>
              <a:ext cx="284040" cy="276120"/>
            </a:xfrm>
            <a:prstGeom prst="line">
              <a:avLst/>
            </a:prstGeom>
            <a:ln w="25560">
              <a:solidFill>
                <a:srgbClr val="6c6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4016160" y="1527120"/>
              <a:ext cx="284040" cy="276120"/>
            </a:xfrm>
            <a:prstGeom prst="line">
              <a:avLst/>
            </a:prstGeom>
            <a:ln w="2556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4016160" y="1527120"/>
              <a:ext cx="284040" cy="276120"/>
            </a:xfrm>
            <a:prstGeom prst="line">
              <a:avLst/>
            </a:prstGeom>
            <a:ln w="25560">
              <a:solidFill>
                <a:srgbClr val="75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039920" y="1527120"/>
              <a:ext cx="284040" cy="276120"/>
            </a:xfrm>
            <a:prstGeom prst="line">
              <a:avLst/>
            </a:prstGeom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065480" y="1527120"/>
              <a:ext cx="284400" cy="276120"/>
            </a:xfrm>
            <a:prstGeom prst="line">
              <a:avLst/>
            </a:prstGeom>
            <a:ln w="25560">
              <a:solidFill>
                <a:srgbClr val="7d7d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065480" y="1527120"/>
              <a:ext cx="284400" cy="276120"/>
            </a:xfrm>
            <a:prstGeom prst="line">
              <a:avLst/>
            </a:prstGeom>
            <a:ln w="25560">
              <a:solidFill>
                <a:srgbClr val="8282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089240" y="1527120"/>
              <a:ext cx="284400" cy="27612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114440" y="1527120"/>
              <a:ext cx="284040" cy="276120"/>
            </a:xfrm>
            <a:prstGeom prst="line">
              <a:avLst/>
            </a:prstGeom>
            <a:ln w="25560">
              <a:solidFill>
                <a:srgbClr val="8a8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4140000" y="1527120"/>
              <a:ext cx="284040" cy="276120"/>
            </a:xfrm>
            <a:prstGeom prst="line">
              <a:avLst/>
            </a:prstGeom>
            <a:ln w="255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140000" y="1527120"/>
              <a:ext cx="284040" cy="276120"/>
            </a:xfrm>
            <a:prstGeom prst="line">
              <a:avLst/>
            </a:prstGeom>
            <a:ln w="2556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163760" y="1527120"/>
              <a:ext cx="284040" cy="276120"/>
            </a:xfrm>
            <a:prstGeom prst="line">
              <a:avLst/>
            </a:prstGeom>
            <a:ln w="255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189320" y="1527120"/>
              <a:ext cx="284400" cy="27612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189320" y="1527120"/>
              <a:ext cx="284400" cy="276120"/>
            </a:xfrm>
            <a:prstGeom prst="line">
              <a:avLst/>
            </a:prstGeom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213080" y="1527120"/>
              <a:ext cx="284400" cy="276120"/>
            </a:xfrm>
            <a:prstGeom prst="line">
              <a:avLst/>
            </a:prstGeom>
            <a:ln w="25560">
              <a:solidFill>
                <a:srgbClr val="a4a4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4236840" y="1527120"/>
              <a:ext cx="284040" cy="276120"/>
            </a:xfrm>
            <a:prstGeom prst="line">
              <a:avLst/>
            </a:prstGeom>
            <a:ln w="25560">
              <a:solidFill>
                <a:srgbClr val="a9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236840" y="1527120"/>
              <a:ext cx="284040" cy="27612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263840" y="1527120"/>
              <a:ext cx="284040" cy="276120"/>
            </a:xfrm>
            <a:prstGeom prst="line">
              <a:avLst/>
            </a:prstGeom>
            <a:ln w="25560">
              <a:solidFill>
                <a:srgbClr val="b1b1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4287600" y="1527120"/>
              <a:ext cx="284040" cy="276120"/>
            </a:xfrm>
            <a:prstGeom prst="line">
              <a:avLst/>
            </a:prstGeom>
            <a:ln w="25560">
              <a:solidFill>
                <a:srgbClr val="b6b6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4311360" y="1550880"/>
              <a:ext cx="260280" cy="252360"/>
            </a:xfrm>
            <a:prstGeom prst="line">
              <a:avLst/>
            </a:prstGeom>
            <a:ln w="2556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4311360" y="1550880"/>
              <a:ext cx="260280" cy="252360"/>
            </a:xfrm>
            <a:prstGeom prst="line">
              <a:avLst/>
            </a:prstGeom>
            <a:ln w="2556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4338720" y="1576440"/>
              <a:ext cx="233280" cy="226800"/>
            </a:xfrm>
            <a:prstGeom prst="line">
              <a:avLst/>
            </a:prstGeom>
            <a:ln w="25560">
              <a:solidFill>
                <a:srgbClr val="c3c3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361040" y="1598760"/>
              <a:ext cx="210960" cy="204480"/>
            </a:xfrm>
            <a:prstGeom prst="line">
              <a:avLst/>
            </a:prstGeom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4361040" y="1598760"/>
              <a:ext cx="210960" cy="20448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386240" y="1622520"/>
              <a:ext cx="185760" cy="180720"/>
            </a:xfrm>
            <a:prstGeom prst="line">
              <a:avLst/>
            </a:prstGeom>
            <a:ln w="25560">
              <a:solidFill>
                <a:srgbClr val="d0d0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410000" y="1646280"/>
              <a:ext cx="162000" cy="156960"/>
            </a:xfrm>
            <a:prstGeom prst="line">
              <a:avLst/>
            </a:prstGeom>
            <a:ln w="25560">
              <a:solidFill>
                <a:srgbClr val="d4d4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410000" y="1646280"/>
              <a:ext cx="162000" cy="156960"/>
            </a:xfrm>
            <a:prstGeom prst="line">
              <a:avLst/>
            </a:prstGeom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4436640" y="1671480"/>
              <a:ext cx="135000" cy="131760"/>
            </a:xfrm>
            <a:prstGeom prst="line">
              <a:avLst/>
            </a:prstGeom>
            <a:ln w="255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462560" y="1697040"/>
              <a:ext cx="109440" cy="106200"/>
            </a:xfrm>
            <a:prstGeom prst="line">
              <a:avLst/>
            </a:prstGeom>
            <a:ln w="255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484160" y="1717560"/>
              <a:ext cx="87480" cy="8568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484160" y="1717560"/>
              <a:ext cx="87480" cy="8568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4510080" y="1743120"/>
              <a:ext cx="61920" cy="60120"/>
            </a:xfrm>
            <a:prstGeom prst="line">
              <a:avLst/>
            </a:prstGeom>
            <a:ln w="2556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533840" y="1766880"/>
              <a:ext cx="38160" cy="36360"/>
            </a:xfrm>
            <a:prstGeom prst="line">
              <a:avLst/>
            </a:prstGeom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4533840" y="1766880"/>
              <a:ext cx="38160" cy="36360"/>
            </a:xfrm>
            <a:prstGeom prst="line">
              <a:avLst/>
            </a:prstGeom>
            <a:ln w="255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560480" y="1792440"/>
              <a:ext cx="11160" cy="10800"/>
            </a:xfrm>
            <a:prstGeom prst="line">
              <a:avLst/>
            </a:prstGeom>
            <a:ln w="25560">
              <a:solidFill>
                <a:srgbClr val="fbfb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916440" y="1527120"/>
              <a:ext cx="655560" cy="276120"/>
            </a:xfrm>
            <a:custGeom>
              <a:avLst/>
              <a:gdLst/>
              <a:ahLst/>
              <a:rect l="l" t="t" r="r" b="b"/>
              <a:pathLst>
                <a:path w="413" h="162">
                  <a:moveTo>
                    <a:pt x="0" y="21"/>
                  </a:moveTo>
                  <a:lnTo>
                    <a:pt x="15" y="7"/>
                  </a:lnTo>
                  <a:lnTo>
                    <a:pt x="39" y="0"/>
                  </a:lnTo>
                  <a:lnTo>
                    <a:pt x="62" y="7"/>
                  </a:lnTo>
                  <a:lnTo>
                    <a:pt x="78" y="35"/>
                  </a:lnTo>
                  <a:lnTo>
                    <a:pt x="101" y="63"/>
                  </a:lnTo>
                  <a:lnTo>
                    <a:pt x="156" y="77"/>
                  </a:lnTo>
                  <a:lnTo>
                    <a:pt x="226" y="63"/>
                  </a:lnTo>
                  <a:lnTo>
                    <a:pt x="296" y="49"/>
                  </a:lnTo>
                  <a:lnTo>
                    <a:pt x="328" y="42"/>
                  </a:lnTo>
                  <a:lnTo>
                    <a:pt x="359" y="49"/>
                  </a:lnTo>
                  <a:lnTo>
                    <a:pt x="382" y="56"/>
                  </a:lnTo>
                  <a:lnTo>
                    <a:pt x="406" y="84"/>
                  </a:lnTo>
                  <a:lnTo>
                    <a:pt x="406" y="92"/>
                  </a:lnTo>
                  <a:lnTo>
                    <a:pt x="413" y="106"/>
                  </a:lnTo>
                  <a:lnTo>
                    <a:pt x="398" y="120"/>
                  </a:lnTo>
                  <a:lnTo>
                    <a:pt x="367" y="127"/>
                  </a:lnTo>
                  <a:lnTo>
                    <a:pt x="343" y="134"/>
                  </a:lnTo>
                  <a:lnTo>
                    <a:pt x="257" y="141"/>
                  </a:lnTo>
                  <a:lnTo>
                    <a:pt x="156" y="155"/>
                  </a:lnTo>
                  <a:lnTo>
                    <a:pt x="109" y="162"/>
                  </a:lnTo>
                  <a:lnTo>
                    <a:pt x="62" y="155"/>
                  </a:lnTo>
                  <a:lnTo>
                    <a:pt x="54" y="134"/>
                  </a:lnTo>
                  <a:lnTo>
                    <a:pt x="31" y="92"/>
                  </a:lnTo>
                  <a:lnTo>
                    <a:pt x="15" y="49"/>
                  </a:lnTo>
                  <a:lnTo>
                    <a:pt x="7" y="28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014720" y="1731960"/>
              <a:ext cx="7920" cy="6480"/>
            </a:xfrm>
            <a:prstGeom prst="line">
              <a:avLst/>
            </a:prstGeom>
            <a:ln w="25560">
              <a:solidFill>
                <a:srgbClr val="1818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014720" y="1731960"/>
              <a:ext cx="7920" cy="6480"/>
            </a:xfrm>
            <a:prstGeom prst="line">
              <a:avLst/>
            </a:prstGeom>
            <a:ln w="25560">
              <a:solidFill>
                <a:srgbClr val="212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014720" y="1731960"/>
              <a:ext cx="31680" cy="30240"/>
            </a:xfrm>
            <a:prstGeom prst="line">
              <a:avLst/>
            </a:prstGeom>
            <a:ln w="255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4014360" y="1731960"/>
              <a:ext cx="55800" cy="57240"/>
            </a:xfrm>
            <a:prstGeom prst="line">
              <a:avLst/>
            </a:prstGeom>
            <a:ln w="25560">
              <a:solidFill>
                <a:srgbClr val="3131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4014720" y="1731960"/>
              <a:ext cx="68400" cy="68400"/>
            </a:xfrm>
            <a:prstGeom prst="line">
              <a:avLst/>
            </a:prstGeom>
            <a:ln w="2556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014360" y="1731960"/>
              <a:ext cx="81000" cy="82440"/>
            </a:xfrm>
            <a:prstGeom prst="line">
              <a:avLst/>
            </a:prstGeom>
            <a:ln w="255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014360" y="1731960"/>
              <a:ext cx="104760" cy="106200"/>
            </a:xfrm>
            <a:prstGeom prst="line">
              <a:avLst/>
            </a:prstGeom>
            <a:ln w="25560">
              <a:solidFill>
                <a:srgbClr val="4a4a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027320" y="1731960"/>
              <a:ext cx="105120" cy="108000"/>
            </a:xfrm>
            <a:prstGeom prst="line">
              <a:avLst/>
            </a:prstGeom>
            <a:ln w="2556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038120" y="1731960"/>
              <a:ext cx="104760" cy="108000"/>
            </a:xfrm>
            <a:prstGeom prst="line">
              <a:avLst/>
            </a:prstGeom>
            <a:ln w="2556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063680" y="1731960"/>
              <a:ext cx="106200" cy="108000"/>
            </a:xfrm>
            <a:prstGeom prst="line">
              <a:avLst/>
            </a:prstGeom>
            <a:ln w="2556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076280" y="1731960"/>
              <a:ext cx="104760" cy="108000"/>
            </a:xfrm>
            <a:prstGeom prst="line">
              <a:avLst/>
            </a:prstGeom>
            <a:ln w="2556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4100040" y="1731960"/>
              <a:ext cx="104760" cy="108000"/>
            </a:xfrm>
            <a:prstGeom prst="line">
              <a:avLst/>
            </a:prstGeom>
            <a:ln w="25560">
              <a:solidFill>
                <a:srgbClr val="737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113000" y="1731960"/>
              <a:ext cx="104760" cy="108000"/>
            </a:xfrm>
            <a:prstGeom prst="line">
              <a:avLst/>
            </a:prstGeom>
            <a:ln w="2556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136760" y="1731960"/>
              <a:ext cx="104760" cy="108000"/>
            </a:xfrm>
            <a:prstGeom prst="line">
              <a:avLst/>
            </a:prstGeom>
            <a:ln w="25560">
              <a:solidFill>
                <a:srgbClr val="84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149360" y="1731960"/>
              <a:ext cx="104760" cy="108000"/>
            </a:xfrm>
            <a:prstGeom prst="line">
              <a:avLst/>
            </a:prstGeom>
            <a:ln w="25560">
              <a:solidFill>
                <a:srgbClr val="8c8c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4160520" y="1731960"/>
              <a:ext cx="104760" cy="108000"/>
            </a:xfrm>
            <a:prstGeom prst="line">
              <a:avLst/>
            </a:prstGeom>
            <a:ln w="25560">
              <a:solidFill>
                <a:srgbClr val="94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184280" y="1731960"/>
              <a:ext cx="106200" cy="108000"/>
            </a:xfrm>
            <a:prstGeom prst="line">
              <a:avLst/>
            </a:prstGeom>
            <a:ln w="2556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4196880" y="1731960"/>
              <a:ext cx="104760" cy="10800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220640" y="1731960"/>
              <a:ext cx="104760" cy="108000"/>
            </a:xfrm>
            <a:prstGeom prst="line">
              <a:avLst/>
            </a:prstGeom>
            <a:ln w="255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4233600" y="1731960"/>
              <a:ext cx="104760" cy="108000"/>
            </a:xfrm>
            <a:prstGeom prst="line">
              <a:avLst/>
            </a:prstGeom>
            <a:ln w="2556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246200" y="1731960"/>
              <a:ext cx="104760" cy="108000"/>
            </a:xfrm>
            <a:prstGeom prst="line">
              <a:avLst/>
            </a:prstGeom>
            <a:ln w="25560">
              <a:solidFill>
                <a:srgbClr val="bdbd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4268880" y="1744560"/>
              <a:ext cx="93600" cy="95400"/>
            </a:xfrm>
            <a:prstGeom prst="line">
              <a:avLst/>
            </a:prstGeom>
            <a:ln w="25560">
              <a:solidFill>
                <a:srgbClr val="c6c6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279680" y="1755720"/>
              <a:ext cx="82440" cy="842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4292640" y="1768320"/>
              <a:ext cx="69840" cy="71640"/>
            </a:xfrm>
            <a:prstGeom prst="line">
              <a:avLst/>
            </a:prstGeom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4316400" y="1792440"/>
              <a:ext cx="46080" cy="47520"/>
            </a:xfrm>
            <a:prstGeom prst="line">
              <a:avLst/>
            </a:prstGeom>
            <a:ln w="2556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341600" y="1817640"/>
              <a:ext cx="20520" cy="22320"/>
            </a:xfrm>
            <a:prstGeom prst="line">
              <a:avLst/>
            </a:prstGeom>
            <a:ln w="25560">
              <a:solidFill>
                <a:srgbClr val="e7e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341600" y="1817640"/>
              <a:ext cx="20520" cy="22320"/>
            </a:xfrm>
            <a:prstGeom prst="line">
              <a:avLst/>
            </a:prstGeom>
            <a:ln w="25560">
              <a:solidFill>
                <a:srgbClr val="efef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014720" y="1731960"/>
              <a:ext cx="347760" cy="108000"/>
            </a:xfrm>
            <a:custGeom>
              <a:avLst/>
              <a:gdLst/>
              <a:ahLst/>
              <a:rect l="l" t="t" r="r" b="b"/>
              <a:pathLst>
                <a:path w="219" h="63">
                  <a:moveTo>
                    <a:pt x="219" y="0"/>
                  </a:moveTo>
                  <a:lnTo>
                    <a:pt x="203" y="0"/>
                  </a:lnTo>
                  <a:lnTo>
                    <a:pt x="63" y="14"/>
                  </a:lnTo>
                  <a:lnTo>
                    <a:pt x="47" y="14"/>
                  </a:lnTo>
                  <a:lnTo>
                    <a:pt x="31" y="21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16" y="63"/>
                  </a:lnTo>
                  <a:lnTo>
                    <a:pt x="39" y="63"/>
                  </a:lnTo>
                  <a:lnTo>
                    <a:pt x="55" y="56"/>
                  </a:lnTo>
                  <a:lnTo>
                    <a:pt x="219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424040" y="1635120"/>
              <a:ext cx="19080" cy="19080"/>
            </a:xfrm>
            <a:prstGeom prst="line">
              <a:avLst/>
            </a:prstGeom>
            <a:ln w="25560">
              <a:solidFill>
                <a:srgbClr val="50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424400" y="1635120"/>
              <a:ext cx="31680" cy="31680"/>
            </a:xfrm>
            <a:prstGeom prst="line">
              <a:avLst/>
            </a:prstGeom>
            <a:ln w="25560">
              <a:solidFill>
                <a:srgbClr val="5e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24040" y="1635120"/>
              <a:ext cx="57240" cy="57240"/>
            </a:xfrm>
            <a:prstGeom prst="line">
              <a:avLst/>
            </a:prstGeom>
            <a:ln w="25560">
              <a:solidFill>
                <a:srgbClr val="6b6b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4424400" y="1635120"/>
              <a:ext cx="68400" cy="69840"/>
            </a:xfrm>
            <a:prstGeom prst="line">
              <a:avLst/>
            </a:prstGeom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4433760" y="1635120"/>
              <a:ext cx="69840" cy="73080"/>
            </a:xfrm>
            <a:prstGeom prst="line">
              <a:avLst/>
            </a:prstGeom>
            <a:ln w="255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4457880" y="1635120"/>
              <a:ext cx="69840" cy="73080"/>
            </a:xfrm>
            <a:prstGeom prst="line">
              <a:avLst/>
            </a:prstGeom>
            <a:ln w="25560">
              <a:solidFill>
                <a:srgbClr val="94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4481640" y="1635120"/>
              <a:ext cx="69840" cy="73080"/>
            </a:xfrm>
            <a:prstGeom prst="line">
              <a:avLst/>
            </a:prstGeom>
            <a:ln w="2556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4492440" y="1636560"/>
              <a:ext cx="68040" cy="71640"/>
            </a:xfrm>
            <a:prstGeom prst="line">
              <a:avLst/>
            </a:prstGeom>
            <a:ln w="2556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503240" y="1647720"/>
              <a:ext cx="57240" cy="60480"/>
            </a:xfrm>
            <a:prstGeom prst="line">
              <a:avLst/>
            </a:prstGeom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4529160" y="1674720"/>
              <a:ext cx="31680" cy="33480"/>
            </a:xfrm>
            <a:prstGeom prst="line">
              <a:avLst/>
            </a:prstGeom>
            <a:ln w="25560">
              <a:solidFill>
                <a:srgbClr val="cac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52920" y="1700280"/>
              <a:ext cx="7920" cy="7920"/>
            </a:xfrm>
            <a:prstGeom prst="line">
              <a:avLst/>
            </a:prstGeom>
            <a:ln w="2556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4552920" y="1700280"/>
              <a:ext cx="7920" cy="7920"/>
            </a:xfrm>
            <a:prstGeom prst="line">
              <a:avLst/>
            </a:prstGeom>
            <a:ln w="25560">
              <a:solidFill>
                <a:srgbClr val="e5e5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11800" y="1635120"/>
              <a:ext cx="160200" cy="73080"/>
            </a:xfrm>
            <a:custGeom>
              <a:avLst/>
              <a:gdLst/>
              <a:ahLst/>
              <a:rect l="l" t="t" r="r" b="b"/>
              <a:pathLst>
                <a:path w="101" h="43">
                  <a:moveTo>
                    <a:pt x="70" y="0"/>
                  </a:moveTo>
                  <a:lnTo>
                    <a:pt x="0" y="29"/>
                  </a:lnTo>
                  <a:lnTo>
                    <a:pt x="23" y="43"/>
                  </a:lnTo>
                  <a:lnTo>
                    <a:pt x="101" y="21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51600" y="1143000"/>
              <a:ext cx="1377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ndrome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0" name="" descr=""/>
          <p:cNvPicPr/>
          <p:nvPr/>
        </p:nvPicPr>
        <p:blipFill>
          <a:blip r:embed="rId144"/>
          <a:stretch/>
        </p:blipFill>
        <p:spPr>
          <a:xfrm>
            <a:off x="4572000" y="1219320"/>
            <a:ext cx="1123920" cy="74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B61-CB11-4FF1-BEAA-9253AD2804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07E77-CBCC-4C20-BF42-E36FD91F0700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ypical di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82560" y="53942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Spindle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267080" y="4491000"/>
            <a:ext cx="228600" cy="762120"/>
          </a:xfrm>
          <a:prstGeom prst="can">
            <a:avLst>
              <a:gd name="adj" fmla="val 12083"/>
            </a:avLst>
          </a:prstGeom>
          <a:solidFill>
            <a:srgbClr val="000022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2286000" y="3881520"/>
            <a:ext cx="4387680" cy="990360"/>
            <a:chOff x="2286000" y="3881520"/>
            <a:chExt cx="4387680" cy="990360"/>
          </a:xfrm>
        </p:grpSpPr>
        <p:sp>
          <p:nvSpPr>
            <p:cNvPr id="935" name=""/>
            <p:cNvSpPr/>
            <p:nvPr/>
          </p:nvSpPr>
          <p:spPr>
            <a:xfrm>
              <a:off x="2286000" y="3881520"/>
              <a:ext cx="4191120" cy="99036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89720" y="41641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616120" y="4033800"/>
              <a:ext cx="3505320" cy="60948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895480" y="4148280"/>
              <a:ext cx="2971800" cy="35532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4267080" y="2814480"/>
            <a:ext cx="228600" cy="1600200"/>
          </a:xfrm>
          <a:prstGeom prst="can">
            <a:avLst>
              <a:gd name="adj" fmla="val 6648"/>
            </a:avLst>
          </a:prstGeom>
          <a:solidFill>
            <a:srgbClr val="000022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2286000" y="2052720"/>
            <a:ext cx="4387680" cy="990360"/>
            <a:chOff x="2286000" y="2052720"/>
            <a:chExt cx="4387680" cy="990360"/>
          </a:xfrm>
        </p:grpSpPr>
        <p:sp>
          <p:nvSpPr>
            <p:cNvPr id="941" name=""/>
            <p:cNvSpPr/>
            <p:nvPr/>
          </p:nvSpPr>
          <p:spPr>
            <a:xfrm>
              <a:off x="2286000" y="2052720"/>
              <a:ext cx="4191120" cy="99036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89720" y="23353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616120" y="2205000"/>
              <a:ext cx="3505320" cy="60948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895480" y="2319480"/>
              <a:ext cx="2971800" cy="35532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4267080" y="1824120"/>
            <a:ext cx="228600" cy="761760"/>
          </a:xfrm>
          <a:prstGeom prst="can">
            <a:avLst>
              <a:gd name="adj" fmla="val 12083"/>
            </a:avLst>
          </a:prstGeom>
          <a:solidFill>
            <a:srgbClr val="000022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183560" y="3034440"/>
            <a:ext cx="485280" cy="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Spi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911760" y="5100480"/>
            <a:ext cx="939600" cy="304920"/>
          </a:xfrm>
          <a:custGeom>
            <a:avLst/>
            <a:gdLst/>
            <a:ahLst/>
            <a:rect l="l" t="t" r="r" b="b"/>
            <a:pathLst>
              <a:path w="592" h="192">
                <a:moveTo>
                  <a:pt x="432" y="0"/>
                </a:moveTo>
                <a:cubicBezTo>
                  <a:pt x="496" y="12"/>
                  <a:pt x="560" y="24"/>
                  <a:pt x="576" y="48"/>
                </a:cubicBezTo>
                <a:cubicBezTo>
                  <a:pt x="592" y="72"/>
                  <a:pt x="576" y="120"/>
                  <a:pt x="528" y="144"/>
                </a:cubicBezTo>
                <a:cubicBezTo>
                  <a:pt x="480" y="168"/>
                  <a:pt x="376" y="192"/>
                  <a:pt x="288" y="192"/>
                </a:cubicBezTo>
                <a:cubicBezTo>
                  <a:pt x="200" y="192"/>
                  <a:pt x="100" y="168"/>
                  <a:pt x="0" y="14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2286000" y="1366920"/>
            <a:ext cx="5113440" cy="990360"/>
            <a:chOff x="2286000" y="1366920"/>
            <a:chExt cx="5113440" cy="990360"/>
          </a:xfrm>
        </p:grpSpPr>
        <p:sp>
          <p:nvSpPr>
            <p:cNvPr id="949" name=""/>
            <p:cNvSpPr/>
            <p:nvPr/>
          </p:nvSpPr>
          <p:spPr>
            <a:xfrm>
              <a:off x="2286000" y="1366920"/>
              <a:ext cx="4191120" cy="990360"/>
            </a:xfrm>
            <a:prstGeom prst="ellipse">
              <a:avLst/>
            </a:prstGeom>
            <a:solidFill>
              <a:srgbClr val="6666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424560" y="164952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Plat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16120" y="1519200"/>
              <a:ext cx="3505320" cy="60948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895480" y="1633680"/>
              <a:ext cx="2971800" cy="35532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4267080" y="1138320"/>
            <a:ext cx="228600" cy="761760"/>
          </a:xfrm>
          <a:prstGeom prst="can">
            <a:avLst>
              <a:gd name="adj" fmla="val 12083"/>
            </a:avLst>
          </a:prstGeom>
          <a:solidFill>
            <a:srgbClr val="000022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5333760" y="1214280"/>
            <a:ext cx="990360" cy="457200"/>
            <a:chOff x="5333760" y="1214280"/>
            <a:chExt cx="990360" cy="457200"/>
          </a:xfrm>
        </p:grpSpPr>
        <p:sp>
          <p:nvSpPr>
            <p:cNvPr id="955" name=""/>
            <p:cNvSpPr/>
            <p:nvPr/>
          </p:nvSpPr>
          <p:spPr>
            <a:xfrm flipH="1">
              <a:off x="5333760" y="1214280"/>
              <a:ext cx="990360" cy="4572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5714640" y="1214280"/>
              <a:ext cx="609480" cy="4572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6280560" y="99072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219320" y="53290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77720" y="53830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Arm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1523880" y="1752480"/>
            <a:ext cx="1676520" cy="3429000"/>
            <a:chOff x="1523880" y="1752480"/>
            <a:chExt cx="1676520" cy="3429000"/>
          </a:xfrm>
        </p:grpSpPr>
        <p:sp>
          <p:nvSpPr>
            <p:cNvPr id="961" name=""/>
            <p:cNvSpPr/>
            <p:nvPr/>
          </p:nvSpPr>
          <p:spPr>
            <a:xfrm>
              <a:off x="1523880" y="4495680"/>
              <a:ext cx="838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523880" y="2666880"/>
              <a:ext cx="838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523880" y="1981080"/>
              <a:ext cx="838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23880" y="1752480"/>
              <a:ext cx="0" cy="3429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523880" y="2438280"/>
              <a:ext cx="1676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523880" y="4267080"/>
              <a:ext cx="1676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523880" y="1752480"/>
              <a:ext cx="1676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1387800" y="129528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Disk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362320" y="1747800"/>
            <a:ext cx="838080" cy="2743200"/>
            <a:chOff x="2362320" y="1747800"/>
            <a:chExt cx="838080" cy="2743200"/>
          </a:xfrm>
        </p:grpSpPr>
        <p:sp>
          <p:nvSpPr>
            <p:cNvPr id="970" name=""/>
            <p:cNvSpPr/>
            <p:nvPr/>
          </p:nvSpPr>
          <p:spPr>
            <a:xfrm>
              <a:off x="2971800" y="2433600"/>
              <a:ext cx="228600" cy="7632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971800" y="4262400"/>
              <a:ext cx="228600" cy="7632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71800" y="1747800"/>
              <a:ext cx="228600" cy="7632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62320" y="4491000"/>
              <a:ext cx="838080" cy="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71800" y="4414680"/>
              <a:ext cx="228600" cy="7632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2817720" y="3805200"/>
            <a:ext cx="217440" cy="507960"/>
          </a:xfrm>
          <a:prstGeom prst="line">
            <a:avLst/>
          </a:prstGeom>
          <a:ln w="38160">
            <a:solidFill>
              <a:srgbClr val="ffcc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982880" y="34797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Garmnd BT"/>
              </a:rPr>
              <a:t>Disk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2590920" y="1828800"/>
            <a:ext cx="3504960" cy="2514600"/>
            <a:chOff x="2590920" y="1828800"/>
            <a:chExt cx="3504960" cy="2514600"/>
          </a:xfrm>
        </p:grpSpPr>
        <p:sp>
          <p:nvSpPr>
            <p:cNvPr id="978" name=""/>
            <p:cNvSpPr/>
            <p:nvPr/>
          </p:nvSpPr>
          <p:spPr>
            <a:xfrm>
              <a:off x="6095880" y="182880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90920" y="182880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67280" y="182880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895480" y="1828800"/>
              <a:ext cx="0" cy="2514600"/>
            </a:xfrm>
            <a:prstGeom prst="line">
              <a:avLst/>
            </a:prstGeom>
            <a:ln w="381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866920" y="3048120"/>
            <a:ext cx="1583280" cy="540000"/>
            <a:chOff x="5866920" y="3048120"/>
            <a:chExt cx="1583280" cy="540000"/>
          </a:xfrm>
        </p:grpSpPr>
        <p:sp>
          <p:nvSpPr>
            <p:cNvPr id="983" name=""/>
            <p:cNvSpPr/>
            <p:nvPr/>
          </p:nvSpPr>
          <p:spPr>
            <a:xfrm>
              <a:off x="6163200" y="31892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Cylin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flipV="1">
              <a:off x="5866920" y="3048120"/>
              <a:ext cx="381240" cy="3045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6095880" y="3429000"/>
              <a:ext cx="152640" cy="1522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1447920" y="5273640"/>
            <a:ext cx="7568280" cy="741240"/>
            <a:chOff x="1447920" y="5273640"/>
            <a:chExt cx="7568280" cy="741240"/>
          </a:xfrm>
        </p:grpSpPr>
        <p:sp>
          <p:nvSpPr>
            <p:cNvPr id="987" name=""/>
            <p:cNvSpPr/>
            <p:nvPr/>
          </p:nvSpPr>
          <p:spPr>
            <a:xfrm>
              <a:off x="5447520" y="5273640"/>
              <a:ext cx="356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oving parts” are s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1447920" y="5785920"/>
              <a:ext cx="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4343400" y="5785920"/>
              <a:ext cx="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447920" y="6014880"/>
              <a:ext cx="53337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781680" y="5786280"/>
              <a:ext cx="0" cy="2286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67E-0BE9-476F-906F-0F2E3C2AF9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04E40-26D3-42BB-B536-CE871ACE5E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2057400" y="1566720"/>
            <a:ext cx="5029200" cy="4834080"/>
            <a:chOff x="2057400" y="1566720"/>
            <a:chExt cx="5029200" cy="4834080"/>
          </a:xfrm>
        </p:grpSpPr>
        <p:sp>
          <p:nvSpPr>
            <p:cNvPr id="994" name=""/>
            <p:cNvSpPr/>
            <p:nvPr/>
          </p:nvSpPr>
          <p:spPr>
            <a:xfrm>
              <a:off x="2057400" y="1600200"/>
              <a:ext cx="5029200" cy="4800600"/>
            </a:xfrm>
            <a:prstGeom prst="ellipse">
              <a:avLst/>
            </a:prstGeom>
            <a:solidFill>
              <a:srgbClr val="cccc00"/>
            </a:solid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38280" y="1905120"/>
              <a:ext cx="4267440" cy="419076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19520" y="2286000"/>
              <a:ext cx="3504960" cy="342900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200400" y="2666880"/>
              <a:ext cx="2743200" cy="2667240"/>
            </a:xfrm>
            <a:prstGeom prst="ellipse">
              <a:avLst/>
            </a:prstGeom>
            <a:noFill/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150800" y="227484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50800" y="190980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63400" y="15667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meriGarmnd BT"/>
                </a:rPr>
                <a:t>Tr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-136080" y="1103400"/>
            <a:ext cx="8641440" cy="4522680"/>
            <a:chOff x="-136080" y="1103400"/>
            <a:chExt cx="8641440" cy="4522680"/>
          </a:xfrm>
        </p:grpSpPr>
        <p:sp>
          <p:nvSpPr>
            <p:cNvPr id="1002" name=""/>
            <p:cNvSpPr/>
            <p:nvPr/>
          </p:nvSpPr>
          <p:spPr>
            <a:xfrm flipV="1">
              <a:off x="5638680" y="2437920"/>
              <a:ext cx="838440" cy="7621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5918040" y="3504960"/>
              <a:ext cx="11430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892840" y="4356000"/>
              <a:ext cx="11430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613480" y="4863960"/>
              <a:ext cx="799920" cy="7621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6629040" y="2590920"/>
              <a:ext cx="76212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477120" y="2590920"/>
              <a:ext cx="914400" cy="1447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6934320" y="2590920"/>
              <a:ext cx="457200" cy="15238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71640" y="2332080"/>
              <a:ext cx="12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S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-136080" y="110340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Higher-density sectors on inner track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nd/or more sector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n outer trac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5651640" y="2895480"/>
            <a:ext cx="3601800" cy="3591360"/>
            <a:chOff x="5651640" y="2895480"/>
            <a:chExt cx="3601800" cy="3591360"/>
          </a:xfrm>
        </p:grpSpPr>
        <p:sp>
          <p:nvSpPr>
            <p:cNvPr id="1012" name=""/>
            <p:cNvSpPr/>
            <p:nvPr/>
          </p:nvSpPr>
          <p:spPr>
            <a:xfrm>
              <a:off x="6178680" y="4564080"/>
              <a:ext cx="3074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 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block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is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logical uni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f transf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nsisting of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ne or more s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651640" y="2895480"/>
              <a:ext cx="685800" cy="2210040"/>
            </a:xfrm>
            <a:custGeom>
              <a:avLst/>
              <a:gdLst/>
              <a:ahLst/>
              <a:rect l="l" t="t" r="r" b="b"/>
              <a:pathLst>
                <a:path w="432" h="1392">
                  <a:moveTo>
                    <a:pt x="0" y="192"/>
                  </a:moveTo>
                  <a:lnTo>
                    <a:pt x="192" y="0"/>
                  </a:lnTo>
                  <a:lnTo>
                    <a:pt x="336" y="288"/>
                  </a:lnTo>
                  <a:lnTo>
                    <a:pt x="432" y="480"/>
                  </a:lnTo>
                  <a:lnTo>
                    <a:pt x="384" y="960"/>
                  </a:lnTo>
                  <a:lnTo>
                    <a:pt x="192" y="1392"/>
                  </a:lnTo>
                  <a:lnTo>
                    <a:pt x="0" y="1248"/>
                  </a:lnTo>
                  <a:lnTo>
                    <a:pt x="192" y="912"/>
                  </a:lnTo>
                  <a:lnTo>
                    <a:pt x="192" y="528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330066">
                <a:alpha val="50000"/>
              </a:srgbClr>
            </a:solidFill>
            <a:ln w="38160">
              <a:solidFill>
                <a:srgbClr val="33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 flipV="1">
              <a:off x="6171840" y="4254480"/>
              <a:ext cx="1143000" cy="533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D4D-4927-49EE-8429-0BBF354401A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1297C-1FF0-4CAE-B371-11E89E7277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26T21:11:10Z</dcterms:modified>
  <cp:revision>749</cp:revision>
  <dc:subject/>
  <dc:title>CS186: Introduction to Database Systems</dc:title>
</cp:coreProperties>
</file>