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38000"/>
            <a:ext cx="7772400" cy="57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97180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4040" y="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University of Ka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400" y="352440"/>
            <a:ext cx="4568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Department of Electrical Engineering and Computer 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09480"/>
            <a:ext cx="818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76120" y="627120"/>
            <a:ext cx="8531280" cy="191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12760" y="225360"/>
            <a:ext cx="676080" cy="6015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-1080" y="652320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Dr. Susan Ga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557120" y="655308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April 21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rcRect l="0" t="0" r="0" b="20898"/>
          <a:stretch/>
        </p:blipFill>
        <p:spPr>
          <a:xfrm>
            <a:off x="7778880" y="0"/>
            <a:ext cx="1197000" cy="6192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6852600" y="16812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I T 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ergey.com/web_course/" TargetMode="External"/><Relationship Id="rId2" Type="http://schemas.openxmlformats.org/officeDocument/2006/relationships/hyperlink" Target="http://www.isoc.org/internet/history/" TargetMode="External"/><Relationship Id="rId3" Type="http://schemas.openxmlformats.org/officeDocument/2006/relationships/hyperlink" Target="http://archive.ncsa.uiuc.edu/General/Internet/WWW/HTMLPrimerAll.html" TargetMode="External"/><Relationship Id="rId4" Type="http://schemas.openxmlformats.org/officeDocument/2006/relationships/hyperlink" Target="http://www.cgi101.com/class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troduction to Web Technologi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Susan Ga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aking It a CGI program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inyPL.cgi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! /usr/bin/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tri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warning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GI qw(:standar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 $user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username = "Susa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head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start_html("First CGI program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"Hello $username.\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end_htm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alling it from a Web Pag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3200" y="175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dy bgcolor=whi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A HREF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http://www.ittc.ku.edu/~sgauch/cgibin/cgicode/tinyPL.cgi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inyPL.cgi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What the Web Page Looks Lik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1240" y="226836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ll tinyPL.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ading Parameters in a CGI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dduserPL.cgi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!/usr/bin/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tri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GI qw(:standar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 $cgiform = new CG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 $username = $cgiform-&gt;param("username");  #Gets values from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 $password = $cgiform-&gt;param("password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head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start_html("Add a User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"&lt;h2&gt;Username: $username&lt;/h2&gt;\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"&lt;h2&gt;Password: $password&lt;/h2&gt;\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end_htm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orm to Call adduserPL.cgi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ody bgcolor=whi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RM ACTION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http://www.ittc.ku.edu/~sgauch/cgi-bin/cgicode/adduserPL.cgi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="POS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en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able width=70% cellpadding=5 border=1 bgcolor=#008080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d align=center&gt; &lt;font size=+3 style=times color=whi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ome a Registered Customer&lt;/font&gt;&lt;b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ab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en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Form to Call adduserPL.cgi continued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&gt;&lt;table border="0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d&gt;Choose your username: 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d&gt;&lt;INPUT TYPE="text" SIZE="20" NAME="username"&gt;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d&gt;Choose your password: 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d&gt;&lt;INPUT TYPE="text" SIZE="20" NAME="password"&gt;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ab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&gt;&lt;input type="submit" value="Add M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body&gt;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It Looks Lik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640" y="1938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your user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your passwo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4040" y="4516560"/>
            <a:ext cx="1261800" cy="549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4960" y="4524480"/>
            <a:ext cx="11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37040" y="3238560"/>
            <a:ext cx="2799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05360" y="3828960"/>
            <a:ext cx="2798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79440" y="2030400"/>
            <a:ext cx="5559480" cy="822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5520" y="2077920"/>
            <a:ext cx="49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come a Registered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reating CGI program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program that runs from the command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the program in your .public_html/cgi-bin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the variables in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$username = “sgauch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e the output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l myprog.cgi &gt; output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w the file in a browser (remove top two lines fir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 friend login and run your program from their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perl  /users/myusername/.public_html/cgi-bin/myprogram.cgi &gt;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reating CGI programs continued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 a form that calls a dummy c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 cgi should just print out “hello worl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t the form in your .public_html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ew the form in the 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sub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that you see “hello worl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your perl program, comment out all parts of th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st print the parameters to confirm you’re getting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this program from th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comments and test the REAL progr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ebugging CGI program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ermissions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adequate per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this by having someone besides yourself execute th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and ls –l on the directory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should be drwxr-wr-x on all direc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mod 755 my 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mod 644 for your perl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h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this by creating and calling a really simple cgi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alid HTML p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this and save output to 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ew file in a 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GI – Common Gateway Interfac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html web page is static (unchang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document sent from server to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GI program creates dynamic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is executed up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s fresh content for each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ommon Problem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!/usr/bin/perl must be the first line i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before any  other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call the print header()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ust occur before any other print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ome systems, the filename must end .cgi not .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Useful Link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sergey.com/web_cours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pStart to the Web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soc.org/internet/history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of the Internet and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archive.ncsa.uiuc.edu/General/Internet/WWW/HTMLPrimerAll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orough description of HTML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gi101.com/clas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ood tutorial on CGI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GI Overview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r creates an HTML page with a &lt;FORM&gt; on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s the name of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some variables that can hol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enters information into the Web page (fills in the variables in the &lt;FORM&gt; and clicks &lt;SUBMIT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 send the information to the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GI Overview continued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unpacks the HTTP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name of the program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calls the program and passes in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generates output and writes it to “standard out” (the screen, usu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takes the output and passes it along to the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ser displays the output on the user’s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or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are part of regular HTML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may be more than one form in 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may not be n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&lt;FORM ACTION=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”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&lt;/FORM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 receive input from th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put area has its own name and type of input it may rece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 may receive input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ubmitting Information via a FORM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UBMIT is pushed, the contents of the form get sent to the server in 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rogramname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ar1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alue1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&amp;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ar2</a:t>
            </a:r>
            <a:r>
              <a:rPr b="0" lang="en-US" sz="3200" spc="-1" strike="noStrike">
                <a:solidFill>
                  <a:srgbClr val="0000ff"/>
                </a:solidFill>
                <a:latin typeface="Arial Unicode M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alue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ay send the data via POST or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hoose this when you write the HTML page with the FORM i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POST and GE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i  program reads from stdin (I.e., the keybo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the amount of data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i program reads from an environment variable (QUERY_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 on length of data sent (1,000? Character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that you use 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380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 Simple Perl Program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iny.p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!/usr/bin/per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tric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# compile tim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warnings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runtime chec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 $username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declare the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"What is your username? "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print out the que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username = &lt;STDIN&gt;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ask for the user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mp($username)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remove "new line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 "Hello, $username.\n"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print out the gr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3:43:26Z</dcterms:created>
  <dc:creator>H. Scott Hinton</dc:creator>
  <dc:description/>
  <dc:language>en-US</dc:language>
  <cp:lastModifiedBy>jhuan</cp:lastModifiedBy>
  <cp:lastPrinted>2002-05-17T21:51:44Z</cp:lastPrinted>
  <dcterms:modified xsi:type="dcterms:W3CDTF">2007-03-09T16:55:47Z</dcterms:modified>
  <cp:revision>65</cp:revision>
  <dc:subject/>
  <dc:title>PowerPoint Presentation</dc:title>
</cp:coreProperties>
</file>