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55B9D5-05E3-4806-98FC-FD2318017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2F2D1A-8A47-4AEF-BBD7-5E456E961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4FCB0E-4FDC-4ECD-B8A6-DB55E807C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49AD5A-D9CA-4443-B3B1-D2E23E2B9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271C3D-6D54-4A08-AD97-414B3B761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EF0232-4052-4705-8C71-07D762D99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582A95-5B6D-4361-B98E-2FE123292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915E94-6948-4B7F-A148-8AF9E55F9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4A4130-EB4F-4370-A8DC-3AC1523117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7A6AF3-ED63-4011-A305-61829BA32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569F13-D77B-4A57-88D7-9856A8169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E6C8CD-404E-4EF8-93B0-73DA61210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F9C-8AF8-4017-97E7-EA4BCC0F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715-4F8B-4367-B2B1-F5F8104F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13D-BD6A-4A13-964C-12BE93C3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AEB-0D97-46A0-B509-C60608D7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66D-D217-45E3-B9EE-227A42BE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0DB-0A87-4CDA-92EA-5DAF30B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F41-579A-4C40-A4E5-7857D332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7D9-B380-465A-B867-08507EA0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CDC-0514-4A69-9647-79220B58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00A-659F-432D-BA63-1A0FA68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F2E-5E21-4453-A127-ABB7EFE0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CE0-63AE-4E7A-ADB6-F9261E26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26AF-97C2-4D99-B4B8-19A491D92D0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E22C-B689-4B32-BED5-C9A6410065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7762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quence of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log 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recording all changes made to the datab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ten to stable storage (e.g., disk) during normal op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d in recov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y, one change turns into two—bad fo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t writes are sequential (append to the end of lo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use dedicated disk(s) to improve 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6DC-AFD0-4315-A82F-00ED4078D9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304B6-25AC-4145-9856-1DA07C4CB8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o/redo logging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values before and after each modification: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old_value_of_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new_value_of_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mitted when its commit log record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commit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written to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Write-ahead log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W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Bef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odified on disk, the log record pertain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flu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WAL, system might crash aft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modified on disk but before its log record is written to disk—no way to un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No 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transaction can commit even if its modified memory blocks have not be written to disk (since redo information is logg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Ste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odified memory blocks can be flushed to disk anytime (since undo information is logg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AA9-95CE-462E-BFF2-B001AB0246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7EA7F-8832-404C-B5B6-E61868B2D9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o/redo logging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560" y="1771560"/>
            <a:ext cx="32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read(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);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–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0640" y="217980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write(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000" y="2560680"/>
            <a:ext cx="33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read(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);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+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720" y="294156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write(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39360" y="247824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24600" y="285912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653080" y="2473200"/>
            <a:ext cx="1202760" cy="459720"/>
            <a:chOff x="5653080" y="2473200"/>
            <a:chExt cx="1202760" cy="459720"/>
          </a:xfrm>
        </p:grpSpPr>
        <p:sp>
          <p:nvSpPr>
            <p:cNvPr id="158" name=""/>
            <p:cNvSpPr/>
            <p:nvPr/>
          </p:nvSpPr>
          <p:spPr>
            <a:xfrm flipV="1">
              <a:off x="5653080" y="2544840"/>
              <a:ext cx="609840" cy="3045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3840" y="24732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7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53080" y="2854440"/>
            <a:ext cx="1202760" cy="459720"/>
            <a:chOff x="5653080" y="2854440"/>
            <a:chExt cx="1202760" cy="459720"/>
          </a:xfrm>
        </p:grpSpPr>
        <p:sp>
          <p:nvSpPr>
            <p:cNvPr id="161" name=""/>
            <p:cNvSpPr/>
            <p:nvPr/>
          </p:nvSpPr>
          <p:spPr>
            <a:xfrm flipV="1">
              <a:off x="5653080" y="2926080"/>
              <a:ext cx="609840" cy="3045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53840" y="285444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348600" y="4124160"/>
            <a:ext cx="1605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star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7400" y="4505400"/>
            <a:ext cx="207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meriGarmnd BT"/>
              </a:rPr>
              <a:t>800, 700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62640" y="4886280"/>
            <a:ext cx="209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meriGarmnd BT"/>
              </a:rPr>
              <a:t>400, 500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9080" y="5267160"/>
            <a:ext cx="203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commi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19560" y="1935000"/>
            <a:ext cx="1905120" cy="137160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-115200" y="1219320"/>
            <a:ext cx="595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(balance transfer of $100 from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809880"/>
            <a:ext cx="1905120" cy="15242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96440" y="190512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29680" y="442908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14920" y="480996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=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12440" y="3780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41600" y="371304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3733920"/>
            <a:ext cx="2210040" cy="2361960"/>
          </a:xfrm>
          <a:prstGeom prst="can">
            <a:avLst>
              <a:gd name="adj" fmla="val 16666"/>
            </a:avLst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41920" y="4424400"/>
            <a:ext cx="4404240" cy="912600"/>
            <a:chOff x="1141920" y="4424400"/>
            <a:chExt cx="4404240" cy="912600"/>
          </a:xfrm>
        </p:grpSpPr>
        <p:grpSp>
          <p:nvGrpSpPr>
            <p:cNvPr id="177" name=""/>
            <p:cNvGrpSpPr/>
            <p:nvPr/>
          </p:nvGrpSpPr>
          <p:grpSpPr>
            <a:xfrm>
              <a:off x="4343400" y="4424400"/>
              <a:ext cx="1202760" cy="459720"/>
              <a:chOff x="4343400" y="4424400"/>
              <a:chExt cx="1202760" cy="45972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4343400" y="4496040"/>
                <a:ext cx="609840" cy="30456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44160" y="442440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0066"/>
                    </a:solidFill>
                    <a:latin typeface="AmeriGarmnd BT"/>
                  </a:rPr>
                  <a:t>7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141920" y="4511520"/>
              <a:ext cx="233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Steal: can flush</a:t>
              </a:r>
              <a:br>
                <a:rPr sz="2400"/>
              </a:b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before comm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51640" y="32767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comm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45160" y="4805280"/>
            <a:ext cx="3501000" cy="1430280"/>
            <a:chOff x="2045160" y="4805280"/>
            <a:chExt cx="3501000" cy="1430280"/>
          </a:xfrm>
        </p:grpSpPr>
        <p:grpSp>
          <p:nvGrpSpPr>
            <p:cNvPr id="183" name=""/>
            <p:cNvGrpSpPr/>
            <p:nvPr/>
          </p:nvGrpSpPr>
          <p:grpSpPr>
            <a:xfrm>
              <a:off x="4343400" y="4805280"/>
              <a:ext cx="1202760" cy="459720"/>
              <a:chOff x="4343400" y="4805280"/>
              <a:chExt cx="1202760" cy="45972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4343400" y="4876920"/>
                <a:ext cx="609840" cy="30456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44160" y="480528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0066"/>
                    </a:solidFill>
                    <a:latin typeface="AmeriGarmnd BT"/>
                  </a:rPr>
                  <a:t>5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045160" y="5410080"/>
              <a:ext cx="286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No force: can flush</a:t>
              </a:r>
              <a:br>
                <a:rPr sz="2400"/>
              </a:b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after comm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-370800" y="6248520"/>
            <a:ext cx="89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No restriction on when memory blocks can/should be flu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E54-0B57-4C04-B7E8-6BC27F870A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5708D-FAD8-4F66-80B6-24C62A60AC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poin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es recovery st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ïv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 accepting new transactions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(lame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ish all active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ke a database du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zzy checkpo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set of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currently active transac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log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begin-checkpoint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ush all blocks (dirty at the time of the checkpoint) at your leis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end-checkpoint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begin-checkpoint_location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ween begin and end, continue processing old and new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C64-2C08-47A2-AED0-4DD67C6D4B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B78EC-66A5-4091-A2DC-2D000528D6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very: analysis and redo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determ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set of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active transactions at time of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log backward to find the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last end-checkpoint reco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ollow the pointer to find the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orresponding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start-checkpoint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,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for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at start-checkpoint to end of the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log record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start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d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log record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commit | abort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mov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log record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ol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ew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issue write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Basically repeats history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B6E-9846-4885-8AAC-22D05E2BE7E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40EBB-B026-4798-B7FD-89FC3EE4E2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very: undo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log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do the effects of transaction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for each log record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ol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new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issue write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l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and log this operation too (part of the repeating-history paradig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abort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n all effect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ve been und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981-36AD-4C0D-9A2E-0DD59874D4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1B1B2-B6BD-43C1-9043-FDEDF0FBF5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ial schedule: no interlea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flict-serializable schedule: no cycles in the precedence graph; equivalent to a serial sched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PL: guarantees a conflict-serializable sched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 2PL: also guarantees recover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: undo/redo logging with fuzzy check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rmal operation: write-ahead logging, no force, ste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very: first redo (forward), and then undo (backwor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E57-53D0-4E93-BDC6-89E231A1B6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21B7F-9BDA-4BC0-A2EF-F2F2D62DFB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urvey is scheduled on April 23rd at 4 pm. Class will stop at 4p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graduating seniors are encouraged to participate the surve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stud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fe is tough, so deal with it rather than abandon 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8F8-A76C-4EB5-8887-DA3CDB0204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97CE4-888A-4FEC-83CF-4312893739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campus jo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Molecular Graphics and Modeling Laboratory is recruiting a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on-line database applications for chemical informat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terested, contact Gerry Lushington (glushington at ku dot ed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LTEC center is recruiting a studen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database application development promoting efficient lear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re information, see KU job ID 00008869 or contact Marilyn Ault (mault at altec dot 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ED7-2AE6-4339-B6C3-D60369759D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94DE5-CBEF-4D52-8636-6FEDEC549B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Transaction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Concurrency with Is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2133720"/>
          <a:ext cx="8305920" cy="370836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c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over-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adlo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v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P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ct 2P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ict 2PL with prior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28600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0481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30481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39625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39625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952880"/>
            <a:ext cx="1295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495288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4952880"/>
            <a:ext cx="1295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A0A-F6A1-4573-9B63-1B02072906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ED7DC-499C-404A-A9E9-5F1A0DFCC1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est for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ease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 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equest for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o not release locks until commit/ab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 2PL with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Handled by lock mana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ay abort certain transaction in hold-and-wait situ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8E7-0076-4F40-9240-13E11084F4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7234E-101C-411D-BACB-B42ACD8406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sh Recover techniq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CF9-679B-4C77-BF76-4B5CC31FC3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EB299-69DD-4DB7-8BDD-6A95B53BC0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actions may abort (“Rollback”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f DBMS stops running?  (Causes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42320" y="3462480"/>
            <a:ext cx="109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Book Antiqua"/>
              </a:rPr>
              <a:t>cras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2680"/>
            <a:ext cx="44956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ired state after system rest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&amp;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T3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should be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u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Book Antiqua"/>
              </a:rPr>
              <a:t>T2, T4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&amp; </a:t>
            </a:r>
            <a:r>
              <a:rPr b="0" lang="en-US" sz="2400" spc="-1" strike="noStrike">
                <a:solidFill>
                  <a:srgbClr val="cccc00"/>
                </a:solidFill>
                <a:latin typeface="Book Antiqua"/>
              </a:rPr>
              <a:t>T5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hould be </a:t>
            </a:r>
            <a:r>
              <a:rPr b="0" lang="en-US" sz="2400" spc="-1" strike="noStrike">
                <a:solidFill>
                  <a:srgbClr val="cccc00"/>
                </a:solidFill>
                <a:latin typeface="Book Antiqua"/>
              </a:rPr>
              <a:t>aborte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effects not se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8120" y="3800520"/>
            <a:ext cx="5245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T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48440" y="3997440"/>
            <a:ext cx="113652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11840" y="4299120"/>
            <a:ext cx="113508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35560" y="4681440"/>
            <a:ext cx="11368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16680" y="5054760"/>
            <a:ext cx="3390840" cy="0"/>
          </a:xfrm>
          <a:prstGeom prst="line">
            <a:avLst/>
          </a:prstGeom>
          <a:ln w="507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8640" y="5367240"/>
            <a:ext cx="762120" cy="0"/>
          </a:xfrm>
          <a:prstGeom prst="line">
            <a:avLst/>
          </a:prstGeom>
          <a:ln w="507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535960" y="4011480"/>
            <a:ext cx="0" cy="1573200"/>
          </a:xfrm>
          <a:prstGeom prst="line">
            <a:avLst/>
          </a:prstGeom>
          <a:ln w="5076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2880" y="396396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10160" y="396396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86280" y="4264200"/>
            <a:ext cx="0" cy="680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72480" y="4264200"/>
            <a:ext cx="0" cy="680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73720" y="464652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5040" y="464652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13440" y="501984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23080" y="5330880"/>
            <a:ext cx="0" cy="69840"/>
          </a:xfrm>
          <a:prstGeom prst="line">
            <a:avLst/>
          </a:prstGeom>
          <a:ln w="507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3402000"/>
            <a:ext cx="4483080" cy="22734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81120" y="40813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2080" y="37767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6480" y="44625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dling Fail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es in the middle of a transa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partial effec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 written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do we und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tomi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es right after a transa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its; not all effec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 written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do we comple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durabil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E91-E107-4708-A7A3-158EFB46C5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8D788-A699-4129-B586-68439CF897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ïve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en a transaction commits, all writes of this transaction must be reflected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force, if system crashes right aft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mmits, effect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ll be l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lem: Lots of random writes hurt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No ste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rites of a transaction can only be flushed to disk at commi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steal, if system crashes befo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mmits but after some writ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ve been flushed to disk, there is no way to undo these wri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lem: Holding on to all dirty blocks requires lots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C8F-B2DC-4951-9AD3-AF875D8743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64C2A-C02A-41C2-A0A4-EF2976C54A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18T21:00:14Z</dcterms:modified>
  <cp:revision>1050</cp:revision>
  <dc:subject/>
  <dc:title>CS186: Introduction to Database Systems</dc:title>
</cp:coreProperties>
</file>