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notesSlide4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48A11B8-5E63-4432-B074-0C17B2867A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CCE8BCB-4DA2-4343-BA44-FE4FBE948D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41704E1-53E6-41E7-BEBF-61A9F92077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0AA5A2F-434D-407A-A9C9-0FD7223FE4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YOU CARE WHEN EQUIVALENCES ARE BROK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.O. is har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2CD815A-9400-4F8D-BB5E-466F69A285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1E6BD5A-860D-4B95-9BC6-F7443F7277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useful in information integration as w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BCC0DA8-2C67-4552-A64C-095C7F3F81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24ED1FA-1AB4-4635-8B87-F7E4FE902F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69AB2E2-38A9-478E-9137-DE6C1026DB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6F71962-7E4D-43B0-828E-37F0085D83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86F582B-D515-4F43-A5D2-4602373012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11F8046-8894-4672-9172-37A5BA955A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5540FC1-BF60-4F64-A111-D7C91BB9E0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2438920-2357-48C2-88D2-FAE507581B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DB8D199-555A-43C9-9D42-1367842E41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16FF28D-7585-4A24-B977-8B0DE7D5D5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988920" y="766800"/>
            <a:ext cx="5122800" cy="384156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46080" y="4862520"/>
            <a:ext cx="52070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1ABF8EB-0DD4-4FAA-A789-3857892C62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D48CFE5-1773-4E04-AEA8-550B745B4B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5389781-C87F-4199-AE20-206657F6BA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D9143D4-4173-4148-8785-F6F671EE09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5CED276-4F8D-427D-83B4-8AA36D6F89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translate a relationship set in E/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tial integrit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640B14A-447C-4A9C-B743-A5FB8C402D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DE74F1B-5DD6-4FE3-BE85-4474D27052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DDC3E0D-E2A6-4236-A42F-81BA86C049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E0CF742-6CF3-425A-8EF5-24AFE3EE71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6A84A46-1478-47A3-BF34-299F54F2FE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DCE0DD5-C132-463E-9240-E51C345145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77DF49C-0B1B-43F3-B416-A9991E23EC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C264839-7798-409F-8A74-6AFB70BB20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C82FB2C-BAB1-4507-A733-E579993417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FBD9B17-1DF8-4449-B986-ED6F776B09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58DEB87-1DD6-4721-8DCE-173C2F1311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0CA9-B1C3-488D-A08A-F269FD74D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639B-079B-4D1B-96A0-99C009BCB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9807-D790-412B-B74B-C8894BD34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992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124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992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124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A1DC-A123-4397-B8C4-8AB7EB709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543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CEEA-8083-4007-94B2-CF7B64C5D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3992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5124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60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3992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5124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B178-4BEC-44BA-8DF8-6EC79BACF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6C15-003B-4DF9-AD87-8FEAFEF86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15C4-F1E5-47E1-B122-4F73C0B0E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543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2CB0-D027-4773-AB11-9157704E2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0F45-EC59-4C5C-BEF8-A7EC14595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2C18-4881-4D6B-8850-DB4B46F3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DC14-99CF-44EA-86E3-A858A7DF8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1240" indent="-292320">
              <a:spcBef>
                <a:spcPts val="7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98760" indent="-316080">
              <a:spcBef>
                <a:spcPts val="700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69878-0AD9-4D6A-A078-373C4A2207A1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2209F-76BA-4509-9691-35584851774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0" y="837720"/>
            <a:ext cx="9016920" cy="77760"/>
          </a:xfrm>
          <a:custGeom>
            <a:avLst/>
            <a:gdLst/>
            <a:ahLst/>
            <a:rect l="l" t="t" r="r" b="b"/>
            <a:pathLst>
              <a:path w="6344" h="1">
                <a:moveTo>
                  <a:pt x="0" y="0"/>
                </a:moveTo>
                <a:lnTo>
                  <a:pt x="6344" y="0"/>
                </a:lnTo>
              </a:path>
            </a:pathLst>
          </a:custGeom>
          <a:solidFill>
            <a:srgbClr val="af8a01"/>
          </a:solidFill>
          <a:ln w="38160">
            <a:solidFill>
              <a:srgbClr val="ef9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5720" y="466200"/>
            <a:ext cx="82184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791320" y="3962520"/>
            <a:ext cx="3120840" cy="2708280"/>
            <a:chOff x="5791320" y="3962520"/>
            <a:chExt cx="3120840" cy="2708280"/>
          </a:xfrm>
        </p:grpSpPr>
        <p:sp>
          <p:nvSpPr>
            <p:cNvPr id="44" name=""/>
            <p:cNvSpPr/>
            <p:nvPr/>
          </p:nvSpPr>
          <p:spPr>
            <a:xfrm>
              <a:off x="5791320" y="5908680"/>
              <a:ext cx="3120840" cy="762120"/>
            </a:xfrm>
            <a:prstGeom prst="ellipse">
              <a:avLst/>
            </a:prstGeom>
            <a:gradFill rotWithShape="0">
              <a:gsLst>
                <a:gs pos="0">
                  <a:srgbClr val="2f2f17"/>
                </a:gs>
                <a:gs pos="50000">
                  <a:srgbClr val="666633"/>
                </a:gs>
                <a:gs pos="100000">
                  <a:srgbClr val="2f2f17"/>
                </a:gs>
              </a:gsLst>
              <a:lin ang="10800000"/>
            </a:gradFill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791320" y="4383360"/>
              <a:ext cx="3120840" cy="1904760"/>
            </a:xfrm>
            <a:prstGeom prst="rect">
              <a:avLst/>
            </a:prstGeom>
            <a:gradFill rotWithShape="0">
              <a:gsLst>
                <a:gs pos="0">
                  <a:srgbClr val="2f2f17"/>
                </a:gs>
                <a:gs pos="50000">
                  <a:srgbClr val="666633"/>
                </a:gs>
                <a:gs pos="100000">
                  <a:srgbClr val="2f2f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5791320" y="3962520"/>
              <a:ext cx="3120840" cy="76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693720" algn="ctr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1752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EECS 647: Introduction to Database Systems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332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structor: Luke Hua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pring 200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QL’s solu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pecial value 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NU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every doma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pecial rules for dealing with 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NUL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’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P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789, “Nelson”, 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NUL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NUL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E39F-8C60-45E3-87A8-A4E3B8661E7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B164DA-58BE-494D-A2D6-5BED9768D32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ree-valued logi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, 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, </a:t>
            </a: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min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max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HAV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uses only select rows for output if the condition evaluates to 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UNKNOW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not enoug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7200" y="2743200"/>
          <a:ext cx="4191120" cy="1822320"/>
        </p:xfrm>
        <a:graphic>
          <a:graphicData uri="http://schemas.openxmlformats.org/drawingml/2006/table">
            <a:tbl>
              <a:tblPr/>
              <a:tblGrid>
                <a:gridCol w="1047600"/>
                <a:gridCol w="1047960"/>
                <a:gridCol w="1047600"/>
                <a:gridCol w="10479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>
            <a:off x="2133720" y="4572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800600" y="2743200"/>
          <a:ext cx="4191120" cy="1822320"/>
        </p:xfrm>
        <a:graphic>
          <a:graphicData uri="http://schemas.openxmlformats.org/drawingml/2006/table">
            <a:tbl>
              <a:tblPr/>
              <a:tblGrid>
                <a:gridCol w="1047600"/>
                <a:gridCol w="1047960"/>
                <a:gridCol w="1047600"/>
                <a:gridCol w="10479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6477120" y="4572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57600" y="3276720"/>
            <a:ext cx="8380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4191120"/>
            <a:ext cx="8380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90920" y="4191120"/>
            <a:ext cx="8380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657600" y="3733920"/>
            <a:ext cx="8380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657600" y="4191120"/>
            <a:ext cx="8380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077320" y="3276720"/>
            <a:ext cx="8380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943600" y="4191120"/>
            <a:ext cx="8380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077320" y="3733920"/>
            <a:ext cx="8380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086600" y="4191120"/>
            <a:ext cx="8380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001000" y="4191120"/>
            <a:ext cx="8380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0243-5B03-488A-974B-F663A902038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9D38FD-8527-4DD9-9802-FA12B398B70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uting with </a:t>
            </a:r>
            <a:r>
              <a:rPr b="1" lang="en-US" sz="3200" spc="-1" strike="noStrike">
                <a:solidFill>
                  <a:srgbClr val="000000"/>
                </a:solidFill>
                <a:latin typeface="LettrGoth12 BT"/>
              </a:rPr>
              <a:t>NUL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’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rithmetic operation) when we operate on a 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NU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nother value (including another 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NU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using +, –, etc., the result is 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NU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gregate functions ignore 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NU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except 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COUNT(*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since it counts row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we compare a 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NU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another value (including another 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NU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using =, &gt;, etc., the result is 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UNKN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C4A0-4FDD-42BE-9BD0-2BE3967F294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C9BCE1-3122-4C62-AE70-1FF8F34C281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fortunate consequenc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SELECT AVG(GPA) FROM Stu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3.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SELECT SUM(GPA)/COUNT(*) FROM Studen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2.7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SELECT * FROM Studen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SELECT * FROM Student WHERE GPA = G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ot equival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809880" y="4191120"/>
          <a:ext cx="4114800" cy="2190600"/>
        </p:xfrm>
        <a:graphic>
          <a:graphicData uri="http://schemas.openxmlformats.org/drawingml/2006/table">
            <a:tbl>
              <a:tblPr/>
              <a:tblGrid>
                <a:gridCol w="768600"/>
                <a:gridCol w="1914480"/>
                <a:gridCol w="627120"/>
                <a:gridCol w="804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Smit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 Cart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b L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san W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3429000" y="5486400"/>
            <a:ext cx="4800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37E1-1F5E-4FCE-909B-0E88541FB3B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B433F2-EBAE-4470-AB0A-4D231EC81FE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other probl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Who has 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NU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PA valu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SELECT * FROM Student WHERE GPA = NULL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work; never returns any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(SELECT * FROM Student)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EXCEPT ALL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(SELECT * FROM Student WHERE GPA = GPA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, but ug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troduced built-in predicates 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IS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NUL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IS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NOT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NUL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SELECT * FROM Student WHERE GPA IS NUL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54B3-B338-4C7F-93CE-9CF30FA3744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BE41FA-57E8-42CC-9F41-9C2C33E4912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erjoin motiv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a master class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SELECT c.CID, s.SID</a:t>
            </a:r>
            <a:br>
              <a:rPr sz="22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FROM Enroll e, Student s, Course 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WHERE e.SID = s.SID and c.CID = e.CI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at if a student take no class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these student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lumn should be 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at if a course with no student enrolled yet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these course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hould be 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8400-CF0B-4B88-B5B1-2619654DB6B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A9B425-2DCD-4784-9C8A-D40A060EC89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erjoi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SELECT * FROM </a:t>
            </a:r>
            <a:r>
              <a:rPr b="0" i="1" lang="en-US" sz="2400" spc="-1" strike="noStrike">
                <a:solidFill>
                  <a:srgbClr val="000000"/>
                </a:solidFill>
                <a:latin typeface="LettrGoth12 BT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 </a:t>
            </a: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FULL OUTER JOIN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ettrGoth12 BT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 </a:t>
            </a: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ON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ettrGoth12 BT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;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full outer jo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denoted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dbsym"/>
                <a:ea typeface="dbsym"/>
              </a:rPr>
              <a:t>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ncludes all rows in the resul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dbsym"/>
                <a:ea typeface="dbsym"/>
              </a:rPr>
              <a:t>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angling”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rows (those that do not join with any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rows) padded with 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NUL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’s for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’s colum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angling”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rows (those that do not join with any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rows) padded with 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NUL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’s for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’s colum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7162920" y="1781280"/>
            <a:ext cx="75960" cy="199800"/>
            <a:chOff x="7162920" y="1781280"/>
            <a:chExt cx="75960" cy="199800"/>
          </a:xfrm>
        </p:grpSpPr>
        <p:sp>
          <p:nvSpPr>
            <p:cNvPr id="141" name=""/>
            <p:cNvSpPr/>
            <p:nvPr/>
          </p:nvSpPr>
          <p:spPr>
            <a:xfrm>
              <a:off x="7162920" y="178128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162920" y="198108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7543800" y="1752480"/>
            <a:ext cx="76320" cy="199800"/>
            <a:chOff x="7543800" y="1752480"/>
            <a:chExt cx="76320" cy="199800"/>
          </a:xfrm>
        </p:grpSpPr>
        <p:sp>
          <p:nvSpPr>
            <p:cNvPr id="144" name=""/>
            <p:cNvSpPr/>
            <p:nvPr/>
          </p:nvSpPr>
          <p:spPr>
            <a:xfrm>
              <a:off x="7543800" y="175248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543800" y="195228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FDE6-A441-4FDB-8102-FFB63546601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8035A1-6F5A-4419-AC12-1F9C0F9D1DE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erjoin (II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SELECT * FROM </a:t>
            </a:r>
            <a:r>
              <a:rPr b="0" i="1" lang="en-US" sz="2400" spc="-1" strike="noStrike">
                <a:solidFill>
                  <a:srgbClr val="000000"/>
                </a:solidFill>
                <a:latin typeface="LettrGoth12 BT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 </a:t>
            </a: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LEFT  OUTER JOIN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ettrGoth12 BT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 </a:t>
            </a: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ON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ettrGoth12 BT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;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SELECT * FROM </a:t>
            </a:r>
            <a:r>
              <a:rPr b="0" i="1" lang="en-US" sz="2400" spc="-1" strike="noStrike">
                <a:solidFill>
                  <a:srgbClr val="000000"/>
                </a:solidFill>
                <a:latin typeface="LettrGoth12 BT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 </a:t>
            </a: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RIGHT OUTER JOIN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ettrGoth12 BT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 </a:t>
            </a: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ON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ettrGoth12 BT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;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2400" spc="-1" strike="noStrike">
                <a:solidFill>
                  <a:srgbClr val="669999"/>
                </a:solidFill>
                <a:latin typeface="Times New Roman"/>
              </a:rPr>
              <a:t>left outer jo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dbsym"/>
                <a:ea typeface="dbsym"/>
              </a:rPr>
              <a:t>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ncludes row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dbsym"/>
                <a:ea typeface="dbsym"/>
              </a:rPr>
              <a:t>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lus dangl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ows padded with 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2400" spc="-1" strike="noStrike">
                <a:solidFill>
                  <a:srgbClr val="669999"/>
                </a:solidFill>
                <a:latin typeface="Times New Roman"/>
              </a:rPr>
              <a:t>right outer jo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dbsym"/>
                <a:ea typeface="dbsym"/>
              </a:rPr>
              <a:t>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ncludes row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dbsym"/>
                <a:ea typeface="dbsym"/>
              </a:rPr>
              <a:t>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lus dangl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ows padded with 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581280" y="2971800"/>
            <a:ext cx="76320" cy="199800"/>
            <a:chOff x="3581280" y="2971800"/>
            <a:chExt cx="76320" cy="199800"/>
          </a:xfrm>
        </p:grpSpPr>
        <p:sp>
          <p:nvSpPr>
            <p:cNvPr id="149" name=""/>
            <p:cNvSpPr/>
            <p:nvPr/>
          </p:nvSpPr>
          <p:spPr>
            <a:xfrm>
              <a:off x="3581280" y="297180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581280" y="317160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124080" y="2162160"/>
            <a:ext cx="76320" cy="199800"/>
            <a:chOff x="3124080" y="2162160"/>
            <a:chExt cx="76320" cy="199800"/>
          </a:xfrm>
        </p:grpSpPr>
        <p:sp>
          <p:nvSpPr>
            <p:cNvPr id="152" name=""/>
            <p:cNvSpPr/>
            <p:nvPr/>
          </p:nvSpPr>
          <p:spPr>
            <a:xfrm>
              <a:off x="3124080" y="216216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24080" y="236196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85FD-CDD6-4C87-884D-5A120C7B4E0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8E4B98-88AF-41AD-8FBC-7DAD1EF8874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erjoin examp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960" y="3505320"/>
            <a:ext cx="180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meriGarmnd BT"/>
              </a:rPr>
              <a:t>Depar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600" y="1066680"/>
            <a:ext cx="147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meriGarmnd BT"/>
              </a:rPr>
              <a:t>Employ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57200" y="4038480"/>
          <a:ext cx="2514600" cy="1460520"/>
        </p:xfrm>
        <a:graphic>
          <a:graphicData uri="http://schemas.openxmlformats.org/drawingml/2006/table">
            <a:tbl>
              <a:tblPr/>
              <a:tblGrid>
                <a:gridCol w="533520"/>
                <a:gridCol w="838080"/>
                <a:gridCol w="1143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a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533520" y="1676520"/>
          <a:ext cx="2286000" cy="1460520"/>
        </p:xfrm>
        <a:graphic>
          <a:graphicData uri="http://schemas.openxmlformats.org/drawingml/2006/table">
            <a:tbl>
              <a:tblPr/>
              <a:tblGrid>
                <a:gridCol w="654120"/>
                <a:gridCol w="1631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i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Smit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 Cart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b L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"/>
          <p:cNvSpPr/>
          <p:nvPr/>
        </p:nvSpPr>
        <p:spPr>
          <a:xfrm>
            <a:off x="3505320" y="990720"/>
            <a:ext cx="502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mployee </a:t>
            </a: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LEFT OU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JO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partment </a:t>
            </a: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id = M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3200400" y="1752480"/>
          <a:ext cx="5562720" cy="1460520"/>
        </p:xfrm>
        <a:graphic>
          <a:graphicData uri="http://schemas.openxmlformats.org/drawingml/2006/table">
            <a:tbl>
              <a:tblPr/>
              <a:tblGrid>
                <a:gridCol w="868320"/>
                <a:gridCol w="1874880"/>
                <a:gridCol w="838440"/>
                <a:gridCol w="838080"/>
                <a:gridCol w="1143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i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Smit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a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 Cart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b L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3581280" y="3276720"/>
            <a:ext cx="502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mployee </a:t>
            </a: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RIGHT OUTER JO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partment </a:t>
            </a: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id = M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3276720" y="3962520"/>
          <a:ext cx="5562360" cy="1460520"/>
        </p:xfrm>
        <a:graphic>
          <a:graphicData uri="http://schemas.openxmlformats.org/drawingml/2006/table">
            <a:tbl>
              <a:tblPr/>
              <a:tblGrid>
                <a:gridCol w="867960"/>
                <a:gridCol w="1874880"/>
                <a:gridCol w="838440"/>
                <a:gridCol w="838080"/>
                <a:gridCol w="1143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i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Smit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a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 Cart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"/>
          <p:cNvSpPr/>
          <p:nvPr/>
        </p:nvSpPr>
        <p:spPr>
          <a:xfrm>
            <a:off x="3581280" y="3276720"/>
            <a:ext cx="502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mployee </a:t>
            </a: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FULL OU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JO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partment </a:t>
            </a: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id = M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3276720" y="3962520"/>
          <a:ext cx="5562360" cy="1825560"/>
        </p:xfrm>
        <a:graphic>
          <a:graphicData uri="http://schemas.openxmlformats.org/drawingml/2006/table">
            <a:tbl>
              <a:tblPr/>
              <a:tblGrid>
                <a:gridCol w="868320"/>
                <a:gridCol w="1874880"/>
                <a:gridCol w="838080"/>
                <a:gridCol w="838080"/>
                <a:gridCol w="1143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i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Smit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a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 Cart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b L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8452-08D7-4040-AB4C-FB869F52645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02B82B-1210-4F6C-8DFB-C3FC83C2E2B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SELEC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FRO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WHER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tatem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de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t and bag oper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ggregation and group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able expressions, subquer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uterjoi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A048-B797-4266-8057-EF8E38708EF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719628-8239-4B11-A3DF-C58CDEFC16E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ministrati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project is posted at the class websi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o through it and we will discuss the final project at next class meet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B479-1534-439C-8BA8-433C2DC2A7B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6CCD17-8B28-44DC-ABAC-A83024016F4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erci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Get the Name of one’s supervi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LOYEE (Eid, Mid, N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SQL Statemen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SELECT EID, Name FRO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LOYEE</a:t>
            </a:r>
            <a:r>
              <a:rPr b="0" i="1" lang="en-US" sz="2400" spc="-1" strike="noStrike">
                <a:solidFill>
                  <a:srgbClr val="000000"/>
                </a:solidFill>
                <a:latin typeface="LettrGoth12 B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WHERE</a:t>
            </a:r>
            <a:r>
              <a:rPr b="0" i="1" lang="en-US" sz="2400" spc="-1" strike="noStrike">
                <a:solidFill>
                  <a:srgbClr val="000000"/>
                </a:solidFill>
                <a:latin typeface="LettrGoth12 BT"/>
              </a:rPr>
              <a:t> MId =Ei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SELECT E1.EID, E2.Name FRO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LOYEE E1, EMPLOYEE E2</a:t>
            </a:r>
            <a:r>
              <a:rPr b="0" i="1" lang="en-US" sz="2400" spc="-1" strike="noStrike">
                <a:solidFill>
                  <a:srgbClr val="000000"/>
                </a:solidFill>
                <a:latin typeface="LettrGoth12 B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WHERE</a:t>
            </a:r>
            <a:r>
              <a:rPr b="0" i="1" lang="en-US" sz="2400" spc="-1" strike="noStrike">
                <a:solidFill>
                  <a:srgbClr val="000000"/>
                </a:solidFill>
                <a:latin typeface="LettrGoth12 BT"/>
              </a:rPr>
              <a:t> E1.MId = E2.EId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349200" y="4057560"/>
          <a:ext cx="3917880" cy="2190600"/>
        </p:xfrm>
        <a:graphic>
          <a:graphicData uri="http://schemas.openxmlformats.org/drawingml/2006/table">
            <a:tbl>
              <a:tblPr/>
              <a:tblGrid>
                <a:gridCol w="653760"/>
                <a:gridCol w="1632240"/>
                <a:gridCol w="1631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i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Smit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 Cart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b L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sa Wa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ck Sn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943600" y="4057560"/>
          <a:ext cx="2286000" cy="2190960"/>
        </p:xfrm>
        <a:graphic>
          <a:graphicData uri="http://schemas.openxmlformats.org/drawingml/2006/table">
            <a:tbl>
              <a:tblPr/>
              <a:tblGrid>
                <a:gridCol w="654120"/>
                <a:gridCol w="1631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i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 Ca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b L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ck Sn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ck Sn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ck Sn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"/>
          <p:cNvSpPr/>
          <p:nvPr/>
        </p:nvSpPr>
        <p:spPr>
          <a:xfrm>
            <a:off x="4648320" y="4896000"/>
            <a:ext cx="990360" cy="457200"/>
          </a:xfrm>
          <a:prstGeom prst="rightArrow">
            <a:avLst>
              <a:gd name="adj1" fmla="val 50000"/>
              <a:gd name="adj2" fmla="val 54154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6629400" y="2286000"/>
            <a:ext cx="1371600" cy="380880"/>
            <a:chOff x="6629400" y="2286000"/>
            <a:chExt cx="1371600" cy="380880"/>
          </a:xfrm>
        </p:grpSpPr>
        <p:sp>
          <p:nvSpPr>
            <p:cNvPr id="173" name=""/>
            <p:cNvSpPr/>
            <p:nvPr/>
          </p:nvSpPr>
          <p:spPr>
            <a:xfrm flipV="1">
              <a:off x="6629400" y="2361960"/>
              <a:ext cx="1371600" cy="22860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629400" y="2286000"/>
              <a:ext cx="1371600" cy="38088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25C7-5F2A-4800-968B-D4A8AB1347E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A7C1E2-6648-4C88-8EA7-3A874BDEEAD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erci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group employees according to their department, for each department, list EIds of its employees and list the head cou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LOYEE (Eid, Name), DEPARTMENT(Eid, D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SQL Statemen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SELECT Did, Eid, COUNT(Eid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FRO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LOYEE e, DEPARTMENT d</a:t>
            </a:r>
            <a:r>
              <a:rPr b="0" i="1" lang="en-US" sz="2400" spc="-1" strike="noStrike">
                <a:solidFill>
                  <a:srgbClr val="000000"/>
                </a:solidFill>
                <a:latin typeface="LettrGoth12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WHERE</a:t>
            </a:r>
            <a:r>
              <a:rPr b="0" i="1" lang="en-US" sz="2400" spc="-1" strike="noStrike">
                <a:solidFill>
                  <a:srgbClr val="000000"/>
                </a:solidFill>
                <a:latin typeface="LettrGoth12 BT"/>
              </a:rPr>
              <a:t> e.Eid = d.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GROUP BY D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something wro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shful thinking (list a group of Eid after grouping) won’t wor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: produce (1) a summary table listing Did and head count, and (2) sort Department according to Did. 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9649-CD07-4E45-97A4-FED4959694A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EC1A6A-265E-47CE-B535-C4CD6256A94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re on Nested Queries: Scop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ut which table a column belongs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art with the immediately surrounding quer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f not found, look in the one surrounding that; repeat if necessar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able_name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lumn_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tation and 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naming) to avoid conf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2E76-3245-435A-B6A3-D8C6D316C2D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C7783B-3476-42ED-A65B-718F0F9A9E2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SELECT * FROM Student 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WHERE EXIS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    (SELECT * FROM Enroll 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     WHERE SID = s.SI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     AND EXIS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         (SELECT * FROM Enrol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          WHERE SID = s.SI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          AND CID &lt;&gt; e.CID)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-312120" y="5440320"/>
            <a:ext cx="873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Garmnd BT"/>
              </a:rPr>
              <a:t>Students who are taking at least two cour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62520" y="3657600"/>
            <a:ext cx="761760" cy="457200"/>
          </a:xfrm>
          <a:prstGeom prst="rect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343400" y="3200400"/>
            <a:ext cx="1447920" cy="457200"/>
          </a:xfrm>
          <a:custGeom>
            <a:avLst/>
            <a:gdLst/>
            <a:ahLst/>
            <a:rect l="l" t="t" r="r" b="b"/>
            <a:pathLst>
              <a:path w="912" h="336">
                <a:moveTo>
                  <a:pt x="0" y="336"/>
                </a:moveTo>
                <a:lnTo>
                  <a:pt x="0" y="0"/>
                </a:lnTo>
                <a:lnTo>
                  <a:pt x="912" y="0"/>
                </a:lnTo>
                <a:lnTo>
                  <a:pt x="912" y="96"/>
                </a:lnTo>
              </a:path>
            </a:pathLst>
          </a:custGeom>
          <a:noFill/>
          <a:ln w="25560">
            <a:solidFill>
              <a:srgbClr val="33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048120" y="2362320"/>
            <a:ext cx="761760" cy="457200"/>
          </a:xfrm>
          <a:prstGeom prst="rect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429000" y="1828800"/>
            <a:ext cx="1447920" cy="533520"/>
          </a:xfrm>
          <a:custGeom>
            <a:avLst/>
            <a:gdLst/>
            <a:ahLst/>
            <a:rect l="l" t="t" r="r" b="b"/>
            <a:pathLst>
              <a:path w="912" h="336">
                <a:moveTo>
                  <a:pt x="0" y="336"/>
                </a:moveTo>
                <a:lnTo>
                  <a:pt x="0" y="0"/>
                </a:lnTo>
                <a:lnTo>
                  <a:pt x="912" y="0"/>
                </a:lnTo>
                <a:lnTo>
                  <a:pt x="912" y="96"/>
                </a:lnTo>
              </a:path>
            </a:pathLst>
          </a:custGeom>
          <a:noFill/>
          <a:ln w="25560">
            <a:solidFill>
              <a:srgbClr val="33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029200" y="3657600"/>
            <a:ext cx="1219320" cy="457200"/>
          </a:xfrm>
          <a:prstGeom prst="rect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495680" y="1066680"/>
            <a:ext cx="1371600" cy="2590920"/>
          </a:xfrm>
          <a:custGeom>
            <a:avLst/>
            <a:gdLst/>
            <a:ahLst/>
            <a:rect l="l" t="t" r="r" b="b"/>
            <a:pathLst>
              <a:path w="816" h="1872">
                <a:moveTo>
                  <a:pt x="816" y="1872"/>
                </a:moveTo>
                <a:lnTo>
                  <a:pt x="816" y="0"/>
                </a:lnTo>
                <a:lnTo>
                  <a:pt x="0" y="0"/>
                </a:lnTo>
                <a:lnTo>
                  <a:pt x="0" y="144"/>
                </a:lnTo>
              </a:path>
            </a:pathLst>
          </a:custGeom>
          <a:noFill/>
          <a:ln w="25560">
            <a:solidFill>
              <a:srgbClr val="33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4952160" y="4191120"/>
            <a:ext cx="1295640" cy="457200"/>
          </a:xfrm>
          <a:prstGeom prst="rect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1828800"/>
            <a:ext cx="228600" cy="2362320"/>
          </a:xfrm>
          <a:custGeom>
            <a:avLst/>
            <a:gdLst/>
            <a:ahLst/>
            <a:rect l="l" t="t" r="r" b="b"/>
            <a:pathLst>
              <a:path w="816" h="1872">
                <a:moveTo>
                  <a:pt x="816" y="1872"/>
                </a:moveTo>
                <a:lnTo>
                  <a:pt x="816" y="0"/>
                </a:lnTo>
                <a:lnTo>
                  <a:pt x="0" y="0"/>
                </a:lnTo>
                <a:lnTo>
                  <a:pt x="0" y="144"/>
                </a:lnTo>
              </a:path>
            </a:pathLst>
          </a:custGeom>
          <a:noFill/>
          <a:ln w="25560">
            <a:solidFill>
              <a:srgbClr val="33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3796-992B-470F-960F-2153048A386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2855FD-6523-44A7-8621-CC38E083DF5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ntified subquer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quantified subquery can be used as a value in a 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Universal quantific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for all)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qu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rue iff for all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 the result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ubquer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o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Existential quantific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exists)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qu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rue iff there exists som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 the result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ubquer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o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ewa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common parlance, “any” and “all” seem to be synony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SQL, </a:t>
            </a: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ally means “som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E5B8-2985-49B7-BDCD-C155E6E1844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3AF3CF-AE72-4868-BB5A-6AF7D04F71A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s of quantified subquer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employees have the highest salar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mployee (Sid, Name, Salary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080" indent="-3441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SELECT *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FROM Employe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WHERE Salary &gt;= 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AL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(SELECT Salary FROM Employee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the lowest salar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080" indent="-3441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SELECT *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FROM Employe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WHERE Salary &lt;= ALL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(SELECT salary FROM Employee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75CD-7B1B-43EC-B34B-4FBF77AC054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E42743-70D0-4F86-9DF2-03BF5BCFA5D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re ways of getting the highest Sal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o has the highest Salar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SELECT * FROM Employee 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WHERE NOT 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EXIST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    (SELECT * FROM Employee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     WHERE Salary &gt; e.Salary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SELECT * FROM Employee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WHERE Eid NOT 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IN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    (SELECT e1.SID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     FROM Employee e1, Employee e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WHERE e1.Salary &lt; e2.Salary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B552-9ED7-4F53-9D5A-1F2FDCDE9B5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1542BA-E8D4-4B9E-8C47-7F941842B43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sted Quer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sted queries do not add expression power to 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convenient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rite intuitive SQL quer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an always use SQL queries without nesting to complete the same task (though sometime it is hard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A468-57B9-48A7-AB4A-4D8CA9E387B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28C1BF-8B1A-4732-A378-E520026067B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re Exerci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ilors (sid: INTEGER, sname: string, rating: INTEGER, age: RE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ats (bid: INTEGER, bname: string, color: str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erves (sid: INTEGER, bid: INTEG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533520" y="2819520"/>
          <a:ext cx="4343400" cy="1822320"/>
        </p:xfrm>
        <a:graphic>
          <a:graphicData uri="http://schemas.openxmlformats.org/drawingml/2006/table">
            <a:tbl>
              <a:tblPr/>
              <a:tblGrid>
                <a:gridCol w="1085760"/>
                <a:gridCol w="1085760"/>
                <a:gridCol w="1085760"/>
                <a:gridCol w="10861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nc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"/>
          <p:cNvSpPr/>
          <p:nvPr/>
        </p:nvSpPr>
        <p:spPr>
          <a:xfrm>
            <a:off x="433440" y="236232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Sail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981080" y="4724280"/>
          <a:ext cx="2171880" cy="1366920"/>
        </p:xfrm>
        <a:graphic>
          <a:graphicData uri="http://schemas.openxmlformats.org/drawingml/2006/table">
            <a:tbl>
              <a:tblPr/>
              <a:tblGrid>
                <a:gridCol w="1086120"/>
                <a:gridCol w="10857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3" name=""/>
          <p:cNvSpPr/>
          <p:nvPr/>
        </p:nvSpPr>
        <p:spPr>
          <a:xfrm>
            <a:off x="247680" y="482904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Reser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5486400" y="2819520"/>
          <a:ext cx="3429000" cy="2187360"/>
        </p:xfrm>
        <a:graphic>
          <a:graphicData uri="http://schemas.openxmlformats.org/drawingml/2006/table">
            <a:tbl>
              <a:tblPr/>
              <a:tblGrid>
                <a:gridCol w="857160"/>
                <a:gridCol w="1581120"/>
                <a:gridCol w="990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l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>
                        <a:alpha val="5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in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l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ta Mar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"/>
          <p:cNvSpPr/>
          <p:nvPr/>
        </p:nvSpPr>
        <p:spPr>
          <a:xfrm>
            <a:off x="5362560" y="236232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Bo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AA79-CFE7-446E-B01E-CCC22244C28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7CEC6E-6E4E-4ED8-894A-F805EB4D3B5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ercise I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sid’s of sailors who’ve reserved a red AND a green bo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1.s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FRO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oats B1, Reserves R1, Boats B2, Reserves 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1.color=‘red’ 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2.color=‘green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1.bid=B1.bid  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2.bid=B2.bid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1.sid=R2.s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oats, Reser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.color = ‘red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LettrGoth12 BT"/>
              </a:rPr>
              <a:t>INTERS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FRO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ats, Reser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.color = ‘green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A51E-57EB-4DCD-8937-299E6BF6FEB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A25DFA-0759-48D0-B6AB-AE26D61C4C8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FW state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 the outputs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bag opera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force set opera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 averag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tion rows in a tab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certain group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952880" y="15238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ORDER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ault ch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DISTIN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AV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ggregation fun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GROUP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HA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A250-79C3-4162-9723-31F57FDE2E9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AD0D10-4F74-4528-90B4-C0CE55B80CF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ercise II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sid’s of sailors who have not reserved a bo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Sail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LettrGoth12 BT"/>
              </a:rPr>
              <a:t>EXCE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.s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Sailors S, Reserves 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S.sid=R.s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724280" y="198108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966a"/>
                </a:solidFill>
                <a:latin typeface="Arial"/>
              </a:rPr>
              <a:t>Non-monotonic opera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F059-8B7E-4FA1-88E2-426DF050C47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3D5287-7E44-4C54-A38F-44BDCC7B912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ercise III (a tough one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sailors who’ve reserved all bo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SELEC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FRO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EXCE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SELEC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FRO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(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d, s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Boat, Sai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EXCE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erv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648320" y="16002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966a"/>
                </a:solidFill>
                <a:latin typeface="Arial"/>
              </a:rPr>
              <a:t>Non-monotonic opera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0" y="4114800"/>
            <a:ext cx="342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All possible combinations between sid and b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724280" y="533412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Existing reserv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24280" y="3124080"/>
            <a:ext cx="342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Those who do not reserve all bo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648320" y="228600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All sai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EB46-D0D4-4A7D-B9AA-DA55F61C5DA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8F3535-9CFE-466C-803F-AC1B231A9B3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 of SQL feature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ed so fa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t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and bag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d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gregation and grou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ble expressions, subqu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NU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and outerjo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: data modification statements, con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5D0A-7AA7-45DB-A060-C040384E1B5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4C574B-74DC-4B54-B260-9FD2C2008A2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lational Query Langua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ublanguag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DL – Data Definition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efine and modify schem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ML – Data Manipulation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Queries can be written intuitivel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sert, delete, update rows in a t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BMS is responsible for efficient eval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key: precise semantics for relational queri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ptimizer can re-order operations, without affecting query answ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hoices driven by “cost model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traints in Table Declar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trictions on allowable data in a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 addition to the simple structure and type restrictions imposed by the table defini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eclared as 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part of the schem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nforced by the DB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use constrain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rotect data integrity (catch error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ll the DBMS about the data (so it can optimize better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7760-6F6E-422C-A15B-77DA0EEBF38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B25F0A-39F6-430F-ACD6-DB04F053ADE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ypes of SQL constrai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 constra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NU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ential integrity (foreign ke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51F9-A1CC-427F-A5C8-957EE97A82C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4E1D7A-0636-474B-A6E9-B925730395D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ey declar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most one 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PRIMARY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KE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er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ypically implies a 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primary inde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ows are stored inside the index, typically sorted by the primary key value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best speedup for quer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number of 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UNIQ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keys per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ypically implies a 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secondary inde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 speedup quer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CE09-4B01-40AE-BC4D-F82BE5ABB8E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CDA713-E55E-4220-BF23-2071DC55394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 NUL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icates that the value of an attribute can not be NU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3EE8-EEDC-4957-B462-269B4073251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E7A510-8C37-415E-8584-2E792C10A55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CREATE TABLE Stud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(SID INTEGER NOT NULL </a:t>
            </a: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PRIMARY KEY</a:t>
            </a: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 name VARCHAR(30) NOT NULL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 email VARCHAR(30) </a:t>
            </a: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UNIQUE</a:t>
            </a: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 age INTEGER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 GPA FLOA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CREATE TABLE Cours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(CID CHAR(10) NOT NULL </a:t>
            </a: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PRIMARY KEY</a:t>
            </a: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 title VARCHAR(100) NOT NULL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CREATE TABLE Enrol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(SID INTEGER NOT NULL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 CID CHAR(10) NOT NULL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 </a:t>
            </a: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PRIMARY KEY(SID, CID)</a:t>
            </a: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343400" y="1676520"/>
            <a:ext cx="3939120" cy="901800"/>
            <a:chOff x="4343400" y="1676520"/>
            <a:chExt cx="3939120" cy="901800"/>
          </a:xfrm>
        </p:grpSpPr>
        <p:sp>
          <p:nvSpPr>
            <p:cNvPr id="235" name=""/>
            <p:cNvSpPr/>
            <p:nvPr/>
          </p:nvSpPr>
          <p:spPr>
            <a:xfrm>
              <a:off x="5888880" y="1676520"/>
              <a:ext cx="239364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Used for query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process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4343400" y="2146320"/>
              <a:ext cx="1752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1535400" y="4800600"/>
            <a:ext cx="6554160" cy="843840"/>
            <a:chOff x="1535400" y="4800600"/>
            <a:chExt cx="6554160" cy="843840"/>
          </a:xfrm>
        </p:grpSpPr>
        <p:sp>
          <p:nvSpPr>
            <p:cNvPr id="238" name=""/>
            <p:cNvSpPr/>
            <p:nvPr/>
          </p:nvSpPr>
          <p:spPr>
            <a:xfrm>
              <a:off x="1535400" y="5184720"/>
              <a:ext cx="655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This form is required for multi-attribute key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2516040" y="480060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7E0F-D5AC-47A6-891F-8F10AD7D7B7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1D0384-6072-4CAA-914D-D1C00386E26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erential integrity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nro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ferenc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n SID appea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nro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t must appear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nro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ferenc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ur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 CID appea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nro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t must appear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u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 is, no “dangling pointer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9A35-8CF2-4DA7-A792-5DD60E10508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18A666-356F-4504-B022-DD446521242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sted qu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reat as a t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reat as a scal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EXI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058A-2172-41F6-B651-9FC60835382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434DB8-463F-4C7D-BC69-9E2309175C7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erential integrity in SQ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enced column(s) must be 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PRIMA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encing column(s) form a 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FOREIGN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CREATE TABLE Enroll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 (SID INTEGER NOT NULL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  CID CHAR(10) NOT NULL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  PRIMARY KEY(SID, CID)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  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FOREIGN KEY CID REFERENCES Course(CID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 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FOREIGN KEY SID REFERENCES Student(SID)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5F26-3C7F-4DC4-BD90-956A4678637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BFCF61-C364-47C6-91D1-7B74F4A6B8E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forcing referential integrity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Enroll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SID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references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Student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S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or update 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nro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ow so it refers to a non-existent S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080" indent="-3441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Rejec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te or update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ow whose SID is referenced by som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nro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080" indent="-3441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Rejec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080" indent="-3441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Cascad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ripple changes to all referring row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080" indent="-3441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Set 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NUL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set all references to 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NUL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080" indent="-3441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Set DEFAULT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se the default value of the attribu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080" indent="-3441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ll four options can be specified in SQ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07F0-0160-4D64-93E4-1AA0F84F58C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2DE711-BC80-4F89-AB54-616FCBB3DED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QL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CREATE TABLE Enrol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 (SID INTEGER NOT NULL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  CID CHAR(10) NOT NULL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  PRIMARY KEY(SID, CID)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  FOREIGN KEY CID REFERENCES Course(CID) </a:t>
            </a:r>
            <a:r>
              <a:rPr b="0" lang="en-US" sz="2800" spc="-1" strike="noStrike">
                <a:solidFill>
                  <a:srgbClr val="669999"/>
                </a:solidFill>
                <a:latin typeface="LettrGoth12 BT"/>
              </a:rPr>
              <a:t>CASCADE ON DE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FOREIGN KEY SID REFERENCES Student(SID) </a:t>
            </a:r>
            <a:r>
              <a:rPr b="0" lang="en-US" sz="2600" spc="-1" strike="noStrike">
                <a:solidFill>
                  <a:srgbClr val="669999"/>
                </a:solidFill>
                <a:latin typeface="LettrGoth12 BT"/>
              </a:rPr>
              <a:t>CASCADE ON DELETE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elete all student enrollments for a canceled cla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elete all student enrollments for a dropped stud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1EA6-FD62-4A2C-98F7-06FE6F066EB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E9BEDC-13AA-46BB-B853-34167576B77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tabase Modification Oper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A489-99D2-4AE9-B1A8-154CC434E784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81B37A-CFE2-4992-B887-879F3692FF8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ettrGoth12 BT"/>
              </a:rPr>
              <a:t>INSER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one 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800" indent="-312840">
              <a:lnSpc>
                <a:spcPct val="12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INSERT INTO Enroll VALUES (456, ’EECS647’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888480" indent="-264240">
              <a:lnSpc>
                <a:spcPct val="120000"/>
              </a:lnSpc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 456 takes EECS64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the result of a qu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800" indent="-312840">
              <a:lnSpc>
                <a:spcPct val="12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INSERT INTO Enroll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(SELECT SID, ’EECS647’ FROM Student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 WHERE SID NOT IN (SELECT SID FROM Enrol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                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80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	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  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WHERE CID = ’EECS647’)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888480" indent="-2642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ce everybody to take EECS647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269E-2945-4377-9F27-A8B912650B26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EBA4C1-F453-421E-8A0F-6DD2002F830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ettrGoth12 BT"/>
              </a:rPr>
              <a:t>DELE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e every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DELETE FROM Enroll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e according to a 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Student 456 drops CPS1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DELETE FROM Enroll</a:t>
            </a:r>
            <a:br>
              <a:rPr sz="2200"/>
            </a:b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WHERE SID = 456 AND CID = ’EECS647’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Drop students from all EECS classes with GPA lower than 1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DELETE FROM Enroll</a:t>
            </a:r>
            <a:br>
              <a:rPr sz="2200"/>
            </a:b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WHERE SID IN (SELECT SID FROM Student</a:t>
            </a:r>
            <a:br>
              <a:rPr sz="2200"/>
            </a:b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                             </a:t>
            </a: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WHERE GPA &lt; 1.0)</a:t>
            </a:r>
            <a:br>
              <a:rPr sz="2200"/>
            </a:b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AND CID LIKE ’EECS%’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C01E-F0F8-49E2-9F0B-69872F086AB1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9567BA-CD39-40CF-987B-8850B930BCC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ettrGoth12 BT"/>
              </a:rPr>
              <a:t>UPDA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Student 142 changes name to “Barney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UPDATE Student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SET name = ’Barney’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WHERE SID = 142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0ECD-B2C0-41A2-9B48-99FE31885738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B89DB9-CE48-4775-8BCB-FC490D8BCA9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 of SQL feature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ed so fa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SELEC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FRO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WHER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tat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t and bag op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able expressions, subquer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ggregation and group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rder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uterjoi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INSER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DELE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UPD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: triggers, views, index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1509-9AC3-46A8-BAF7-1C1ABE91C38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E28BE0-019A-498E-8EA8-C8A59F44AE4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day’s Topi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LL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er jo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sted qu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ble creation and con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B0B9-4FC6-4B02-B661-570E420E974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326B91-6856-4FAE-9D7D-533797DDD8F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complete inform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P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unkn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e do not know Nelson’s a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not applic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elson has not taken any classes yet; what is his GPA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79BF-AC17-4F11-A353-4C6B64DF0D9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D8D09A-8952-4CB5-A417-67ECEDF5D16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lution 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edicated special value for each domain (typ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PA cannot be –1, so use –1 as a special value to indicate a missing or invalid GP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eads to incorrect answers if not carefu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SELECT AVG(GPA) FROM Stude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mplicates applic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SELECT AVG(GPA) FROM Stud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WHERE GPA &lt;&gt; -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member the Y2K bug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” was used as a missing or invalid year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7896-8F9D-4CDD-B5EB-13942A4D53B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C2DFF0-C8D7-45CE-92A2-0641EB669DA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lution 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valid-bit for every colum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S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ame_is_val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g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ge_is_val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P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PA_is_val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mplicates schema and quer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SELECT AVG(GPA) FROM Stud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WHERE GPA_is_vali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96FC-79F8-4B78-A7D1-985459EA416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948EF8-1C0E-4BB0-9877-D742BC5E988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lution 3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ompose the table; missing row = missing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tudentNam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S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600"/>
            </a:b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tudentAg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S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g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600"/>
            </a:b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tudentGPA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S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P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tudentID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S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nceptually the cleanest solu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ill complicates schema and quer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o get all information about a student in a tab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uld natural join 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F561-6C49-4F66-99F2-CD5BC66E4BD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5DEBB6-E72C-48B4-8617-3FE8CB9ACEF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jhuan</cp:lastModifiedBy>
  <dcterms:modified xsi:type="dcterms:W3CDTF">2007-02-21T20:49:18Z</dcterms:modified>
  <cp:revision>1135</cp:revision>
  <dc:subject/>
  <dc:title>CS186: Introduction to Database Systems</dc:title>
</cp:coreProperties>
</file>