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9504A6-A34D-4ACA-AE2F-BF7D91830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BC231-1B61-4BE1-8AD5-6DE91168C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463C3F-34EC-423D-9BFB-CF0AF2D1F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E8F3ED-CB0B-41F0-AC2E-E69A15B84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5A773-A7B1-4967-ABAC-2FAEB2BEA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BB9C29-91C6-41D6-A8B4-99886CB69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49A7EA-02B0-49E1-AA3A-2B6FF3F73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5CE3C9-D3CA-4C92-9187-B3379DB49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ADD A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IN AP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one convenient place for all business log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B301D3-EC70-4097-A0FF-76648BC52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127B91-E574-466A-9794-AC3AE1471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7D0230-35F3-4E90-81AB-52E77CA6A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012EE6-2F29-4E79-B4AB-E8E3DA47F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83670F-1C24-4A90-9355-7B88210CB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49699C-DF84-4206-AE8A-B0420175F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D0A8FF-E0EC-4AE8-A356-2DAF6DFB9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21778C-CE0D-4ABC-8771-979FC96DA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72E316-B23D-4990-83AF-3E090CB79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D5283F-C856-45A4-BF2B-A01ADA466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081BFA-D0EF-4341-82BF-C543B1C13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74508-3AC3-4874-B23F-4F6B9580E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47736A-F87D-411F-A1C6-C76D5B996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B30916-8829-472A-AE1A-9EDA2C035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9FA38A-3C05-4036-BA02-AB10526C5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86FD34-864C-4A6B-A3E7-BE0842AA8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EA185F-8E3F-4E19-8A15-9C80A5275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F081AF-CC81-425C-AAE1-394054358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89FE00-0ED7-4CA4-9EC2-0972726578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12E0C5-B955-45A4-809B-FC26768B2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71768D-15E5-4792-9B73-DEEC0261E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26C0CD-2607-4573-B55F-7692583A2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75B-FDE7-4F91-8B2B-D3449581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ADC-13BD-472E-A4F4-6C986F2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7F6-88E2-4E2E-B6FF-2D332276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4522-2BBE-439E-963C-E821066A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54E-2F41-4E6C-A27F-690D9ABE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652-4A05-415D-977B-4A871FFE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808-F271-4139-9087-F8E7EBC8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A12-7B81-44EA-856E-938BDA7D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B06-3EAE-46B8-86B7-FB1665C4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4CF-021C-4219-B789-79C647A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4FB-A58B-4C5C-A21F-ADABCC0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8D9-D5AE-4B4F-9C57-3CF4320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C9B2-B440-48EC-BEDC-7E1D7749086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06CF-4D15-41AA-856A-456B935E23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Created Doma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domain name&gt;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domain ty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OMAIN SSN_TYPE as CHAR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DOMAIN SALARY as 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HECK SALARY &gt; 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DFD-98B5-4FD7-93B1-7E12A22731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14006-5FB7-4494-933A-C56CEAEDF9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drop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deletes all information about the dropped relation from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alter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 is used to add attributes to an existing rel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LTER TABLE r ADD[DROP] COLUMN A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ame of the attribute to be added (dropped) to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tuples in the relation are assign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value for the new attribu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85F-7780-4457-B973-6F89C38F84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6784B-7EAD-437E-B856-6D55482ADD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 of Table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 constraints: Primary Key,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constraint: build-in domains, user-defined domains, Check, Not-N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integrity: Foreig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C43-9CE6-480F-A08D-1BC0233F2F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C1515-AEB5-4224-89BD-A3DAF8F9E2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chicken-no-eg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p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20) NOT NULL PRIMARY KEY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hair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CHAR(30) NOT NULL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EFERENCES Prof(name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Pr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30) NOT NULL PRIMARY KEY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p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20) NOT NULL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EFERENCES Dept(name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always violate a constrain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eferred constraint che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only at the end of 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in SQL as an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how the schema was created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LTER TABLE ADD CONSTR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ad the manual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06E-89AD-4B04-89F7-1C0F12731C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23877-7271-4AB1-9805-88E1D5F9B2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Update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814-EC13-4DAC-BDA8-D4397967A6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0352-8FC7-404B-9A37-14AE7B4BBA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one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INSERT INTO Enroll VALUES (456, ’EECS647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2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456 takes EECS6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the result of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INSERT INTO Enro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(SELECT SID, ’EECS647’ FROM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WHERE SID NOT IN (SELECT SID FROM En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CID = ’EECS647’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everybody to take EECS647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5D3-7C76-409A-9E6A-8F045B5EF84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8213D-D168-4D82-B4C4-16459D8066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ccording to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 456 drops EECS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= 456 AND CID = ’EECS647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rop students from all EECS classes with GPA lower than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IN (SELECT SID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GPA &lt; 1.0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CID LIKE ’EECS%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6F4-5C93-4E2A-9825-A95466639C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A7BFE-BDE2-4274-9406-8367B3C533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142 changes name to “Bar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name = ’Barney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SID = 14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Let’s be “fair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GPA = (SELECT AVG(GPA) FROM Studen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update of every row causes average GPA to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GPA is computed over the old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4D7-4EB5-4480-B833-874906BC80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3BBC-BB9B-4EA5-9E4E-0932A31C2D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”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enforcement: When an operation violates a constraint, abort the operation or try to “fix”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enforcing referential integrit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ize to arbitrary constrain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onitoring: When something happens to the data, automatically execute som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When price rises above $20 per share, s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When enrollment is at the limit and more students try to register, email the instru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9099-CB6C-4577-9EAF-8EBD009A31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001DE-60E6-456E-82AB-3F3B319C54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ig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CA)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ccurs, test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if condition is satisfied, execut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whenever there comes a new studen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with GPA higher than 3.0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then make him/her take EECS 168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C8E-7E00-4526-AAA8-38B9055AD7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88E88-497E-4AD0-A36A-54EE4A8E27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posted at the class web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May 9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assigned today, due Mar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mbedded SQL programming, please do not plan to use JAVA without further noti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stalling the JDBC pack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58E-E951-4042-82E1-243EE243CD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B8E64-5727-4844-9CEC-B875190904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ECS168AutoRecr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REFERENCING NEW ROW AS new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N (newStudent.GPA &gt; 3.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VALUES(newStudent.SID, ’EECS168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31960" y="1523880"/>
            <a:ext cx="4803840" cy="459720"/>
            <a:chOff x="1731960" y="1523880"/>
            <a:chExt cx="4803840" cy="459720"/>
          </a:xfrm>
        </p:grpSpPr>
        <p:sp>
          <p:nvSpPr>
            <p:cNvPr id="139" name=""/>
            <p:cNvSpPr/>
            <p:nvPr/>
          </p:nvSpPr>
          <p:spPr>
            <a:xfrm>
              <a:off x="1731960" y="1523880"/>
              <a:ext cx="35812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13240" y="175248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59480" y="15238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500120" y="2743200"/>
            <a:ext cx="6237360" cy="459720"/>
            <a:chOff x="1500120" y="2743200"/>
            <a:chExt cx="6237360" cy="459720"/>
          </a:xfrm>
        </p:grpSpPr>
        <p:sp>
          <p:nvSpPr>
            <p:cNvPr id="143" name=""/>
            <p:cNvSpPr/>
            <p:nvPr/>
          </p:nvSpPr>
          <p:spPr>
            <a:xfrm>
              <a:off x="1500120" y="2743200"/>
              <a:ext cx="44956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5800" y="297180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2120" y="2743200"/>
              <a:ext cx="15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3276720"/>
            <a:ext cx="7543800" cy="1526400"/>
            <a:chOff x="609480" y="3276720"/>
            <a:chExt cx="7543800" cy="1526400"/>
          </a:xfrm>
        </p:grpSpPr>
        <p:sp>
          <p:nvSpPr>
            <p:cNvPr id="147" name=""/>
            <p:cNvSpPr/>
            <p:nvPr/>
          </p:nvSpPr>
          <p:spPr>
            <a:xfrm>
              <a:off x="609480" y="3276720"/>
              <a:ext cx="7543800" cy="9140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4480" y="4190760"/>
              <a:ext cx="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1080" y="434340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954-436F-498C-A9EB-83CC61178D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935A6-7E1B-48EC-8A99-19A5CE8B1B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event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ELET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ularity—trigger can be activ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AC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R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ifi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AC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performs mod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—action can be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triggering 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83A-2C39-4409-B518-46D8E026FC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2E874-FE16-4198-97F8-E6D0E8E5A1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LD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modified row before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EW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modified row after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LD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hypothetical read-only table containing all modified rows before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EW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hypothetical table containing all modified rows after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m make sense all the time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-level tri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only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NEW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ow-level tri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only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L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25F-8304-4124-A42E-6CEFFE96DD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83B8D-C56D-4A1C-9CA9-680E584B06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-level 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utoRecr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NEW TABLE AS newStud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STAT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, ’EECS647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FROM newStud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WHERE GPA &gt; 3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A38-D654-46A4-9305-49CC214D54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EAB00-9EA1-4C38-8D6E-5EC08FB18B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ive faculty more than 50% raise in on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otTooGreed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EFORE UPDATE OF salary ON Facul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OLD ROW AS o, NEW ROW AS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N (n.salary &gt; 1.5 * o.salar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T n.salary = 1.5 * o.sala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ggers are often used to “condition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option is to raise an error in the trigger body to abort the transaction that caused the trigger to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45E-DAF9-472D-9A86-BC3B2D64E7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79D24-1CBF-424E-87A4-2B017FD06E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- vs. row-level trig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re both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triggers are only possible at statemen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 average GPA of students inserted by this statement exceeds 3.0, 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row-level triggers are easier to implement and may be more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tement-level triggers require significant amount of state to be maintained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ever, a row-level trigger does get fired for each row, so complex row-level triggers may be inefficient for statements that generate lots of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1B2-125C-4FBF-9BF8-281287766A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FABD0-CD71-4C8D-9781-B27D964798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statement-level trig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faculty a raise if GPA’s in one update statement are all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utoRa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FTER UPDATE OF GPA ON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OLD TABLE AS o, NEW TABLE AS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N (NOT EXISTS(SELECT * FROM o,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           WHERE o.SID = n.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           AND o.GPA &gt;= n.GP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PDATE Faculty SET salary = salary + 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w-level trigger would be difficult to write in thi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088-737B-447F-9CCC-044C928AD2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A458A-47B8-46DC-93AD-B65CB221A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firing of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 of one trigger causes another trigger to f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get into an infinit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BMS restrict trigger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BMS set a maximum level of recursion (16 in DB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constraints (very tricky to get righ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o we check if a triggering event violates constraint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gger (so the trigger can fix a potential vio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iggers also see the effects of, say, cascaded deletes caused by referential integrity constraint vio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1D4-048A-4A54-B0B2-2649443370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756D7-F157-4094-A604-14CFA21048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ke a “virtual”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by a query, which describes how to compute the view contents on the f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stores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view definition 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stead of view cont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be used in queries just like a regula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8BD-017C-48E0-BBD2-E7D2A681B6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1EBC-A570-4A40-B3FD-978D255685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EECS647r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REATE VIEW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EECS647Roste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ID IN (SELECT SID FROM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         WHERE CID =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op a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ROP VIE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iew_name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00040" y="1981080"/>
            <a:ext cx="5548320" cy="914400"/>
            <a:chOff x="3200040" y="1981080"/>
            <a:chExt cx="5548320" cy="914400"/>
          </a:xfrm>
        </p:grpSpPr>
        <p:sp>
          <p:nvSpPr>
            <p:cNvPr id="169" name=""/>
            <p:cNvSpPr/>
            <p:nvPr/>
          </p:nvSpPr>
          <p:spPr>
            <a:xfrm>
              <a:off x="5766480" y="198108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alled “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table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00040" y="2285640"/>
              <a:ext cx="2895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2361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B4C-F252-4DB0-A6A8-1D1F89772B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7D9D9-DF7F-4ABE-926A-B08B954FE6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reate Table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9760" y="1103040"/>
            <a:ext cx="85233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SQL relation is defined using 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create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grity-constra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grity-constra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nam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n attribute name in the schema of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ata type of values in the domain of attrib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368-4B03-48EF-B1FF-EC7FDB0035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1B1BD-8082-4D19-8331-336075BE76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views i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of EECS647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 FROM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ECS647Roste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rocess the query, replace the reference to the view by its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(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WHERE SID IN (SELECT S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FROM Enroll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WHERE CID = ’EECS647’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FA2-C12A-45A5-A847-4F5E6CE1B5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DC289-8F0F-4FBB-AC5F-54A1B365BE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use view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data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complexity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pplications deal with views, we can change the underlying schem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hysical data indepen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hange the physical organization of dat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a uniform interface for different implementations or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database applications use tons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67D-E484-4B87-9F3F-B42FDC1241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0113E-FFA4-4CF9-BA8D-68394F033D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eem to make sense since views ar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es make sense if that is how users see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odify the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base 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he modification would appear to have been accomplished on th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many ways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no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ACF-0E8A-45B3-8F20-CE8925C1B15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D4E29-7C2D-4599-814F-04DA0D5A6B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mp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StudentGPA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GPA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95D-DCFE-41BC-A0EB-44A8FC1569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73001-0EE7-47A6-B6BE-0E36AA040F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ossib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HighGPAStudent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GPA &gt; 3.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HighGPA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VALUES(987, 2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you do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serted row will not b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GPA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92E-36BE-407A-A973-CB61241306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341C5-B55A-4167-A1CB-D9D8394E16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with too many pos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AverageGPA(GPA)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AVG(GPA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 that you can rename columns in view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PDATE AverageGPA SET GPA = 2.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verybody’s GPA to 2.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everybody’s GPA by the same am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ower Lisa’s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708-63A5-491C-BB89-6ED98CCAB0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FD882-5231-4274-BFB4-948F22E04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92 updateable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r less just single-table selectio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aggre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ably somewhat 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might get it wrong in so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the slide titled “An impossible cas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HECK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end of the view definition will make DBMS reject such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DAC-F066-4D19-8EAC-5ECEB9B414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40EAF0-9E5C-493F-A17B-0EAF632A75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 covered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Indexes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BB0-2A46-440D-8916-65083F7966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BEF3E-FB70-4811-9A99-C1FC218A33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strains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&lt;valu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87E-00DD-4C69-A8A6-B40AD89196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9B9A8-0E64-4010-9ED0-8103078800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orcing Foreign K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ELETE and ON UP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DEFAULT (if default is defin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E5A-B957-4C48-B10B-589A25E950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9670-B024-45BB-A7B9-94E438DC97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nroll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ettrGoth12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: intege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ettrGoth12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: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(SID INTEG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ID CHAR(1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PRIMARY KEY(SID, CI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NOT NULL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NO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8d74"/>
                </a:solidFill>
                <a:latin typeface="LettrGoth12 BT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CID REFERENCES Course(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14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966a"/>
                </a:solidFill>
                <a:latin typeface="LettrGoth12 BT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ID REFERENCES Student(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81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ON DELETE CASC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4495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ON DELETE CASC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9ce8"/>
                </a:solidFill>
                <a:latin typeface="LettrGoth12 BT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‘EECS647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056-8972-4DF4-8C59-F97EBDFF50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A6CE3-D423-4746-860D-8369AEB518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and Domain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op table, Alte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, delete,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399-ADAE-498C-8E03-B7838B1455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448E3-A58E-4E82-936A-56B5C4A04A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ple- and attribute-based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CHE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a singl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ecked when a tuple or an attribute is inserted or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SID INTEGER NOT NU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HECK (SID IN (SELECT SID FROM Student)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CID ..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it a referential integrity constrain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not checked 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modifi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9A5-8B56-4DCE-BB75-126A4C26A7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E204F-BF36-4F4E-9893-F4A235DBCC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-in Domain Types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106640"/>
            <a:ext cx="8931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mallint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Small integer (a machine-dependent subset of the integer domain typ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cimal(p,d)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xed point number, with user-specified precision of a total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gits,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gits to the right of decimal poi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l, double precision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loating point and double-precision floating point nu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r(n)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xed length character string, with user-specified leng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rchar(n)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length character strings, with user-specified maximum leng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9FB-CDE2-46DA-8820-F294DB445B4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424FE-4718-4DEB-AA8D-96AA00C5DA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6T20:55:46Z</dcterms:modified>
  <cp:revision>1203</cp:revision>
  <dc:subject/>
  <dc:title>CS186: Introduction to Database Systems</dc:title>
</cp:coreProperties>
</file>