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AF0-8D14-4951-BF84-A6A77269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360-C24E-49AE-B7E8-DE7637B2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1EF-1FC6-4466-A284-74515B27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7ED-F41F-4016-8813-CFCE3CAA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071-83DB-4E6A-827E-8E943595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76F-9B5E-4790-BF9E-3E9DD760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F63-9015-4CCE-A4A1-DEDE0101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517-B1F3-4E68-BAAA-1895DB01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623-BA46-40B5-A81B-F954B2CE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639-8D70-4BAF-992E-279FADD1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8C9-BCD6-4477-B8EB-67DAAF8E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7E9-1472-49D5-B0DA-26BC1761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3FE3-B214-46BA-8FBE-015A98B9A9B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76F6-DB87-419D-B1C7-794E248EB0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-Class Midterm exam is Mar 14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3 is due Mar 26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65D-578E-43B8-868E-FA0B306F64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36B98-6A80-4A51-B05A-E06E879861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12T14:54:14Z</dcterms:modified>
  <cp:revision>718</cp:revision>
  <dc:subject/>
  <dc:title>CS186: Introduction to Database Systems</dc:title>
</cp:coreProperties>
</file>