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A650AA5-AA29-4A8A-A72E-7E4443108E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9DB1804-F533-4B3F-A713-692590DE4D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2906378-A05B-4C81-8320-5BD3988DBD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0B3E07A-4E47-4634-8259-374E2B92E7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5800" cy="382284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D332D06-FA56-4770-8A03-0A1AEA4094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5800" cy="382284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585FB4A-3088-41A4-8FA9-71BE676FBD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9D7E053-7128-4A6A-A663-1A8FA762E4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616EEAA-8F94-4349-B7BD-D9C80B5F94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5800" cy="382284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944640" y="485892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D5836DE-B894-4AE5-B250-538A9C0A5F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DEC3F46-0B69-4DE9-AE6D-3C09F6B368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8ACE4AC-85AF-4DE0-B2BB-F28D221F9E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son why root is an exception will be apparent later when we talk about inser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062B95C-0017-4984-8AD7-942090720A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D9D2663-6071-47C4-AB5F-016795DC46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B6FAE8E-7D6F-4F78-A904-E151080AC2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6BCFEA4-F0F7-4027-80A3-26C9F0CF3A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FAFA014-4307-409C-94EC-6C1A5215FD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035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36BE9C8-3A88-4B9A-9B6F-6C746C4CC2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y at least 1/2 threshold makes sense in B+-tre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bout 3/4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bout 1/4? (okay for inserts, but may require multiple merges during dele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ECA4F0F-A4F1-4EB3-8367-D2A265FD7C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7239B80-A7DF-423E-B933-CA212BCA29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90D88D3-C2CA-4C1B-9F6E-6BD33F3D65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E94B050-31A3-4F66-B78F-DE2954A495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93225D2-97B7-4458-85A4-9F99320C22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s suspiciously similar to the famous Bill Gate quote: 64K memory ought to be en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you can work out the calc… 200 fan-out =&gt; 1.6 billion rec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0AD2CB7-9A9C-488E-87A5-D8C364D1C4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ctually a deeper reason… Now it’s empty now it’s f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 two leaves are exactly at the ½ thresh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te -&gt; merge into a f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ert -&gt; split into half f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a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0C8F17E-6ECD-4245-85E4-773CDC8254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n reverse doesn’t work if you are decreasing sa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 am really malicious, I salary * rand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5B08BE2-4198-4063-AAE1-F2AED0C162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77912D6-8ECF-418F-B38F-A07BB187E2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AA4ED57-7B07-4778-9603-37708C3604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85D2C24-AF31-4874-9BB9-0CF4216D57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C7FE675-2EB0-4F72-A6C5-A6B1B24777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ogy in real world: index at the end of a book – dense; a-z bookmarks for a dict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poin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? Cannot use that!  Need a physical pointer for spe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n disk? Move during reorganizatio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block id, logical “slot id” inside block – some pro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A1A4-40E9-4BE5-A1FB-8191DB8A8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0314-FD80-402E-B3F4-0DA442285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43C2-B65B-48FF-9E52-57C55D316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B06C-1CF2-4638-B8A9-8C90DEC88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0FF6-DB98-4366-9DCD-5ED0E83FF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052C-5B5D-42CA-8FCE-E96CB0505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756E-0D89-4CCC-99E8-1E5CD2BEE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5124-F7DE-4915-8AC2-4D84B4886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13EA-E26B-42D3-A850-A711F5F5E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9D72-E02C-4F88-8FAF-94416FD7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77A3-6AEC-4086-8731-45782398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13F1-856B-4ED1-A746-61EF164C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1240" indent="-292320">
              <a:spcBef>
                <a:spcPts val="7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98760" indent="-316080">
              <a:spcBef>
                <a:spcPts val="700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5F45D-2FB8-4C45-AF92-C8726CD5B3CB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4F0E0-8CE8-4B13-AB8D-28749268443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0" y="837720"/>
            <a:ext cx="9016920" cy="77760"/>
          </a:xfrm>
          <a:custGeom>
            <a:avLst/>
            <a:gdLst/>
            <a:ahLst/>
            <a:rect l="l" t="t" r="r" b="b"/>
            <a:pathLst>
              <a:path w="6344" h="1">
                <a:moveTo>
                  <a:pt x="0" y="0"/>
                </a:moveTo>
                <a:lnTo>
                  <a:pt x="6344" y="0"/>
                </a:lnTo>
              </a:path>
            </a:pathLst>
          </a:custGeom>
          <a:solidFill>
            <a:srgbClr val="af8a01"/>
          </a:solidFill>
          <a:ln w="38160">
            <a:solidFill>
              <a:srgbClr val="ef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5720" y="466200"/>
            <a:ext cx="8218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791320" y="3962520"/>
            <a:ext cx="3120840" cy="2708280"/>
            <a:chOff x="5791320" y="3962520"/>
            <a:chExt cx="3120840" cy="2708280"/>
          </a:xfrm>
        </p:grpSpPr>
        <p:sp>
          <p:nvSpPr>
            <p:cNvPr id="44" name=""/>
            <p:cNvSpPr/>
            <p:nvPr/>
          </p:nvSpPr>
          <p:spPr>
            <a:xfrm>
              <a:off x="5791320" y="5908680"/>
              <a:ext cx="3120840" cy="762120"/>
            </a:xfrm>
            <a:prstGeom prst="ellipse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791320" y="4383360"/>
              <a:ext cx="3120840" cy="1904760"/>
            </a:xfrm>
            <a:prstGeom prst="rect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5791320" y="3962520"/>
              <a:ext cx="3120840" cy="76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93720" algn="ctr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jobs.ku.edu/" TargetMode="Externa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1752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EECS 647: Introduction to Database Systems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332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ructor: Luke Hu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pring 200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nse versus sparse index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parse index is small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ment on rec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cords must be clustered for sparse inde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k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parse index is smaller and may fit in memor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ense index can directly tell if a record exis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asier for sparse inde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A39E-00FA-45A8-B1C9-AD76DC53BE0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E19157-97ED-4973-B896-5A114E2F616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ary and secondary index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Primary inde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7360" indent="-3301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for the 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primary 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a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7360" indent="-3301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ds are usually clustered according to the primary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7360" indent="-3301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spa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Secondary inde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7360" indent="-3301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lly d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7360" indent="-33012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PRIMARY 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laration automatically creates a primary index,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UNIQ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key automatically creates a secondary 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7360" indent="-3301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secondary index can be created on non-key attribute(s)</a:t>
            </a:r>
            <a:br>
              <a:rPr sz="2400"/>
            </a:b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CREATE INDEX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 StudentGPAIndex </a:t>
            </a: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 Student(GP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4053-C454-4A11-9057-2B2B41B023D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5B1F06-F9CE-43B6-A16A-7793EAE2E7B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ee-Structured Indexes: Introdu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structured indexing techniques support bo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ange selection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quality sele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AM =</a:t>
            </a:r>
            <a:r>
              <a:rPr b="0" lang="en-US" sz="2800" spc="-1" strike="noStrike" u="sng">
                <a:solidFill>
                  <a:srgbClr val="cf0e30"/>
                </a:solidFill>
                <a:uFillTx/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dexed</a:t>
            </a:r>
            <a:r>
              <a:rPr b="0" lang="en-US" sz="2800" spc="-1" strike="noStrike">
                <a:solidFill>
                  <a:srgbClr val="cf0e3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cf0e30"/>
                </a:solidFill>
                <a:uFillTx/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ential</a:t>
            </a:r>
            <a:r>
              <a:rPr b="0" lang="en-US" sz="2800" spc="-1" strike="noStrike">
                <a:solidFill>
                  <a:srgbClr val="cf0e3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cf0e30"/>
                </a:solidFill>
                <a:uFillTx/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cess</a:t>
            </a:r>
            <a:r>
              <a:rPr b="0" lang="en-US" sz="2800" spc="-1" strike="noStrike">
                <a:solidFill>
                  <a:srgbClr val="cf0e3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cf0e30"/>
                </a:solidFill>
                <a:uFillTx/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hod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atic structure; early index technolog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0" i="1" lang="en-US" sz="28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tre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dynamic, adjusts gracefully under inserts and dele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vation for Inde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``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ind all students with gpa &gt; 3.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ata file is sorted, do binary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 of binary search in a database can be quite high, 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idea:  Create an `index’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25360" y="6095880"/>
            <a:ext cx="6131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9999"/>
                </a:solidFill>
                <a:latin typeface="Book Antiqua"/>
              </a:rPr>
              <a:t>Can do binary search on (smaller) index fil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22400" y="5595840"/>
            <a:ext cx="1052640" cy="398520"/>
          </a:xfrm>
          <a:custGeom>
            <a:avLst/>
            <a:gdLst/>
            <a:ahLst/>
            <a:rect l="l" t="t" r="r" b="b"/>
            <a:pathLst>
              <a:path w="663" h="251">
                <a:moveTo>
                  <a:pt x="0" y="250"/>
                </a:moveTo>
                <a:lnTo>
                  <a:pt x="0" y="0"/>
                </a:lnTo>
                <a:lnTo>
                  <a:pt x="662" y="0"/>
                </a:lnTo>
                <a:lnTo>
                  <a:pt x="662" y="250"/>
                </a:lnTo>
                <a:lnTo>
                  <a:pt x="0" y="25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68640" y="5595840"/>
            <a:ext cx="1050840" cy="398520"/>
          </a:xfrm>
          <a:custGeom>
            <a:avLst/>
            <a:gdLst/>
            <a:ahLst/>
            <a:rect l="l" t="t" r="r" b="b"/>
            <a:pathLst>
              <a:path w="662" h="251">
                <a:moveTo>
                  <a:pt x="0" y="250"/>
                </a:moveTo>
                <a:lnTo>
                  <a:pt x="0" y="0"/>
                </a:lnTo>
                <a:lnTo>
                  <a:pt x="661" y="0"/>
                </a:lnTo>
                <a:lnTo>
                  <a:pt x="661" y="250"/>
                </a:lnTo>
                <a:lnTo>
                  <a:pt x="0" y="25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94200" y="5595840"/>
            <a:ext cx="1051200" cy="398520"/>
          </a:xfrm>
          <a:custGeom>
            <a:avLst/>
            <a:gdLst/>
            <a:ahLst/>
            <a:rect l="l" t="t" r="r" b="b"/>
            <a:pathLst>
              <a:path w="662" h="251">
                <a:moveTo>
                  <a:pt x="0" y="250"/>
                </a:moveTo>
                <a:lnTo>
                  <a:pt x="0" y="0"/>
                </a:lnTo>
                <a:lnTo>
                  <a:pt x="661" y="0"/>
                </a:lnTo>
                <a:lnTo>
                  <a:pt x="661" y="250"/>
                </a:lnTo>
                <a:lnTo>
                  <a:pt x="0" y="25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90720" y="5506920"/>
            <a:ext cx="5943600" cy="513000"/>
          </a:xfrm>
          <a:custGeom>
            <a:avLst/>
            <a:gdLst/>
            <a:ahLst/>
            <a:rect l="l" t="t" r="r" b="b"/>
            <a:pathLst>
              <a:path w="3744" h="323">
                <a:moveTo>
                  <a:pt x="0" y="322"/>
                </a:moveTo>
                <a:lnTo>
                  <a:pt x="0" y="0"/>
                </a:lnTo>
                <a:lnTo>
                  <a:pt x="3743" y="0"/>
                </a:lnTo>
                <a:lnTo>
                  <a:pt x="3743" y="322"/>
                </a:lnTo>
                <a:lnTo>
                  <a:pt x="0" y="32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14880" y="5602320"/>
            <a:ext cx="1052280" cy="399960"/>
          </a:xfrm>
          <a:custGeom>
            <a:avLst/>
            <a:gdLst/>
            <a:ahLst/>
            <a:rect l="l" t="t" r="r" b="b"/>
            <a:pathLst>
              <a:path w="663" h="252">
                <a:moveTo>
                  <a:pt x="0" y="251"/>
                </a:moveTo>
                <a:lnTo>
                  <a:pt x="0" y="0"/>
                </a:lnTo>
                <a:lnTo>
                  <a:pt x="662" y="0"/>
                </a:lnTo>
                <a:lnTo>
                  <a:pt x="662" y="251"/>
                </a:lnTo>
                <a:lnTo>
                  <a:pt x="0" y="25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80000" y="5603760"/>
            <a:ext cx="759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72320" y="5619600"/>
            <a:ext cx="759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866920" y="5568840"/>
            <a:ext cx="788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439080" y="5595840"/>
            <a:ext cx="759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247880" y="5514840"/>
            <a:ext cx="10857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Data Fi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055520" y="4146480"/>
            <a:ext cx="7329240" cy="1384200"/>
            <a:chOff x="1055520" y="4146480"/>
            <a:chExt cx="7329240" cy="1384200"/>
          </a:xfrm>
        </p:grpSpPr>
        <p:sp>
          <p:nvSpPr>
            <p:cNvPr id="137" name=""/>
            <p:cNvSpPr/>
            <p:nvPr/>
          </p:nvSpPr>
          <p:spPr>
            <a:xfrm>
              <a:off x="5583240" y="4562280"/>
              <a:ext cx="198360" cy="968400"/>
            </a:xfrm>
            <a:custGeom>
              <a:avLst/>
              <a:gdLst/>
              <a:ahLst/>
              <a:rect l="l" t="t" r="r" b="b"/>
              <a:pathLst>
                <a:path w="125" h="610">
                  <a:moveTo>
                    <a:pt x="0" y="0"/>
                  </a:moveTo>
                  <a:lnTo>
                    <a:pt x="124" y="60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726160" y="5402160"/>
              <a:ext cx="58680" cy="128520"/>
            </a:xfrm>
            <a:custGeom>
              <a:avLst/>
              <a:gdLst/>
              <a:ahLst/>
              <a:rect l="l" t="t" r="r" b="b"/>
              <a:pathLst>
                <a:path w="37" h="81">
                  <a:moveTo>
                    <a:pt x="36" y="0"/>
                  </a:moveTo>
                  <a:lnTo>
                    <a:pt x="34" y="80"/>
                  </a:lnTo>
                  <a:lnTo>
                    <a:pt x="0" y="8"/>
                  </a:lnTo>
                  <a:lnTo>
                    <a:pt x="36" y="0"/>
                  </a:lnTo>
                </a:path>
              </a:pathLst>
            </a:custGeom>
            <a:noFill/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243160" y="4552560"/>
              <a:ext cx="1440" cy="935280"/>
            </a:xfrm>
            <a:custGeom>
              <a:avLst/>
              <a:gdLst/>
              <a:ahLst/>
              <a:rect l="l" t="t" r="r" b="b"/>
              <a:pathLst>
                <a:path w="1" h="589">
                  <a:moveTo>
                    <a:pt x="0" y="0"/>
                  </a:moveTo>
                  <a:lnTo>
                    <a:pt x="0" y="58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212920" y="5359320"/>
              <a:ext cx="61920" cy="128520"/>
            </a:xfrm>
            <a:custGeom>
              <a:avLst/>
              <a:gdLst/>
              <a:ahLst/>
              <a:rect l="l" t="t" r="r" b="b"/>
              <a:pathLst>
                <a:path w="39" h="81">
                  <a:moveTo>
                    <a:pt x="38" y="0"/>
                  </a:moveTo>
                  <a:lnTo>
                    <a:pt x="19" y="80"/>
                  </a:lnTo>
                  <a:lnTo>
                    <a:pt x="0" y="0"/>
                  </a:lnTo>
                  <a:lnTo>
                    <a:pt x="38" y="0"/>
                  </a:lnTo>
                </a:path>
              </a:pathLst>
            </a:custGeom>
            <a:noFill/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568600" y="4570200"/>
              <a:ext cx="757080" cy="917640"/>
            </a:xfrm>
            <a:custGeom>
              <a:avLst/>
              <a:gdLst/>
              <a:ahLst/>
              <a:rect l="l" t="t" r="r" b="b"/>
              <a:pathLst>
                <a:path w="477" h="578">
                  <a:moveTo>
                    <a:pt x="0" y="0"/>
                  </a:moveTo>
                  <a:lnTo>
                    <a:pt x="476" y="57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20920" y="5370120"/>
              <a:ext cx="104760" cy="117720"/>
            </a:xfrm>
            <a:custGeom>
              <a:avLst/>
              <a:gdLst/>
              <a:ahLst/>
              <a:rect l="l" t="t" r="r" b="b"/>
              <a:pathLst>
                <a:path w="66" h="74">
                  <a:moveTo>
                    <a:pt x="29" y="0"/>
                  </a:moveTo>
                  <a:lnTo>
                    <a:pt x="65" y="73"/>
                  </a:lnTo>
                  <a:lnTo>
                    <a:pt x="0" y="27"/>
                  </a:lnTo>
                  <a:lnTo>
                    <a:pt x="29" y="0"/>
                  </a:lnTo>
                </a:path>
              </a:pathLst>
            </a:custGeom>
            <a:noFill/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055520" y="4420800"/>
              <a:ext cx="973440" cy="1087560"/>
            </a:xfrm>
            <a:custGeom>
              <a:avLst/>
              <a:gdLst/>
              <a:ahLst/>
              <a:rect l="l" t="t" r="r" b="b"/>
              <a:pathLst>
                <a:path w="613" h="685">
                  <a:moveTo>
                    <a:pt x="612" y="0"/>
                  </a:moveTo>
                  <a:lnTo>
                    <a:pt x="0" y="684"/>
                  </a:lnTo>
                  <a:lnTo>
                    <a:pt x="612" y="0"/>
                  </a:lnTo>
                </a:path>
              </a:pathLst>
            </a:custGeom>
            <a:noFill/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55520" y="5392440"/>
              <a:ext cx="106560" cy="115920"/>
            </a:xfrm>
            <a:custGeom>
              <a:avLst/>
              <a:gdLst/>
              <a:ahLst/>
              <a:rect l="l" t="t" r="r" b="b"/>
              <a:pathLst>
                <a:path w="67" h="73">
                  <a:moveTo>
                    <a:pt x="66" y="27"/>
                  </a:moveTo>
                  <a:lnTo>
                    <a:pt x="0" y="72"/>
                  </a:lnTo>
                  <a:lnTo>
                    <a:pt x="38" y="0"/>
                  </a:lnTo>
                  <a:lnTo>
                    <a:pt x="66" y="27"/>
                  </a:lnTo>
                </a:path>
              </a:pathLst>
            </a:custGeom>
            <a:noFill/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952640" y="4243320"/>
              <a:ext cx="1049400" cy="399960"/>
            </a:xfrm>
            <a:custGeom>
              <a:avLst/>
              <a:gdLst/>
              <a:ahLst/>
              <a:rect l="l" t="t" r="r" b="b"/>
              <a:pathLst>
                <a:path w="661" h="252">
                  <a:moveTo>
                    <a:pt x="0" y="251"/>
                  </a:moveTo>
                  <a:lnTo>
                    <a:pt x="0" y="0"/>
                  </a:lnTo>
                  <a:lnTo>
                    <a:pt x="660" y="0"/>
                  </a:lnTo>
                  <a:lnTo>
                    <a:pt x="660" y="251"/>
                  </a:lnTo>
                  <a:lnTo>
                    <a:pt x="0" y="251"/>
                  </a:lnTo>
                </a:path>
              </a:pathLst>
            </a:custGeom>
            <a:noFill/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137040" y="4243320"/>
              <a:ext cx="1052280" cy="399960"/>
            </a:xfrm>
            <a:custGeom>
              <a:avLst/>
              <a:gdLst/>
              <a:ahLst/>
              <a:rect l="l" t="t" r="r" b="b"/>
              <a:pathLst>
                <a:path w="663" h="252">
                  <a:moveTo>
                    <a:pt x="0" y="251"/>
                  </a:moveTo>
                  <a:lnTo>
                    <a:pt x="0" y="0"/>
                  </a:lnTo>
                  <a:lnTo>
                    <a:pt x="662" y="0"/>
                  </a:lnTo>
                  <a:lnTo>
                    <a:pt x="662" y="251"/>
                  </a:lnTo>
                  <a:lnTo>
                    <a:pt x="0" y="251"/>
                  </a:lnTo>
                </a:path>
              </a:pathLst>
            </a:custGeom>
            <a:noFill/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849920" y="4243320"/>
              <a:ext cx="1050840" cy="399960"/>
            </a:xfrm>
            <a:custGeom>
              <a:avLst/>
              <a:gdLst/>
              <a:ahLst/>
              <a:rect l="l" t="t" r="r" b="b"/>
              <a:pathLst>
                <a:path w="662" h="252">
                  <a:moveTo>
                    <a:pt x="0" y="251"/>
                  </a:moveTo>
                  <a:lnTo>
                    <a:pt x="0" y="0"/>
                  </a:lnTo>
                  <a:lnTo>
                    <a:pt x="661" y="0"/>
                  </a:lnTo>
                  <a:lnTo>
                    <a:pt x="661" y="251"/>
                  </a:lnTo>
                  <a:lnTo>
                    <a:pt x="0" y="251"/>
                  </a:lnTo>
                </a:path>
              </a:pathLst>
            </a:custGeom>
            <a:noFill/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76320" y="4146480"/>
              <a:ext cx="4068720" cy="574560"/>
            </a:xfrm>
            <a:custGeom>
              <a:avLst/>
              <a:gdLst/>
              <a:ahLst/>
              <a:rect l="l" t="t" r="r" b="b"/>
              <a:pathLst>
                <a:path w="2563" h="362">
                  <a:moveTo>
                    <a:pt x="0" y="361"/>
                  </a:moveTo>
                  <a:lnTo>
                    <a:pt x="0" y="0"/>
                  </a:lnTo>
                  <a:lnTo>
                    <a:pt x="2562" y="0"/>
                  </a:lnTo>
                  <a:lnTo>
                    <a:pt x="2562" y="361"/>
                  </a:lnTo>
                  <a:lnTo>
                    <a:pt x="0" y="361"/>
                  </a:lnTo>
                </a:path>
              </a:pathLst>
            </a:custGeom>
            <a:noFill/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361960" y="4269960"/>
              <a:ext cx="383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00"/>
                  </a:solidFill>
                  <a:latin typeface="Arial"/>
                </a:rPr>
                <a:t>k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400360" y="4249440"/>
              <a:ext cx="412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00"/>
                  </a:solidFill>
                  <a:latin typeface="Arial"/>
                </a:rPr>
                <a:t>k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62080" y="4273200"/>
              <a:ext cx="383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00"/>
                  </a:solidFill>
                  <a:latin typeface="Arial"/>
                </a:rPr>
                <a:t>k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02880" y="4147920"/>
              <a:ext cx="118188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8000"/>
                  </a:solidFill>
                  <a:latin typeface="Arial"/>
                </a:rPr>
                <a:t>Index Fil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189080" y="4038480"/>
            <a:ext cx="5897160" cy="1599840"/>
            <a:chOff x="1189080" y="4038480"/>
            <a:chExt cx="5897160" cy="1599840"/>
          </a:xfrm>
        </p:grpSpPr>
        <p:sp>
          <p:nvSpPr>
            <p:cNvPr id="154" name=""/>
            <p:cNvSpPr/>
            <p:nvPr/>
          </p:nvSpPr>
          <p:spPr>
            <a:xfrm>
              <a:off x="1189080" y="4533120"/>
              <a:ext cx="5852520" cy="734760"/>
            </a:xfrm>
            <a:custGeom>
              <a:avLst/>
              <a:gdLst/>
              <a:ahLst/>
              <a:rect l="l" t="t" r="r" b="b"/>
              <a:pathLst>
                <a:path w="4038" h="551">
                  <a:moveTo>
                    <a:pt x="0" y="550"/>
                  </a:moveTo>
                  <a:lnTo>
                    <a:pt x="0" y="0"/>
                  </a:lnTo>
                  <a:lnTo>
                    <a:pt x="4037" y="0"/>
                  </a:lnTo>
                  <a:lnTo>
                    <a:pt x="4037" y="550"/>
                  </a:lnTo>
                  <a:lnTo>
                    <a:pt x="0" y="55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55280" y="4533120"/>
              <a:ext cx="592920" cy="734760"/>
            </a:xfrm>
            <a:custGeom>
              <a:avLst/>
              <a:gdLst/>
              <a:ahLst/>
              <a:rect l="l" t="t" r="r" b="b"/>
              <a:pathLst>
                <a:path w="409" h="551">
                  <a:moveTo>
                    <a:pt x="0" y="550"/>
                  </a:moveTo>
                  <a:lnTo>
                    <a:pt x="0" y="0"/>
                  </a:lnTo>
                  <a:lnTo>
                    <a:pt x="408" y="0"/>
                  </a:lnTo>
                  <a:lnTo>
                    <a:pt x="408" y="550"/>
                  </a:lnTo>
                  <a:lnTo>
                    <a:pt x="0" y="55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694600" y="4533120"/>
              <a:ext cx="605880" cy="734760"/>
            </a:xfrm>
            <a:custGeom>
              <a:avLst/>
              <a:gdLst/>
              <a:ahLst/>
              <a:rect l="l" t="t" r="r" b="b"/>
              <a:pathLst>
                <a:path w="418" h="551">
                  <a:moveTo>
                    <a:pt x="0" y="550"/>
                  </a:moveTo>
                  <a:lnTo>
                    <a:pt x="0" y="0"/>
                  </a:lnTo>
                  <a:lnTo>
                    <a:pt x="417" y="0"/>
                  </a:lnTo>
                  <a:lnTo>
                    <a:pt x="417" y="550"/>
                  </a:lnTo>
                  <a:lnTo>
                    <a:pt x="0" y="55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93520" y="4858560"/>
              <a:ext cx="72000" cy="56880"/>
            </a:xfrm>
            <a:custGeom>
              <a:avLst/>
              <a:gdLst/>
              <a:ahLst/>
              <a:rect l="l" t="t" r="r" b="b"/>
              <a:pathLst>
                <a:path w="50" h="43">
                  <a:moveTo>
                    <a:pt x="49" y="21"/>
                  </a:moveTo>
                  <a:lnTo>
                    <a:pt x="25" y="0"/>
                  </a:lnTo>
                  <a:lnTo>
                    <a:pt x="0" y="21"/>
                  </a:lnTo>
                  <a:lnTo>
                    <a:pt x="25" y="42"/>
                  </a:lnTo>
                  <a:lnTo>
                    <a:pt x="49" y="2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808160" y="4858560"/>
              <a:ext cx="67680" cy="56880"/>
            </a:xfrm>
            <a:custGeom>
              <a:avLst/>
              <a:gdLst/>
              <a:ahLst/>
              <a:rect l="l" t="t" r="r" b="b"/>
              <a:pathLst>
                <a:path w="47" h="43">
                  <a:moveTo>
                    <a:pt x="46" y="21"/>
                  </a:moveTo>
                  <a:lnTo>
                    <a:pt x="22" y="0"/>
                  </a:lnTo>
                  <a:lnTo>
                    <a:pt x="0" y="21"/>
                  </a:lnTo>
                  <a:lnTo>
                    <a:pt x="22" y="42"/>
                  </a:lnTo>
                  <a:lnTo>
                    <a:pt x="46" y="2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114880" y="4858560"/>
              <a:ext cx="71280" cy="56880"/>
            </a:xfrm>
            <a:custGeom>
              <a:avLst/>
              <a:gdLst/>
              <a:ahLst/>
              <a:rect l="l" t="t" r="r" b="b"/>
              <a:pathLst>
                <a:path w="49" h="43">
                  <a:moveTo>
                    <a:pt x="48" y="21"/>
                  </a:moveTo>
                  <a:lnTo>
                    <a:pt x="24" y="0"/>
                  </a:lnTo>
                  <a:lnTo>
                    <a:pt x="0" y="21"/>
                  </a:lnTo>
                  <a:lnTo>
                    <a:pt x="24" y="42"/>
                  </a:lnTo>
                  <a:lnTo>
                    <a:pt x="48" y="2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980320" y="4533120"/>
              <a:ext cx="608400" cy="734760"/>
            </a:xfrm>
            <a:custGeom>
              <a:avLst/>
              <a:gdLst/>
              <a:ahLst/>
              <a:rect l="l" t="t" r="r" b="b"/>
              <a:pathLst>
                <a:path w="420" h="551">
                  <a:moveTo>
                    <a:pt x="0" y="550"/>
                  </a:moveTo>
                  <a:lnTo>
                    <a:pt x="0" y="0"/>
                  </a:lnTo>
                  <a:lnTo>
                    <a:pt x="419" y="0"/>
                  </a:lnTo>
                  <a:lnTo>
                    <a:pt x="419" y="550"/>
                  </a:lnTo>
                  <a:lnTo>
                    <a:pt x="0" y="55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99040" y="4533120"/>
              <a:ext cx="452160" cy="734760"/>
            </a:xfrm>
            <a:custGeom>
              <a:avLst/>
              <a:gdLst/>
              <a:ahLst/>
              <a:rect l="l" t="t" r="r" b="b"/>
              <a:pathLst>
                <a:path w="312" h="551">
                  <a:moveTo>
                    <a:pt x="0" y="550"/>
                  </a:moveTo>
                  <a:lnTo>
                    <a:pt x="0" y="0"/>
                  </a:lnTo>
                  <a:lnTo>
                    <a:pt x="311" y="0"/>
                  </a:lnTo>
                  <a:lnTo>
                    <a:pt x="311" y="550"/>
                  </a:lnTo>
                  <a:lnTo>
                    <a:pt x="0" y="55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343880" y="5027760"/>
              <a:ext cx="1440" cy="610560"/>
            </a:xfrm>
            <a:custGeom>
              <a:avLst/>
              <a:gdLst/>
              <a:ahLst/>
              <a:rect l="l" t="t" r="r" b="b"/>
              <a:pathLst>
                <a:path w="1" h="458">
                  <a:moveTo>
                    <a:pt x="0" y="0"/>
                  </a:moveTo>
                  <a:lnTo>
                    <a:pt x="0" y="45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309320" y="5523840"/>
              <a:ext cx="70920" cy="114480"/>
            </a:xfrm>
            <a:custGeom>
              <a:avLst/>
              <a:gdLst/>
              <a:ahLst/>
              <a:rect l="l" t="t" r="r" b="b"/>
              <a:pathLst>
                <a:path w="49" h="86">
                  <a:moveTo>
                    <a:pt x="48" y="0"/>
                  </a:moveTo>
                  <a:lnTo>
                    <a:pt x="25" y="85"/>
                  </a:lnTo>
                  <a:lnTo>
                    <a:pt x="0" y="0"/>
                  </a:lnTo>
                  <a:lnTo>
                    <a:pt x="4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382840" y="5027760"/>
              <a:ext cx="1440" cy="610560"/>
            </a:xfrm>
            <a:custGeom>
              <a:avLst/>
              <a:gdLst/>
              <a:ahLst/>
              <a:rect l="l" t="t" r="r" b="b"/>
              <a:pathLst>
                <a:path w="1" h="458">
                  <a:moveTo>
                    <a:pt x="0" y="0"/>
                  </a:moveTo>
                  <a:lnTo>
                    <a:pt x="0" y="45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349720" y="5523840"/>
              <a:ext cx="70920" cy="114480"/>
            </a:xfrm>
            <a:custGeom>
              <a:avLst/>
              <a:gdLst/>
              <a:ahLst/>
              <a:rect l="l" t="t" r="r" b="b"/>
              <a:pathLst>
                <a:path w="49" h="86">
                  <a:moveTo>
                    <a:pt x="48" y="0"/>
                  </a:moveTo>
                  <a:lnTo>
                    <a:pt x="24" y="85"/>
                  </a:lnTo>
                  <a:lnTo>
                    <a:pt x="0" y="0"/>
                  </a:lnTo>
                  <a:lnTo>
                    <a:pt x="4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436920" y="5027760"/>
              <a:ext cx="1080" cy="610560"/>
            </a:xfrm>
            <a:custGeom>
              <a:avLst/>
              <a:gdLst/>
              <a:ahLst/>
              <a:rect l="l" t="t" r="r" b="b"/>
              <a:pathLst>
                <a:path w="1" h="458">
                  <a:moveTo>
                    <a:pt x="0" y="0"/>
                  </a:moveTo>
                  <a:lnTo>
                    <a:pt x="0" y="45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402000" y="5523840"/>
              <a:ext cx="72360" cy="114480"/>
            </a:xfrm>
            <a:custGeom>
              <a:avLst/>
              <a:gdLst/>
              <a:ahLst/>
              <a:rect l="l" t="t" r="r" b="b"/>
              <a:pathLst>
                <a:path w="50" h="86">
                  <a:moveTo>
                    <a:pt x="49" y="0"/>
                  </a:moveTo>
                  <a:lnTo>
                    <a:pt x="25" y="85"/>
                  </a:lnTo>
                  <a:lnTo>
                    <a:pt x="0" y="0"/>
                  </a:lnTo>
                  <a:lnTo>
                    <a:pt x="4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725520" y="5027760"/>
              <a:ext cx="1080" cy="610560"/>
            </a:xfrm>
            <a:custGeom>
              <a:avLst/>
              <a:gdLst/>
              <a:ahLst/>
              <a:rect l="l" t="t" r="r" b="b"/>
              <a:pathLst>
                <a:path w="1" h="458">
                  <a:moveTo>
                    <a:pt x="0" y="0"/>
                  </a:moveTo>
                  <a:lnTo>
                    <a:pt x="0" y="45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690600" y="5523840"/>
              <a:ext cx="69480" cy="114480"/>
            </a:xfrm>
            <a:custGeom>
              <a:avLst/>
              <a:gdLst/>
              <a:ahLst/>
              <a:rect l="l" t="t" r="r" b="b"/>
              <a:pathLst>
                <a:path w="48" h="86">
                  <a:moveTo>
                    <a:pt x="47" y="0"/>
                  </a:moveTo>
                  <a:lnTo>
                    <a:pt x="23" y="85"/>
                  </a:lnTo>
                  <a:lnTo>
                    <a:pt x="0" y="0"/>
                  </a:lnTo>
                  <a:lnTo>
                    <a:pt x="4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655280" y="4291920"/>
              <a:ext cx="1040760" cy="1080"/>
            </a:xfrm>
            <a:custGeom>
              <a:avLst/>
              <a:gdLst/>
              <a:ahLst/>
              <a:rect l="l" t="t" r="r" b="b"/>
              <a:pathLst>
                <a:path w="718" h="1">
                  <a:moveTo>
                    <a:pt x="0" y="0"/>
                  </a:moveTo>
                  <a:lnTo>
                    <a:pt x="717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710800" y="4291920"/>
              <a:ext cx="1080" cy="86400"/>
            </a:xfrm>
            <a:custGeom>
              <a:avLst/>
              <a:gdLst/>
              <a:ahLst/>
              <a:rect l="l" t="t" r="r" b="b"/>
              <a:pathLst>
                <a:path w="1" h="65">
                  <a:moveTo>
                    <a:pt x="0" y="0"/>
                  </a:moveTo>
                  <a:lnTo>
                    <a:pt x="0" y="6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655280" y="4291920"/>
              <a:ext cx="1440" cy="117000"/>
            </a:xfrm>
            <a:custGeom>
              <a:avLst/>
              <a:gdLst/>
              <a:ahLst/>
              <a:rect l="l" t="t" r="r" b="b"/>
              <a:pathLst>
                <a:path w="1" h="88">
                  <a:moveTo>
                    <a:pt x="0" y="87"/>
                  </a:moveTo>
                  <a:lnTo>
                    <a:pt x="0" y="0"/>
                  </a:lnTo>
                  <a:lnTo>
                    <a:pt x="0" y="8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222920" y="463824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325520" y="4722480"/>
              <a:ext cx="284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742400" y="463824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50480" y="4722480"/>
              <a:ext cx="284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78800" y="465300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451960" y="4738320"/>
              <a:ext cx="284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815920" y="465300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039120" y="4721400"/>
              <a:ext cx="284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334680" y="466488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25840" y="4751640"/>
              <a:ext cx="284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051600" y="466488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260040" y="4736880"/>
              <a:ext cx="343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569640" y="465156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742800" y="4695840"/>
              <a:ext cx="343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601280" y="4038480"/>
              <a:ext cx="133884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index entr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f an index is still too bi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t a another (sparse) index on top of that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ISA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Index Sequential Access Metho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more or l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209680" y="3581280"/>
            <a:ext cx="4572000" cy="914400"/>
            <a:chOff x="2209680" y="3581280"/>
            <a:chExt cx="4572000" cy="914400"/>
          </a:xfrm>
        </p:grpSpPr>
        <p:sp>
          <p:nvSpPr>
            <p:cNvPr id="191" name=""/>
            <p:cNvSpPr/>
            <p:nvPr/>
          </p:nvSpPr>
          <p:spPr>
            <a:xfrm>
              <a:off x="4267080" y="3581280"/>
              <a:ext cx="1981440" cy="457200"/>
            </a:xfrm>
            <a:prstGeom prst="rect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ettrGoth12 BT"/>
                </a:rPr>
                <a:t>100, 200, …, 9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2209680" y="3962520"/>
              <a:ext cx="2362320" cy="53316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019920" y="3962520"/>
              <a:ext cx="761760" cy="53316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4495680" y="3962520"/>
              <a:ext cx="609840" cy="53316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62520" y="4424400"/>
            <a:ext cx="7714800" cy="985680"/>
            <a:chOff x="362520" y="4424400"/>
            <a:chExt cx="7714800" cy="985680"/>
          </a:xfrm>
        </p:grpSpPr>
        <p:sp>
          <p:nvSpPr>
            <p:cNvPr id="196" name=""/>
            <p:cNvSpPr/>
            <p:nvPr/>
          </p:nvSpPr>
          <p:spPr>
            <a:xfrm>
              <a:off x="2209680" y="4495680"/>
              <a:ext cx="1905120" cy="457200"/>
            </a:xfrm>
            <a:prstGeom prst="rect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ettrGoth12 BT"/>
                </a:rPr>
                <a:t>100, 123, …, 19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705720" y="4495680"/>
              <a:ext cx="1371600" cy="457200"/>
            </a:xfrm>
            <a:prstGeom prst="rect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ettrGoth12 BT"/>
                </a:rPr>
                <a:t>901, …, 99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29720" y="4424400"/>
              <a:ext cx="42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80520" y="4876920"/>
              <a:ext cx="2057400" cy="53316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1600200" y="4876920"/>
              <a:ext cx="1371600" cy="53316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3200040" y="4876920"/>
              <a:ext cx="762120" cy="53316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6095880" y="4876920"/>
              <a:ext cx="914400" cy="53316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7619760" y="4876920"/>
              <a:ext cx="228600" cy="53316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2520" y="4479840"/>
              <a:ext cx="168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66"/>
                  </a:solidFill>
                  <a:latin typeface="AmeriGarmnd BT"/>
                </a:rPr>
                <a:t>Index block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495680" y="4495680"/>
              <a:ext cx="1371600" cy="457200"/>
            </a:xfrm>
            <a:prstGeom prst="rect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ettrGoth12 BT"/>
                </a:rPr>
                <a:t>200, …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4419720" y="4876920"/>
              <a:ext cx="457200" cy="53316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380880" y="5410080"/>
            <a:ext cx="8382240" cy="1145160"/>
            <a:chOff x="380880" y="5410080"/>
            <a:chExt cx="8382240" cy="1145160"/>
          </a:xfrm>
        </p:grpSpPr>
        <p:sp>
          <p:nvSpPr>
            <p:cNvPr id="208" name=""/>
            <p:cNvSpPr/>
            <p:nvPr/>
          </p:nvSpPr>
          <p:spPr>
            <a:xfrm>
              <a:off x="380880" y="5410080"/>
              <a:ext cx="1143000" cy="685800"/>
            </a:xfrm>
            <a:prstGeom prst="rect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ettrGoth12 BT"/>
                </a:rPr>
                <a:t>100, 108,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LettrGoth12 BT"/>
                </a:rPr>
                <a:t>119, 12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600200" y="5410080"/>
              <a:ext cx="1143000" cy="685800"/>
            </a:xfrm>
            <a:prstGeom prst="rect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ettrGoth12 BT"/>
                </a:rPr>
                <a:t>123, 129,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LettrGoth12 BT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108840" y="5410080"/>
              <a:ext cx="1143000" cy="685800"/>
            </a:xfrm>
            <a:prstGeom prst="rect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ettrGoth12 BT"/>
                </a:rPr>
                <a:t>901, 907,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LettrGoth12 BT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620120" y="5410080"/>
              <a:ext cx="1143000" cy="685800"/>
            </a:xfrm>
            <a:prstGeom prst="rect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ettrGoth12 BT"/>
                </a:rPr>
                <a:t>996, 997,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LettrGoth12 BT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776680" y="5491080"/>
              <a:ext cx="42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40480" y="5491080"/>
              <a:ext cx="42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240680" y="5491080"/>
              <a:ext cx="42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620160" y="6156360"/>
              <a:ext cx="156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66"/>
                  </a:solidFill>
                  <a:latin typeface="AmeriGarmnd BT"/>
                </a:rPr>
                <a:t>Data block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200400" y="5410080"/>
              <a:ext cx="1143000" cy="685800"/>
            </a:xfrm>
            <a:prstGeom prst="rect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ettrGoth12 BT"/>
                </a:rPr>
                <a:t>192, 197,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LettrGoth12 BT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419720" y="5410080"/>
              <a:ext cx="1143000" cy="685800"/>
            </a:xfrm>
            <a:prstGeom prst="rect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ettrGoth12 BT"/>
                </a:rPr>
                <a:t>200, 202,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LettrGoth12 BT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269280" y="3200400"/>
            <a:ext cx="32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meriGarmnd BT"/>
              </a:rPr>
              <a:t>Example: look up </a:t>
            </a:r>
            <a:r>
              <a:rPr b="0" lang="en-US" sz="2400" spc="-1" strike="noStrike">
                <a:solidFill>
                  <a:srgbClr val="00ff00"/>
                </a:solidFill>
                <a:latin typeface="LettrGoth12 BT"/>
              </a:rPr>
              <a:t>1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2209680" y="3962520"/>
            <a:ext cx="2362320" cy="53316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200040" y="4876920"/>
            <a:ext cx="762120" cy="53316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486C-72C6-4790-BAC0-455A169D511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034948-AC2E-4BD3-9CD8-BD1A724EF0B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pdates with IS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4672080"/>
            <a:ext cx="8610480" cy="16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flow chains and empty data blocks degrade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orst case: most records go into one long cha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12760" y="1219320"/>
            <a:ext cx="30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meriGarmnd BT"/>
              </a:rPr>
              <a:t>Example: insert </a:t>
            </a:r>
            <a:r>
              <a:rPr b="0" lang="en-US" sz="2400" spc="-1" strike="noStrike">
                <a:solidFill>
                  <a:srgbClr val="00ff00"/>
                </a:solidFill>
                <a:latin typeface="LettrGoth12 BT"/>
              </a:rPr>
              <a:t>1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0760" y="3809880"/>
            <a:ext cx="3295080" cy="1008720"/>
            <a:chOff x="50760" y="3809880"/>
            <a:chExt cx="3295080" cy="1008720"/>
          </a:xfrm>
        </p:grpSpPr>
        <p:sp>
          <p:nvSpPr>
            <p:cNvPr id="225" name=""/>
            <p:cNvSpPr/>
            <p:nvPr/>
          </p:nvSpPr>
          <p:spPr>
            <a:xfrm>
              <a:off x="380880" y="4038480"/>
              <a:ext cx="1143000" cy="685800"/>
            </a:xfrm>
            <a:prstGeom prst="rect">
              <a:avLst/>
            </a:pr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LettrGoth12 BT"/>
                </a:rPr>
                <a:t>107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382040" y="4419720"/>
              <a:ext cx="196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meriGarmnd BT"/>
                </a:rPr>
                <a:t>Overflow blo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0760" y="3809880"/>
              <a:ext cx="330120" cy="304920"/>
            </a:xfrm>
            <a:custGeom>
              <a:avLst/>
              <a:gdLst/>
              <a:ahLst/>
              <a:rect l="l" t="t" r="r" b="b"/>
              <a:pathLst>
                <a:path w="208" h="192">
                  <a:moveTo>
                    <a:pt x="208" y="48"/>
                  </a:moveTo>
                  <a:cubicBezTo>
                    <a:pt x="176" y="24"/>
                    <a:pt x="144" y="0"/>
                    <a:pt x="112" y="0"/>
                  </a:cubicBezTo>
                  <a:cubicBezTo>
                    <a:pt x="80" y="0"/>
                    <a:pt x="32" y="24"/>
                    <a:pt x="16" y="48"/>
                  </a:cubicBezTo>
                  <a:cubicBezTo>
                    <a:pt x="0" y="72"/>
                    <a:pt x="0" y="120"/>
                    <a:pt x="16" y="144"/>
                  </a:cubicBezTo>
                  <a:cubicBezTo>
                    <a:pt x="32" y="168"/>
                    <a:pt x="80" y="192"/>
                    <a:pt x="112" y="192"/>
                  </a:cubicBezTo>
                  <a:cubicBezTo>
                    <a:pt x="144" y="192"/>
                    <a:pt x="176" y="168"/>
                    <a:pt x="208" y="144"/>
                  </a:cubicBezTo>
                </a:path>
              </a:pathLst>
            </a:custGeom>
            <a:noFill/>
            <a:ln w="25560">
              <a:solidFill>
                <a:srgbClr val="00ff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199800" y="1600200"/>
            <a:ext cx="30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meriGarmnd BT"/>
              </a:rPr>
              <a:t>Example: delete </a:t>
            </a:r>
            <a:r>
              <a:rPr b="0" lang="en-US" sz="2400" spc="-1" strike="noStrike">
                <a:solidFill>
                  <a:srgbClr val="ff0000"/>
                </a:solidFill>
                <a:latin typeface="LettrGoth12 BT"/>
              </a:rPr>
              <a:t>1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2209680" y="1371600"/>
            <a:ext cx="4572000" cy="914400"/>
            <a:chOff x="2209680" y="1371600"/>
            <a:chExt cx="4572000" cy="914400"/>
          </a:xfrm>
        </p:grpSpPr>
        <p:sp>
          <p:nvSpPr>
            <p:cNvPr id="230" name=""/>
            <p:cNvSpPr/>
            <p:nvPr/>
          </p:nvSpPr>
          <p:spPr>
            <a:xfrm>
              <a:off x="4267080" y="1371600"/>
              <a:ext cx="1981440" cy="457200"/>
            </a:xfrm>
            <a:prstGeom prst="rect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ettrGoth12 BT"/>
                </a:rPr>
                <a:t>100, 200, …, 9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2209680" y="1752840"/>
              <a:ext cx="2362320" cy="53316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019920" y="1752840"/>
              <a:ext cx="761760" cy="53316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4495680" y="1752840"/>
              <a:ext cx="609840" cy="53316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362520" y="2214720"/>
            <a:ext cx="7714800" cy="985680"/>
            <a:chOff x="362520" y="2214720"/>
            <a:chExt cx="7714800" cy="985680"/>
          </a:xfrm>
        </p:grpSpPr>
        <p:sp>
          <p:nvSpPr>
            <p:cNvPr id="235" name=""/>
            <p:cNvSpPr/>
            <p:nvPr/>
          </p:nvSpPr>
          <p:spPr>
            <a:xfrm>
              <a:off x="2209680" y="2286000"/>
              <a:ext cx="1905120" cy="457200"/>
            </a:xfrm>
            <a:prstGeom prst="rect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ettrGoth12 BT"/>
                </a:rPr>
                <a:t>100, 123, …, 19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705720" y="2286000"/>
              <a:ext cx="1371600" cy="457200"/>
            </a:xfrm>
            <a:prstGeom prst="rect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ettrGoth12 BT"/>
                </a:rPr>
                <a:t>901, …, 99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129720" y="2214720"/>
              <a:ext cx="42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380520" y="2667240"/>
              <a:ext cx="2057400" cy="53316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1600200" y="2667240"/>
              <a:ext cx="1371600" cy="53316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3200040" y="2667240"/>
              <a:ext cx="762120" cy="53316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6095880" y="2667240"/>
              <a:ext cx="914400" cy="53316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7619760" y="2667240"/>
              <a:ext cx="228600" cy="53316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2520" y="2270160"/>
              <a:ext cx="168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66"/>
                  </a:solidFill>
                  <a:latin typeface="AmeriGarmnd BT"/>
                </a:rPr>
                <a:t>Index block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495680" y="2286000"/>
              <a:ext cx="1371600" cy="457200"/>
            </a:xfrm>
            <a:prstGeom prst="rect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ettrGoth12 BT"/>
                </a:rPr>
                <a:t>200, …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4419720" y="2667240"/>
              <a:ext cx="457200" cy="53316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380880" y="3200400"/>
            <a:ext cx="8382240" cy="1145160"/>
            <a:chOff x="380880" y="3200400"/>
            <a:chExt cx="8382240" cy="1145160"/>
          </a:xfrm>
        </p:grpSpPr>
        <p:sp>
          <p:nvSpPr>
            <p:cNvPr id="247" name=""/>
            <p:cNvSpPr/>
            <p:nvPr/>
          </p:nvSpPr>
          <p:spPr>
            <a:xfrm>
              <a:off x="380880" y="3200400"/>
              <a:ext cx="1143000" cy="685800"/>
            </a:xfrm>
            <a:prstGeom prst="rect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ettrGoth12 BT"/>
                </a:rPr>
                <a:t>100, 108,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LettrGoth12 BT"/>
                </a:rPr>
                <a:t>119, 12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600200" y="3200400"/>
              <a:ext cx="1143000" cy="685800"/>
            </a:xfrm>
            <a:prstGeom prst="rect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ettrGoth12 BT"/>
                </a:rPr>
                <a:t>123, 129,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LettrGoth12 BT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108840" y="3200400"/>
              <a:ext cx="1143000" cy="685800"/>
            </a:xfrm>
            <a:prstGeom prst="rect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ettrGoth12 BT"/>
                </a:rPr>
                <a:t>901, 907,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LettrGoth12 BT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20120" y="3200400"/>
              <a:ext cx="1143000" cy="685800"/>
            </a:xfrm>
            <a:prstGeom prst="rect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ettrGoth12 BT"/>
                </a:rPr>
                <a:t>996, 997,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LettrGoth12 BT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776680" y="3281400"/>
              <a:ext cx="42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640480" y="3281400"/>
              <a:ext cx="42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240680" y="3281400"/>
              <a:ext cx="42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20160" y="3946680"/>
              <a:ext cx="156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66"/>
                  </a:solidFill>
                  <a:latin typeface="AmeriGarmnd BT"/>
                </a:rPr>
                <a:t>Data block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200400" y="3200400"/>
              <a:ext cx="1143000" cy="685800"/>
            </a:xfrm>
            <a:prstGeom prst="rect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ettrGoth12 BT"/>
                </a:rPr>
                <a:t>192, 197,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LettrGoth12 BT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419720" y="3200400"/>
              <a:ext cx="1143000" cy="685800"/>
            </a:xfrm>
            <a:prstGeom prst="rect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ettrGoth12 BT"/>
                </a:rPr>
                <a:t>200, 202,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LettrGoth12 BT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 flipV="1">
            <a:off x="2209680" y="3276360"/>
            <a:ext cx="533520" cy="22860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1AF7-705C-4B3C-B3AA-F2FD0554F2F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FA16EE-B452-4988-A51C-1B2C035CD6F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Note of Cau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AM is an old-fashioned id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+-trees are usually better, as we’ll se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, ISAM is a good place to start to understand the idea of index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sh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on’t brag about being an ISAM expert on your resum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o understand how they work, and tradeoffs with B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tre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5D4F-A2C6-45F9-88CF-90E8A92C460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B5AE2D-3AD8-406C-8246-16E5469851E4}" type="datetime1">
              <a:rPr lang="en-US"/>
              <a:t>07/28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tre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1048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A hierarchy of interv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Balanc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ore or less): good performance guaran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Disk-bas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one node per block; large fan-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117360" y="3078000"/>
            <a:ext cx="8917200" cy="3551040"/>
            <a:chOff x="117360" y="3078000"/>
            <a:chExt cx="8917200" cy="3551040"/>
          </a:xfrm>
        </p:grpSpPr>
        <p:sp>
          <p:nvSpPr>
            <p:cNvPr id="263" name=""/>
            <p:cNvSpPr/>
            <p:nvPr/>
          </p:nvSpPr>
          <p:spPr>
            <a:xfrm>
              <a:off x="119160" y="5663880"/>
              <a:ext cx="1295280" cy="533520"/>
            </a:xfrm>
            <a:prstGeom prst="rect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643040" y="5663880"/>
              <a:ext cx="1295280" cy="533520"/>
            </a:xfrm>
            <a:prstGeom prst="rect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166920" y="5663880"/>
              <a:ext cx="1295640" cy="533520"/>
            </a:xfrm>
            <a:prstGeom prst="rect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691160" y="5663880"/>
              <a:ext cx="1295280" cy="533520"/>
            </a:xfrm>
            <a:prstGeom prst="rect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215040" y="5663880"/>
              <a:ext cx="1295280" cy="533520"/>
            </a:xfrm>
            <a:prstGeom prst="rect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738920" y="5663880"/>
              <a:ext cx="1295640" cy="533520"/>
            </a:xfrm>
            <a:prstGeom prst="rect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957240" y="4292280"/>
              <a:ext cx="1295280" cy="533520"/>
            </a:xfrm>
            <a:prstGeom prst="rect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452920" y="4292280"/>
              <a:ext cx="1295640" cy="533520"/>
            </a:xfrm>
            <a:prstGeom prst="rect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929040" y="3149280"/>
              <a:ext cx="1295280" cy="533520"/>
            </a:xfrm>
            <a:prstGeom prst="rect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10800000">
              <a:off x="117360" y="5799600"/>
              <a:ext cx="54612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ettrGoth12 BT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10800000">
              <a:off x="498240" y="5796360"/>
              <a:ext cx="54612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ettrGoth12 BT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800000">
              <a:off x="879480" y="5704920"/>
              <a:ext cx="546120" cy="4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ettrGoth12 BT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0800000">
              <a:off x="1643040" y="5707080"/>
              <a:ext cx="546120" cy="4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ettrGoth12 BT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0800000">
              <a:off x="2022480" y="5720760"/>
              <a:ext cx="546120" cy="4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ettrGoth12 BT"/>
                </a:rPr>
                <a:t>3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0800000">
              <a:off x="3165480" y="5615640"/>
              <a:ext cx="5461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ettrGoth12 BT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0800000">
              <a:off x="3546360" y="5617080"/>
              <a:ext cx="5461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ettrGoth12 BT"/>
                </a:rPr>
                <a:t>10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0800000">
              <a:off x="3927240" y="5629320"/>
              <a:ext cx="5461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ettrGoth12 BT"/>
                </a:rPr>
                <a:t>1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10800000">
              <a:off x="4689360" y="5613480"/>
              <a:ext cx="5461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ettrGoth12 BT"/>
                </a:rPr>
                <a:t>1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10800000">
              <a:off x="5070240" y="5617080"/>
              <a:ext cx="5461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ettrGoth12 BT"/>
                </a:rPr>
                <a:t>1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230880" y="5617080"/>
              <a:ext cx="5461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ettrGoth12 BT"/>
                </a:rPr>
                <a:t>1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6611760" y="5613480"/>
              <a:ext cx="5461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ettrGoth12 BT"/>
                </a:rPr>
                <a:t>15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10800000">
              <a:off x="6993000" y="5601240"/>
              <a:ext cx="5461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ettrGoth12 BT"/>
                </a:rPr>
                <a:t>17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10800000">
              <a:off x="7753320" y="5613480"/>
              <a:ext cx="5461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ettrGoth12 BT"/>
                </a:rPr>
                <a:t>1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10800000">
              <a:off x="8134200" y="5617080"/>
              <a:ext cx="5461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ettrGoth12 BT"/>
                </a:rPr>
                <a:t>2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10800000">
              <a:off x="960480" y="4351320"/>
              <a:ext cx="546120" cy="4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ettrGoth12 BT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3932280" y="3101040"/>
              <a:ext cx="5461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ettrGoth12 BT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5451480" y="4245480"/>
              <a:ext cx="5461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ettrGoth12 BT"/>
                </a:rPr>
                <a:t>1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10800000">
              <a:off x="5832360" y="4247280"/>
              <a:ext cx="5461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ettrGoth12 BT"/>
                </a:rPr>
                <a:t>1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rot="10800000">
              <a:off x="6213240" y="4247280"/>
              <a:ext cx="5461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ettrGoth12 BT"/>
                </a:rPr>
                <a:t>1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566720" y="3530520"/>
              <a:ext cx="2438640" cy="76176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09920" y="3530520"/>
              <a:ext cx="1752840" cy="76176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728280" y="4673520"/>
              <a:ext cx="304920" cy="99036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338120" y="4673520"/>
              <a:ext cx="990720" cy="99036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3852360" y="4749480"/>
              <a:ext cx="1676520" cy="9144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5300280" y="4749480"/>
              <a:ext cx="609480" cy="9144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291360" y="4749480"/>
              <a:ext cx="533160" cy="9144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72240" y="4749480"/>
              <a:ext cx="1676520" cy="9144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47760" y="6121080"/>
              <a:ext cx="0" cy="4572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28640" y="6121080"/>
              <a:ext cx="0" cy="4572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109520" y="6121080"/>
              <a:ext cx="0" cy="4572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897200" y="6121080"/>
              <a:ext cx="0" cy="4572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278080" y="6121080"/>
              <a:ext cx="0" cy="4572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471840" y="6171840"/>
              <a:ext cx="0" cy="4572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852720" y="6171840"/>
              <a:ext cx="0" cy="4572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233960" y="6171840"/>
              <a:ext cx="0" cy="4572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932360" y="6171840"/>
              <a:ext cx="0" cy="4572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13240" y="6171840"/>
              <a:ext cx="0" cy="4572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519960" y="6159240"/>
              <a:ext cx="0" cy="4572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900840" y="6159240"/>
              <a:ext cx="0" cy="4572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281720" y="6159240"/>
              <a:ext cx="0" cy="4572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043840" y="6171840"/>
              <a:ext cx="0" cy="4572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424720" y="6171840"/>
              <a:ext cx="0" cy="4572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38120" y="5968800"/>
              <a:ext cx="304920" cy="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360" y="5968800"/>
              <a:ext cx="304560" cy="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386240" y="5968800"/>
              <a:ext cx="304920" cy="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910120" y="5968800"/>
              <a:ext cx="304920" cy="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34360" y="5968800"/>
              <a:ext cx="304560" cy="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990040" y="3078000"/>
              <a:ext cx="224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Max fan-out: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9A7B-20B9-4717-B821-A5DBB0B49A1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4D55B4-D6B1-4596-B802-E6353C71765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mple B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tree nod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467680" y="165888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Max fan-out: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720960" y="1654200"/>
            <a:ext cx="762120" cy="38088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797280" y="2035080"/>
            <a:ext cx="129528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0800000">
            <a:off x="3794040" y="200844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rot="10800000">
            <a:off x="4174920" y="198936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4556160" y="198936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2196720" y="2492280"/>
            <a:ext cx="1676520" cy="9144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3644640" y="2492280"/>
            <a:ext cx="609480" cy="9144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635360" y="2492280"/>
            <a:ext cx="533520" cy="9144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016600" y="2492280"/>
            <a:ext cx="1676160" cy="9144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071360" y="3384720"/>
            <a:ext cx="166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meriGarmnd BT"/>
              </a:rPr>
              <a:t>to key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meriGarmnd BT"/>
              </a:rPr>
              <a:t>100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en-US" sz="2000" spc="-1" strike="noStrike">
                <a:solidFill>
                  <a:srgbClr val="000000"/>
                </a:solidFill>
                <a:latin typeface="AmeriGarmnd BT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meriGarmnd BT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meriGarmnd BT"/>
              </a:rPr>
              <a:t> &lt; 1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724120" y="3384720"/>
            <a:ext cx="166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meriGarmnd BT"/>
              </a:rPr>
              <a:t>to key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meriGarmnd BT"/>
              </a:rPr>
              <a:t>120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en-US" sz="2000" spc="-1" strike="noStrike">
                <a:solidFill>
                  <a:srgbClr val="000000"/>
                </a:solidFill>
                <a:latin typeface="AmeriGarmnd BT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meriGarmnd BT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meriGarmnd BT"/>
              </a:rPr>
              <a:t> &lt; 1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430520" y="3384720"/>
            <a:ext cx="166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meriGarmnd BT"/>
              </a:rPr>
              <a:t>to key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meriGarmnd BT"/>
              </a:rPr>
              <a:t>150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en-US" sz="2000" spc="-1" strike="noStrike">
                <a:solidFill>
                  <a:srgbClr val="000000"/>
                </a:solidFill>
                <a:latin typeface="AmeriGarmnd BT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meriGarmnd BT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meriGarmnd BT"/>
              </a:rPr>
              <a:t> &lt; 1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239880" y="3384720"/>
            <a:ext cx="102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meriGarmnd BT"/>
              </a:rPr>
              <a:t>to key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meriGarmnd BT"/>
              </a:rPr>
              <a:t>180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en-US" sz="2000" spc="-1" strike="noStrike">
                <a:solidFill>
                  <a:srgbClr val="000000"/>
                </a:solidFill>
                <a:latin typeface="AmeriGarmnd BT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meriGarmnd BT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279520" y="2081160"/>
            <a:ext cx="14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Non-lea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290680" y="4727520"/>
            <a:ext cx="129564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rot="10800000">
            <a:off x="2287440" y="46774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rot="10800000">
            <a:off x="2668680" y="469332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32240" y="5235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913120" y="5235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510000" y="5032440"/>
            <a:ext cx="304920" cy="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2900520" y="4118040"/>
            <a:ext cx="380880" cy="60948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77680" y="5622840"/>
            <a:ext cx="4208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meriGarmnd BT"/>
              </a:rPr>
              <a:t>to records with these </a:t>
            </a:r>
            <a:r>
              <a:rPr b="0" i="1" lang="en-US" sz="2000" spc="-1" strike="noStrike">
                <a:solidFill>
                  <a:srgbClr val="000000"/>
                </a:solidFill>
                <a:latin typeface="AmeriGarmnd BT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meriGarmnd BT"/>
              </a:rPr>
              <a:t> values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meriGarmnd BT"/>
              </a:rPr>
              <a:t>or, store records directly in lea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435840" y="4843440"/>
            <a:ext cx="369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meriGarmnd BT"/>
              </a:rPr>
              <a:t>to next leaf node in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449720" y="478296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Lea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109320" y="914400"/>
            <a:ext cx="102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meriGarmnd BT"/>
              </a:rPr>
              <a:t>to key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meriGarmnd BT"/>
              </a:rPr>
              <a:t>100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en-US" sz="2000" spc="-1" strike="noStrike">
                <a:solidFill>
                  <a:srgbClr val="000000"/>
                </a:solidFill>
                <a:latin typeface="AmeriGarmnd BT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meriGarmnd BT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D1C6-B6B8-4799-AD3D-3CA8747A4A7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6B3779-1114-4179-AA73-B629243E982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tree balancing propert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 constraint: all leaves at the same lowest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n-out constraint: all nodes at least half ful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xcept roo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#   Max #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 #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 #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pointer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key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active pointer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key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lea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 2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 2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 2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 2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ADD8-3EDD-4D68-80D9-ABEA086BA55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F908A0-F3CF-4C1A-9E21-1B40F6C7BAE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ministra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work 4 will be assigned to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ue April 9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ming part of homework 4 is a team project with team size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 need a volunteer to do the homework alo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, I may create a three-member tea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have office hour from 4:15-5:15pm Thursday (2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nstead of 4:15-5:15pm today. This move is temporary due a schedule conflic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4194-F626-40C4-924B-E4DF58DAC1D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932137-3CBC-4790-8C11-6A4200FAE07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okup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SELECT *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 WHERE </a:t>
            </a:r>
            <a:r>
              <a:rPr b="0" i="1" lang="en-US" sz="2800" spc="-1" strike="noStrike">
                <a:solidFill>
                  <a:srgbClr val="00ff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ff00"/>
                </a:solidFill>
                <a:latin typeface="LettrGoth12 BT"/>
              </a:rPr>
              <a:t> = 179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19160" y="5410080"/>
            <a:ext cx="129528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643040" y="5410080"/>
            <a:ext cx="129528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166920" y="5410080"/>
            <a:ext cx="129564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691160" y="5410080"/>
            <a:ext cx="129528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215040" y="5410080"/>
            <a:ext cx="129528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738920" y="5410080"/>
            <a:ext cx="129564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957240" y="4038480"/>
            <a:ext cx="129528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452920" y="4038480"/>
            <a:ext cx="129564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929040" y="2895480"/>
            <a:ext cx="129528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rot="10800000">
            <a:off x="117360" y="5545800"/>
            <a:ext cx="5461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rot="10800000">
            <a:off x="498240" y="5542560"/>
            <a:ext cx="5461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rot="10800000">
            <a:off x="879480" y="5451120"/>
            <a:ext cx="546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rot="10800000">
            <a:off x="1643040" y="5453280"/>
            <a:ext cx="546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rot="10800000">
            <a:off x="2022480" y="5466960"/>
            <a:ext cx="546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rot="10800000">
            <a:off x="3165480" y="536184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10800000">
            <a:off x="3546360" y="53632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rot="10800000">
            <a:off x="3927240" y="537552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rot="10800000">
            <a:off x="4689360" y="53596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rot="10800000">
            <a:off x="5070240" y="53632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10800000">
            <a:off x="6230880" y="53632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rot="10800000">
            <a:off x="6611760" y="53596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rot="10800000">
            <a:off x="6993000" y="534744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rot="10800000">
            <a:off x="7753320" y="53596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rot="10800000">
            <a:off x="8134200" y="53632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rot="10800000">
            <a:off x="960480" y="4097520"/>
            <a:ext cx="546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rot="10800000">
            <a:off x="3932280" y="284724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rot="10800000">
            <a:off x="5451480" y="39916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rot="10800000">
            <a:off x="5832360" y="39934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rot="10800000">
            <a:off x="6213240" y="39934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1566720" y="3276720"/>
            <a:ext cx="2438640" cy="76176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309920" y="3276720"/>
            <a:ext cx="1752840" cy="76176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728280" y="4419720"/>
            <a:ext cx="304920" cy="99036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338120" y="4419720"/>
            <a:ext cx="990720" cy="99036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3852360" y="4495680"/>
            <a:ext cx="1676520" cy="9144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5300280" y="4495680"/>
            <a:ext cx="609480" cy="9144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91360" y="4495680"/>
            <a:ext cx="533160" cy="9144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672240" y="4495680"/>
            <a:ext cx="1676520" cy="9144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47760" y="58672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28640" y="58672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109520" y="58672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897200" y="58672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278080" y="58672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471840" y="591804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852720" y="591804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233960" y="591804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932360" y="591804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313240" y="591804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519960" y="590544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900840" y="590544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281720" y="590544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043840" y="591804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8424720" y="591804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338120" y="5715000"/>
            <a:ext cx="304920" cy="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862360" y="5715000"/>
            <a:ext cx="304560" cy="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386240" y="5715000"/>
            <a:ext cx="304920" cy="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910120" y="5715000"/>
            <a:ext cx="304920" cy="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434360" y="5715000"/>
            <a:ext cx="304560" cy="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990040" y="282420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Max fan-out: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343400" y="3276720"/>
            <a:ext cx="1752480" cy="761760"/>
          </a:xfrm>
          <a:prstGeom prst="line">
            <a:avLst/>
          </a:prstGeom>
          <a:ln w="63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281640" y="4495680"/>
            <a:ext cx="533520" cy="914400"/>
          </a:xfrm>
          <a:prstGeom prst="line">
            <a:avLst/>
          </a:prstGeom>
          <a:ln w="63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6991200" y="5334840"/>
            <a:ext cx="546120" cy="1023120"/>
            <a:chOff x="6991200" y="5334840"/>
            <a:chExt cx="546120" cy="1023120"/>
          </a:xfrm>
        </p:grpSpPr>
        <p:sp>
          <p:nvSpPr>
            <p:cNvPr id="413" name=""/>
            <p:cNvSpPr/>
            <p:nvPr/>
          </p:nvSpPr>
          <p:spPr>
            <a:xfrm>
              <a:off x="7283520" y="5900760"/>
              <a:ext cx="0" cy="457200"/>
            </a:xfrm>
            <a:prstGeom prst="line">
              <a:avLst/>
            </a:prstGeom>
            <a:ln w="633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rot="10800000">
              <a:off x="6991200" y="5334840"/>
              <a:ext cx="5461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LettrGoth12 BT"/>
                </a:rPr>
                <a:t>17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"/>
          <p:cNvSpPr/>
          <p:nvPr/>
        </p:nvSpPr>
        <p:spPr>
          <a:xfrm flipH="1">
            <a:off x="1544400" y="3276720"/>
            <a:ext cx="2438280" cy="7617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360440" y="4430880"/>
            <a:ext cx="990720" cy="9903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015640" y="4800600"/>
            <a:ext cx="164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meriGarmnd BT"/>
              </a:rPr>
              <a:t>Not 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28600" y="1882800"/>
            <a:ext cx="868680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SELECT *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 WHERE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0000"/>
                </a:solidFill>
                <a:latin typeface="LettrGoth12 BT"/>
              </a:rPr>
              <a:t> = 32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A225-CCEF-469F-B0B2-72B3BCA8846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9A6EFB-650B-488C-98B8-F7A5B58ECA5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nge que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SELECT *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 WHERE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0000"/>
                </a:solidFill>
                <a:latin typeface="LettrGoth12 BT"/>
              </a:rPr>
              <a:t> &gt; 32 AND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0000"/>
                </a:solidFill>
                <a:latin typeface="LettrGoth12 BT"/>
              </a:rPr>
              <a:t> &lt; 179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19160" y="4444920"/>
            <a:ext cx="129528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643040" y="4444920"/>
            <a:ext cx="129528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166920" y="4444920"/>
            <a:ext cx="129564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691160" y="4444920"/>
            <a:ext cx="129528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215040" y="4444920"/>
            <a:ext cx="129528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738920" y="4444920"/>
            <a:ext cx="129564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957240" y="3073320"/>
            <a:ext cx="129528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452920" y="3073320"/>
            <a:ext cx="129564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929040" y="1930320"/>
            <a:ext cx="129528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rot="10800000">
            <a:off x="117360" y="4580640"/>
            <a:ext cx="5461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0800000">
            <a:off x="498240" y="4577400"/>
            <a:ext cx="5461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rot="10800000">
            <a:off x="879480" y="4485960"/>
            <a:ext cx="546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rot="10800000">
            <a:off x="1643040" y="4487400"/>
            <a:ext cx="546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rot="10800000">
            <a:off x="2022480" y="4501800"/>
            <a:ext cx="546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rot="10800000">
            <a:off x="3165480" y="43966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rot="10800000">
            <a:off x="3546360" y="439812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rot="10800000">
            <a:off x="3927240" y="441036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rot="10800000">
            <a:off x="4689360" y="43948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rot="10800000">
            <a:off x="5070240" y="439812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rot="10800000">
            <a:off x="6230880" y="439812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rot="10800000">
            <a:off x="6611760" y="43948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rot="10800000">
            <a:off x="6993000" y="43822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rot="10800000">
            <a:off x="7753320" y="43948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rot="10800000">
            <a:off x="8134200" y="439812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rot="10800000">
            <a:off x="960480" y="3132360"/>
            <a:ext cx="546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rot="10800000">
            <a:off x="3932280" y="18820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rot="10800000">
            <a:off x="5451480" y="302652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rot="10800000">
            <a:off x="5832360" y="302760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rot="10800000">
            <a:off x="6213240" y="302760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1566720" y="2311560"/>
            <a:ext cx="2438640" cy="76176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309920" y="2311560"/>
            <a:ext cx="1752840" cy="76176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728280" y="3454560"/>
            <a:ext cx="304920" cy="99036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338120" y="3454560"/>
            <a:ext cx="990720" cy="99036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3852360" y="3530520"/>
            <a:ext cx="1676520" cy="9144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5300280" y="3530520"/>
            <a:ext cx="609480" cy="9144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291360" y="3530520"/>
            <a:ext cx="533160" cy="9144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672240" y="3530520"/>
            <a:ext cx="1676520" cy="9144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47760" y="490212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28640" y="490212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109520" y="490212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897200" y="490212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278080" y="490212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471840" y="49528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852720" y="49528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233960" y="49528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932360" y="49528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313240" y="49528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519960" y="49402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900840" y="49402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81720" y="49402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8043840" y="49528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424720" y="49528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338120" y="4749840"/>
            <a:ext cx="304920" cy="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862360" y="4749840"/>
            <a:ext cx="304560" cy="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386240" y="4749840"/>
            <a:ext cx="304920" cy="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434360" y="4749840"/>
            <a:ext cx="304560" cy="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990040" y="185904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Max fan-out: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1544400" y="2311560"/>
            <a:ext cx="2438280" cy="7617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360440" y="3465360"/>
            <a:ext cx="990720" cy="99072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168720" y="4433760"/>
            <a:ext cx="129528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692600" y="4433760"/>
            <a:ext cx="129528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911920" y="4735440"/>
            <a:ext cx="304560" cy="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2884320" y="4394880"/>
            <a:ext cx="4267080" cy="1027800"/>
            <a:chOff x="2884320" y="4394880"/>
            <a:chExt cx="4267080" cy="1027800"/>
          </a:xfrm>
        </p:grpSpPr>
        <p:sp>
          <p:nvSpPr>
            <p:cNvPr id="484" name=""/>
            <p:cNvSpPr/>
            <p:nvPr/>
          </p:nvSpPr>
          <p:spPr>
            <a:xfrm>
              <a:off x="2884320" y="4759200"/>
              <a:ext cx="304920" cy="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rot="10800000">
              <a:off x="3159000" y="4395960"/>
              <a:ext cx="5461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LettrGoth12 BT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 rot="10800000">
              <a:off x="3539880" y="4398120"/>
              <a:ext cx="5461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LettrGoth12 BT"/>
                </a:rPr>
                <a:t>10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rot="10800000">
              <a:off x="3921120" y="4410720"/>
              <a:ext cx="5461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LettrGoth12 BT"/>
                </a:rPr>
                <a:t>1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rot="10800000">
              <a:off x="4682880" y="4394880"/>
              <a:ext cx="5461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LettrGoth12 BT"/>
                </a:rPr>
                <a:t>1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10800000">
              <a:off x="5064120" y="4398120"/>
              <a:ext cx="5461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LettrGoth12 BT"/>
                </a:rPr>
                <a:t>1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10800000">
              <a:off x="6224400" y="4398120"/>
              <a:ext cx="5461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LettrGoth12 BT"/>
                </a:rPr>
                <a:t>1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rot="10800000">
              <a:off x="6605280" y="4394880"/>
              <a:ext cx="5461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LettrGoth12 BT"/>
                </a:rPr>
                <a:t>15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410000" y="4748040"/>
              <a:ext cx="304920" cy="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933880" y="4748040"/>
              <a:ext cx="304920" cy="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451320" y="4965480"/>
              <a:ext cx="0" cy="45720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852720" y="4965480"/>
              <a:ext cx="0" cy="45720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233960" y="4965480"/>
              <a:ext cx="0" cy="45720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941720" y="4965480"/>
              <a:ext cx="0" cy="45720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311800" y="4965480"/>
              <a:ext cx="0" cy="45720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499080" y="4965480"/>
              <a:ext cx="0" cy="45720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900840" y="4965480"/>
              <a:ext cx="0" cy="45720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2199600" y="3594240"/>
            <a:ext cx="20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meriGarmnd BT"/>
              </a:rPr>
              <a:t>Look up </a:t>
            </a:r>
            <a:r>
              <a:rPr b="0" lang="en-US" sz="2400" spc="-1" strike="noStrike">
                <a:solidFill>
                  <a:srgbClr val="ff0000"/>
                </a:solidFill>
                <a:latin typeface="LettrGoth12 BT"/>
              </a:rPr>
              <a:t>32</a:t>
            </a:r>
            <a:r>
              <a:rPr b="0" lang="en-US" sz="2400" spc="-1" strike="noStrike">
                <a:solidFill>
                  <a:srgbClr val="ff0000"/>
                </a:solidFill>
                <a:latin typeface="AmeriGarmnd BT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305720" y="5486400"/>
            <a:ext cx="431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meriGarmnd BT"/>
              </a:rPr>
              <a:t>And follow next-leaf poi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2027160" y="4500720"/>
            <a:ext cx="546120" cy="898200"/>
            <a:chOff x="2027160" y="4500720"/>
            <a:chExt cx="546120" cy="898200"/>
          </a:xfrm>
        </p:grpSpPr>
        <p:sp>
          <p:nvSpPr>
            <p:cNvPr id="504" name=""/>
            <p:cNvSpPr/>
            <p:nvPr/>
          </p:nvSpPr>
          <p:spPr>
            <a:xfrm rot="10800000">
              <a:off x="2027160" y="4500720"/>
              <a:ext cx="546120" cy="4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LettrGoth12 BT"/>
                </a:rPr>
                <a:t>3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274840" y="4941720"/>
              <a:ext cx="0" cy="45720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63D7-5644-44E0-9E96-82F886FD716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12E61C-83C1-4F9D-AED4-6EBA5462B28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er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a record with search key value 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19160" y="4673520"/>
            <a:ext cx="129528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643040" y="4673520"/>
            <a:ext cx="129528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166920" y="4673520"/>
            <a:ext cx="129564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691160" y="4673520"/>
            <a:ext cx="129528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215040" y="4673520"/>
            <a:ext cx="129528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738920" y="4673520"/>
            <a:ext cx="129564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957240" y="3301920"/>
            <a:ext cx="129528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452920" y="3301920"/>
            <a:ext cx="129564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929040" y="2158920"/>
            <a:ext cx="129528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rot="10800000">
            <a:off x="117360" y="4809240"/>
            <a:ext cx="5461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rot="10800000">
            <a:off x="498240" y="4806000"/>
            <a:ext cx="5461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rot="10800000">
            <a:off x="879480" y="4714560"/>
            <a:ext cx="546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rot="10800000">
            <a:off x="1643040" y="4716000"/>
            <a:ext cx="546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rot="10800000">
            <a:off x="2022480" y="4730400"/>
            <a:ext cx="546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rot="10800000">
            <a:off x="3165480" y="46252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rot="10800000">
            <a:off x="3546360" y="462672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rot="10800000">
            <a:off x="3927240" y="463896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rot="10800000">
            <a:off x="4689360" y="46234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rot="10800000">
            <a:off x="5070240" y="462672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rot="10800000">
            <a:off x="6230880" y="462672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rot="10800000">
            <a:off x="6611760" y="46234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rot="10800000">
            <a:off x="6993000" y="46108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rot="10800000">
            <a:off x="7753320" y="46234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rot="10800000">
            <a:off x="8134200" y="462672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rot="10800000">
            <a:off x="960480" y="3360960"/>
            <a:ext cx="546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rot="10800000">
            <a:off x="3932280" y="21106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rot="10800000">
            <a:off x="5451480" y="325512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rot="10800000">
            <a:off x="5832360" y="325620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rot="10800000">
            <a:off x="6213240" y="325620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1566720" y="2540160"/>
            <a:ext cx="2438640" cy="76176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309920" y="2540160"/>
            <a:ext cx="1752840" cy="76176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728280" y="3683160"/>
            <a:ext cx="304920" cy="99036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338120" y="3683160"/>
            <a:ext cx="990720" cy="99036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3852360" y="3759120"/>
            <a:ext cx="1676520" cy="9144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5300280" y="3759120"/>
            <a:ext cx="609480" cy="9144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291360" y="3759120"/>
            <a:ext cx="533160" cy="9144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672240" y="3759120"/>
            <a:ext cx="1676520" cy="9144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47760" y="513072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28640" y="513072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109520" y="513072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897200" y="513072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278080" y="513072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47184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85272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23396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93236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31324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519960" y="51688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900840" y="51688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281720" y="51688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804384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842472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338120" y="4978440"/>
            <a:ext cx="304920" cy="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862360" y="4978440"/>
            <a:ext cx="304560" cy="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386240" y="4978440"/>
            <a:ext cx="304920" cy="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910120" y="4978440"/>
            <a:ext cx="304920" cy="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434360" y="4978440"/>
            <a:ext cx="304560" cy="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990040" y="208764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Max fan-out: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1544400" y="2540160"/>
            <a:ext cx="2438280" cy="7617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360440" y="3693960"/>
            <a:ext cx="990720" cy="99072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034720" y="3429000"/>
            <a:ext cx="285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meriGarmnd BT"/>
              </a:rPr>
              <a:t>Look up where the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meriGarmnd BT"/>
              </a:rPr>
              <a:t>inserted key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meriGarmnd BT"/>
              </a:rPr>
              <a:t>should g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1832040" y="4536720"/>
            <a:ext cx="546120" cy="873360"/>
            <a:chOff x="1832040" y="4536720"/>
            <a:chExt cx="546120" cy="873360"/>
          </a:xfrm>
        </p:grpSpPr>
        <p:sp>
          <p:nvSpPr>
            <p:cNvPr id="570" name=""/>
            <p:cNvSpPr/>
            <p:nvPr/>
          </p:nvSpPr>
          <p:spPr>
            <a:xfrm rot="10800000">
              <a:off x="1832040" y="4536720"/>
              <a:ext cx="546120" cy="4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LettrGoth12 BT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082960" y="4952880"/>
              <a:ext cx="0" cy="45720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"/>
          <p:cNvSpPr/>
          <p:nvPr/>
        </p:nvSpPr>
        <p:spPr>
          <a:xfrm>
            <a:off x="782280" y="5715000"/>
            <a:ext cx="354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meriGarmnd BT"/>
              </a:rPr>
              <a:t>And insert it right t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41A5-FB30-47BC-8375-0DF4FBE4772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7CA6FD-4FA0-4781-A2D0-687A4363948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ther insertion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a record with search key value 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15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895480" y="4673520"/>
            <a:ext cx="129564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419720" y="4673520"/>
            <a:ext cx="129528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943600" y="4673520"/>
            <a:ext cx="129528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467480" y="4673520"/>
            <a:ext cx="129564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301920"/>
            <a:ext cx="129564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657600" y="2158920"/>
            <a:ext cx="129528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rot="10800000">
            <a:off x="2894040" y="46252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rot="10800000">
            <a:off x="3274920" y="462672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rot="10800000">
            <a:off x="3655800" y="463896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rot="10800000">
            <a:off x="4417920" y="46234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rot="10800000">
            <a:off x="4798800" y="462672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rot="10800000">
            <a:off x="5959440" y="462672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rot="10800000">
            <a:off x="6340320" y="46234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rot="10800000">
            <a:off x="6721560" y="46108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rot="10800000">
            <a:off x="7481880" y="46234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rot="10800000">
            <a:off x="7862760" y="462672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 rot="10800000">
            <a:off x="3660840" y="21106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rot="10800000">
            <a:off x="5180040" y="325512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rot="10800000">
            <a:off x="5560920" y="325620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rot="10800000">
            <a:off x="5941800" y="325620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1295280" y="2540160"/>
            <a:ext cx="2438640" cy="76176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038480" y="2540160"/>
            <a:ext cx="1752840" cy="76176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580920" y="3759120"/>
            <a:ext cx="1676520" cy="9144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5028840" y="3759120"/>
            <a:ext cx="609480" cy="9144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019920" y="3759120"/>
            <a:ext cx="533160" cy="9144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400800" y="3759120"/>
            <a:ext cx="1676520" cy="9144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20040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58128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96252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66092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04180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248520" y="51688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629400" y="51688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7010280" y="51688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777240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815328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590920" y="4978440"/>
            <a:ext cx="304560" cy="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114800" y="4978440"/>
            <a:ext cx="304920" cy="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638680" y="4978440"/>
            <a:ext cx="304920" cy="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162920" y="4978440"/>
            <a:ext cx="304560" cy="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718600" y="208764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Max fan-out: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083120" y="2557440"/>
            <a:ext cx="1752480" cy="762120"/>
          </a:xfrm>
          <a:prstGeom prst="line">
            <a:avLst/>
          </a:prstGeom>
          <a:ln w="63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19920" y="3776760"/>
            <a:ext cx="533160" cy="914400"/>
          </a:xfrm>
          <a:prstGeom prst="line">
            <a:avLst/>
          </a:prstGeom>
          <a:ln w="63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6132600" y="4409280"/>
            <a:ext cx="546120" cy="1000800"/>
            <a:chOff x="6132600" y="4409280"/>
            <a:chExt cx="546120" cy="1000800"/>
          </a:xfrm>
        </p:grpSpPr>
        <p:sp>
          <p:nvSpPr>
            <p:cNvPr id="619" name=""/>
            <p:cNvSpPr/>
            <p:nvPr/>
          </p:nvSpPr>
          <p:spPr>
            <a:xfrm rot="10800000">
              <a:off x="6132600" y="4409280"/>
              <a:ext cx="5461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LettrGoth12 BT"/>
                </a:rPr>
                <a:t>15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418440" y="4952880"/>
              <a:ext cx="0" cy="457200"/>
            </a:xfrm>
            <a:prstGeom prst="line">
              <a:avLst/>
            </a:prstGeom>
            <a:ln w="633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571640" y="5761080"/>
            <a:ext cx="389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meriGarmnd BT"/>
              </a:rPr>
              <a:t>Oops, node is already ful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21E1-5BBE-4E60-BB5B-86AD4F92999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E19566-22EE-48E3-84A2-6BBDF78A596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de split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895480" y="4673520"/>
            <a:ext cx="129564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419720" y="4673520"/>
            <a:ext cx="129528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943600" y="4673520"/>
            <a:ext cx="129528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467480" y="4673520"/>
            <a:ext cx="129564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181480" y="3301920"/>
            <a:ext cx="129564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657600" y="2158920"/>
            <a:ext cx="129528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rot="10800000">
            <a:off x="2892240" y="46234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rot="10800000">
            <a:off x="3273480" y="46252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rot="10800000">
            <a:off x="4416480" y="462204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rot="10800000">
            <a:off x="4802040" y="46252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LettrGoth12 BT"/>
              </a:rPr>
              <a:t>1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rot="10800000">
            <a:off x="5957640" y="46252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rot="10800000">
            <a:off x="6338880" y="462204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 rot="10800000">
            <a:off x="7481880" y="46234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rot="10800000">
            <a:off x="7862760" y="462672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rot="10800000">
            <a:off x="3660840" y="21106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rot="10800000">
            <a:off x="5180040" y="325512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 rot="10800000">
            <a:off x="5560920" y="325620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rot="10800000">
            <a:off x="5941800" y="325620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1295280" y="2540160"/>
            <a:ext cx="2438640" cy="76176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038480" y="2540160"/>
            <a:ext cx="1752840" cy="76176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1981080" y="3770280"/>
            <a:ext cx="3276720" cy="889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flipH="1">
            <a:off x="3580920" y="3770280"/>
            <a:ext cx="2057400" cy="889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400800" y="3759120"/>
            <a:ext cx="1676520" cy="9144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20040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58128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66092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6248520" y="51688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629400" y="51688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777240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815328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590920" y="4978440"/>
            <a:ext cx="304560" cy="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114800" y="4978440"/>
            <a:ext cx="304920" cy="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638680" y="4978440"/>
            <a:ext cx="304920" cy="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7162920" y="4978440"/>
            <a:ext cx="304560" cy="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5718600" y="208764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Max fan-out: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083200" y="5181480"/>
            <a:ext cx="0" cy="457200"/>
          </a:xfrm>
          <a:prstGeom prst="line">
            <a:avLst/>
          </a:prstGeom>
          <a:ln w="63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338880" y="2759040"/>
            <a:ext cx="271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meriGarmnd BT"/>
              </a:rPr>
              <a:t>Yikes, this node is</a:t>
            </a:r>
            <a:br>
              <a:rPr sz="2400"/>
            </a:br>
            <a:r>
              <a:rPr b="0" lang="en-US" sz="2400" spc="-1" strike="noStrike">
                <a:solidFill>
                  <a:srgbClr val="00ff00"/>
                </a:solidFill>
                <a:latin typeface="AmeriGarmnd BT"/>
              </a:rPr>
              <a:t>also already ful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295280" y="4673520"/>
            <a:ext cx="129564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rot="10800000">
            <a:off x="1293840" y="46252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rot="10800000">
            <a:off x="1674720" y="462672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rot="10800000">
            <a:off x="2055600" y="463896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60020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98108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36232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990720" y="4978440"/>
            <a:ext cx="304560" cy="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5029200" y="3778200"/>
            <a:ext cx="990720" cy="88128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5699160" y="3534480"/>
            <a:ext cx="853920" cy="1113840"/>
            <a:chOff x="5699160" y="3534480"/>
            <a:chExt cx="853920" cy="1113840"/>
          </a:xfrm>
        </p:grpSpPr>
        <p:sp>
          <p:nvSpPr>
            <p:cNvPr id="670" name=""/>
            <p:cNvSpPr/>
            <p:nvPr/>
          </p:nvSpPr>
          <p:spPr>
            <a:xfrm>
              <a:off x="6095880" y="3886200"/>
              <a:ext cx="457200" cy="762120"/>
            </a:xfrm>
            <a:prstGeom prst="line">
              <a:avLst/>
            </a:prstGeom>
            <a:ln w="633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rot="10800000">
              <a:off x="5699160" y="3534480"/>
              <a:ext cx="5461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LettrGoth12 BT"/>
                </a:rPr>
                <a:t>15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DB02-CA23-467E-9C57-8DD42737099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55B2F4-18B6-4FB4-BB89-335DA30E784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re node split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228600" y="548640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he worst case, node splitting can “propagate” all the way up to the root of the tree (not illustrated he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litting the root introduces a new root of fan-out 2 and causes the tree to grow “up” by o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895480" y="4673520"/>
            <a:ext cx="129564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419720" y="4673520"/>
            <a:ext cx="129528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5943600" y="4673520"/>
            <a:ext cx="129528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7467480" y="4673520"/>
            <a:ext cx="129564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5181480" y="3301920"/>
            <a:ext cx="129564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657600" y="2158920"/>
            <a:ext cx="129528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 rot="10800000">
            <a:off x="2892240" y="46234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 rot="10800000">
            <a:off x="3273480" y="46252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rot="10800000">
            <a:off x="4416480" y="462204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 rot="10800000">
            <a:off x="4802040" y="46252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LettrGoth12 BT"/>
              </a:rPr>
              <a:t>1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rot="10800000">
            <a:off x="5957640" y="46252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rot="10800000">
            <a:off x="6338880" y="462204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rot="10800000">
            <a:off x="7481880" y="46234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rot="10800000">
            <a:off x="7862760" y="462672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rot="10800000">
            <a:off x="3660840" y="21106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rot="10800000">
            <a:off x="5178240" y="32536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1295280" y="2540160"/>
            <a:ext cx="2438640" cy="76176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 flipH="1">
            <a:off x="3581280" y="2602080"/>
            <a:ext cx="533520" cy="6858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1981080" y="3809880"/>
            <a:ext cx="990720" cy="8496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352680" y="3809880"/>
            <a:ext cx="228600" cy="8496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733920" y="3809880"/>
            <a:ext cx="1295280" cy="87156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5638680" y="3809880"/>
            <a:ext cx="2438640" cy="86364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20040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58128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66092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248520" y="51688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629400" y="51688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777240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815328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590920" y="4978440"/>
            <a:ext cx="304560" cy="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114800" y="4978440"/>
            <a:ext cx="304920" cy="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638680" y="4978440"/>
            <a:ext cx="304920" cy="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7162920" y="4978440"/>
            <a:ext cx="304560" cy="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5718600" y="208764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Max fan-out: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5083200" y="5181480"/>
            <a:ext cx="0" cy="457200"/>
          </a:xfrm>
          <a:prstGeom prst="line">
            <a:avLst/>
          </a:prstGeom>
          <a:ln w="63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295280" y="4673520"/>
            <a:ext cx="129564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 rot="10800000">
            <a:off x="1293840" y="46252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rot="10800000">
            <a:off x="1674720" y="462672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rot="10800000">
            <a:off x="2055600" y="463896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60020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98108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236232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990720" y="4978440"/>
            <a:ext cx="304560" cy="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3809880"/>
            <a:ext cx="1252440" cy="881280"/>
          </a:xfrm>
          <a:prstGeom prst="line">
            <a:avLst/>
          </a:prstGeom>
          <a:ln w="63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897280" y="3309840"/>
            <a:ext cx="129528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rot="10800000">
            <a:off x="2895480" y="326304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 rot="10800000">
            <a:off x="3276360" y="326412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rot="10800000">
            <a:off x="4038480" y="21088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LettrGoth12 BT"/>
              </a:rPr>
              <a:t>1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4484520" y="2624040"/>
            <a:ext cx="1371600" cy="685800"/>
          </a:xfrm>
          <a:prstGeom prst="line">
            <a:avLst/>
          </a:prstGeom>
          <a:ln w="63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97FB-1106-49BA-9FD8-799F64EA001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EFB85F-0249-4771-90D0-5FBEA546BC7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le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e a record with search key value 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1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895480" y="4673520"/>
            <a:ext cx="129564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419720" y="4673520"/>
            <a:ext cx="129528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943600" y="4673520"/>
            <a:ext cx="129528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7467480" y="4673520"/>
            <a:ext cx="129564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181480" y="3301920"/>
            <a:ext cx="129564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657600" y="2158920"/>
            <a:ext cx="129528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 rot="10800000">
            <a:off x="2894040" y="46252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 rot="10800000">
            <a:off x="3274920" y="462672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rot="10800000">
            <a:off x="3655800" y="463896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 rot="10800000">
            <a:off x="4417920" y="46234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 rot="10800000">
            <a:off x="4798800" y="462672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 rot="10800000">
            <a:off x="5959440" y="462672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 rot="10800000">
            <a:off x="6340320" y="46234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 rot="10800000">
            <a:off x="6721560" y="46108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rot="10800000">
            <a:off x="7481880" y="46234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 rot="10800000">
            <a:off x="7862760" y="462672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rot="10800000">
            <a:off x="3660840" y="21106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rot="10800000">
            <a:off x="5180040" y="325512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rot="10800000">
            <a:off x="5560920" y="325620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 rot="10800000">
            <a:off x="5941800" y="325620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flipH="1">
            <a:off x="1295280" y="2540160"/>
            <a:ext cx="2438640" cy="76176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038480" y="2540160"/>
            <a:ext cx="1752840" cy="76176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H="1">
            <a:off x="3580920" y="3759120"/>
            <a:ext cx="1676520" cy="9144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>
            <a:off x="5028840" y="3759120"/>
            <a:ext cx="609480" cy="9144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6019920" y="3759120"/>
            <a:ext cx="533160" cy="9144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6400800" y="3759120"/>
            <a:ext cx="1676520" cy="9144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320040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358128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396252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66092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04180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248520" y="51688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6629400" y="51688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7010280" y="51688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777240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815328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2590920" y="4978440"/>
            <a:ext cx="304560" cy="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4114800" y="4978440"/>
            <a:ext cx="304920" cy="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638680" y="4978440"/>
            <a:ext cx="304920" cy="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7162920" y="4978440"/>
            <a:ext cx="304560" cy="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718600" y="208764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Max fan-out: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4083120" y="2557440"/>
            <a:ext cx="1752480" cy="762120"/>
          </a:xfrm>
          <a:prstGeom prst="line">
            <a:avLst/>
          </a:prstGeom>
          <a:ln w="63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 flipH="1">
            <a:off x="5028840" y="3733920"/>
            <a:ext cx="609480" cy="958680"/>
          </a:xfrm>
          <a:prstGeom prst="line">
            <a:avLst/>
          </a:prstGeom>
          <a:ln w="63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4876920" y="4724280"/>
            <a:ext cx="380880" cy="838440"/>
            <a:chOff x="4876920" y="4724280"/>
            <a:chExt cx="380880" cy="838440"/>
          </a:xfrm>
        </p:grpSpPr>
        <p:sp>
          <p:nvSpPr>
            <p:cNvPr id="769" name=""/>
            <p:cNvSpPr/>
            <p:nvPr/>
          </p:nvSpPr>
          <p:spPr>
            <a:xfrm>
              <a:off x="4876920" y="4724280"/>
              <a:ext cx="380880" cy="838440"/>
            </a:xfrm>
            <a:prstGeom prst="line">
              <a:avLst/>
            </a:prstGeom>
            <a:ln w="63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>
              <a:off x="4876920" y="4724280"/>
              <a:ext cx="380880" cy="838440"/>
            </a:xfrm>
            <a:prstGeom prst="line">
              <a:avLst/>
            </a:prstGeom>
            <a:ln w="63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1" name=""/>
          <p:cNvSpPr/>
          <p:nvPr/>
        </p:nvSpPr>
        <p:spPr>
          <a:xfrm>
            <a:off x="2103480" y="3444840"/>
            <a:ext cx="24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meriGarmnd BT"/>
              </a:rPr>
              <a:t>Look up the key</a:t>
            </a:r>
            <a:br>
              <a:rPr sz="2400"/>
            </a:br>
            <a:r>
              <a:rPr b="0" lang="en-US" sz="2400" spc="-1" strike="noStrike">
                <a:solidFill>
                  <a:srgbClr val="00ff00"/>
                </a:solidFill>
                <a:latin typeface="AmeriGarmnd BT"/>
              </a:rPr>
              <a:t>to be delete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3740040" y="5638680"/>
            <a:ext cx="19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meriGarmnd BT"/>
              </a:rPr>
              <a:t>And delete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4700160" y="6019920"/>
            <a:ext cx="37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meriGarmnd BT"/>
              </a:rPr>
              <a:t>Oops, node is too empt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4" name=""/>
          <p:cNvGrpSpPr/>
          <p:nvPr/>
        </p:nvGrpSpPr>
        <p:grpSpPr>
          <a:xfrm>
            <a:off x="5334120" y="2743200"/>
            <a:ext cx="4090320" cy="1905120"/>
            <a:chOff x="5334120" y="2743200"/>
            <a:chExt cx="4090320" cy="1905120"/>
          </a:xfrm>
        </p:grpSpPr>
        <p:sp>
          <p:nvSpPr>
            <p:cNvPr id="775" name=""/>
            <p:cNvSpPr/>
            <p:nvPr/>
          </p:nvSpPr>
          <p:spPr>
            <a:xfrm>
              <a:off x="6325200" y="2743200"/>
              <a:ext cx="3099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meriGarmnd BT"/>
                </a:rPr>
                <a:t>If a sibling has more</a:t>
              </a:r>
              <a:br>
                <a:rPr sz="2400"/>
              </a:br>
              <a:r>
                <a:rPr b="0" lang="en-US" sz="2400" spc="-1" strike="noStrike">
                  <a:solidFill>
                    <a:srgbClr val="ff0000"/>
                  </a:solidFill>
                  <a:latin typeface="AmeriGarmnd BT"/>
                </a:rPr>
                <a:t>than enough keys,</a:t>
              </a:r>
              <a:br>
                <a:rPr sz="2400"/>
              </a:br>
              <a:r>
                <a:rPr b="0" lang="en-US" sz="2400" spc="-1" strike="noStrike">
                  <a:solidFill>
                    <a:srgbClr val="ff0000"/>
                  </a:solidFill>
                  <a:latin typeface="AmeriGarmnd BT"/>
                </a:rPr>
                <a:t>steal one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334120" y="4419720"/>
              <a:ext cx="914400" cy="228600"/>
            </a:xfrm>
            <a:custGeom>
              <a:avLst/>
              <a:gdLst/>
              <a:ahLst/>
              <a:rect l="l" t="t" r="r" b="b"/>
              <a:pathLst>
                <a:path w="576" h="144">
                  <a:moveTo>
                    <a:pt x="576" y="144"/>
                  </a:moveTo>
                  <a:cubicBezTo>
                    <a:pt x="480" y="72"/>
                    <a:pt x="384" y="0"/>
                    <a:pt x="288" y="0"/>
                  </a:cubicBez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4147-822D-4513-8DDD-34F530A167D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9C676B-47EE-4D9F-AB9E-E8658899863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aling from a sibl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2895480" y="4673520"/>
            <a:ext cx="129564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4419720" y="4673520"/>
            <a:ext cx="129528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943600" y="4673520"/>
            <a:ext cx="129528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7467480" y="4673520"/>
            <a:ext cx="129564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181480" y="3301920"/>
            <a:ext cx="129564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657600" y="2158920"/>
            <a:ext cx="129528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rot="10800000">
            <a:off x="2894040" y="46252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rot="10800000">
            <a:off x="3274920" y="462672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 rot="10800000">
            <a:off x="3655800" y="463896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 rot="10800000">
            <a:off x="4417920" y="46234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 rot="10800000">
            <a:off x="4800600" y="46234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ettrGoth12 BT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rot="10800000">
            <a:off x="5957640" y="46252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 rot="10800000">
            <a:off x="6338880" y="462204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 rot="10800000">
            <a:off x="7481880" y="46234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rot="10800000">
            <a:off x="7862760" y="462672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rot="10800000">
            <a:off x="3660840" y="21106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 rot="10800000">
            <a:off x="5180040" y="325512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rot="10800000">
            <a:off x="5560920" y="325620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rot="10800000">
            <a:off x="5941800" y="325620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flipH="1">
            <a:off x="1295280" y="2540160"/>
            <a:ext cx="2438640" cy="76176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4038480" y="2540160"/>
            <a:ext cx="1752840" cy="76176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 flipH="1">
            <a:off x="3580920" y="3759120"/>
            <a:ext cx="1676520" cy="9144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 flipH="1">
            <a:off x="5028840" y="3759120"/>
            <a:ext cx="609480" cy="9144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6019920" y="3759120"/>
            <a:ext cx="533160" cy="9144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6400800" y="3759120"/>
            <a:ext cx="1676520" cy="9144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20040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58128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96252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466092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5041800" y="5181480"/>
            <a:ext cx="0" cy="4572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6248520" y="51688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629400" y="51688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777240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815328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590920" y="4978440"/>
            <a:ext cx="304560" cy="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114800" y="4978440"/>
            <a:ext cx="304920" cy="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5638680" y="4978440"/>
            <a:ext cx="304920" cy="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7162920" y="4978440"/>
            <a:ext cx="304560" cy="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718600" y="208764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Max fan-out: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5565600" y="2694240"/>
            <a:ext cx="546120" cy="1191960"/>
            <a:chOff x="5565600" y="2694240"/>
            <a:chExt cx="546120" cy="1191960"/>
          </a:xfrm>
        </p:grpSpPr>
        <p:sp>
          <p:nvSpPr>
            <p:cNvPr id="818" name=""/>
            <p:cNvSpPr/>
            <p:nvPr/>
          </p:nvSpPr>
          <p:spPr>
            <a:xfrm flipH="1">
              <a:off x="5638320" y="3276720"/>
              <a:ext cx="381240" cy="60948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 rot="10800000">
              <a:off x="5565600" y="2694240"/>
              <a:ext cx="5461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LettrGoth12 BT"/>
                </a:rPr>
                <a:t>15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0" name=""/>
          <p:cNvSpPr/>
          <p:nvPr/>
        </p:nvSpPr>
        <p:spPr>
          <a:xfrm>
            <a:off x="1027800" y="3156120"/>
            <a:ext cx="443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meriGarmnd BT"/>
              </a:rPr>
              <a:t>Remember to fix the key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meriGarmnd BT"/>
              </a:rPr>
              <a:t>in the least common ance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C407-1531-4B83-910D-B09DE7014D3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94A106-6E1E-47A7-AFCF-FD7D242D595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ther deletion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e a record with search key value 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17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895480" y="4673520"/>
            <a:ext cx="129564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4419720" y="4673520"/>
            <a:ext cx="129528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5943600" y="4673520"/>
            <a:ext cx="129528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7467480" y="4673520"/>
            <a:ext cx="129564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181480" y="3301920"/>
            <a:ext cx="129564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657600" y="2158920"/>
            <a:ext cx="129528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 rot="10800000">
            <a:off x="2894040" y="46252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 rot="10800000">
            <a:off x="3274920" y="462672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 rot="10800000">
            <a:off x="3655800" y="463896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 rot="10800000">
            <a:off x="4417920" y="46234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 rot="10800000">
            <a:off x="4794120" y="462204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 rot="10800000">
            <a:off x="5957640" y="46252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rot="10800000">
            <a:off x="6338880" y="462204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 rot="10800000">
            <a:off x="7481880" y="46234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 rot="10800000">
            <a:off x="7862760" y="462672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 rot="10800000">
            <a:off x="3660840" y="21106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 rot="10800000">
            <a:off x="5180040" y="325512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 rot="10800000">
            <a:off x="5559480" y="325512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rot="10800000">
            <a:off x="5941800" y="325620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1295280" y="2540160"/>
            <a:ext cx="2438640" cy="76176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4038480" y="2540160"/>
            <a:ext cx="1752840" cy="76176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flipH="1">
            <a:off x="3580920" y="3759120"/>
            <a:ext cx="1676520" cy="9144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 flipH="1">
            <a:off x="5028840" y="3759120"/>
            <a:ext cx="609480" cy="9144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6019920" y="3759120"/>
            <a:ext cx="533160" cy="9144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6400800" y="3759120"/>
            <a:ext cx="1676520" cy="9144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20040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358128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96252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466092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504180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6248520" y="51688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6629400" y="51688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77240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815328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2590920" y="4978440"/>
            <a:ext cx="304560" cy="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4114800" y="4978440"/>
            <a:ext cx="304920" cy="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5638680" y="4978440"/>
            <a:ext cx="304920" cy="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7162920" y="4978440"/>
            <a:ext cx="304560" cy="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5718600" y="208764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Max fan-out: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2" name=""/>
          <p:cNvGrpSpPr/>
          <p:nvPr/>
        </p:nvGrpSpPr>
        <p:grpSpPr>
          <a:xfrm>
            <a:off x="6400800" y="4724280"/>
            <a:ext cx="380880" cy="838440"/>
            <a:chOff x="6400800" y="4724280"/>
            <a:chExt cx="380880" cy="838440"/>
          </a:xfrm>
        </p:grpSpPr>
        <p:sp>
          <p:nvSpPr>
            <p:cNvPr id="863" name=""/>
            <p:cNvSpPr/>
            <p:nvPr/>
          </p:nvSpPr>
          <p:spPr>
            <a:xfrm>
              <a:off x="6400800" y="4724280"/>
              <a:ext cx="380880" cy="838440"/>
            </a:xfrm>
            <a:prstGeom prst="line">
              <a:avLst/>
            </a:prstGeom>
            <a:ln w="63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>
              <a:off x="6400800" y="4724280"/>
              <a:ext cx="380880" cy="838440"/>
            </a:xfrm>
            <a:prstGeom prst="line">
              <a:avLst/>
            </a:prstGeom>
            <a:ln w="63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5" name=""/>
          <p:cNvSpPr/>
          <p:nvPr/>
        </p:nvSpPr>
        <p:spPr>
          <a:xfrm>
            <a:off x="4596120" y="5715000"/>
            <a:ext cx="39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meriGarmnd BT"/>
              </a:rPr>
              <a:t>Cannot steal from sibl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4010760" y="6095880"/>
            <a:ext cx="545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meriGarmnd BT"/>
              </a:rPr>
              <a:t>Then coalesce (merge) with a sibl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BFB4-B9F4-404A-9244-1A2EC8A6CFE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AEC9F0-30E1-4983-9223-0D5AA2196E4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alesc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2895480" y="4673520"/>
            <a:ext cx="129564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4419720" y="4673520"/>
            <a:ext cx="129528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5181480" y="3301920"/>
            <a:ext cx="129564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3657600" y="2158920"/>
            <a:ext cx="129528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 rot="10800000">
            <a:off x="2894040" y="46252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 rot="10800000">
            <a:off x="3274920" y="462672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 rot="10800000">
            <a:off x="3655800" y="463896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rot="10800000">
            <a:off x="4417920" y="46234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 rot="10800000">
            <a:off x="4794120" y="462204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 rot="10800000">
            <a:off x="3660840" y="21106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 rot="10800000">
            <a:off x="5180040" y="325512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 rot="10800000">
            <a:off x="5559480" y="325512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rot="10800000">
            <a:off x="5941800" y="325620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 flipH="1">
            <a:off x="1295280" y="2540160"/>
            <a:ext cx="2438640" cy="76176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4038480" y="2540160"/>
            <a:ext cx="1752840" cy="76176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 flipH="1">
            <a:off x="3580920" y="3759120"/>
            <a:ext cx="1676520" cy="9144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 flipH="1">
            <a:off x="5028840" y="3759120"/>
            <a:ext cx="609480" cy="9144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6019920" y="3759120"/>
            <a:ext cx="533160" cy="9144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6400800" y="3759120"/>
            <a:ext cx="1676520" cy="9144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320040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358128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396252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466092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504180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2590920" y="4978440"/>
            <a:ext cx="304560" cy="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4114800" y="4978440"/>
            <a:ext cx="304920" cy="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5718600" y="208764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Max fan-out: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5" name=""/>
          <p:cNvGrpSpPr/>
          <p:nvPr/>
        </p:nvGrpSpPr>
        <p:grpSpPr>
          <a:xfrm>
            <a:off x="1269720" y="3124080"/>
            <a:ext cx="6197760" cy="1295640"/>
            <a:chOff x="1269720" y="3124080"/>
            <a:chExt cx="6197760" cy="1295640"/>
          </a:xfrm>
        </p:grpSpPr>
        <p:grpSp>
          <p:nvGrpSpPr>
            <p:cNvPr id="896" name=""/>
            <p:cNvGrpSpPr/>
            <p:nvPr/>
          </p:nvGrpSpPr>
          <p:grpSpPr>
            <a:xfrm>
              <a:off x="6019920" y="3352680"/>
              <a:ext cx="380880" cy="381240"/>
              <a:chOff x="6019920" y="3352680"/>
              <a:chExt cx="380880" cy="381240"/>
            </a:xfrm>
          </p:grpSpPr>
          <p:sp>
            <p:nvSpPr>
              <p:cNvPr id="897" name=""/>
              <p:cNvSpPr/>
              <p:nvPr/>
            </p:nvSpPr>
            <p:spPr>
              <a:xfrm>
                <a:off x="6019920" y="3352680"/>
                <a:ext cx="380880" cy="381240"/>
              </a:xfrm>
              <a:prstGeom prst="line">
                <a:avLst/>
              </a:prstGeom>
              <a:ln w="63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flipH="1">
                <a:off x="6019920" y="3352680"/>
                <a:ext cx="380880" cy="381240"/>
              </a:xfrm>
              <a:prstGeom prst="line">
                <a:avLst/>
              </a:prstGeom>
              <a:ln w="63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9" name=""/>
            <p:cNvGrpSpPr/>
            <p:nvPr/>
          </p:nvGrpSpPr>
          <p:grpSpPr>
            <a:xfrm>
              <a:off x="7086600" y="4038480"/>
              <a:ext cx="380880" cy="381240"/>
              <a:chOff x="7086600" y="4038480"/>
              <a:chExt cx="380880" cy="381240"/>
            </a:xfrm>
          </p:grpSpPr>
          <p:sp>
            <p:nvSpPr>
              <p:cNvPr id="900" name=""/>
              <p:cNvSpPr/>
              <p:nvPr/>
            </p:nvSpPr>
            <p:spPr>
              <a:xfrm>
                <a:off x="7086600" y="4038480"/>
                <a:ext cx="380880" cy="381240"/>
              </a:xfrm>
              <a:prstGeom prst="line">
                <a:avLst/>
              </a:prstGeom>
              <a:ln w="63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flipH="1">
                <a:off x="7086600" y="4038480"/>
                <a:ext cx="380880" cy="381240"/>
              </a:xfrm>
              <a:prstGeom prst="line">
                <a:avLst/>
              </a:prstGeom>
              <a:ln w="63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2" name=""/>
            <p:cNvSpPr/>
            <p:nvPr/>
          </p:nvSpPr>
          <p:spPr>
            <a:xfrm>
              <a:off x="1269720" y="3124080"/>
              <a:ext cx="4268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AmeriGarmnd BT"/>
                </a:rPr>
                <a:t>Remember to delete the</a:t>
              </a:r>
              <a:br>
                <a:rPr sz="2400"/>
              </a:br>
              <a:r>
                <a:rPr b="0" lang="en-US" sz="2400" spc="-1" strike="noStrike">
                  <a:solidFill>
                    <a:srgbClr val="00ff00"/>
                  </a:solidFill>
                  <a:latin typeface="AmeriGarmnd BT"/>
                </a:rPr>
                <a:t>appropriate key from par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3" name=""/>
          <p:cNvSpPr/>
          <p:nvPr/>
        </p:nvSpPr>
        <p:spPr>
          <a:xfrm>
            <a:off x="228600" y="56386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etion can “propagate” all the way up to the root of the tree (not illustrated he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the root becomes empty, the tree “shrinks” by o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5943600" y="4673520"/>
            <a:ext cx="129528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 rot="10800000">
            <a:off x="5957640" y="46252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 rot="10800000">
            <a:off x="6337080" y="46198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6248520" y="51688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6629400" y="51688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5638680" y="4978440"/>
            <a:ext cx="304920" cy="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 rot="10800000">
            <a:off x="6705360" y="462672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99624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1D61-DDD4-4372-940F-84E5CC47431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A5682A-E6B3-4212-A463-DC61733ACD1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ministra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have a hourly-paid  RA position open in my group. If interested, apply on-line at </a:t>
            </a:r>
            <a:r>
              <a:rPr b="0" lang="en-US" sz="2800" spc="-1" strike="noStrike" u="sng">
                <a:solidFill>
                  <a:srgbClr val="7e9ce8"/>
                </a:solidFill>
                <a:uFillTx/>
                <a:latin typeface="Times New Roman"/>
                <a:hlinkClick r:id="rId1"/>
              </a:rPr>
              <a:t>https://jobs.ku.edu/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, search with job ID 00069855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disciplinary research opport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Knowing what is the stat-of-the-art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good starting point before going for a graduate degre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arning $$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9D75-0FC7-4B63-B9A6-290396AA2B7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BC0D86-2C46-4DD9-8257-07FCBC36936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formance analysi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 I/O’s are required for each ope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the 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height of the tre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more or les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lus one or two to manipulate actual recor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lu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for reorganization (should be very rare i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larg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inus one if we cache the root in mem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big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oughly 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log</a:t>
            </a:r>
            <a:r>
              <a:rPr b="0" lang="en-US" sz="2200" spc="-1" strike="noStrike" baseline="-25000">
                <a:solidFill>
                  <a:srgbClr val="330066"/>
                </a:solidFill>
                <a:latin typeface="Times New Roman"/>
              </a:rPr>
              <a:t>fan-out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330066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the number of recor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tree properties guarantee that fan-out is leas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/ 2 for all non-root nod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an-out is typically large (in hundreds)—many keys and pointers can fit into one blo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4-level B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tree is enough for typical t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FBB8-BFC0-427A-B6AA-A1738BE1D42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3CA7F8-8039-4A6D-B86E-EE8502D5F21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tree in practi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x reorganization for deletion often is not implemented (e.g., Oracle, Informi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ave nodes less than half full and periodically reorganiz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commercial DBMS use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ree instead of hashing-based indexes because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ree handles range qu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B747-119F-43AD-A012-9F8258FD3CC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0DCCD9-78AC-4FFC-81F1-F9E6524B8B9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Halloween Probl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y from the early days of System R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UPDATE Payroll</a:t>
            </a:r>
            <a:br>
              <a:rPr sz="2000"/>
            </a:b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SET salary = salary * 1.1</a:t>
            </a:r>
            <a:br>
              <a:rPr sz="2000"/>
            </a:b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WHERE salary &gt;= 10000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re is a B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tree index o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ayrol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alar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update never stopped (why?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can index in rever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efore update, scan index to create a complete “to-do” l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uring update, maintain a “done” l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g every row with transaction/statement 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763F-DFAF-4687-A451-E7E23C6C40C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997914-4B72-47CF-90BF-AC663DAA5D6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tree versus IS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AM is more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sta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ree is more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dyna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AM is more compact (at least initial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ewer levels and I/O’s than B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tre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time, ISAM may not be balanc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nnot provide guaranteed performance as B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tree do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3DF8-9A99-4164-8DBD-FEEDDB1C9BA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EE5023-2A67-482B-8780-109D5C18C7B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tree versus B-tre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-tree: why not store records (or record pointers) in non-leaf nod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se records can be accessed with fewer I/O’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oring more data in a node decreases fan-out and increases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cords in leaves require more I/O’s to acc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Vast majority of the records live in leaves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775B-7601-4FE4-B24E-DC3488C3DE2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F535AB-6275-40A4-81DA-CE89656613B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yond ISAM, B-, and B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tre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tree-based indexes: R-trees and variants, GiST, et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ing-based indexes: extensible hashing, linear hashing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 indexes: inverted-list index, suffix array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tricks: bitmap index, bit-sliced index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08E2-55BD-467A-AF35-E793550448A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1173B4-DC43-4DBE-9396-D7EA083396A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types of qu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Key-searc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ange-quer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ree opera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arc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er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lit 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ele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ree sor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ext week with other disk-based sorting algorith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3516-F48B-40B0-9AC8-B816E6EBFF8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57489B-14EE-49E0-BCFD-BAE640F84C4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unit of disk read and write 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lock (or called Pag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isk access time is composed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ek tim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otation tim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ata transfer tim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C46B-A90C-4558-B765-A63516454BD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EBC95B-8C82-4765-8175-03BB411D2A2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ow in a table, when located on disks, is call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recor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types of recor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xed-lengt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Variable-length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9BDD-D903-46B4-834C-2922203F3FE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78965D-D0B1-42F8-B1B7-954E9E53610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n abstract sense, a file 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set of “records” on a dis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reality, a file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set of disk p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record lives 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pa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sical Record ID (R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tuple of &lt;page#, slot#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AAEB-967F-4DA8-A0B6-255E8CF34F4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0B033B-07A1-4DFF-B5FE-19E43F5F7A3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day’s Topi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locate data in a fi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as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oduction to index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inde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AM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dexed sequence access metho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tre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CF75-46E9-4A4A-9A4B-4A0092722FC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15E7DB-5BEC-411F-85C2-F3769F267F9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value, locate the record(s) with this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SELECT * FROM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 WHERE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 =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value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SELECT * FROM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 WHERE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.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 =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.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search criteria, e.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ange searc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SELECT * FROM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 WHERE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 &gt;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value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Keyword searc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066680" y="5105520"/>
            <a:ext cx="5791320" cy="380880"/>
            <a:chOff x="1066680" y="5105520"/>
            <a:chExt cx="5791320" cy="380880"/>
          </a:xfrm>
        </p:grpSpPr>
        <p:sp>
          <p:nvSpPr>
            <p:cNvPr id="108" name=""/>
            <p:cNvSpPr/>
            <p:nvPr/>
          </p:nvSpPr>
          <p:spPr>
            <a:xfrm>
              <a:off x="1066680" y="5105520"/>
              <a:ext cx="4267080" cy="3808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ettrGoth12 BT"/>
                  <a:ea typeface="Arial Unicode MS"/>
                </a:rPr>
                <a:t>database index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486400" y="5105520"/>
              <a:ext cx="1371600" cy="380880"/>
            </a:xfrm>
            <a:prstGeom prst="bevel">
              <a:avLst>
                <a:gd name="adj" fmla="val 12500"/>
              </a:avLst>
            </a:prstGeom>
            <a:solidFill>
              <a:srgbClr val="808080"/>
            </a:solidFill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ettrGoth12 BT"/>
                  <a:ea typeface="Arial Unicode MS"/>
                </a:rPr>
                <a:t>Sear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638E-E558-4D58-B286-0A381F3905E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10FF28-7471-42FB-8617-075E564FEE4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nse and sparse index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1048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D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one index entry for each search key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1828800"/>
            <a:ext cx="8686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Spa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one index entry for each 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cords must be 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clustere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ccording to the search ke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D61A-96B7-475B-8AB1-A28415B848A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88732B-23D5-4DC8-8C1F-5CAAD06B85B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jhuan</cp:lastModifiedBy>
  <dcterms:modified xsi:type="dcterms:W3CDTF">2007-03-28T15:02:55Z</dcterms:modified>
  <cp:revision>792</cp:revision>
  <dc:subject/>
  <dc:title>CS186: Introduction to Database Systems</dc:title>
</cp:coreProperties>
</file>