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704F1C-60ED-4ECC-8263-D01BBFE90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1717C9-F078-4841-8BC0-4681E96A7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45F320-C61C-48DE-B77E-B1BE06557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AB8F40-D06A-4FD0-9EF0-518A9B02D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168841-C31F-4649-9D8F-4B0AD87D8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535C07-A298-43A1-9531-C118DD7D3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A8EA14-4573-4E76-A0E9-BFBB3DBAF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94F151-D779-4F67-8B9E-BCD855DB6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0A6F8C-8ECE-4DA7-9EC7-F28A0431F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F96A82-F020-4D7A-96FB-F80E9FCDF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260DD-6B75-4287-9F65-D9F98DFC0D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0F5AD8-3615-433C-8408-D7A28EEBE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530E24-DA6A-4132-A539-62AB209DF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E7D028-A4D0-42FC-8FB0-DC668AB24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5E80AB-3F23-4537-9182-1289ECF2B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5C0439-E68C-4AD6-A913-24C7601CB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935370-6712-4E87-8514-B21CAE0F7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0364B0-4EC6-4C4E-9C06-26EE86EC2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pass merge sort is like going from right to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FE605E-D1A9-4324-B8B6-7AB10A681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1A4D5E-BD3D-476E-A724-1780C623C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7C1CCB-B3FF-411D-A537-56FCCA8CF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2FA316-A734-4DEF-9257-5306386B9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FC935C-0326-4264-8050-73A110854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2393E6-01D9-4F9F-879B-AC570FE43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26D7DB-7835-44CB-AAB6-0EADF825A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BAC5B9-4C64-47C8-A9B0-8401C382F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1C4037-A977-43D5-8601-35C41D018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6E976F-6B52-4AD2-9D27-B27C2D1600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7A8FCE-98B5-419D-BEA1-30F16FB80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19DC42-59BB-48F1-9C6C-5BBC77A4B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0AB848-680E-4D46-9769-A4300D2DE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583-E6C1-445B-8F9A-A218F205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D93-453B-4FBE-8EC5-FB4EC243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BB9-EB4D-4E04-858C-39FB5B8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C51-8EE6-49F5-88AF-E3E4AE27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357-CF23-452F-B4C1-19F15517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551-41F9-4847-9C84-890D1D0F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243-6270-4732-9E2B-54B230B4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1EA-E5B8-4657-B1C9-1693C5A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9B0-B742-41C7-B8F1-3D6E9CE8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22C-1BF8-4B6F-8423-209C453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89C-FBED-4601-8C89-B612334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966-4C4E-4CD1-82E6-4F022F4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C9A4-907E-4055-AF25-12CB1A5F228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906-9DF9-4306-8757-D6F5193A4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v.s. Physical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operators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union, selection, project, join, grou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operators: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y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nested loop join, sort-merge join, hash join, index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ifferences and relations between them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hould we design the physical operator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029200"/>
            <a:ext cx="712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ry execution has to do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implement physical operators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CB3-96D3-4F55-A228-1D1CA384EC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B6A3-5960-4D7C-A9EB-576A8E170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uple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isk block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memory blocks available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ory requi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46E-E991-457C-ACAD-8042799E818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E605D-E790-478D-B2D6-78B6687875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ar sc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ocess th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le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oje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out duplicate elim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ick for selection: stop early if it is a lookup b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ounting the cost of writing the resul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e for any algorith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be not needed—results may be pipelined into another op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49E-C3E5-4EE9-90B7-CECFFC5269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5E468-3F76-4952-A829-452871E0CC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-loop join (brute fo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-merg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d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BD8-3FA5-4035-B470-3962B399C2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B7C84-F5C9-4DBF-B50B-EA413E8E2D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-loop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lock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bloc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or each block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bloc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Outp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aluates to true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ou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inn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+ |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: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lock-based nested-loop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ach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for each block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, and 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lock: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requirement: same as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F0F-5ACD-4717-9D81-F24B32E6F8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000A1-F722-4252-A113-C745B5F33D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improvements of nested-loop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early if the key of the inner table is being ma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use of availabl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ff memory with as much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possible, strea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y, and join eve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uple with a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uples in mem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– 2 )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roughly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as much as possi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C65-E5C6-47EC-ACB9-7A74D19999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BC8D7-6319-4788-AA0D-41488295C0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do we need nested-loop joi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best if many tuples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non-equality joins that are not very selec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for black-box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…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ser_defined_p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EC4-F4EF-40F4-A0B0-E953828C2F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D3503-EB20-4056-9BDA-AD55D318AC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t-merge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their join attributes, and the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er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he first tuples in sor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on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haust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ext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ext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all matching tuples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ex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orting + 2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2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D4B-5B22-42F4-AA7B-0C8E0E52ED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3BE8C-D8C8-4CC4-8FE4-C674959A3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1981080"/>
            <a:ext cx="3124080" cy="228600"/>
            <a:chOff x="762120" y="1981080"/>
            <a:chExt cx="3124080" cy="228600"/>
          </a:xfrm>
        </p:grpSpPr>
        <p:sp>
          <p:nvSpPr>
            <p:cNvPr id="177" name=""/>
            <p:cNvSpPr/>
            <p:nvPr/>
          </p:nvSpPr>
          <p:spPr>
            <a:xfrm>
              <a:off x="762120" y="19810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198108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62120" y="2514600"/>
            <a:ext cx="3124080" cy="228600"/>
            <a:chOff x="762120" y="2514600"/>
            <a:chExt cx="3124080" cy="228600"/>
          </a:xfrm>
        </p:grpSpPr>
        <p:sp>
          <p:nvSpPr>
            <p:cNvPr id="180" name=""/>
            <p:cNvSpPr/>
            <p:nvPr/>
          </p:nvSpPr>
          <p:spPr>
            <a:xfrm>
              <a:off x="762120" y="25146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5146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505320" y="29718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62120" y="3429000"/>
            <a:ext cx="3124080" cy="762120"/>
            <a:chOff x="762120" y="3429000"/>
            <a:chExt cx="3124080" cy="762120"/>
          </a:xfrm>
        </p:grpSpPr>
        <p:sp>
          <p:nvSpPr>
            <p:cNvPr id="184" name=""/>
            <p:cNvSpPr/>
            <p:nvPr/>
          </p:nvSpPr>
          <p:spPr>
            <a:xfrm>
              <a:off x="762120" y="342900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9625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1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4419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876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11680" y="1782720"/>
            <a:ext cx="84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508440" y="2265480"/>
            <a:ext cx="850320" cy="2116800"/>
            <a:chOff x="6508440" y="2265480"/>
            <a:chExt cx="850320" cy="2116800"/>
          </a:xfrm>
        </p:grpSpPr>
        <p:sp>
          <p:nvSpPr>
            <p:cNvPr id="191" name=""/>
            <p:cNvSpPr/>
            <p:nvPr/>
          </p:nvSpPr>
          <p:spPr>
            <a:xfrm>
              <a:off x="6511680" y="226548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11680" y="274320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08440" y="324324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11680" y="3733560"/>
              <a:ext cx="847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3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508440" y="4221000"/>
            <a:ext cx="84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7 </a:t>
            </a:r>
            <a:r>
              <a:rPr b="0" i="1" lang="en-US" sz="3200" spc="-1" strike="noStrike">
                <a:solidFill>
                  <a:srgbClr val="000000"/>
                </a:solidFill>
                <a:latin typeface="AmeriGarmnd BT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185-5A25-47F3-BD16-FFAF4EB078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A42D6-6599-4B72-9EDF-395DB03B2B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ation of SM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combine join with the merge phase of merge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duce sorted runs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erge and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erge the ru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erge the ru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merge-join the result streams as they are gener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038480" y="3890880"/>
            <a:ext cx="2355480" cy="2187000"/>
            <a:chOff x="4038480" y="3890880"/>
            <a:chExt cx="2355480" cy="2187000"/>
          </a:xfrm>
        </p:grpSpPr>
        <p:sp>
          <p:nvSpPr>
            <p:cNvPr id="199" name=""/>
            <p:cNvSpPr/>
            <p:nvPr/>
          </p:nvSpPr>
          <p:spPr>
            <a:xfrm>
              <a:off x="5029200" y="41148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9200" y="441972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472428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9200" y="52578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556272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8480" y="42670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38480" y="453384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38480" y="482616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38480" y="53722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8480" y="567684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4254480"/>
              <a:ext cx="53316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559400"/>
              <a:ext cx="5331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334120" y="4559400"/>
              <a:ext cx="53316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34120" y="5397480"/>
              <a:ext cx="533160" cy="165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334120" y="5562360"/>
              <a:ext cx="533160" cy="1522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77600" y="389088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r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79040" y="5618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r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1840" y="3433680"/>
            <a:ext cx="7083360" cy="3043440"/>
            <a:chOff x="231840" y="3433680"/>
            <a:chExt cx="7083360" cy="3043440"/>
          </a:xfrm>
        </p:grpSpPr>
        <p:sp>
          <p:nvSpPr>
            <p:cNvPr id="217" name=""/>
            <p:cNvSpPr/>
            <p:nvPr/>
          </p:nvSpPr>
          <p:spPr>
            <a:xfrm>
              <a:off x="4800600" y="3886200"/>
              <a:ext cx="2514600" cy="21337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31840" y="3598920"/>
              <a:ext cx="3882960" cy="2878200"/>
              <a:chOff x="231840" y="3598920"/>
              <a:chExt cx="3882960" cy="287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1523880" y="3657600"/>
                <a:ext cx="2590920" cy="2819520"/>
              </a:xfrm>
              <a:prstGeom prst="can">
                <a:avLst>
                  <a:gd name="adj" fmla="val 12703"/>
                </a:avLst>
              </a:prstGeom>
              <a:noFill/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76520" y="411480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76520" y="441972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520" y="472428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520" y="525780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520" y="5562720"/>
                <a:ext cx="2286000" cy="228600"/>
              </a:xfrm>
              <a:prstGeom prst="rect">
                <a:avLst/>
              </a:prstGeom>
              <a:solidFill>
                <a:srgbClr val="cccc00"/>
              </a:solid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43000" y="4114800"/>
                <a:ext cx="228600" cy="914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43000" y="5257800"/>
                <a:ext cx="228600" cy="5335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3680 h 533520"/>
                  <a:gd name="textAreaBottom" fmla="*/ 51984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10800000">
                <a:off x="231120" y="4195800"/>
                <a:ext cx="546120" cy="17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meriGarmnd BT"/>
                  </a:rPr>
                  <a:t>Sorted ru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8240" y="435276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52760" y="52927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83920" y="359892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meriGarmnd BT"/>
                  </a:rPr>
                  <a:t>Dis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377320" y="343368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943600" y="4572000"/>
            <a:ext cx="1828800" cy="990720"/>
            <a:chOff x="5943600" y="4572000"/>
            <a:chExt cx="1828800" cy="990720"/>
          </a:xfrm>
        </p:grpSpPr>
        <p:sp>
          <p:nvSpPr>
            <p:cNvPr id="233" name=""/>
            <p:cNvSpPr/>
            <p:nvPr/>
          </p:nvSpPr>
          <p:spPr>
            <a:xfrm>
              <a:off x="6400800" y="5105520"/>
              <a:ext cx="4572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4572000"/>
              <a:ext cx="380880" cy="5335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43600" y="5105520"/>
              <a:ext cx="38088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34320" y="500364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21160" y="465300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Jo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8880" y="5105520"/>
              <a:ext cx="5335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D48-2626-4BFC-8D10-84E049E3E9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4B405-5372-4FC8-BA2C-AF5A1DABDC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omework 4 is due next Monday (April 9</a:t>
            </a:r>
            <a:r>
              <a:rPr b="0" lang="en-US" sz="2800" spc="-1" strike="noStrike" baseline="30000">
                <a:solidFill>
                  <a:srgbClr val="330066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p: avoid space using “_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123456789 John_smith 100_main M“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123456789 John smith 100 main 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4F7-FD8F-4EEF-99E1-266AF555B0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E1354-6BFB-4C25-84E6-13B1204A95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of two-pass SM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e able to merge in one pass, we should have enough memory to accommodate one block from each run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+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sqrt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584-CEAE-465A-9905-79B8D7A67E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55259-F151-4E43-B64C-884B5E0617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Operators that are supported by sort-based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(set), difference,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or less like SM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ion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duplicates in sort and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rnal merge s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partial aggregate values in each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partial aggregate values during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aggregate values don’t always work th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9680" y="5889600"/>
            <a:ext cx="53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Examples: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UM(DISTINCT </a:t>
            </a: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…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MEDIAN(</a:t>
            </a:r>
            <a:r>
              <a:rPr b="0" lang="en-US" sz="2000" spc="-1" strike="noStrike">
                <a:solidFill>
                  <a:srgbClr val="330066"/>
                </a:solidFill>
                <a:latin typeface="AmeriGarmnd BT"/>
              </a:rPr>
              <a:t>…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27A-EAF8-439F-BF5C-030785F911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85AB6-BAD4-4FAA-A62F-A31F2D2044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h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i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y hashing their join attributes, and then consider corresponding partition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t hashed to different partitions, they don’t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96080" y="4440240"/>
            <a:ext cx="400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Nested-loop join consid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all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32240" y="4124160"/>
            <a:ext cx="3590640" cy="2428920"/>
            <a:chOff x="1632240" y="4124160"/>
            <a:chExt cx="3590640" cy="2428920"/>
          </a:xfrm>
        </p:grpSpPr>
        <p:sp>
          <p:nvSpPr>
            <p:cNvPr id="248" name=""/>
            <p:cNvSpPr/>
            <p:nvPr/>
          </p:nvSpPr>
          <p:spPr>
            <a:xfrm>
              <a:off x="1690920" y="4540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70400" y="4921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3720" y="4538520"/>
              <a:ext cx="7596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0" y="4540320"/>
              <a:ext cx="76320" cy="759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08280" y="4540320"/>
              <a:ext cx="76320" cy="759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16480" y="4537080"/>
              <a:ext cx="7596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57600" y="453384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2880" y="454176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72428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502920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5105520"/>
              <a:ext cx="76320" cy="7596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0356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0684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1668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5476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64240" y="428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22480" y="4572000"/>
              <a:ext cx="3200400" cy="198108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3196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6548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356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9360" y="4572000"/>
              <a:ext cx="0" cy="1981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2480" y="495288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22480" y="525780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22480" y="579132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22480" y="6172200"/>
              <a:ext cx="3200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76520" y="412416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32240" y="52671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0400" y="5486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0400" y="5759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90920" y="6140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meriGarmnd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1080" y="541008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1080" y="548640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1080" y="564984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1080" y="5943600"/>
              <a:ext cx="76320" cy="76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022480" y="4572000"/>
            <a:ext cx="7371000" cy="1981080"/>
            <a:chOff x="2022480" y="4572000"/>
            <a:chExt cx="7371000" cy="1981080"/>
          </a:xfrm>
        </p:grpSpPr>
        <p:sp>
          <p:nvSpPr>
            <p:cNvPr id="283" name=""/>
            <p:cNvSpPr/>
            <p:nvPr/>
          </p:nvSpPr>
          <p:spPr>
            <a:xfrm>
              <a:off x="4956120" y="5186520"/>
              <a:ext cx="443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Hash join consider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ly those along the diag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22480" y="4572000"/>
              <a:ext cx="609480" cy="38088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1960" y="4952880"/>
              <a:ext cx="533520" cy="3049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65480" y="5257800"/>
              <a:ext cx="838080" cy="5335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03560" y="5791320"/>
              <a:ext cx="685800" cy="38088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89360" y="6172200"/>
              <a:ext cx="533520" cy="38088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A02-79E7-4E09-B9ED-EC0A80596D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FE1B7-8A76-416F-B4F1-B52E2CDB56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tioning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ording to the same hash function on their join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69960" y="2900520"/>
            <a:ext cx="6492960" cy="3131280"/>
            <a:chOff x="669960" y="2900520"/>
            <a:chExt cx="6492960" cy="3131280"/>
          </a:xfrm>
        </p:grpSpPr>
        <p:sp>
          <p:nvSpPr>
            <p:cNvPr id="292" name=""/>
            <p:cNvSpPr/>
            <p:nvPr/>
          </p:nvSpPr>
          <p:spPr>
            <a:xfrm>
              <a:off x="4598280" y="5324400"/>
              <a:ext cx="25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 – 1 partitions of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2000" y="34290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02000" y="373392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02000" y="403848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3920" y="35560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2000" y="2971800"/>
              <a:ext cx="2590920" cy="2819520"/>
            </a:xfrm>
            <a:prstGeom prst="can">
              <a:avLst>
                <a:gd name="adj" fmla="val 12703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280" y="34290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24280" y="373392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403848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43434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31680" y="29131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71600" y="3352680"/>
              <a:ext cx="2514600" cy="21337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48320" y="290052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384804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415296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2000" y="43434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33920" y="44578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841400" y="3556080"/>
              <a:ext cx="144792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841400" y="3860280"/>
              <a:ext cx="1447920" cy="127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41400" y="4038480"/>
              <a:ext cx="1447920" cy="1270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41400" y="4089240"/>
              <a:ext cx="144792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66680" y="4000680"/>
              <a:ext cx="4572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3080" y="376884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9960" y="5572080"/>
              <a:ext cx="17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Same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4280" y="50292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02000" y="5029200"/>
              <a:ext cx="2286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33920" y="5143680"/>
              <a:ext cx="9144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3223800" y="453384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5573160" y="455940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4102200"/>
              <a:ext cx="1447920" cy="10666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532-C6AB-4585-A0EA-46154A4CCC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F3915-2A65-477B-9EA0-DBB8BE2F7B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ing ph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 each part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tream in the corresponding part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 build a hash table for the partition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hash function used for partition, of cour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85760" y="3357720"/>
            <a:ext cx="7815240" cy="3195000"/>
            <a:chOff x="185760" y="3357720"/>
            <a:chExt cx="7815240" cy="3195000"/>
          </a:xfrm>
        </p:grpSpPr>
        <p:sp>
          <p:nvSpPr>
            <p:cNvPr id="326" name=""/>
            <p:cNvSpPr/>
            <p:nvPr/>
          </p:nvSpPr>
          <p:spPr>
            <a:xfrm>
              <a:off x="541008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3428640"/>
              <a:ext cx="2590920" cy="3124080"/>
            </a:xfrm>
            <a:prstGeom prst="can">
              <a:avLst>
                <a:gd name="adj" fmla="val 10671"/>
              </a:avLst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81080" y="382248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81080" y="412740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473688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88480" y="336996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57800" y="3809880"/>
              <a:ext cx="2514600" cy="21330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34520" y="335772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6400" y="548604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1080" y="525744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81080" y="556236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81080" y="6171840"/>
              <a:ext cx="22860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468000" y="3839400"/>
              <a:ext cx="911880" cy="14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part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23880" y="3809880"/>
              <a:ext cx="228600" cy="1142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468000" y="5287320"/>
              <a:ext cx="911880" cy="14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parti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23880" y="5257440"/>
              <a:ext cx="228600" cy="1142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1992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448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2829960" y="43239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2829960" y="577188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76840" y="38127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10280" y="396216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5200" y="4800240"/>
              <a:ext cx="228600" cy="22824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343400" y="4114080"/>
              <a:ext cx="990720" cy="114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343400" y="5562360"/>
              <a:ext cx="1066680" cy="1267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30520" y="3752640"/>
              <a:ext cx="70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05600" y="5186160"/>
              <a:ext cx="102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87920" y="4267080"/>
              <a:ext cx="533520" cy="1142640"/>
            </a:xfrm>
            <a:custGeom>
              <a:avLst/>
              <a:gdLst/>
              <a:ahLst/>
              <a:rect l="l" t="t" r="r" b="b"/>
              <a:pathLst>
                <a:path w="288" h="720">
                  <a:moveTo>
                    <a:pt x="0" y="720"/>
                  </a:moveTo>
                  <a:cubicBezTo>
                    <a:pt x="96" y="588"/>
                    <a:pt x="192" y="456"/>
                    <a:pt x="240" y="336"/>
                  </a:cubicBezTo>
                  <a:cubicBezTo>
                    <a:pt x="288" y="216"/>
                    <a:pt x="288" y="108"/>
                    <a:pt x="288" y="0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72200" y="4393800"/>
              <a:ext cx="1066680" cy="533160"/>
            </a:xfrm>
            <a:custGeom>
              <a:avLst/>
              <a:gdLst/>
              <a:ahLst/>
              <a:rect l="l" t="t" r="r" b="b"/>
              <a:pathLst>
                <a:path w="672" h="336">
                  <a:moveTo>
                    <a:pt x="0" y="0"/>
                  </a:moveTo>
                  <a:cubicBezTo>
                    <a:pt x="40" y="92"/>
                    <a:pt x="80" y="184"/>
                    <a:pt x="192" y="240"/>
                  </a:cubicBezTo>
                  <a:cubicBezTo>
                    <a:pt x="304" y="296"/>
                    <a:pt x="488" y="316"/>
                    <a:pt x="672" y="336"/>
                  </a:cubicBezTo>
                </a:path>
              </a:pathLst>
            </a:custGeom>
            <a:noFill/>
            <a:ln w="38160">
              <a:solidFill>
                <a:srgbClr val="33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91240" y="5094000"/>
              <a:ext cx="2157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For each S tuple,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robe and jo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620120" y="491472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8D9-649D-4B7C-8C7B-932B180262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8D33F-8B65-42F7-BD17-2BBE996929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of hash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probing phase, we should have enough memory to fit one partition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– 1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¸</a:t>
            </a:r>
            <a:r>
              <a:rPr b="0" lang="en-US" sz="2600" spc="-1" strike="noStrike">
                <a:solidFill>
                  <a:srgbClr val="330066"/>
                </a:solidFill>
                <a:latin typeface="MS Shell Dlg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/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– 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sqrt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can always pick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be the smaller relation, so:</a:t>
            </a:r>
            <a:br>
              <a:rPr sz="2600"/>
            </a:b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&gt; sqrt(min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979-6165-412D-BDA7-FFAAC81EDD4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E6055-14C9-49B0-8248-DD16BC24DC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h join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a partition is too large for mem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it back in and partition it agai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the duality in multi-pass merge sort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33520" y="3200400"/>
            <a:ext cx="7848360" cy="2819520"/>
            <a:chOff x="533520" y="3200400"/>
            <a:chExt cx="7848360" cy="2819520"/>
          </a:xfrm>
        </p:grpSpPr>
        <p:sp>
          <p:nvSpPr>
            <p:cNvPr id="363" name=""/>
            <p:cNvSpPr/>
            <p:nvPr/>
          </p:nvSpPr>
          <p:spPr>
            <a:xfrm>
              <a:off x="6095880" y="47242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76720" y="403848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720" y="434340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6720" y="464832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720" y="4952880"/>
              <a:ext cx="2286000" cy="2286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520" y="4114800"/>
              <a:ext cx="2286000" cy="9907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48769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95880" y="50292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814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95880" y="32004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5880" y="33526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95880" y="35053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95880" y="36576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95880" y="39625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095880" y="41148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95880" y="42670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44197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95880" y="54864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95880" y="563868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5791320"/>
              <a:ext cx="2286000" cy="7596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5943600"/>
              <a:ext cx="2286000" cy="7632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19520" y="462276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26080" y="462276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B9C-D4EB-4084-9CF2-EF8912C951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FB43B-4749-4EE5-B72A-B25BA49E8A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h join versus SM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ssuming two-p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’s: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requirement: hash join is 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(min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) &lt; sqr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h join wins when two relations have very different siz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h join performance depends on the quality of the ha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ht not get evenly sized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J can be adapted for inequality join predic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J wins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already so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J wins if the result needs to be in sorted 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C1B-D069-495A-9C03-C37EFBBB3B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467D5-56DF-4F44-910A-6D5C9E2909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hash-based algo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(set), difference, 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or less like hash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eck for duplicates within each partition/buc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ly the hash functions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uples in the same group must end up in the same partition/buc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a running aggregate value for each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7EF-C780-46BB-B97B-422825302B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E4CBA-B63D-4ED0-90D3-849F8FEB7E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ity of sort and ha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-and-conquer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ing: physical division, logical comb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ing: logical division, physical combi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very large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ing: multi-level mer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ing: recursive partiti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rting: sequential write, random read (merg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ing: random write, sequential read (parti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621-8FF7-4CAA-A909-82EA0F592A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E95DA-545E-489E-8E61-7649A94422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ternal merge 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1, 7, 4, 5, 2, 8, 3, 6, 9  (block capacity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 7, 4 → 1, 4,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, 2, 8 → 2, 5,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9, 6, 3 → 3, 6,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 4, 7 + 2, 5, 8 → 1, 2, 4, 5, 7,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, 6,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 (f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, 2, 4, 5, 7, 8 + 3, 6, 9 → 1, 2, 3, 4, 5, 6, 7, 8,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EC5-9108-4912-A887-53ED0C8DBC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0BDF1-1DD4-4D24-9081-CF4E4140A8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using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predicate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n ISAM,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, or hash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 predicate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n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ord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dex (e.g., ISAM or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)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h index is not applic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other than those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ay be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bout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3B7-E622-4938-B8BE-A20F46F76D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69B80-8A6A-4A74-8190-C3B6296A8B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versus table sc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tions where index clearly w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ndex-only qu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do not require retrieving actual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index clustered according to search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lookup leads to all result tuples in their entire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4EB-FDBF-4AAF-853F-0C0EA97EAD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5CEA4-6FB5-4F39-8814-F75D84CA47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versus table scan (cont’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(!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condary, non-clustered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follow pointers to get the actual result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y that 20%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happen even for equality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/O’s for index-based selection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lookup + 20% |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|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/O’s for scan-based selection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 scan wins if a block contains more than 5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FCA-ED0B-4729-AFAD-1DCCE3BAD2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C0F27-846C-47FF-B9CC-9A95F639D2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nested-loop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use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probe th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block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block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Use th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retrie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’s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+ |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| · (index loo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, the cost of an index lookup is 2-4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ats other join methods if |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| is not too b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tter pick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be the smaller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requirement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4E3-A223-40FE-B907-7C298BB70D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0585E-0F04-456E-94C4-089BF5C421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g-zag join using ordered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use the ordering provided by the indexe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eliminate the sorting step of sort-merge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: use the larger key to probe the other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y skipping many keys that don’t ma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4038480"/>
            <a:ext cx="5639040" cy="2590560"/>
            <a:chOff x="1752480" y="4038480"/>
            <a:chExt cx="5639040" cy="2590560"/>
          </a:xfrm>
        </p:grpSpPr>
        <p:sp>
          <p:nvSpPr>
            <p:cNvPr id="403" name=""/>
            <p:cNvSpPr/>
            <p:nvPr/>
          </p:nvSpPr>
          <p:spPr>
            <a:xfrm>
              <a:off x="1752480" y="4038480"/>
              <a:ext cx="5639040" cy="685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meriGarmnd BT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-tree 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52480" y="5942880"/>
              <a:ext cx="5639040" cy="685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meriGarmnd BT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-tree 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623600" y="472932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23600" y="5491080"/>
            <a:ext cx="60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295280" y="4800600"/>
            <a:ext cx="381240" cy="990720"/>
            <a:chOff x="1295280" y="4800600"/>
            <a:chExt cx="381240" cy="990720"/>
          </a:xfrm>
        </p:grpSpPr>
        <p:sp>
          <p:nvSpPr>
            <p:cNvPr id="408" name=""/>
            <p:cNvSpPr/>
            <p:nvPr/>
          </p:nvSpPr>
          <p:spPr>
            <a:xfrm>
              <a:off x="12952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52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209680" y="4800600"/>
            <a:ext cx="381240" cy="990720"/>
            <a:chOff x="2209680" y="4800600"/>
            <a:chExt cx="381240" cy="990720"/>
          </a:xfrm>
        </p:grpSpPr>
        <p:sp>
          <p:nvSpPr>
            <p:cNvPr id="411" name=""/>
            <p:cNvSpPr/>
            <p:nvPr/>
          </p:nvSpPr>
          <p:spPr>
            <a:xfrm>
              <a:off x="22096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96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9528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124080" y="4800600"/>
            <a:ext cx="3124440" cy="990720"/>
            <a:chOff x="3124080" y="4800600"/>
            <a:chExt cx="3124440" cy="990720"/>
          </a:xfrm>
        </p:grpSpPr>
        <p:sp>
          <p:nvSpPr>
            <p:cNvPr id="415" name=""/>
            <p:cNvSpPr/>
            <p:nvPr/>
          </p:nvSpPr>
          <p:spPr>
            <a:xfrm>
              <a:off x="31240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72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038480" y="4800600"/>
            <a:ext cx="3124440" cy="990720"/>
            <a:chOff x="4038480" y="4800600"/>
            <a:chExt cx="3124440" cy="990720"/>
          </a:xfrm>
        </p:grpSpPr>
        <p:sp>
          <p:nvSpPr>
            <p:cNvPr id="418" name=""/>
            <p:cNvSpPr/>
            <p:nvPr/>
          </p:nvSpPr>
          <p:spPr>
            <a:xfrm>
              <a:off x="6781680" y="48006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38480" y="556272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330066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781680" y="5562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330066"/>
          </a:solidFill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DB2-C47E-4DD9-988E-AA1649CF15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E51C5-BF9C-450F-A986-5BAC0CC9FC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, duplicate-preserving projection, nested-loop jo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rnal merge sort, sort-merge join, union (set), difference, intersection, duplicate elimination, GROUP BY and aggreg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h join, union (set), difference, intersection, duplicate elimination, GROUP BY and aggreg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, index nested-loop join, zig-zag jo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ED0-DC08-415E-BA74-5024211D48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05CAE-0EC7-4BD7-8970-5709A6BF75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and 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 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: 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gister (Sid: string, Cid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name, cid FROM Student, Reg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 Student.Sid = Register.S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name, c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.sid = R.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9A9-184A-4BE4-805C-F56CAFE165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1311D-6D14-4B6E-A394-49ED08FFE2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on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jection: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oss product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fference: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naming 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2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2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618-32A1-48FF-8C3C-26255F3010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E2635-B63F-46A8-B0FF-70F937FDE3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and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implement the following SQL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d: 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ame: string, GPA: flo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* 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GPA &gt;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.GPA&gt;3.0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4191120"/>
          <a:ext cx="6397560" cy="1492200"/>
        </p:xfrm>
        <a:graphic>
          <a:graphicData uri="http://schemas.openxmlformats.org/drawingml/2006/table">
            <a:tbl>
              <a:tblPr/>
              <a:tblGrid>
                <a:gridCol w="1189080"/>
                <a:gridCol w="1528560"/>
                <a:gridCol w="1925640"/>
                <a:gridCol w="175428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p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Range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A39-D793-44D5-85B5-FB6213ABF7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FE36A-5BB2-44C9-8EE1-6107989BC7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DBM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52760" y="4129200"/>
            <a:ext cx="4205520" cy="1393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88960" y="3595680"/>
            <a:ext cx="2286000" cy="406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8960" y="47228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8960" y="528804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age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880240"/>
            <a:ext cx="2133720" cy="520560"/>
          </a:xfrm>
          <a:prstGeom prst="can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68560" y="2003400"/>
            <a:ext cx="213444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9000" y="2959200"/>
            <a:ext cx="125064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ging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8920" y="3063960"/>
            <a:ext cx="1523520" cy="368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4360" y="4419720"/>
            <a:ext cx="12067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88000" y="4384800"/>
            <a:ext cx="1366920" cy="6508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k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43720" y="50418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90440" y="91440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/Web Forms/Applications/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17440" y="170352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7440" y="5811840"/>
            <a:ext cx="8737560" cy="9360"/>
          </a:xfrm>
          <a:prstGeom prst="line">
            <a:avLst/>
          </a:prstGeom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57520" y="137304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97120" y="13669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48400" y="1384200"/>
            <a:ext cx="0" cy="509760"/>
          </a:xfrm>
          <a:prstGeom prst="line">
            <a:avLst/>
          </a:prstGeom>
          <a:ln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6920" y="137808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1280" y="3032280"/>
            <a:ext cx="2286000" cy="406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24685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R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11280" y="190512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88960" y="4159080"/>
            <a:ext cx="2286000" cy="406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es &amp; 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920" y="2835360"/>
            <a:ext cx="1565280" cy="1050840"/>
            <a:chOff x="34920" y="2835360"/>
            <a:chExt cx="1565280" cy="1050840"/>
          </a:xfrm>
        </p:grpSpPr>
        <p:sp>
          <p:nvSpPr>
            <p:cNvPr id="128" name=""/>
            <p:cNvSpPr/>
            <p:nvPr/>
          </p:nvSpPr>
          <p:spPr>
            <a:xfrm>
              <a:off x="34920" y="2835360"/>
              <a:ext cx="133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Today’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le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6680" y="365760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6D0-AEB2-4E95-8B53-C7C624187D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F6767-E294-48FE-95F6-F63F838AEF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67960" y="228240"/>
            <a:ext cx="610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Query 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52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91360" y="3152880"/>
            <a:ext cx="1440" cy="123840"/>
          </a:xfrm>
          <a:custGeom>
            <a:avLst/>
            <a:gdLst/>
            <a:ahLst/>
            <a:rect l="l" t="t" r="r" b="b"/>
            <a:pathLst>
              <a:path w="1" h="78">
                <a:moveTo>
                  <a:pt x="0" y="0"/>
                </a:moveTo>
                <a:lnTo>
                  <a:pt x="0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3152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0"/>
                </a:moveTo>
                <a:lnTo>
                  <a:pt x="219" y="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52880"/>
            <a:ext cx="349200" cy="123840"/>
          </a:xfrm>
          <a:custGeom>
            <a:avLst/>
            <a:gdLst/>
            <a:ahLst/>
            <a:rect l="l" t="t" r="r" b="b"/>
            <a:pathLst>
              <a:path w="220" h="78">
                <a:moveTo>
                  <a:pt x="0" y="77"/>
                </a:moveTo>
                <a:lnTo>
                  <a:pt x="219" y="0"/>
                </a:lnTo>
                <a:lnTo>
                  <a:pt x="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79920" y="3505320"/>
            <a:ext cx="669960" cy="357120"/>
          </a:xfrm>
          <a:custGeom>
            <a:avLst/>
            <a:gdLst/>
            <a:ahLst/>
            <a:rect l="l" t="t" r="r" b="b"/>
            <a:pathLst>
              <a:path w="422" h="225">
                <a:moveTo>
                  <a:pt x="0" y="224"/>
                </a:moveTo>
                <a:lnTo>
                  <a:pt x="421" y="0"/>
                </a:lnTo>
                <a:lnTo>
                  <a:pt x="0" y="2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96120" y="3505320"/>
            <a:ext cx="684000" cy="357120"/>
          </a:xfrm>
          <a:custGeom>
            <a:avLst/>
            <a:gdLst/>
            <a:ahLst/>
            <a:rect l="l" t="t" r="r" b="b"/>
            <a:pathLst>
              <a:path w="431" h="225">
                <a:moveTo>
                  <a:pt x="0" y="0"/>
                </a:moveTo>
                <a:lnTo>
                  <a:pt x="430" y="22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51400" y="2440080"/>
            <a:ext cx="1800" cy="560160"/>
          </a:xfrm>
          <a:custGeom>
            <a:avLst/>
            <a:gdLst/>
            <a:ahLst/>
            <a:rect l="l" t="t" r="r" b="b"/>
            <a:pathLst>
              <a:path w="1" h="353">
                <a:moveTo>
                  <a:pt x="0" y="0"/>
                </a:moveTo>
                <a:lnTo>
                  <a:pt x="0" y="3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51400" y="1512720"/>
            <a:ext cx="1800" cy="513000"/>
          </a:xfrm>
          <a:custGeom>
            <a:avLst/>
            <a:gdLst/>
            <a:ahLst/>
            <a:rect l="l" t="t" r="r" b="b"/>
            <a:pathLst>
              <a:path w="1" h="323">
                <a:moveTo>
                  <a:pt x="0" y="0"/>
                </a:moveTo>
                <a:lnTo>
                  <a:pt x="0" y="32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22280" y="3944880"/>
            <a:ext cx="11602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7880" y="3929040"/>
            <a:ext cx="919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1840" y="320040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=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01360" y="2133720"/>
            <a:ext cx="276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=‘urbana’ </a:t>
            </a:r>
            <a:r>
              <a:rPr b="1" lang="en-US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e &lt;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86360" y="122400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,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39040" y="207324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07360" y="1066680"/>
            <a:ext cx="1839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7840" y="1523880"/>
            <a:ext cx="3799800" cy="179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P.buyer, P.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ROM     Purchase P, Person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ERE  P.buyer=Q.nam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city=‘urbana’ A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.age &lt;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6600" y="17827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9304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Quer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plan (declar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lan (proced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implementation of each logical ope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884480" y="3048120"/>
            <a:ext cx="4260600" cy="1668600"/>
            <a:chOff x="4884480" y="3048120"/>
            <a:chExt cx="4260600" cy="1668600"/>
          </a:xfrm>
        </p:grpSpPr>
        <p:sp>
          <p:nvSpPr>
            <p:cNvPr id="150" name=""/>
            <p:cNvSpPr/>
            <p:nvPr/>
          </p:nvSpPr>
          <p:spPr>
            <a:xfrm>
              <a:off x="7472520" y="3048120"/>
              <a:ext cx="1672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Simp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nested loop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4480" y="43484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Table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89600" y="434844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(Index sca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267080" y="2133720"/>
            <a:ext cx="533520" cy="257040"/>
          </a:xfrm>
          <a:prstGeom prst="rightArrow">
            <a:avLst>
              <a:gd name="adj1" fmla="val 50000"/>
              <a:gd name="adj2" fmla="val 5189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40480" y="925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45A-B39C-4B21-A853-D60EA9974E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92D6A-B069-4DAE-81B3-1CE23F2F1F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implement the query processing unit in a DB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ical and physical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ion, Proj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op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, Difference,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FE2-3DA6-44F5-B4FF-1534F193E0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B44CE-60C5-4638-B834-9DA50F132A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4T21:48:18Z</dcterms:modified>
  <cp:revision>934</cp:revision>
  <dc:subject/>
  <dc:title>CS186: Introduction to Database Systems</dc:title>
</cp:coreProperties>
</file>