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5C47E8-777D-42BB-810F-8AA5B1FB3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876520-E2A8-4E75-81F8-2B67FF150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383DC3-B57C-42BE-8A7F-4B55FF25E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047083-8554-4C99-A6E0-9122F47C1C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65086E-A64F-46F5-A889-6DB2B5A37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40672A-FEF2-4F40-9A1E-547FCAC5A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936113-29E8-4FFA-9F4F-6E52596AE0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E2191B-B02B-4E8E-B671-8FDF0F99A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ADD A S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IN AP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’s one convenient place for all business log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535CCD-23DF-4A31-8622-6438D1742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FC3EDA-7160-4A6E-906E-9FC4A6020D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3F4201-9726-44D1-ABA4-305D7D9BE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B31625-0B30-45A0-9B34-E7480E856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38539D-F215-4CDC-98F0-6D48B39EA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C607A5-EC84-4252-A54A-99073760B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A65C51-7799-49CA-AF21-CC13FFF27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FE5D40-247C-4FDA-860D-2A9D66251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B3C60E-D964-464A-9491-04AEE4117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933DC4-634C-4A27-A5D6-5FE1E9C97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D76928-4C23-44F2-AC53-06CF26DA9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2FDCA7-73C3-4A65-AE7F-1CBC5D38E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66D941-F0D5-449D-83C6-54CE16712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A7605B-5136-4A01-8B88-5EE10972B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C85E50-069E-4BA6-9E9C-C735FA474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CA0E06-9203-4DEE-B685-E9409938A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94F4A6-C1A3-4953-9EAD-2AC2F225B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84ECDC-B6F3-452F-93F3-12A03C026D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14C25C-F909-465A-9860-B175454AE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980337-D3EA-48BD-98AB-B705CAD5E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98F9E0-6B6A-4F25-AA43-8F6357E49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56CA49-CAF7-4BEF-8C7B-E53B1182B2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01880" y="774720"/>
            <a:ext cx="5095800" cy="3822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FC8-0A1F-451C-A543-58DA1586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42D-B369-4BFB-870D-3FCC1980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55D-CFAE-4859-BA69-072A0EB5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8444-E12A-4601-A0C4-D6209959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C09-B409-49A3-BAF0-B99E66B7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788-2DDB-4FE3-ADCB-0146CC96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B14-F1BD-41BB-9BD7-3C76F49B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B9C-94EC-4057-AACE-9AFF6154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621-CF97-42C8-8FAC-D46C3853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684-6772-4CE2-BE94-24C66A80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B45-5079-4306-92AA-08FEE4AF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64A-1133-4261-8620-B9653A44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344D-12E6-4BDA-85F7-253134F7313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1772-3F70-4466-96F8-DC5C163C1F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-Created Doma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CREATE 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domain name&gt;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domain typ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DOMAIN SSN_TYPE as CHAR(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 DOMAIN SALARY as 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HECK SALARY &gt; 0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B27-3F13-4A3F-9A4C-14B6D586EC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E0A8C-00BA-4FBF-8B8E-9A0D05AA63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op and Alter Table Constr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51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0066"/>
                </a:solidFill>
                <a:latin typeface="Times New Roman"/>
              </a:rPr>
              <a:t>drop t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deletes all information about the dropped relation from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0066"/>
                </a:solidFill>
                <a:latin typeface="Times New Roman"/>
              </a:rPr>
              <a:t>alter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and is used to add attributes to an existing rel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LTER TABLE r ADD[DROP] COLUMN A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name of the attribute to be added (dropped) to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2232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tuples in the relation are assign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s the value for the new attribut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AB0-07D8-4943-8AE2-956199BC52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9DD34-E6EB-4506-9928-0B06BCBFE1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p of Table Cre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De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 constraints: Primary Key,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ain constraint: build-in domains, user-defined domains, Check, Not-NU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ence integrity: Foreign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207-7363-458C-A88C-B45185A930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E5DC9-E59D-4287-893F-D845B9E74D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d Techn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-chicken-no-eg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REATE TABLE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p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(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 CHAR(20) NOT NULL PRIMARY KEY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hair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CHAR(30) NOT NULL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REFERENCES Prof(name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REATE TABLE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Pr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(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 CHAR(30) NOT NULL PRIMARY KEY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pt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 CHAR(20) NOT NULL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REFERENCES Dept(name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irst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INSE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ll always violate a constraint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Deferred constraint chec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 only at the end of a 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ed in SQL as an o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ious how the schema was created in the first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ALTER TABLE ADD CONSTRA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ad the manual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E09-5470-4CCB-82B8-9C6A0AADDA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983EF-1D9F-4A2F-87C2-6D97A1662A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Update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277-BB67-4DFB-89BC-7EE00EEFCE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54E3D-CFBA-4896-AFF6-DF37EE7518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INSE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one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INSERT INTO Enroll VALUES (456, ’EECS647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2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456 takes EECS6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the result of a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2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INSERT INTO Enrol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(SELECT SID, ’EECS647’ FROM Stud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 WHERE SID NOT IN (SELECT SID FROM Enro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 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CID = ’EECS647’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ce everybody to take EECS647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73B0-9A22-4555-B1DB-30CEC9AC41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14901-BAB8-49B5-A6D6-99F44888E8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DELE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according to a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Student 456 drops EECS6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SID = 456 AND CID = ’EECS647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Drop students from all EECS classes with GPA lower than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SID IN (SELECT SID FROM Student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                           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GPA &lt; 1.0)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AND CID LIKE ’EECS%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8B7-8E6B-4C02-8A8B-933D08594C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860F2-F066-49F8-BA85-A0D4040C08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udent 142 changes name to “Barne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UPDATE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T name = ’Barney’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SID = 14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Let’s be “fair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UPDATE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T GPA = (SELECT AVG(GPA) FROM Student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update of every row causes average GPA to chan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GPA is computed over the old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CB0-3A37-45FB-B285-D2E0FD3ED3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222D1-C037-4261-989F-3C39916185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”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 enforcement: When an operation violates a constraint, abort the operation or try to “fix”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enforcing referential integrity constra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lize to arbitrary constrain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onitoring: When something happens to the data, automatically execute som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When price rises above $20 per share, se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When enrollment is at the limit and more students try to register, email the instru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373-82FA-4D23-961D-0C3D81F4CA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DC455-8066-44C2-94C3-F5088A1EBC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rig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CA)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ev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ccurs, test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if condition is satisfied, execute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Ev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whenever there comes a new student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with GPA higher than 3.0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c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then make him/her take EECS 168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1CD-CF1F-4452-825E-9E12D8AC64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DF42B-8DEF-4C0A-8E4B-5556042B2A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posted at the class webs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May 9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3 is assigned today, due Mar 2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mbedded SQL programming, please do not plan to use JAVA without further notic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installing the JDBC pack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5E87-947E-434D-8B0F-01EED254DB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D5385-0D6B-4676-B982-C631C0039C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gg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CREATE TRIGGER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EECS168AutoRecru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FTER INSERT ON 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REFERENCING NEW ROW AS new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OR EACH R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N (newStudent.GPA &gt; 3.0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INSERT INTO Enro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VALUES(newStudent.SID, ’EECS168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31960" y="1523880"/>
            <a:ext cx="4803840" cy="459720"/>
            <a:chOff x="1731960" y="1523880"/>
            <a:chExt cx="4803840" cy="459720"/>
          </a:xfrm>
        </p:grpSpPr>
        <p:sp>
          <p:nvSpPr>
            <p:cNvPr id="139" name=""/>
            <p:cNvSpPr/>
            <p:nvPr/>
          </p:nvSpPr>
          <p:spPr>
            <a:xfrm>
              <a:off x="1731960" y="1523880"/>
              <a:ext cx="358128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13240" y="1752480"/>
              <a:ext cx="30492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59480" y="152388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Ev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500120" y="2743200"/>
            <a:ext cx="6237360" cy="459720"/>
            <a:chOff x="1500120" y="2743200"/>
            <a:chExt cx="6237360" cy="459720"/>
          </a:xfrm>
        </p:grpSpPr>
        <p:sp>
          <p:nvSpPr>
            <p:cNvPr id="143" name=""/>
            <p:cNvSpPr/>
            <p:nvPr/>
          </p:nvSpPr>
          <p:spPr>
            <a:xfrm>
              <a:off x="1500120" y="2743200"/>
              <a:ext cx="449568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5800" y="2971800"/>
              <a:ext cx="30492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62120" y="2743200"/>
              <a:ext cx="157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Cond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9480" y="3276720"/>
            <a:ext cx="7543800" cy="1526400"/>
            <a:chOff x="609480" y="3276720"/>
            <a:chExt cx="7543800" cy="1526400"/>
          </a:xfrm>
        </p:grpSpPr>
        <p:sp>
          <p:nvSpPr>
            <p:cNvPr id="147" name=""/>
            <p:cNvSpPr/>
            <p:nvPr/>
          </p:nvSpPr>
          <p:spPr>
            <a:xfrm>
              <a:off x="609480" y="3276720"/>
              <a:ext cx="7543800" cy="91404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4480" y="4190760"/>
              <a:ext cx="0" cy="2282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1080" y="434340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43D-0482-49CF-B05C-0615652C07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7BBD8-B2C4-42E1-A281-756EF67AC7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gger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event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NSERT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DELETE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ularity—trigger can be activ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O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AC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RO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odifi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O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AC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TATEM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performs mod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ing—action can be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triggering ev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4A65-55A9-4E97-BD10-76F6682CF2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39104-C223-450C-B562-12B33EDE23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ition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LD 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modified row before the triggering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NEW 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he modified row after the triggering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LD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hypothetical read-only table containing all modified rows before the triggering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NEW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hypothetical table containing all modified rows after the triggering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of them make sense all the time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AF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INSE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-level trig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only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NEW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BEFO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ow-level trig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only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OLD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B0A-9A5F-4CB6-A9F8-B13AB40D8F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9BEA6-4E09-4B53-816B-FD053AD3AA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-level trigg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REATE TRIGGER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utoRecru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FTER INSERT ON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REFERENCING NEW TABLE AS newStud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OR EACH STATE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INSERT INTO Enro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(SELECT SID, ’EECS647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FROM newStud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WHERE GPA &gt; 3.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08E-9BC2-4EB9-BC54-77429B9506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70472-D2A9-427E-9B80-9AF90C1708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rigg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give faculty more than 50% raise in one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REATE TRIGGER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NotTooGreed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EFORE UPDATE OF salary ON Facul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REFERENCING OLD ROW AS o, NEW ROW AS 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OR EACH R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N (n.salary &gt; 1.5 * o.salar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T n.salary = 1.5 * o.sala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iggers are often used to “condition”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option is to raise an error in the trigger body to abort the transaction that caused the trigger to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04B-E02E-4585-BDF8-AA5F588928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04C37-52D2-4447-A569-86674F7742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- vs. row-level trig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are both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ain triggers are only possible at statement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the average GPA of students inserted by this statement exceeds 3.0, do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row-level triggers are easier to implement and may be more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tement-level triggers require significant amount of state to be maintained in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OL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ever, a row-level trigger does get fired for each row, so complex row-level triggers may be inefficient for statements that generate lots of modif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9C7-C189-41AF-A28C-32E2986587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96A41-249F-4692-8732-7EA75BEDBA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statement-level trig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faculty a raise if GPA’s in one update statement are all 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REATE TRIGGER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utoRa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FTER UPDATE OF GPA ON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REFERENCING OLD TABLE AS o, NEW TABLE AS 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OR EACH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N (NOT EXISTS(SELECT * FROM o, 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               WHERE o.SID = n.S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               AND o.GPA &gt;= n.GP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UPDATE Faculty SET salary = salary + 100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ow-level trigger would be difficult to write in thi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D09-4698-408D-8F7B-B37F17BC2E0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A146F-6445-40F0-9E4A-7E01A74955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 firing of trig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on of one trigger causes another trigger to f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get into an infinite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DBMS restrict trigger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BMS set a maximum level of recursion (16 in DB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with constraints (very tricky to get righ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do we check if a triggering event violates constraint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a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igger (so the trigger can fix a potential vio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an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AF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riggers also see the effects of, say, cascaded deletes caused by referential integrity constraint vio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E84-2376-448F-A31E-071A0D8CA7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080AE-9A98-474D-B9A0-D06865F59C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ike a “virtual”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d by a query, which describes how to compute the view contents on the f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MS stores the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view definition qu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stead of view cont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be used in queries just like a regular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39E-1293-4180-9FAE-2F72C3427C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DF5B7-A24A-47B9-879B-7D7A54AC96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dropping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EECS647ro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REATE VIEW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EECS647Roster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SID IN (SELECT SID FROM Enro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         WHERE CID = ’EECS647’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op a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DROP VIEW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view_name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200040" y="1981080"/>
            <a:ext cx="5548320" cy="914400"/>
            <a:chOff x="3200040" y="1981080"/>
            <a:chExt cx="5548320" cy="914400"/>
          </a:xfrm>
        </p:grpSpPr>
        <p:sp>
          <p:nvSpPr>
            <p:cNvPr id="169" name=""/>
            <p:cNvSpPr/>
            <p:nvPr/>
          </p:nvSpPr>
          <p:spPr>
            <a:xfrm>
              <a:off x="5766480" y="198108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alled “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base tables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00040" y="2285640"/>
              <a:ext cx="28954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236196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3EA-CC81-4BCA-8B5A-AF26544EF8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61096-193D-4E5E-A802-95765A6ECB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reate Table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9760" y="1103040"/>
            <a:ext cx="85233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SQL relation is defined using the </a:t>
            </a:r>
            <a:r>
              <a:rPr b="1" lang="en-US" sz="2800" spc="-1" strike="noStrike">
                <a:solidFill>
                  <a:srgbClr val="330066"/>
                </a:solidFill>
                <a:latin typeface="Times New Roman"/>
              </a:rPr>
              <a:t>create t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grity-constra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grity-constra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name of the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n attribute name in the schema of rela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data type of values in the domain of attribu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488960"/>
                <a:tab algn="l" pos="194940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7C8-5C6D-4517-A4D9-040C887CCA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38CF7-96C7-4D31-8938-9A9EDD576B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views in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ind the average GPA of EECS647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AVG(GPA) FROM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ECS647Roster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process the query, replace the reference to the view by its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AVG(GPA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(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FROM Studen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WHERE SID IN (SELECT SID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              FROM Enroll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              WHERE CID = ’EECS647’)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633-B7D2-484D-B2D1-2C8B22DA62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E7C0F-7EF8-4A04-B95A-4774B1EEBB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use view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de data from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ide complexity from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applications deal with views, we can change the underlying schema without affecting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all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hysical data independen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change the physical organization of data without affecting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vide a uniform interface for different implementations or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database applications use tons of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065-D75D-4EA4-ABC0-5EA160A136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B274A-B9C0-4D99-9577-2AF3925FB0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ying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seem to make sense since views are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es make sense if that is how users see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modify the </a:t>
            </a:r>
            <a:r>
              <a:rPr b="0" i="1" lang="en-US" sz="2800" spc="-1" strike="noStrike">
                <a:solidFill>
                  <a:srgbClr val="738d74"/>
                </a:solidFill>
                <a:latin typeface="Times New Roman"/>
              </a:rPr>
              <a:t>base t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the modification would appear to have been accomplished on the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arefu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one way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many ways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may be no way to modif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206-120C-451D-A795-04DD4FD545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E7280-669E-4B09-AC49-CBB3662BC1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imple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StudentGPA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SID, GPA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LETE FROM StudentGPA WHERE SID = 12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LETE FROM Student WHERE SID = 12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533-CEF7-4749-AC46-E4DB67984D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656B6-6D19-4347-B72C-05741CB3DA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mpossible 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HighGPAStudent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SID, GPA FROM Student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WHERE GPA &gt; 3.7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INSERT INTO HighGPAStud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VALUES(987, 2.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tter what you do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inserted row will not b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GPA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500-1375-4AE4-BC7F-02489343B4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33B26-C0B1-4288-9DA6-52D0864D02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se with too many possib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REATE VIEW AverageGPA(GPA) AS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AVG(GPA)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e that you can rename columns in view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UPDATE AverageGPA SET GPA = 2.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everybody’s GPA to 2.5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everybody’s GPA by the same amou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ower Lisa’s GP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620-F05A-4F5C-B7EE-70662857FF0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0A313-2D23-4783-BCA1-CAB54E47E4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92 updateable vi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r less just single-table selectio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aggre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sub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ably somewhat restr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might get it wrong in so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e the slide titled “An impossible case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ing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ITH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HECK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P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the end of the view definition will make DBMS reject such modif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53A-D413-40BD-A129-82EF7E18B95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83851-CD25-464E-B5FD-D53A6873D4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QL features covered so f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Indexes,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C1A-5C1E-45BE-9337-2D2816218BE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3A999-EDC4-4A5F-9FB6-2B9AA9231B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strains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AULT &lt;valu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ial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46F-D305-4131-A635-A7996F6B7B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46420-90FD-4A1F-B8E4-74E17B6DC5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forcing Foreign K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ELETE and ON UPD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DEFAULT (if default is define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484-12B4-4A1E-9196-35A27B2E53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2DEB5-D341-4195-BDF3-9AB5F45F49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Enroll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ettrGoth12 BT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: integer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ettrGoth12 BT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: 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REATE TABLE Enro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(SID INTEG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CID CHAR(10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PRIMARY KEY(SID, CID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LettrGoth12 BT"/>
              </a:rPr>
              <a:t>NOT NULL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2362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LettrGoth12 BT"/>
              </a:rPr>
              <a:t>NOT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8d74"/>
                </a:solidFill>
                <a:latin typeface="LettrGoth12 BT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CID REFERENCES Course(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1148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966a"/>
                </a:solidFill>
                <a:latin typeface="LettrGoth12 BT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SID REFERENCES Student(S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3581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LettrGoth12 BT"/>
              </a:rPr>
              <a:t>ON DELETE CASC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4495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LettrGoth12 BT"/>
              </a:rPr>
              <a:t>ON DELETE CASC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2362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9ce8"/>
                </a:solidFill>
                <a:latin typeface="LettrGoth12 BT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‘EECS647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9BC-9E69-46ED-9056-B367AC8519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E2D59-D20A-466F-9A99-98719384AF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and Domain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op table, Alter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, delete, up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C8C-3E4B-4D4E-8FB6-57433D4FE5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4CC93-B00A-4F71-B56E-9261EF766B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ple- and attribute-based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CHEC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with a singl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hecked when a tuple or an attribute is inserted or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CREATE TABLE Enrol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(SID INTEGER NOT NULL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   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CHECK (SID IN (SELECT SID FROM Student))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CID ...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it a referential integrity constrain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quite; not checked w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modifi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F0A-F3E3-4B3A-9D0C-A1BAF74859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9D9BF-AA62-40FD-8AA9-C6D304ABD4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-in Domain Types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106640"/>
            <a:ext cx="8931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mallint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Small integer (a machine-dependent subset of the integer domain typ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cimal(p,d)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Fixed point number, with user-specified precision of a total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gits,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gits to the right of decimal poi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al, double precision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Floating point and double-precision floating point numb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ar(n)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Fixed length character string, with user-specified leng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archar(n)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length character strings, with user-specified maximum leng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94C-31CF-4CC4-9B0E-205083B060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EDC67-1F1D-4E73-B573-57206169DC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26T20:55:46Z</dcterms:modified>
  <cp:revision>1203</cp:revision>
  <dc:subject/>
  <dc:title>CS186: Introduction to Database Systems</dc:title>
</cp:coreProperties>
</file>