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D13-B4A5-4237-9178-32EE751343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03DB-B394-4026-863D-53A5A10AD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4917-5468-4988-83A2-FF9B1ABAD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712F-AB90-4B87-9AC1-D28CF88B3E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53BD-0078-43CD-B1AD-F6982AB07F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45A5-E0CC-4F7B-8B63-27F0BD709D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4B9-0CA0-4C2C-A218-EB279A5BA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46E4-2584-4985-994E-F9CA1ECA6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7916-DCE8-4262-B5AA-B56A91AAB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B50-E6AD-4369-89AE-50C7D569CD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8AB-C584-484E-A53C-9F1F93AAF8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8114-11DB-4D29-A058-6FF21DEF3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3C47-0731-4B0B-8AB4-D1C409AF3D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ABE7-CACD-43D8-9B8C-D9D7D4D70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793B-6DDD-453C-BF0B-489C612A3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48FF-3051-44BF-A9DD-4E450718CD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834-7645-4FD6-B5AF-C7DB24F9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632-10C5-4884-A907-63CF3E4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62E-3EA4-49ED-8BD3-15A596F7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626B-4D45-458D-8362-2D06A4F0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AA5-9163-4811-B87A-43274B5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35E-9944-451E-AC5B-5BBA5069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032-DCFB-4B9E-B278-C36A9AB9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897-19E7-408F-8FEA-B0BC4E83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EE0-4C4E-40A8-A8AA-721C6231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D41-0C55-4D3E-AE3B-C1DFCB6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607-BE31-4E7B-A4A7-A55D155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1B5-9C7C-4650-B950-674703E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8E88-FCEF-48F7-899F-F4A0146A694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537F-3339-4C7F-AF3F-628FF3C40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huan@eecs.ku.edu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Database Management Syste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atabase Management System (DBM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programs that enable uses to create and mainta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e, manage, and access data in a datab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this term is us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bases with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, DB2,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ly because they predate other large reposit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because of technical ric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we say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DB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this class we will usually follow this conv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keep an open mind about applying the ide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7D9-FA0D-4573-9D55-F62CD22593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9DD1C-150B-4487-84B0-C31C980BDA60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the WWW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sophisticated search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awler indexes pages on the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word-based search fo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s mostly unstructured and untyp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 onl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modify th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get summaries, complex combination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 guarantees provided for freshness of data, consistency across data items, fault tolerance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b sites typically have a (relational) DBMS in the background to provide these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58C-DFEC-486D-AB4A-FEF4603830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E66E-BCC7-49B8-B7AC-82BF8F9C4A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the WWW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is changing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Extraction to get structure from unstructu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w standards e.g., XML, Semantic Web can help data mode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0A5-054E-4BE1-B25D-14C63A0A80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7399C-EBC5-48BD-A38C-F7FABBF5EA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12511" r="0" b="19585"/>
          <a:stretch/>
        </p:blipFill>
        <p:spPr>
          <a:xfrm>
            <a:off x="3352680" y="990720"/>
            <a:ext cx="5410440" cy="529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“Search” vs. Qu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you wanted to find out which actors donated to John Kerry’s presidential campaig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lang="en-US" sz="2400" spc="-1" strike="noStrike">
                <a:solidFill>
                  <a:srgbClr val="e81f11"/>
                </a:solidFill>
                <a:latin typeface="Times New Roman"/>
              </a:rPr>
              <a:t>“actors donated to john kerry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your favorite search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Osaka"/>
              </a:rPr>
              <a:t>If it isn’t “published”, it can’t be search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4CC-B730-444D-ACB7-29A58CF4B6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C0D1A-C0C8-4D04-8F5D-8E55349C6D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36563"/>
          <a:stretch/>
        </p:blipFill>
        <p:spPr>
          <a:xfrm>
            <a:off x="380880" y="1295280"/>
            <a:ext cx="4038840" cy="466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>
            <a:lum bright="26000"/>
          </a:blip>
          <a:srcRect l="0" t="0" r="0" b="26188"/>
          <a:stretch/>
        </p:blipFill>
        <p:spPr>
          <a:xfrm>
            <a:off x="4572000" y="1219320"/>
            <a:ext cx="4086360" cy="4572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26" name=""/>
          <p:cNvGrpSpPr/>
          <p:nvPr/>
        </p:nvGrpSpPr>
        <p:grpSpPr>
          <a:xfrm>
            <a:off x="3733920" y="3276720"/>
            <a:ext cx="1371600" cy="1447200"/>
            <a:chOff x="3733920" y="3276720"/>
            <a:chExt cx="1371600" cy="1447200"/>
          </a:xfrm>
        </p:grpSpPr>
        <p:sp>
          <p:nvSpPr>
            <p:cNvPr id="127" name=""/>
            <p:cNvSpPr/>
            <p:nvPr/>
          </p:nvSpPr>
          <p:spPr>
            <a:xfrm>
              <a:off x="3733920" y="4316760"/>
              <a:ext cx="1371600" cy="40716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3501360"/>
              <a:ext cx="1371600" cy="101808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3733920" y="3276720"/>
            <a:ext cx="137160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76720"/>
                      <a:ext cx="137160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“Database Query”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38947" t="22663" r="31717" b="69249"/>
          <a:stretch/>
        </p:blipFill>
        <p:spPr>
          <a:xfrm>
            <a:off x="457200" y="1143000"/>
            <a:ext cx="441972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61057" t="19423" r="19219" b="66819"/>
          <a:stretch/>
        </p:blipFill>
        <p:spPr>
          <a:xfrm>
            <a:off x="5181480" y="990720"/>
            <a:ext cx="29718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2D5-B49E-472E-B8A4-6685B26326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5ABE7-C917-43B3-B05C-5BF29633B7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200400"/>
            <a:ext cx="37735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Experimen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’re updating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goe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hanges surv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120" y="2971800"/>
            <a:ext cx="16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22400" y="2973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Partn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3520" y="297324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7400" y="29732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N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9200" y="2973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" y="54928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7120" y="549288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1360" y="549288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All Since Las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3160" y="549288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a File System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30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Experiment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nd your project partner are editing the same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both save it at the same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se changes surviv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828800"/>
            <a:ext cx="5486400" cy="312300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Q: How do you wri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grams over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bsystem when 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mises you only “???”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Book Antiqua"/>
              </a:rPr>
              <a:t>A: Very, very carefully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598-6580-4099-A6BD-15339972E4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2FACE-8D9F-4A2E-A4B7-0601451143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 Support for Data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7440" y="1066680"/>
            <a:ext cx="813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an be stored in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what every programming language offer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M is fast, and random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n’t this heav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OS includes a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magnetic di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pen, read, seek, clo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protections to be set o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wbacks relative to RA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543-8D3D-4CC6-9B28-FBF2BAA706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5813D-79D7-4257-851F-C2B3217210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anagement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327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re could we want than a fil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e, efficien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nefits of good data mode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M.O.P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 Not real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we’ll see this seme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fact, the OS often gets in the way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240" y="5273640"/>
            <a:ext cx="855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cf0e3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</a:rPr>
              <a:t>ad ho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or used for specific or immediate problems o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e9ce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7e9ce8"/>
                </a:solidFill>
                <a:latin typeface="Times New Roman"/>
              </a:rPr>
              <a:t>SMOP</a:t>
            </a:r>
            <a:r>
              <a:rPr b="0" lang="en-US" sz="2400" spc="-1" strike="noStrike">
                <a:solidFill>
                  <a:srgbClr val="d8d8e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atter Of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7364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E26-BEED-45FB-BA8C-E830B45AD3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61E7E-4E7C-4E2E-8996-CBD567B124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Commercial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ajor part of the software industr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cle, IBM, Microso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Sybase, Informix (now IBM), Tera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er players: java-based dbms, devices, OO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ts of related indus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warehouse, document management, storage, backup, reporting, business intelligence, ERP, CRM, app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itional Relational DBMS products dominant and evol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apted for extensibility (user-defined types), native XML suppo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merger of file system/DB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Source coming on str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ySQL, PostgreSQL, Apache Derby, BerkeleyDB, Ingres, Eigen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of course, the other “database” techn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engines, P2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4A3-8736-4D28-8D6C-F4D3EC0E4A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D79D3-7A9A-4B38-9A28-4F2674BB07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a DBMS: a short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 unauthorized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persistent storage for progra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storage structure for efficient query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backup and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Times New Roman"/>
              </a:rPr>
              <a:t>And many many others that are going to be explored in thi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3B4-FE6A-4CC9-B5E2-DD30FA5EE5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784D7-B993-4DD1-B2CE-93BC286A1D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ies for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13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atab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atabase management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ake a database cour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ill t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take the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ew of clas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501-69AC-496A-8D57-A51B16095D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3EF47-5AF2-44A0-B4B3-05A8A2690998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atabase systems will we cov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be try to be broad and touch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DB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Oracle, SQL Server, DB2, Postg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mi-structured”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DB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XML repositories like Xind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: transfer data into knowledg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assume you have used web search eng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assume you don’t know relational datab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 they pioneered many of the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focus will be on relational DBM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requent side-notes on search engines, XM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1A8-6B55-43CC-805C-B30D17669F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3A2A7-AADD-4B36-B396-8E1F094DA5B6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ystems are at the core of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incredibly important to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ic is intellectually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n’t that m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good on your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spcAft>
                <a:spcPts val="11"/>
              </a:spcAft>
              <a:buNone/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pend a little time on each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819520"/>
            <a:ext cx="5105160" cy="12600"/>
          </a:xfrm>
          <a:prstGeom prst="line">
            <a:avLst/>
          </a:prstGeom>
          <a:ln w="38160">
            <a:solidFill>
              <a:srgbClr val="d60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A7A-3FA4-409B-A190-FAEF8FDBC3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2F646-D886-4F33-B47B-7367C7F7A93F}" type="datetime1">
              <a:rPr lang="en-US"/>
              <a:t>07/28/2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from computation to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n corporate computing for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, p2p made this clear for personal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true of scientific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DB technology has exploded in the last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Corpo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etail swipe/clickstreams, “customer relationship mgmt”, “supply chain mgmt”, “data warehouses”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We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not just “documents”. Search engines, e-commerce, blogs, wikis, other “web service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Scientif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igital libraries, genomics, satellite imagery, physical sensors, simulatio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Perso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sic, photo, &amp; video libraries.  Email archives. File contents (“desktop search”)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5320" y="952560"/>
            <a:ext cx="49798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. Database systems are the core of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A1C-B22E-41E0-B471-A2841C02F6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D2FC1-7E86-4A75-BC6B-F1A02473F8D2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5181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is power.” -- Sir Francis B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great power comes great responsibility.” -- SpiderMan’s Uncle 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90120" y="952560"/>
            <a:ext cx="5354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. DBs are incredibly important to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9240" y="5514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Arial"/>
              </a:rPr>
              <a:t>Policy-makers should understand technological pos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Arial"/>
              </a:rPr>
              <a:t>Informed Technologists needed in public discourse on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67280" y="1903320"/>
            <a:ext cx="3016440" cy="30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11D-AA09-463E-AAA1-0919B671BC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19ED7-652C-44B1-ACDC-1995D9EDA91F}" type="datetime1">
              <a:rPr lang="en-US"/>
              <a:t>07/28/26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 and systems for query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queries &amp; query semantics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massive data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for 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concurrent ac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ing transactional seman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 data semantics even if you pull the pl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 your data sp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mantics: the meaning or relationship of meanings of a sign or set of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02000" y="952560"/>
            <a:ext cx="4252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.  The topic is intellectually r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610-2CF9-46E9-9DAD-B0F65D3C01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2A15E-85B2-4D29-8FF9-59AD8F0A9FA5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news: It is a lot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news: the course is front 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of the hard work is in the first half of the seme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ad balanced with most other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066680"/>
            <a:ext cx="3657600" cy="12960"/>
          </a:xfrm>
          <a:prstGeom prst="line">
            <a:avLst/>
          </a:prstGeom>
          <a:ln w="25560">
            <a:solidFill>
              <a:srgbClr val="d60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07400" y="952560"/>
            <a:ext cx="3457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.  It isn’t that much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62F-8203-413D-99E0-DEDA6CB1E4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5F060-EA6B-472F-BE0B-F46F18C7CBAD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398"/>
              </a:lnSpc>
              <a:spcBef>
                <a:spcPts val="601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 why?  This is not a cours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cle administ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DB2 engine develop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gh it’s useful for both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398"/>
              </a:lnSpc>
              <a:spcBef>
                <a:spcPts val="601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course for well-educated computer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system concepts and techniques increasingly used “outside the box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 your friends at Microsoft, Yahoo!, Google, Appl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ually, they may or may not realize i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1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rich understanding of these issues is a basic and (un?)fortunately unusual ski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04880" y="952560"/>
            <a:ext cx="38199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.  Looks good on my res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732-4B9C-4B4B-9CEA-35BEE77752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D54A-3E89-4F52-B8EE-93254A9253C9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f. Luke Huan, EE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jhuan@eecs.ku.e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. Office Hou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ton Hall 2034, M, W 4:15-5:15p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9A0-B58B-40D6-AC7A-BB59506F06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EED44-047C-4660-88AA-DF32AEF6844A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ow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Worklo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with a “real world” foc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a web-based application w/PostgreSQL and your favorite internet programming languge (PHP, JAVA, PERL, just naming a fe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assignments and quiz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s – 1 Midterm &amp; 1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to be done in group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your partner AS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se is “front-load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of the hard work is in the first ha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753-DF6C-4F50-9EDF-972DDF0D15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42848-1372-4EE7-A5E1-D91C50AB91C7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book: Elmasri &amp; Navatgh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website - people.eecs.ku.edu/~jhuan/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include eecs 647 in your mail to the instructor (for quick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ing, hand-in policies, etc. is on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textbook will be available at the KU bookstore today or tom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1DB-3CDF-454B-984A-5F16B1C52F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8BB87-6DF7-4154-BB5A-23F4B76865E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54360" y="1066680"/>
            <a:ext cx="4147920" cy="539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0F4-96C9-4B84-8EC4-69D6F2C87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C4E85-D953-4203-8CB0-308DE1F6A86D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ademic Miscon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ake academic misconduc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ncourage student to work together for doing homework and projects, but each student should write down thei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w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absolutely encouraged to discuss with your classmates about your homework assignments, programming exercises, and final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responsible for all your work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homework assignments and projects resulted from discussion, please always acknowledge other people’s contribution by including a sentence at the beginning of the hand-in saying “I discussed the homework (project) with XXX (include more names if necessary)”. There is absolutely NO penalty for doing 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932-FBAD-45B8-9F1E-E88547A0C6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09A57-E3CB-4963-B453-85C308F890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for the rest of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a preview of the class cont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al database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in the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ntity-Relationship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lecture is from Chapter 1 and 2 in E &amp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hapter 3 for nex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1523880"/>
            <a:ext cx="4419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DE2-F40F-4955-85B5-F2A32AEF33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88B3-132D-4DCA-ADA2-8342A8C09C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base logical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y with 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37A-784A-48C0-97C0-E0705C3F86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4C0D5-8852-49C8-92AC-F429A57B82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odels Describ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7200" y="1218960"/>
            <a:ext cx="8131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data model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llection of concepts for describ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levels of data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ual (semantic) data model uses data (facts) to describe a physical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resentational model describes data in database management syste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data model describe how data is stored in files in compute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515-10CB-4879-931C-15844228F3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A574-6A8A-4378-87CB-F89045B20D8A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R Model for a mini-Wor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327672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Ent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world object distinguishable from other objects. An entity is described (in DB) using a set of attributes.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among two or more entities.  E.g., John works in Pharmacy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07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219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224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 Describes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elational mod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most popular representational data model that are used by current commercial DB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describes data us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3276720"/>
          <a:ext cx="6095880" cy="1955520"/>
        </p:xfrm>
        <a:graphic>
          <a:graphicData uri="http://schemas.openxmlformats.org/drawingml/2006/table">
            <a:tbl>
              <a:tblPr/>
              <a:tblGrid>
                <a:gridCol w="2031840"/>
                <a:gridCol w="2235240"/>
                <a:gridCol w="182880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6629400" y="3276720"/>
            <a:ext cx="2449800" cy="1441440"/>
            <a:chOff x="6629400" y="3276720"/>
            <a:chExt cx="2449800" cy="1441440"/>
          </a:xfrm>
        </p:grpSpPr>
        <p:sp>
          <p:nvSpPr>
            <p:cNvPr id="241" name=""/>
            <p:cNvSpPr/>
            <p:nvPr/>
          </p:nvSpPr>
          <p:spPr>
            <a:xfrm>
              <a:off x="7378560" y="32767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29400" y="35910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63000" y="35910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5600" y="42786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88280" y="36576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44080" y="33195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4760" y="43434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5800" y="36450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64480" y="36896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07400" y="40356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183520" y="40356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5410080"/>
            <a:ext cx="76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rdinality = 3, degree = 3, all rows disti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715000"/>
            <a:ext cx="716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o all columns in a relation instance have to be distin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650-E2D0-42AC-BD52-33470C01B7B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01D6D-7995-4931-9C0C-4F2F08BBD43A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56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268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273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152280" y="3200400"/>
          <a:ext cx="365760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191120" y="3178080"/>
          <a:ext cx="37335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108080"/>
                <a:gridCol w="140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191120" y="4245120"/>
          <a:ext cx="2438280" cy="1927080"/>
        </p:xfrm>
        <a:graphic>
          <a:graphicData uri="http://schemas.openxmlformats.org/drawingml/2006/table">
            <a:tbl>
              <a:tblPr/>
              <a:tblGrid>
                <a:gridCol w="1371240"/>
                <a:gridCol w="1067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A4D-06C2-47B7-854B-A67E1D88735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AA838-CDEC-446D-8897-683C2E44AB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89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301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306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152280" y="3200400"/>
          <a:ext cx="487692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  <a:gridCol w="121932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181480" y="3200400"/>
          <a:ext cx="373392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108080"/>
                <a:gridCol w="140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9C2-CB28-4FE2-8D3A-0F1D2DC6A8B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A6044-5399-40F8-82C1-EFE5A08B82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33520" y="3276720"/>
          <a:ext cx="8153280" cy="1990440"/>
        </p:xfrm>
        <a:graphic>
          <a:graphicData uri="http://schemas.openxmlformats.org/drawingml/2006/table">
            <a:tbl>
              <a:tblPr/>
              <a:tblGrid>
                <a:gridCol w="1420560"/>
                <a:gridCol w="1908360"/>
                <a:gridCol w="1055520"/>
                <a:gridCol w="1254240"/>
                <a:gridCol w="1143000"/>
                <a:gridCol w="13716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322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334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339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434-9C34-42FC-8E59-7E3C6217067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26323-B22F-4633-8B83-95C8DC5526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: Query Information from a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r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e the salary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 W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AME=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klin Wo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105520" y="1206360"/>
          <a:ext cx="365760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973-71F9-4048-9BDA-0CE4DA7C2A0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B70EB-B490-4C3C-AF15-3DCED84A6E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110" t="24789" r="5550" b="8263"/>
          <a:stretch/>
        </p:blipFill>
        <p:spPr>
          <a:xfrm>
            <a:off x="304920" y="1143000"/>
            <a:ext cx="848016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3468600"/>
            <a:ext cx="1189080" cy="327240"/>
          </a:xfrm>
          <a:custGeom>
            <a:avLst/>
            <a:gdLst/>
            <a:ahLst/>
            <a:rect l="l" t="t" r="r" b="b"/>
            <a:pathLst>
              <a:path w="749" h="206">
                <a:moveTo>
                  <a:pt x="0" y="135"/>
                </a:moveTo>
                <a:cubicBezTo>
                  <a:pt x="72" y="98"/>
                  <a:pt x="151" y="83"/>
                  <a:pt x="229" y="64"/>
                </a:cubicBezTo>
                <a:cubicBezTo>
                  <a:pt x="301" y="27"/>
                  <a:pt x="377" y="11"/>
                  <a:pt x="457" y="1"/>
                </a:cubicBezTo>
                <a:cubicBezTo>
                  <a:pt x="564" y="10"/>
                  <a:pt x="642" y="0"/>
                  <a:pt x="726" y="56"/>
                </a:cubicBezTo>
                <a:cubicBezTo>
                  <a:pt x="748" y="88"/>
                  <a:pt x="749" y="132"/>
                  <a:pt x="726" y="166"/>
                </a:cubicBezTo>
                <a:cubicBezTo>
                  <a:pt x="720" y="175"/>
                  <a:pt x="712" y="184"/>
                  <a:pt x="702" y="190"/>
                </a:cubicBezTo>
                <a:cubicBezTo>
                  <a:pt x="688" y="198"/>
                  <a:pt x="655" y="206"/>
                  <a:pt x="655" y="206"/>
                </a:cubicBezTo>
                <a:cubicBezTo>
                  <a:pt x="518" y="203"/>
                  <a:pt x="381" y="202"/>
                  <a:pt x="244" y="198"/>
                </a:cubicBezTo>
                <a:cubicBezTo>
                  <a:pt x="186" y="196"/>
                  <a:pt x="128" y="196"/>
                  <a:pt x="71" y="190"/>
                </a:cubicBezTo>
                <a:cubicBezTo>
                  <a:pt x="54" y="188"/>
                  <a:pt x="23" y="174"/>
                  <a:pt x="23" y="174"/>
                </a:cubicBezTo>
                <a:cubicBezTo>
                  <a:pt x="5" y="146"/>
                  <a:pt x="12" y="159"/>
                  <a:pt x="0" y="135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D36-9859-4413-944A-D934F94EB80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B7BDB-116A-4382-918C-2A09FAF480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Database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F68-952E-43BA-AB78-F5BFAF0E2B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B0B2C-A346-4F35-B2DA-2831BBD90C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Dis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759200" y="1792440"/>
            <a:ext cx="3149640" cy="1801800"/>
            <a:chOff x="4759200" y="1792440"/>
            <a:chExt cx="3149640" cy="1801800"/>
          </a:xfrm>
        </p:grpSpPr>
        <p:sp>
          <p:nvSpPr>
            <p:cNvPr id="359" name=""/>
            <p:cNvSpPr/>
            <p:nvPr/>
          </p:nvSpPr>
          <p:spPr>
            <a:xfrm>
              <a:off x="4759200" y="237960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59200" y="179244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32200" y="1062000"/>
            <a:ext cx="3176640" cy="4594320"/>
            <a:chOff x="4732200" y="1062000"/>
            <a:chExt cx="3176640" cy="4594320"/>
          </a:xfrm>
        </p:grpSpPr>
        <p:grpSp>
          <p:nvGrpSpPr>
            <p:cNvPr id="362" name=""/>
            <p:cNvGrpSpPr/>
            <p:nvPr/>
          </p:nvGrpSpPr>
          <p:grpSpPr>
            <a:xfrm>
              <a:off x="4732200" y="1739880"/>
              <a:ext cx="3176640" cy="3916440"/>
              <a:chOff x="4732200" y="1739880"/>
              <a:chExt cx="3176640" cy="39164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759200" y="2327400"/>
                <a:ext cx="3149640" cy="1214280"/>
                <a:chOff x="4759200" y="2327400"/>
                <a:chExt cx="3149640" cy="1214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759200" y="23274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49920" y="24192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94280" y="25225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759200" y="1739880"/>
                <a:ext cx="3149640" cy="1216080"/>
                <a:chOff x="4759200" y="1739880"/>
                <a:chExt cx="3149640" cy="12160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759200" y="17398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49920" y="18320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994280" y="19368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4732200" y="44402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732200" y="4375080"/>
              <a:ext cx="3164040" cy="1216080"/>
              <a:chOff x="4732200" y="4375080"/>
              <a:chExt cx="3164040" cy="1216080"/>
            </a:xfrm>
          </p:grpSpPr>
          <p:sp>
            <p:nvSpPr>
              <p:cNvPr id="373" name=""/>
              <p:cNvSpPr/>
              <p:nvPr/>
            </p:nvSpPr>
            <p:spPr>
              <a:xfrm>
                <a:off x="4732200" y="43750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36960" y="44798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880" y="45720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013440" y="1062000"/>
              <a:ext cx="681120" cy="3994200"/>
              <a:chOff x="6013440" y="1062000"/>
              <a:chExt cx="681120" cy="3994200"/>
            </a:xfrm>
          </p:grpSpPr>
          <p:sp>
            <p:nvSpPr>
              <p:cNvPr id="377" name=""/>
              <p:cNvSpPr/>
              <p:nvPr/>
            </p:nvSpPr>
            <p:spPr>
              <a:xfrm>
                <a:off x="6103800" y="12445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03800" y="10620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3800" y="35924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3440" y="13492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6600960" y="134928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45040" y="23274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45040" y="29401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5040" y="502776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5040" y="35020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5040" y="23270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9120" y="49896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29120" y="22874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29120" y="29145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91480" y="3782880"/>
            <a:ext cx="830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72320" y="33051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67640" y="4084200"/>
            <a:ext cx="392040" cy="58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7800" y="1662120"/>
            <a:ext cx="46479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latters spin (say, 90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32320" y="1055520"/>
            <a:ext cx="8200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97640" y="11890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760" y="2120760"/>
            <a:ext cx="412452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arm assembly is moved in or out to position  a head on a desired track. Tracks under heads  make    a </a:t>
            </a: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ylinder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imaginary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20560" y="1371600"/>
            <a:ext cx="1033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41680" y="3713040"/>
            <a:ext cx="1476720" cy="517320"/>
            <a:chOff x="4441680" y="3713040"/>
            <a:chExt cx="1476720" cy="517320"/>
          </a:xfrm>
        </p:grpSpPr>
        <p:sp>
          <p:nvSpPr>
            <p:cNvPr id="399" name=""/>
            <p:cNvSpPr/>
            <p:nvPr/>
          </p:nvSpPr>
          <p:spPr>
            <a:xfrm>
              <a:off x="4494240" y="37130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41680" y="3913200"/>
              <a:ext cx="14767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283200" y="4675320"/>
            <a:ext cx="1393200" cy="794880"/>
            <a:chOff x="3283200" y="4675320"/>
            <a:chExt cx="1393200" cy="794880"/>
          </a:xfrm>
        </p:grpSpPr>
        <p:sp>
          <p:nvSpPr>
            <p:cNvPr id="402" name=""/>
            <p:cNvSpPr/>
            <p:nvPr/>
          </p:nvSpPr>
          <p:spPr>
            <a:xfrm>
              <a:off x="3283200" y="5153040"/>
              <a:ext cx="1393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1840" y="46753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734000" y="15969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226280" y="1262160"/>
            <a:ext cx="1290960" cy="790560"/>
            <a:chOff x="7226280" y="1262160"/>
            <a:chExt cx="1290960" cy="790560"/>
          </a:xfrm>
        </p:grpSpPr>
        <p:sp>
          <p:nvSpPr>
            <p:cNvPr id="406" name=""/>
            <p:cNvSpPr/>
            <p:nvPr/>
          </p:nvSpPr>
          <p:spPr>
            <a:xfrm>
              <a:off x="7316640" y="15685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226280" y="1262160"/>
              <a:ext cx="1290960" cy="699840"/>
              <a:chOff x="7226280" y="1262160"/>
              <a:chExt cx="1290960" cy="69984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1240" y="1262160"/>
                <a:ext cx="7560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26280" y="15685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750080" y="21319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50480" y="2152800"/>
            <a:ext cx="7347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97640" y="21319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d8d8e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23240" y="20797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ing is the Key to Speed up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 Oper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`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all employees whose salary &gt; $25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data is in sorted file, do binary search to find first such employee, then scan to find oth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binary search can be quite hig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:  Create an `index’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7840" y="6081840"/>
            <a:ext cx="64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an do binary search on (smaller) index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22400" y="5423040"/>
            <a:ext cx="1052640" cy="398160"/>
          </a:xfrm>
          <a:custGeom>
            <a:avLst/>
            <a:gdLst/>
            <a:ahLst/>
            <a:rect l="l" t="t" r="r" b="b"/>
            <a:pathLst>
              <a:path w="663" h="251">
                <a:moveTo>
                  <a:pt x="0" y="250"/>
                </a:moveTo>
                <a:lnTo>
                  <a:pt x="0" y="0"/>
                </a:lnTo>
                <a:lnTo>
                  <a:pt x="662" y="0"/>
                </a:lnTo>
                <a:lnTo>
                  <a:pt x="6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68640" y="5423040"/>
            <a:ext cx="105084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94200" y="5423040"/>
            <a:ext cx="105120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65160" y="5356080"/>
            <a:ext cx="5943600" cy="513000"/>
          </a:xfrm>
          <a:custGeom>
            <a:avLst/>
            <a:gdLst/>
            <a:ahLst/>
            <a:rect l="l" t="t" r="r" b="b"/>
            <a:pathLst>
              <a:path w="3744" h="323">
                <a:moveTo>
                  <a:pt x="0" y="322"/>
                </a:moveTo>
                <a:lnTo>
                  <a:pt x="0" y="0"/>
                </a:lnTo>
                <a:lnTo>
                  <a:pt x="3743" y="0"/>
                </a:lnTo>
                <a:lnTo>
                  <a:pt x="3743" y="322"/>
                </a:lnTo>
                <a:lnTo>
                  <a:pt x="0" y="3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3240" y="4389480"/>
            <a:ext cx="198360" cy="968400"/>
          </a:xfrm>
          <a:custGeom>
            <a:avLst/>
            <a:gdLst/>
            <a:ahLst/>
            <a:rect l="l" t="t" r="r" b="b"/>
            <a:pathLst>
              <a:path w="125" h="610">
                <a:moveTo>
                  <a:pt x="0" y="0"/>
                </a:moveTo>
                <a:lnTo>
                  <a:pt x="124" y="6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6160" y="5229360"/>
            <a:ext cx="58680" cy="128520"/>
          </a:xfrm>
          <a:custGeom>
            <a:avLst/>
            <a:gdLst/>
            <a:ahLst/>
            <a:rect l="l" t="t" r="r" b="b"/>
            <a:pathLst>
              <a:path w="37" h="81">
                <a:moveTo>
                  <a:pt x="36" y="0"/>
                </a:moveTo>
                <a:lnTo>
                  <a:pt x="34" y="80"/>
                </a:lnTo>
                <a:lnTo>
                  <a:pt x="0" y="8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14880" y="5429160"/>
            <a:ext cx="1052280" cy="40032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43160" y="4379760"/>
            <a:ext cx="1440" cy="935280"/>
          </a:xfrm>
          <a:custGeom>
            <a:avLst/>
            <a:gdLst/>
            <a:ahLst/>
            <a:rect l="l" t="t" r="r" b="b"/>
            <a:pathLst>
              <a:path w="1" h="589">
                <a:moveTo>
                  <a:pt x="0" y="0"/>
                </a:moveTo>
                <a:lnTo>
                  <a:pt x="0" y="5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12920" y="5186520"/>
            <a:ext cx="61920" cy="128520"/>
          </a:xfrm>
          <a:custGeom>
            <a:avLst/>
            <a:gdLst/>
            <a:ahLst/>
            <a:rect l="l" t="t" r="r" b="b"/>
            <a:pathLst>
              <a:path w="39" h="81">
                <a:moveTo>
                  <a:pt x="38" y="0"/>
                </a:moveTo>
                <a:lnTo>
                  <a:pt x="19" y="80"/>
                </a:lnTo>
                <a:lnTo>
                  <a:pt x="0" y="0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68600" y="4397400"/>
            <a:ext cx="757080" cy="917640"/>
          </a:xfrm>
          <a:custGeom>
            <a:avLst/>
            <a:gdLst/>
            <a:ahLst/>
            <a:rect l="l" t="t" r="r" b="b"/>
            <a:pathLst>
              <a:path w="477" h="578">
                <a:moveTo>
                  <a:pt x="0" y="0"/>
                </a:moveTo>
                <a:lnTo>
                  <a:pt x="476" y="5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20920" y="5197320"/>
            <a:ext cx="104760" cy="117720"/>
          </a:xfrm>
          <a:custGeom>
            <a:avLst/>
            <a:gdLst/>
            <a:ahLst/>
            <a:rect l="l" t="t" r="r" b="b"/>
            <a:pathLst>
              <a:path w="66" h="74">
                <a:moveTo>
                  <a:pt x="29" y="0"/>
                </a:moveTo>
                <a:lnTo>
                  <a:pt x="65" y="73"/>
                </a:lnTo>
                <a:lnTo>
                  <a:pt x="0" y="27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55520" y="4248000"/>
            <a:ext cx="973440" cy="1087560"/>
          </a:xfrm>
          <a:custGeom>
            <a:avLst/>
            <a:gdLst/>
            <a:ahLst/>
            <a:rect l="l" t="t" r="r" b="b"/>
            <a:pathLst>
              <a:path w="613" h="685">
                <a:moveTo>
                  <a:pt x="612" y="0"/>
                </a:moveTo>
                <a:lnTo>
                  <a:pt x="0" y="684"/>
                </a:lnTo>
                <a:lnTo>
                  <a:pt x="6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55520" y="521964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66" y="27"/>
                </a:moveTo>
                <a:lnTo>
                  <a:pt x="0" y="72"/>
                </a:lnTo>
                <a:lnTo>
                  <a:pt x="38" y="0"/>
                </a:lnTo>
                <a:lnTo>
                  <a:pt x="66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85400" y="543096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77720" y="544680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72680" y="5397480"/>
            <a:ext cx="7848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44480" y="542304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55080" y="5343480"/>
            <a:ext cx="1082160" cy="3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4070520"/>
            <a:ext cx="1049400" cy="399960"/>
          </a:xfrm>
          <a:custGeom>
            <a:avLst/>
            <a:gdLst/>
            <a:ahLst/>
            <a:rect l="l" t="t" r="r" b="b"/>
            <a:pathLst>
              <a:path w="661" h="252">
                <a:moveTo>
                  <a:pt x="0" y="251"/>
                </a:moveTo>
                <a:lnTo>
                  <a:pt x="0" y="0"/>
                </a:lnTo>
                <a:lnTo>
                  <a:pt x="660" y="0"/>
                </a:lnTo>
                <a:lnTo>
                  <a:pt x="660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7040" y="4070520"/>
            <a:ext cx="1052280" cy="39996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49920" y="4070520"/>
            <a:ext cx="1050840" cy="399960"/>
          </a:xfrm>
          <a:custGeom>
            <a:avLst/>
            <a:gdLst/>
            <a:ahLst/>
            <a:rect l="l" t="t" r="r" b="b"/>
            <a:pathLst>
              <a:path w="662" h="252">
                <a:moveTo>
                  <a:pt x="0" y="251"/>
                </a:moveTo>
                <a:lnTo>
                  <a:pt x="0" y="0"/>
                </a:lnTo>
                <a:lnTo>
                  <a:pt x="661" y="0"/>
                </a:lnTo>
                <a:lnTo>
                  <a:pt x="661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76320" y="3973680"/>
            <a:ext cx="4068720" cy="574560"/>
          </a:xfrm>
          <a:custGeom>
            <a:avLst/>
            <a:gdLst/>
            <a:ahLst/>
            <a:rect l="l" t="t" r="r" b="b"/>
            <a:pathLst>
              <a:path w="2563" h="362">
                <a:moveTo>
                  <a:pt x="0" y="361"/>
                </a:moveTo>
                <a:lnTo>
                  <a:pt x="0" y="0"/>
                </a:lnTo>
                <a:lnTo>
                  <a:pt x="2562" y="0"/>
                </a:lnTo>
                <a:lnTo>
                  <a:pt x="2562" y="361"/>
                </a:lnTo>
                <a:lnTo>
                  <a:pt x="0" y="3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67720" y="4097160"/>
            <a:ext cx="37944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06480" y="4078440"/>
            <a:ext cx="4086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67840" y="4100400"/>
            <a:ext cx="37944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09360" y="3976560"/>
            <a:ext cx="1178280" cy="3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ex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execution of user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ilize CPU while waiting for disk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tabase programs make heavy use of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short programs waiting behind long 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TM withdrawal while bank manager sums balance across al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E10-7AD5-4B23-A24F-842226CFB3D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9B04F-71F1-4E7C-8452-103E48310C19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tomic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base actions (reads/wri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DB from on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consistent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2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386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6764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3429000"/>
            <a:ext cx="220968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97840" y="2916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AD7-6B9E-4A5E-AEBB-F6CD8F1FEE4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95706-F47F-43E5-8396-3344C094DB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consis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our knowledge of banking “semant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up to writer of transaction to ensure transaction preserves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provides (limited) automatic enforcement, via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balances must be &gt;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5238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9680" y="16765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1447920"/>
            <a:ext cx="281952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2057400"/>
            <a:ext cx="221004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131616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fer $100 from Saving to chec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61160" y="16002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40C-9CA1-4180-8B20-6B13469AFF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0B7A7-98E9-42A5-A4C7-946E9CC3ED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base in the fu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366-8F3A-4914-A9B0-AA2C706C63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12BCB-E4C4-4C79-A3A6-617D60FB36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858000" cy="5234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F3A-3E9D-4198-BF97-5DC114D775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F519-117C-4B2A-9F7A-2B43AFCDB9DF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38D-C443-4281-BEF7-785CA8F39D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62B87-CC11-41CB-B7B0-149A0BB6A171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… </a:t>
            </a: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Databa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066680"/>
            <a:ext cx="8142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very large, integrated collection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a group of facts that can be recorded and have an implicit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database is used to model a real-world “enterprise” (or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iniwor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Entiti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.g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ketball tea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lationshi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U’s basketball t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you name it&gt; last wee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surprise you how flexible thi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ar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ies: words,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: word in document, document links to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2P filesha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ies: words, filenames, 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: word in filename, file available a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91A-2365-45F8-852B-399C62058E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C6A93-EFE7-465A-937F-C3074B4036B5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Characteristics of Datab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20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describing nature of a 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BM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cata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or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database. The description is called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meta-d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ion between program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changing data storage structures and operations without having to change the DBMS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ta 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ide storage details and present the users with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ceptual vi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multiple views of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user may see a different view of the database, which describ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he data of interest to that us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 of data and multi-user 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9F9-5EE7-4F34-BD2A-D4C1600933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5D65D-7E88-4FD1-9976-90B04BA7A6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s make these folks happy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s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, education, science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application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data entry &amp; analysis tools on top of DB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web services that run off DB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administrators (DB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logical/physical 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security and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vailability, crash re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tuning as needs e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endors,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acle, IBM, MS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8920" y="6400800"/>
            <a:ext cx="57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how a DBMS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705720" y="990720"/>
          <a:ext cx="167616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990720"/>
                    <a:ext cx="16761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701-CA1E-47A3-8B68-AFB3D4492C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7B147-CA62-41C3-AE43-32740D9526E7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1-22T20:32:37Z</dcterms:modified>
  <cp:revision>214</cp:revision>
  <dc:subject/>
  <dc:title>CS186: Introduction to Database Systems</dc:title>
</cp:coreProperties>
</file>