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8C30539-441B-498C-8DCF-12E68EE03C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C07F643-FBC0-4D84-B967-E1C8B8D5D9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5E90DB4-CF8F-43DB-990E-C499C21FEF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20968F2-31EE-4E67-9EEC-9789A551B3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2F7CDCD-640D-412B-A3D2-0F3AEAE6B5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90ADBD3-5393-4042-B94F-9F09E2BB31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8888D2C-6236-49B7-9E37-4ECDEC664C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68FEF45-8146-43DA-BAE6-EBBA2AF3C7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90278FA-3FEE-4895-A366-D623A18BEC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B26B458-D511-48FC-BC05-58DA18BB69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0541D97-CD0D-4AAC-9425-27FDC87E85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004760" y="777960"/>
            <a:ext cx="5092920" cy="38196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44640" y="4861080"/>
            <a:ext cx="52084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07CAE9B-9206-4E2A-8F27-F0064430A4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364D7E5-0AA8-4185-8BBB-9B3E01AA68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B6E8D65-952B-44B7-B3BF-3C3E385230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fact from the SGML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ML (Standardized Generalized Markup Langu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A452F54-8943-4AF0-9E76-CA1923EDA5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0A85516-A830-4F4C-8406-65B56903D7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link: creates and describes links to resources (e.g., hyperlinks in HT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pointer: supports addressing into the internal structure of a document; can be used with Xlink (as a language for describing location of internal stu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01A80C2-86AE-4D04-9F76-5CD182DAB3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004760" y="777960"/>
            <a:ext cx="5092920" cy="38196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44640" y="4861080"/>
            <a:ext cx="52084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EDAE2C0-E29E-4A74-911E-A6901CE5E5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077A-5EB9-4E40-A57A-7DA478975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AF17-6F36-4DDB-B51A-E949E784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A012-CA50-4619-8D0E-CDF9E2E63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2000-86B7-45FF-A5BF-CA1CA0DAF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9E4B-E980-4410-AB5B-43D06537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26B0-61A2-4ABF-A0A2-8A2FCA22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6042-A090-4E1D-984A-2A07FB89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7F29-6AEA-46BB-975A-DCECCD70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5F70-1B6F-4B9C-9602-96E8AC0A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92B5-ADCC-4D9B-8EB5-83A62466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4609-FBCF-4AF3-AA7C-B5FB84FE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2933-6910-4195-8C1D-DB45AE04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F0B9-29F4-47A0-8F73-C32C33875A0F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6634-B954-4777-8094-9EBC4ED324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29756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ms in Cluster 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518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lu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 collection of data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ilar to one another within the same clus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similar to the objects in other clus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luster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nding similarities between data according to the characteristics found in the data and grouping similar data objects into clus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supervised lear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o predefined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ha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ustering can be used as a stand-alone tool to get insight into data distribu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ustering can be used as a preprocessing step for other algorithms such as discretiz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E081-F096-42AC-87C9-8F30891E3F4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D947B6-CA16-46FD-AF9B-644FE243318A}" type="datetime1">
              <a:rPr lang="en-US"/>
              <a:t>07/28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s of Clust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separated clu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er-based clu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guous clu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D4D8-1F8C-46BB-B58B-74C609B607C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54DFCD-B583-4492-89C9-63349A787DC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es of Clusters: Well-Separa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6560" y="1066680"/>
            <a:ext cx="8280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Separated Cluster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cluster is a set of points such that any point in a cluster is closer (or more similar) to every other point in the cluster than to any point not in the cluster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4570560"/>
            <a:ext cx="1143000" cy="114300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18120" y="4570560"/>
            <a:ext cx="1143000" cy="11430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06760" y="2971800"/>
            <a:ext cx="1143000" cy="1143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71800" y="5791320"/>
            <a:ext cx="3200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well-separated clu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93AD-8890-479B-9C62-E34E32C0C08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377A33-7D36-4703-9B09-61E36CD59D3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es of Clusters: Center-Ba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6560" y="1066680"/>
            <a:ext cx="8280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er-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cluster is a set of objects such that an object in a cluster is closer (more similar) to the “center” of a cluster, than to the center of any other cluster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center of a cluster is often a </a:t>
            </a:r>
            <a:r>
              <a:rPr b="1" i="1" lang="en-US" sz="2600" spc="-1" strike="noStrike">
                <a:solidFill>
                  <a:srgbClr val="0033cc"/>
                </a:solidFill>
                <a:latin typeface="Times New Roman"/>
              </a:rPr>
              <a:t>centro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the average of all the points in the cluster, or a </a:t>
            </a:r>
            <a:r>
              <a:rPr b="1" i="1" lang="en-US" sz="2600" spc="-1" strike="noStrike">
                <a:solidFill>
                  <a:srgbClr val="0033cc"/>
                </a:solidFill>
                <a:latin typeface="Times New Roman"/>
              </a:rPr>
              <a:t>medo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the most “representative” point of a cluster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4191120"/>
            <a:ext cx="1371600" cy="1371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4191120"/>
            <a:ext cx="1371600" cy="137160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22960" y="4329000"/>
            <a:ext cx="1166760" cy="110016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694560" y="4329000"/>
            <a:ext cx="1166760" cy="11001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971800" y="5791320"/>
            <a:ext cx="3200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center-based clu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A840-4AD3-4F99-AF28-FAA09F7DA29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B0D70A-C099-47CD-857F-FE1FA120262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59000" y="324000"/>
            <a:ext cx="6456240" cy="52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or Clustering Approaches (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82240" y="113616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tioning approach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 various partitions and then evaluate them by some criterion, e.g., minimizing the sum of square err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ical methods: k-means, k-medoids, CLARA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archical approach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a hierarchical decomposition of the set of data (or objects) using some criter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ical methods: Diana, Agnes, BIRCH, ROCK, CAMELE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2DF4-42BF-4CE1-9C9C-063472A48EA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94F628-7A36-42B7-BD33-91DB023C5C4E}" type="datetime1">
              <a:rPr lang="en-US"/>
              <a:t>07/28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itional Cluste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54240" y="2517840"/>
            <a:ext cx="96840" cy="101520"/>
          </a:xfrm>
          <a:custGeom>
            <a:avLst/>
            <a:gdLst/>
            <a:ahLst/>
            <a:rect l="l" t="t" r="r" b="b"/>
            <a:pathLst>
              <a:path w="61" h="64">
                <a:moveTo>
                  <a:pt x="61" y="30"/>
                </a:moveTo>
                <a:lnTo>
                  <a:pt x="55" y="49"/>
                </a:lnTo>
                <a:lnTo>
                  <a:pt x="43" y="61"/>
                </a:lnTo>
                <a:lnTo>
                  <a:pt x="24" y="64"/>
                </a:lnTo>
                <a:lnTo>
                  <a:pt x="9" y="55"/>
                </a:lnTo>
                <a:lnTo>
                  <a:pt x="0" y="39"/>
                </a:lnTo>
                <a:lnTo>
                  <a:pt x="0" y="24"/>
                </a:lnTo>
                <a:lnTo>
                  <a:pt x="9" y="9"/>
                </a:lnTo>
                <a:lnTo>
                  <a:pt x="24" y="0"/>
                </a:lnTo>
                <a:lnTo>
                  <a:pt x="43" y="3"/>
                </a:lnTo>
                <a:lnTo>
                  <a:pt x="55" y="15"/>
                </a:lnTo>
                <a:lnTo>
                  <a:pt x="61" y="30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54240" y="2716200"/>
            <a:ext cx="96840" cy="98280"/>
          </a:xfrm>
          <a:custGeom>
            <a:avLst/>
            <a:gdLst/>
            <a:ahLst/>
            <a:rect l="l" t="t" r="r" b="b"/>
            <a:pathLst>
              <a:path w="61" h="62">
                <a:moveTo>
                  <a:pt x="61" y="31"/>
                </a:moveTo>
                <a:lnTo>
                  <a:pt x="55" y="49"/>
                </a:lnTo>
                <a:lnTo>
                  <a:pt x="43" y="62"/>
                </a:lnTo>
                <a:lnTo>
                  <a:pt x="24" y="62"/>
                </a:lnTo>
                <a:lnTo>
                  <a:pt x="9" y="55"/>
                </a:lnTo>
                <a:lnTo>
                  <a:pt x="0" y="40"/>
                </a:lnTo>
                <a:lnTo>
                  <a:pt x="0" y="22"/>
                </a:lnTo>
                <a:lnTo>
                  <a:pt x="9" y="9"/>
                </a:lnTo>
                <a:lnTo>
                  <a:pt x="24" y="0"/>
                </a:lnTo>
                <a:lnTo>
                  <a:pt x="43" y="3"/>
                </a:lnTo>
                <a:lnTo>
                  <a:pt x="55" y="16"/>
                </a:lnTo>
                <a:lnTo>
                  <a:pt x="61" y="31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51200" y="4711680"/>
            <a:ext cx="96840" cy="98280"/>
          </a:xfrm>
          <a:custGeom>
            <a:avLst/>
            <a:gdLst/>
            <a:ahLst/>
            <a:rect l="l" t="t" r="r" b="b"/>
            <a:pathLst>
              <a:path w="61" h="62">
                <a:moveTo>
                  <a:pt x="61" y="31"/>
                </a:moveTo>
                <a:lnTo>
                  <a:pt x="55" y="46"/>
                </a:lnTo>
                <a:lnTo>
                  <a:pt x="43" y="59"/>
                </a:lnTo>
                <a:lnTo>
                  <a:pt x="24" y="62"/>
                </a:lnTo>
                <a:lnTo>
                  <a:pt x="9" y="53"/>
                </a:lnTo>
                <a:lnTo>
                  <a:pt x="0" y="40"/>
                </a:lnTo>
                <a:lnTo>
                  <a:pt x="0" y="22"/>
                </a:lnTo>
                <a:lnTo>
                  <a:pt x="9" y="7"/>
                </a:lnTo>
                <a:lnTo>
                  <a:pt x="24" y="0"/>
                </a:lnTo>
                <a:lnTo>
                  <a:pt x="43" y="0"/>
                </a:lnTo>
                <a:lnTo>
                  <a:pt x="55" y="13"/>
                </a:lnTo>
                <a:lnTo>
                  <a:pt x="61" y="31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50880" y="2619360"/>
            <a:ext cx="96840" cy="96840"/>
          </a:xfrm>
          <a:custGeom>
            <a:avLst/>
            <a:gdLst/>
            <a:ahLst/>
            <a:rect l="l" t="t" r="r" b="b"/>
            <a:pathLst>
              <a:path w="61" h="61">
                <a:moveTo>
                  <a:pt x="61" y="31"/>
                </a:moveTo>
                <a:lnTo>
                  <a:pt x="58" y="46"/>
                </a:lnTo>
                <a:lnTo>
                  <a:pt x="43" y="58"/>
                </a:lnTo>
                <a:lnTo>
                  <a:pt x="25" y="61"/>
                </a:lnTo>
                <a:lnTo>
                  <a:pt x="9" y="55"/>
                </a:lnTo>
                <a:lnTo>
                  <a:pt x="0" y="40"/>
                </a:lnTo>
                <a:lnTo>
                  <a:pt x="0" y="21"/>
                </a:lnTo>
                <a:lnTo>
                  <a:pt x="9" y="6"/>
                </a:lnTo>
                <a:lnTo>
                  <a:pt x="25" y="0"/>
                </a:lnTo>
                <a:lnTo>
                  <a:pt x="43" y="3"/>
                </a:lnTo>
                <a:lnTo>
                  <a:pt x="58" y="12"/>
                </a:lnTo>
                <a:lnTo>
                  <a:pt x="61" y="31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51200" y="3914640"/>
            <a:ext cx="96840" cy="96840"/>
          </a:xfrm>
          <a:custGeom>
            <a:avLst/>
            <a:gdLst/>
            <a:ahLst/>
            <a:rect l="l" t="t" r="r" b="b"/>
            <a:pathLst>
              <a:path w="61" h="61">
                <a:moveTo>
                  <a:pt x="61" y="30"/>
                </a:moveTo>
                <a:lnTo>
                  <a:pt x="55" y="46"/>
                </a:lnTo>
                <a:lnTo>
                  <a:pt x="43" y="58"/>
                </a:lnTo>
                <a:lnTo>
                  <a:pt x="24" y="61"/>
                </a:lnTo>
                <a:lnTo>
                  <a:pt x="9" y="55"/>
                </a:lnTo>
                <a:lnTo>
                  <a:pt x="0" y="39"/>
                </a:lnTo>
                <a:lnTo>
                  <a:pt x="0" y="21"/>
                </a:lnTo>
                <a:lnTo>
                  <a:pt x="9" y="6"/>
                </a:lnTo>
                <a:lnTo>
                  <a:pt x="24" y="0"/>
                </a:lnTo>
                <a:lnTo>
                  <a:pt x="43" y="3"/>
                </a:lnTo>
                <a:lnTo>
                  <a:pt x="55" y="12"/>
                </a:lnTo>
                <a:lnTo>
                  <a:pt x="61" y="30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20760" y="1825560"/>
            <a:ext cx="98640" cy="9864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lnTo>
                  <a:pt x="56" y="46"/>
                </a:lnTo>
                <a:lnTo>
                  <a:pt x="43" y="58"/>
                </a:lnTo>
                <a:lnTo>
                  <a:pt x="25" y="62"/>
                </a:lnTo>
                <a:lnTo>
                  <a:pt x="9" y="55"/>
                </a:lnTo>
                <a:lnTo>
                  <a:pt x="0" y="40"/>
                </a:lnTo>
                <a:lnTo>
                  <a:pt x="0" y="22"/>
                </a:lnTo>
                <a:lnTo>
                  <a:pt x="9" y="6"/>
                </a:lnTo>
                <a:lnTo>
                  <a:pt x="25" y="0"/>
                </a:lnTo>
                <a:lnTo>
                  <a:pt x="43" y="3"/>
                </a:lnTo>
                <a:lnTo>
                  <a:pt x="56" y="12"/>
                </a:lnTo>
                <a:lnTo>
                  <a:pt x="62" y="31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51160" y="2021040"/>
            <a:ext cx="96840" cy="96840"/>
          </a:xfrm>
          <a:custGeom>
            <a:avLst/>
            <a:gdLst/>
            <a:ahLst/>
            <a:rect l="l" t="t" r="r" b="b"/>
            <a:pathLst>
              <a:path w="61" h="61">
                <a:moveTo>
                  <a:pt x="61" y="31"/>
                </a:moveTo>
                <a:lnTo>
                  <a:pt x="55" y="49"/>
                </a:lnTo>
                <a:lnTo>
                  <a:pt x="43" y="58"/>
                </a:lnTo>
                <a:lnTo>
                  <a:pt x="24" y="61"/>
                </a:lnTo>
                <a:lnTo>
                  <a:pt x="9" y="55"/>
                </a:lnTo>
                <a:lnTo>
                  <a:pt x="0" y="40"/>
                </a:lnTo>
                <a:lnTo>
                  <a:pt x="0" y="21"/>
                </a:lnTo>
                <a:lnTo>
                  <a:pt x="9" y="6"/>
                </a:lnTo>
                <a:lnTo>
                  <a:pt x="24" y="0"/>
                </a:lnTo>
                <a:lnTo>
                  <a:pt x="43" y="3"/>
                </a:lnTo>
                <a:lnTo>
                  <a:pt x="55" y="15"/>
                </a:lnTo>
                <a:lnTo>
                  <a:pt x="61" y="31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48000" y="2317680"/>
            <a:ext cx="96840" cy="101520"/>
          </a:xfrm>
          <a:custGeom>
            <a:avLst/>
            <a:gdLst/>
            <a:ahLst/>
            <a:rect l="l" t="t" r="r" b="b"/>
            <a:pathLst>
              <a:path w="61" h="64">
                <a:moveTo>
                  <a:pt x="61" y="31"/>
                </a:moveTo>
                <a:lnTo>
                  <a:pt x="58" y="49"/>
                </a:lnTo>
                <a:lnTo>
                  <a:pt x="43" y="61"/>
                </a:lnTo>
                <a:lnTo>
                  <a:pt x="28" y="64"/>
                </a:lnTo>
                <a:lnTo>
                  <a:pt x="9" y="55"/>
                </a:lnTo>
                <a:lnTo>
                  <a:pt x="0" y="40"/>
                </a:lnTo>
                <a:lnTo>
                  <a:pt x="0" y="24"/>
                </a:lnTo>
                <a:lnTo>
                  <a:pt x="9" y="9"/>
                </a:lnTo>
                <a:lnTo>
                  <a:pt x="28" y="0"/>
                </a:lnTo>
                <a:lnTo>
                  <a:pt x="43" y="3"/>
                </a:lnTo>
                <a:lnTo>
                  <a:pt x="58" y="15"/>
                </a:lnTo>
                <a:lnTo>
                  <a:pt x="61" y="31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47960" y="2317680"/>
            <a:ext cx="96840" cy="101520"/>
          </a:xfrm>
          <a:custGeom>
            <a:avLst/>
            <a:gdLst/>
            <a:ahLst/>
            <a:rect l="l" t="t" r="r" b="b"/>
            <a:pathLst>
              <a:path w="61" h="64">
                <a:moveTo>
                  <a:pt x="61" y="31"/>
                </a:moveTo>
                <a:lnTo>
                  <a:pt x="58" y="49"/>
                </a:lnTo>
                <a:lnTo>
                  <a:pt x="43" y="61"/>
                </a:lnTo>
                <a:lnTo>
                  <a:pt x="27" y="64"/>
                </a:lnTo>
                <a:lnTo>
                  <a:pt x="9" y="55"/>
                </a:lnTo>
                <a:lnTo>
                  <a:pt x="0" y="40"/>
                </a:lnTo>
                <a:lnTo>
                  <a:pt x="0" y="24"/>
                </a:lnTo>
                <a:lnTo>
                  <a:pt x="9" y="9"/>
                </a:lnTo>
                <a:lnTo>
                  <a:pt x="27" y="0"/>
                </a:lnTo>
                <a:lnTo>
                  <a:pt x="43" y="3"/>
                </a:lnTo>
                <a:lnTo>
                  <a:pt x="58" y="15"/>
                </a:lnTo>
                <a:lnTo>
                  <a:pt x="61" y="31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647800" y="2117880"/>
            <a:ext cx="96840" cy="102960"/>
          </a:xfrm>
          <a:custGeom>
            <a:avLst/>
            <a:gdLst/>
            <a:ahLst/>
            <a:rect l="l" t="t" r="r" b="b"/>
            <a:pathLst>
              <a:path w="61" h="65">
                <a:moveTo>
                  <a:pt x="61" y="34"/>
                </a:moveTo>
                <a:lnTo>
                  <a:pt x="58" y="49"/>
                </a:lnTo>
                <a:lnTo>
                  <a:pt x="43" y="61"/>
                </a:lnTo>
                <a:lnTo>
                  <a:pt x="28" y="65"/>
                </a:lnTo>
                <a:lnTo>
                  <a:pt x="9" y="55"/>
                </a:lnTo>
                <a:lnTo>
                  <a:pt x="0" y="40"/>
                </a:lnTo>
                <a:lnTo>
                  <a:pt x="0" y="25"/>
                </a:lnTo>
                <a:lnTo>
                  <a:pt x="9" y="9"/>
                </a:lnTo>
                <a:lnTo>
                  <a:pt x="28" y="0"/>
                </a:lnTo>
                <a:lnTo>
                  <a:pt x="43" y="3"/>
                </a:lnTo>
                <a:lnTo>
                  <a:pt x="58" y="16"/>
                </a:lnTo>
                <a:lnTo>
                  <a:pt x="61" y="34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47800" y="1724040"/>
            <a:ext cx="96840" cy="96840"/>
          </a:xfrm>
          <a:custGeom>
            <a:avLst/>
            <a:gdLst/>
            <a:ahLst/>
            <a:rect l="l" t="t" r="r" b="b"/>
            <a:pathLst>
              <a:path w="61" h="61">
                <a:moveTo>
                  <a:pt x="61" y="30"/>
                </a:moveTo>
                <a:lnTo>
                  <a:pt x="58" y="49"/>
                </a:lnTo>
                <a:lnTo>
                  <a:pt x="43" y="61"/>
                </a:lnTo>
                <a:lnTo>
                  <a:pt x="28" y="61"/>
                </a:lnTo>
                <a:lnTo>
                  <a:pt x="9" y="55"/>
                </a:lnTo>
                <a:lnTo>
                  <a:pt x="0" y="40"/>
                </a:lnTo>
                <a:lnTo>
                  <a:pt x="0" y="21"/>
                </a:lnTo>
                <a:lnTo>
                  <a:pt x="9" y="9"/>
                </a:lnTo>
                <a:lnTo>
                  <a:pt x="28" y="0"/>
                </a:lnTo>
                <a:lnTo>
                  <a:pt x="43" y="3"/>
                </a:lnTo>
                <a:lnTo>
                  <a:pt x="58" y="15"/>
                </a:lnTo>
                <a:lnTo>
                  <a:pt x="61" y="30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44760" y="4711680"/>
            <a:ext cx="103320" cy="98280"/>
          </a:xfrm>
          <a:custGeom>
            <a:avLst/>
            <a:gdLst/>
            <a:ahLst/>
            <a:rect l="l" t="t" r="r" b="b"/>
            <a:pathLst>
              <a:path w="65" h="62">
                <a:moveTo>
                  <a:pt x="65" y="31"/>
                </a:moveTo>
                <a:lnTo>
                  <a:pt x="58" y="46"/>
                </a:lnTo>
                <a:lnTo>
                  <a:pt x="46" y="59"/>
                </a:lnTo>
                <a:lnTo>
                  <a:pt x="28" y="62"/>
                </a:lnTo>
                <a:lnTo>
                  <a:pt x="12" y="53"/>
                </a:lnTo>
                <a:lnTo>
                  <a:pt x="0" y="40"/>
                </a:lnTo>
                <a:lnTo>
                  <a:pt x="0" y="22"/>
                </a:lnTo>
                <a:lnTo>
                  <a:pt x="12" y="7"/>
                </a:lnTo>
                <a:lnTo>
                  <a:pt x="28" y="0"/>
                </a:lnTo>
                <a:lnTo>
                  <a:pt x="46" y="0"/>
                </a:lnTo>
                <a:lnTo>
                  <a:pt x="58" y="13"/>
                </a:lnTo>
                <a:lnTo>
                  <a:pt x="65" y="31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50880" y="2220840"/>
            <a:ext cx="96840" cy="96840"/>
          </a:xfrm>
          <a:custGeom>
            <a:avLst/>
            <a:gdLst/>
            <a:ahLst/>
            <a:rect l="l" t="t" r="r" b="b"/>
            <a:pathLst>
              <a:path w="61" h="61">
                <a:moveTo>
                  <a:pt x="61" y="30"/>
                </a:moveTo>
                <a:lnTo>
                  <a:pt x="58" y="49"/>
                </a:lnTo>
                <a:lnTo>
                  <a:pt x="43" y="58"/>
                </a:lnTo>
                <a:lnTo>
                  <a:pt x="25" y="61"/>
                </a:lnTo>
                <a:lnTo>
                  <a:pt x="9" y="55"/>
                </a:lnTo>
                <a:lnTo>
                  <a:pt x="0" y="39"/>
                </a:lnTo>
                <a:lnTo>
                  <a:pt x="0" y="21"/>
                </a:lnTo>
                <a:lnTo>
                  <a:pt x="9" y="6"/>
                </a:lnTo>
                <a:lnTo>
                  <a:pt x="25" y="0"/>
                </a:lnTo>
                <a:lnTo>
                  <a:pt x="43" y="3"/>
                </a:lnTo>
                <a:lnTo>
                  <a:pt x="58" y="12"/>
                </a:lnTo>
                <a:lnTo>
                  <a:pt x="61" y="30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24000" y="4410000"/>
            <a:ext cx="98280" cy="9864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lnTo>
                  <a:pt x="56" y="49"/>
                </a:lnTo>
                <a:lnTo>
                  <a:pt x="43" y="62"/>
                </a:lnTo>
                <a:lnTo>
                  <a:pt x="25" y="62"/>
                </a:lnTo>
                <a:lnTo>
                  <a:pt x="9" y="55"/>
                </a:lnTo>
                <a:lnTo>
                  <a:pt x="0" y="40"/>
                </a:lnTo>
                <a:lnTo>
                  <a:pt x="0" y="22"/>
                </a:lnTo>
                <a:lnTo>
                  <a:pt x="9" y="10"/>
                </a:lnTo>
                <a:lnTo>
                  <a:pt x="25" y="0"/>
                </a:lnTo>
                <a:lnTo>
                  <a:pt x="43" y="3"/>
                </a:lnTo>
                <a:lnTo>
                  <a:pt x="56" y="16"/>
                </a:lnTo>
                <a:lnTo>
                  <a:pt x="62" y="31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54240" y="5008680"/>
            <a:ext cx="96840" cy="98280"/>
          </a:xfrm>
          <a:custGeom>
            <a:avLst/>
            <a:gdLst/>
            <a:ahLst/>
            <a:rect l="l" t="t" r="r" b="b"/>
            <a:pathLst>
              <a:path w="61" h="62">
                <a:moveTo>
                  <a:pt x="61" y="31"/>
                </a:moveTo>
                <a:lnTo>
                  <a:pt x="55" y="49"/>
                </a:lnTo>
                <a:lnTo>
                  <a:pt x="43" y="59"/>
                </a:lnTo>
                <a:lnTo>
                  <a:pt x="24" y="62"/>
                </a:lnTo>
                <a:lnTo>
                  <a:pt x="9" y="56"/>
                </a:lnTo>
                <a:lnTo>
                  <a:pt x="0" y="40"/>
                </a:lnTo>
                <a:lnTo>
                  <a:pt x="0" y="22"/>
                </a:lnTo>
                <a:lnTo>
                  <a:pt x="9" y="7"/>
                </a:lnTo>
                <a:lnTo>
                  <a:pt x="24" y="0"/>
                </a:lnTo>
                <a:lnTo>
                  <a:pt x="43" y="3"/>
                </a:lnTo>
                <a:lnTo>
                  <a:pt x="55" y="16"/>
                </a:lnTo>
                <a:lnTo>
                  <a:pt x="61" y="31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20800" y="1990800"/>
            <a:ext cx="98640" cy="9828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lnTo>
                  <a:pt x="56" y="46"/>
                </a:lnTo>
                <a:lnTo>
                  <a:pt x="43" y="59"/>
                </a:lnTo>
                <a:lnTo>
                  <a:pt x="25" y="62"/>
                </a:lnTo>
                <a:lnTo>
                  <a:pt x="10" y="56"/>
                </a:lnTo>
                <a:lnTo>
                  <a:pt x="0" y="40"/>
                </a:lnTo>
                <a:lnTo>
                  <a:pt x="0" y="22"/>
                </a:lnTo>
                <a:lnTo>
                  <a:pt x="10" y="7"/>
                </a:lnTo>
                <a:lnTo>
                  <a:pt x="25" y="0"/>
                </a:lnTo>
                <a:lnTo>
                  <a:pt x="43" y="4"/>
                </a:lnTo>
                <a:lnTo>
                  <a:pt x="56" y="13"/>
                </a:lnTo>
                <a:lnTo>
                  <a:pt x="62" y="31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5562720"/>
            <a:ext cx="2361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iginal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724280" y="1295280"/>
            <a:ext cx="3581640" cy="4633560"/>
            <a:chOff x="4724280" y="1295280"/>
            <a:chExt cx="3581640" cy="4633560"/>
          </a:xfrm>
        </p:grpSpPr>
        <p:graphicFrame>
          <p:nvGraphicFramePr>
            <p:cNvPr id="187" name=""/>
            <p:cNvGraphicFramePr/>
            <p:nvPr/>
          </p:nvGraphicFramePr>
          <p:xfrm>
            <a:off x="4724280" y="1295280"/>
            <a:ext cx="3373560" cy="4565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24280" y="1295280"/>
                      <a:ext cx="3373560" cy="456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"/>
            <p:cNvSpPr/>
            <p:nvPr/>
          </p:nvSpPr>
          <p:spPr>
            <a:xfrm>
              <a:off x="5486400" y="5562720"/>
              <a:ext cx="28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 Partitional  Cluste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557C-9188-4D7B-A926-A52F0594439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0C6CDD-6C5B-4216-9318-E695DF69FF9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erarchical Cluste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990720" y="3962520"/>
          <a:ext cx="2752560" cy="19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962520"/>
                    <a:ext cx="275256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914400" y="1447920"/>
          <a:ext cx="2760840" cy="179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447920"/>
                    <a:ext cx="2760840" cy="17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5400720" y="1066680"/>
          <a:ext cx="1773360" cy="228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0720" y="1066680"/>
                    <a:ext cx="1773360" cy="22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5400720" y="3657600"/>
          <a:ext cx="1909800" cy="2282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00720" y="3657600"/>
                    <a:ext cx="1909800" cy="22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914400" y="320040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aditional Hierarchical Clus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5791320"/>
            <a:ext cx="3581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n-traditional Hierarchical Clus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5791320"/>
            <a:ext cx="3809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n-traditional Dend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320040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aditional Dend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DA52-C680-4A67-AF76-BCDBD87EB33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CCA8CC-C658-4FDD-98D5-1B759753A24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tioning Algorithms: Basic Concep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27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Partitioning method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nstruct a partition of a database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bjects into a set of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lusters, s.t., min sum of squared dis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iven a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find a partition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 cluster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at optimizes the chosen partitioning criter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1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lobal optimal: exhaustively enumerate all parti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1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uristic methods: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-mean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-medoid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lgorith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1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k-mean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MacQueen’67): Each cluster is represented by the center of the clus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1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k-medoid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PAM (Partition around medoids) (Kaufman &amp; Rousseeuw’87): Each cluster is represented by one of the objects in the cluster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743200" y="1981080"/>
                <a:ext cx="3040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89B2-307C-4722-AA37-C080F54D238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AE8596-E394-41E8-AC51-65C69734DE88}" type="datetime1">
              <a:rPr lang="en-US"/>
              <a:t>07/28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95200" y="345600"/>
            <a:ext cx="706428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K-Mea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lustering Meth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6360" y="1146240"/>
            <a:ext cx="8067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-mea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gorithm is implemented in four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tition objects into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onempty subs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ute seed points as the centroids of the clusters of the current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ti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the centroid is th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an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f the clust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 each object to the cluster with the nearest seed point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o back to Step 2, stop when no more new assign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56CB-62BA-458B-91B8-5F52A718255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C115D3-8E5C-4FAF-962E-4838CD422750}" type="datetime1">
              <a:rPr lang="en-US"/>
              <a:t>07/28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95200" y="345600"/>
            <a:ext cx="706428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K-Mea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 Clustering Meth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06360" y="1587600"/>
            <a:ext cx="8278920" cy="4142880"/>
            <a:chOff x="306360" y="1587600"/>
            <a:chExt cx="8278920" cy="4142880"/>
          </a:xfrm>
        </p:grpSpPr>
        <p:grpSp>
          <p:nvGrpSpPr>
            <p:cNvPr id="210" name=""/>
            <p:cNvGrpSpPr/>
            <p:nvPr/>
          </p:nvGrpSpPr>
          <p:grpSpPr>
            <a:xfrm>
              <a:off x="3223800" y="1587600"/>
              <a:ext cx="2144520" cy="1928520"/>
              <a:chOff x="3223800" y="1587600"/>
              <a:chExt cx="2144520" cy="1928520"/>
            </a:xfrm>
          </p:grpSpPr>
          <p:graphicFrame>
            <p:nvGraphicFramePr>
              <p:cNvPr id="211" name=""/>
              <p:cNvGraphicFramePr/>
              <p:nvPr/>
            </p:nvGraphicFramePr>
            <p:xfrm>
              <a:off x="3223800" y="1587600"/>
              <a:ext cx="2144520" cy="192852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21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223800" y="1587600"/>
                        <a:ext cx="2144520" cy="1928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13" name=""/>
              <p:cNvSpPr/>
              <p:nvPr/>
            </p:nvSpPr>
            <p:spPr>
              <a:xfrm>
                <a:off x="3704400" y="1914120"/>
                <a:ext cx="852840" cy="1297800"/>
              </a:xfrm>
              <a:custGeom>
                <a:avLst/>
                <a:gdLst/>
                <a:ahLst/>
                <a:rect l="l" t="t" r="r" b="b"/>
                <a:pathLst>
                  <a:path w="852" h="1260">
                    <a:moveTo>
                      <a:pt x="518" y="280"/>
                    </a:moveTo>
                    <a:cubicBezTo>
                      <a:pt x="509" y="187"/>
                      <a:pt x="497" y="69"/>
                      <a:pt x="392" y="36"/>
                    </a:cubicBezTo>
                    <a:cubicBezTo>
                      <a:pt x="339" y="0"/>
                      <a:pt x="309" y="15"/>
                      <a:pt x="237" y="21"/>
                    </a:cubicBezTo>
                    <a:cubicBezTo>
                      <a:pt x="194" y="31"/>
                      <a:pt x="168" y="45"/>
                      <a:pt x="133" y="73"/>
                    </a:cubicBezTo>
                    <a:cubicBezTo>
                      <a:pt x="84" y="168"/>
                      <a:pt x="20" y="262"/>
                      <a:pt x="0" y="369"/>
                    </a:cubicBezTo>
                    <a:cubicBezTo>
                      <a:pt x="5" y="481"/>
                      <a:pt x="3" y="584"/>
                      <a:pt x="44" y="688"/>
                    </a:cubicBezTo>
                    <a:cubicBezTo>
                      <a:pt x="78" y="870"/>
                      <a:pt x="173" y="1057"/>
                      <a:pt x="362" y="1117"/>
                    </a:cubicBezTo>
                    <a:cubicBezTo>
                      <a:pt x="415" y="1152"/>
                      <a:pt x="347" y="1112"/>
                      <a:pt x="429" y="1139"/>
                    </a:cubicBezTo>
                    <a:cubicBezTo>
                      <a:pt x="437" y="1142"/>
                      <a:pt x="443" y="1150"/>
                      <a:pt x="451" y="1154"/>
                    </a:cubicBezTo>
                    <a:cubicBezTo>
                      <a:pt x="473" y="1165"/>
                      <a:pt x="501" y="1168"/>
                      <a:pt x="525" y="1176"/>
                    </a:cubicBezTo>
                    <a:cubicBezTo>
                      <a:pt x="562" y="1201"/>
                      <a:pt x="581" y="1218"/>
                      <a:pt x="622" y="1228"/>
                    </a:cubicBezTo>
                    <a:cubicBezTo>
                      <a:pt x="684" y="1260"/>
                      <a:pt x="714" y="1249"/>
                      <a:pt x="792" y="1243"/>
                    </a:cubicBezTo>
                    <a:cubicBezTo>
                      <a:pt x="852" y="1183"/>
                      <a:pt x="819" y="1088"/>
                      <a:pt x="785" y="1021"/>
                    </a:cubicBezTo>
                    <a:cubicBezTo>
                      <a:pt x="770" y="992"/>
                      <a:pt x="773" y="979"/>
                      <a:pt x="748" y="954"/>
                    </a:cubicBezTo>
                    <a:cubicBezTo>
                      <a:pt x="735" y="917"/>
                      <a:pt x="711" y="888"/>
                      <a:pt x="688" y="858"/>
                    </a:cubicBezTo>
                    <a:cubicBezTo>
                      <a:pt x="676" y="821"/>
                      <a:pt x="643" y="795"/>
                      <a:pt x="622" y="762"/>
                    </a:cubicBezTo>
                    <a:cubicBezTo>
                      <a:pt x="616" y="753"/>
                      <a:pt x="613" y="742"/>
                      <a:pt x="607" y="732"/>
                    </a:cubicBezTo>
                    <a:cubicBezTo>
                      <a:pt x="603" y="724"/>
                      <a:pt x="597" y="717"/>
                      <a:pt x="592" y="710"/>
                    </a:cubicBezTo>
                    <a:cubicBezTo>
                      <a:pt x="580" y="671"/>
                      <a:pt x="589" y="694"/>
                      <a:pt x="555" y="643"/>
                    </a:cubicBezTo>
                    <a:cubicBezTo>
                      <a:pt x="550" y="636"/>
                      <a:pt x="540" y="621"/>
                      <a:pt x="540" y="621"/>
                    </a:cubicBezTo>
                    <a:cubicBezTo>
                      <a:pt x="519" y="510"/>
                      <a:pt x="518" y="392"/>
                      <a:pt x="518" y="280"/>
                    </a:cubicBez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284000" y="2256120"/>
                <a:ext cx="768960" cy="648720"/>
              </a:xfrm>
              <a:custGeom>
                <a:avLst/>
                <a:gdLst/>
                <a:ahLst/>
                <a:rect l="l" t="t" r="r" b="b"/>
                <a:pathLst>
                  <a:path w="768" h="630">
                    <a:moveTo>
                      <a:pt x="183" y="67"/>
                    </a:moveTo>
                    <a:cubicBezTo>
                      <a:pt x="146" y="41"/>
                      <a:pt x="112" y="61"/>
                      <a:pt x="72" y="74"/>
                    </a:cubicBezTo>
                    <a:cubicBezTo>
                      <a:pt x="13" y="114"/>
                      <a:pt x="28" y="107"/>
                      <a:pt x="5" y="170"/>
                    </a:cubicBezTo>
                    <a:cubicBezTo>
                      <a:pt x="8" y="217"/>
                      <a:pt x="0" y="266"/>
                      <a:pt x="13" y="311"/>
                    </a:cubicBezTo>
                    <a:cubicBezTo>
                      <a:pt x="19" y="331"/>
                      <a:pt x="45" y="339"/>
                      <a:pt x="57" y="356"/>
                    </a:cubicBezTo>
                    <a:cubicBezTo>
                      <a:pt x="92" y="407"/>
                      <a:pt x="72" y="390"/>
                      <a:pt x="109" y="415"/>
                    </a:cubicBezTo>
                    <a:cubicBezTo>
                      <a:pt x="145" y="467"/>
                      <a:pt x="187" y="508"/>
                      <a:pt x="235" y="548"/>
                    </a:cubicBezTo>
                    <a:cubicBezTo>
                      <a:pt x="243" y="555"/>
                      <a:pt x="248" y="565"/>
                      <a:pt x="257" y="570"/>
                    </a:cubicBezTo>
                    <a:cubicBezTo>
                      <a:pt x="283" y="584"/>
                      <a:pt x="305" y="583"/>
                      <a:pt x="331" y="593"/>
                    </a:cubicBezTo>
                    <a:cubicBezTo>
                      <a:pt x="371" y="608"/>
                      <a:pt x="408" y="621"/>
                      <a:pt x="450" y="630"/>
                    </a:cubicBezTo>
                    <a:cubicBezTo>
                      <a:pt x="498" y="625"/>
                      <a:pt x="551" y="623"/>
                      <a:pt x="598" y="607"/>
                    </a:cubicBezTo>
                    <a:cubicBezTo>
                      <a:pt x="618" y="600"/>
                      <a:pt x="657" y="585"/>
                      <a:pt x="657" y="585"/>
                    </a:cubicBezTo>
                    <a:cubicBezTo>
                      <a:pt x="675" y="536"/>
                      <a:pt x="651" y="594"/>
                      <a:pt x="687" y="533"/>
                    </a:cubicBezTo>
                    <a:cubicBezTo>
                      <a:pt x="698" y="514"/>
                      <a:pt x="717" y="474"/>
                      <a:pt x="717" y="474"/>
                    </a:cubicBezTo>
                    <a:cubicBezTo>
                      <a:pt x="719" y="462"/>
                      <a:pt x="720" y="449"/>
                      <a:pt x="724" y="437"/>
                    </a:cubicBezTo>
                    <a:cubicBezTo>
                      <a:pt x="727" y="429"/>
                      <a:pt x="736" y="423"/>
                      <a:pt x="739" y="415"/>
                    </a:cubicBezTo>
                    <a:cubicBezTo>
                      <a:pt x="750" y="382"/>
                      <a:pt x="760" y="332"/>
                      <a:pt x="768" y="296"/>
                    </a:cubicBezTo>
                    <a:cubicBezTo>
                      <a:pt x="766" y="257"/>
                      <a:pt x="766" y="217"/>
                      <a:pt x="761" y="178"/>
                    </a:cubicBezTo>
                    <a:cubicBezTo>
                      <a:pt x="754" y="127"/>
                      <a:pt x="750" y="142"/>
                      <a:pt x="724" y="111"/>
                    </a:cubicBezTo>
                    <a:cubicBezTo>
                      <a:pt x="653" y="27"/>
                      <a:pt x="566" y="24"/>
                      <a:pt x="465" y="0"/>
                    </a:cubicBezTo>
                    <a:cubicBezTo>
                      <a:pt x="370" y="4"/>
                      <a:pt x="294" y="6"/>
                      <a:pt x="205" y="30"/>
                    </a:cubicBezTo>
                    <a:cubicBezTo>
                      <a:pt x="154" y="63"/>
                      <a:pt x="144" y="53"/>
                      <a:pt x="183" y="67"/>
                    </a:cubicBez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6392880" y="1612800"/>
              <a:ext cx="2084760" cy="1866240"/>
              <a:chOff x="6392880" y="1612800"/>
              <a:chExt cx="2084760" cy="1866240"/>
            </a:xfrm>
          </p:grpSpPr>
          <p:sp>
            <p:nvSpPr>
              <p:cNvPr id="216" name=""/>
              <p:cNvSpPr/>
              <p:nvPr/>
            </p:nvSpPr>
            <p:spPr>
              <a:xfrm>
                <a:off x="6392880" y="1612800"/>
                <a:ext cx="2084760" cy="1866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592320" y="1745280"/>
                <a:ext cx="1788120" cy="150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592320" y="3099600"/>
                <a:ext cx="17881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592320" y="2949120"/>
                <a:ext cx="1788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592320" y="2797200"/>
                <a:ext cx="1788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592320" y="2647080"/>
                <a:ext cx="17881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592320" y="2495160"/>
                <a:ext cx="1788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592320" y="2349360"/>
                <a:ext cx="1788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592320" y="2199240"/>
                <a:ext cx="17881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592320" y="2047320"/>
                <a:ext cx="17881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592320" y="1897200"/>
                <a:ext cx="17881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592320" y="1745280"/>
                <a:ext cx="17881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772320" y="1745280"/>
                <a:ext cx="1440" cy="1505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946560" y="1745280"/>
                <a:ext cx="1440" cy="1505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128000" y="1745280"/>
                <a:ext cx="1440" cy="1505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308360" y="1745280"/>
                <a:ext cx="1080" cy="1505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488360" y="1745280"/>
                <a:ext cx="1440" cy="1505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664400" y="1745280"/>
                <a:ext cx="1080" cy="1505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844400" y="1745280"/>
                <a:ext cx="1440" cy="1505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024760" y="1745280"/>
                <a:ext cx="1080" cy="1505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200080" y="1745280"/>
                <a:ext cx="1440" cy="1505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380440" y="1745280"/>
                <a:ext cx="1080" cy="1505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592320" y="1745280"/>
                <a:ext cx="1788120" cy="15055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592320" y="1745280"/>
                <a:ext cx="1080" cy="1505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574320" y="3251160"/>
                <a:ext cx="17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574320" y="3099600"/>
                <a:ext cx="176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574320" y="2949120"/>
                <a:ext cx="17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574320" y="2797200"/>
                <a:ext cx="17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574320" y="2647080"/>
                <a:ext cx="176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574320" y="2495160"/>
                <a:ext cx="17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574320" y="2349360"/>
                <a:ext cx="17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574320" y="2199240"/>
                <a:ext cx="176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574320" y="2047320"/>
                <a:ext cx="176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574320" y="1897200"/>
                <a:ext cx="176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574320" y="1745280"/>
                <a:ext cx="176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592320" y="3251160"/>
                <a:ext cx="1788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6592320" y="3251160"/>
                <a:ext cx="1080" cy="1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6772320" y="3251160"/>
                <a:ext cx="1440" cy="1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6946560" y="3251160"/>
                <a:ext cx="1440" cy="1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7128000" y="3251160"/>
                <a:ext cx="1440" cy="1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7308360" y="3251160"/>
                <a:ext cx="1080" cy="1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7488360" y="3251160"/>
                <a:ext cx="1440" cy="1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7664400" y="3251160"/>
                <a:ext cx="1080" cy="1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7844400" y="3251160"/>
                <a:ext cx="1440" cy="1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8024760" y="3251160"/>
                <a:ext cx="1080" cy="1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8200080" y="3251160"/>
                <a:ext cx="1440" cy="1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8380440" y="3251160"/>
                <a:ext cx="1080" cy="19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084800" y="2602440"/>
                <a:ext cx="84960" cy="87480"/>
              </a:xfrm>
              <a:custGeom>
                <a:avLst/>
                <a:gdLst/>
                <a:ahLst/>
                <a:rect l="l" t="t" r="r" b="b"/>
                <a:pathLst>
                  <a:path w="57" h="59">
                    <a:moveTo>
                      <a:pt x="29" y="0"/>
                    </a:moveTo>
                    <a:lnTo>
                      <a:pt x="57" y="30"/>
                    </a:lnTo>
                    <a:lnTo>
                      <a:pt x="29" y="59"/>
                    </a:lnTo>
                    <a:lnTo>
                      <a:pt x="0" y="3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ff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084800" y="2306160"/>
                <a:ext cx="84960" cy="87480"/>
              </a:xfrm>
              <a:custGeom>
                <a:avLst/>
                <a:gdLst/>
                <a:ahLst/>
                <a:rect l="l" t="t" r="r" b="b"/>
                <a:pathLst>
                  <a:path w="57" h="59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9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ff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802640" y="2754360"/>
                <a:ext cx="83160" cy="87480"/>
              </a:xfrm>
              <a:custGeom>
                <a:avLst/>
                <a:gdLst/>
                <a:ahLst/>
                <a:rect l="l" t="t" r="r" b="b"/>
                <a:pathLst>
                  <a:path w="56" h="59">
                    <a:moveTo>
                      <a:pt x="28" y="0"/>
                    </a:moveTo>
                    <a:lnTo>
                      <a:pt x="56" y="29"/>
                    </a:lnTo>
                    <a:lnTo>
                      <a:pt x="28" y="59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266600" y="2154240"/>
                <a:ext cx="83160" cy="87840"/>
              </a:xfrm>
              <a:custGeom>
                <a:avLst/>
                <a:gdLst/>
                <a:ahLst/>
                <a:rect l="l" t="t" r="r" b="b"/>
                <a:pathLst>
                  <a:path w="56" h="59">
                    <a:moveTo>
                      <a:pt x="28" y="0"/>
                    </a:moveTo>
                    <a:lnTo>
                      <a:pt x="56" y="30"/>
                    </a:lnTo>
                    <a:lnTo>
                      <a:pt x="28" y="59"/>
                    </a:lnTo>
                    <a:lnTo>
                      <a:pt x="0" y="3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ffff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084800" y="2004120"/>
                <a:ext cx="84960" cy="87480"/>
              </a:xfrm>
              <a:custGeom>
                <a:avLst/>
                <a:gdLst/>
                <a:ahLst/>
                <a:rect l="l" t="t" r="r" b="b"/>
                <a:pathLst>
                  <a:path w="57" h="59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9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ff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982640" y="2456640"/>
                <a:ext cx="84960" cy="88920"/>
              </a:xfrm>
              <a:custGeom>
                <a:avLst/>
                <a:gdLst/>
                <a:ahLst/>
                <a:rect l="l" t="t" r="r" b="b"/>
                <a:pathLst>
                  <a:path w="57" h="60">
                    <a:moveTo>
                      <a:pt x="28" y="0"/>
                    </a:moveTo>
                    <a:lnTo>
                      <a:pt x="57" y="30"/>
                    </a:lnTo>
                    <a:lnTo>
                      <a:pt x="28" y="60"/>
                    </a:lnTo>
                    <a:lnTo>
                      <a:pt x="0" y="3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266600" y="2456640"/>
                <a:ext cx="83160" cy="88920"/>
              </a:xfrm>
              <a:custGeom>
                <a:avLst/>
                <a:gdLst/>
                <a:ahLst/>
                <a:rect l="l" t="t" r="r" b="b"/>
                <a:pathLst>
                  <a:path w="56" h="60">
                    <a:moveTo>
                      <a:pt x="28" y="0"/>
                    </a:moveTo>
                    <a:lnTo>
                      <a:pt x="56" y="30"/>
                    </a:lnTo>
                    <a:lnTo>
                      <a:pt x="28" y="60"/>
                    </a:lnTo>
                    <a:lnTo>
                      <a:pt x="0" y="3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ffff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446960" y="3056400"/>
                <a:ext cx="84600" cy="87480"/>
              </a:xfrm>
              <a:custGeom>
                <a:avLst/>
                <a:gdLst/>
                <a:ahLst/>
                <a:rect l="l" t="t" r="r" b="b"/>
                <a:pathLst>
                  <a:path w="57" h="59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9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ffff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802640" y="2602440"/>
                <a:ext cx="83160" cy="87480"/>
              </a:xfrm>
              <a:custGeom>
                <a:avLst/>
                <a:gdLst/>
                <a:ahLst/>
                <a:rect l="l" t="t" r="r" b="b"/>
                <a:pathLst>
                  <a:path w="56" h="59">
                    <a:moveTo>
                      <a:pt x="28" y="0"/>
                    </a:moveTo>
                    <a:lnTo>
                      <a:pt x="56" y="30"/>
                    </a:lnTo>
                    <a:lnTo>
                      <a:pt x="28" y="59"/>
                    </a:lnTo>
                    <a:lnTo>
                      <a:pt x="0" y="3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446960" y="2456640"/>
                <a:ext cx="84600" cy="88920"/>
              </a:xfrm>
              <a:custGeom>
                <a:avLst/>
                <a:gdLst/>
                <a:ahLst/>
                <a:rect l="l" t="t" r="r" b="b"/>
                <a:pathLst>
                  <a:path w="57" h="60">
                    <a:moveTo>
                      <a:pt x="28" y="0"/>
                    </a:moveTo>
                    <a:lnTo>
                      <a:pt x="57" y="30"/>
                    </a:lnTo>
                    <a:lnTo>
                      <a:pt x="28" y="60"/>
                    </a:lnTo>
                    <a:lnTo>
                      <a:pt x="0" y="3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199640" y="2425320"/>
                <a:ext cx="78840" cy="81720"/>
              </a:xfrm>
              <a:prstGeom prst="ellipse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747920" y="2557440"/>
                <a:ext cx="78480" cy="81720"/>
              </a:xfrm>
              <a:prstGeom prst="ellipse">
                <a:avLst/>
              </a:prstGeom>
              <a:solidFill>
                <a:srgbClr val="ff0000"/>
              </a:solidFill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505560" y="3206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ko-KR" sz="6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505560" y="30564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ko-KR" sz="6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505560" y="29044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ko-KR" sz="6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505560" y="27543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ko-KR" sz="6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505560" y="2602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ko-KR" sz="6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505560" y="2450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ko-KR" sz="6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505560" y="230616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ko-KR" sz="6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505560" y="21542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ko-KR" sz="6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7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505560" y="20041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ko-KR" sz="6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8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05560" y="18522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ko-KR" sz="6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9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468840" y="1700280"/>
                <a:ext cx="860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ko-KR" sz="6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1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572520" y="3307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ko-KR" sz="6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752880" y="3307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ko-KR" sz="6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926760" y="3307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ko-KR" sz="6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108560" y="3307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ko-KR" sz="6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288920" y="3307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ko-KR" sz="6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468920" y="3307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ko-KR" sz="6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644600" y="3307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ko-KR" sz="6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824960" y="3307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ko-KR" sz="6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7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8004960" y="3307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ko-KR" sz="6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8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180640" y="3307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ko-KR" sz="6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9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341920" y="3307680"/>
                <a:ext cx="860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ko-KR" sz="600" spc="-1" strike="noStrike">
                    <a:solidFill>
                      <a:srgbClr val="000000"/>
                    </a:solidFill>
                    <a:latin typeface="Arial"/>
                    <a:ea typeface="Gulim"/>
                  </a:rPr>
                  <a:t>1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392880" y="1612800"/>
                <a:ext cx="2084760" cy="1866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812280" y="1883520"/>
                <a:ext cx="853200" cy="1299240"/>
              </a:xfrm>
              <a:custGeom>
                <a:avLst/>
                <a:gdLst/>
                <a:ahLst/>
                <a:rect l="l" t="t" r="r" b="b"/>
                <a:pathLst>
                  <a:path w="852" h="1260">
                    <a:moveTo>
                      <a:pt x="518" y="280"/>
                    </a:moveTo>
                    <a:cubicBezTo>
                      <a:pt x="509" y="187"/>
                      <a:pt x="497" y="69"/>
                      <a:pt x="392" y="36"/>
                    </a:cubicBezTo>
                    <a:cubicBezTo>
                      <a:pt x="339" y="0"/>
                      <a:pt x="309" y="15"/>
                      <a:pt x="237" y="21"/>
                    </a:cubicBezTo>
                    <a:cubicBezTo>
                      <a:pt x="194" y="31"/>
                      <a:pt x="168" y="45"/>
                      <a:pt x="133" y="73"/>
                    </a:cubicBezTo>
                    <a:cubicBezTo>
                      <a:pt x="84" y="168"/>
                      <a:pt x="20" y="262"/>
                      <a:pt x="0" y="369"/>
                    </a:cubicBezTo>
                    <a:cubicBezTo>
                      <a:pt x="5" y="481"/>
                      <a:pt x="3" y="584"/>
                      <a:pt x="44" y="688"/>
                    </a:cubicBezTo>
                    <a:cubicBezTo>
                      <a:pt x="78" y="870"/>
                      <a:pt x="173" y="1057"/>
                      <a:pt x="362" y="1117"/>
                    </a:cubicBezTo>
                    <a:cubicBezTo>
                      <a:pt x="415" y="1152"/>
                      <a:pt x="347" y="1112"/>
                      <a:pt x="429" y="1139"/>
                    </a:cubicBezTo>
                    <a:cubicBezTo>
                      <a:pt x="437" y="1142"/>
                      <a:pt x="443" y="1150"/>
                      <a:pt x="451" y="1154"/>
                    </a:cubicBezTo>
                    <a:cubicBezTo>
                      <a:pt x="473" y="1165"/>
                      <a:pt x="501" y="1168"/>
                      <a:pt x="525" y="1176"/>
                    </a:cubicBezTo>
                    <a:cubicBezTo>
                      <a:pt x="562" y="1201"/>
                      <a:pt x="581" y="1218"/>
                      <a:pt x="622" y="1228"/>
                    </a:cubicBezTo>
                    <a:cubicBezTo>
                      <a:pt x="684" y="1260"/>
                      <a:pt x="714" y="1249"/>
                      <a:pt x="792" y="1243"/>
                    </a:cubicBezTo>
                    <a:cubicBezTo>
                      <a:pt x="852" y="1183"/>
                      <a:pt x="819" y="1088"/>
                      <a:pt x="785" y="1021"/>
                    </a:cubicBezTo>
                    <a:cubicBezTo>
                      <a:pt x="770" y="992"/>
                      <a:pt x="773" y="979"/>
                      <a:pt x="748" y="954"/>
                    </a:cubicBezTo>
                    <a:cubicBezTo>
                      <a:pt x="735" y="917"/>
                      <a:pt x="711" y="888"/>
                      <a:pt x="688" y="858"/>
                    </a:cubicBezTo>
                    <a:cubicBezTo>
                      <a:pt x="676" y="821"/>
                      <a:pt x="643" y="795"/>
                      <a:pt x="622" y="762"/>
                    </a:cubicBezTo>
                    <a:cubicBezTo>
                      <a:pt x="616" y="753"/>
                      <a:pt x="613" y="742"/>
                      <a:pt x="607" y="732"/>
                    </a:cubicBezTo>
                    <a:cubicBezTo>
                      <a:pt x="603" y="724"/>
                      <a:pt x="597" y="717"/>
                      <a:pt x="592" y="710"/>
                    </a:cubicBezTo>
                    <a:cubicBezTo>
                      <a:pt x="580" y="671"/>
                      <a:pt x="589" y="694"/>
                      <a:pt x="555" y="643"/>
                    </a:cubicBezTo>
                    <a:cubicBezTo>
                      <a:pt x="550" y="636"/>
                      <a:pt x="540" y="621"/>
                      <a:pt x="540" y="621"/>
                    </a:cubicBezTo>
                    <a:cubicBezTo>
                      <a:pt x="519" y="510"/>
                      <a:pt x="518" y="392"/>
                      <a:pt x="518" y="280"/>
                    </a:cubicBez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437960" y="2279520"/>
                <a:ext cx="767880" cy="648360"/>
              </a:xfrm>
              <a:custGeom>
                <a:avLst/>
                <a:gdLst/>
                <a:ahLst/>
                <a:rect l="l" t="t" r="r" b="b"/>
                <a:pathLst>
                  <a:path w="768" h="630">
                    <a:moveTo>
                      <a:pt x="183" y="67"/>
                    </a:moveTo>
                    <a:cubicBezTo>
                      <a:pt x="146" y="41"/>
                      <a:pt x="112" y="61"/>
                      <a:pt x="72" y="74"/>
                    </a:cubicBezTo>
                    <a:cubicBezTo>
                      <a:pt x="13" y="114"/>
                      <a:pt x="28" y="107"/>
                      <a:pt x="5" y="170"/>
                    </a:cubicBezTo>
                    <a:cubicBezTo>
                      <a:pt x="8" y="217"/>
                      <a:pt x="0" y="266"/>
                      <a:pt x="13" y="311"/>
                    </a:cubicBezTo>
                    <a:cubicBezTo>
                      <a:pt x="19" y="331"/>
                      <a:pt x="45" y="339"/>
                      <a:pt x="57" y="356"/>
                    </a:cubicBezTo>
                    <a:cubicBezTo>
                      <a:pt x="92" y="407"/>
                      <a:pt x="72" y="390"/>
                      <a:pt x="109" y="415"/>
                    </a:cubicBezTo>
                    <a:cubicBezTo>
                      <a:pt x="145" y="467"/>
                      <a:pt x="187" y="508"/>
                      <a:pt x="235" y="548"/>
                    </a:cubicBezTo>
                    <a:cubicBezTo>
                      <a:pt x="243" y="555"/>
                      <a:pt x="248" y="565"/>
                      <a:pt x="257" y="570"/>
                    </a:cubicBezTo>
                    <a:cubicBezTo>
                      <a:pt x="283" y="584"/>
                      <a:pt x="305" y="583"/>
                      <a:pt x="331" y="593"/>
                    </a:cubicBezTo>
                    <a:cubicBezTo>
                      <a:pt x="371" y="608"/>
                      <a:pt x="408" y="621"/>
                      <a:pt x="450" y="630"/>
                    </a:cubicBezTo>
                    <a:cubicBezTo>
                      <a:pt x="498" y="625"/>
                      <a:pt x="551" y="623"/>
                      <a:pt x="598" y="607"/>
                    </a:cubicBezTo>
                    <a:cubicBezTo>
                      <a:pt x="618" y="600"/>
                      <a:pt x="657" y="585"/>
                      <a:pt x="657" y="585"/>
                    </a:cubicBezTo>
                    <a:cubicBezTo>
                      <a:pt x="675" y="536"/>
                      <a:pt x="651" y="594"/>
                      <a:pt x="687" y="533"/>
                    </a:cubicBezTo>
                    <a:cubicBezTo>
                      <a:pt x="698" y="514"/>
                      <a:pt x="717" y="474"/>
                      <a:pt x="717" y="474"/>
                    </a:cubicBezTo>
                    <a:cubicBezTo>
                      <a:pt x="719" y="462"/>
                      <a:pt x="720" y="449"/>
                      <a:pt x="724" y="437"/>
                    </a:cubicBezTo>
                    <a:cubicBezTo>
                      <a:pt x="727" y="429"/>
                      <a:pt x="736" y="423"/>
                      <a:pt x="739" y="415"/>
                    </a:cubicBezTo>
                    <a:cubicBezTo>
                      <a:pt x="750" y="382"/>
                      <a:pt x="760" y="332"/>
                      <a:pt x="768" y="296"/>
                    </a:cubicBezTo>
                    <a:cubicBezTo>
                      <a:pt x="766" y="257"/>
                      <a:pt x="766" y="217"/>
                      <a:pt x="761" y="178"/>
                    </a:cubicBezTo>
                    <a:cubicBezTo>
                      <a:pt x="754" y="127"/>
                      <a:pt x="750" y="142"/>
                      <a:pt x="724" y="111"/>
                    </a:cubicBezTo>
                    <a:cubicBezTo>
                      <a:pt x="653" y="27"/>
                      <a:pt x="566" y="24"/>
                      <a:pt x="465" y="0"/>
                    </a:cubicBezTo>
                    <a:cubicBezTo>
                      <a:pt x="370" y="4"/>
                      <a:pt x="294" y="6"/>
                      <a:pt x="205" y="30"/>
                    </a:cubicBezTo>
                    <a:cubicBezTo>
                      <a:pt x="154" y="63"/>
                      <a:pt x="144" y="53"/>
                      <a:pt x="183" y="67"/>
                    </a:cubicBez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5605560" y="2618280"/>
              <a:ext cx="5752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6440760" y="3587760"/>
              <a:ext cx="2144520" cy="2142360"/>
              <a:chOff x="6440760" y="3587760"/>
              <a:chExt cx="2144520" cy="2142360"/>
            </a:xfrm>
          </p:grpSpPr>
          <p:graphicFrame>
            <p:nvGraphicFramePr>
              <p:cNvPr id="302" name=""/>
              <p:cNvGraphicFramePr/>
              <p:nvPr/>
            </p:nvGraphicFramePr>
            <p:xfrm>
              <a:off x="6440760" y="3872880"/>
              <a:ext cx="2144520" cy="1857240"/>
            </p:xfrm>
            <a:graphic>
              <a:graphicData uri="http://schemas.openxmlformats.org/presentationml/2006/ole">
                <p:oleObj progId="Excel.Sheet.12" r:id="rId3" spid="">
                  <p:embed/>
                  <p:pic>
                    <p:nvPicPr>
                      <p:cNvPr id="303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440760" y="3872880"/>
                        <a:ext cx="2144520" cy="1857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04" name=""/>
              <p:cNvSpPr/>
              <p:nvPr/>
            </p:nvSpPr>
            <p:spPr>
              <a:xfrm>
                <a:off x="7441200" y="3587760"/>
                <a:ext cx="0" cy="21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3295440" y="3873600"/>
              <a:ext cx="3001680" cy="1856880"/>
              <a:chOff x="3295440" y="3873600"/>
              <a:chExt cx="3001680" cy="185688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3295440" y="3873600"/>
                <a:ext cx="2144160" cy="1856880"/>
                <a:chOff x="3295440" y="3873600"/>
                <a:chExt cx="2144160" cy="1856880"/>
              </a:xfrm>
            </p:grpSpPr>
            <p:graphicFrame>
              <p:nvGraphicFramePr>
                <p:cNvPr id="307" name=""/>
                <p:cNvGraphicFramePr/>
                <p:nvPr/>
              </p:nvGraphicFramePr>
              <p:xfrm>
                <a:off x="3295440" y="3873600"/>
                <a:ext cx="2144160" cy="1856880"/>
              </p:xfrm>
              <a:graphic>
                <a:graphicData uri="http://schemas.openxmlformats.org/presentationml/2006/ole">
                  <p:oleObj progId="Excel.Sheet.12" r:id="rId5" spid="">
                    <p:embed/>
                    <p:pic>
                      <p:nvPicPr>
                        <p:cNvPr id="308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3295440" y="3873600"/>
                          <a:ext cx="2144160" cy="1856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09" name=""/>
                <p:cNvSpPr/>
                <p:nvPr/>
              </p:nvSpPr>
              <p:spPr>
                <a:xfrm>
                  <a:off x="3824640" y="4185720"/>
                  <a:ext cx="726480" cy="888840"/>
                </a:xfrm>
                <a:custGeom>
                  <a:avLst/>
                  <a:gdLst/>
                  <a:ahLst/>
                  <a:rect l="l" t="t" r="r" b="b"/>
                  <a:pathLst>
                    <a:path w="728" h="896">
                      <a:moveTo>
                        <a:pt x="199" y="7"/>
                      </a:moveTo>
                      <a:cubicBezTo>
                        <a:pt x="148" y="19"/>
                        <a:pt x="135" y="54"/>
                        <a:pt x="110" y="96"/>
                      </a:cubicBezTo>
                      <a:cubicBezTo>
                        <a:pt x="101" y="111"/>
                        <a:pt x="90" y="125"/>
                        <a:pt x="80" y="140"/>
                      </a:cubicBezTo>
                      <a:cubicBezTo>
                        <a:pt x="75" y="147"/>
                        <a:pt x="65" y="162"/>
                        <a:pt x="65" y="162"/>
                      </a:cubicBezTo>
                      <a:cubicBezTo>
                        <a:pt x="50" y="210"/>
                        <a:pt x="33" y="254"/>
                        <a:pt x="21" y="303"/>
                      </a:cubicBezTo>
                      <a:cubicBezTo>
                        <a:pt x="4" y="446"/>
                        <a:pt x="0" y="574"/>
                        <a:pt x="65" y="703"/>
                      </a:cubicBezTo>
                      <a:cubicBezTo>
                        <a:pt x="79" y="731"/>
                        <a:pt x="83" y="744"/>
                        <a:pt x="110" y="763"/>
                      </a:cubicBezTo>
                      <a:cubicBezTo>
                        <a:pt x="159" y="835"/>
                        <a:pt x="250" y="874"/>
                        <a:pt x="332" y="896"/>
                      </a:cubicBezTo>
                      <a:cubicBezTo>
                        <a:pt x="394" y="889"/>
                        <a:pt x="441" y="878"/>
                        <a:pt x="495" y="851"/>
                      </a:cubicBezTo>
                      <a:cubicBezTo>
                        <a:pt x="537" y="789"/>
                        <a:pt x="571" y="751"/>
                        <a:pt x="636" y="711"/>
                      </a:cubicBezTo>
                      <a:cubicBezTo>
                        <a:pt x="660" y="674"/>
                        <a:pt x="672" y="647"/>
                        <a:pt x="688" y="607"/>
                      </a:cubicBezTo>
                      <a:cubicBezTo>
                        <a:pt x="694" y="593"/>
                        <a:pt x="697" y="578"/>
                        <a:pt x="702" y="563"/>
                      </a:cubicBezTo>
                      <a:cubicBezTo>
                        <a:pt x="705" y="555"/>
                        <a:pt x="710" y="540"/>
                        <a:pt x="710" y="540"/>
                      </a:cubicBezTo>
                      <a:cubicBezTo>
                        <a:pt x="720" y="459"/>
                        <a:pt x="728" y="366"/>
                        <a:pt x="680" y="296"/>
                      </a:cubicBezTo>
                      <a:cubicBezTo>
                        <a:pt x="659" y="231"/>
                        <a:pt x="621" y="176"/>
                        <a:pt x="569" y="133"/>
                      </a:cubicBezTo>
                      <a:cubicBezTo>
                        <a:pt x="550" y="117"/>
                        <a:pt x="530" y="103"/>
                        <a:pt x="510" y="88"/>
                      </a:cubicBezTo>
                      <a:cubicBezTo>
                        <a:pt x="496" y="77"/>
                        <a:pt x="465" y="59"/>
                        <a:pt x="465" y="59"/>
                      </a:cubicBezTo>
                      <a:cubicBezTo>
                        <a:pt x="428" y="0"/>
                        <a:pt x="358" y="5"/>
                        <a:pt x="295" y="0"/>
                      </a:cubicBezTo>
                      <a:cubicBezTo>
                        <a:pt x="265" y="2"/>
                        <a:pt x="236" y="3"/>
                        <a:pt x="206" y="7"/>
                      </a:cubicBezTo>
                      <a:cubicBezTo>
                        <a:pt x="198" y="8"/>
                        <a:pt x="192" y="14"/>
                        <a:pt x="184" y="14"/>
                      </a:cubicBezTo>
                      <a:cubicBezTo>
                        <a:pt x="178" y="14"/>
                        <a:pt x="194" y="9"/>
                        <a:pt x="199" y="7"/>
                      </a:cubicBez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275720" y="4546080"/>
                  <a:ext cx="800280" cy="881640"/>
                </a:xfrm>
                <a:custGeom>
                  <a:avLst/>
                  <a:gdLst/>
                  <a:ahLst/>
                  <a:rect l="l" t="t" r="r" b="b"/>
                  <a:pathLst>
                    <a:path w="802" h="889">
                      <a:moveTo>
                        <a:pt x="510" y="44"/>
                      </a:moveTo>
                      <a:cubicBezTo>
                        <a:pt x="455" y="80"/>
                        <a:pt x="422" y="133"/>
                        <a:pt x="376" y="177"/>
                      </a:cubicBezTo>
                      <a:cubicBezTo>
                        <a:pt x="346" y="236"/>
                        <a:pt x="298" y="273"/>
                        <a:pt x="236" y="296"/>
                      </a:cubicBezTo>
                      <a:cubicBezTo>
                        <a:pt x="231" y="303"/>
                        <a:pt x="227" y="312"/>
                        <a:pt x="221" y="318"/>
                      </a:cubicBezTo>
                      <a:cubicBezTo>
                        <a:pt x="215" y="324"/>
                        <a:pt x="205" y="326"/>
                        <a:pt x="199" y="333"/>
                      </a:cubicBezTo>
                      <a:cubicBezTo>
                        <a:pt x="194" y="339"/>
                        <a:pt x="195" y="348"/>
                        <a:pt x="191" y="355"/>
                      </a:cubicBezTo>
                      <a:cubicBezTo>
                        <a:pt x="185" y="366"/>
                        <a:pt x="176" y="375"/>
                        <a:pt x="169" y="385"/>
                      </a:cubicBezTo>
                      <a:cubicBezTo>
                        <a:pt x="156" y="422"/>
                        <a:pt x="155" y="463"/>
                        <a:pt x="132" y="496"/>
                      </a:cubicBezTo>
                      <a:cubicBezTo>
                        <a:pt x="126" y="504"/>
                        <a:pt x="116" y="510"/>
                        <a:pt x="110" y="518"/>
                      </a:cubicBezTo>
                      <a:cubicBezTo>
                        <a:pt x="99" y="532"/>
                        <a:pt x="80" y="562"/>
                        <a:pt x="80" y="562"/>
                      </a:cubicBezTo>
                      <a:cubicBezTo>
                        <a:pt x="68" y="602"/>
                        <a:pt x="78" y="578"/>
                        <a:pt x="43" y="629"/>
                      </a:cubicBezTo>
                      <a:cubicBezTo>
                        <a:pt x="28" y="651"/>
                        <a:pt x="22" y="678"/>
                        <a:pt x="13" y="703"/>
                      </a:cubicBezTo>
                      <a:cubicBezTo>
                        <a:pt x="15" y="727"/>
                        <a:pt x="0" y="812"/>
                        <a:pt x="36" y="844"/>
                      </a:cubicBezTo>
                      <a:cubicBezTo>
                        <a:pt x="49" y="856"/>
                        <a:pt x="65" y="864"/>
                        <a:pt x="80" y="874"/>
                      </a:cubicBezTo>
                      <a:cubicBezTo>
                        <a:pt x="93" y="883"/>
                        <a:pt x="124" y="888"/>
                        <a:pt x="124" y="888"/>
                      </a:cubicBezTo>
                      <a:cubicBezTo>
                        <a:pt x="167" y="886"/>
                        <a:pt x="287" y="889"/>
                        <a:pt x="354" y="874"/>
                      </a:cubicBezTo>
                      <a:cubicBezTo>
                        <a:pt x="410" y="861"/>
                        <a:pt x="461" y="835"/>
                        <a:pt x="517" y="822"/>
                      </a:cubicBezTo>
                      <a:cubicBezTo>
                        <a:pt x="534" y="811"/>
                        <a:pt x="553" y="804"/>
                        <a:pt x="569" y="792"/>
                      </a:cubicBezTo>
                      <a:cubicBezTo>
                        <a:pt x="613" y="757"/>
                        <a:pt x="651" y="702"/>
                        <a:pt x="673" y="651"/>
                      </a:cubicBezTo>
                      <a:cubicBezTo>
                        <a:pt x="680" y="634"/>
                        <a:pt x="685" y="615"/>
                        <a:pt x="695" y="600"/>
                      </a:cubicBezTo>
                      <a:cubicBezTo>
                        <a:pt x="711" y="577"/>
                        <a:pt x="747" y="533"/>
                        <a:pt x="747" y="533"/>
                      </a:cubicBezTo>
                      <a:cubicBezTo>
                        <a:pt x="756" y="504"/>
                        <a:pt x="784" y="451"/>
                        <a:pt x="784" y="451"/>
                      </a:cubicBezTo>
                      <a:cubicBezTo>
                        <a:pt x="787" y="439"/>
                        <a:pt x="798" y="395"/>
                        <a:pt x="798" y="385"/>
                      </a:cubicBezTo>
                      <a:cubicBezTo>
                        <a:pt x="798" y="264"/>
                        <a:pt x="802" y="46"/>
                        <a:pt x="650" y="0"/>
                      </a:cubicBezTo>
                      <a:cubicBezTo>
                        <a:pt x="598" y="5"/>
                        <a:pt x="575" y="6"/>
                        <a:pt x="532" y="22"/>
                      </a:cubicBezTo>
                      <a:cubicBezTo>
                        <a:pt x="516" y="46"/>
                        <a:pt x="526" y="44"/>
                        <a:pt x="510" y="44"/>
                      </a:cubicBezTo>
                      <a:close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 flipH="1">
                <a:off x="5654160" y="4516200"/>
                <a:ext cx="642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435960" y="4016160"/>
              <a:ext cx="1787040" cy="98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2840" bIns="4284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  <a:ea typeface="Gulim"/>
                </a:rPr>
                <a:t>K=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  <a:ea typeface="Gulim"/>
                </a:rPr>
                <a:t>Arbitrarily choose K object as initial cluster cent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 flipV="1">
              <a:off x="1213200" y="3729960"/>
              <a:ext cx="1800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601360" y="2670480"/>
              <a:ext cx="5310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437560" y="2658960"/>
              <a:ext cx="785880" cy="12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2840" bIns="4284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  <a:ea typeface="Gulim"/>
                </a:rPr>
                <a:t>Assign each objects to most similar cent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511240" y="2587680"/>
              <a:ext cx="786240" cy="87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2840" bIns="4284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  <a:ea typeface="Gulim"/>
                </a:rPr>
                <a:t>Update the cluster mean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11240" y="4730760"/>
              <a:ext cx="786240" cy="87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2840" bIns="4284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  <a:ea typeface="Gulim"/>
                </a:rPr>
                <a:t>Update the cluster mean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21456600">
              <a:off x="7584480" y="3587400"/>
              <a:ext cx="9288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2840" bIns="4284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  <a:ea typeface="Gulim"/>
                </a:rPr>
                <a:t>reassig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4220280" y="3587400"/>
              <a:ext cx="864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21456600">
              <a:off x="4367520" y="3587400"/>
              <a:ext cx="9288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2840" bIns="4284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  <a:ea typeface="Gulim"/>
                </a:rPr>
                <a:t>reassig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06360" y="1652760"/>
              <a:ext cx="2084760" cy="1866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05800" y="1785600"/>
              <a:ext cx="1788480" cy="150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05800" y="3139920"/>
              <a:ext cx="17884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5800" y="2989440"/>
              <a:ext cx="1788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5800" y="2837520"/>
              <a:ext cx="1788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05800" y="2687400"/>
              <a:ext cx="17884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05800" y="2535480"/>
              <a:ext cx="1788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05800" y="2389680"/>
              <a:ext cx="17884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5800" y="2239560"/>
              <a:ext cx="17884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05800" y="2087640"/>
              <a:ext cx="17884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05800" y="1937160"/>
              <a:ext cx="1788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05800" y="1785600"/>
              <a:ext cx="17884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86160" y="1785600"/>
              <a:ext cx="1080" cy="150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60400" y="1785600"/>
              <a:ext cx="1080" cy="150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042200" y="1785600"/>
              <a:ext cx="1080" cy="150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22200" y="1785600"/>
              <a:ext cx="1440" cy="150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402560" y="1785600"/>
              <a:ext cx="1080" cy="150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77880" y="1785600"/>
              <a:ext cx="1440" cy="150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58240" y="1785600"/>
              <a:ext cx="1080" cy="150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38240" y="1785600"/>
              <a:ext cx="1440" cy="150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114280" y="1785600"/>
              <a:ext cx="1080" cy="150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294280" y="1785600"/>
              <a:ext cx="1440" cy="150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05800" y="1785600"/>
              <a:ext cx="1788480" cy="1505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05800" y="1785600"/>
              <a:ext cx="1440" cy="1505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7800" y="3291480"/>
              <a:ext cx="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7800" y="3139920"/>
              <a:ext cx="17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87800" y="2989440"/>
              <a:ext cx="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87800" y="2837520"/>
              <a:ext cx="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87800" y="2687400"/>
              <a:ext cx="17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87800" y="2535480"/>
              <a:ext cx="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87800" y="2389680"/>
              <a:ext cx="17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7800" y="2239560"/>
              <a:ext cx="17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87800" y="2087640"/>
              <a:ext cx="17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87800" y="1937160"/>
              <a:ext cx="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87800" y="1785600"/>
              <a:ext cx="17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05800" y="3291480"/>
              <a:ext cx="1788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505800" y="3291480"/>
              <a:ext cx="1440" cy="1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86160" y="3291480"/>
              <a:ext cx="1080" cy="1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860400" y="3291480"/>
              <a:ext cx="1080" cy="1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1042200" y="3291480"/>
              <a:ext cx="1080" cy="1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1222200" y="3291480"/>
              <a:ext cx="1440" cy="1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1402560" y="3291480"/>
              <a:ext cx="1080" cy="1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1577880" y="3291480"/>
              <a:ext cx="1440" cy="1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1758240" y="3291480"/>
              <a:ext cx="1080" cy="1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1938240" y="3291480"/>
              <a:ext cx="1440" cy="1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2114280" y="3291480"/>
              <a:ext cx="1080" cy="1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294280" y="3291480"/>
              <a:ext cx="1440" cy="1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999000" y="2346480"/>
              <a:ext cx="84600" cy="8748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29" y="0"/>
                  </a:moveTo>
                  <a:lnTo>
                    <a:pt x="57" y="29"/>
                  </a:lnTo>
                  <a:lnTo>
                    <a:pt x="29" y="59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16480" y="2794320"/>
              <a:ext cx="83160" cy="87840"/>
            </a:xfrm>
            <a:custGeom>
              <a:avLst/>
              <a:gdLst/>
              <a:ahLst/>
              <a:rect l="l" t="t" r="r" b="b"/>
              <a:pathLst>
                <a:path w="56" h="59">
                  <a:moveTo>
                    <a:pt x="28" y="0"/>
                  </a:moveTo>
                  <a:lnTo>
                    <a:pt x="56" y="29"/>
                  </a:lnTo>
                  <a:lnTo>
                    <a:pt x="28" y="59"/>
                  </a:lnTo>
                  <a:lnTo>
                    <a:pt x="0" y="2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64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80440" y="2194560"/>
              <a:ext cx="83160" cy="87840"/>
            </a:xfrm>
            <a:custGeom>
              <a:avLst/>
              <a:gdLst/>
              <a:ahLst/>
              <a:rect l="l" t="t" r="r" b="b"/>
              <a:pathLst>
                <a:path w="56" h="59">
                  <a:moveTo>
                    <a:pt x="28" y="0"/>
                  </a:moveTo>
                  <a:lnTo>
                    <a:pt x="56" y="30"/>
                  </a:lnTo>
                  <a:lnTo>
                    <a:pt x="28" y="59"/>
                  </a:lnTo>
                  <a:lnTo>
                    <a:pt x="0" y="3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99000" y="2044440"/>
              <a:ext cx="84600" cy="8748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29" y="0"/>
                  </a:moveTo>
                  <a:lnTo>
                    <a:pt x="57" y="29"/>
                  </a:lnTo>
                  <a:lnTo>
                    <a:pt x="29" y="59"/>
                  </a:lnTo>
                  <a:lnTo>
                    <a:pt x="0" y="2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896840" y="2496960"/>
              <a:ext cx="84600" cy="88920"/>
            </a:xfrm>
            <a:custGeom>
              <a:avLst/>
              <a:gdLst/>
              <a:ahLst/>
              <a:rect l="l" t="t" r="r" b="b"/>
              <a:pathLst>
                <a:path w="57" h="60">
                  <a:moveTo>
                    <a:pt x="28" y="0"/>
                  </a:moveTo>
                  <a:lnTo>
                    <a:pt x="57" y="30"/>
                  </a:lnTo>
                  <a:lnTo>
                    <a:pt x="28" y="60"/>
                  </a:lnTo>
                  <a:lnTo>
                    <a:pt x="0" y="3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64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180440" y="2496960"/>
              <a:ext cx="83160" cy="88920"/>
            </a:xfrm>
            <a:custGeom>
              <a:avLst/>
              <a:gdLst/>
              <a:ahLst/>
              <a:rect l="l" t="t" r="r" b="b"/>
              <a:pathLst>
                <a:path w="56" h="60">
                  <a:moveTo>
                    <a:pt x="28" y="0"/>
                  </a:moveTo>
                  <a:lnTo>
                    <a:pt x="56" y="30"/>
                  </a:lnTo>
                  <a:lnTo>
                    <a:pt x="28" y="60"/>
                  </a:lnTo>
                  <a:lnTo>
                    <a:pt x="0" y="3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360440" y="3096720"/>
              <a:ext cx="84960" cy="8748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28" y="0"/>
                  </a:moveTo>
                  <a:lnTo>
                    <a:pt x="57" y="29"/>
                  </a:lnTo>
                  <a:lnTo>
                    <a:pt x="28" y="59"/>
                  </a:lnTo>
                  <a:lnTo>
                    <a:pt x="0" y="2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360440" y="2496960"/>
              <a:ext cx="84960" cy="88920"/>
            </a:xfrm>
            <a:custGeom>
              <a:avLst/>
              <a:gdLst/>
              <a:ahLst/>
              <a:rect l="l" t="t" r="r" b="b"/>
              <a:pathLst>
                <a:path w="57" h="60">
                  <a:moveTo>
                    <a:pt x="28" y="0"/>
                  </a:moveTo>
                  <a:lnTo>
                    <a:pt x="57" y="30"/>
                  </a:lnTo>
                  <a:lnTo>
                    <a:pt x="28" y="60"/>
                  </a:lnTo>
                  <a:lnTo>
                    <a:pt x="0" y="3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64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9040" y="32468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ko-KR" sz="600" spc="-1" strike="noStrike">
                  <a:solidFill>
                    <a:srgbClr val="000000"/>
                  </a:solidFill>
                  <a:latin typeface="Arial"/>
                  <a:ea typeface="Gulim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9040" y="30967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ko-KR" sz="600" spc="-1" strike="noStrike">
                  <a:solidFill>
                    <a:srgbClr val="000000"/>
                  </a:solidFill>
                  <a:latin typeface="Arial"/>
                  <a:ea typeface="Gulim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19040" y="29448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ko-KR" sz="600" spc="-1" strike="noStrike">
                  <a:solidFill>
                    <a:srgbClr val="000000"/>
                  </a:solidFill>
                  <a:latin typeface="Arial"/>
                  <a:ea typeface="Gulim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9040" y="27943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ko-KR" sz="600" spc="-1" strike="noStrike">
                  <a:solidFill>
                    <a:srgbClr val="000000"/>
                  </a:solidFill>
                  <a:latin typeface="Arial"/>
                  <a:ea typeface="Gulim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19040" y="2642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ko-KR" sz="600" spc="-1" strike="noStrike">
                  <a:solidFill>
                    <a:srgbClr val="000000"/>
                  </a:solidFill>
                  <a:latin typeface="Arial"/>
                  <a:ea typeface="Gulim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9040" y="24908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ko-KR" sz="600" spc="-1" strike="noStrike">
                  <a:solidFill>
                    <a:srgbClr val="000000"/>
                  </a:solidFill>
                  <a:latin typeface="Arial"/>
                  <a:ea typeface="Gulim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19040" y="234648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ko-KR" sz="600" spc="-1" strike="noStrike">
                  <a:solidFill>
                    <a:srgbClr val="000000"/>
                  </a:solidFill>
                  <a:latin typeface="Arial"/>
                  <a:ea typeface="Gulim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19040" y="21945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ko-KR" sz="600" spc="-1" strike="noStrike">
                  <a:solidFill>
                    <a:srgbClr val="000000"/>
                  </a:solidFill>
                  <a:latin typeface="Arial"/>
                  <a:ea typeface="Gulim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19040" y="20444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ko-KR" sz="600" spc="-1" strike="noStrike">
                  <a:solidFill>
                    <a:srgbClr val="000000"/>
                  </a:solidFill>
                  <a:latin typeface="Arial"/>
                  <a:ea typeface="Gulim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9040" y="189252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ko-KR" sz="600" spc="-1" strike="noStrike">
                  <a:solidFill>
                    <a:srgbClr val="000000"/>
                  </a:solidFill>
                  <a:latin typeface="Arial"/>
                  <a:ea typeface="Gulim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2320" y="174060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ko-KR" sz="600" spc="-1" strike="noStrike">
                  <a:solidFill>
                    <a:srgbClr val="000000"/>
                  </a:solidFill>
                  <a:latin typeface="Arial"/>
                  <a:ea typeface="Gulim"/>
                </a:rPr>
                <a:t>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86000" y="3348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ko-KR" sz="600" spc="-1" strike="noStrike">
                  <a:solidFill>
                    <a:srgbClr val="000000"/>
                  </a:solidFill>
                  <a:latin typeface="Arial"/>
                  <a:ea typeface="Gulim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66360" y="3348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ko-KR" sz="600" spc="-1" strike="noStrike">
                  <a:solidFill>
                    <a:srgbClr val="000000"/>
                  </a:solidFill>
                  <a:latin typeface="Arial"/>
                  <a:ea typeface="Gulim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40600" y="3348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ko-KR" sz="600" spc="-1" strike="noStrike">
                  <a:solidFill>
                    <a:srgbClr val="000000"/>
                  </a:solidFill>
                  <a:latin typeface="Arial"/>
                  <a:ea typeface="Gulim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022400" y="3348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ko-KR" sz="600" spc="-1" strike="noStrike">
                  <a:solidFill>
                    <a:srgbClr val="000000"/>
                  </a:solidFill>
                  <a:latin typeface="Arial"/>
                  <a:ea typeface="Gulim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202760" y="3348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ko-KR" sz="600" spc="-1" strike="noStrike">
                  <a:solidFill>
                    <a:srgbClr val="000000"/>
                  </a:solidFill>
                  <a:latin typeface="Arial"/>
                  <a:ea typeface="Gulim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382760" y="3348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ko-KR" sz="600" spc="-1" strike="noStrike">
                  <a:solidFill>
                    <a:srgbClr val="000000"/>
                  </a:solidFill>
                  <a:latin typeface="Arial"/>
                  <a:ea typeface="Gulim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558440" y="3348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ko-KR" sz="600" spc="-1" strike="noStrike">
                  <a:solidFill>
                    <a:srgbClr val="000000"/>
                  </a:solidFill>
                  <a:latin typeface="Arial"/>
                  <a:ea typeface="Gulim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738800" y="3348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ko-KR" sz="600" spc="-1" strike="noStrike">
                  <a:solidFill>
                    <a:srgbClr val="000000"/>
                  </a:solidFill>
                  <a:latin typeface="Arial"/>
                  <a:ea typeface="Gulim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19160" y="3348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ko-KR" sz="600" spc="-1" strike="noStrike">
                  <a:solidFill>
                    <a:srgbClr val="000000"/>
                  </a:solidFill>
                  <a:latin typeface="Arial"/>
                  <a:ea typeface="Gulim"/>
                </a:rPr>
                <a:t>8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094480" y="334800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ko-KR" sz="600" spc="-1" strike="noStrike">
                  <a:solidFill>
                    <a:srgbClr val="000000"/>
                  </a:solidFill>
                  <a:latin typeface="Arial"/>
                  <a:ea typeface="Gulim"/>
                </a:rPr>
                <a:t>9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256120" y="334800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ko-KR" sz="600" spc="-1" strike="noStrike">
                  <a:solidFill>
                    <a:srgbClr val="000000"/>
                  </a:solidFill>
                  <a:latin typeface="Arial"/>
                  <a:ea typeface="Gulim"/>
                </a:rPr>
                <a:t>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6360" y="1652760"/>
              <a:ext cx="2084760" cy="18662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97560" y="2639520"/>
              <a:ext cx="82800" cy="88920"/>
            </a:xfrm>
            <a:custGeom>
              <a:avLst/>
              <a:gdLst/>
              <a:ahLst/>
              <a:rect l="l" t="t" r="r" b="b"/>
              <a:pathLst>
                <a:path w="56" h="60">
                  <a:moveTo>
                    <a:pt x="28" y="0"/>
                  </a:moveTo>
                  <a:lnTo>
                    <a:pt x="56" y="30"/>
                  </a:lnTo>
                  <a:lnTo>
                    <a:pt x="28" y="60"/>
                  </a:lnTo>
                  <a:lnTo>
                    <a:pt x="0" y="3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712160" y="2484720"/>
              <a:ext cx="83160" cy="87480"/>
            </a:xfrm>
            <a:custGeom>
              <a:avLst/>
              <a:gdLst/>
              <a:ahLst/>
              <a:rect l="l" t="t" r="r" b="b"/>
              <a:pathLst>
                <a:path w="56" h="59">
                  <a:moveTo>
                    <a:pt x="28" y="0"/>
                  </a:moveTo>
                  <a:lnTo>
                    <a:pt x="56" y="29"/>
                  </a:lnTo>
                  <a:lnTo>
                    <a:pt x="28" y="59"/>
                  </a:lnTo>
                  <a:lnTo>
                    <a:pt x="0" y="2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64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39720" y="2760120"/>
              <a:ext cx="78840" cy="81720"/>
            </a:xfrm>
            <a:prstGeom prst="ellipse">
              <a:avLst/>
            </a:prstGeom>
            <a:solidFill>
              <a:srgbClr val="ff0000"/>
            </a:solidFill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062080" y="2617560"/>
              <a:ext cx="78840" cy="81360"/>
            </a:xfrm>
            <a:prstGeom prst="ellipse">
              <a:avLst/>
            </a:prstGeom>
            <a:solidFill>
              <a:srgbClr val="ff0000"/>
            </a:solidFill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8623-1157-4245-B651-5476E0E61E3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5D502D-6FDE-42D8-B82F-C61F3BD3293C}" type="datetime1">
              <a:rPr lang="en-US"/>
              <a:t>07/28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raining data se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ing data se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assification Mode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5DA7-C104-4B00-849C-F9CD4A65A79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94D565-A2CF-4363-AE02-03B2A54EBBA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26800" y="287280"/>
            <a:ext cx="720252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ents on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K-Mea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120348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elatively effici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k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# objects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# clusters,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# iterations. Normally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nt: Often terminates at a local optimu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global optimum may be found using techniques such as genetic algorith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631F-3DF5-48B5-B58D-1C2C67B6AB1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DEFE11-B178-475E-86EE-6D63E27A46BB}" type="datetime1">
              <a:rPr lang="en-US"/>
              <a:t>07/28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ents on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K-Mea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k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2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pplicable only whe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defined, then what about categorical data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2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ed to specif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k,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 clusters, in adva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2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able to handle noisy data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outli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2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t suitable to discover clusters with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on-convex shap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45AB-398A-4283-BB0F-C5A90E51800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DB5D1E-EB6B-4674-B2B8-3C8AC5508F7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02840" y="340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roblem K-means: Differing Dens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66560" y="1066680"/>
            <a:ext cx="828072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62120" y="4952880"/>
            <a:ext cx="2133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ginal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4268880" cy="32004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4267080" y="1447920"/>
            <a:ext cx="4268880" cy="32004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5335560" y="4902120"/>
            <a:ext cx="246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-means (3 Clust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ABBE-D44D-430C-8C96-ADB122C0EEF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FF3267-E567-4B20-B253-0C51EDC6F95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04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roblem of K-mean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on-globular Shap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6560" y="1066680"/>
            <a:ext cx="828072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143000" y="4876920"/>
            <a:ext cx="2057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ginal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4268880" cy="32004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4191120" y="1219320"/>
            <a:ext cx="4268520" cy="32004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5335560" y="4902120"/>
            <a:ext cx="246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-means (2 Clust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42EB-943D-4147-AE9C-EAE0C30AB36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B83B9E-F552-4757-BC5F-C04EE1F18F3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HTML to XM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eXtensible Markup Languag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ML describes presentation of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h1&gt;Bibliography&lt;/h1&gt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p&gt;&lt;i&gt;Foundations of Databases&lt;/i&gt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Abiteboul, Hull, and Vianu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br&gt;Addison Wesley, 1995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p&gt;…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describes only the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bibliography&gt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book&gt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&lt;title&gt;Foundations of Databases&lt;/title&gt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&lt;author&gt;Abiteboul&lt;/author&gt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&lt;author&gt;Hull&lt;/author&gt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&lt;author&gt;Vianu&lt;/author&gt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&lt;publisher&gt;Addison Wesley&lt;/publisher&gt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&lt;year&gt;1995&lt;/year&gt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/book&gt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book&gt;…&lt;/book&gt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/bibliography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paration of content from presentation simplifies content extraction and allows the same content to be presented easily in different loo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5410080" y="1447920"/>
            <a:ext cx="3657600" cy="240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3F24-3A18-40A2-9739-F2241D022AB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3906A6-986B-4CFC-9BAB-5D1A5A3AEB9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 nice features of X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ability: Just like HTML, you can ship XML data across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lational data requires heavy-weight protocols, e.g., JDB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xibility: You can represent any information (structured, semi-structured, documents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lational data is best suited for structured da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bility: Since data describes itself, you can change the schema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lational schema is rigid and difficult to chan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AD5C-301F-4337-9D86-9D5252C01F0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4E7D5C-4377-44D0-A4D6-88797F4930C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ML terminolo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Ta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ames: </a:t>
            </a:r>
            <a:r>
              <a:rPr b="0" lang="en-US" sz="2800" spc="-1" strike="noStrike">
                <a:solidFill>
                  <a:srgbClr val="00ff00"/>
                </a:solidFill>
                <a:latin typeface="LettrGoth12 BT"/>
              </a:rPr>
              <a:t>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ff00"/>
                </a:solidFill>
                <a:latin typeface="LettrGoth12 BT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Start ta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ff00"/>
                </a:solidFill>
                <a:latin typeface="LettrGoth12 BT"/>
              </a:rPr>
              <a:t>&lt;book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ff00"/>
                </a:solidFill>
                <a:latin typeface="LettrGoth12 BT"/>
              </a:rPr>
              <a:t>&lt;title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End ta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ff00"/>
                </a:solidFill>
                <a:latin typeface="LettrGoth12 BT"/>
              </a:rPr>
              <a:t>&lt;/book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ff00"/>
                </a:solidFill>
                <a:latin typeface="LettrGoth12 BT"/>
              </a:rPr>
              <a:t>&lt;/title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el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enclosed by a pair of start and end tags: </a:t>
            </a:r>
            <a:r>
              <a:rPr b="0" lang="en-US" sz="2800" spc="-1" strike="noStrike">
                <a:solidFill>
                  <a:srgbClr val="00ff00"/>
                </a:solidFill>
                <a:latin typeface="LettrGoth12 BT"/>
              </a:rPr>
              <a:t>&lt;book&gt;…&lt;/book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lements can be nested: </a:t>
            </a:r>
            <a:r>
              <a:rPr b="0" lang="en-US" sz="2600" spc="-1" strike="noStrike">
                <a:solidFill>
                  <a:srgbClr val="00ff00"/>
                </a:solidFill>
                <a:latin typeface="LettrGoth12 BT"/>
              </a:rPr>
              <a:t>&lt;book&gt;…&lt;title&gt;…&lt;/title&gt;…&lt;/book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mpty elements: </a:t>
            </a:r>
            <a:r>
              <a:rPr b="0" lang="en-US" sz="2600" spc="-1" strike="noStrike">
                <a:solidFill>
                  <a:srgbClr val="00ff00"/>
                </a:solidFill>
                <a:latin typeface="LettrGoth12 BT"/>
              </a:rPr>
              <a:t>&lt;is_textbook&gt;&lt;/is_textbook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abbreviated: </a:t>
            </a:r>
            <a:r>
              <a:rPr b="0" lang="en-US" sz="2400" spc="-1" strike="noStrike">
                <a:solidFill>
                  <a:srgbClr val="00ff00"/>
                </a:solidFill>
                <a:latin typeface="LettrGoth12 BT"/>
              </a:rPr>
              <a:t>&lt;is_textbook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 can also have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attribu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&lt;book </a:t>
            </a:r>
            <a:r>
              <a:rPr b="0" lang="en-US" sz="2800" spc="-1" strike="noStrike">
                <a:solidFill>
                  <a:srgbClr val="00ff00"/>
                </a:solidFill>
                <a:latin typeface="LettrGoth12 BT"/>
              </a:rPr>
              <a:t>ISBN=”…” price=”80.00”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24000" y="987480"/>
            <a:ext cx="456984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bibliography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&lt;book ISBN=”ISBN-10” price=”80.00”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  &lt;title&gt;Foundations of Databases&lt;/titl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  &lt;is_textbook/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  &lt;author&gt;Abiteboul&lt;/author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  &lt;author&gt;Hull&lt;/author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  &lt;author&gt;Vianu&lt;/author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  &lt;publisher&gt;Addison Wesley&lt;/publisher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  &lt;year&gt;1995&lt;/year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&lt;/book&gt;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/bibliograph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3CE9-3BA8-4280-A8F7-607298C479D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BEDB5B-5F9F-4FC9-A27B-3A70BA103A0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ll-formed XML docu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well-form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ML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s XML lexical conven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3373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&lt;section&gt;We show that x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 0…&lt;/section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3373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ight: 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&lt;section&gt;We show that x </a:t>
            </a:r>
            <a:r>
              <a:rPr b="0" lang="en-US" sz="2200" spc="-1" strike="noStrike">
                <a:solidFill>
                  <a:srgbClr val="00ff00"/>
                </a:solidFill>
                <a:latin typeface="LettrGoth12 BT"/>
              </a:rPr>
              <a:t>&amp;lt;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 0…&lt;/section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600" indent="-284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special entities: </a:t>
            </a: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comes </a:t>
            </a:r>
            <a:r>
              <a:rPr b="0" lang="en-US" sz="2000" spc="-1" strike="noStrike">
                <a:solidFill>
                  <a:srgbClr val="66ff33"/>
                </a:solidFill>
                <a:latin typeface="LettrGoth12 BT"/>
              </a:rPr>
              <a:t>&amp;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comes </a:t>
            </a:r>
            <a:r>
              <a:rPr b="0" lang="en-US" sz="2000" spc="-1" strike="noStrike">
                <a:solidFill>
                  <a:srgbClr val="66ff33"/>
                </a:solidFill>
                <a:latin typeface="LettrGoth12 BT"/>
              </a:rPr>
              <a:t>&amp;amp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 a single root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tags that are properly matched and elements that are properly ne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3373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ight: </a:t>
            </a:r>
            <a:r>
              <a:rPr b="0" lang="en-US" sz="2200" spc="-1" strike="noStrike">
                <a:solidFill>
                  <a:srgbClr val="00ff00"/>
                </a:solidFill>
                <a:latin typeface="LettrGoth12 BT"/>
              </a:rPr>
              <a:t>&lt;section&gt;…&lt;subsection&gt;…&lt;/subsection&gt;…&lt;/section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3373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&lt;section&gt;…&lt;subsection&gt;…&lt;/section&gt;…&lt;/subsection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BEEF-0AF4-4328-A72E-72DE1190915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395DF6-E65D-4998-B4AC-03C5F92EC45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XML fea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Com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ff00"/>
                </a:solidFill>
                <a:latin typeface="LettrGoth12 BT"/>
              </a:rPr>
              <a:t>&lt;!--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Comments here </a:t>
            </a:r>
            <a:r>
              <a:rPr b="0" lang="en-US" sz="2400" spc="-1" strike="noStrike">
                <a:solidFill>
                  <a:srgbClr val="00ff00"/>
                </a:solidFill>
                <a:latin typeface="LettrGoth12 BT"/>
              </a:rPr>
              <a:t>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C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ff00"/>
                </a:solidFill>
                <a:latin typeface="LettrGoth12 BT"/>
              </a:rPr>
              <a:t>&lt;![CDATA[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Tags: &lt;book&gt;,…</a:t>
            </a:r>
            <a:r>
              <a:rPr b="0" lang="en-US" sz="2400" spc="-1" strike="noStrike">
                <a:solidFill>
                  <a:srgbClr val="00ff00"/>
                </a:solidFill>
                <a:latin typeface="LettrGoth12 BT"/>
              </a:rPr>
              <a:t>]]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ID’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person </a:t>
            </a:r>
            <a:r>
              <a:rPr b="0" lang="en-US" sz="1500" spc="-1" strike="noStrike">
                <a:solidFill>
                  <a:srgbClr val="00ff00"/>
                </a:solidFill>
                <a:latin typeface="LettrGoth12 BT"/>
                <a:ea typeface="Arial Unicode MS"/>
              </a:rPr>
              <a:t>id=”o12”</a:t>
            </a: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gt;&lt;name&gt;Homer&lt;/name&gt;…&lt;/person&gt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person </a:t>
            </a:r>
            <a:r>
              <a:rPr b="0" lang="en-US" sz="1500" spc="-1" strike="noStrike">
                <a:solidFill>
                  <a:srgbClr val="00ff00"/>
                </a:solidFill>
                <a:latin typeface="LettrGoth12 BT"/>
                <a:ea typeface="Arial Unicode MS"/>
              </a:rPr>
              <a:t>id=”o34”</a:t>
            </a: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gt;&lt;name&gt;Marge&lt;/name&gt;…&lt;/person&gt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person </a:t>
            </a:r>
            <a:r>
              <a:rPr b="0" lang="en-US" sz="1500" spc="-1" strike="noStrike">
                <a:solidFill>
                  <a:srgbClr val="00ff00"/>
                </a:solidFill>
                <a:latin typeface="LettrGoth12 BT"/>
                <a:ea typeface="Arial Unicode MS"/>
              </a:rPr>
              <a:t>id=”o56” father=”o12” mother=”o34”</a:t>
            </a: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gt;&lt;name&gt;Bart&lt;/name&gt;…&lt;/person&gt;…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Namespa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ow external schemas and qualified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book </a:t>
            </a:r>
            <a:r>
              <a:rPr b="0" lang="en-US" sz="1500" spc="-1" strike="noStrike">
                <a:solidFill>
                  <a:srgbClr val="00ff00"/>
                </a:solidFill>
                <a:latin typeface="LettrGoth12 BT"/>
                <a:ea typeface="Arial Unicode MS"/>
              </a:rPr>
              <a:t>xmlns:myCitationStyle=”http://…/mySchema”</a:t>
            </a: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gt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ff00"/>
                </a:solidFill>
                <a:latin typeface="LettrGoth12 BT"/>
                <a:ea typeface="Arial Unicode MS"/>
              </a:rPr>
              <a:t>&lt;myCitationStyle:title&gt;</a:t>
            </a: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…</a:t>
            </a:r>
            <a:r>
              <a:rPr b="0" lang="en-US" sz="1500" spc="-1" strike="noStrike">
                <a:solidFill>
                  <a:srgbClr val="00ff00"/>
                </a:solidFill>
                <a:latin typeface="LettrGoth12 BT"/>
                <a:ea typeface="Arial Unicode MS"/>
              </a:rPr>
              <a:t>&lt;/myCitationStyle:title&gt;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	</a:t>
            </a:r>
            <a:r>
              <a:rPr b="0" lang="en-US" sz="1500" spc="-1" strike="noStrike">
                <a:solidFill>
                  <a:srgbClr val="00ff00"/>
                </a:solidFill>
                <a:latin typeface="LettrGoth12 BT"/>
                <a:ea typeface="Arial Unicode MS"/>
              </a:rPr>
              <a:t>&lt;myCitationStyle:author&gt;</a:t>
            </a: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…</a:t>
            </a:r>
            <a:r>
              <a:rPr b="0" lang="en-US" sz="1500" spc="-1" strike="noStrike">
                <a:solidFill>
                  <a:srgbClr val="00ff00"/>
                </a:solidFill>
                <a:latin typeface="LettrGoth12 BT"/>
                <a:ea typeface="Arial Unicode MS"/>
              </a:rPr>
              <a:t>&lt;/myCitationStyle:author&gt;</a:t>
            </a: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…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/book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Processing instru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apps: </a:t>
            </a:r>
            <a:r>
              <a:rPr b="0" lang="en-US" sz="2400" spc="-1" strike="noStrike">
                <a:solidFill>
                  <a:srgbClr val="00ff00"/>
                </a:solidFill>
                <a:latin typeface="LettrGoth12 BT"/>
              </a:rPr>
              <a:t>&lt;?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va app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LettrGoth12 BT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25BB-D2A8-47AA-936E-AC2D355F085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17705F-4857-41DD-9AF7-57544759202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id XML docu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val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ML document conforms to a 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Document Type Defin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DT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DTD is opt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TD specif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grammar for the doc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aints on structures and values of elements, attributes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!DOCTYPE bibliography [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!ELEMENT bibliography (book+)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!ELEMENT book (title, author*, publisher?, year?, section*)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!ATTLIST book ISBN CDATA #REQUIRED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!ATTLIST book price CDATA #IMPLIED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!ELEMENT title (#PCDATA)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!ELEMENT author (#PCDATA)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!ELEMENT publisher (#PCDATA)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!ELEMENT year (#PCDATA)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!ELEMENT section (title, (#PCDATA)?, section*)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]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799C-129B-45AB-A74C-AD380A6D8AC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2B5645-FA78-4656-8BFC-BEB17FD0F43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rics for Performance Evaluation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widely-used metric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09480" y="4875120"/>
                <a:ext cx="75837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curacy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N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F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F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98" name=""/>
          <p:cNvGraphicFramePr/>
          <p:nvPr/>
        </p:nvGraphicFramePr>
        <p:xfrm>
          <a:off x="1430280" y="1143000"/>
          <a:ext cx="5718240" cy="2816280"/>
        </p:xfrm>
        <a:graphic>
          <a:graphicData uri="http://schemas.openxmlformats.org/drawingml/2006/table">
            <a:tbl>
              <a:tblPr/>
              <a:tblGrid>
                <a:gridCol w="1430280"/>
                <a:gridCol w="1428840"/>
                <a:gridCol w="1430280"/>
                <a:gridCol w="1428840"/>
              </a:tblGrid>
              <a:tr h="660240">
                <a:tc>
                  <a:txBody>
                    <a:bodyPr lIns="85680" rIns="8568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85680" rIns="85680"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DICTED CLA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rowSpan="3">
                  <a:txBody>
                    <a:bodyPr lIns="85680" rIns="85680"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UAL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85680" rIns="8568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ss=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ss=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5680" rIns="8568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ss=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5680" rIns="8568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ss=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A664-DF81-49AC-9F10-26D37B27F7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9C536E-1AF3-4BC1-A338-069B9241B57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TD explained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!DOCTYPE bibliography [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&lt;!ELEMENT bibliography (book+)&gt;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&lt;!ELEMENT book (title, author*, publisher?, year?, section*)&gt;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&lt;!ATTLIST book ISBN ID #REQUIRED&gt;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&lt;!ATTLIST book price CDATA #IMPLIE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01880" y="1295280"/>
            <a:ext cx="6384960" cy="398880"/>
            <a:chOff x="1001880" y="1295280"/>
            <a:chExt cx="6384960" cy="398880"/>
          </a:xfrm>
        </p:grpSpPr>
        <p:sp>
          <p:nvSpPr>
            <p:cNvPr id="436" name=""/>
            <p:cNvSpPr/>
            <p:nvPr/>
          </p:nvSpPr>
          <p:spPr>
            <a:xfrm>
              <a:off x="1001880" y="1295280"/>
              <a:ext cx="638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ettrGoth12 BT"/>
                </a:rPr>
                <a:t>bibliography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 is the root element of the docu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71520" y="1312920"/>
              <a:ext cx="304920" cy="1522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0"/>
                  </a:moveTo>
                  <a:lnTo>
                    <a:pt x="0" y="96"/>
                  </a:lnTo>
                  <a:lnTo>
                    <a:pt x="192" y="9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751320" y="1982880"/>
            <a:ext cx="8456040" cy="398880"/>
            <a:chOff x="751320" y="1982880"/>
            <a:chExt cx="8456040" cy="398880"/>
          </a:xfrm>
        </p:grpSpPr>
        <p:sp>
          <p:nvSpPr>
            <p:cNvPr id="439" name=""/>
            <p:cNvSpPr/>
            <p:nvPr/>
          </p:nvSpPr>
          <p:spPr>
            <a:xfrm>
              <a:off x="751320" y="1982880"/>
              <a:ext cx="845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ettrGoth12 BT"/>
                </a:rPr>
                <a:t>bibliography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 consists of a sequence of one or more </a:t>
              </a:r>
              <a:r>
                <a:rPr b="0" lang="en-US" sz="2000" spc="-1" strike="noStrike">
                  <a:solidFill>
                    <a:srgbClr val="000000"/>
                  </a:solidFill>
                  <a:latin typeface="LettrGoth12 BT"/>
                </a:rPr>
                <a:t>book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 ele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271520" y="1998720"/>
              <a:ext cx="304920" cy="1522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0"/>
                  </a:moveTo>
                  <a:lnTo>
                    <a:pt x="0" y="96"/>
                  </a:lnTo>
                  <a:lnTo>
                    <a:pt x="192" y="9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4572000" y="1770120"/>
            <a:ext cx="2126880" cy="398880"/>
            <a:chOff x="4572000" y="1770120"/>
            <a:chExt cx="2126880" cy="398880"/>
          </a:xfrm>
        </p:grpSpPr>
        <p:sp>
          <p:nvSpPr>
            <p:cNvPr id="442" name=""/>
            <p:cNvSpPr/>
            <p:nvPr/>
          </p:nvSpPr>
          <p:spPr>
            <a:xfrm>
              <a:off x="4572000" y="1922400"/>
              <a:ext cx="609480" cy="763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0"/>
                  </a:moveTo>
                  <a:lnTo>
                    <a:pt x="0" y="96"/>
                  </a:lnTo>
                  <a:lnTo>
                    <a:pt x="192" y="9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989600" y="1770120"/>
              <a:ext cx="170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One or m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4932000" y="4370400"/>
            <a:ext cx="45698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bibliography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&lt;book ISBN=”ISBN-10” price=”80.00”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  &lt;title&gt;Foundations of Databases&lt;/titl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  &lt;author&gt;Abiteboul&lt;/author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  &lt;author&gt;Hull&lt;/author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  &lt;author&gt;Vianu&lt;/author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  &lt;publisher&gt;Addison Wesley&lt;/publisher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  &lt;year&gt;1995&lt;/year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&lt;/book&gt;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/bibliograph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34840" y="2608200"/>
            <a:ext cx="8000280" cy="1145160"/>
            <a:chOff x="834840" y="2608200"/>
            <a:chExt cx="8000280" cy="1145160"/>
          </a:xfrm>
        </p:grpSpPr>
        <p:sp>
          <p:nvSpPr>
            <p:cNvPr id="446" name=""/>
            <p:cNvSpPr/>
            <p:nvPr/>
          </p:nvSpPr>
          <p:spPr>
            <a:xfrm>
              <a:off x="834840" y="3049560"/>
              <a:ext cx="8000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ettrGoth12 BT"/>
                </a:rPr>
                <a:t>book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 consists of a </a:t>
              </a:r>
              <a:r>
                <a:rPr b="0" lang="en-US" sz="2000" spc="-1" strike="noStrike">
                  <a:solidFill>
                    <a:srgbClr val="000000"/>
                  </a:solidFill>
                  <a:latin typeface="LettrGoth12 BT"/>
                </a:rPr>
                <a:t>title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, zero or more </a:t>
              </a:r>
              <a:r>
                <a:rPr b="0" lang="en-US" sz="2000" spc="-1" strike="noStrike">
                  <a:solidFill>
                    <a:srgbClr val="000000"/>
                  </a:solidFill>
                  <a:latin typeface="LettrGoth12 BT"/>
                </a:rPr>
                <a:t>author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s,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an optional </a:t>
              </a:r>
              <a:r>
                <a:rPr b="0" lang="en-US" sz="2000" spc="-1" strike="noStrike">
                  <a:solidFill>
                    <a:srgbClr val="000000"/>
                  </a:solidFill>
                  <a:latin typeface="LettrGoth12 BT"/>
                </a:rPr>
                <a:t>publisher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, and zero or more </a:t>
              </a:r>
              <a:r>
                <a:rPr b="0" lang="en-US" sz="2000" spc="-1" strike="noStrike">
                  <a:solidFill>
                    <a:srgbClr val="000000"/>
                  </a:solidFill>
                  <a:latin typeface="LettrGoth12 BT"/>
                </a:rPr>
                <a:t>sec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s, in sequ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271520" y="2608200"/>
              <a:ext cx="304920" cy="68580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0"/>
                  </a:moveTo>
                  <a:lnTo>
                    <a:pt x="0" y="96"/>
                  </a:lnTo>
                  <a:lnTo>
                    <a:pt x="192" y="9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4687920" y="2608200"/>
            <a:ext cx="2170440" cy="475200"/>
            <a:chOff x="4687920" y="2608200"/>
            <a:chExt cx="2170440" cy="475200"/>
          </a:xfrm>
        </p:grpSpPr>
        <p:sp>
          <p:nvSpPr>
            <p:cNvPr id="449" name=""/>
            <p:cNvSpPr/>
            <p:nvPr/>
          </p:nvSpPr>
          <p:spPr>
            <a:xfrm>
              <a:off x="4687920" y="2608200"/>
              <a:ext cx="609480" cy="3049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0"/>
                  </a:moveTo>
                  <a:lnTo>
                    <a:pt x="0" y="96"/>
                  </a:lnTo>
                  <a:lnTo>
                    <a:pt x="192" y="9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98680" y="2684520"/>
              <a:ext cx="175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Zero or m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6172200" y="2455920"/>
            <a:ext cx="2000880" cy="398880"/>
            <a:chOff x="6172200" y="2455920"/>
            <a:chExt cx="2000880" cy="398880"/>
          </a:xfrm>
        </p:grpSpPr>
        <p:sp>
          <p:nvSpPr>
            <p:cNvPr id="452" name=""/>
            <p:cNvSpPr/>
            <p:nvPr/>
          </p:nvSpPr>
          <p:spPr>
            <a:xfrm>
              <a:off x="6172200" y="2608200"/>
              <a:ext cx="609480" cy="763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0"/>
                  </a:moveTo>
                  <a:lnTo>
                    <a:pt x="0" y="96"/>
                  </a:lnTo>
                  <a:lnTo>
                    <a:pt x="192" y="9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599520" y="2455920"/>
              <a:ext cx="157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Zero or 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887760" y="4040280"/>
            <a:ext cx="7649640" cy="398880"/>
            <a:chOff x="887760" y="4040280"/>
            <a:chExt cx="7649640" cy="398880"/>
          </a:xfrm>
        </p:grpSpPr>
        <p:sp>
          <p:nvSpPr>
            <p:cNvPr id="455" name=""/>
            <p:cNvSpPr/>
            <p:nvPr/>
          </p:nvSpPr>
          <p:spPr>
            <a:xfrm>
              <a:off x="887760" y="4040280"/>
              <a:ext cx="764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ettrGoth12 BT"/>
                </a:rPr>
                <a:t>book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 has a required </a:t>
              </a:r>
              <a:r>
                <a:rPr b="0" lang="en-US" sz="2000" spc="-1" strike="noStrike">
                  <a:solidFill>
                    <a:srgbClr val="000000"/>
                  </a:solidFill>
                  <a:latin typeface="LettrGoth12 BT"/>
                </a:rPr>
                <a:t>ISBN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 attribute which is a unique identifi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271520" y="4056120"/>
              <a:ext cx="304920" cy="1522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0"/>
                  </a:moveTo>
                  <a:lnTo>
                    <a:pt x="0" y="96"/>
                  </a:lnTo>
                  <a:lnTo>
                    <a:pt x="192" y="9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1253880" y="4649760"/>
            <a:ext cx="4134240" cy="1008720"/>
            <a:chOff x="1253880" y="4649760"/>
            <a:chExt cx="4134240" cy="1008720"/>
          </a:xfrm>
        </p:grpSpPr>
        <p:sp>
          <p:nvSpPr>
            <p:cNvPr id="458" name=""/>
            <p:cNvSpPr/>
            <p:nvPr/>
          </p:nvSpPr>
          <p:spPr>
            <a:xfrm>
              <a:off x="1253880" y="4649760"/>
              <a:ext cx="41342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ettrGoth12 BT"/>
                </a:rPr>
                <a:t>book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 has an optional (</a:t>
              </a:r>
              <a:r>
                <a:rPr b="0" lang="en-US" sz="2000" spc="-1" strike="noStrike">
                  <a:solidFill>
                    <a:srgbClr val="000000"/>
                  </a:solidFill>
                  <a:latin typeface="LettrGoth12 BT"/>
                </a:rPr>
                <a:t>#IMPLIED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LettrGoth12 BT"/>
                </a:rPr>
                <a:t>price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 attribute which contains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character 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295280" y="4665600"/>
              <a:ext cx="304920" cy="15264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0"/>
                  </a:moveTo>
                  <a:lnTo>
                    <a:pt x="0" y="96"/>
                  </a:lnTo>
                  <a:lnTo>
                    <a:pt x="192" y="9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0BED-EBE0-4FA8-B2B9-8D5D2290EFE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7ADB9A-3437-4CF7-8B74-DFF0957FCC8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TD explained (cont’d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LettrGoth12 BT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330066"/>
                </a:solidFill>
                <a:latin typeface="LettrGoth12 BT"/>
                <a:ea typeface="Arial Unicode MS"/>
              </a:rPr>
              <a:t>  </a:t>
            </a:r>
            <a:r>
              <a:rPr b="0" lang="en-US" sz="1800" spc="-1" strike="noStrike">
                <a:solidFill>
                  <a:srgbClr val="330066"/>
                </a:solidFill>
                <a:latin typeface="LettrGoth12 BT"/>
                <a:ea typeface="Arial Unicode MS"/>
              </a:rPr>
              <a:t>&lt;!ELEMENT title (#PCDATA)&gt;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  <a:ea typeface="Arial Unicode MS"/>
              </a:rPr>
              <a:t>  &lt;!ELEMENT author (#PCDATA)&gt;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  <a:ea typeface="Arial Unicode MS"/>
              </a:rPr>
              <a:t>  &lt;!ELEMENT publisher (#PCDATA)&gt;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  <a:ea typeface="Arial Unicode MS"/>
              </a:rPr>
              <a:t>  &lt;!ELEMENT year (#PCDATA)&gt;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  <a:ea typeface="Arial Unicode MS"/>
              </a:rPr>
              <a:t>  &lt;!ELEMENT section (title, (#PCDATA)?, section*)&gt;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  <a:ea typeface="Arial Unicode MS"/>
              </a:rPr>
              <a:t>]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1189080" y="2362320"/>
            <a:ext cx="5103720" cy="703800"/>
            <a:chOff x="1189080" y="2362320"/>
            <a:chExt cx="5103720" cy="703800"/>
          </a:xfrm>
        </p:grpSpPr>
        <p:sp>
          <p:nvSpPr>
            <p:cNvPr id="463" name=""/>
            <p:cNvSpPr/>
            <p:nvPr/>
          </p:nvSpPr>
          <p:spPr>
            <a:xfrm>
              <a:off x="1189080" y="2362320"/>
              <a:ext cx="5103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ettrGoth12 BT"/>
                </a:rPr>
                <a:t>title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lang="en-US" sz="2000" spc="-1" strike="noStrike">
                  <a:solidFill>
                    <a:srgbClr val="000000"/>
                  </a:solidFill>
                  <a:latin typeface="LettrGoth12 BT"/>
                </a:rPr>
                <a:t>author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lang="en-US" sz="2000" spc="-1" strike="noStrike">
                  <a:solidFill>
                    <a:srgbClr val="000000"/>
                  </a:solidFill>
                  <a:latin typeface="LettrGoth12 BT"/>
                </a:rPr>
                <a:t>publisher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, and </a:t>
              </a:r>
              <a:r>
                <a:rPr b="0" lang="en-US" sz="2000" spc="-1" strike="noStrike">
                  <a:solidFill>
                    <a:srgbClr val="000000"/>
                  </a:solidFill>
                  <a:latin typeface="LettrGoth12 BT"/>
                </a:rPr>
                <a:t>year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 all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contain parsed character data (</a:t>
              </a:r>
              <a:r>
                <a:rPr b="0" lang="en-US" sz="2000" spc="-1" strike="noStrike">
                  <a:solidFill>
                    <a:srgbClr val="000000"/>
                  </a:solidFill>
                  <a:latin typeface="LettrGoth12 BT"/>
                </a:rPr>
                <a:t>#PCDAT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271520" y="2378160"/>
              <a:ext cx="304920" cy="1522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0"/>
                  </a:moveTo>
                  <a:lnTo>
                    <a:pt x="0" y="96"/>
                  </a:lnTo>
                  <a:lnTo>
                    <a:pt x="192" y="9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4622400" y="1219320"/>
            <a:ext cx="4991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PCDATA</a:t>
            </a: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 is text that will be pars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 will be treated as a markup ta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&amp;lt;</a:t>
            </a: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 etc. will be treated as entities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CDATA</a:t>
            </a: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 is unparsed charact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1113120" y="3429000"/>
            <a:ext cx="4996440" cy="1008720"/>
            <a:chOff x="1113120" y="3429000"/>
            <a:chExt cx="4996440" cy="1008720"/>
          </a:xfrm>
        </p:grpSpPr>
        <p:sp>
          <p:nvSpPr>
            <p:cNvPr id="467" name=""/>
            <p:cNvSpPr/>
            <p:nvPr/>
          </p:nvSpPr>
          <p:spPr>
            <a:xfrm>
              <a:off x="1113120" y="3429000"/>
              <a:ext cx="4996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Each </a:t>
              </a:r>
              <a:r>
                <a:rPr b="0" lang="en-US" sz="2000" spc="-1" strike="noStrike">
                  <a:solidFill>
                    <a:srgbClr val="000000"/>
                  </a:solidFill>
                  <a:latin typeface="LettrGoth12 BT"/>
                </a:rPr>
                <a:t>sec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 starts with a </a:t>
              </a:r>
              <a:r>
                <a:rPr b="0" lang="en-US" sz="2000" spc="-1" strike="noStrike">
                  <a:solidFill>
                    <a:srgbClr val="000000"/>
                  </a:solidFill>
                  <a:latin typeface="LettrGoth12 BT"/>
                </a:rPr>
                <a:t>title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,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followed by some optional text and then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zero or more subsec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265400" y="3444840"/>
              <a:ext cx="304560" cy="1522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0"/>
                  </a:moveTo>
                  <a:lnTo>
                    <a:pt x="0" y="96"/>
                  </a:lnTo>
                  <a:lnTo>
                    <a:pt x="192" y="9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4824000" y="4226040"/>
            <a:ext cx="4569840" cy="23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section&gt;&lt;title&gt;Introduction&lt;/titl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In this section we introduce XML and DTD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&lt;section&gt;&lt;title&gt;XML&lt;/titl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  XML stands for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&lt;/section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&lt;section&gt;&lt;title&gt;DTD&lt;/titl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  &lt;section&gt;&lt;title&gt;Definition&lt;/titl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    DTD stands for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  &lt;/section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  &lt;section&gt;&lt;title&gt;Usage&lt;/titl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    You can use DTD to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  &lt;/section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  &lt;/section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LettrGoth12 BT"/>
                <a:ea typeface="Arial Unicode MS"/>
              </a:rPr>
              <a:t>&lt;/section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FB1E-9E30-4914-8654-6CC4ED9232C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A2693A-75F5-4CC6-8556-D974AD19C8A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erministic” content decla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ch: the following declaration does not wor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&lt;!ELEMENT pub-venue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  ( (name, address, month, year) |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    (name, volume, number, year) )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ecause when looking at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na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the XML processor would not know which way to go without looking further ahe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ment: content declaration must be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“deterministic” (i.e., no look-ahead requir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7242-6D80-4674-A99F-6E4BEFAEFA2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5A59A-3D0F-43F3-8C0B-D1BA7060C7F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ML versus relational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29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al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 is always fixed in advance and difficult to chang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, flat table structur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ing of rows and columns is unimporta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exchange is proble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ve” support in all serious commercial DB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09800" y="1066320"/>
            <a:ext cx="4228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-formed XML does not require predefined, fixed 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ed structure;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IDRE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permit arbitrary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ing forced by document format; may or may not be impor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ed for easy ex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ten implemented as an “add-on” on top of re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5788-C927-4AAC-9DE1-6B4375E2FF06}" type="slidenum">
              <a:t>3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948335-661E-44D0-8DF3-B48160536E1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ry languages for X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th expressions with condi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uilding block of other standards (XQuery, XSLT, XLink, XPointer, etc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XPath + full-fledged SQL-like query langu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XPath + transformation templa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818A-AD18-4CFC-9B7B-4CB204869E3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14ECD2-AAD0-47ED-975B-D91F63437C3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-Sensitive Meas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191120" y="1143000"/>
                <a:ext cx="4800600" cy="27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recision 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call 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-measure 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p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01" name=""/>
          <p:cNvGraphicFramePr/>
          <p:nvPr/>
        </p:nvGraphicFramePr>
        <p:xfrm>
          <a:off x="76320" y="1295280"/>
          <a:ext cx="4038480" cy="231588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411120">
                <a:tc>
                  <a:txBody>
                    <a:bodyPr lIns="85680" rIns="8568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85680" rIns="85680"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DICTED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5040">
                <a:tc rowSpan="3">
                  <a:txBody>
                    <a:bodyPr lIns="85680" rIns="85680"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UAL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85680" rIns="8568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ss=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ss=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5680" rIns="8568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ss=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5680" rIns="8568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ss=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D775-F9B5-43E4-9BD6-D49855BD15B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FA300B-2C6A-436E-82C8-9F30F971A00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’s Topic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131B-5634-435B-9074-B452D282591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0B5BAB-3D2D-443B-87D5-B83B85D9BB1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Cluster Analysi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ing groups of objects such that the objects in a group will be similar (or related) to one another and different from (or unrelated to) the objects in oth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073320" y="3346560"/>
            <a:ext cx="2858760" cy="2511000"/>
            <a:chOff x="3073320" y="3346560"/>
            <a:chExt cx="2858760" cy="2511000"/>
          </a:xfrm>
        </p:grpSpPr>
        <p:sp>
          <p:nvSpPr>
            <p:cNvPr id="107" name=""/>
            <p:cNvSpPr/>
            <p:nvPr/>
          </p:nvSpPr>
          <p:spPr>
            <a:xfrm>
              <a:off x="3930840" y="3346560"/>
              <a:ext cx="0" cy="171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30840" y="5061240"/>
              <a:ext cx="200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71240" y="5061240"/>
              <a:ext cx="759240" cy="796320"/>
            </a:xfrm>
            <a:custGeom>
              <a:avLst/>
              <a:gdLst/>
              <a:ahLst/>
              <a:rect l="l" t="t" r="r" b="b"/>
              <a:pathLst>
                <a:path w="510" h="535">
                  <a:moveTo>
                    <a:pt x="510" y="0"/>
                  </a:moveTo>
                  <a:lnTo>
                    <a:pt x="0" y="53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7080" y="3846600"/>
              <a:ext cx="142920" cy="142560"/>
            </a:xfrm>
            <a:prstGeom prst="octagon">
              <a:avLst>
                <a:gd name="adj" fmla="val 2928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31280" y="3846600"/>
              <a:ext cx="142920" cy="142560"/>
            </a:xfrm>
            <a:prstGeom prst="octagon">
              <a:avLst>
                <a:gd name="adj" fmla="val 2928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60000" y="3632400"/>
              <a:ext cx="142560" cy="142560"/>
            </a:xfrm>
            <a:prstGeom prst="octagon">
              <a:avLst>
                <a:gd name="adj" fmla="val 2928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60000" y="4060800"/>
              <a:ext cx="142560" cy="142560"/>
            </a:xfrm>
            <a:prstGeom prst="octagon">
              <a:avLst>
                <a:gd name="adj" fmla="val 2928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17480" y="3846600"/>
              <a:ext cx="142560" cy="142560"/>
            </a:xfrm>
            <a:prstGeom prst="octagon">
              <a:avLst>
                <a:gd name="adj" fmla="val 2928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74560" y="3703680"/>
              <a:ext cx="142560" cy="142560"/>
            </a:xfrm>
            <a:prstGeom prst="octagon">
              <a:avLst>
                <a:gd name="adj" fmla="val 2928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4160" y="3632400"/>
              <a:ext cx="142560" cy="142560"/>
            </a:xfrm>
            <a:prstGeom prst="octagon">
              <a:avLst>
                <a:gd name="adj" fmla="val 2928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74560" y="3989520"/>
              <a:ext cx="142560" cy="142920"/>
            </a:xfrm>
            <a:prstGeom prst="octagon">
              <a:avLst>
                <a:gd name="adj" fmla="val 2928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4160" y="3989520"/>
              <a:ext cx="142560" cy="142920"/>
            </a:xfrm>
            <a:prstGeom prst="octagon">
              <a:avLst>
                <a:gd name="adj" fmla="val 2928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73320" y="4418280"/>
              <a:ext cx="142560" cy="14292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87520" y="4489560"/>
              <a:ext cx="142560" cy="14256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87520" y="4704120"/>
              <a:ext cx="142560" cy="14256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02080" y="4489560"/>
              <a:ext cx="142560" cy="14256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59160" y="4275360"/>
              <a:ext cx="142560" cy="14256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02080" y="4704120"/>
              <a:ext cx="142560" cy="14256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73320" y="4632480"/>
              <a:ext cx="142560" cy="142920"/>
            </a:xfrm>
            <a:prstGeom prst="octagon">
              <a:avLst>
                <a:gd name="adj" fmla="val 2928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74560" y="4846680"/>
              <a:ext cx="142560" cy="142920"/>
            </a:xfrm>
            <a:prstGeom prst="octagon">
              <a:avLst>
                <a:gd name="adj" fmla="val 29287"/>
              </a:avLst>
            </a:prstGeom>
            <a:solidFill>
              <a:srgbClr val="0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03320" y="4918320"/>
              <a:ext cx="142560" cy="142560"/>
            </a:xfrm>
            <a:prstGeom prst="octagon">
              <a:avLst>
                <a:gd name="adj" fmla="val 29287"/>
              </a:avLst>
            </a:prstGeom>
            <a:solidFill>
              <a:srgbClr val="0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89120" y="5061240"/>
              <a:ext cx="142560" cy="142920"/>
            </a:xfrm>
            <a:prstGeom prst="octagon">
              <a:avLst>
                <a:gd name="adj" fmla="val 29287"/>
              </a:avLst>
            </a:prstGeom>
            <a:solidFill>
              <a:srgbClr val="0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74560" y="5204160"/>
              <a:ext cx="142560" cy="142560"/>
            </a:xfrm>
            <a:prstGeom prst="octagon">
              <a:avLst>
                <a:gd name="adj" fmla="val 29287"/>
              </a:avLst>
            </a:prstGeom>
            <a:solidFill>
              <a:srgbClr val="0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60400" y="5204160"/>
              <a:ext cx="142920" cy="142560"/>
            </a:xfrm>
            <a:prstGeom prst="octagon">
              <a:avLst>
                <a:gd name="adj" fmla="val 29287"/>
              </a:avLst>
            </a:prstGeom>
            <a:solidFill>
              <a:srgbClr val="0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5074560" y="4989960"/>
              <a:ext cx="142560" cy="142560"/>
            </a:xfrm>
            <a:prstGeom prst="octagon">
              <a:avLst>
                <a:gd name="adj" fmla="val 29287"/>
              </a:avLst>
            </a:prstGeom>
            <a:solidFill>
              <a:srgbClr val="0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60400" y="4775400"/>
              <a:ext cx="142920" cy="142560"/>
            </a:xfrm>
            <a:prstGeom prst="octagon">
              <a:avLst>
                <a:gd name="adj" fmla="val 29287"/>
              </a:avLst>
            </a:prstGeom>
            <a:solidFill>
              <a:srgbClr val="0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932000" y="2500200"/>
            <a:ext cx="2859120" cy="2357280"/>
            <a:chOff x="4932000" y="2500200"/>
            <a:chExt cx="2859120" cy="2357280"/>
          </a:xfrm>
        </p:grpSpPr>
        <p:sp>
          <p:nvSpPr>
            <p:cNvPr id="134" name=""/>
            <p:cNvSpPr/>
            <p:nvPr/>
          </p:nvSpPr>
          <p:spPr>
            <a:xfrm flipH="1" flipV="1">
              <a:off x="4932000" y="4214520"/>
              <a:ext cx="214200" cy="642960"/>
            </a:xfrm>
            <a:prstGeom prst="line">
              <a:avLst/>
            </a:prstGeom>
            <a:ln w="25560">
              <a:solidFill>
                <a:srgbClr val="cc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932800" y="2500200"/>
              <a:ext cx="1858320" cy="1000080"/>
            </a:xfrm>
            <a:prstGeom prst="wedgeRectCallout">
              <a:avLst>
                <a:gd name="adj1" fmla="val -93509"/>
                <a:gd name="adj2" fmla="val 150893"/>
              </a:avLst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2840" bIns="42840" anchor="t">
              <a:noAutofit/>
            </a:bodyPr>
            <a:p>
              <a:pPr algn="ctr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Inter-cluster distances are maximized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716200" y="3429000"/>
            <a:ext cx="3072960" cy="2142720"/>
            <a:chOff x="2716200" y="3429000"/>
            <a:chExt cx="3072960" cy="2142720"/>
          </a:xfrm>
        </p:grpSpPr>
        <p:sp>
          <p:nvSpPr>
            <p:cNvPr id="137" name=""/>
            <p:cNvSpPr/>
            <p:nvPr/>
          </p:nvSpPr>
          <p:spPr>
            <a:xfrm>
              <a:off x="2716200" y="4000320"/>
              <a:ext cx="1215000" cy="1071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59960" y="3429000"/>
              <a:ext cx="1071720" cy="928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88720" y="4643280"/>
              <a:ext cx="1000440" cy="928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214280" y="2786040"/>
            <a:ext cx="2144520" cy="1571400"/>
            <a:chOff x="1214280" y="2786040"/>
            <a:chExt cx="2144520" cy="1571400"/>
          </a:xfrm>
        </p:grpSpPr>
        <p:sp>
          <p:nvSpPr>
            <p:cNvPr id="141" name=""/>
            <p:cNvSpPr/>
            <p:nvPr/>
          </p:nvSpPr>
          <p:spPr>
            <a:xfrm flipV="1">
              <a:off x="3073320" y="4214880"/>
              <a:ext cx="285480" cy="142560"/>
            </a:xfrm>
            <a:prstGeom prst="line">
              <a:avLst/>
            </a:prstGeom>
            <a:ln w="25560">
              <a:solidFill>
                <a:srgbClr val="cc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14280" y="2786040"/>
              <a:ext cx="1859040" cy="1000080"/>
            </a:xfrm>
            <a:prstGeom prst="wedgeRectCallout">
              <a:avLst>
                <a:gd name="adj1" fmla="val 56250"/>
                <a:gd name="adj2" fmla="val 92856"/>
              </a:avLst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2840" bIns="42840" anchor="t">
              <a:noAutofit/>
            </a:bodyPr>
            <a:p>
              <a:pPr algn="ctr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Intra-cluster distances are minimized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8DA8-BA8E-431A-B202-A3CA5F9746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709F8C-626D-49C0-8800-660E520979B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lications of Cluster 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318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related documents for browsing, group genes and proteins that have similar functionality, or group stocks with similar price fluct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 the size of large data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9C99-45D1-429A-9407-13442AA933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EC8BF6-A5BD-4E44-8609-87459734A56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29756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disciplinary Efforts of Cluste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34520" cy="510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tern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tial Data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thematic maps in GIS by clustering feature sp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tect spatial clusters or for other spatial mining tas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onomic Science (especially market resear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cument classif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uster Weblog data to discover groups of similar access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1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inf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hylogenetic tr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croarray analy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3F9D-D6E2-4EB3-9D44-72E31564CCB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628A63-336E-4CF1-ADBB-8B3ADF333286}" type="datetime1">
              <a:rPr lang="en-US"/>
              <a:t>07/28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441360"/>
            <a:ext cx="828036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not Cluster Analysi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6200" y="1066680"/>
            <a:ext cx="80442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vised class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ve class label 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seg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viding students into different registration groups alphabetically, by last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 of a 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roupings are a result of an external specif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partitio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me mutual relevance and synergy, but areas are not identic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F1ED-89C4-40E9-8153-B8757B395EB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F56389-B7C2-4EDC-ADFA-880352BD9C8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5-02T15:32:49Z</dcterms:modified>
  <cp:revision>1146</cp:revision>
  <dc:subject/>
  <dc:title>CS186: Introduction to Database Systems</dc:title>
</cp:coreProperties>
</file>