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2D44C45-979D-471B-9802-20551187C1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F700575-6477-4A4C-9F38-17C88DA69F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451A17A-C2A3-45A5-BE2C-3F862C9EEE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ich one is better 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8FA72CB-28BB-4E92-BF5E-4CE7C39553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BCE4D4A-F08B-43D0-8410-4B2FC5E929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1FB0CE7-AE12-4F54-BC84-83D394444D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F038892-2BCD-4702-8EAD-9AC411C5C9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9113620-6CE2-4E69-855B-045417EEE0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was intern IBM… mentor told me, you know what the trick of optimization 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seem like a wise-guy advice… Don’t go for the best, be happy about who you a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ctually, the reason is very prac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why not always optimum? Time to optimize is counted toward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5C908E4-7806-4A7C-A442-F0A4B7F14B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E1E2A4C-E541-4696-BA08-873ACE6CAC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ED0396A-B050-481E-8658-495AAC8E3A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FB8130F-AEC8-4C45-8611-853B9F2983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3414C3B-71B6-49DB-80F2-BD458B13A7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0059E5D-EE3E-47E0-A3E6-970EDDC640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75A2EA8-1306-4E3F-96E8-E991910802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4188E03-A9C2-4F1C-A19A-7C58ABE14A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0CE5B0-5AEE-4AE2-B52C-6E150C6348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8C9E1AF-B270-4994-A338-565CF995F3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8336840-8215-449C-BF5D-078BA18704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4696722-FB97-463C-96CF-3048FC01D1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4E56FC9-DF4A-41D5-892C-8035BF2959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E1CD5A3-25E4-49F9-8E2A-D8B7DCB3B5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1AC3A88-B122-4B0F-ADC3-A147505FDC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3CE4936-4DB3-41D0-B4F3-94D637AA45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FD0BB40-074C-4850-9B85-2020FF2557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49D4CCF-EBFB-4CD2-A4A9-DAAC4599AB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F5E6633-7B2C-47DB-82D2-6FDD122448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20DBDF7-74EA-4D27-A658-415CF630AA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9525D39-CEC5-488C-A1C2-5E5207C381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386C269-8E4F-430A-91D7-822377A1F7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A40B292-9CCB-4CF2-9A2D-7742DF05EB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CD5ED54-D7B7-4E1C-84FE-CB641945C6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F06D141-9070-47D8-8626-6FFDFA3242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E6AA-630C-433A-9CAC-B7F06182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0B00-B0C6-41D3-A911-0466D14B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0BDA-FD68-4F58-88D0-F2B37F1FE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9EF5-6F24-4249-A237-2C688B13C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ACC2-9871-41D7-9245-E2D8ACC2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75F0-6726-442A-8304-45FF662A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9355-A25E-4A45-AC1B-158BE29A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E925-DDC8-407B-A03F-10087DE1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4C7B-8839-46DF-9C10-90744F11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ABC6-18A6-4672-A282-7AC2D0B9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1A6B-3E93-4D5C-A3F5-80A0C742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8434-CD10-41F1-A0A2-2864B5D9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5671-E791-4AE6-8CA7-4C17673CB9C7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1742-889F-4C4A-ABEC-ABE5994193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gical pl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s are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log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rators (often relational algebra operato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many equivalent logical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-50760" y="2133720"/>
            <a:ext cx="8743320" cy="1949760"/>
            <a:chOff x="-50760" y="2133720"/>
            <a:chExt cx="8743320" cy="1949760"/>
          </a:xfrm>
        </p:grpSpPr>
        <p:sp>
          <p:nvSpPr>
            <p:cNvPr id="232" name=""/>
            <p:cNvSpPr/>
            <p:nvPr/>
          </p:nvSpPr>
          <p:spPr>
            <a:xfrm>
              <a:off x="1030320" y="2133720"/>
              <a:ext cx="792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mi10"/>
                </a:rPr>
                <a:t>¼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97520" y="2501640"/>
              <a:ext cx="7295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mi10"/>
                </a:rPr>
                <a:t>¾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Studen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.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nam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=“Bart”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msy10"/>
                </a:rPr>
                <a:t>Æ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 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Studen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.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SID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 = 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Enroll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.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SID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msy10"/>
                </a:rPr>
                <a:t>Æ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 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Enroll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.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CID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 = 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Course.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55160" y="2922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33840" y="3684600"/>
              <a:ext cx="83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Enro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54600" y="3303360"/>
              <a:ext cx="95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Cour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36600" y="2514600"/>
              <a:ext cx="0" cy="1519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36600" y="2908080"/>
              <a:ext cx="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893520" y="3251160"/>
              <a:ext cx="228600" cy="1519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88880" y="3238200"/>
              <a:ext cx="22860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0040" y="32432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18680" y="3566880"/>
              <a:ext cx="22860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14400" y="3566880"/>
              <a:ext cx="22860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-50760" y="3684600"/>
              <a:ext cx="104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Stud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612520" y="3429000"/>
            <a:ext cx="5874120" cy="2975040"/>
            <a:chOff x="2612520" y="3429000"/>
            <a:chExt cx="5874120" cy="2975040"/>
          </a:xfrm>
        </p:grpSpPr>
        <p:sp>
          <p:nvSpPr>
            <p:cNvPr id="246" name=""/>
            <p:cNvSpPr/>
            <p:nvPr/>
          </p:nvSpPr>
          <p:spPr>
            <a:xfrm>
              <a:off x="2612520" y="3671640"/>
              <a:ext cx="338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An equivalent plan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824800" y="3429000"/>
              <a:ext cx="792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mi10"/>
                </a:rPr>
                <a:t>¼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36840" y="3836880"/>
              <a:ext cx="2449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Enroll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.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CID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 = 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Cours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.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04080" y="5243400"/>
              <a:ext cx="83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Enro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07680" y="4409640"/>
              <a:ext cx="95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Cour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19920" y="3849480"/>
              <a:ext cx="0" cy="1519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5028840" y="4267080"/>
              <a:ext cx="911160" cy="5328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16680" y="4267080"/>
              <a:ext cx="228600" cy="1519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4114440" y="5125680"/>
              <a:ext cx="762120" cy="507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43680" y="5125680"/>
              <a:ext cx="22860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54200" y="6005160"/>
              <a:ext cx="104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Stud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91760" y="4662360"/>
              <a:ext cx="248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Studen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.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SID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 = 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Enroll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.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S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11320" y="5506920"/>
              <a:ext cx="1756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mi10"/>
                </a:rPr>
                <a:t>¾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nam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 = “Bart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62520" y="5938560"/>
              <a:ext cx="0" cy="1519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582C-A8C1-4FD9-ACBE-6021BE37642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90FAAD-4458-4A10-BB43-B385908E8DA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 of physical pla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600" y="1011240"/>
            <a:ext cx="861048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physical plans for a single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quivalent results, but different costs and assumptions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DBMS query optimizer picks the “best” possible physical pl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564360" y="2743200"/>
            <a:ext cx="5546160" cy="2897280"/>
            <a:chOff x="3564360" y="2743200"/>
            <a:chExt cx="5546160" cy="2897280"/>
          </a:xfrm>
        </p:grpSpPr>
        <p:sp>
          <p:nvSpPr>
            <p:cNvPr id="263" name=""/>
            <p:cNvSpPr/>
            <p:nvPr/>
          </p:nvSpPr>
          <p:spPr>
            <a:xfrm>
              <a:off x="6212520" y="2743200"/>
              <a:ext cx="184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PROJECT (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meriGarmnd BT"/>
                </a:rPr>
                <a:t>title</a:t>
              </a: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07680" y="3179520"/>
              <a:ext cx="398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INDEX-NESTED-LOOP-JOIN (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meriGarmnd BT"/>
                </a:rPr>
                <a:t>CID</a:t>
              </a: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19360" y="4479840"/>
              <a:ext cx="252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Index on Enroll(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meriGarmnd BT"/>
                </a:rPr>
                <a:t>SID</a:t>
              </a: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78920" y="3641400"/>
              <a:ext cx="26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Index on 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meriGarmnd BT"/>
                </a:rPr>
                <a:t>Course</a:t>
              </a: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(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meriGarmnd BT"/>
                </a:rPr>
                <a:t>CID</a:t>
              </a: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972120" y="3097080"/>
              <a:ext cx="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5995440" y="3498840"/>
              <a:ext cx="911160" cy="5331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83280" y="3498840"/>
              <a:ext cx="22860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4876200" y="4362120"/>
              <a:ext cx="762120" cy="5083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5440" y="4362120"/>
              <a:ext cx="22860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564360" y="5241600"/>
              <a:ext cx="296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Index on 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meriGarmnd BT"/>
                </a:rPr>
                <a:t>Student</a:t>
              </a: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(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meriGarmnd BT"/>
                </a:rPr>
                <a:t>name</a:t>
              </a: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32400" y="4825800"/>
              <a:ext cx="35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INDEX-SCAN (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meriGarmnd BT"/>
                </a:rPr>
                <a:t>name</a:t>
              </a: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 = “Bart”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876560" y="5175000"/>
              <a:ext cx="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86960" y="4022640"/>
              <a:ext cx="39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INDEX-NESTED-LOOP-JOIN (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meriGarmnd BT"/>
                </a:rPr>
                <a:t>SID</a:t>
              </a: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408480" y="2743200"/>
            <a:ext cx="5078160" cy="2913480"/>
            <a:chOff x="3408480" y="2743200"/>
            <a:chExt cx="5078160" cy="2913480"/>
          </a:xfrm>
        </p:grpSpPr>
        <p:sp>
          <p:nvSpPr>
            <p:cNvPr id="277" name=""/>
            <p:cNvSpPr/>
            <p:nvPr/>
          </p:nvSpPr>
          <p:spPr>
            <a:xfrm>
              <a:off x="6112440" y="2743200"/>
              <a:ext cx="184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PROJECT (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meriGarmnd BT"/>
                </a:rPr>
                <a:t>title</a:t>
              </a: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72400" y="3097080"/>
              <a:ext cx="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19040" y="3200400"/>
              <a:ext cx="228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MERGE-JOIN (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meriGarmnd BT"/>
                </a:rPr>
                <a:t>CID</a:t>
              </a: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86920" y="3716280"/>
              <a:ext cx="189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SCAN (Cours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6324120" y="3574800"/>
              <a:ext cx="530280" cy="3049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31080" y="3574800"/>
              <a:ext cx="22860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214960" y="3809880"/>
              <a:ext cx="143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SORT (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meriGarmnd BT"/>
                </a:rPr>
                <a:t>CID</a:t>
              </a: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5714640" y="4108320"/>
              <a:ext cx="22860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12960" y="4190760"/>
              <a:ext cx="226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MERGE-JOIN (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meriGarmnd BT"/>
                </a:rPr>
                <a:t>SID</a:t>
              </a: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92960" y="5029200"/>
              <a:ext cx="171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SCAN (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meriGarmnd BT"/>
                </a:rPr>
                <a:t>Enroll</a:t>
              </a: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05720" y="4946400"/>
              <a:ext cx="22860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18560" y="4632120"/>
              <a:ext cx="141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SORT (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meriGarmnd BT"/>
                </a:rPr>
                <a:t>SID</a:t>
              </a: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34040" y="4514760"/>
              <a:ext cx="22860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4876560" y="4514760"/>
              <a:ext cx="533160" cy="3556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52720" y="5257800"/>
              <a:ext cx="192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SCAN (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meriGarmnd BT"/>
                </a:rPr>
                <a:t>Student</a:t>
              </a: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08480" y="4784400"/>
              <a:ext cx="28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FILTER (</a:t>
              </a:r>
              <a:r>
                <a:rPr b="0" i="1" lang="en-US" sz="2000" spc="-1" strike="noStrike">
                  <a:solidFill>
                    <a:srgbClr val="00ff00"/>
                  </a:solidFill>
                  <a:latin typeface="AmeriGarmnd BT"/>
                </a:rPr>
                <a:t>name</a:t>
              </a: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 = “Bart”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800600" y="5175000"/>
              <a:ext cx="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-762120" y="2514600"/>
            <a:ext cx="5675040" cy="2975040"/>
            <a:chOff x="-762120" y="2514600"/>
            <a:chExt cx="5675040" cy="2975040"/>
          </a:xfrm>
        </p:grpSpPr>
        <p:sp>
          <p:nvSpPr>
            <p:cNvPr id="295" name=""/>
            <p:cNvSpPr/>
            <p:nvPr/>
          </p:nvSpPr>
          <p:spPr>
            <a:xfrm>
              <a:off x="-762120" y="275724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51080" y="2514600"/>
              <a:ext cx="792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mi10"/>
                </a:rPr>
                <a:t>¼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463120" y="2922480"/>
              <a:ext cx="2449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Enroll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.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CID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 = 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Cours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.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30360" y="4329000"/>
              <a:ext cx="83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Enro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433960" y="3495240"/>
              <a:ext cx="95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Cour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446200" y="2935080"/>
              <a:ext cx="0" cy="1519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455120" y="3352680"/>
              <a:ext cx="911160" cy="5328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42960" y="3352680"/>
              <a:ext cx="228600" cy="1519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540720" y="4211280"/>
              <a:ext cx="762120" cy="507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9960" y="4211280"/>
              <a:ext cx="22860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-119160" y="5090760"/>
              <a:ext cx="104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Stud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18040" y="3747960"/>
              <a:ext cx="248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Studen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.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SID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 = 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Enroll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.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S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37600" y="4592520"/>
              <a:ext cx="1756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mi10"/>
                </a:rPr>
                <a:t>¾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nam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 = “Bart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8800" y="5024160"/>
              <a:ext cx="0" cy="1519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9A9B-0FEC-44BC-9CF0-BF517B6BB70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6E6682-D687-450B-A45A-4C8E8392F85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ysical plan exec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re intermediate results passed from child operators to parent operato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Temporary fi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the tree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ren write intermediate results to temporary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s read temporary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Iterat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materialize intermediat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ren pipeline their results to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5B22-1B47-4F15-A28C-974604E94E8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CC4A1-AA48-4814-BEDE-050ED9FFAAF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erator interf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physical operator maintains its own execution state and implements the following metho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open(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Initialize state and get ready for process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getNext(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Return the next tuple in the result (or a null pointer if there are no more tuples); adjust state to allow subsequent tuples to be obtain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close(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Clean u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DE47-9053-461C-A020-D041BC3C888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A6FE0-3818-407B-BB63-0A94608895F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iterator for table sc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: a block of memory for buffering inpu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ointer to a tuple within the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open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llocate a block of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getNex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 block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has been read yet, read the first block from the disk and return the first tuple in the b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the null pointer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re is no more tuple left in the current block, read the next block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rom the disk and return the first tuple in the b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the null pointer if there are no more block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wise, return the next tuple in the memory b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close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eallocate the block of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711F-8373-4ECA-961E-F47F2807C61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EE3169-94F2-4265-9C7E-4EC1B56953E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iterator for SORT-MERGE-JO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R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iterator for the left sub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S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iterator for the right sub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rt R; sort S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.open(); S.open(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 = R.next(); s = S.next()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le (r != NULL &amp;&amp; s != NULL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  while (r.c &lt; s.c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      r = R.next(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     if (r.c = s.c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          while (r.c = s.c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              output rs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              r = R.next(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         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      "rewind" r to first tuple of R where r.c = s.c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      s = S.next(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 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 while (r.c &gt; s.c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       s = S.next(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46920" y="1432080"/>
            <a:ext cx="239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SORT-MERGE-J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6781320" y="1752480"/>
            <a:ext cx="304920" cy="304920"/>
          </a:xfrm>
          <a:prstGeom prst="line">
            <a:avLst/>
          </a:prstGeom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391520" y="1752480"/>
            <a:ext cx="304560" cy="304920"/>
          </a:xfrm>
          <a:prstGeom prst="line">
            <a:avLst/>
          </a:prstGeom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172200" y="2133720"/>
            <a:ext cx="1143000" cy="11430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315200" y="2133720"/>
            <a:ext cx="762120" cy="7617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308640" y="1905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756200" y="1905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38680" y="35053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lexity: some of the DBMSs (e.g. pgSQL) predate C++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7D2B-6DDD-4D8D-9C11-A29DAF91817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54E5FD-45C6-44D2-A8AF-0424DE79105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ry optim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One logical plan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“best” physic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 to enumerate possible pl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 to estimate cos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 to pick the “best” 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the goal is not getting the optimum plan, but instead avoiding the horrible 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474480" y="5070600"/>
            <a:ext cx="7983720" cy="1409040"/>
            <a:chOff x="474480" y="5070600"/>
            <a:chExt cx="7983720" cy="1409040"/>
          </a:xfrm>
        </p:grpSpPr>
        <p:sp>
          <p:nvSpPr>
            <p:cNvPr id="328" name=""/>
            <p:cNvSpPr/>
            <p:nvPr/>
          </p:nvSpPr>
          <p:spPr>
            <a:xfrm>
              <a:off x="762120" y="5938920"/>
              <a:ext cx="769608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19320" y="5786280"/>
              <a:ext cx="0" cy="3049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666880" y="5786280"/>
              <a:ext cx="0" cy="3049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924680" y="5786280"/>
              <a:ext cx="0" cy="3049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74480" y="6019920"/>
              <a:ext cx="145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1 seco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324200" y="6019920"/>
              <a:ext cx="112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1 ho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10160" y="6019920"/>
              <a:ext cx="14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1 minu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37160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58760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75248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86696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13372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07000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1480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9588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70572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0876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001000" y="58118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1828800" y="5329080"/>
              <a:ext cx="533520" cy="3812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30840" y="5070600"/>
              <a:ext cx="29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Any of these will 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89A5-C391-489B-B23B-0538DF051FB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B08E6B-EEF2-46B8-8E0D-192E6A5452C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 enumeration in relational algeb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 relational algebra equival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 reordering: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associative and commutative (except column ordering, but that is unimporta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720360" y="3478320"/>
            <a:ext cx="7551720" cy="2401200"/>
            <a:chOff x="720360" y="3478320"/>
            <a:chExt cx="7551720" cy="2401200"/>
          </a:xfrm>
        </p:grpSpPr>
        <p:sp>
          <p:nvSpPr>
            <p:cNvPr id="352" name=""/>
            <p:cNvSpPr/>
            <p:nvPr/>
          </p:nvSpPr>
          <p:spPr>
            <a:xfrm>
              <a:off x="1847880" y="358128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95280" y="437364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1562040" y="3987720"/>
              <a:ext cx="457200" cy="6098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025720" y="3987720"/>
              <a:ext cx="457200" cy="6098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0360" y="5419800"/>
              <a:ext cx="35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933480" y="4800600"/>
              <a:ext cx="457200" cy="6094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92200" y="4800600"/>
              <a:ext cx="457200" cy="6094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98920" y="541980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92560" y="45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57560" y="358128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505320" y="437364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3692520" y="3987720"/>
              <a:ext cx="457200" cy="6098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51240" y="3987720"/>
              <a:ext cx="457200" cy="6098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930760" y="541980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159000" y="4800600"/>
              <a:ext cx="457200" cy="6094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718080" y="4800600"/>
              <a:ext cx="457200" cy="6094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039920" y="5419800"/>
              <a:ext cx="35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18080" y="45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083280" y="347832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72160" y="427032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5716440" y="3987720"/>
              <a:ext cx="457200" cy="6098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275520" y="3987720"/>
              <a:ext cx="457200" cy="6098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011640" y="5419800"/>
              <a:ext cx="35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6224760" y="4800600"/>
              <a:ext cx="457200" cy="6094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783480" y="4800600"/>
              <a:ext cx="457200" cy="6094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16840" y="5419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521320" y="458136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850520" y="3967200"/>
              <a:ext cx="4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905560" y="4043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115240" y="4043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274520" y="4043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D2DD-6EC8-4A5B-BAB5-650F821C782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AE80B-514A-491D-8C72-0CF6EBEFA73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relational algebra equivalen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/from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cmsy10"/>
              </a:rPr>
              <a:t>£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dbsym"/>
                <a:ea typeface="dbsym"/>
              </a:rPr>
              <a:t>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/split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: </a:t>
            </a:r>
            <a:r>
              <a:rPr b="0" lang="en-US" sz="24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1 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cmsy10"/>
              </a:rPr>
              <a:t>Æ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/split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: </a:t>
            </a:r>
            <a:r>
              <a:rPr b="0" lang="en-US" sz="24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 down/pull up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cmsy10"/>
              </a:rPr>
              <a:t>Æ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pr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cmsy10"/>
              </a:rPr>
              <a:t>Æ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ps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dbsym"/>
                <a:ea typeface="dbsym"/>
              </a:rPr>
              <a:t>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) = (</a:t>
            </a:r>
            <a:r>
              <a:rPr b="0" lang="en-US" sz="24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pr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330066"/>
                </a:solidFill>
                <a:latin typeface="dbsym"/>
                <a:ea typeface="dbsym"/>
              </a:rPr>
              <a:t>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cmsy10"/>
              </a:rPr>
              <a:t>Æ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ps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 predicate involving only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lum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 predicate involving only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lum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e predicates involving both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lum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 down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L L’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)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the set of columns referenced by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hat are not 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more (seemingly trivial) equivalenc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systematically used to transform a plan to new 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F340-B4EB-41F7-AE77-37840155DE4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D9C51D-7B9D-456E-A00A-1B29F1A60B8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onal query rewrit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89720" y="1066680"/>
            <a:ext cx="8508600" cy="1950120"/>
            <a:chOff x="189720" y="1066680"/>
            <a:chExt cx="8508600" cy="1950120"/>
          </a:xfrm>
        </p:grpSpPr>
        <p:sp>
          <p:nvSpPr>
            <p:cNvPr id="387" name=""/>
            <p:cNvSpPr/>
            <p:nvPr/>
          </p:nvSpPr>
          <p:spPr>
            <a:xfrm>
              <a:off x="1300320" y="1066680"/>
              <a:ext cx="792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mi10"/>
                </a:rPr>
                <a:t>¼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403280" y="1434960"/>
              <a:ext cx="7295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mi10"/>
                </a:rPr>
                <a:t>¾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Studen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.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nam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=“Bart”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msy10"/>
                </a:rPr>
                <a:t>Æ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 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Studen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.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SID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 = 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Enroll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.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SID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msy10"/>
                </a:rPr>
                <a:t>Æ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 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Enroll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.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CID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 = 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Course.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348920" y="1855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77560" y="2617920"/>
              <a:ext cx="83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Enro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464120" y="2236680"/>
              <a:ext cx="95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Cour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30360" y="1447920"/>
              <a:ext cx="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530360" y="1841400"/>
              <a:ext cx="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1187280" y="2184480"/>
              <a:ext cx="22860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682640" y="2171520"/>
              <a:ext cx="22860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83800" y="2176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712440" y="2500200"/>
              <a:ext cx="22860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08160" y="2500200"/>
              <a:ext cx="22860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9720" y="2617920"/>
              <a:ext cx="104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Stud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78120" y="2514600"/>
            <a:ext cx="5449680" cy="3397320"/>
            <a:chOff x="78120" y="2514600"/>
            <a:chExt cx="5449680" cy="3397320"/>
          </a:xfrm>
        </p:grpSpPr>
        <p:sp>
          <p:nvSpPr>
            <p:cNvPr id="401" name=""/>
            <p:cNvSpPr/>
            <p:nvPr/>
          </p:nvSpPr>
          <p:spPr>
            <a:xfrm>
              <a:off x="1676520" y="3124080"/>
              <a:ext cx="609480" cy="6098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1302480" y="2514600"/>
              <a:ext cx="4225320" cy="3397320"/>
              <a:chOff x="1302480" y="2514600"/>
              <a:chExt cx="4225320" cy="3397320"/>
            </a:xfrm>
          </p:grpSpPr>
          <p:sp>
            <p:nvSpPr>
              <p:cNvPr id="403" name=""/>
              <p:cNvSpPr/>
              <p:nvPr/>
            </p:nvSpPr>
            <p:spPr>
              <a:xfrm>
                <a:off x="2859120" y="2514600"/>
                <a:ext cx="792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mmi10"/>
                  </a:rPr>
                  <a:t>¼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931840" y="2882520"/>
                <a:ext cx="25959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mmi10"/>
                  </a:rPr>
                  <a:t>¾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Enroll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.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CID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 = 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Course.CI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908080" y="33033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</a:rPr>
                  <a:t>£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328480" y="4751280"/>
                <a:ext cx="834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meriGarmnd BT"/>
                  </a:rPr>
                  <a:t>Enrol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23280" y="3684240"/>
                <a:ext cx="957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meriGarmnd BT"/>
                  </a:rPr>
                  <a:t>Cour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089160" y="2895480"/>
                <a:ext cx="0" cy="15192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089160" y="3288960"/>
                <a:ext cx="0" cy="15228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2244240" y="3632040"/>
                <a:ext cx="730440" cy="44892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241800" y="3619080"/>
                <a:ext cx="228600" cy="15228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034720" y="43099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msy10"/>
                  </a:rPr>
                  <a:t>£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1711440" y="4633560"/>
                <a:ext cx="380880" cy="43776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359080" y="4633560"/>
                <a:ext cx="228600" cy="15228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302480" y="5513040"/>
                <a:ext cx="104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meriGarmnd BT"/>
                  </a:rPr>
                  <a:t>Stude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043720" y="3903480"/>
                <a:ext cx="2633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mmi10"/>
                  </a:rPr>
                  <a:t>¾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Student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.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SID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 = 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Enroll.SI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208240" y="4309920"/>
                <a:ext cx="0" cy="15192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432800" y="4933800"/>
                <a:ext cx="25102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mmi10"/>
                  </a:rPr>
                  <a:t>¾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Student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.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name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 = “Bart”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711440" y="5452920"/>
                <a:ext cx="0" cy="15192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78120" y="3352680"/>
              <a:ext cx="208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Push down </a:t>
              </a:r>
              <a:r>
                <a:rPr b="0" lang="en-US" sz="2400" spc="-1" strike="noStrike">
                  <a:solidFill>
                    <a:srgbClr val="00ff00"/>
                  </a:solidFill>
                  <a:latin typeface="cmmi10"/>
                </a:rPr>
                <a:t>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3863160" y="3218040"/>
            <a:ext cx="4964040" cy="3414600"/>
            <a:chOff x="3863160" y="3218040"/>
            <a:chExt cx="4964040" cy="3414600"/>
          </a:xfrm>
        </p:grpSpPr>
        <p:grpSp>
          <p:nvGrpSpPr>
            <p:cNvPr id="422" name=""/>
            <p:cNvGrpSpPr/>
            <p:nvPr/>
          </p:nvGrpSpPr>
          <p:grpSpPr>
            <a:xfrm>
              <a:off x="3863160" y="3657600"/>
              <a:ext cx="4964040" cy="2975040"/>
              <a:chOff x="3863160" y="3657600"/>
              <a:chExt cx="4964040" cy="2975040"/>
            </a:xfrm>
          </p:grpSpPr>
          <p:sp>
            <p:nvSpPr>
              <p:cNvPr id="423" name=""/>
              <p:cNvSpPr/>
              <p:nvPr/>
            </p:nvSpPr>
            <p:spPr>
              <a:xfrm>
                <a:off x="6262560" y="3657600"/>
                <a:ext cx="792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mmi10"/>
                  </a:rPr>
                  <a:t>¼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377400" y="4065480"/>
                <a:ext cx="2449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dbsym"/>
                    <a:ea typeface="dbsym"/>
                  </a:rPr>
                  <a:t>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Enroll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.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CID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 = 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Course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.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CI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516280" y="5472000"/>
                <a:ext cx="834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meriGarmnd BT"/>
                  </a:rPr>
                  <a:t>Enrol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385320" y="4638240"/>
                <a:ext cx="957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meriGarmnd BT"/>
                  </a:rPr>
                  <a:t>Cours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481800" y="4078080"/>
                <a:ext cx="0" cy="15192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5490720" y="4495680"/>
                <a:ext cx="911160" cy="53280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78560" y="4495680"/>
                <a:ext cx="228600" cy="15192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4576320" y="5354280"/>
                <a:ext cx="762120" cy="50760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605560" y="5354280"/>
                <a:ext cx="228600" cy="15228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863160" y="6233760"/>
                <a:ext cx="104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meriGarmnd BT"/>
                  </a:rPr>
                  <a:t>Stude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370120" y="4890960"/>
                <a:ext cx="2487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dbsym"/>
                    <a:ea typeface="dbsym"/>
                  </a:rPr>
                  <a:t>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Student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.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SID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 = 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Enroll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.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SI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239360" y="5735520"/>
                <a:ext cx="1756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mmi10"/>
                  </a:rPr>
                  <a:t>¾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name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AmeriGarmnd BT"/>
                  </a:rPr>
                  <a:t> = “Bart”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424400" y="6167160"/>
                <a:ext cx="0" cy="15192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5562720" y="3352680"/>
              <a:ext cx="609480" cy="6098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90880" y="3218040"/>
              <a:ext cx="266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Convert </a:t>
              </a:r>
              <a:r>
                <a:rPr b="0" lang="en-US" sz="2400" spc="-1" strike="noStrike">
                  <a:solidFill>
                    <a:srgbClr val="00ff00"/>
                  </a:solidFill>
                  <a:latin typeface="cmmi10"/>
                </a:rPr>
                <a:t>¾</a:t>
              </a:r>
              <a:r>
                <a:rPr b="0" i="1" lang="en-US" sz="2400" spc="-1" strike="noStrike" baseline="-25000">
                  <a:solidFill>
                    <a:srgbClr val="00ff00"/>
                  </a:solidFill>
                  <a:latin typeface="AmeriGarmnd BT"/>
                </a:rPr>
                <a:t>p</a:t>
              </a: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-</a:t>
              </a:r>
              <a:r>
                <a:rPr b="0" lang="en-US" sz="2400" spc="-1" strike="noStrike">
                  <a:solidFill>
                    <a:srgbClr val="00ff00"/>
                  </a:solidFill>
                  <a:latin typeface="cmsy10"/>
                </a:rPr>
                <a:t>£</a:t>
              </a: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 to </a:t>
              </a:r>
              <a:r>
                <a:rPr b="0" lang="en-US" sz="2400" spc="-1" strike="noStrike">
                  <a:solidFill>
                    <a:srgbClr val="00ff00"/>
                  </a:solidFill>
                  <a:latin typeface="dbsym"/>
                  <a:ea typeface="dbsym"/>
                </a:rPr>
                <a:t></a:t>
              </a:r>
              <a:r>
                <a:rPr b="0" i="1" lang="en-US" sz="2400" spc="-1" strike="noStrike" baseline="-25000">
                  <a:solidFill>
                    <a:srgbClr val="00ff00"/>
                  </a:solidFill>
                  <a:latin typeface="AmeriGarmnd BT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3ED9-67CB-40E0-8D6B-6D53BCF5351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EADE41-04E2-4C46-871E-2D10F022930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 4 is due to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 5 is assigned today, it is due April 2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FD4D-4F7F-46BD-A3B4-8D91C5039DC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83442-0923-4186-A74B-6073D59A567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uristics-based query optim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logic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Push selections/projections down as much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y? Reduce the size of intermediate resul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y not? May be expensive; maybe joins filter bet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Join smaller relations first, and avoid cross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y? Reduce the size of intermediate resul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y not? Size depends on join selectivity to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the transformed logical plan to a physical plan (by choosing appropriate physical opera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2A7D-1F17-448D-A89A-4412AAF35B4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13BAC0-FA17-4DBA-A33E-33E4907EF85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QL query rewri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complicated—subqueries and views divide a query into nested “block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cessing each block separately forces particular join methods and join ord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ven if the plan is optimal for each block, it may not be optimal for the entire que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nest query: convert subqueries/views to j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just deal with select-project-join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re the clean rules of relational algebra app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BC32-249A-4D04-9109-C089B855542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D61ED-9E5F-4E3F-8F33-AAE2572DE11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QL query rewrit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na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FROM Stud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 SID = ANY (SELECT SID FROM Enrol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na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FROM Student, Enro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 Student.SID = Enroll.SI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ong—consider two Bart’s, each taking two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na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FROM (SELECT DISTINCT Student.SID, na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     FROM Student, Enro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     WHERE Student.SID = Enroll.SI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ight—assuming 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Student.S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 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3E8C-ABEC-4930-828C-FD2B6B55CD0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6B417E-EA46-4941-9E61-E0786457D59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uristics- vs. cost-based optim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Heuristics-based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pply heuristics to rewrite plans into cheaper o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Cost-based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Rewri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logical plan to combine “blocks” as much as possi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Optimiz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query block by bl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umerate logical plans (already cove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the cost of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a plan with acceptable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cus: select-project-join bloc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8858-6C9A-485A-9E9D-113B4465903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EC804B-730E-4751-A78F-3D7076853A1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ap of Query Processing in DB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r: SQL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se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riter:  parse tre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gic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ptimizer: logical plan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ci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8B3F-7615-402C-B00D-B3C25F2AAD1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CE7264-EE18-4521-8254-C1BC33BA3FD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 esti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28600" y="3995280"/>
            <a:ext cx="8610480" cy="23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: cost estimation for each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 SORT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akes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what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eed: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size of intermediat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3164760" y="1295280"/>
            <a:ext cx="5099760" cy="2913480"/>
            <a:chOff x="3164760" y="1295280"/>
            <a:chExt cx="5099760" cy="2913480"/>
          </a:xfrm>
        </p:grpSpPr>
        <p:sp>
          <p:nvSpPr>
            <p:cNvPr id="451" name=""/>
            <p:cNvSpPr/>
            <p:nvPr/>
          </p:nvSpPr>
          <p:spPr>
            <a:xfrm>
              <a:off x="5895360" y="1295280"/>
              <a:ext cx="184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PROJECT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itle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720120" y="1649160"/>
              <a:ext cx="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613840" y="1752480"/>
              <a:ext cx="228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MERGE-JOIN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CID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64800" y="2268360"/>
              <a:ext cx="189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SCAN (Cours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6171840" y="2126880"/>
              <a:ext cx="530280" cy="3049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78800" y="2126880"/>
              <a:ext cx="22860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011200" y="2361960"/>
              <a:ext cx="143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SORT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CID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5562360" y="2660400"/>
              <a:ext cx="22860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311720" y="2742840"/>
              <a:ext cx="226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MERGE-JOIN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SID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250320" y="3581280"/>
              <a:ext cx="171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SCAN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Enroll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53440" y="3498480"/>
              <a:ext cx="22860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918760" y="3184200"/>
              <a:ext cx="141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SORT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SID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81760" y="3066840"/>
              <a:ext cx="22860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4724280" y="3066840"/>
              <a:ext cx="533160" cy="3556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606840" y="3809880"/>
              <a:ext cx="192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SCAN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Student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164760" y="3336480"/>
              <a:ext cx="28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FILTER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name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 = “Bart”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648320" y="3727080"/>
              <a:ext cx="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234000" y="1325520"/>
            <a:ext cx="45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Garmnd BT"/>
              </a:rPr>
              <a:t>Physical plan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467640" y="2743200"/>
            <a:ext cx="7533360" cy="1523880"/>
            <a:chOff x="467640" y="2743200"/>
            <a:chExt cx="7533360" cy="1523880"/>
          </a:xfrm>
        </p:grpSpPr>
        <p:sp>
          <p:nvSpPr>
            <p:cNvPr id="470" name=""/>
            <p:cNvSpPr/>
            <p:nvPr/>
          </p:nvSpPr>
          <p:spPr>
            <a:xfrm>
              <a:off x="3276720" y="2743200"/>
              <a:ext cx="4724280" cy="1523880"/>
            </a:xfrm>
            <a:prstGeom prst="roundRect">
              <a:avLst>
                <a:gd name="adj" fmla="val 16667"/>
              </a:avLst>
            </a:prstGeom>
            <a:noFill/>
            <a:ln cap="rnd" w="25560">
              <a:solidFill>
                <a:srgbClr val="33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67640" y="2747880"/>
              <a:ext cx="292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Input to SORT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CID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)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AE04-1A1A-4587-8217-5AEC77B0D24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44E459-43F3-4CBB-A83E-7DB49A7507F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ections with equality predica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 =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e following information i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ze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umber of distinc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values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alues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re uniformly distributed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alues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re uniformly distributed over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val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¼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|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 ⁄ |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lectivity factor of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1 ⁄ |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1A89-BF90-4360-820B-58F89F89B24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17473-A427-416D-956D-65F96D76ECD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junctive predica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 =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 and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 =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assum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and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are independ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example: major and adv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 “over”-sele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exampl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¼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|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 ⁄ (|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 · |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duce total size by all selectivity fact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0D85-6CAA-4C50-B46B-CEA84E60791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276EF5-0848-46B2-9DF2-B5C8F9BAC9D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ed and disjunctive predica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¼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|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 · (1 – 1 ⁄ |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vity factor of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(1 – selectivity fa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 =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 or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 =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| · (1 ⁄ |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| + 1 ⁄ |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|)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! Tuples satisfying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re counted tw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Q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¼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|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 · (1 – (1 – 1 ⁄ |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) · (1 – 1 ⁄ |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)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uition: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r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equivalent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5297-99E6-435C-AAD0-9418A2DC233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32306E-BC6C-4BA1-8132-3FFA8885902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 estimation: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imilar ideas, we can estimate the size of projection, duplicate elimination, union, difference, aggregation (with group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ts of assumptions and very rough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urate estimate is not nee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be okay if we overestimate or underestimate consistent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lead to very nasty optimizer “hints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SELECT * FROM Student WHERE GPA &gt; 3.9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SELECT * FROM Student WHERE GPA &gt; 3.9 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AND GPA &gt; 3.9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covered: better estimation using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hist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ABC8-F289-4835-8458-854903A2EAA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BF6AA-8CBE-4F95-8637-89E4C01D48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0" r="0" b="5577"/>
          <a:stretch/>
        </p:blipFill>
        <p:spPr>
          <a:xfrm>
            <a:off x="457200" y="1219320"/>
            <a:ext cx="8153280" cy="5181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DBMS 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2286000"/>
            <a:ext cx="8077320" cy="13716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D341-BE44-4415-8D4D-9E639039B06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5C3244-083A-441A-9ED7-32E66209327B}" type="datetime1">
              <a:rPr lang="en-US"/>
              <a:t>07/28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rch for the best pl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ge search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hy” plan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considering different join orders, there are 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(2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– 2)! / (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– 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ushy plans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0240 f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re are more if we cons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way joi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fferent join metho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acement of selection and projection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349160" y="685800"/>
            <a:ext cx="3431520" cy="2796120"/>
            <a:chOff x="4349160" y="685800"/>
            <a:chExt cx="3431520" cy="2796120"/>
          </a:xfrm>
        </p:grpSpPr>
        <p:sp>
          <p:nvSpPr>
            <p:cNvPr id="483" name=""/>
            <p:cNvSpPr/>
            <p:nvPr/>
          </p:nvSpPr>
          <p:spPr>
            <a:xfrm>
              <a:off x="5596200" y="68580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5195880" y="1193760"/>
              <a:ext cx="45720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805720" y="1193760"/>
              <a:ext cx="45720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364440" y="1905120"/>
              <a:ext cx="45720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5881320" y="1933560"/>
              <a:ext cx="30492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926400" y="2568600"/>
              <a:ext cx="45720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6316920" y="2568600"/>
              <a:ext cx="45720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221440" y="1930320"/>
              <a:ext cx="279360" cy="4320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4611960" y="1930320"/>
              <a:ext cx="45720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49160" y="2362320"/>
              <a:ext cx="45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354280" y="2362320"/>
              <a:ext cx="45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720760" y="2362320"/>
              <a:ext cx="45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03360" y="2870280"/>
              <a:ext cx="45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24200" y="2971800"/>
              <a:ext cx="45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999320" y="147780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142320" y="147780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675480" y="213372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5321-4F0B-45B0-8B8B-91FBAAE2CAC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3A0F38-ED08-438C-9E5E-07AD1EA3E15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ft-deep pla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28600" y="2869920"/>
            <a:ext cx="861048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uristic: consider only “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left-dee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plans, in which only the left child can be a 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nd to be better than plans of other shapes, because many join algorithms scan inner (right) relation multiple times—you will not want it to be a complex subtr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left-deep plans are ther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gnificantly fewer, but still lots—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!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720 f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2825280" y="685800"/>
            <a:ext cx="3033000" cy="2412000"/>
            <a:chOff x="2825280" y="685800"/>
            <a:chExt cx="3033000" cy="2412000"/>
          </a:xfrm>
        </p:grpSpPr>
        <p:sp>
          <p:nvSpPr>
            <p:cNvPr id="503" name=""/>
            <p:cNvSpPr/>
            <p:nvPr/>
          </p:nvSpPr>
          <p:spPr>
            <a:xfrm>
              <a:off x="4896000" y="68580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4572000" y="1216080"/>
              <a:ext cx="38088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105520" y="1216080"/>
              <a:ext cx="38088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4038120" y="1663920"/>
              <a:ext cx="38124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72000" y="1663920"/>
              <a:ext cx="38088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3538080" y="2087640"/>
              <a:ext cx="38124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071960" y="2087640"/>
              <a:ext cx="38088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3072960" y="2502000"/>
              <a:ext cx="38124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606840" y="2502000"/>
              <a:ext cx="38088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25280" y="2587680"/>
              <a:ext cx="45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77560" y="2587680"/>
              <a:ext cx="45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368240" y="2173320"/>
              <a:ext cx="45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882680" y="1749600"/>
              <a:ext cx="45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01800" y="1301760"/>
              <a:ext cx="45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375080" y="106380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41920" y="152100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371760" y="193212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5AA5-D695-4BA8-B281-E14F122BFCC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D16207-EDFC-4327-BA90-FA5E674B324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reedy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y selections have been pushed down; i.e.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the pai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the smallest estimated siz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until no relation is lef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the remaining relations such that the joi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 current result yields an intermediate result of the smallest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743200" y="5791320"/>
            <a:ext cx="1371600" cy="6858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90240" y="579600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meriGarmnd BT"/>
              </a:rPr>
              <a:t>Current sub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029200" y="4724280"/>
            <a:ext cx="2209680" cy="12193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047560" y="5040360"/>
            <a:ext cx="2287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meriGarmnd BT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meriGarmnd BT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meriGarmnd BT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meriGarmnd BT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meriGarmnd BT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47000" y="4729320"/>
            <a:ext cx="188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meriGarmnd BT"/>
              </a:rPr>
              <a:t>Remaining</a:t>
            </a:r>
            <a:br>
              <a:rPr sz="2400"/>
            </a:br>
            <a:r>
              <a:rPr b="0" lang="en-US" sz="2400" spc="-1" strike="noStrike">
                <a:solidFill>
                  <a:srgbClr val="00ff00"/>
                </a:solidFill>
                <a:latin typeface="AmeriGarmnd BT"/>
              </a:rPr>
              <a:t>relations</a:t>
            </a:r>
            <a:br>
              <a:rPr sz="2400"/>
            </a:br>
            <a:r>
              <a:rPr b="0" lang="en-US" sz="2400" spc="-1" strike="noStrike">
                <a:solidFill>
                  <a:srgbClr val="00ff00"/>
                </a:solidFill>
                <a:latin typeface="AmeriGarmnd BT"/>
              </a:rPr>
              <a:t>to be jo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474920" y="4729320"/>
            <a:ext cx="38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meriGarmnd BT"/>
              </a:rPr>
              <a:t>Pick most efficient join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286000" y="5105520"/>
            <a:ext cx="3048120" cy="15238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651240" y="5105520"/>
            <a:ext cx="5216040" cy="1200240"/>
            <a:chOff x="651240" y="5105520"/>
            <a:chExt cx="5216040" cy="1200240"/>
          </a:xfrm>
        </p:grpSpPr>
        <p:sp>
          <p:nvSpPr>
            <p:cNvPr id="530" name=""/>
            <p:cNvSpPr/>
            <p:nvPr/>
          </p:nvSpPr>
          <p:spPr>
            <a:xfrm>
              <a:off x="3594240" y="5133960"/>
              <a:ext cx="33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0066"/>
                  </a:solidFill>
                  <a:latin typeface="dbsym"/>
                  <a:ea typeface="dbsym"/>
                </a:rPr>
                <a:t>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34240" y="5726160"/>
              <a:ext cx="462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0066"/>
                  </a:solidFill>
                  <a:latin typeface="AmeriGarmnd BT"/>
                </a:rPr>
                <a:t>S</a:t>
              </a:r>
              <a:r>
                <a:rPr b="0" i="1" lang="en-US" sz="2800" spc="-1" strike="noStrike" baseline="-25000">
                  <a:solidFill>
                    <a:srgbClr val="330066"/>
                  </a:solidFill>
                  <a:latin typeface="AmeriGarmnd BT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3428640" y="5562720"/>
              <a:ext cx="304920" cy="228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949560" y="5562720"/>
              <a:ext cx="304920" cy="228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572000" y="5638680"/>
              <a:ext cx="1219320" cy="444600"/>
            </a:xfrm>
            <a:custGeom>
              <a:avLst/>
              <a:gdLst/>
              <a:ahLst/>
              <a:rect l="l" t="t" r="r" b="b"/>
              <a:pathLst>
                <a:path w="768" h="280">
                  <a:moveTo>
                    <a:pt x="768" y="0"/>
                  </a:moveTo>
                  <a:cubicBezTo>
                    <a:pt x="688" y="100"/>
                    <a:pt x="608" y="200"/>
                    <a:pt x="480" y="240"/>
                  </a:cubicBezTo>
                  <a:cubicBezTo>
                    <a:pt x="352" y="280"/>
                    <a:pt x="176" y="260"/>
                    <a:pt x="0" y="24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1240" y="5235480"/>
              <a:ext cx="293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66"/>
                  </a:solidFill>
                  <a:latin typeface="AmeriGarmnd BT"/>
                </a:rPr>
                <a:t>Minimize expected siz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5562720" y="5105520"/>
              <a:ext cx="304560" cy="457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842C-1E95-4D03-BE04-C715F2572BE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FD2165-7485-4027-A2A1-5ACF262FA5D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dynamic programming approa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optimal plans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1: Find the best single-table plans (for each tabl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2: Find the best two-table plans (for each pair of tables) by combining best single-table pla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Find the bes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table plans (for each combination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bles) by combining two smaller best plans found in previous p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ionale: Any subplan of an optimal plan must also be optimal (otherwise, just replace the subplan to get a better overall pl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not quit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91D5-9BCF-45AF-AEDA-67F7B3450C5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7DFFB2-B957-4C69-AAB8-26F034D6551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need for “interesting order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plan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hash join (beats sort-merge jo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overall plan: sort-merge jo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then sort-merge joi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plan of the optimal plan is not optimal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result of the sort-merge join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sorted o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s is an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interesting ord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hat can be exploited by later processing (e.g., join, duplicate elimination, 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GROU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B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ORD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B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tc.)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A648-A774-490C-94DC-79307D14E99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C7D752-21D3-4A41-91CC-8F34BB442A0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algebra equiva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rewrite tri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uristics-based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-based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ed statistics to estimate sizes of intermediate resul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reedy approa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ynamic programming approa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EBF0-FA4A-4312-9B8D-3C72CDAE86F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BFB813-B9D3-4A26-94D5-46CADEEE64C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DBMS Archite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52760" y="4129200"/>
            <a:ext cx="4205520" cy="1393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88960" y="3595680"/>
            <a:ext cx="2286000" cy="406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 Execu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88960" y="4722840"/>
            <a:ext cx="2286000" cy="406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88960" y="5288040"/>
            <a:ext cx="2286000" cy="406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age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5880240"/>
            <a:ext cx="2133720" cy="520560"/>
          </a:xfrm>
          <a:prstGeom prst="can">
            <a:avLst>
              <a:gd name="adj" fmla="val 25000"/>
            </a:avLst>
          </a:prstGeom>
          <a:solidFill>
            <a:srgbClr val="9900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68560" y="2003400"/>
            <a:ext cx="2134440" cy="3682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action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9000" y="2959200"/>
            <a:ext cx="1250640" cy="6426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ging &am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68920" y="3063960"/>
            <a:ext cx="1523520" cy="3682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k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24360" y="4419720"/>
            <a:ext cx="1206720" cy="6508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f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384800"/>
            <a:ext cx="1366920" cy="6508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k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43720" y="504180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90440" y="914400"/>
            <a:ext cx="46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/Web Forms/Applications/D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17440" y="1703520"/>
            <a:ext cx="8737560" cy="936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17440" y="5811840"/>
            <a:ext cx="8737560" cy="936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57520" y="1373040"/>
            <a:ext cx="0" cy="509760"/>
          </a:xfrm>
          <a:prstGeom prst="line">
            <a:avLst/>
          </a:prstGeom>
          <a:ln w="3816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97120" y="13669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8400" y="1384200"/>
            <a:ext cx="0" cy="509760"/>
          </a:xfrm>
          <a:prstGeom prst="line">
            <a:avLst/>
          </a:prstGeom>
          <a:ln w="3816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86920" y="137808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11280" y="3032280"/>
            <a:ext cx="2286000" cy="4060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 Optim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11280" y="2468520"/>
            <a:ext cx="2286000" cy="406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 Rewr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11280" y="1905120"/>
            <a:ext cx="2286000" cy="406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 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88960" y="4159080"/>
            <a:ext cx="2286000" cy="406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es &amp; Access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15960" y="3048120"/>
            <a:ext cx="2286000" cy="380880"/>
          </a:xfrm>
          <a:prstGeom prst="rect">
            <a:avLst/>
          </a:prstGeom>
          <a:solidFill>
            <a:srgbClr val="ff33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3733920"/>
            <a:ext cx="304920" cy="2666880"/>
          </a:xfrm>
          <a:prstGeom prst="upArrow">
            <a:avLst>
              <a:gd name="adj1" fmla="val 50000"/>
              <a:gd name="adj2" fmla="val 218654"/>
            </a:avLst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1905120"/>
            <a:ext cx="304920" cy="1600200"/>
          </a:xfrm>
          <a:prstGeom prst="downArrow">
            <a:avLst>
              <a:gd name="adj1" fmla="val 50000"/>
              <a:gd name="adj2" fmla="val 131198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98680" y="3600360"/>
            <a:ext cx="2286000" cy="381240"/>
          </a:xfrm>
          <a:prstGeom prst="rect">
            <a:avLst/>
          </a:prstGeom>
          <a:solidFill>
            <a:srgbClr val="7e9ce8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504B-07C2-4885-99CA-C3E1CFE8D27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EB533E-C888-428C-AD25-B19569CA95C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Operators in Q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y 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operator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y do i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rcise: L: logical operator, P: physical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sted loop jo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rt-merge jo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91120" y="3657600"/>
            <a:ext cx="1828800" cy="18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6844-CB82-4CBC-A266-1E09A609A5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EEA17-B8C8-4BB5-B602-E3CD15544D8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98000"/>
            <a:ext cx="76960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Query Tree and Physical Opera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4440" y="2752560"/>
            <a:ext cx="3733920" cy="173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P.buyer, P.i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ROM     Purchase P, Person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ERE  P.buyer=Q.name 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city=‘urban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884480" y="3819600"/>
            <a:ext cx="4260600" cy="1668600"/>
            <a:chOff x="4884480" y="3819600"/>
            <a:chExt cx="4260600" cy="1668600"/>
          </a:xfrm>
        </p:grpSpPr>
        <p:sp>
          <p:nvSpPr>
            <p:cNvPr id="131" name=""/>
            <p:cNvSpPr/>
            <p:nvPr/>
          </p:nvSpPr>
          <p:spPr>
            <a:xfrm>
              <a:off x="7472520" y="3819600"/>
              <a:ext cx="16725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(Si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nested loop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84480" y="511992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(Table sca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89600" y="511992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(Index sca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435560" y="3362400"/>
            <a:ext cx="533160" cy="257040"/>
          </a:xfrm>
          <a:prstGeom prst="rightArrow">
            <a:avLst>
              <a:gd name="adj1" fmla="val 50000"/>
              <a:gd name="adj2" fmla="val 51856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922280" y="1697040"/>
            <a:ext cx="2705040" cy="3371040"/>
            <a:chOff x="4922280" y="1697040"/>
            <a:chExt cx="2705040" cy="3371040"/>
          </a:xfrm>
        </p:grpSpPr>
        <p:sp>
          <p:nvSpPr>
            <p:cNvPr id="136" name=""/>
            <p:cNvSpPr/>
            <p:nvPr/>
          </p:nvSpPr>
          <p:spPr>
            <a:xfrm>
              <a:off x="5943600" y="3924360"/>
              <a:ext cx="144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91360" y="3924360"/>
              <a:ext cx="1440" cy="123840"/>
            </a:xfrm>
            <a:custGeom>
              <a:avLst/>
              <a:gdLst/>
              <a:ahLst/>
              <a:rect l="l" t="t" r="r" b="b"/>
              <a:pathLst>
                <a:path w="1" h="78">
                  <a:moveTo>
                    <a:pt x="0" y="0"/>
                  </a:moveTo>
                  <a:lnTo>
                    <a:pt x="0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43600" y="3924360"/>
              <a:ext cx="34920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0"/>
                  </a:moveTo>
                  <a:lnTo>
                    <a:pt x="219" y="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43600" y="3924360"/>
              <a:ext cx="349200" cy="123840"/>
            </a:xfrm>
            <a:custGeom>
              <a:avLst/>
              <a:gdLst/>
              <a:ahLst/>
              <a:rect l="l" t="t" r="r" b="b"/>
              <a:pathLst>
                <a:path w="220" h="78">
                  <a:moveTo>
                    <a:pt x="0" y="77"/>
                  </a:moveTo>
                  <a:lnTo>
                    <a:pt x="219" y="0"/>
                  </a:lnTo>
                  <a:lnTo>
                    <a:pt x="0" y="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79920" y="4276800"/>
              <a:ext cx="669960" cy="357120"/>
            </a:xfrm>
            <a:custGeom>
              <a:avLst/>
              <a:gdLst/>
              <a:ahLst/>
              <a:rect l="l" t="t" r="r" b="b"/>
              <a:pathLst>
                <a:path w="422" h="225">
                  <a:moveTo>
                    <a:pt x="0" y="224"/>
                  </a:moveTo>
                  <a:lnTo>
                    <a:pt x="421" y="0"/>
                  </a:lnTo>
                  <a:lnTo>
                    <a:pt x="0" y="2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96120" y="4276800"/>
              <a:ext cx="684000" cy="357120"/>
            </a:xfrm>
            <a:custGeom>
              <a:avLst/>
              <a:gdLst/>
              <a:ahLst/>
              <a:rect l="l" t="t" r="r" b="b"/>
              <a:pathLst>
                <a:path w="431" h="225">
                  <a:moveTo>
                    <a:pt x="0" y="0"/>
                  </a:moveTo>
                  <a:lnTo>
                    <a:pt x="430" y="22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51400" y="3211560"/>
              <a:ext cx="1800" cy="560520"/>
            </a:xfrm>
            <a:custGeom>
              <a:avLst/>
              <a:gdLst/>
              <a:ahLst/>
              <a:rect l="l" t="t" r="r" b="b"/>
              <a:pathLst>
                <a:path w="1" h="353">
                  <a:moveTo>
                    <a:pt x="0" y="0"/>
                  </a:moveTo>
                  <a:lnTo>
                    <a:pt x="0" y="35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51400" y="2284560"/>
              <a:ext cx="1800" cy="512640"/>
            </a:xfrm>
            <a:custGeom>
              <a:avLst/>
              <a:gdLst/>
              <a:ahLst/>
              <a:rect l="l" t="t" r="r" b="b"/>
              <a:pathLst>
                <a:path w="1" h="323">
                  <a:moveTo>
                    <a:pt x="0" y="0"/>
                  </a:moveTo>
                  <a:lnTo>
                    <a:pt x="0" y="32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22280" y="4716360"/>
              <a:ext cx="11602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66ff33"/>
                  </a:solidFill>
                  <a:latin typeface="Arial"/>
                </a:rPr>
                <a:t>Purchas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07880" y="4700520"/>
              <a:ext cx="9194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66ff33"/>
                  </a:solidFill>
                  <a:latin typeface="Arial"/>
                </a:rPr>
                <a:t>Pers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81840" y="3971880"/>
              <a:ext cx="1536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ff33"/>
                  </a:solidFill>
                  <a:latin typeface="Arial"/>
                </a:rPr>
                <a:t>buyer=n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99800" y="2905200"/>
              <a:ext cx="1640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ff33"/>
                  </a:solidFill>
                  <a:latin typeface="Arial"/>
                </a:rPr>
                <a:t>City=‘urbana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86360" y="1995480"/>
              <a:ext cx="1340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ff33"/>
                  </a:solidFill>
                  <a:latin typeface="Arial"/>
                </a:rPr>
                <a:t>buyer,i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39040" y="2844720"/>
              <a:ext cx="1839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07360" y="1838160"/>
              <a:ext cx="1839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39960" y="255420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ff33"/>
                  </a:solidFill>
                  <a:latin typeface="Symbol"/>
                  <a:ea typeface="Symbol"/>
                </a:rPr>
                <a:t>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40480" y="169704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ff33"/>
                  </a:solidFill>
                  <a:latin typeface="Symbol"/>
                  <a:ea typeface="Symbol"/>
                </a:rPr>
                <a:t>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12E9-4463-4D2A-B032-31D3B13FA99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5165C-F445-4373-8F5D-FE4DFA86E5F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iew A query’s trip through the DB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192480" y="1905120"/>
            <a:ext cx="2819520" cy="3828960"/>
            <a:chOff x="3192480" y="1905120"/>
            <a:chExt cx="2819520" cy="3828960"/>
          </a:xfrm>
        </p:grpSpPr>
        <p:sp>
          <p:nvSpPr>
            <p:cNvPr id="155" name=""/>
            <p:cNvSpPr/>
            <p:nvPr/>
          </p:nvSpPr>
          <p:spPr>
            <a:xfrm>
              <a:off x="3192480" y="1905120"/>
              <a:ext cx="281952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Par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92480" y="3029040"/>
              <a:ext cx="281952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Rewri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92480" y="4152960"/>
              <a:ext cx="281952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Optimiz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92480" y="5276880"/>
              <a:ext cx="281952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Execu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033800" y="5700600"/>
            <a:ext cx="1075320" cy="636120"/>
            <a:chOff x="4033800" y="5700600"/>
            <a:chExt cx="1075320" cy="636120"/>
          </a:xfrm>
        </p:grpSpPr>
        <p:sp>
          <p:nvSpPr>
            <p:cNvPr id="160" name=""/>
            <p:cNvSpPr/>
            <p:nvPr/>
          </p:nvSpPr>
          <p:spPr>
            <a:xfrm>
              <a:off x="4033800" y="5877000"/>
              <a:ext cx="107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esul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02240" y="5700600"/>
              <a:ext cx="0" cy="228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810960" y="1380960"/>
            <a:ext cx="5337360" cy="1202400"/>
            <a:chOff x="3810960" y="1380960"/>
            <a:chExt cx="5337360" cy="1202400"/>
          </a:xfrm>
        </p:grpSpPr>
        <p:grpSp>
          <p:nvGrpSpPr>
            <p:cNvPr id="163" name=""/>
            <p:cNvGrpSpPr/>
            <p:nvPr/>
          </p:nvGrpSpPr>
          <p:grpSpPr>
            <a:xfrm>
              <a:off x="3810960" y="1380960"/>
              <a:ext cx="1549440" cy="614520"/>
              <a:chOff x="3810960" y="1380960"/>
              <a:chExt cx="1549440" cy="614520"/>
            </a:xfrm>
          </p:grpSpPr>
          <p:sp>
            <p:nvSpPr>
              <p:cNvPr id="164" name=""/>
              <p:cNvSpPr/>
              <p:nvPr/>
            </p:nvSpPr>
            <p:spPr>
              <a:xfrm>
                <a:off x="3810960" y="1380960"/>
                <a:ext cx="154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meriGarmnd BT"/>
                  </a:rPr>
                  <a:t>SQL quer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602240" y="1766880"/>
                <a:ext cx="0" cy="22860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361560" y="1392120"/>
              <a:ext cx="2786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SELECT title, SID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FROM Enroll, Cours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WHERE Enroll.CID =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      Course.CID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-79200" y="1981080"/>
            <a:ext cx="5485680" cy="2151720"/>
            <a:chOff x="-79200" y="1981080"/>
            <a:chExt cx="5485680" cy="2151720"/>
          </a:xfrm>
        </p:grpSpPr>
        <p:grpSp>
          <p:nvGrpSpPr>
            <p:cNvPr id="168" name=""/>
            <p:cNvGrpSpPr/>
            <p:nvPr/>
          </p:nvGrpSpPr>
          <p:grpSpPr>
            <a:xfrm>
              <a:off x="3867840" y="2398680"/>
              <a:ext cx="1538640" cy="790560"/>
              <a:chOff x="3867840" y="2398680"/>
              <a:chExt cx="1538640" cy="790560"/>
            </a:xfrm>
          </p:grpSpPr>
          <p:sp>
            <p:nvSpPr>
              <p:cNvPr id="169" name=""/>
              <p:cNvSpPr/>
              <p:nvPr/>
            </p:nvSpPr>
            <p:spPr>
              <a:xfrm>
                <a:off x="3867840" y="2575080"/>
                <a:ext cx="1538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meriGarmnd BT"/>
                  </a:rPr>
                  <a:t>Parse tre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602240" y="2398680"/>
                <a:ext cx="0" cy="22860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602240" y="2960640"/>
                <a:ext cx="0" cy="22860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993600" y="2362320"/>
              <a:ext cx="94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lt;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SFW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-79200" y="2666880"/>
              <a:ext cx="150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lt;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select-list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4840" y="2895480"/>
              <a:ext cx="142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lt;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from-list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77720" y="2666880"/>
              <a:ext cx="179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lt;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where-cond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6880" y="3260880"/>
              <a:ext cx="104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lt;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able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94560" y="3260880"/>
              <a:ext cx="104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lt;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table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84160" y="1981080"/>
              <a:ext cx="114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lt;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Query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39640" y="2279520"/>
              <a:ext cx="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9640" y="2660760"/>
              <a:ext cx="0" cy="3808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830160" y="2660760"/>
              <a:ext cx="457200" cy="759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668240" y="2660760"/>
              <a:ext cx="304920" cy="759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48920" y="2965320"/>
              <a:ext cx="152280" cy="228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7880" y="2965320"/>
              <a:ext cx="0" cy="228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54040" y="2965320"/>
              <a:ext cx="228600" cy="228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982080" y="3193920"/>
              <a:ext cx="22860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5960" y="3193920"/>
              <a:ext cx="22860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06480" y="3575160"/>
              <a:ext cx="0" cy="228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20880" y="3575160"/>
              <a:ext cx="0" cy="228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4160" y="3733920"/>
              <a:ext cx="83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Enro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43520" y="3733920"/>
              <a:ext cx="95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Cour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32160" y="3041640"/>
              <a:ext cx="4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1520" y="3046320"/>
              <a:ext cx="4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696120" y="3225960"/>
            <a:ext cx="5178240" cy="1568880"/>
            <a:chOff x="3696120" y="3225960"/>
            <a:chExt cx="5178240" cy="1568880"/>
          </a:xfrm>
        </p:grpSpPr>
        <p:grpSp>
          <p:nvGrpSpPr>
            <p:cNvPr id="195" name=""/>
            <p:cNvGrpSpPr/>
            <p:nvPr/>
          </p:nvGrpSpPr>
          <p:grpSpPr>
            <a:xfrm>
              <a:off x="3696120" y="3452760"/>
              <a:ext cx="1832760" cy="790560"/>
              <a:chOff x="3696120" y="3452760"/>
              <a:chExt cx="1832760" cy="790560"/>
            </a:xfrm>
          </p:grpSpPr>
          <p:sp>
            <p:nvSpPr>
              <p:cNvPr id="196" name=""/>
              <p:cNvSpPr/>
              <p:nvPr/>
            </p:nvSpPr>
            <p:spPr>
              <a:xfrm>
                <a:off x="3696120" y="3629160"/>
                <a:ext cx="183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meriGarmnd BT"/>
                  </a:rPr>
                  <a:t>Logical pla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02240" y="3452760"/>
                <a:ext cx="0" cy="22860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602240" y="4014720"/>
                <a:ext cx="0" cy="22860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6496560" y="3225960"/>
              <a:ext cx="1208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mi10"/>
                </a:rPr>
                <a:t>¼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titl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S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578280" y="3606840"/>
              <a:ext cx="229608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mi10"/>
                </a:rPr>
                <a:t>¾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Enrol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.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CI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 = 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Cours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.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meriGarmnd BT"/>
                </a:rPr>
                <a:t>C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58000" y="4395960"/>
              <a:ext cx="83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Enro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80520" y="4395960"/>
              <a:ext cx="95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Cour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662520" y="3606840"/>
              <a:ext cx="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62520" y="4000680"/>
              <a:ext cx="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319440" y="4343400"/>
              <a:ext cx="22860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15160" y="4330800"/>
              <a:ext cx="22860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98720" y="4003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-44640" y="4349880"/>
            <a:ext cx="5643000" cy="2144880"/>
            <a:chOff x="-44640" y="4349880"/>
            <a:chExt cx="5643000" cy="2144880"/>
          </a:xfrm>
        </p:grpSpPr>
        <p:grpSp>
          <p:nvGrpSpPr>
            <p:cNvPr id="209" name=""/>
            <p:cNvGrpSpPr/>
            <p:nvPr/>
          </p:nvGrpSpPr>
          <p:grpSpPr>
            <a:xfrm>
              <a:off x="-44640" y="4349880"/>
              <a:ext cx="5643000" cy="2144880"/>
              <a:chOff x="-44640" y="4349880"/>
              <a:chExt cx="5643000" cy="2144880"/>
            </a:xfrm>
          </p:grpSpPr>
          <p:grpSp>
            <p:nvGrpSpPr>
              <p:cNvPr id="210" name=""/>
              <p:cNvGrpSpPr/>
              <p:nvPr/>
            </p:nvGrpSpPr>
            <p:grpSpPr>
              <a:xfrm>
                <a:off x="3639240" y="4576680"/>
                <a:ext cx="1959120" cy="790560"/>
                <a:chOff x="3639240" y="4576680"/>
                <a:chExt cx="1959120" cy="7905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639240" y="4753080"/>
                  <a:ext cx="195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meriGarmnd BT"/>
                    </a:rPr>
                    <a:t>Physical pla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602240" y="4576680"/>
                  <a:ext cx="0" cy="228600"/>
                </a:xfrm>
                <a:prstGeom prst="line">
                  <a:avLst/>
                </a:prstGeom>
                <a:ln w="38160">
                  <a:solidFill>
                    <a:srgbClr val="330066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602240" y="5138640"/>
                  <a:ext cx="0" cy="228600"/>
                </a:xfrm>
                <a:prstGeom prst="line">
                  <a:avLst/>
                </a:prstGeom>
                <a:ln w="38160">
                  <a:solidFill>
                    <a:srgbClr val="330066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317520" y="4349880"/>
                <a:ext cx="236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PROJECT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meriGarmnd BT"/>
                  </a:rPr>
                  <a:t>titl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,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meriGarmnd BT"/>
                  </a:rPr>
                  <a:t>SID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65760" y="4802040"/>
                <a:ext cx="284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Sort MERGE-JOIN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meriGarmnd BT"/>
                  </a:rPr>
                  <a:t>CID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-44640" y="5781600"/>
                <a:ext cx="1711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SCAN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meriGarmnd BT"/>
                  </a:rPr>
                  <a:t>Enrol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368720" y="6095880"/>
                <a:ext cx="183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SCAN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meriGarmnd BT"/>
                  </a:rPr>
                  <a:t>Cours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52360" y="4719600"/>
                <a:ext cx="0" cy="15228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809280" y="5181480"/>
                <a:ext cx="228600" cy="15264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305000" y="5181480"/>
                <a:ext cx="600120" cy="15264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5560" y="5324400"/>
                <a:ext cx="1437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SORT (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meriGarmnd BT"/>
                  </a:rPr>
                  <a:t>CID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4200" y="5676840"/>
                <a:ext cx="0" cy="15264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1557360" y="5257800"/>
              <a:ext cx="143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SORT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CID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33720" y="5638680"/>
              <a:ext cx="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2F6C-1C06-44EA-8E63-D3F656EA652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B6746-9071-476F-8772-9EAD422B0E8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’s Top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ystem view of DBMS query process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wri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ptimiz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ecu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euristic based metho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st based metho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AA99-62B6-44C6-ADA4-B08EAB855E2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FC2947-D219-482E-9C94-B834B94C4F9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sing and valid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Parser: SQL </a:t>
            </a:r>
            <a:r>
              <a:rPr b="0" lang="en-US" sz="24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pars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ood old lex &amp; yac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tect and reject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synta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Validator: validate pars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tect and reject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seman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existent tables/views/colum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ufficient access privileg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mismatch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AVG(name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name + GP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Student UNION Enr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 view defin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formation required for semantic checking is found in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system catalo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contains all schema informa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7B23-8BDF-4EE9-BBCA-32ACD062371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45F1DD-AFD6-44FD-903E-0AD5AADC3B0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4-09T21:15:37Z</dcterms:modified>
  <cp:revision>978</cp:revision>
  <dc:subject/>
  <dc:title>CS186: Introduction to Database Systems</dc:title>
</cp:coreProperties>
</file>