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439E95-0B7D-4046-A1C9-6C74E5D37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FDA1AA-B4FD-4622-8D31-2CE899F63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s suspiciously similar to the famous Bill Gate quote: 64K memory ought to be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you can work out the calc… 200 fan-out =&gt; 1.6 billion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47F19D-7406-4E02-9A71-258F47DBA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ctually a deeper reason… Now it’s empty now it’s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wo leaves are exactly at the ½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-&gt; merge into a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-&gt; split into half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C6399B-83D6-431F-82D6-86179E1C3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 reverse doesn’t work if you are decreasing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am really malicious, I salary * ra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8DAB97-BE7E-4612-9285-8AB5D9313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A2080C-4DFB-4F10-8761-0C19406AE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71D4DB-5EF0-47A4-8521-0FDA4DE72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396167-0C35-436A-87D1-33D00D1E6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3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7451AC-30C8-4B25-AA0E-4F8512297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6C0043-B8CE-431C-B7FD-EA8A9FBC4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C046C0-71A9-4FD1-B732-097F9AA34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622436-5282-4D88-890C-15A66B2DC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3DFA6F-B09D-4F48-B516-ABE205FB7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AB4541-D14C-46C3-A5FA-0A695CDCF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8FD1EA-6C33-4E0C-BF5E-C876D9C91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238723-3DB3-4349-8227-11B8F04D2F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8995F2-0E23-4F83-B93E-604535C20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1DFA61-0D13-4A3D-A9D1-A10418D1E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2138EB-13E2-4183-97C5-F3842C73E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2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97235A-39D5-4DCC-8D67-306792E9B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6979F0-EC04-46B5-BA56-4A4A3E32C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F127BD-79C7-49D8-A63B-B0A9D32F7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41550C-5612-416E-A805-13111F907D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7E7E45-22B4-4F49-9B5B-DEFD77FDF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121-A4EF-4C8D-92D8-A7A30AD6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882-523C-4E4D-8C7A-19DA7B98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FB9-EDC5-4521-8157-CACB0ADE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1D9-4B38-428E-A66E-83FE7A7B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9BD-8C48-4ECB-9AB9-AB41DBC5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3D9-D0E2-4E91-9455-A978AF0B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D08-3FFE-4221-A61D-27A60CDB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C67-07C4-4570-BC28-62F85E73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7C5-F399-43F5-85B3-D2053EE9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124-1CDD-4533-A02B-37960DE1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15D-197F-4D0E-B3AB-B21B2144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67F-C454-4E68-AC26-3DC97117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23C3-B178-4532-B29C-F25878403EC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C46E-9EF2-4FA3-A5A4-90449D7EB0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p o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and Index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487-8BDD-4533-B7DF-4D10EC0C63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00E61-937C-4CFD-BBF0-CFD33246DD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’s are required for each op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height of the t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ore or l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one or two to manipulate actual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reorganization (should be very rare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lar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us one if we cache the root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big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ughly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log</a:t>
            </a:r>
            <a:r>
              <a:rPr b="0" lang="en-US" sz="2200" spc="-1" strike="noStrike" baseline="-25000">
                <a:solidFill>
                  <a:srgbClr val="330066"/>
                </a:solidFill>
                <a:latin typeface="Times New Roman"/>
              </a:rPr>
              <a:t>fan-ou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number of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properties guarantee that fan-out is lea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2 for all non-root no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n-out is typically large (in hundreds)—many keys and pointers can fit into on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4-level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s enough for typical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0AB-5F50-4151-89ED-0FBD32BC173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916A8-7DCE-4800-93AA-9D4D9EFCC9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in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reorganization for deletion often is not implemented (e.g., Oracle, Inform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ve nodes less than half full and periodically reorgan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ercial DBMS 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tead of hashing-based indexes beca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handles range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10EC-87FF-478C-B0DD-E2B75B51A9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714D4-F5CD-4BD4-BCC1-1C762F26B9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alloween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 from the early days of System 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UPDATE Payroll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T salary = salary * 1.1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alary &gt;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a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date never stopped (why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n index in reve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fore update, scan index to create a complete “to-do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ring update, maintain a “done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every row with transaction/statement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9FD-C6F0-4CB1-90E2-E5E1469C5A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D1285-9087-4F17-9A76-1DE3A31014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versus B-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tree: why not store records (or record pointers) in non-leaf no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records can be accessed with fewer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ing more data in a node decreases fan-out and increas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in leaves require more I/O’s to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st majority of the records live in leave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C31-ED07-4900-B9D3-FBC6CD576A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A8A34-F5BE-44C8-88BD-A2B1A9AEBE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yond ISAM, B-, and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ee-based indexes: R-trees and variants, GiST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ing-based indexes: extensible hashing, linear hash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ndexes: inverted-list index, suffix array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icks: bitmap index, bit-sliced index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about indexing subgraph searc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1B7-DC57-48B5-AAC9-DB928937F4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622CF-D1CD-4200-A58C-4FE9E74187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and Data File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 file vs.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dex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762120" y="1905120"/>
            <a:ext cx="7045560" cy="2091960"/>
            <a:chOff x="762120" y="1905120"/>
            <a:chExt cx="7045560" cy="2091960"/>
          </a:xfrm>
        </p:grpSpPr>
        <p:sp>
          <p:nvSpPr>
            <p:cNvPr id="752" name=""/>
            <p:cNvSpPr/>
            <p:nvPr/>
          </p:nvSpPr>
          <p:spPr>
            <a:xfrm>
              <a:off x="2022120" y="2080440"/>
              <a:ext cx="110844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352680" y="2080440"/>
              <a:ext cx="110844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03000" y="2080440"/>
              <a:ext cx="110880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22120" y="3167280"/>
              <a:ext cx="110844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52680" y="3167280"/>
              <a:ext cx="110844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03000" y="3167280"/>
              <a:ext cx="110880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120" y="2652480"/>
              <a:ext cx="1108440" cy="619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24400" y="2688120"/>
              <a:ext cx="97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56480" y="2173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10800" y="2173320"/>
              <a:ext cx="6318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66800" y="21718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87360" y="32032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19000" y="32032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38080" y="320184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57640" y="2362680"/>
              <a:ext cx="111996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7560000">
              <a:off x="1760760" y="2151000"/>
              <a:ext cx="914760" cy="70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706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5840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2788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0852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7836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5900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2848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5840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27880" y="36597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0852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78360" y="36597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880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59000" y="3659760"/>
              <a:ext cx="76968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3240000">
              <a:off x="1690920" y="3069360"/>
              <a:ext cx="914760" cy="70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26400" y="2991240"/>
              <a:ext cx="111924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53720" y="3316320"/>
              <a:ext cx="135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s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ree 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57320" y="2230200"/>
              <a:ext cx="1270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ull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0912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6637680" y="2075400"/>
              <a:ext cx="209880" cy="114120"/>
              <a:chOff x="6637680" y="2075400"/>
              <a:chExt cx="209880" cy="114120"/>
            </a:xfrm>
          </p:grpSpPr>
          <p:sp>
            <p:nvSpPr>
              <p:cNvPr id="786" name=""/>
              <p:cNvSpPr/>
              <p:nvPr/>
            </p:nvSpPr>
            <p:spPr>
              <a:xfrm>
                <a:off x="6637680" y="2075400"/>
                <a:ext cx="20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72600" y="2132640"/>
                <a:ext cx="140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707520" y="21895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567840" y="3162600"/>
              <a:ext cx="209880" cy="114120"/>
              <a:chOff x="6567840" y="3162600"/>
              <a:chExt cx="209880" cy="114120"/>
            </a:xfrm>
          </p:grpSpPr>
          <p:sp>
            <p:nvSpPr>
              <p:cNvPr id="790" name=""/>
              <p:cNvSpPr/>
              <p:nvPr/>
            </p:nvSpPr>
            <p:spPr>
              <a:xfrm>
                <a:off x="6567840" y="3162600"/>
                <a:ext cx="20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02760" y="3219480"/>
                <a:ext cx="13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37320" y="32767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593892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054240" y="554688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054240" y="45720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45720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29160" y="44863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65680" y="4524480"/>
            <a:ext cx="98280" cy="4896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37000" y="5805360"/>
            <a:ext cx="46800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103560" y="59245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03560" y="5943600"/>
            <a:ext cx="28116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08400" y="59245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382920" y="58053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49840" y="59245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849840" y="59436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006800" y="59245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962440" y="5527800"/>
            <a:ext cx="18864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62440" y="5732640"/>
            <a:ext cx="6012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614760" y="552780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97120" y="573084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641840" y="58053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10000" y="59245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9436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67320" y="59245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687920" y="552780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18240" y="573264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26B-37D3-4F83-9FD8-616A953FDB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B45D8-FB40-432D-B04B-6FB0EF09A5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s for Data Entry in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lterna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Primary index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Secondary index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Clustering index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multiple (different) indexes per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  Employee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, name, age, 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key i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nique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non-key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may (or not) sort the file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ith a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 (primary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 (secondary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 (secondary)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a hash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762-68D8-432A-AF40-E0B9312BC4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5B9BB-1067-439C-B62E-03A71351E2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518184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for primary key: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bid of sorted data records&gt;</a:t>
            </a: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le is sorted according to the primary ke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record in each block is called the anchor record and is used to build the inde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 the thing goes the other way around (called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ee based sor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52880" y="5334120"/>
            <a:ext cx="2210040" cy="91440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, Susan, 30, 5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4, John, 40, 8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rcRect l="8226" t="64910" r="69103" b="0"/>
          <a:stretch/>
        </p:blipFill>
        <p:spPr>
          <a:xfrm>
            <a:off x="4748040" y="3581280"/>
            <a:ext cx="1952640" cy="164628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51040" y="594360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37952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906560" y="594360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43684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965320" y="59436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49236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02120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11360" y="486252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611360" y="388764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19280" y="388764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185920" y="3801960"/>
            <a:ext cx="33516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22440" y="3840120"/>
            <a:ext cx="9864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9376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6068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60680" y="5259240"/>
            <a:ext cx="280800" cy="180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86516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4004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0660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0660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563920" y="524016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1920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519200" y="50482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71880" y="48434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54240" y="50468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98960" y="5121360"/>
            <a:ext cx="466560" cy="32364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6712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6712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4468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375000" y="504828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66880" y="5334120"/>
            <a:ext cx="428400" cy="61884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66880" y="5881680"/>
            <a:ext cx="60120" cy="712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423440" y="5334120"/>
            <a:ext cx="82440" cy="60948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71600" y="587700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904400" y="5334120"/>
            <a:ext cx="82440" cy="61884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968480" y="587844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0" y="5334120"/>
            <a:ext cx="152280" cy="60948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398680" y="587520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5334120"/>
            <a:ext cx="228600" cy="60948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429000" y="5884920"/>
            <a:ext cx="66600" cy="6804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505320" y="5257800"/>
            <a:ext cx="609480" cy="68580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038480" y="588960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2040" y="406224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3809880"/>
            <a:ext cx="1600200" cy="609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2: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rid of matching data record&gt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sier to maintain (do not need to sort the data fi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 must be a candidate key of the relation, e.g. unique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pointer is the RID of the record indexed by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(Block#, slot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01800" y="623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380960" y="611676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836720" y="6116760"/>
            <a:ext cx="34452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95360" y="6116760"/>
            <a:ext cx="33840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51120" y="6116760"/>
            <a:ext cx="33984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205080" y="6116760"/>
            <a:ext cx="34632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66084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11804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036880" y="4948200"/>
            <a:ext cx="1490400" cy="180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36880" y="3902040"/>
            <a:ext cx="785520" cy="104796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820960" y="3902040"/>
            <a:ext cx="712800" cy="104796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30440" y="3809880"/>
            <a:ext cx="291960" cy="9396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39960" y="3851280"/>
            <a:ext cx="82440" cy="5256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677960" y="5229360"/>
            <a:ext cx="40500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81160" y="5356080"/>
            <a:ext cx="6372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81160" y="5380200"/>
            <a:ext cx="241200" cy="144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257560" y="5356080"/>
            <a:ext cx="6480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32092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722680" y="53560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72268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62360" y="535608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6056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960560" y="515304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21080" y="4932360"/>
            <a:ext cx="144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06680" y="5151600"/>
            <a:ext cx="30240" cy="7920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40668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6880" y="5356080"/>
            <a:ext cx="6480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0688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341520" y="5356080"/>
            <a:ext cx="6696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4952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59320" y="515304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717560" y="557532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874880" y="5994360"/>
            <a:ext cx="4428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33520" y="557532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33520" y="604980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36720" y="557532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8560" y="6059520"/>
            <a:ext cx="6480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636560" y="557532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36560" y="5999040"/>
            <a:ext cx="5256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960560" y="557532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300480" y="6031080"/>
            <a:ext cx="6804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717560" y="557532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717560" y="601488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438280" y="557532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146480" y="603396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438280" y="5575320"/>
            <a:ext cx="16524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438280" y="604188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63920" y="557532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828880" y="6000840"/>
            <a:ext cx="5724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65320" y="557532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965320" y="6059520"/>
            <a:ext cx="5904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68680" y="557532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840120" y="604836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449520" y="5575320"/>
            <a:ext cx="24156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49520" y="599760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28880" y="5575320"/>
            <a:ext cx="180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711600" y="6045120"/>
            <a:ext cx="3636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9120" y="5267160"/>
            <a:ext cx="90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af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120840" y="413712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029200" y="5257800"/>
            <a:ext cx="2209680" cy="91440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, Susan, 30, 5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4, John, 40, 8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rcRect l="8226" t="64910" r="69103" b="18113"/>
          <a:stretch/>
        </p:blipFill>
        <p:spPr>
          <a:xfrm>
            <a:off x="4800600" y="3581280"/>
            <a:ext cx="1952640" cy="7970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6095880" y="4267080"/>
            <a:ext cx="2095560" cy="1447920"/>
          </a:xfrm>
          <a:custGeom>
            <a:avLst/>
            <a:gdLst/>
            <a:ahLst/>
            <a:rect l="l" t="t" r="r" b="b"/>
            <a:pathLst>
              <a:path w="1320" h="912">
                <a:moveTo>
                  <a:pt x="0" y="0"/>
                </a:moveTo>
                <a:cubicBezTo>
                  <a:pt x="540" y="188"/>
                  <a:pt x="1080" y="376"/>
                  <a:pt x="1200" y="528"/>
                </a:cubicBezTo>
                <a:cubicBezTo>
                  <a:pt x="1320" y="680"/>
                  <a:pt x="1020" y="796"/>
                  <a:pt x="720" y="912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28600" y="6126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</a:rPr>
              <a:t>Dat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562720"/>
            <a:ext cx="2590920" cy="304560"/>
          </a:xfrm>
          <a:prstGeom prst="rect">
            <a:avLst/>
          </a:prstGeom>
          <a:solidFill>
            <a:srgbClr val="d4d2b0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4 was assig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April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ing part of homework 4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need a volunteer to do the homework al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I may create a three-member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been reserved at the engineer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al source for discussions about index structure in databas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0CC-3356-41B5-AB64-AB5CBB7BE0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9381D-8AB0-4D3F-8FA7-B934B4ECB1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3: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list of rids of matching data record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so need to sort the data fi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 must be a non-key attribute of the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pointer is the BID of the first RID that is indexed by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29200" y="5257800"/>
            <a:ext cx="2209680" cy="106668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2, slo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1, slo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1, slot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rcRect l="8226" t="64910" r="69103" b="18113"/>
          <a:stretch/>
        </p:blipFill>
        <p:spPr>
          <a:xfrm>
            <a:off x="4800600" y="3581280"/>
            <a:ext cx="1952640" cy="797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6095880" y="4267080"/>
            <a:ext cx="2095560" cy="990720"/>
          </a:xfrm>
          <a:custGeom>
            <a:avLst/>
            <a:gdLst/>
            <a:ahLst/>
            <a:rect l="l" t="t" r="r" b="b"/>
            <a:pathLst>
              <a:path w="1320" h="912">
                <a:moveTo>
                  <a:pt x="0" y="0"/>
                </a:moveTo>
                <a:cubicBezTo>
                  <a:pt x="540" y="188"/>
                  <a:pt x="1080" y="376"/>
                  <a:pt x="1200" y="528"/>
                </a:cubicBezTo>
                <a:cubicBezTo>
                  <a:pt x="1320" y="680"/>
                  <a:pt x="1020" y="796"/>
                  <a:pt x="720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4400" y="607212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173240" y="607212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700280" y="607212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230560" y="607212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59040" y="607212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86080" y="607212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14920" y="607212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405080" y="499104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405080" y="4016520"/>
            <a:ext cx="90936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313000" y="401652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79640" y="3930480"/>
            <a:ext cx="33480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216160" y="396864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87480" y="52498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454040" y="5369040"/>
            <a:ext cx="7488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454040" y="5388120"/>
            <a:ext cx="28116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65888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33400" y="52498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20032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200320" y="538812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35728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12920" y="497196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312920" y="5176800"/>
            <a:ext cx="6012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965240" y="4971960"/>
            <a:ext cx="180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7960" y="517536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992320" y="5249880"/>
            <a:ext cx="46692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60840" y="536904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60840" y="538812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91780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038400" y="497196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168720" y="517680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0240" y="557208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60240" y="601020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1720" y="557208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1720" y="60069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939960" y="5572080"/>
            <a:ext cx="18864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39960" y="6005520"/>
            <a:ext cx="4572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174680" y="557208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195560" y="6005520"/>
            <a:ext cx="3780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81280" y="5572080"/>
            <a:ext cx="144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762200" y="600696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825560" y="5572080"/>
            <a:ext cx="4932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847880" y="600552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73080" y="5572080"/>
            <a:ext cx="9396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935000" y="600408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919160" y="5572080"/>
            <a:ext cx="14148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021040" y="600408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38400" y="557208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40160" y="6013440"/>
            <a:ext cx="6660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32000" y="557208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578400" y="6014880"/>
            <a:ext cx="68040" cy="6696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273480" y="5572080"/>
            <a:ext cx="55872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763800" y="601668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411360" y="557208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49560" y="601812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598200" y="4048200"/>
            <a:ext cx="112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97480" y="524520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98920" y="434016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45760" y="419112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vs.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rder of data records is the same as, or `close to’, order of index data entries, then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 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ile can be clustered on at most one search 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 of retrieving data records through index vari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reatl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whether index is clustered or no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447920" y="1600200"/>
          <a:ext cx="6095880" cy="4043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e (D)/Sparse(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 (C) or not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344-9310-43DD-A310-9988B97167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46FB3-1367-4C62-AFEF-293DE4D55C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19320" y="378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ed vs. Unclustered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that clustering index is used for data entries, and that the data records are stored in a Heap fi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build clustering index, first sort the Heap file (with some free space on each block for future inserts)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verflow blocks may be needed for inserts.  (Thus, order of data recds is `close to’, but not identical to, the sort order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1160" y="594360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80964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336680" y="594360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86696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395440" y="59436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2248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5132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041480" y="486252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041480" y="388764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949400" y="388764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616040" y="3801960"/>
            <a:ext cx="33516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852560" y="3840120"/>
            <a:ext cx="9864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2388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090440" y="5240160"/>
            <a:ext cx="7488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90440" y="5259240"/>
            <a:ext cx="281160" cy="180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370160" y="5121360"/>
            <a:ext cx="46800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3672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83672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994040" y="524016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94932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949320" y="50482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601640" y="4843440"/>
            <a:ext cx="180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84360" y="50468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629080" y="5121360"/>
            <a:ext cx="466560" cy="32364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39724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39724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55420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67480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05120" y="504828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97000" y="5443560"/>
            <a:ext cx="374400" cy="50940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97000" y="5881680"/>
            <a:ext cx="60120" cy="712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38120" y="5443560"/>
            <a:ext cx="281160" cy="50940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38120" y="5878440"/>
            <a:ext cx="5256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76360" y="5443560"/>
            <a:ext cx="188640" cy="50940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6360" y="5877000"/>
            <a:ext cx="46080" cy="7596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11080" y="5443560"/>
            <a:ext cx="47880" cy="50940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31960" y="587700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417680" y="5443560"/>
            <a:ext cx="1440" cy="50940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398600" y="587844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461960" y="5443560"/>
            <a:ext cx="49320" cy="50940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484280" y="5877000"/>
            <a:ext cx="39600" cy="7596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509840" y="5443560"/>
            <a:ext cx="93600" cy="50940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571760" y="5875200"/>
            <a:ext cx="3780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555920" y="5443560"/>
            <a:ext cx="141120" cy="50940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657440" y="587520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74800" y="5443560"/>
            <a:ext cx="468360" cy="50940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76560" y="5884920"/>
            <a:ext cx="66600" cy="6804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768760" y="5443560"/>
            <a:ext cx="514080" cy="50940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14800" y="5886360"/>
            <a:ext cx="6804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909880" y="5443560"/>
            <a:ext cx="558720" cy="50940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400560" y="5888160"/>
            <a:ext cx="68040" cy="6480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048120" y="5443560"/>
            <a:ext cx="608040" cy="50940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586320" y="588960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34960" y="3919680"/>
            <a:ext cx="112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33880" y="511668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34600" y="4071960"/>
            <a:ext cx="142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search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757760" y="3886200"/>
            <a:ext cx="169920" cy="148104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361400" y="5397480"/>
            <a:ext cx="99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Index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437720" y="564048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1e8"/>
                </a:solidFill>
                <a:latin typeface="Arial"/>
              </a:rPr>
              <a:t>(Data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35320" y="421164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83740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292800" y="5964120"/>
            <a:ext cx="344520" cy="35100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751800" y="5964120"/>
            <a:ext cx="338040" cy="35100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207200" y="5964120"/>
            <a:ext cx="339840" cy="35100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661160" y="5964120"/>
            <a:ext cx="346320" cy="35100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11692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857412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492960" y="4795920"/>
            <a:ext cx="149040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492960" y="37497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277040" y="37497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986520" y="3657600"/>
            <a:ext cx="29232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196040" y="3699000"/>
            <a:ext cx="8280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134040" y="5076720"/>
            <a:ext cx="405000" cy="34776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537240" y="5203800"/>
            <a:ext cx="6372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537240" y="5227560"/>
            <a:ext cx="24156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713640" y="52038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77000" y="507672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78760" y="52038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178760" y="52275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318440" y="52038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416640" y="47800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416640" y="50007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977160" y="4780080"/>
            <a:ext cx="144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962760" y="49989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862760" y="507672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662960" y="52038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662960" y="52275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797960" y="52038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905600" y="47800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8015400" y="50007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173640" y="5423040"/>
            <a:ext cx="201600" cy="49824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330960" y="5842080"/>
            <a:ext cx="44280" cy="7920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889600" y="5423040"/>
            <a:ext cx="366840" cy="54900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889600" y="5897520"/>
            <a:ext cx="57240" cy="7452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292800" y="5423040"/>
            <a:ext cx="566640" cy="54900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794640" y="5907240"/>
            <a:ext cx="6480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093000" y="5423040"/>
            <a:ext cx="282240" cy="49824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093000" y="5846760"/>
            <a:ext cx="5220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416640" y="5423040"/>
            <a:ext cx="140832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756560" y="5878440"/>
            <a:ext cx="6840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173640" y="5423040"/>
            <a:ext cx="685800" cy="49824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173640" y="5862600"/>
            <a:ext cx="65160" cy="5868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94360" y="5423040"/>
            <a:ext cx="1778040" cy="49824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02560" y="58816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894360" y="5423040"/>
            <a:ext cx="165240" cy="54900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894360" y="5889600"/>
            <a:ext cx="42840" cy="8244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020000" y="5423040"/>
            <a:ext cx="322200" cy="49824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284960" y="5848200"/>
            <a:ext cx="5724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421400" y="5423040"/>
            <a:ext cx="565200" cy="54900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421400" y="5907240"/>
            <a:ext cx="59040" cy="6480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024760" y="5423040"/>
            <a:ext cx="322200" cy="54900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296200" y="5896080"/>
            <a:ext cx="50760" cy="7596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905600" y="5423040"/>
            <a:ext cx="241560" cy="49824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7905600" y="5845320"/>
            <a:ext cx="47880" cy="7596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185320" y="5423040"/>
            <a:ext cx="1440" cy="54900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167680" y="5892840"/>
            <a:ext cx="36360" cy="7920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52280" y="5638680"/>
            <a:ext cx="8839440" cy="0"/>
          </a:xfrm>
          <a:prstGeom prst="line">
            <a:avLst/>
          </a:prstGeom>
          <a:ln w="12600">
            <a:solidFill>
              <a:srgbClr val="002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062680" y="511488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82160" y="406224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576920" y="398448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273672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Opera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331080" y="0"/>
            <a:ext cx="590328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B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data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R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records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D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verage) time to read or write disk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9" name=""/>
          <p:cNvGraphicFramePr/>
          <p:nvPr/>
        </p:nvGraphicFramePr>
        <p:xfrm>
          <a:off x="457200" y="1295280"/>
          <a:ext cx="8153280" cy="4957920"/>
        </p:xfrm>
        <a:graphic>
          <a:graphicData uri="http://schemas.openxmlformats.org/drawingml/2006/table">
            <a:tbl>
              <a:tblPr/>
              <a:tblGrid>
                <a:gridCol w="1188720"/>
                <a:gridCol w="1528920"/>
                <a:gridCol w="1924920"/>
                <a:gridCol w="1755360"/>
                <a:gridCol w="175536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p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luster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an all rec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1.5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(R+0.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quality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5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B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1.5B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D(1 + 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15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Range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[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B) 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]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[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1.5B) 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]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D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15B + # matching recor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Ins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)+B)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1.5B)+1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D(3 + 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15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0" name=""/>
          <p:cNvSpPr/>
          <p:nvPr/>
        </p:nvSpPr>
        <p:spPr>
          <a:xfrm>
            <a:off x="3124080" y="990720"/>
            <a:ext cx="1981440" cy="57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952880" y="1066680"/>
            <a:ext cx="198144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990720"/>
            <a:ext cx="1981080" cy="57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ic problem in computer scie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find students in increasing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is first step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lk loa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useful for elimina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plicate cop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collection of records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is useful for summarizing related groups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rt-me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in algorithm involves sor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sort 100Gb of data with 1Gb of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not virtual memor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Way Sort: Requires 3 Buff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0: Read a page, sort it, writ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one buffer page is used (as in previous sl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, 2, 3, …, etc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ires 3 buffer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ge pairs of runs into runs twice as lo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buffer pages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93000" y="429084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647720" y="468792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647720" y="5435640"/>
            <a:ext cx="1068480" cy="13824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09840" y="431964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37000" y="5757840"/>
            <a:ext cx="2730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102440" y="4986360"/>
            <a:ext cx="1055880" cy="13824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7116840" y="5218200"/>
            <a:ext cx="1055520" cy="12528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657600" y="443376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33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491004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630600" y="527688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152880" y="4116240"/>
            <a:ext cx="3433680" cy="205596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661560" y="447192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661560" y="531648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384520" y="4921200"/>
            <a:ext cx="101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386120" y="587052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834920" y="589752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52388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81952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1447920" y="5486400"/>
            <a:ext cx="1452240" cy="304200"/>
            <a:chOff x="1447920" y="5486400"/>
            <a:chExt cx="1452240" cy="304200"/>
          </a:xfrm>
        </p:grpSpPr>
        <p:sp>
          <p:nvSpPr>
            <p:cNvPr id="1158" name=""/>
            <p:cNvSpPr/>
            <p:nvPr/>
          </p:nvSpPr>
          <p:spPr>
            <a:xfrm>
              <a:off x="15289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479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6934320" y="5486400"/>
            <a:ext cx="1452240" cy="304200"/>
            <a:chOff x="6934320" y="5486400"/>
            <a:chExt cx="1452240" cy="304200"/>
          </a:xfrm>
        </p:grpSpPr>
        <p:sp>
          <p:nvSpPr>
            <p:cNvPr id="1161" name=""/>
            <p:cNvSpPr/>
            <p:nvPr/>
          </p:nvSpPr>
          <p:spPr>
            <a:xfrm>
              <a:off x="70153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9343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701028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830592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666880" y="4724280"/>
            <a:ext cx="99072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6880" y="5486400"/>
            <a:ext cx="99072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00600" y="4648320"/>
            <a:ext cx="609480" cy="38088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800600" y="5181120"/>
            <a:ext cx="60948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400800" y="5105520"/>
            <a:ext cx="60948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Way External Merge S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ss we read + write each page in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pages in the file =&gt; the number of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otal cos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a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vide and conqu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subfiles and 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533520" y="2819520"/>
                <a:ext cx="2628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533520" y="4191120"/>
                <a:ext cx="28051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>
            <a:off x="7936200" y="140328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936920" y="191628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936920" y="251460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936920" y="354168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022960" y="533880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853040" y="166212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853040" y="217476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53040" y="294480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853040" y="422928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1464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62132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0976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57388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049800" y="1919160"/>
            <a:ext cx="31932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5260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00236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4772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383000" y="2433600"/>
            <a:ext cx="31932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383000" y="2689200"/>
            <a:ext cx="31932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3556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33556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28812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28812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240680" y="2433600"/>
            <a:ext cx="317520" cy="25704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240680" y="2689200"/>
            <a:ext cx="317520" cy="25884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85928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85928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85928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762600" y="32018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76260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76260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811840" y="448632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811840" y="474192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811840" y="499896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811840" y="525636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811840" y="551196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811840" y="57690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811840" y="602604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811840" y="628164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825880" y="62802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2132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0976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57388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049800" y="1405080"/>
            <a:ext cx="31932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5260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00236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4772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1464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10796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4520" y="14032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05080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52708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00336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47964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025760" y="1403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0986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0336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57452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0508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5368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470280" y="19162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14960" y="1916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327200" y="24512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336560" y="26971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289120" y="23986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279400" y="2665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62200" y="2419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251040" y="2665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252920" y="26654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812840" y="32097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812840" y="3478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22200" y="3724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12840" y="39909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719400" y="3478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719400" y="3724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798960" y="3959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65400" y="47498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765400" y="49975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765400" y="52531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765400" y="5521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65400" y="57675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65400" y="60228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859280" y="320976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038480" y="18288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038480" y="22860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110120" y="304812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110120" y="434340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321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745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240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734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22944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653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147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642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25124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453348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24016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552240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229440" y="2209680"/>
            <a:ext cx="21096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6512040" y="2209680"/>
            <a:ext cx="21096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147080" y="2209680"/>
            <a:ext cx="21240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7429680" y="2209680"/>
            <a:ext cx="21240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533840" y="2971800"/>
            <a:ext cx="424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5098680" y="2971800"/>
            <a:ext cx="35244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40400" y="2971800"/>
            <a:ext cx="424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7005240" y="2971800"/>
            <a:ext cx="3538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027760" y="4267080"/>
            <a:ext cx="84744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016320" y="4267080"/>
            <a:ext cx="919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038480" y="1219320"/>
            <a:ext cx="0" cy="548640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B+ Trees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: Table to be sorted has B+ tree index on sorting column(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Can retrieve records in order by traversing leaf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this a good id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s to consi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 tree is </a:t>
            </a: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669999"/>
                </a:solidFill>
                <a:latin typeface="Times New Roman"/>
              </a:rPr>
              <a:t>Good ide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 tree is </a:t>
            </a: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not 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ould be a very </a:t>
            </a:r>
            <a:r>
              <a:rPr b="1" i="1" lang="en-US" sz="2600" spc="-1" strike="noStrike">
                <a:solidFill>
                  <a:srgbClr val="669999"/>
                </a:solidFill>
                <a:latin typeface="Times New Roman"/>
              </a:rPr>
              <a:t>bad ide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ed B+ Tree Used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38862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root to the left-most leaf, then retrieve all leaf pages (Alternativ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ternative 2 is used?  Additional cost of retrieving data records:  each page fetched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766600" y="5776920"/>
            <a:ext cx="57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9999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Book Antiqua"/>
              </a:rPr>
              <a:t>  </a:t>
            </a:r>
            <a:r>
              <a:rPr b="1" i="1" lang="en-US" sz="2400" spc="-1" strike="noStrike">
                <a:solidFill>
                  <a:srgbClr val="669999"/>
                </a:solidFill>
                <a:latin typeface="Book Antiqua"/>
              </a:rPr>
              <a:t>Always better than external sor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66416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276880" y="437040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891040" y="4370400"/>
            <a:ext cx="46224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505560" y="4370400"/>
            <a:ext cx="460440" cy="384120"/>
          </a:xfrm>
          <a:custGeom>
            <a:avLst/>
            <a:gdLst/>
            <a:ahLst/>
            <a:rect l="l" t="t" r="r" b="b"/>
            <a:pathLst>
              <a:path w="290" h="242">
                <a:moveTo>
                  <a:pt x="0" y="241"/>
                </a:moveTo>
                <a:lnTo>
                  <a:pt x="0" y="0"/>
                </a:lnTo>
                <a:lnTo>
                  <a:pt x="289" y="0"/>
                </a:lnTo>
                <a:lnTo>
                  <a:pt x="289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11828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731000" y="437040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44816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44816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444816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448160" y="3406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448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4658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4830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4989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5165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533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55148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567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5846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602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619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63536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653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6702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687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703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7214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7386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75632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772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7894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8070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824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402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857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8751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92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9086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9258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943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9608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9766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989600" y="3409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98960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989600" y="3444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989600" y="3460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989600" y="3478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989600" y="3495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989600" y="3513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989600" y="3529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98960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989600" y="356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989600" y="3579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98960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98960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989600" y="3632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989600" y="3648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3665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989600" y="3683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989600" y="3699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989600" y="371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98960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989600" y="3751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989600" y="3767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4984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49669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49510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9338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9161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8988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8826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48654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48481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4830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48146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47970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4779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762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47462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47289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4711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694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677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4660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46432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4625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46098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45925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4574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557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4541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4524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506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4892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44737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455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4448160" y="3774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4448160" y="3752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4448160" y="3735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448160" y="3723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4448160" y="3706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48160" y="3684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4448160" y="3666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4448160" y="365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4448160" y="3633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4448160" y="3616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4448160" y="3598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4448160" y="35874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4448160" y="3565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448160" y="3547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448160" y="3536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4448160" y="3519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4448160" y="34970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48160" y="3479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448160" y="3468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448160" y="344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4448160" y="3428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4448160" y="3411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31504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31504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531504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315040" y="3406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3150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332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3499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3658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3830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4007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4180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4338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514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468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4864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502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5198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5371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55480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5706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5879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6055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62284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6386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656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6736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69124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7070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2436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7420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757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7754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792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81040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826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8435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856120" y="3409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85612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856120" y="3444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856120" y="3460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856120" y="3478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856120" y="3495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856120" y="3513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856120" y="3529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85612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856120" y="356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856120" y="3579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85612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85612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856120" y="3632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856120" y="3648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856120" y="3665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856120" y="3683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856120" y="3699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856120" y="371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85612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856120" y="3751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856120" y="3767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5851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58338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58183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5800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5783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57654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57495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57322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5714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569736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56811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663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5646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56289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561312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559584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5782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5560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554472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5274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55098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54925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547704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5459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54417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5424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54082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53910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53733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53560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53398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53226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5315040" y="3774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315040" y="3752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315040" y="3735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5315040" y="3723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5315040" y="3706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5315040" y="3684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5315040" y="3666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5315040" y="365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5315040" y="3633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5315040" y="3616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5315040" y="3598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5315040" y="35874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5315040" y="3565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5315040" y="3547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5315040" y="3536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315040" y="3519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315040" y="34970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5315040" y="3479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5315040" y="3468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5315040" y="344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315040" y="3428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315040" y="3411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04964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77700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77700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677700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777000" y="34066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777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79464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6811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827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8454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8626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8803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896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9134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9310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642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981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991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016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0326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050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067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08516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7101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1182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135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151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1690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71866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2039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2198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2374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25472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272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2882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305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318440" y="34113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731844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7318440" y="3444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7318440" y="3462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318440" y="34797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7318440" y="3495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7318440" y="3513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318440" y="3530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318440" y="3548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7318440" y="3564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7318440" y="3581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7318440" y="3598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731844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7318440" y="3632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7318440" y="3649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318440" y="36669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318440" y="3683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318440" y="37004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318440" y="37180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731844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7318440" y="3751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7318440" y="3768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73116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7294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72766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7260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7243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72259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7208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71924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71751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71578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71416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7124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71071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7089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70736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70560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7038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7021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70052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69883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6970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6953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936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69195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69022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6884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68688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68515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6833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6816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6800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6783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6777000" y="3773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6777000" y="3750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6777000" y="3733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6777000" y="3715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6777000" y="37047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6777000" y="3682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777000" y="3665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6777000" y="365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6777000" y="36370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777000" y="3614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677700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6777000" y="358632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777000" y="3563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677700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6777000" y="3528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6777000" y="3517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6777000" y="3495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6777000" y="34779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6777000" y="34668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6777000" y="3444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6777000" y="3427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6777000" y="3409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760080" y="2300400"/>
            <a:ext cx="196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Directs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464440" y="4915080"/>
            <a:ext cx="169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730200" y="2030400"/>
            <a:ext cx="83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7377480" y="3197160"/>
            <a:ext cx="158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7335720" y="3411360"/>
            <a:ext cx="171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"Sequence 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562720" y="1676520"/>
            <a:ext cx="4572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4724280" y="3124080"/>
            <a:ext cx="4572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638680" y="3124080"/>
            <a:ext cx="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781680" y="3124080"/>
            <a:ext cx="2286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4114800" y="3809880"/>
            <a:ext cx="4572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4266720" y="3809880"/>
            <a:ext cx="38124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4419720" y="3733920"/>
            <a:ext cx="380880" cy="6858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876920" y="3809880"/>
            <a:ext cx="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541008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H="1">
            <a:off x="548640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5562360" y="3809880"/>
            <a:ext cx="7596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563868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934320" y="3809880"/>
            <a:ext cx="30456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010280" y="3809880"/>
            <a:ext cx="3049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162920" y="3809880"/>
            <a:ext cx="6858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7238880" y="3809880"/>
            <a:ext cx="6858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4876560" y="198108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019920" y="198108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876920" y="3124080"/>
            <a:ext cx="22860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+-tree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5094" r="0" b="0"/>
          <a:stretch/>
        </p:blipFill>
        <p:spPr>
          <a:xfrm>
            <a:off x="228600" y="1295280"/>
            <a:ext cx="8610480" cy="3984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15238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80988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B2CC-D1A1-47F5-921C-2DC65CABF0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41488-808F-45FF-9F13-7684604DD9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066320" y="11412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lustered B+ Tree Used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(2) for data entries; each data entry conta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data record.  In general, </a:t>
            </a:r>
            <a:r>
              <a:rPr b="0" lang="en-US" sz="2800" spc="-1" strike="noStrike">
                <a:solidFill>
                  <a:srgbClr val="d8d8ec"/>
                </a:solidFill>
                <a:latin typeface="Times New Roman"/>
              </a:rPr>
              <a:t>one I/O per data reco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911320" y="5665680"/>
            <a:ext cx="46224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524400" y="5665680"/>
            <a:ext cx="46332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13856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4753080" y="5665680"/>
            <a:ext cx="460440" cy="384120"/>
          </a:xfrm>
          <a:custGeom>
            <a:avLst/>
            <a:gdLst/>
            <a:ahLst/>
            <a:rect l="l" t="t" r="r" b="b"/>
            <a:pathLst>
              <a:path w="290" h="242">
                <a:moveTo>
                  <a:pt x="0" y="241"/>
                </a:moveTo>
                <a:lnTo>
                  <a:pt x="0" y="0"/>
                </a:lnTo>
                <a:lnTo>
                  <a:pt x="289" y="0"/>
                </a:lnTo>
                <a:lnTo>
                  <a:pt x="289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536580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5978520" y="566568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69568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69568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269568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695680" y="4702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6956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712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7306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7464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7637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781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798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81448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832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8494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8670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8828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9005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9178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9354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951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9685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29862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003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0193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036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30542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0718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087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1050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122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1399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156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1734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1910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2083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2241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23676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23676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236760" y="4740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236760" y="4756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236760" y="4773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236760" y="4791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236760" y="4808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236760" y="48243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236760" y="4842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236760" y="48592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236760" y="4875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236760" y="4892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23676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236760" y="4927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36760" y="4943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23676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236760" y="497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3236760" y="4994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3676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23676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236760" y="5046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236760" y="5062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32317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3214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319896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31809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3163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31460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31302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31129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30952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30780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30618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30445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30272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3009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9937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9761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2958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2941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2925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29080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2890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2873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28576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839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28224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2804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27889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27716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27540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27367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27205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27032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695680" y="50706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695680" y="5047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695680" y="50306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2695680" y="5019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695680" y="5001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2695680" y="49798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2695680" y="4962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2695680" y="4951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2695680" y="4928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2695680" y="4911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2695680" y="4893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2695680" y="4882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2695680" y="4860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2695680" y="4843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2695680" y="4831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2695680" y="4814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2695680" y="4792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2695680" y="4775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2695680" y="4764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2695680" y="4741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2695680" y="4724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2695680" y="4706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562200" y="4702320"/>
            <a:ext cx="54324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562200" y="4702320"/>
            <a:ext cx="54324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356220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562200" y="47023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5622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5798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5971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6133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6306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6482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6655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681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6990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7162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73392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7497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7670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7846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019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178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8354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527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8703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9038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9211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93876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9546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39718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98952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4005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0226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040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0575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0734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0910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10364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10364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103640" y="4740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103640" y="4756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103640" y="4773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103640" y="4791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103640" y="4808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103640" y="48243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103640" y="4842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103640" y="48592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103640" y="4875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103640" y="4892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10364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103640" y="4927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103640" y="4943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10364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103640" y="497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4103640" y="4994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10364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410364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4103640" y="5046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4103640" y="5062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H="1">
            <a:off x="4098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40813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40651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4047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403056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40129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39970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3979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3962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39445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39286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39114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3893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38764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38602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38430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38257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38080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379224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377496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37573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7400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372384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37065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36889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36716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365616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3638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6208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36032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35874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35701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562200" y="50706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3562200" y="5047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3562200" y="50306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3562200" y="5019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562200" y="5001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3562200" y="49798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3562200" y="4962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3562200" y="4951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3562200" y="4928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3562200" y="4911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3562200" y="4893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3562200" y="4882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3562200" y="4860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3562200" y="4843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3562200" y="4831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3562200" y="4814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3562200" y="4792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3562200" y="4775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3562200" y="4764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3562200" y="4741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3562200" y="4724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3562200" y="4706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29716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02452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502452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V="1">
            <a:off x="502452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024520" y="4702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0245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418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0594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075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09256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1102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5127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1436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160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17860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1958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211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229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246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26428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280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2974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3150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3323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34816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3658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3830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3989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4165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4338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51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4673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484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5022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51988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535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5530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565600" y="4707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56560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565600" y="4740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565600" y="4757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565600" y="4775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565600" y="4791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565600" y="4808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565600" y="482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565600" y="4843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565600" y="4859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565600" y="4876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65600" y="4894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56560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565600" y="4927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565600" y="4944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565600" y="4962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565600" y="49784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565600" y="49957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565600" y="50133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56560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565600" y="5046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565600" y="5064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55591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55418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5524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5508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54907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5473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54558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54399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5422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54050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53892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53722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53542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53370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H="1">
            <a:off x="53208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53035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52862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5268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2527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52351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5217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5200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5184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516744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5149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5132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51166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098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50814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5063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>
            <a:off x="50479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50306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5024520" y="506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5024520" y="5046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024520" y="5028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02452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5024520" y="5000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5024520" y="4978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502452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5024520" y="49500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5024520" y="4932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02452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5024520" y="4892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5024520" y="4881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5024520" y="4858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5024520" y="4841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5024520" y="4824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5024520" y="4812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5024520" y="47908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5024520" y="4773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024520" y="4762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5024520" y="4740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024520" y="4722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02452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009040" y="3594240"/>
            <a:ext cx="196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Directs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711600" y="6210360"/>
            <a:ext cx="169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979160" y="3324240"/>
            <a:ext cx="83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5626440" y="4491000"/>
            <a:ext cx="158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583240" y="4707000"/>
            <a:ext cx="171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"Sequence 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3123720" y="327672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4267080" y="327672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124080" y="4419720"/>
            <a:ext cx="22860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809880" y="2971800"/>
            <a:ext cx="4572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2971800" y="4419720"/>
            <a:ext cx="4572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886200" y="4419720"/>
            <a:ext cx="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5029200" y="4419720"/>
            <a:ext cx="2286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819520" y="5105520"/>
            <a:ext cx="13716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2514600" y="5105520"/>
            <a:ext cx="380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2666520" y="5029200"/>
            <a:ext cx="381240" cy="6858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124080" y="5105520"/>
            <a:ext cx="4572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3657600" y="5105520"/>
            <a:ext cx="7632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2514600" y="5105520"/>
            <a:ext cx="1295280" cy="60948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5105520"/>
            <a:ext cx="1523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962520" y="5105520"/>
            <a:ext cx="30456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733560" y="5105520"/>
            <a:ext cx="144756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257800" y="5105520"/>
            <a:ext cx="30492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5029200" y="5105520"/>
            <a:ext cx="380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486400" y="5105520"/>
            <a:ext cx="6858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Sorting vs. Unclustered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310560" y="5521320"/>
            <a:ext cx="5833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: # of records p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B=1,000 and block size=32 for 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=100 is the more realistic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8" name=""/>
          <p:cNvGraphicFramePr/>
          <p:nvPr/>
        </p:nvGraphicFramePr>
        <p:xfrm>
          <a:off x="266760" y="1785960"/>
          <a:ext cx="8751960" cy="391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785960"/>
                    <a:ext cx="8751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orting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merge sort minimizes disk I/O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ss 0: Produces sorte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u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# buffer pages). Later passes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 of runs merged at a time depends o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lock siz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rger block size means less I/O cost per p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rger block size means smaller # runs merg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practice, # of runs rarely more than 2 or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rrect lea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data entry o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enough spa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, must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split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(into L and a new node 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entries evenly,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copy up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ndex entry point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happen recur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growth: gets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wi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sometimes)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one level taller at top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36232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A4A-B270-436C-870A-CECE0B1AAE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7E5E1-1B70-4A62-80A8-4935C5FD7F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-tree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at root, find lea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entry be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 e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 is at least half-full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one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 has onl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-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rie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1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redis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rrowing from sibl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djacent node with same parent as 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1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-distribution fails,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ib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rge occurred, must delete entry (point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sibling) from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shrink: gets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narr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sometimes)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one level lower at top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8C4-D559-494B-9449-A11A2CA885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DFEF4-CC99-4559-83E2-E952404D17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B+ Tree - Inserting 8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7680" y="5486400"/>
            <a:ext cx="8016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is example, we can avoid split by re-distributing             entries; however, this is usually not done i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6840" y="2057400"/>
            <a:ext cx="8201880" cy="2677320"/>
            <a:chOff x="456840" y="2057400"/>
            <a:chExt cx="8201880" cy="2677320"/>
          </a:xfrm>
        </p:grpSpPr>
        <p:sp>
          <p:nvSpPr>
            <p:cNvPr id="109" name=""/>
            <p:cNvSpPr/>
            <p:nvPr/>
          </p:nvSpPr>
          <p:spPr>
            <a:xfrm>
              <a:off x="3382920" y="2532240"/>
              <a:ext cx="557280" cy="465120"/>
            </a:xfrm>
            <a:custGeom>
              <a:avLst/>
              <a:gdLst/>
              <a:ahLst/>
              <a:rect l="l" t="t" r="r" b="b"/>
              <a:pathLst>
                <a:path w="351" h="293">
                  <a:moveTo>
                    <a:pt x="0" y="292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7688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38760" y="2532240"/>
              <a:ext cx="56016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380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7480" y="2532240"/>
              <a:ext cx="558720" cy="465120"/>
            </a:xfrm>
            <a:custGeom>
              <a:avLst/>
              <a:gdLst/>
              <a:ahLst/>
              <a:rect l="l" t="t" r="r" b="b"/>
              <a:pathLst>
                <a:path w="352" h="293">
                  <a:moveTo>
                    <a:pt x="0" y="292"/>
                  </a:moveTo>
                  <a:lnTo>
                    <a:pt x="0" y="0"/>
                  </a:lnTo>
                  <a:lnTo>
                    <a:pt x="351" y="0"/>
                  </a:lnTo>
                  <a:lnTo>
                    <a:pt x="351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9108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54760" y="2532240"/>
              <a:ext cx="56052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4692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480" y="2532240"/>
              <a:ext cx="93600" cy="46512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0" y="29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4528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168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8832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61640" y="3967200"/>
              <a:ext cx="371160" cy="37296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4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233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87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002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717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9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005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208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324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05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72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4356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1652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72360" y="3967200"/>
              <a:ext cx="37440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453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168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883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1400" y="2936880"/>
              <a:ext cx="2219400" cy="1009800"/>
            </a:xfrm>
            <a:custGeom>
              <a:avLst/>
              <a:gdLst/>
              <a:ahLst/>
              <a:rect l="l" t="t" r="r" b="b"/>
              <a:pathLst>
                <a:path w="1398" h="636">
                  <a:moveTo>
                    <a:pt x="1397" y="0"/>
                  </a:moveTo>
                  <a:lnTo>
                    <a:pt x="0" y="635"/>
                  </a:lnTo>
                  <a:lnTo>
                    <a:pt x="13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1400" y="3870360"/>
              <a:ext cx="119160" cy="76320"/>
            </a:xfrm>
            <a:custGeom>
              <a:avLst/>
              <a:gdLst/>
              <a:ahLst/>
              <a:rect l="l" t="t" r="r" b="b"/>
              <a:pathLst>
                <a:path w="75" h="48">
                  <a:moveTo>
                    <a:pt x="74" y="33"/>
                  </a:moveTo>
                  <a:lnTo>
                    <a:pt x="0" y="47"/>
                  </a:lnTo>
                  <a:lnTo>
                    <a:pt x="59" y="0"/>
                  </a:lnTo>
                  <a:lnTo>
                    <a:pt x="74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2080" y="2949840"/>
              <a:ext cx="1104840" cy="996840"/>
            </a:xfrm>
            <a:custGeom>
              <a:avLst/>
              <a:gdLst/>
              <a:ahLst/>
              <a:rect l="l" t="t" r="r" b="b"/>
              <a:pathLst>
                <a:path w="696" h="628">
                  <a:moveTo>
                    <a:pt x="695" y="0"/>
                  </a:moveTo>
                  <a:lnTo>
                    <a:pt x="0" y="627"/>
                  </a:lnTo>
                  <a:lnTo>
                    <a:pt x="6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2080" y="3845160"/>
              <a:ext cx="107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7" y="27"/>
                  </a:moveTo>
                  <a:lnTo>
                    <a:pt x="0" y="63"/>
                  </a:lnTo>
                  <a:lnTo>
                    <a:pt x="42" y="0"/>
                  </a:lnTo>
                  <a:lnTo>
                    <a:pt x="67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32400" y="2949840"/>
              <a:ext cx="1440" cy="985680"/>
            </a:xfrm>
            <a:custGeom>
              <a:avLst/>
              <a:gdLst/>
              <a:ahLst/>
              <a:rect l="l" t="t" r="r" b="b"/>
              <a:pathLst>
                <a:path w="1" h="621">
                  <a:moveTo>
                    <a:pt x="0" y="0"/>
                  </a:moveTo>
                  <a:lnTo>
                    <a:pt x="0" y="6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2160" y="3816360"/>
              <a:ext cx="60480" cy="11916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37" y="0"/>
                  </a:moveTo>
                  <a:lnTo>
                    <a:pt x="19" y="74"/>
                  </a:lnTo>
                  <a:lnTo>
                    <a:pt x="0" y="0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0840" y="2936880"/>
              <a:ext cx="1093680" cy="998640"/>
            </a:xfrm>
            <a:custGeom>
              <a:avLst/>
              <a:gdLst/>
              <a:ahLst/>
              <a:rect l="l" t="t" r="r" b="b"/>
              <a:pathLst>
                <a:path w="689" h="629">
                  <a:moveTo>
                    <a:pt x="0" y="0"/>
                  </a:moveTo>
                  <a:lnTo>
                    <a:pt x="688" y="6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8320" y="3834000"/>
              <a:ext cx="106200" cy="10152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25" y="0"/>
                  </a:moveTo>
                  <a:lnTo>
                    <a:pt x="66" y="63"/>
                  </a:lnTo>
                  <a:lnTo>
                    <a:pt x="0" y="27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9560" y="2924280"/>
              <a:ext cx="2219400" cy="1011240"/>
            </a:xfrm>
            <a:custGeom>
              <a:avLst/>
              <a:gdLst/>
              <a:ahLst/>
              <a:rect l="l" t="t" r="r" b="b"/>
              <a:pathLst>
                <a:path w="1398" h="637">
                  <a:moveTo>
                    <a:pt x="0" y="0"/>
                  </a:moveTo>
                  <a:lnTo>
                    <a:pt x="1397" y="6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59800" y="3857760"/>
              <a:ext cx="119160" cy="7776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15" y="0"/>
                  </a:moveTo>
                  <a:lnTo>
                    <a:pt x="74" y="48"/>
                  </a:lnTo>
                  <a:lnTo>
                    <a:pt x="0" y="3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08440" y="205740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6872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6000" y="2602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5880" y="2590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684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104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256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788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7824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312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6088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23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50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416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19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33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9628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5520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6720" y="39578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3556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8840" y="20592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020000">
              <a:off x="33404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020000">
              <a:off x="15879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020000">
              <a:off x="49406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9020000">
              <a:off x="66171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1676520"/>
            <a:ext cx="86868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1676520"/>
            <a:ext cx="8367840" cy="2627280"/>
            <a:chOff x="457200" y="1676520"/>
            <a:chExt cx="8367840" cy="2627280"/>
          </a:xfrm>
        </p:grpSpPr>
        <p:sp>
          <p:nvSpPr>
            <p:cNvPr id="176" name=""/>
            <p:cNvSpPr/>
            <p:nvPr/>
          </p:nvSpPr>
          <p:spPr>
            <a:xfrm>
              <a:off x="457200" y="37116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640" y="37116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06280" y="37116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31720" y="37116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6200" y="3691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640" y="3691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25920" y="209376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5120" y="209376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156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2560" y="209376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9900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0000" y="209376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8644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67080" y="209376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3520" y="209376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3856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6400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9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1308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976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520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00640" y="371952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2284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6096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8640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040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404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6100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86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10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3444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04800" y="286236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580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9080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144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77880" y="286236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888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6532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6320" y="286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2760" y="286236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500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0" y="286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244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8308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9520" y="286236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7052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7552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5940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2960" y="286236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9000" y="318456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89000" y="35877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20680" y="318456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1040" y="359892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19280" y="318456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44720" y="363996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00640" y="320508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00640" y="360828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32320" y="320508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00600" y="35892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9760" y="321480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75440" y="363204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7880" y="244620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77880" y="278460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41800" y="245592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27840" y="279720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3996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6360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890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130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00440" y="180036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4440" y="21225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24440" y="28782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1240" y="28893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8600" y="37180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22600" y="37180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79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468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89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5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472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784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2932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5476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6904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93040" y="36860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00240" y="28908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33320" y="28908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116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4896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8724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1560" y="167652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3440000">
              <a:off x="70246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3440000">
              <a:off x="1462680" y="356832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3440000">
              <a:off x="2834280" y="356832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3440000">
              <a:off x="42814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3440000">
              <a:off x="56530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86560" y="4938840"/>
            <a:ext cx="808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tice that root was split, leading to increase in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6840" y="2057400"/>
            <a:ext cx="8201880" cy="2677320"/>
            <a:chOff x="456840" y="2057400"/>
            <a:chExt cx="8201880" cy="2677320"/>
          </a:xfrm>
        </p:grpSpPr>
        <p:sp>
          <p:nvSpPr>
            <p:cNvPr id="276" name=""/>
            <p:cNvSpPr/>
            <p:nvPr/>
          </p:nvSpPr>
          <p:spPr>
            <a:xfrm>
              <a:off x="3382920" y="2532240"/>
              <a:ext cx="557280" cy="465120"/>
            </a:xfrm>
            <a:custGeom>
              <a:avLst/>
              <a:gdLst/>
              <a:ahLst/>
              <a:rect l="l" t="t" r="r" b="b"/>
              <a:pathLst>
                <a:path w="351" h="293">
                  <a:moveTo>
                    <a:pt x="0" y="292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7688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8760" y="2532240"/>
              <a:ext cx="56016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380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97480" y="2532240"/>
              <a:ext cx="558720" cy="465120"/>
            </a:xfrm>
            <a:custGeom>
              <a:avLst/>
              <a:gdLst/>
              <a:ahLst/>
              <a:rect l="l" t="t" r="r" b="b"/>
              <a:pathLst>
                <a:path w="352" h="293">
                  <a:moveTo>
                    <a:pt x="0" y="292"/>
                  </a:moveTo>
                  <a:lnTo>
                    <a:pt x="0" y="0"/>
                  </a:lnTo>
                  <a:lnTo>
                    <a:pt x="351" y="0"/>
                  </a:lnTo>
                  <a:lnTo>
                    <a:pt x="351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9108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54760" y="2532240"/>
              <a:ext cx="56052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692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13480" y="2532240"/>
              <a:ext cx="93600" cy="46512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0" y="29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4528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168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832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61640" y="3967200"/>
              <a:ext cx="371160" cy="37296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4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233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87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002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717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29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005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7208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4324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05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2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4356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1652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72360" y="3967200"/>
              <a:ext cx="37440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453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168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883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11400" y="2936880"/>
              <a:ext cx="2219400" cy="1009800"/>
            </a:xfrm>
            <a:custGeom>
              <a:avLst/>
              <a:gdLst/>
              <a:ahLst/>
              <a:rect l="l" t="t" r="r" b="b"/>
              <a:pathLst>
                <a:path w="1398" h="636">
                  <a:moveTo>
                    <a:pt x="1397" y="0"/>
                  </a:moveTo>
                  <a:lnTo>
                    <a:pt x="0" y="635"/>
                  </a:lnTo>
                  <a:lnTo>
                    <a:pt x="13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1400" y="3870360"/>
              <a:ext cx="119160" cy="76320"/>
            </a:xfrm>
            <a:custGeom>
              <a:avLst/>
              <a:gdLst/>
              <a:ahLst/>
              <a:rect l="l" t="t" r="r" b="b"/>
              <a:pathLst>
                <a:path w="75" h="48">
                  <a:moveTo>
                    <a:pt x="74" y="33"/>
                  </a:moveTo>
                  <a:lnTo>
                    <a:pt x="0" y="47"/>
                  </a:lnTo>
                  <a:lnTo>
                    <a:pt x="59" y="0"/>
                  </a:lnTo>
                  <a:lnTo>
                    <a:pt x="74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72080" y="2949840"/>
              <a:ext cx="1104840" cy="996840"/>
            </a:xfrm>
            <a:custGeom>
              <a:avLst/>
              <a:gdLst/>
              <a:ahLst/>
              <a:rect l="l" t="t" r="r" b="b"/>
              <a:pathLst>
                <a:path w="696" h="628">
                  <a:moveTo>
                    <a:pt x="695" y="0"/>
                  </a:moveTo>
                  <a:lnTo>
                    <a:pt x="0" y="627"/>
                  </a:lnTo>
                  <a:lnTo>
                    <a:pt x="6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72080" y="3845160"/>
              <a:ext cx="107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7" y="27"/>
                  </a:moveTo>
                  <a:lnTo>
                    <a:pt x="0" y="63"/>
                  </a:lnTo>
                  <a:lnTo>
                    <a:pt x="42" y="0"/>
                  </a:lnTo>
                  <a:lnTo>
                    <a:pt x="67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2400" y="2949840"/>
              <a:ext cx="1440" cy="985680"/>
            </a:xfrm>
            <a:custGeom>
              <a:avLst/>
              <a:gdLst/>
              <a:ahLst/>
              <a:rect l="l" t="t" r="r" b="b"/>
              <a:pathLst>
                <a:path w="1" h="621">
                  <a:moveTo>
                    <a:pt x="0" y="0"/>
                  </a:moveTo>
                  <a:lnTo>
                    <a:pt x="0" y="6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2160" y="3816360"/>
              <a:ext cx="60480" cy="11916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37" y="0"/>
                  </a:moveTo>
                  <a:lnTo>
                    <a:pt x="19" y="74"/>
                  </a:lnTo>
                  <a:lnTo>
                    <a:pt x="0" y="0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00840" y="2936880"/>
              <a:ext cx="1093680" cy="998640"/>
            </a:xfrm>
            <a:custGeom>
              <a:avLst/>
              <a:gdLst/>
              <a:ahLst/>
              <a:rect l="l" t="t" r="r" b="b"/>
              <a:pathLst>
                <a:path w="689" h="629">
                  <a:moveTo>
                    <a:pt x="0" y="0"/>
                  </a:moveTo>
                  <a:lnTo>
                    <a:pt x="688" y="6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88320" y="3834000"/>
              <a:ext cx="106200" cy="10152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25" y="0"/>
                  </a:moveTo>
                  <a:lnTo>
                    <a:pt x="66" y="63"/>
                  </a:lnTo>
                  <a:lnTo>
                    <a:pt x="0" y="27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59560" y="2924280"/>
              <a:ext cx="2219400" cy="1011240"/>
            </a:xfrm>
            <a:custGeom>
              <a:avLst/>
              <a:gdLst/>
              <a:ahLst/>
              <a:rect l="l" t="t" r="r" b="b"/>
              <a:pathLst>
                <a:path w="1398" h="637">
                  <a:moveTo>
                    <a:pt x="0" y="0"/>
                  </a:moveTo>
                  <a:lnTo>
                    <a:pt x="1397" y="6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9800" y="3857760"/>
              <a:ext cx="119160" cy="7776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15" y="0"/>
                  </a:moveTo>
                  <a:lnTo>
                    <a:pt x="74" y="48"/>
                  </a:lnTo>
                  <a:lnTo>
                    <a:pt x="0" y="3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08440" y="205740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872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26000" y="2602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95880" y="2590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684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08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104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256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1788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7824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1312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6088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23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0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3416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819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233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9628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5520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6720" y="39578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3556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68840" y="20592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9020000">
              <a:off x="33404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9020000">
              <a:off x="15879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9020000">
              <a:off x="49406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020000">
              <a:off x="66171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600" y="1676520"/>
            <a:ext cx="86868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57200" y="2057400"/>
            <a:ext cx="8367840" cy="2627280"/>
            <a:chOff x="457200" y="2057400"/>
            <a:chExt cx="8367840" cy="2627280"/>
          </a:xfrm>
        </p:grpSpPr>
        <p:sp>
          <p:nvSpPr>
            <p:cNvPr id="343" name=""/>
            <p:cNvSpPr/>
            <p:nvPr/>
          </p:nvSpPr>
          <p:spPr>
            <a:xfrm>
              <a:off x="457200" y="40924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2640" y="40924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6280" y="40924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31720" y="40924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6200" y="40719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1640" y="40719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25920" y="247464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05120" y="247464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156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92560" y="247464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9900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80000" y="247464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8644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67080" y="247464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247464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3856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6400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9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1308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4976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7520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00640" y="410040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2284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6096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8640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1040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3404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100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86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10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3444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04800" y="324324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8580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9080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7144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77880" y="324324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5888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6532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6320" y="324324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2760" y="324324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500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96000" y="324324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0244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8308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89520" y="324324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7052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7552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5940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62960" y="324324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89000" y="356544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89000" y="396864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0680" y="356544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81040" y="397980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9280" y="356544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44720" y="402084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00640" y="358596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00640" y="39891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32320" y="358596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00600" y="397008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19760" y="359568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75440" y="401292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77880" y="282708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77880" y="316548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41800" y="283680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7840" y="317808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3996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360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890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30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00440" y="218124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54440" y="25034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24440" y="3259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21240" y="32702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98600" y="40989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22600" y="40989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79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5468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689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5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5472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5784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2932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6904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93040" y="406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00240" y="32716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33320" y="327168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7116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4896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8724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11560" y="205740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3440000">
              <a:off x="70246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3440000">
              <a:off x="1462680" y="394920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3440000">
              <a:off x="2834280" y="394920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3440000">
              <a:off x="42814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440000">
              <a:off x="56530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76212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ree (including 8*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 19* and 20*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ree (including 8*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 19* and 20* 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19* i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20* is done with re-distribution. Notice how middle key is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opied 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80880" y="1981080"/>
            <a:ext cx="8367840" cy="2627280"/>
            <a:chOff x="380880" y="1981080"/>
            <a:chExt cx="8367840" cy="2627280"/>
          </a:xfrm>
        </p:grpSpPr>
        <p:sp>
          <p:nvSpPr>
            <p:cNvPr id="445" name=""/>
            <p:cNvSpPr/>
            <p:nvPr/>
          </p:nvSpPr>
          <p:spPr>
            <a:xfrm>
              <a:off x="380880" y="401616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6320" y="401616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29960" y="401616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5400" y="401616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9880" y="39956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320" y="39956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49600" y="239832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28800" y="239832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524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16240" y="239832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268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03680" y="239832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1012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90760" y="239832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97200" y="239832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6224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8768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13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676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344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9888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24320" y="402408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652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8464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1008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3408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772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8468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10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34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5812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28480" y="316692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0948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1448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9512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01560" y="316692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8256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8900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70000" y="316692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76440" y="316692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3868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9680" y="316692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2612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0676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13200" y="316692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9420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9920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8308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86640" y="316692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12680" y="348912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12680" y="389232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44360" y="348912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04720" y="390348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42960" y="348912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68400" y="394452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24320" y="350964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24320" y="391284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56000" y="350964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24280" y="389376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43440" y="351936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99120" y="393660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01560" y="275076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01560" y="308916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65480" y="276048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1520" y="310176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6364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8728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127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24120" y="210492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8120" y="24271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48120" y="31827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44920" y="3193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2280" y="4022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6280" y="4022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716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7836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926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432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840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152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5300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7844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9272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16720" y="3990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23920" y="31953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57000" y="319536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9484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264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092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35240" y="198108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3440000">
              <a:off x="69483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3440000">
              <a:off x="1386360" y="387288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3440000">
              <a:off x="2757960" y="387288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3440000">
              <a:off x="42051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3440000">
              <a:off x="55767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1447920"/>
            <a:ext cx="89154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80880" y="1905120"/>
            <a:ext cx="8367840" cy="2727720"/>
            <a:chOff x="380880" y="1905120"/>
            <a:chExt cx="8367840" cy="2727720"/>
          </a:xfrm>
        </p:grpSpPr>
        <p:sp>
          <p:nvSpPr>
            <p:cNvPr id="543" name=""/>
            <p:cNvSpPr/>
            <p:nvPr/>
          </p:nvSpPr>
          <p:spPr>
            <a:xfrm>
              <a:off x="380880" y="394020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6320" y="394020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29960" y="394020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5400" y="394020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9880" y="391932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5320" y="391932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49600" y="2322360"/>
              <a:ext cx="48708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28800" y="232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3524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6240" y="232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2268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03680" y="232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012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90760" y="232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97200" y="2322360"/>
              <a:ext cx="8280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6224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768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3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3676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344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9888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24320" y="3948120"/>
              <a:ext cx="323640" cy="32508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4652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8464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1008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3408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5772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8468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10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34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5812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28480" y="309060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0948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1448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9512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01560" y="309060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8256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8900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0000" y="309060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76440" y="309060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868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19680" y="309060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2612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676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13200" y="309060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9420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9920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8308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86640" y="309060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2680" y="3413160"/>
              <a:ext cx="446040" cy="49644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12680" y="3816360"/>
              <a:ext cx="87120" cy="932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944360" y="3413160"/>
              <a:ext cx="449280" cy="50580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04720" y="3827520"/>
              <a:ext cx="88920" cy="9144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2960" y="3413160"/>
              <a:ext cx="1330200" cy="51696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68400" y="3868560"/>
              <a:ext cx="104760" cy="6156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24320" y="3433680"/>
              <a:ext cx="446040" cy="49644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24320" y="3836880"/>
              <a:ext cx="87120" cy="932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56000" y="3433680"/>
              <a:ext cx="459000" cy="47592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24280" y="3817800"/>
              <a:ext cx="90720" cy="91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43440" y="3443040"/>
              <a:ext cx="1362240" cy="47592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99120" y="386064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1560" y="2674800"/>
              <a:ext cx="1177920" cy="39636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01560" y="301284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65480" y="2684520"/>
              <a:ext cx="1992240" cy="38664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51520" y="3025800"/>
              <a:ext cx="106200" cy="5040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364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8728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127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367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52720" y="195264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78120" y="23508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44920" y="31176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22280" y="394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46280" y="394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3000" y="39351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78440" y="39351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9272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16720" y="3914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23920" y="31194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57000" y="31194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9484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7264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1092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164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7836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48120" y="31064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324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840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63840" y="1905120"/>
              <a:ext cx="6094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8420000">
              <a:off x="144720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8420000">
              <a:off x="2894760" y="3779280"/>
              <a:ext cx="608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8420000">
              <a:off x="4266360" y="3779280"/>
              <a:ext cx="608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8420000">
              <a:off x="571428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8420000">
              <a:off x="716220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And Then Deleting 24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0388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`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toss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dex entry (key 27 on right), and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`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pull down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dex entry (bel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354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7032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0376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3720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3408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06752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0240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9358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59600" y="1905120"/>
            <a:ext cx="65232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26760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10480" y="1905120"/>
            <a:ext cx="654120" cy="469800"/>
          </a:xfrm>
          <a:custGeom>
            <a:avLst/>
            <a:gdLst/>
            <a:ahLst/>
            <a:rect l="l" t="t" r="r" b="b"/>
            <a:pathLst>
              <a:path w="412" h="296">
                <a:moveTo>
                  <a:pt x="0" y="295"/>
                </a:moveTo>
                <a:lnTo>
                  <a:pt x="0" y="0"/>
                </a:lnTo>
                <a:lnTo>
                  <a:pt x="411" y="0"/>
                </a:lnTo>
                <a:lnTo>
                  <a:pt x="411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1992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62800" y="1905120"/>
            <a:ext cx="65268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6936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113680" y="1905120"/>
            <a:ext cx="650880" cy="469800"/>
          </a:xfrm>
          <a:custGeom>
            <a:avLst/>
            <a:gdLst/>
            <a:ahLst/>
            <a:rect l="l" t="t" r="r" b="b"/>
            <a:pathLst>
              <a:path w="410" h="296">
                <a:moveTo>
                  <a:pt x="0" y="295"/>
                </a:moveTo>
                <a:lnTo>
                  <a:pt x="0" y="0"/>
                </a:lnTo>
                <a:lnTo>
                  <a:pt x="409" y="0"/>
                </a:lnTo>
                <a:lnTo>
                  <a:pt x="40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22168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763120" y="1905120"/>
            <a:ext cx="110880" cy="469800"/>
          </a:xfrm>
          <a:custGeom>
            <a:avLst/>
            <a:gdLst/>
            <a:ahLst/>
            <a:rect l="l" t="t" r="r" b="b"/>
            <a:pathLst>
              <a:path w="70" h="296">
                <a:moveTo>
                  <a:pt x="0" y="295"/>
                </a:moveTo>
                <a:lnTo>
                  <a:pt x="0" y="0"/>
                </a:lnTo>
                <a:lnTo>
                  <a:pt x="69" y="0"/>
                </a:lnTo>
                <a:lnTo>
                  <a:pt x="6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03760" y="2303640"/>
            <a:ext cx="598680" cy="576000"/>
          </a:xfrm>
          <a:custGeom>
            <a:avLst/>
            <a:gdLst/>
            <a:ahLst/>
            <a:rect l="l" t="t" r="r" b="b"/>
            <a:pathLst>
              <a:path w="377" h="363">
                <a:moveTo>
                  <a:pt x="376" y="0"/>
                </a:moveTo>
                <a:lnTo>
                  <a:pt x="0" y="362"/>
                </a:lnTo>
                <a:lnTo>
                  <a:pt x="3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03760" y="277164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72" y="24"/>
                </a:moveTo>
                <a:lnTo>
                  <a:pt x="0" y="67"/>
                </a:lnTo>
                <a:lnTo>
                  <a:pt x="41" y="0"/>
                </a:lnTo>
                <a:lnTo>
                  <a:pt x="72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50080" y="2303640"/>
            <a:ext cx="614520" cy="552240"/>
          </a:xfrm>
          <a:custGeom>
            <a:avLst/>
            <a:gdLst/>
            <a:ahLst/>
            <a:rect l="l" t="t" r="r" b="b"/>
            <a:pathLst>
              <a:path w="387" h="348">
                <a:moveTo>
                  <a:pt x="0" y="0"/>
                </a:moveTo>
                <a:lnTo>
                  <a:pt x="386" y="3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343640" y="2749680"/>
            <a:ext cx="120960" cy="106200"/>
          </a:xfrm>
          <a:custGeom>
            <a:avLst/>
            <a:gdLst/>
            <a:ahLst/>
            <a:rect l="l" t="t" r="r" b="b"/>
            <a:pathLst>
              <a:path w="76" h="67">
                <a:moveTo>
                  <a:pt x="31" y="0"/>
                </a:moveTo>
                <a:lnTo>
                  <a:pt x="75" y="66"/>
                </a:lnTo>
                <a:lnTo>
                  <a:pt x="0" y="25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05320" y="1459080"/>
            <a:ext cx="1303560" cy="412560"/>
          </a:xfrm>
          <a:custGeom>
            <a:avLst/>
            <a:gdLst/>
            <a:ahLst/>
            <a:rect l="l" t="t" r="r" b="b"/>
            <a:pathLst>
              <a:path w="821" h="260">
                <a:moveTo>
                  <a:pt x="0" y="0"/>
                </a:moveTo>
                <a:lnTo>
                  <a:pt x="82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67400" y="1803240"/>
            <a:ext cx="141480" cy="68400"/>
          </a:xfrm>
          <a:custGeom>
            <a:avLst/>
            <a:gdLst/>
            <a:ahLst/>
            <a:rect l="l" t="t" r="r" b="b"/>
            <a:pathLst>
              <a:path w="89" h="43">
                <a:moveTo>
                  <a:pt x="14" y="0"/>
                </a:moveTo>
                <a:lnTo>
                  <a:pt x="88" y="42"/>
                </a:lnTo>
                <a:lnTo>
                  <a:pt x="0" y="3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50040" y="20271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3544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7032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8972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2148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05636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47540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910640" y="29653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18420000">
            <a:off x="44074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8420000">
            <a:off x="62362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160" y="5875200"/>
            <a:ext cx="380880" cy="382680"/>
          </a:xfrm>
          <a:custGeom>
            <a:avLst/>
            <a:gdLst/>
            <a:ahLst/>
            <a:rect l="l" t="t" r="r" b="b"/>
            <a:pathLst>
              <a:path w="240" h="241">
                <a:moveTo>
                  <a:pt x="0" y="240"/>
                </a:moveTo>
                <a:lnTo>
                  <a:pt x="0" y="0"/>
                </a:lnTo>
                <a:lnTo>
                  <a:pt x="239" y="0"/>
                </a:lnTo>
                <a:lnTo>
                  <a:pt x="239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0240" y="5875200"/>
            <a:ext cx="38448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042920" y="5875200"/>
            <a:ext cx="38412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25600" y="5875200"/>
            <a:ext cx="382680" cy="3826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240"/>
                </a:moveTo>
                <a:lnTo>
                  <a:pt x="0" y="0"/>
                </a:lnTo>
                <a:lnTo>
                  <a:pt x="240" y="0"/>
                </a:lnTo>
                <a:lnTo>
                  <a:pt x="240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95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7656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35924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4012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25312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6340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16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975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910560" y="5888160"/>
            <a:ext cx="38232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9144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7412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056440" y="588816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39"/>
                </a:moveTo>
                <a:lnTo>
                  <a:pt x="0" y="0"/>
                </a:lnTo>
                <a:lnTo>
                  <a:pt x="239" y="0"/>
                </a:lnTo>
                <a:lnTo>
                  <a:pt x="239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9479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3028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71296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0942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154320" y="4497480"/>
            <a:ext cx="57312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4972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2600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2284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99120" y="4497480"/>
            <a:ext cx="57276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394160" y="4497480"/>
            <a:ext cx="180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7044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6728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443560" y="4497480"/>
            <a:ext cx="98280" cy="474480"/>
          </a:xfrm>
          <a:custGeom>
            <a:avLst/>
            <a:gdLst/>
            <a:ahLst/>
            <a:rect l="l" t="t" r="r" b="b"/>
            <a:pathLst>
              <a:path w="62" h="299">
                <a:moveTo>
                  <a:pt x="0" y="298"/>
                </a:moveTo>
                <a:lnTo>
                  <a:pt x="0" y="0"/>
                </a:lnTo>
                <a:lnTo>
                  <a:pt x="61" y="0"/>
                </a:lnTo>
                <a:lnTo>
                  <a:pt x="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30320" y="4900680"/>
            <a:ext cx="2173320" cy="963720"/>
          </a:xfrm>
          <a:custGeom>
            <a:avLst/>
            <a:gdLst/>
            <a:ahLst/>
            <a:rect l="l" t="t" r="r" b="b"/>
            <a:pathLst>
              <a:path w="1369" h="607">
                <a:moveTo>
                  <a:pt x="1368" y="0"/>
                </a:moveTo>
                <a:lnTo>
                  <a:pt x="0" y="606"/>
                </a:lnTo>
                <a:lnTo>
                  <a:pt x="13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30320" y="5788080"/>
            <a:ext cx="123840" cy="76320"/>
          </a:xfrm>
          <a:custGeom>
            <a:avLst/>
            <a:gdLst/>
            <a:ahLst/>
            <a:rect l="l" t="t" r="r" b="b"/>
            <a:pathLst>
              <a:path w="78" h="48">
                <a:moveTo>
                  <a:pt x="77" y="33"/>
                </a:moveTo>
                <a:lnTo>
                  <a:pt x="0" y="47"/>
                </a:lnTo>
                <a:lnTo>
                  <a:pt x="61" y="0"/>
                </a:lnTo>
                <a:lnTo>
                  <a:pt x="77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24120" y="4900680"/>
            <a:ext cx="1039680" cy="963720"/>
          </a:xfrm>
          <a:custGeom>
            <a:avLst/>
            <a:gdLst/>
            <a:ahLst/>
            <a:rect l="l" t="t" r="r" b="b"/>
            <a:pathLst>
              <a:path w="655" h="607">
                <a:moveTo>
                  <a:pt x="654" y="0"/>
                </a:moveTo>
                <a:lnTo>
                  <a:pt x="0" y="606"/>
                </a:lnTo>
                <a:lnTo>
                  <a:pt x="65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24120" y="5759280"/>
            <a:ext cx="109440" cy="105120"/>
          </a:xfrm>
          <a:custGeom>
            <a:avLst/>
            <a:gdLst/>
            <a:ahLst/>
            <a:rect l="l" t="t" r="r" b="b"/>
            <a:pathLst>
              <a:path w="69" h="66">
                <a:moveTo>
                  <a:pt x="68" y="28"/>
                </a:moveTo>
                <a:lnTo>
                  <a:pt x="0" y="65"/>
                </a:lnTo>
                <a:lnTo>
                  <a:pt x="43" y="0"/>
                </a:lnTo>
                <a:lnTo>
                  <a:pt x="68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4040" y="4913280"/>
            <a:ext cx="1440" cy="963720"/>
          </a:xfrm>
          <a:custGeom>
            <a:avLst/>
            <a:gdLst/>
            <a:ahLst/>
            <a:rect l="l" t="t" r="r" b="b"/>
            <a:pathLst>
              <a:path w="1" h="607">
                <a:moveTo>
                  <a:pt x="0" y="0"/>
                </a:moveTo>
                <a:lnTo>
                  <a:pt x="0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03800" y="5756400"/>
            <a:ext cx="63360" cy="120600"/>
          </a:xfrm>
          <a:custGeom>
            <a:avLst/>
            <a:gdLst/>
            <a:ahLst/>
            <a:rect l="l" t="t" r="r" b="b"/>
            <a:pathLst>
              <a:path w="40" h="76">
                <a:moveTo>
                  <a:pt x="39" y="0"/>
                </a:moveTo>
                <a:lnTo>
                  <a:pt x="19" y="7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17960" y="4913280"/>
            <a:ext cx="1087560" cy="963720"/>
          </a:xfrm>
          <a:custGeom>
            <a:avLst/>
            <a:gdLst/>
            <a:ahLst/>
            <a:rect l="l" t="t" r="r" b="b"/>
            <a:pathLst>
              <a:path w="685" h="607">
                <a:moveTo>
                  <a:pt x="0" y="0"/>
                </a:moveTo>
                <a:lnTo>
                  <a:pt x="684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96080" y="5773680"/>
            <a:ext cx="109440" cy="103320"/>
          </a:xfrm>
          <a:custGeom>
            <a:avLst/>
            <a:gdLst/>
            <a:ahLst/>
            <a:rect l="l" t="t" r="r" b="b"/>
            <a:pathLst>
              <a:path w="69" h="65">
                <a:moveTo>
                  <a:pt x="24" y="0"/>
                </a:moveTo>
                <a:lnTo>
                  <a:pt x="68" y="64"/>
                </a:lnTo>
                <a:lnTo>
                  <a:pt x="0" y="28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478480" y="4913280"/>
            <a:ext cx="2197080" cy="951120"/>
          </a:xfrm>
          <a:custGeom>
            <a:avLst/>
            <a:gdLst/>
            <a:ahLst/>
            <a:rect l="l" t="t" r="r" b="b"/>
            <a:pathLst>
              <a:path w="1384" h="599">
                <a:moveTo>
                  <a:pt x="0" y="0"/>
                </a:moveTo>
                <a:lnTo>
                  <a:pt x="1383" y="5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553160" y="5788080"/>
            <a:ext cx="122400" cy="76320"/>
          </a:xfrm>
          <a:custGeom>
            <a:avLst/>
            <a:gdLst/>
            <a:ahLst/>
            <a:rect l="l" t="t" r="r" b="b"/>
            <a:pathLst>
              <a:path w="77" h="48">
                <a:moveTo>
                  <a:pt x="15" y="0"/>
                </a:moveTo>
                <a:lnTo>
                  <a:pt x="76" y="47"/>
                </a:lnTo>
                <a:lnTo>
                  <a:pt x="0" y="35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822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6080" y="5883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35872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6220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4488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4340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260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19920" y="591660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896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7236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64208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023320" y="5881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760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72700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55680" y="433872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07852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73600" y="456408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24240" y="456408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5788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419112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8420000">
            <a:off x="1664280" y="56844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8420000">
            <a:off x="33408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8420000">
            <a:off x="49410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18420000">
            <a:off x="65412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2T17:36:00Z</dcterms:modified>
  <cp:revision>893</cp:revision>
  <dc:subject/>
  <dc:title>CS186: Introduction to Database Systems</dc:title>
</cp:coreProperties>
</file>