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7DD51E-54DB-4F64-A208-0DEC5BFF3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547BDC-6319-4663-88AE-05A796810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DE7B82-25CC-4F50-ABD3-DA0AA0B08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29E32A-A5FD-4FB4-A0E8-77E24DE19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31E8EE-2378-490C-9FEC-823B0A217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E40B4C-F0D5-4B50-BE10-FBB934E1D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54273A-3922-4CDD-912B-6583AF6E3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5BD5F0-0555-4A61-A221-B98661652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C10E94-62B0-4081-ABAC-68164517C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952992-18ED-42FF-840C-E4D5BC6DE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BF8CE3-A2B5-431A-8D57-D6F299F2F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D56BCA-3B97-4937-B464-032EAF433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1EBDE9-4D96-408B-A98B-80A1672F6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E30150-87EB-44B9-B6CF-3FF80A32F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08BF71-4557-4C73-95C7-00BDF3173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929F1D-DDE4-4C8C-8CE6-96CD8AF5A9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90F0AF-45EF-4E56-9211-CF7B951CB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341C5F-31B0-44C1-BC8E-18D8E4A14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pass merge sort is like going from right to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BFBD46-EB04-4AD4-AD23-405531CAC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56CC68-B655-42E3-814C-D1073385D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FC78F9-3D14-43C7-B936-586C9D621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A3CC78-91BD-4ECA-8B6A-F32E05F64A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6A2DB4-31BC-410B-A81D-F16658940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E2B832-115B-46BA-BF04-E7593B181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A0FAD5-BBA4-4502-8D34-0717A1412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B6FFD1-CAAE-40A2-97C6-EB3CFFB9F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3B5DC1-3EC9-40F8-B688-C92B4CEDDF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E3A990-73D2-4C0A-8833-746E7C754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4A24CB-0901-4ED4-BF94-A36E4AFD7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73DC27-5CAD-4923-BD4C-4EC3FB5E6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EE53D7-44DA-44D5-B580-FC7FA7F27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C18-3760-4ABB-99FE-D8BAFE14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E81-73E8-470B-8BF1-68FB706E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CAC-E6D9-4F14-AEB9-3EADE8AC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E33-1496-4D60-8A07-2A3F310C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E8A-2C22-4CD5-B66F-51348928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4DA-A441-459C-B3BD-39ADE2FB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AE0-A705-45C2-8726-CC2EF079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1D7-2A34-4438-B3AA-9FEF9D17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F18C-4715-4FA1-8267-E39AA1D1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F2B-7416-434F-A86F-A2832E9D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83A-BAC3-41B8-9C5C-9FEF979D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92E-FEE4-4BB7-93D4-2CB87256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89AE-F418-4A3D-8A82-5E90A6150A8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B8B0-25EC-4E1F-A60C-FBE3B77F32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al v.s. Physical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s: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y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union, selection, project, join, group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operators: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y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nested loop join, sort-merge join, hash join, index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differences and relations between them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should we design the physical operator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5029200"/>
            <a:ext cx="712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ry execution has to do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implement physical operators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1ED-8E59-4C1A-AB19-CCD8537FB6C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1940E-58D7-4B99-A20B-671884DDC8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s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disk blocks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memory blocks available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I/O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ory requir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195-5E92-4380-AA34-A22D96FA46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EAC87-0987-478D-B2ED-74FC5E5212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ear sc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t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process the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elec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rojec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out duplicate elim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ick for selection: stop early if it is a lookup by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requirement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ounting the cost of writing the resul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e for any algorithm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ybe not needed—results may be pipelined into another opera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84D-1D55-4F9C-8A75-151A58F43C6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F5008-E746-442E-BD45-E8A4B14B80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 Ope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-loop join (brute for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-merge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d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836-D2AE-417C-AC53-0AFC01484EA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71D42-6A1C-4A54-8749-65D8557A7F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sted-loop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block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block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For each block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block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Outp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aluates to true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ou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inn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+ |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330066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requirement: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: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block-based nested-loop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ach block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for each block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For eac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, and for eac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: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) +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330066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requirement: same as bef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C42-3DA4-4360-9C54-667DFF5EBE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20DED-4C8D-4CF0-B739-FC2CED29C0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improvements of nested-loop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early if the key of the inner table is being ma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use of available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ff memory with as much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s possible, strea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y, and join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uple with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uples in memo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 +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/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– 2 )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e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Symbol"/>
                <a:ea typeface="Symbol"/>
              </a:rPr>
              <a:t>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roughly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330066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ory requirement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as much as possib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53B-AFA5-4C7D-9F35-8B55DE436E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752A9-906C-49D9-AF1E-D37C8CC79A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do we need nested-loop joi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best if many tuples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non-equality joins that are not very selec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for black-box pred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…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ser_defined_p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ABB-15E1-4D40-9AFB-D550D182E69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EE971-F70B-4E18-9EE0-B22D75EC95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rt-merge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their join attributes, and the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mer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first tuples in sor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until on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xhauste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ext tupl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ext tupl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all matching tuples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ext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orting + 2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 + 2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6F73-687D-4A5F-BB5A-8A860BC50F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3C4BC-A85A-469D-BB50-8E0FD02A22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2120" y="1981080"/>
            <a:ext cx="3124080" cy="228600"/>
            <a:chOff x="762120" y="1981080"/>
            <a:chExt cx="3124080" cy="228600"/>
          </a:xfrm>
        </p:grpSpPr>
        <p:sp>
          <p:nvSpPr>
            <p:cNvPr id="177" name=""/>
            <p:cNvSpPr/>
            <p:nvPr/>
          </p:nvSpPr>
          <p:spPr>
            <a:xfrm>
              <a:off x="762120" y="198108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5320" y="198108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62120" y="2514600"/>
            <a:ext cx="3124080" cy="228600"/>
            <a:chOff x="762120" y="2514600"/>
            <a:chExt cx="3124080" cy="228600"/>
          </a:xfrm>
        </p:grpSpPr>
        <p:sp>
          <p:nvSpPr>
            <p:cNvPr id="180" name=""/>
            <p:cNvSpPr/>
            <p:nvPr/>
          </p:nvSpPr>
          <p:spPr>
            <a:xfrm>
              <a:off x="762120" y="251460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05320" y="251460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505320" y="2971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066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62120" y="3429000"/>
            <a:ext cx="3124080" cy="762120"/>
            <a:chOff x="762120" y="3429000"/>
            <a:chExt cx="3124080" cy="762120"/>
          </a:xfrm>
        </p:grpSpPr>
        <p:sp>
          <p:nvSpPr>
            <p:cNvPr id="184" name=""/>
            <p:cNvSpPr/>
            <p:nvPr/>
          </p:nvSpPr>
          <p:spPr>
            <a:xfrm>
              <a:off x="762120" y="342900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96252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621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066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4197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066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8769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066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11680" y="1782720"/>
            <a:ext cx="84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meriGarmnd BT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508440" y="2265480"/>
            <a:ext cx="850320" cy="2116800"/>
            <a:chOff x="6508440" y="2265480"/>
            <a:chExt cx="850320" cy="2116800"/>
          </a:xfrm>
        </p:grpSpPr>
        <p:sp>
          <p:nvSpPr>
            <p:cNvPr id="191" name=""/>
            <p:cNvSpPr/>
            <p:nvPr/>
          </p:nvSpPr>
          <p:spPr>
            <a:xfrm>
              <a:off x="6511680" y="2265480"/>
              <a:ext cx="847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2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11680" y="2743200"/>
              <a:ext cx="847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2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08440" y="3243240"/>
              <a:ext cx="847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3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11680" y="3733560"/>
              <a:ext cx="847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3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508440" y="4221000"/>
            <a:ext cx="84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meriGarmnd BT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7 </a:t>
            </a:r>
            <a:r>
              <a:rPr b="0" i="1" lang="en-US" sz="32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659-16AA-47CC-A83C-351E124EC1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C064E-5E42-4F38-9C82-02F9F3A4BA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ation of SMJ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combine join with the merge phase of merge 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roduce sorted runs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erge and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erge the ru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erge the ru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merge-join the result streams as they are genera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038480" y="3890880"/>
            <a:ext cx="2355480" cy="2187000"/>
            <a:chOff x="4038480" y="3890880"/>
            <a:chExt cx="2355480" cy="2187000"/>
          </a:xfrm>
        </p:grpSpPr>
        <p:sp>
          <p:nvSpPr>
            <p:cNvPr id="199" name=""/>
            <p:cNvSpPr/>
            <p:nvPr/>
          </p:nvSpPr>
          <p:spPr>
            <a:xfrm>
              <a:off x="5029200" y="411480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29200" y="441972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9200" y="472428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25780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9200" y="556272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38480" y="426708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38480" y="453384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38480" y="482616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38480" y="537228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38480" y="567684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4254480"/>
              <a:ext cx="53316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559400"/>
              <a:ext cx="53316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334120" y="4559400"/>
              <a:ext cx="533160" cy="3045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34120" y="5397480"/>
              <a:ext cx="533160" cy="1652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334120" y="5562360"/>
              <a:ext cx="53316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77600" y="389088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er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79040" y="561816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er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31840" y="3433680"/>
            <a:ext cx="7083360" cy="3043440"/>
            <a:chOff x="231840" y="3433680"/>
            <a:chExt cx="7083360" cy="3043440"/>
          </a:xfrm>
        </p:grpSpPr>
        <p:sp>
          <p:nvSpPr>
            <p:cNvPr id="217" name=""/>
            <p:cNvSpPr/>
            <p:nvPr/>
          </p:nvSpPr>
          <p:spPr>
            <a:xfrm>
              <a:off x="4800600" y="3886200"/>
              <a:ext cx="2514600" cy="21337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31840" y="3598920"/>
              <a:ext cx="3882960" cy="2878200"/>
              <a:chOff x="231840" y="3598920"/>
              <a:chExt cx="3882960" cy="2878200"/>
            </a:xfrm>
          </p:grpSpPr>
          <p:sp>
            <p:nvSpPr>
              <p:cNvPr id="219" name=""/>
              <p:cNvSpPr/>
              <p:nvPr/>
            </p:nvSpPr>
            <p:spPr>
              <a:xfrm>
                <a:off x="1523880" y="3657600"/>
                <a:ext cx="2590920" cy="2819520"/>
              </a:xfrm>
              <a:prstGeom prst="can">
                <a:avLst>
                  <a:gd name="adj" fmla="val 12703"/>
                </a:avLst>
              </a:prstGeom>
              <a:noFill/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676520" y="4114800"/>
                <a:ext cx="2286000" cy="228600"/>
              </a:xfrm>
              <a:prstGeom prst="rect">
                <a:avLst/>
              </a:prstGeom>
              <a:solidFill>
                <a:srgbClr val="cccc00"/>
              </a:solid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676520" y="4419720"/>
                <a:ext cx="2286000" cy="228600"/>
              </a:xfrm>
              <a:prstGeom prst="rect">
                <a:avLst/>
              </a:prstGeom>
              <a:solidFill>
                <a:srgbClr val="cccc00"/>
              </a:solid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520" y="4724280"/>
                <a:ext cx="2286000" cy="228600"/>
              </a:xfrm>
              <a:prstGeom prst="rect">
                <a:avLst/>
              </a:prstGeom>
              <a:solidFill>
                <a:srgbClr val="cccc00"/>
              </a:solid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520" y="5257800"/>
                <a:ext cx="2286000" cy="228600"/>
              </a:xfrm>
              <a:prstGeom prst="rect">
                <a:avLst/>
              </a:prstGeom>
              <a:solidFill>
                <a:srgbClr val="cccc00"/>
              </a:solid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520" y="5562720"/>
                <a:ext cx="2286000" cy="228600"/>
              </a:xfrm>
              <a:prstGeom prst="rect">
                <a:avLst/>
              </a:prstGeom>
              <a:solidFill>
                <a:srgbClr val="cccc00"/>
              </a:solid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43000" y="411480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143000" y="5257800"/>
                <a:ext cx="228600" cy="5335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3680 h 533520"/>
                  <a:gd name="textAreaBottom" fmla="*/ 51984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rot="10800000">
                <a:off x="231120" y="4195800"/>
                <a:ext cx="546120" cy="17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meriGarmnd BT"/>
                  </a:rPr>
                  <a:t>Sorted ru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8240" y="435276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52760" y="529272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83920" y="359892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meriGarmnd BT"/>
                  </a:rPr>
                  <a:t>Dis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377320" y="343368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943600" y="4572000"/>
            <a:ext cx="1828800" cy="990720"/>
            <a:chOff x="5943600" y="4572000"/>
            <a:chExt cx="1828800" cy="990720"/>
          </a:xfrm>
        </p:grpSpPr>
        <p:sp>
          <p:nvSpPr>
            <p:cNvPr id="233" name=""/>
            <p:cNvSpPr/>
            <p:nvPr/>
          </p:nvSpPr>
          <p:spPr>
            <a:xfrm>
              <a:off x="6400800" y="5105520"/>
              <a:ext cx="4572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4572000"/>
              <a:ext cx="380880" cy="5335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943600" y="5105520"/>
              <a:ext cx="38088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34320" y="500364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21160" y="465300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Jo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8880" y="5105520"/>
              <a:ext cx="53352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BD5-EEB5-4E6E-B26C-675B055E9B7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8075B-E691-48E5-A19E-DFD2064AC4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Homework 4 is due next Monday (April 9</a:t>
            </a:r>
            <a:r>
              <a:rPr b="0" lang="en-US" sz="2800" spc="-1" strike="noStrike" baseline="30000">
                <a:solidFill>
                  <a:srgbClr val="330066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ip: avoid space using “_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123456789 John_smith 100_main M“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123456789 John smith 100 main 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C37-A4BD-4E77-9C7D-7B8649DE24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017DC-D132-4722-BCD1-9E133A9EBC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of two-pass SMJ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requ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be able to merge in one pass, we should have enough memory to accommodate one block from each run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&gt;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/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/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&gt; sqrt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 +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7DA-5A11-4B38-A8AB-2D8F9794843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FDFE3-C8BD-4DE8-B82D-1121FE790C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Operators that are supported by sort-based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(set), difference, inter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or less like SM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ion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rnal merge s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 duplicates in sort and 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rnal merge s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partial aggregate values in each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partial aggregate values during 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aggregate values don’t always work th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89680" y="5889600"/>
            <a:ext cx="53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Examples: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UM(DISTINCT </a:t>
            </a:r>
            <a:r>
              <a:rPr b="0" lang="en-US" sz="2000" spc="-1" strike="noStrike">
                <a:solidFill>
                  <a:srgbClr val="330066"/>
                </a:solidFill>
                <a:latin typeface="AmeriGarmnd BT"/>
              </a:rPr>
              <a:t>…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MEDIAN(</a:t>
            </a:r>
            <a:r>
              <a:rPr b="0" lang="en-US" sz="2000" spc="-1" strike="noStrike">
                <a:solidFill>
                  <a:srgbClr val="330066"/>
                </a:solidFill>
                <a:latin typeface="AmeriGarmnd BT"/>
              </a:rPr>
              <a:t>…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5F0-B792-4DFA-B5EC-687879BB92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8A5BD-F602-4E76-B1B4-39B6673E76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h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iti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y hashing their join attributes, and then consider corresponding partition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t hashed to different partitions, they don’t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96080" y="4440240"/>
            <a:ext cx="400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Nested-loop join consid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all 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32240" y="4124160"/>
            <a:ext cx="3590640" cy="2428920"/>
            <a:chOff x="1632240" y="4124160"/>
            <a:chExt cx="3590640" cy="2428920"/>
          </a:xfrm>
        </p:grpSpPr>
        <p:sp>
          <p:nvSpPr>
            <p:cNvPr id="248" name=""/>
            <p:cNvSpPr/>
            <p:nvPr/>
          </p:nvSpPr>
          <p:spPr>
            <a:xfrm>
              <a:off x="1690920" y="4540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70400" y="4921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33720" y="4538520"/>
              <a:ext cx="7596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86000" y="4540320"/>
              <a:ext cx="76320" cy="7596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08280" y="4540320"/>
              <a:ext cx="76320" cy="7596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16480" y="4537080"/>
              <a:ext cx="7596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57600" y="453384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52880" y="454176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81080" y="472428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81080" y="502920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5105520"/>
              <a:ext cx="76320" cy="7596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03560" y="4286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06840" y="4286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16680" y="4286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54760" y="4286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64240" y="4286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22480" y="4572000"/>
              <a:ext cx="3200400" cy="198108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31960" y="4572000"/>
              <a:ext cx="0" cy="19810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65480" y="4572000"/>
              <a:ext cx="0" cy="19810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03560" y="4572000"/>
              <a:ext cx="0" cy="19810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89360" y="4572000"/>
              <a:ext cx="0" cy="19810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22480" y="4952880"/>
              <a:ext cx="3200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22480" y="5257800"/>
              <a:ext cx="3200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22480" y="5791320"/>
              <a:ext cx="3200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22480" y="6172200"/>
              <a:ext cx="3200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76520" y="412416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32240" y="52671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0400" y="5486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0400" y="5759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90920" y="6140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81080" y="541008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81080" y="548640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81080" y="564984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81080" y="594360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022480" y="4572000"/>
            <a:ext cx="7371000" cy="1981080"/>
            <a:chOff x="2022480" y="4572000"/>
            <a:chExt cx="7371000" cy="1981080"/>
          </a:xfrm>
        </p:grpSpPr>
        <p:sp>
          <p:nvSpPr>
            <p:cNvPr id="283" name=""/>
            <p:cNvSpPr/>
            <p:nvPr/>
          </p:nvSpPr>
          <p:spPr>
            <a:xfrm>
              <a:off x="4956120" y="5186520"/>
              <a:ext cx="443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Hash join consider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nly those along the diag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22480" y="4572000"/>
              <a:ext cx="609480" cy="38088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31960" y="4952880"/>
              <a:ext cx="533520" cy="3049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65480" y="5257800"/>
              <a:ext cx="838080" cy="5335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03560" y="5791320"/>
              <a:ext cx="685800" cy="38088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89360" y="6172200"/>
              <a:ext cx="533520" cy="38088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A11-D677-4CBD-B89A-D0E2F346684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F64A6-ED86-4E64-B6B5-46EC4CFE61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tioning ph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the same hash function on their joi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69960" y="2900520"/>
            <a:ext cx="6492960" cy="3131280"/>
            <a:chOff x="669960" y="2900520"/>
            <a:chExt cx="6492960" cy="3131280"/>
          </a:xfrm>
        </p:grpSpPr>
        <p:sp>
          <p:nvSpPr>
            <p:cNvPr id="292" name=""/>
            <p:cNvSpPr/>
            <p:nvPr/>
          </p:nvSpPr>
          <p:spPr>
            <a:xfrm>
              <a:off x="4598280" y="5324400"/>
              <a:ext cx="253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– 1 partitions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02000" y="342900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02000" y="373392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02000" y="403848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33920" y="355608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72000" y="2971800"/>
              <a:ext cx="2590920" cy="2819520"/>
            </a:xfrm>
            <a:prstGeom prst="can">
              <a:avLst>
                <a:gd name="adj" fmla="val 12703"/>
              </a:avLst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24280" y="342900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24280" y="373392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24280" y="403848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34340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31680" y="29131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71600" y="3352680"/>
              <a:ext cx="2514600" cy="21337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48320" y="290052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33920" y="384804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415296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02000" y="434340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33920" y="445788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0200" y="388620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841400" y="3556080"/>
              <a:ext cx="1447920" cy="3808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1841400" y="3860280"/>
              <a:ext cx="1447920" cy="1270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41400" y="4038480"/>
              <a:ext cx="1447920" cy="1270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41400" y="4089240"/>
              <a:ext cx="1447920" cy="3812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66680" y="4000680"/>
              <a:ext cx="4572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3080" y="376884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9960" y="5572080"/>
              <a:ext cx="17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Same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24280" y="502920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02000" y="502920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33920" y="514368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3223800" y="45338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6200000">
              <a:off x="5573160" y="455940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28800" y="4102200"/>
              <a:ext cx="1447920" cy="10666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87C-91AB-4076-A766-6C30239BB4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27503-B0C0-4893-843D-9046F1C5BA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ing ph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each parti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tream in the corresponding parti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ly build a hash table for the partition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he same hash function used for partition, of cour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85760" y="3357720"/>
            <a:ext cx="7815240" cy="3195000"/>
            <a:chOff x="185760" y="3357720"/>
            <a:chExt cx="7815240" cy="3195000"/>
          </a:xfrm>
        </p:grpSpPr>
        <p:sp>
          <p:nvSpPr>
            <p:cNvPr id="326" name=""/>
            <p:cNvSpPr/>
            <p:nvPr/>
          </p:nvSpPr>
          <p:spPr>
            <a:xfrm>
              <a:off x="5410080" y="3962160"/>
              <a:ext cx="2286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15000" y="3962160"/>
              <a:ext cx="2286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8800" y="3428640"/>
              <a:ext cx="2590920" cy="3124080"/>
            </a:xfrm>
            <a:prstGeom prst="can">
              <a:avLst>
                <a:gd name="adj" fmla="val 10671"/>
              </a:avLst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81080" y="3822480"/>
              <a:ext cx="22860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81080" y="4127400"/>
              <a:ext cx="22860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4736880"/>
              <a:ext cx="22860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88480" y="33699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57800" y="3809880"/>
              <a:ext cx="2514600" cy="21330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34520" y="335772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6400" y="5486040"/>
              <a:ext cx="2286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81080" y="5257440"/>
              <a:ext cx="22860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81080" y="5562360"/>
              <a:ext cx="22860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81080" y="6171840"/>
              <a:ext cx="22860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0000">
              <a:off x="468000" y="3839400"/>
              <a:ext cx="911880" cy="14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parti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23880" y="3809880"/>
              <a:ext cx="228600" cy="1142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2640"/>
                <a:gd name="textAreaBottom" fmla="*/ 111312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468000" y="5287320"/>
              <a:ext cx="911880" cy="14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parti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23880" y="5257440"/>
              <a:ext cx="228600" cy="1142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2640"/>
                <a:gd name="textAreaBottom" fmla="*/ 111312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962160"/>
              <a:ext cx="2286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24480" y="3962160"/>
              <a:ext cx="2286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2829960" y="43239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6200000">
              <a:off x="2829960" y="577188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76840" y="38127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10280" y="3962160"/>
              <a:ext cx="2286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15200" y="4800240"/>
              <a:ext cx="2286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343400" y="4114080"/>
              <a:ext cx="990720" cy="1141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343400" y="5562360"/>
              <a:ext cx="1066680" cy="1267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0520" y="3752640"/>
              <a:ext cx="70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05600" y="5186160"/>
              <a:ext cx="102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87920" y="4267080"/>
              <a:ext cx="533520" cy="1142640"/>
            </a:xfrm>
            <a:custGeom>
              <a:avLst/>
              <a:gdLst/>
              <a:ahLst/>
              <a:rect l="l" t="t" r="r" b="b"/>
              <a:pathLst>
                <a:path w="288" h="720">
                  <a:moveTo>
                    <a:pt x="0" y="720"/>
                  </a:moveTo>
                  <a:cubicBezTo>
                    <a:pt x="96" y="588"/>
                    <a:pt x="192" y="456"/>
                    <a:pt x="240" y="336"/>
                  </a:cubicBezTo>
                  <a:cubicBezTo>
                    <a:pt x="288" y="216"/>
                    <a:pt x="288" y="108"/>
                    <a:pt x="288" y="0"/>
                  </a:cubicBezTo>
                </a:path>
              </a:pathLst>
            </a:custGeom>
            <a:noFill/>
            <a:ln w="38160">
              <a:solidFill>
                <a:srgbClr val="33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72200" y="4393800"/>
              <a:ext cx="1066680" cy="533160"/>
            </a:xfrm>
            <a:custGeom>
              <a:avLst/>
              <a:gdLst/>
              <a:ahLst/>
              <a:rect l="l" t="t" r="r" b="b"/>
              <a:pathLst>
                <a:path w="672" h="336">
                  <a:moveTo>
                    <a:pt x="0" y="0"/>
                  </a:moveTo>
                  <a:cubicBezTo>
                    <a:pt x="40" y="92"/>
                    <a:pt x="80" y="184"/>
                    <a:pt x="192" y="240"/>
                  </a:cubicBezTo>
                  <a:cubicBezTo>
                    <a:pt x="304" y="296"/>
                    <a:pt x="488" y="316"/>
                    <a:pt x="672" y="336"/>
                  </a:cubicBezTo>
                </a:path>
              </a:pathLst>
            </a:custGeom>
            <a:noFill/>
            <a:ln w="38160">
              <a:solidFill>
                <a:srgbClr val="33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91240" y="5094000"/>
              <a:ext cx="215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For each S tuple,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probe and jo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20120" y="4914720"/>
              <a:ext cx="3808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CCD-421B-4B8B-AA50-0C16614941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4EC22-0BBE-4DA8-8BA8-EB7AB3466B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of hash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requir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 probing phase, we should have enough memory to fit one partition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– 1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¸</a:t>
            </a:r>
            <a:r>
              <a:rPr b="0" lang="en-US" sz="2600" spc="-1" strike="noStrike">
                <a:solidFill>
                  <a:srgbClr val="330066"/>
                </a:solidFill>
                <a:latin typeface="MS Shell Dlg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/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– 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&gt; sqrt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can always pick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be the smaller relation, so:</a:t>
            </a:r>
            <a:br>
              <a:rPr sz="2600"/>
            </a:b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&gt; sqrt(min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375-85A2-4183-B583-57609FC5EF7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FDBB5-C62B-49D4-8D1D-45C8020CA7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h join tri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a partition is too large for mem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it back in and partition it agai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the duality in multi-pass merge sort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33520" y="3200400"/>
            <a:ext cx="7848360" cy="2819520"/>
            <a:chOff x="533520" y="3200400"/>
            <a:chExt cx="7848360" cy="2819520"/>
          </a:xfrm>
        </p:grpSpPr>
        <p:sp>
          <p:nvSpPr>
            <p:cNvPr id="363" name=""/>
            <p:cNvSpPr/>
            <p:nvPr/>
          </p:nvSpPr>
          <p:spPr>
            <a:xfrm>
              <a:off x="6095880" y="472428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76720" y="403848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76720" y="434340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76720" y="464832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76720" y="495288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520" y="4114800"/>
              <a:ext cx="2286000" cy="9907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5880" y="4876920"/>
              <a:ext cx="2286000" cy="7596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95880" y="502920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8148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95880" y="320040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95880" y="335268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95880" y="3505320"/>
              <a:ext cx="2286000" cy="7596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95880" y="365760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95880" y="3962520"/>
              <a:ext cx="2286000" cy="7596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095880" y="411480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95880" y="426708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95880" y="4419720"/>
              <a:ext cx="2286000" cy="7596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548640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95880" y="563868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95880" y="5791320"/>
              <a:ext cx="2286000" cy="7596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5880" y="594360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19520" y="4622760"/>
              <a:ext cx="3808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26080" y="4622760"/>
              <a:ext cx="3808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C74-0BE1-4253-930C-5B0154D6D8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A8234-7D2D-4DBA-BA06-22E2BE8F63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h join versus SMJ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ssuming two-p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’s: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requirement: hash join is 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qrt(min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) &lt; sqrt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h join wins when two relations have very different siz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h join performance depends on the quality of the ha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ght not get evenly sized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J can be adapted for inequality join predic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J wins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/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already sor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J wins if the result needs to be in sorted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327-4973-470B-B64D-A69BE4B7E2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96A4D-AE0C-451C-8FE0-E999B0A43F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hash-based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(set), difference, inter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or less like hash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eck for duplicates within each partition/buc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ly the hash functions to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uples in the same group must end up in the same partition/buc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a running aggregate value for each 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8A6-3F65-4FF0-890C-2497EE8B87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E08CB-E582-4CFC-97DD-B01F02B2CB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ality of sort and ha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-and-conquer paradig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rting: physical division, logical comb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hing: logical division, physical comb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very large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rting: multi-level mer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hing: recursive partitio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rting: sequential write, random read (merg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hing: random write, sequential read (parti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B8A-6E36-48F6-B803-3BE6FA79E0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7815D-6727-446F-8BAC-CC32F20770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ternal merge s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1, 7, 4, 5, 2, 8, 3, 6, 9  (block capacity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, 7, 4 → 1, 4, 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, 2, 8 → 2, 5,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9, 6, 3 → 3, 6,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, 4, 7 + 2, 5, 8 → 1, 2, 4, 5, 7,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, 6,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2 (f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, 2, 4, 5, 7, 8 + 3, 6, 9 → 1, 2, 3, 4, 5, 6, 7, 8,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BBB-79F2-49A9-B818-7719B602C5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10CF0-0202-428B-9C3C-629DB1610A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 using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ity predicate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an ISAM,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, or hash index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predicate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&gt;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an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ord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dex (e.g., ISAM or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)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h index is not applic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s other than those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ay be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 index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about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 index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793-1257-4A8D-9156-4CC5F680F9E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2C825-562A-41F1-9FD9-25B3A61277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versus table sc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tions where index clearly w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Index-only que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do not require retrieving actual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&gt;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index clustered according to search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lookup leads to all result tuples in their entire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389-7528-4A3D-9631-C37EE35328D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E056D-D6FD-4636-82FE-C2070588E9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versus table scan (cont’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(!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&gt;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condary, non-clustered index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follow pointers to get the actual result tu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y that 20%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atisfi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happen even for equality pred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/O’s for index-based selection: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lookup + 20% 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/O’s for scan-based selection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 scan wins if a block contains more than 5 tu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332-E641-4790-8D73-A4202DDC664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B20D0-DC08-476F-90BA-2D0DA9B58C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nested-loop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use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probe the index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block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block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Use the index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retrie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Outp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 + 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· (index loo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ly, the cost of an index lookup is 2-4 I/O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ats other join methods if |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 is not too b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tter pick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be the smaller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requirement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78A-C63E-4337-8CBF-60297E2B07C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B1F6A-FE5C-448D-A55D-0C8B4253C3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g-zag join using ordered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27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use the ordering provided by the indexes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eliminate the sorting step of sort-merge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: use the larger key to probe the other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sibly skipping many keys that don’t m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52480" y="4038480"/>
            <a:ext cx="5639040" cy="2590560"/>
            <a:chOff x="1752480" y="4038480"/>
            <a:chExt cx="5639040" cy="2590560"/>
          </a:xfrm>
        </p:grpSpPr>
        <p:sp>
          <p:nvSpPr>
            <p:cNvPr id="403" name=""/>
            <p:cNvSpPr/>
            <p:nvPr/>
          </p:nvSpPr>
          <p:spPr>
            <a:xfrm>
              <a:off x="1752480" y="4038480"/>
              <a:ext cx="5639040" cy="685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meriGarmnd BT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-tree o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52480" y="5942880"/>
              <a:ext cx="5639040" cy="685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meriGarmnd BT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-tree o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623600" y="472932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23600" y="549108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295280" y="4800600"/>
            <a:ext cx="381240" cy="990720"/>
            <a:chOff x="1295280" y="4800600"/>
            <a:chExt cx="381240" cy="990720"/>
          </a:xfrm>
        </p:grpSpPr>
        <p:sp>
          <p:nvSpPr>
            <p:cNvPr id="408" name=""/>
            <p:cNvSpPr/>
            <p:nvPr/>
          </p:nvSpPr>
          <p:spPr>
            <a:xfrm>
              <a:off x="1295280" y="480060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95280" y="556272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209680" y="4800600"/>
            <a:ext cx="381240" cy="990720"/>
            <a:chOff x="2209680" y="4800600"/>
            <a:chExt cx="381240" cy="990720"/>
          </a:xfrm>
        </p:grpSpPr>
        <p:sp>
          <p:nvSpPr>
            <p:cNvPr id="411" name=""/>
            <p:cNvSpPr/>
            <p:nvPr/>
          </p:nvSpPr>
          <p:spPr>
            <a:xfrm>
              <a:off x="2209680" y="556272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09680" y="480060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952880" y="48006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330066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124080" y="4800600"/>
            <a:ext cx="3124440" cy="990720"/>
            <a:chOff x="3124080" y="4800600"/>
            <a:chExt cx="3124440" cy="990720"/>
          </a:xfrm>
        </p:grpSpPr>
        <p:sp>
          <p:nvSpPr>
            <p:cNvPr id="415" name=""/>
            <p:cNvSpPr/>
            <p:nvPr/>
          </p:nvSpPr>
          <p:spPr>
            <a:xfrm>
              <a:off x="3124080" y="556272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67280" y="480060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038480" y="4800600"/>
            <a:ext cx="3124440" cy="990720"/>
            <a:chOff x="4038480" y="4800600"/>
            <a:chExt cx="3124440" cy="990720"/>
          </a:xfrm>
        </p:grpSpPr>
        <p:sp>
          <p:nvSpPr>
            <p:cNvPr id="418" name=""/>
            <p:cNvSpPr/>
            <p:nvPr/>
          </p:nvSpPr>
          <p:spPr>
            <a:xfrm>
              <a:off x="6781680" y="480060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38480" y="556272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781680" y="55627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330066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B7A-3059-4201-850C-62448EDF40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739AC-E270-40CA-B606-F268EA86BF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tri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, duplicate-preserving projection, nested-loop jo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rnal merge sort, sort-merge join, union (set), difference, intersection, duplicate elimination, GROUP BY and aggreg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h join, union (set), difference, intersection, duplicate elimination, GROUP BY and aggreg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, index nested-loop join, zig-zag jo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03B-CEC5-4A0E-8050-D74C993B4EF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5DA5C-19A3-49E7-9DF0-4E0A0E6A17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and Relational 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 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: 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gister (Sid: string, Cid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 name, cid FROM Student, Regis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Student.Sid = Register.S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name, ci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.sid = R.si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BC6-3663-4051-B77B-EB1FAB3FED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3C8A8-D18E-45CA-BBC7-440C4E9481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ion: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jection: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oss product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fference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naming 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200" spc="-1" strike="noStrike" baseline="-50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200" spc="-1" strike="noStrike" baseline="-50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, …)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577-8C31-471C-89BA-45D3F1E53F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BFAEC-361F-4779-BE34-2751A006BF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implement the following SQL qu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d: 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ame: string, GPA: flo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* FROM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GPA &gt; 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S.GPA&gt;3.0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4191120"/>
          <a:ext cx="6397560" cy="1492200"/>
        </p:xfrm>
        <a:graphic>
          <a:graphicData uri="http://schemas.openxmlformats.org/drawingml/2006/table">
            <a:tbl>
              <a:tblPr/>
              <a:tblGrid>
                <a:gridCol w="1189080"/>
                <a:gridCol w="1528560"/>
                <a:gridCol w="1925640"/>
                <a:gridCol w="175428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p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t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Range 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#match pg*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+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#match pg*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3BF-F994-43EC-8408-6F3FB4ACEF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45052-F600-4A16-A695-26050FB3FC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DBMS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2760" y="4129200"/>
            <a:ext cx="4205520" cy="1393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88960" y="3595680"/>
            <a:ext cx="2286000" cy="406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88960" y="472284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88960" y="528804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5880240"/>
            <a:ext cx="2133720" cy="520560"/>
          </a:xfrm>
          <a:prstGeom prst="can">
            <a:avLst>
              <a:gd name="adj" fmla="val 25000"/>
            </a:avLst>
          </a:prstGeom>
          <a:solidFill>
            <a:srgbClr val="9900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68560" y="2003400"/>
            <a:ext cx="213444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09000" y="2959200"/>
            <a:ext cx="1250640" cy="6426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ging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68920" y="3063960"/>
            <a:ext cx="152352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24360" y="4419720"/>
            <a:ext cx="1206720" cy="6508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4384800"/>
            <a:ext cx="1366920" cy="6508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43720" y="50418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90440" y="914400"/>
            <a:ext cx="46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Web Forms/Applications/D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17440" y="1703520"/>
            <a:ext cx="8737560" cy="9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7440" y="5811840"/>
            <a:ext cx="8737560" cy="9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57520" y="1373040"/>
            <a:ext cx="0" cy="509760"/>
          </a:xfrm>
          <a:prstGeom prst="line">
            <a:avLst/>
          </a:prstGeom>
          <a:ln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97120" y="13669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48400" y="1384200"/>
            <a:ext cx="0" cy="509760"/>
          </a:xfrm>
          <a:prstGeom prst="line">
            <a:avLst/>
          </a:prstGeom>
          <a:ln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6920" y="137808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11280" y="3032280"/>
            <a:ext cx="2286000" cy="406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Opti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246852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Re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11280" y="190512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88960" y="415908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s &amp; Acce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920" y="2835360"/>
            <a:ext cx="1565280" cy="1050840"/>
            <a:chOff x="34920" y="2835360"/>
            <a:chExt cx="1565280" cy="1050840"/>
          </a:xfrm>
        </p:grpSpPr>
        <p:sp>
          <p:nvSpPr>
            <p:cNvPr id="128" name=""/>
            <p:cNvSpPr/>
            <p:nvPr/>
          </p:nvSpPr>
          <p:spPr>
            <a:xfrm>
              <a:off x="34920" y="2835360"/>
              <a:ext cx="133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Today’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le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36576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09E-22B6-4A76-AA17-7E8E9497E41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A1F38-F696-4516-AD55-D94F5DEBEE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7960" y="228240"/>
            <a:ext cx="6107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Query T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528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91360" y="31528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31528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528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79920" y="350532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96120" y="350532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51400" y="2440080"/>
            <a:ext cx="1800" cy="56016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51400" y="1512720"/>
            <a:ext cx="1800" cy="513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22280" y="394488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7880" y="392904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1840" y="320040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01360" y="2133720"/>
            <a:ext cx="276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urbana’ </a:t>
            </a:r>
            <a:r>
              <a:rPr b="1" lang="en-US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ge &lt;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86360" y="122400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,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39040" y="207324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07360" y="106668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7840" y="1523880"/>
            <a:ext cx="3799800" cy="179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P.buyer, P.i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    Purchase P, Person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  P.buyer=Q.nam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urbana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age &lt;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6600" y="1782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393048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Query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plan (declar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plan (procedu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implementation of each logical ope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ing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884480" y="3048120"/>
            <a:ext cx="4260600" cy="1668600"/>
            <a:chOff x="4884480" y="3048120"/>
            <a:chExt cx="4260600" cy="1668600"/>
          </a:xfrm>
        </p:grpSpPr>
        <p:sp>
          <p:nvSpPr>
            <p:cNvPr id="150" name=""/>
            <p:cNvSpPr/>
            <p:nvPr/>
          </p:nvSpPr>
          <p:spPr>
            <a:xfrm>
              <a:off x="7472520" y="3048120"/>
              <a:ext cx="1672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(Si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nested loo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84480" y="434844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89600" y="434844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267080" y="2133720"/>
            <a:ext cx="533520" cy="257040"/>
          </a:xfrm>
          <a:prstGeom prst="rightArrow">
            <a:avLst>
              <a:gd name="adj1" fmla="val 50000"/>
              <a:gd name="adj2" fmla="val 5189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40480" y="9255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3C2-930A-493E-965E-8EFDB4CF178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BE79E-196E-40E1-8553-4531F4AAF6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implement the query processing unit in a DB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gical and physical ope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ion, Proj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 ope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, Difference, Inter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7DF-91DA-40D4-A5A9-F22427EED6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DBC1A-9286-439C-AB7B-95CA0B2A12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04T21:48:18Z</dcterms:modified>
  <cp:revision>934</cp:revision>
  <dc:subject/>
  <dc:title>CS186: Introduction to Database Systems</dc:title>
</cp:coreProperties>
</file>