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73696B-497D-41F7-B564-B35966F079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748531-01D1-4E83-9C97-3C5B9D90A4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9854-E3DD-4162-AA5F-33360F6C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EDD-59CB-449B-A684-8DAC77B8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68CB-8926-473B-902F-88196411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DE3-EBE3-4663-BA02-B81E337E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A9C-15C0-45CA-8C6D-F650CC09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3C2A-4988-48DB-B16C-2AA8C535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1156-62EF-48A3-910F-0C6B2012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0467-443C-412E-B4EE-9E8E01CA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FD4E-C70E-490A-AEDA-7EAEF69D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388E-B408-4652-B426-96B1AD42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482B-51CE-4259-BD86-4CF62D80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3C71-6D6A-4FD9-A890-68F20FDF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5438-8EC1-438D-93CD-769E15DA3C0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4BCC-CE67-403C-8A23-4928895818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Project is d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y 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Presenting t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rian Phagan and Niki Heggest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mer Adra and Ben K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odrew Ozor and Adam Doyl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chael Neth and Alex Thomps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mantha Coo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incent Buhr, Michael R. Ri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yan and Gorkem Sevin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5-09T11:28:30Z</dcterms:modified>
  <cp:revision>1161</cp:revision>
  <dc:subject/>
  <dc:title>CS186: Introduction to Database Systems</dc:title>
</cp:coreProperties>
</file>