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3CEF28-347D-4915-8ED3-9D5EF1753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B86154-5811-4C3F-A627-CCE6CFB58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9B891B-BE46-4B98-8D9A-C96BCC7AC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FA1B02-5B0F-4DBE-B54B-A885D48DC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E83589-5E33-4433-AF7A-4AA8801D6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82C05B-C20A-4028-BA41-75745AFC2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424CB9-B437-4D8C-A771-75ACC353B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5DBED6-EF9C-4ACC-8811-B7CDD65CE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033F35-FE17-46BA-AB37-75570A95C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AA65CA-3328-4FA4-A72D-35EF8525A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3EB474-7182-4DF4-8840-DCB0749DD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6901A1-699C-482B-8B13-706ED1E96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D05-1AFE-4409-8EC2-93460D2F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B3F-2151-4823-9E04-410B20C8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C36-1C0D-4011-AB13-EE1402BA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F6D-EF47-47BB-A03A-B1558B43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464-DBB8-48ED-A3F4-D0A62B1A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AA2-8934-4813-AE48-A13D7809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D37-9E53-4FA9-B5EA-0FB2D039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6E1-CF21-47B8-8021-924381F5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FAB4-A742-4FC9-922C-D0724254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D33-82B7-4D68-B177-6D37F34D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F67-2A4D-4762-B1EC-3F7C5B8C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B4E-B96F-40C2-99CA-BBAB5673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F31B-DE1D-4B6C-97A5-573D29C1E77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24F1-9B53-46F2-BA3C-5F25FE65C3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7762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quence of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log 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recording all changes made to the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ten to stable storage (e.g., disk) during normal op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d in recov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y, one change turns into two—bad fo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 writes are sequential (append to the end of lo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use dedicated disk(s) to improve 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F32-B32B-4326-911F-BFCFA9C1C8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5282A-D819-402A-AB40-29F2332D93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o/redo logg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values before and after each modification: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old_value_of_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ew_value_of_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mitted when its commit log record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commit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written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Write-ahead log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W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Bef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odified on disk, the log record pertain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WAL, system might crash aft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modified on disk but before its log record is written to disk—no way to u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No 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transaction can commit even if its modified memory blocks have not be written to disk (since redo information is logg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St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dified memory blocks can be flushed to disk anytime (since undo information is logg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E59-A867-4884-A1F6-2E10B05955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FDAE4-02EB-4E43-AD84-9C83B68C9A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o/redo loggin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560" y="1771560"/>
            <a:ext cx="32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read(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;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–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0640" y="217980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write(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000" y="2560680"/>
            <a:ext cx="33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read(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;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+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720" y="294156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write(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39360" y="247824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4600" y="285912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653080" y="2473200"/>
            <a:ext cx="1202760" cy="459720"/>
            <a:chOff x="5653080" y="2473200"/>
            <a:chExt cx="1202760" cy="459720"/>
          </a:xfrm>
        </p:grpSpPr>
        <p:sp>
          <p:nvSpPr>
            <p:cNvPr id="158" name=""/>
            <p:cNvSpPr/>
            <p:nvPr/>
          </p:nvSpPr>
          <p:spPr>
            <a:xfrm flipV="1">
              <a:off x="5653080" y="2544840"/>
              <a:ext cx="609840" cy="3045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3840" y="24732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7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53080" y="2854440"/>
            <a:ext cx="1202760" cy="459720"/>
            <a:chOff x="5653080" y="2854440"/>
            <a:chExt cx="1202760" cy="459720"/>
          </a:xfrm>
        </p:grpSpPr>
        <p:sp>
          <p:nvSpPr>
            <p:cNvPr id="161" name=""/>
            <p:cNvSpPr/>
            <p:nvPr/>
          </p:nvSpPr>
          <p:spPr>
            <a:xfrm flipV="1">
              <a:off x="5653080" y="2926080"/>
              <a:ext cx="609840" cy="3045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3840" y="28544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348600" y="4124160"/>
            <a:ext cx="16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star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7400" y="4505400"/>
            <a:ext cx="207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meriGarmnd BT"/>
              </a:rPr>
              <a:t>800, 700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62640" y="4886280"/>
            <a:ext cx="209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meriGarmnd BT"/>
              </a:rPr>
              <a:t>400, 500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9080" y="5267160"/>
            <a:ext cx="203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commi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19560" y="1935000"/>
            <a:ext cx="1905120" cy="137160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115200" y="1219320"/>
            <a:ext cx="595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(balance transfer of $100 from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809880"/>
            <a:ext cx="1905120" cy="15242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96440" y="190512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29680" y="442908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14920" y="48099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12440" y="3780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41600" y="371304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3733920"/>
            <a:ext cx="2210040" cy="2361960"/>
          </a:xfrm>
          <a:prstGeom prst="can">
            <a:avLst>
              <a:gd name="adj" fmla="val 16666"/>
            </a:avLst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1920" y="4424400"/>
            <a:ext cx="4404240" cy="912600"/>
            <a:chOff x="1141920" y="4424400"/>
            <a:chExt cx="4404240" cy="912600"/>
          </a:xfrm>
        </p:grpSpPr>
        <p:grpSp>
          <p:nvGrpSpPr>
            <p:cNvPr id="177" name=""/>
            <p:cNvGrpSpPr/>
            <p:nvPr/>
          </p:nvGrpSpPr>
          <p:grpSpPr>
            <a:xfrm>
              <a:off x="4343400" y="4424400"/>
              <a:ext cx="1202760" cy="459720"/>
              <a:chOff x="4343400" y="4424400"/>
              <a:chExt cx="1202760" cy="45972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4343400" y="4496040"/>
                <a:ext cx="609840" cy="30456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44160" y="44244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66"/>
                    </a:solidFill>
                    <a:latin typeface="AmeriGarmnd BT"/>
                  </a:rPr>
                  <a:t>7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141920" y="4511520"/>
              <a:ext cx="233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Steal: can flush</a:t>
              </a:r>
              <a:br>
                <a:rPr sz="2400"/>
              </a:b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before comm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51640" y="32767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45160" y="4805280"/>
            <a:ext cx="3501000" cy="1430280"/>
            <a:chOff x="2045160" y="4805280"/>
            <a:chExt cx="3501000" cy="1430280"/>
          </a:xfrm>
        </p:grpSpPr>
        <p:grpSp>
          <p:nvGrpSpPr>
            <p:cNvPr id="183" name=""/>
            <p:cNvGrpSpPr/>
            <p:nvPr/>
          </p:nvGrpSpPr>
          <p:grpSpPr>
            <a:xfrm>
              <a:off x="4343400" y="4805280"/>
              <a:ext cx="1202760" cy="459720"/>
              <a:chOff x="4343400" y="4805280"/>
              <a:chExt cx="1202760" cy="45972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4343400" y="4876920"/>
                <a:ext cx="609840" cy="30456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44160" y="480528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66"/>
                    </a:solidFill>
                    <a:latin typeface="AmeriGarmnd BT"/>
                  </a:rPr>
                  <a:t>5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045160" y="5410080"/>
              <a:ext cx="286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No force: can flush</a:t>
              </a:r>
              <a:br>
                <a:rPr sz="2400"/>
              </a:b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after comm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-370800" y="6248520"/>
            <a:ext cx="89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No restriction on when memory blocks can/should be flu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FCE-BA9A-49DB-807A-86507E1DB8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23800-C732-42DF-8E08-625B09D83C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es recovery st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 accepting new transactions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(lame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ish all active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 database du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zzy checkpo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set of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currently active transac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log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begin-checkpoint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ush all blocks (dirty at the time of the checkpoint) at your lei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end-checkpoint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begin-checkpoint_location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ween begin and end, continue processing old and new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485-FE1E-416C-957F-2BEDD8582C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EBE91-3CC5-4EB4-8C3C-0406B227E0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: analysis and redo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determ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set of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active transactions at time of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log backward to find the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last end-checkpoint 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ollow the pointer to find the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orresponding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start-checkpoin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,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for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at start-checkpoint to end of the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log record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start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log record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commit | abort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mo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log record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ol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ew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issue write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Basically repeats histor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A1C-A96F-4487-B0C8-49742B7FAF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BA17F-9D43-4836-8A4A-32396017BE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: undo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log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o the effects of transaction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for each log record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ol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new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issue writ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and log this operation too (part of the repeating-history paradig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abort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n all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ve been und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06C-CA75-43BC-AAA4-2355F66D0F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EA208-BAD7-4CDF-98BF-704480F367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ial schedule: no interle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flict-serializable schedule: no cycles in the precedence graph; equivalent to a serial sched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PL: guarantees a conflict-serializable sched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 2PL: also guarantees recover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: undo/redo logging with fuzzy check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rmal operation: write-ahead logging, no force, st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very: first redo (forward), and then undo (backwor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F70-DBB3-493A-B69A-F9372C49C3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AF818-1B21-4F88-9A80-DC2354784B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urvey is scheduled on April 23rd at 4 pm. Class will stop at 4p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graduating seniors are encouraged to participate the surve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stud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fe is tough, so deal with it rather than abandon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B25-0A12-4E9C-B0E8-D82BDD8697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A91B1-4CA0-4C1D-9C9D-22C126DBE7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ampus jo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Molecular Graphics and Modeling Laboratory is recruiting a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on-line database applications for chemical informa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terested, contact Gerry Lushington (glushington at ku dot ed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LTEC center is recruiting a studen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database application development promoting efficient lear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information, see KU job ID 00008869 or contact Marilyn Ault (mault at altec dot 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178-AC25-49FC-88B2-63729D1624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C3295-12AF-4AC6-9225-D9DF7104E1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Transaction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Concurrency with 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2133720"/>
          <a:ext cx="8305920" cy="370836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c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ver-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dlo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v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ct 2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ct 2PL with prior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28600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30481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39625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95288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E12-7DDA-4CE9-B3F2-29A01FE41A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4A6F8-C020-4568-84A6-94AA5EED15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est for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ase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 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equest for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o not release locks until commit/ab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 2PL with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Handled by lock mana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ay abort certain transaction in hold-and-wait sit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2C1-EF33-4545-B589-2F8D348DEF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24F2A-17AB-4831-AC5B-E1678D3ACA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sh Recover techniq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62F-012D-4963-B26A-89EFDB5667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54076-6C01-4774-B93E-DECC0AD474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actions may abort (“Rollback”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DBMS stops running?  (Causes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42320" y="3462480"/>
            <a:ext cx="109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Book Antiqua"/>
              </a:rPr>
              <a:t>cras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2680"/>
            <a:ext cx="4495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ired state after system rest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&amp;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3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hould be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u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Book Antiqua"/>
              </a:rPr>
              <a:t>T2, T4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&amp; </a:t>
            </a:r>
            <a:r>
              <a:rPr b="0" lang="en-US" sz="2400" spc="-1" strike="noStrike">
                <a:solidFill>
                  <a:srgbClr val="cccc00"/>
                </a:solidFill>
                <a:latin typeface="Book Antiqua"/>
              </a:rPr>
              <a:t>T5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ould be </a:t>
            </a:r>
            <a:r>
              <a:rPr b="0" lang="en-US" sz="2400" spc="-1" strike="noStrike">
                <a:solidFill>
                  <a:srgbClr val="cccc00"/>
                </a:solidFill>
                <a:latin typeface="Book Antiqua"/>
              </a:rPr>
              <a:t>aborte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effects not se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8120" y="3800520"/>
            <a:ext cx="5245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48440" y="3997440"/>
            <a:ext cx="1136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11840" y="4299120"/>
            <a:ext cx="113508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35560" y="4681440"/>
            <a:ext cx="1136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16680" y="5054760"/>
            <a:ext cx="3390840" cy="0"/>
          </a:xfrm>
          <a:prstGeom prst="line">
            <a:avLst/>
          </a:prstGeom>
          <a:ln w="507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8640" y="5367240"/>
            <a:ext cx="762120" cy="0"/>
          </a:xfrm>
          <a:prstGeom prst="line">
            <a:avLst/>
          </a:prstGeom>
          <a:ln w="507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5960" y="4011480"/>
            <a:ext cx="0" cy="1573200"/>
          </a:xfrm>
          <a:prstGeom prst="line">
            <a:avLst/>
          </a:prstGeom>
          <a:ln w="5076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2880" y="396396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10160" y="396396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86280" y="4264200"/>
            <a:ext cx="0" cy="680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72480" y="4264200"/>
            <a:ext cx="0" cy="680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73720" y="464652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5040" y="464652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13440" y="501984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23080" y="533088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402000"/>
            <a:ext cx="4483080" cy="22734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81120" y="40813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2080" y="37767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6480" y="44625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dling Fail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es in the middle of a transa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partial effec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writte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do we und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tomi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es right after a transa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its; not all effec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writte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do we comple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durabil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561-2240-42B1-BA77-813CFBA07A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9F6C1-7BE4-4D3D-9B7B-39F16D7C4D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ïve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en a transaction commits, all writes of this transaction must be reflected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force, if system crashes right aft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mits, effect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ll be l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: Lots of random writes hurt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No st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rites of a transaction can only be flushed to disk at com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steal, if system crashes befo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mits but after some writ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ve been flushed to disk, there is no way to undo these wri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: Holding on to all dirty blocks requires lots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877-B6ED-49C8-9983-A0E1D8D167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CCE21-A361-4890-B1C6-D6A586305C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18T21:00:14Z</dcterms:modified>
  <cp:revision>1050</cp:revision>
  <dc:subject/>
  <dc:title>CS186: Introduction to Database Systems</dc:title>
</cp:coreProperties>
</file>