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B24466-E105-4F85-9286-39ABF48D6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BF0D00-9542-4027-AD37-9D4743F33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3A5F68-8A10-42F7-BC0D-D79FE4687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B5F227-A8C5-4010-87EF-341A92726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F5D8E7-F3E0-4732-91CC-708D338EA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7B2387-17E7-4812-978E-02BE008E0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A45804-A4CB-4EC3-B6DE-BC087D283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4F4E0B-4C35-4E57-8C7D-73E2E5051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FFB5C3-764B-453A-9451-5D2DD0429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E1C205-A8E7-4BFC-AC1B-358E81649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587050-0F80-43DE-B90F-6D5D10CFB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7EA4C1-BC37-46FC-8C88-5DFD24357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C79B92-64D0-4827-8426-63A200BF4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343886-88D0-4007-8EB8-8B5D273CF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first-order lo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9298CF-FAFA-40BF-B7AC-8C66E8E32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69D3E7-0B45-4E97-9C88-101186AE5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1D4DBC-44CF-41C7-A890-0B0395758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603612-F4F1-4BAC-BA0E-D2A48DC71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060-AA6C-45B2-BB34-25611717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73C-4995-4FC2-9FC2-92B290F8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775-40D1-44B8-B915-35570B57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4DC-A48C-4146-9611-F8EDD960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4F1-D055-4DC1-AC44-8FE3D30D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3DE-3685-4309-BCCC-4B099C09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600-E211-414B-8D27-964955D7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01C-CA3D-459F-8851-E584CB69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358-716B-45D2-8062-70CBF6E5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D03-FF9B-4DF4-BC4E-2D0AF5A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329-53BC-4DA4-B841-72E21C87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F1D-670A-4C1E-A45A-ABBD8EA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1663-7092-4164-ABD9-4F7B7F2A33A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3791-AF56-464F-81A2-7D668AA7AF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ople.eecs.ku.edu/~jhuan/EECS647/schedule.html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648320"/>
            <a:ext cx="1784520" cy="1687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9720" y="4743360"/>
            <a:ext cx="1590480" cy="1519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22520" y="468324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66840" y="4959000"/>
            <a:ext cx="914400" cy="609120"/>
            <a:chOff x="1266840" y="4959000"/>
            <a:chExt cx="914400" cy="609120"/>
          </a:xfrm>
        </p:grpSpPr>
        <p:grpSp>
          <p:nvGrpSpPr>
            <p:cNvPr id="97" name=""/>
            <p:cNvGrpSpPr/>
            <p:nvPr/>
          </p:nvGrpSpPr>
          <p:grpSpPr>
            <a:xfrm>
              <a:off x="1266840" y="4959000"/>
              <a:ext cx="913680" cy="609120"/>
              <a:chOff x="1266840" y="4959000"/>
              <a:chExt cx="913680" cy="609120"/>
            </a:xfrm>
          </p:grpSpPr>
          <p:sp>
            <p:nvSpPr>
              <p:cNvPr id="98" name=""/>
              <p:cNvSpPr/>
              <p:nvPr/>
            </p:nvSpPr>
            <p:spPr>
              <a:xfrm>
                <a:off x="1266840" y="4959360"/>
                <a:ext cx="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1266840" y="4959000"/>
                <a:ext cx="91368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267560" y="4959000"/>
              <a:ext cx="913680" cy="609120"/>
              <a:chOff x="1267560" y="4959000"/>
              <a:chExt cx="913680" cy="609120"/>
            </a:xfrm>
          </p:grpSpPr>
          <p:sp>
            <p:nvSpPr>
              <p:cNvPr id="101" name=""/>
              <p:cNvSpPr/>
              <p:nvPr/>
            </p:nvSpPr>
            <p:spPr>
              <a:xfrm>
                <a:off x="2181240" y="4959360"/>
                <a:ext cx="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1267560" y="4959000"/>
                <a:ext cx="91368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1319400" y="5011560"/>
            <a:ext cx="79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in Lisa’s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 of Students in Lisa’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_Lis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meriGarmnd BT"/>
              </a:rPr>
              <a:t>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 = “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meriGarmnd BT"/>
              </a:rPr>
              <a:t>Lisa”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a_Enrolled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_Lis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a’s classe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a_Enro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ment in Lisa’s class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a’s class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in Lisa’s cla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rollment in Lisa’s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52240" y="3063960"/>
            <a:ext cx="20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Stud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Lisa’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43360" y="3276720"/>
            <a:ext cx="2358000" cy="1906920"/>
            <a:chOff x="3843360" y="3276720"/>
            <a:chExt cx="2358000" cy="1906920"/>
          </a:xfrm>
        </p:grpSpPr>
        <p:sp>
          <p:nvSpPr>
            <p:cNvPr id="162" name=""/>
            <p:cNvSpPr/>
            <p:nvPr/>
          </p:nvSpPr>
          <p:spPr>
            <a:xfrm>
              <a:off x="4975200" y="460224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43120" y="397368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843360" y="4484520"/>
              <a:ext cx="1743120" cy="270000"/>
              <a:chOff x="3843360" y="4484520"/>
              <a:chExt cx="1743120" cy="27000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3843360" y="4484520"/>
                <a:ext cx="752400" cy="270000"/>
              </a:xfrm>
              <a:prstGeom prst="line">
                <a:avLst/>
              </a:prstGeom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34080" y="4484520"/>
                <a:ext cx="752400" cy="270000"/>
              </a:xfrm>
              <a:prstGeom prst="line">
                <a:avLst/>
              </a:prstGeom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4234320" y="3276720"/>
              <a:ext cx="835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02320" y="3886200"/>
              <a:ext cx="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82480" y="4525920"/>
            <a:ext cx="4112280" cy="1800720"/>
            <a:chOff x="1482480" y="4525920"/>
            <a:chExt cx="4112280" cy="1800720"/>
          </a:xfrm>
        </p:grpSpPr>
        <p:sp>
          <p:nvSpPr>
            <p:cNvPr id="170" name=""/>
            <p:cNvSpPr/>
            <p:nvPr/>
          </p:nvSpPr>
          <p:spPr>
            <a:xfrm>
              <a:off x="4368600" y="574524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68320" y="520380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730600" y="563868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02200" y="563868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89760" y="452592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0760" y="510552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572000"/>
              <a:ext cx="202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isa’s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182600" y="5425920"/>
            <a:ext cx="2632680" cy="1433880"/>
            <a:chOff x="1182600" y="5425920"/>
            <a:chExt cx="2632680" cy="1433880"/>
          </a:xfrm>
        </p:grpSpPr>
        <p:sp>
          <p:nvSpPr>
            <p:cNvPr id="178" name=""/>
            <p:cNvSpPr/>
            <p:nvPr/>
          </p:nvSpPr>
          <p:spPr>
            <a:xfrm>
              <a:off x="2097720" y="627840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92520" y="5638680"/>
              <a:ext cx="1922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63720" y="6172200"/>
              <a:ext cx="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2600" y="542592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ho’s Lis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B75-FB72-47D2-9330-3BF3CADF44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CDFF5-BB88-4E40-8014-2743F0764C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in R. 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emporary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reign keys to join t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9E2-DC63-4BDF-8F69-68B5B40716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8EA37-4440-46C5-8B14-0EA2D89AAD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of students in Lisa’s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80920" y="2987640"/>
            <a:ext cx="20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Stud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Lisa’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5840" y="1752480"/>
            <a:ext cx="5205960" cy="2059200"/>
            <a:chOff x="3885840" y="1752480"/>
            <a:chExt cx="5205960" cy="2059200"/>
          </a:xfrm>
        </p:grpSpPr>
        <p:sp>
          <p:nvSpPr>
            <p:cNvPr id="188" name=""/>
            <p:cNvSpPr/>
            <p:nvPr/>
          </p:nvSpPr>
          <p:spPr>
            <a:xfrm>
              <a:off x="7522560" y="323028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68280" y="253656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885840" y="2971800"/>
              <a:ext cx="184140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11520" y="2971800"/>
              <a:ext cx="184140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21320" y="1752480"/>
              <a:ext cx="107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6320" y="2361960"/>
              <a:ext cx="0" cy="3812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26560" y="182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heir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271680" y="3200400"/>
            <a:ext cx="2358000" cy="1906920"/>
            <a:chOff x="3271680" y="3200400"/>
            <a:chExt cx="2358000" cy="1906920"/>
          </a:xfrm>
        </p:grpSpPr>
        <p:sp>
          <p:nvSpPr>
            <p:cNvPr id="196" name=""/>
            <p:cNvSpPr/>
            <p:nvPr/>
          </p:nvSpPr>
          <p:spPr>
            <a:xfrm>
              <a:off x="4403520" y="452592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71440" y="389736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271680" y="4408200"/>
              <a:ext cx="1743120" cy="270000"/>
              <a:chOff x="3271680" y="4408200"/>
              <a:chExt cx="1743120" cy="27000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3271680" y="4408200"/>
                <a:ext cx="752400" cy="270000"/>
              </a:xfrm>
              <a:prstGeom prst="line">
                <a:avLst/>
              </a:prstGeom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62400" y="4408200"/>
                <a:ext cx="752400" cy="270000"/>
              </a:xfrm>
              <a:prstGeom prst="line">
                <a:avLst/>
              </a:prstGeom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662640" y="3200400"/>
              <a:ext cx="835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30640" y="3809880"/>
              <a:ext cx="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10800" y="4449600"/>
            <a:ext cx="4112280" cy="1800720"/>
            <a:chOff x="910800" y="4449600"/>
            <a:chExt cx="4112280" cy="1800720"/>
          </a:xfrm>
        </p:grpSpPr>
        <p:sp>
          <p:nvSpPr>
            <p:cNvPr id="204" name=""/>
            <p:cNvSpPr/>
            <p:nvPr/>
          </p:nvSpPr>
          <p:spPr>
            <a:xfrm>
              <a:off x="3796920" y="566892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96640" y="512748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158920" y="556236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30520" y="556236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18080" y="444960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59080" y="502920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10800" y="4495680"/>
              <a:ext cx="202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isa’s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120960" y="5334120"/>
            <a:ext cx="3364920" cy="1449360"/>
            <a:chOff x="-120960" y="5334120"/>
            <a:chExt cx="3364920" cy="1449360"/>
          </a:xfrm>
        </p:grpSpPr>
        <p:sp>
          <p:nvSpPr>
            <p:cNvPr id="212" name=""/>
            <p:cNvSpPr/>
            <p:nvPr/>
          </p:nvSpPr>
          <p:spPr>
            <a:xfrm>
              <a:off x="1526760" y="620208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21200" y="5562360"/>
              <a:ext cx="1922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2040" y="609588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120960" y="533412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ho’s Lis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8ED-50DC-4C5F-87C2-BEA2DABC209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F3CC9-42C2-44FC-AE2F-EB83AE3C42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Minus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D’s of the courses that Lisa is NOT t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14760" y="2163600"/>
            <a:ext cx="5970960" cy="1575000"/>
            <a:chOff x="1814760" y="2163600"/>
            <a:chExt cx="5970960" cy="1575000"/>
          </a:xfrm>
        </p:grpSpPr>
        <p:sp>
          <p:nvSpPr>
            <p:cNvPr id="219" name=""/>
            <p:cNvSpPr/>
            <p:nvPr/>
          </p:nvSpPr>
          <p:spPr>
            <a:xfrm>
              <a:off x="4777920" y="2590920"/>
              <a:ext cx="300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ID’s of the course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that Lisa IS ta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4760" y="259092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ll CID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8000" y="216360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18680" y="2585880"/>
              <a:ext cx="1600200" cy="11480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47840" y="2590920"/>
              <a:ext cx="1600200" cy="11476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410480" y="3505320"/>
            <a:ext cx="1424160" cy="1419480"/>
            <a:chOff x="1410480" y="3505320"/>
            <a:chExt cx="1424160" cy="1419480"/>
          </a:xfrm>
        </p:grpSpPr>
        <p:sp>
          <p:nvSpPr>
            <p:cNvPr id="225" name=""/>
            <p:cNvSpPr/>
            <p:nvPr/>
          </p:nvSpPr>
          <p:spPr>
            <a:xfrm>
              <a:off x="1674720" y="350532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33720" y="4114800"/>
              <a:ext cx="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10480" y="4343400"/>
              <a:ext cx="142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924000" y="3505320"/>
            <a:ext cx="3846960" cy="3084840"/>
            <a:chOff x="3924000" y="3505320"/>
            <a:chExt cx="3846960" cy="3084840"/>
          </a:xfrm>
        </p:grpSpPr>
        <p:sp>
          <p:nvSpPr>
            <p:cNvPr id="229" name=""/>
            <p:cNvSpPr/>
            <p:nvPr/>
          </p:nvSpPr>
          <p:spPr>
            <a:xfrm>
              <a:off x="3924000" y="517032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4040" y="600876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73360" y="432432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535640" y="4759200"/>
              <a:ext cx="838080" cy="6098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07240" y="4759200"/>
              <a:ext cx="838080" cy="6098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48200" y="5064120"/>
              <a:ext cx="1922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45320" y="5597640"/>
              <a:ext cx="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0040" y="350532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38680" y="4114800"/>
              <a:ext cx="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40C-9345-4B71-B5F8-A532CE3855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9911E-030D-488D-8FE1-AD58B2FCEB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ming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Enrolled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1,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Grade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Enr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2257560"/>
          <a:ext cx="2514600" cy="10951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943600" y="2209680"/>
          <a:ext cx="2514600" cy="109548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2971800" y="2514600"/>
            <a:ext cx="2971800" cy="838080"/>
            <a:chOff x="2971800" y="2514600"/>
            <a:chExt cx="2971800" cy="838080"/>
          </a:xfrm>
        </p:grpSpPr>
        <p:sp>
          <p:nvSpPr>
            <p:cNvPr id="243" name=""/>
            <p:cNvSpPr/>
            <p:nvPr/>
          </p:nvSpPr>
          <p:spPr>
            <a:xfrm>
              <a:off x="3733920" y="251460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05320" y="2514600"/>
              <a:ext cx="20574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0066"/>
                  </a:solidFill>
                  <a:latin typeface="Symbol"/>
                  <a:ea typeface="Symbol"/>
                </a:rPr>
                <a:t></a:t>
              </a:r>
              <a:r>
                <a:rPr b="0" i="1" lang="en-US" sz="2000" spc="-1" strike="noStrike" baseline="-25000">
                  <a:solidFill>
                    <a:srgbClr val="330066"/>
                  </a:solidFill>
                  <a:latin typeface="Times New Roman"/>
                </a:rPr>
                <a:t>Enroll</a:t>
              </a:r>
              <a:r>
                <a:rPr b="0" lang="en-US" sz="2000" spc="-1" strike="noStrike" baseline="-25000">
                  <a:solidFill>
                    <a:srgbClr val="330066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SID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1, 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CID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1,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Grade1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71800" y="2971800"/>
              <a:ext cx="838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2895480"/>
              <a:ext cx="6858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36D-3CE5-4F7E-8668-CA2505495A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038D5-C6B8-4B2B-B9A1-3EEA24E560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e following relationa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department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charac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students who take at least two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Enroll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361960" y="4191120"/>
            <a:ext cx="5181840" cy="304560"/>
            <a:chOff x="2361960" y="4191120"/>
            <a:chExt cx="5181840" cy="304560"/>
          </a:xfrm>
        </p:grpSpPr>
        <p:sp>
          <p:nvSpPr>
            <p:cNvPr id="250" name=""/>
            <p:cNvSpPr/>
            <p:nvPr/>
          </p:nvSpPr>
          <p:spPr>
            <a:xfrm>
              <a:off x="2362320" y="4191120"/>
              <a:ext cx="51814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361960" y="4191120"/>
              <a:ext cx="51814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FFE-C5BF-4E12-8F27-B29A6689D8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8CAC4-5EBC-487F-B3B3-90895133E1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(cont.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Grade1) Enr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Grade2) Enr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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 =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2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meriGarmnd BT"/>
              </a:rPr>
              <a:t> C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meriGarmnd BT"/>
              </a:rPr>
              <a:t>C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0600" y="4457880"/>
            <a:ext cx="8452440" cy="1419120"/>
            <a:chOff x="300600" y="4457880"/>
            <a:chExt cx="8452440" cy="1419120"/>
          </a:xfrm>
        </p:grpSpPr>
        <p:sp>
          <p:nvSpPr>
            <p:cNvPr id="255" name=""/>
            <p:cNvSpPr/>
            <p:nvPr/>
          </p:nvSpPr>
          <p:spPr>
            <a:xfrm>
              <a:off x="300600" y="4457880"/>
              <a:ext cx="335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cmmi10"/>
                </a:rPr>
                <a:t>½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Enroll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(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, 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C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,Grade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2680" y="4457880"/>
              <a:ext cx="342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cmmi10"/>
                </a:rPr>
                <a:t>½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Enroll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(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, 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C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, Grade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4920" y="529560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0066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49720" y="529560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0066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470240" y="5036760"/>
              <a:ext cx="0" cy="3805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499440" y="5036760"/>
              <a:ext cx="0" cy="3805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00080" y="2666880"/>
            <a:ext cx="5203440" cy="2095200"/>
            <a:chOff x="1900080" y="2666880"/>
            <a:chExt cx="5203440" cy="2095200"/>
          </a:xfrm>
        </p:grpSpPr>
        <p:sp>
          <p:nvSpPr>
            <p:cNvPr id="262" name=""/>
            <p:cNvSpPr/>
            <p:nvPr/>
          </p:nvSpPr>
          <p:spPr>
            <a:xfrm>
              <a:off x="3898800" y="3474720"/>
              <a:ext cx="3204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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 = 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 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cmsy10"/>
                </a:rPr>
                <a:t>Æ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 C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 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Symbol"/>
                  <a:ea typeface="Symbol"/>
                </a:rPr>
                <a:t>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C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00080" y="4076280"/>
              <a:ext cx="2438280" cy="6858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4490640" y="4076280"/>
              <a:ext cx="2438640" cy="6858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27240" y="2666880"/>
              <a:ext cx="97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14680" y="3246120"/>
              <a:ext cx="0" cy="5335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-163440" y="3094200"/>
            <a:ext cx="46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Expression tree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E44-091E-42E8-B8DA-8218E39977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14CE4-0116-4358-B3DC-82589AD77D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in R. 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arison is to identify a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01D-3471-427D-9A9E-54B3AF0A05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D00A7-CD5E-4D3C-91BB-B9C9C7BE59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ickier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has the highest GP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has a GP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does NOT have the highest GP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se GPA is lower than somebody else’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410120" y="3505320"/>
            <a:ext cx="1569240" cy="1419480"/>
            <a:chOff x="1410120" y="3505320"/>
            <a:chExt cx="1569240" cy="1419480"/>
          </a:xfrm>
        </p:grpSpPr>
        <p:sp>
          <p:nvSpPr>
            <p:cNvPr id="273" name=""/>
            <p:cNvSpPr/>
            <p:nvPr/>
          </p:nvSpPr>
          <p:spPr>
            <a:xfrm>
              <a:off x="1666440" y="3505320"/>
              <a:ext cx="835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33720" y="4114800"/>
              <a:ext cx="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10120" y="434340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209680" y="2743200"/>
            <a:ext cx="3438720" cy="1066680"/>
            <a:chOff x="2209680" y="2743200"/>
            <a:chExt cx="3438720" cy="1066680"/>
          </a:xfrm>
        </p:grpSpPr>
        <p:sp>
          <p:nvSpPr>
            <p:cNvPr id="277" name=""/>
            <p:cNvSpPr/>
            <p:nvPr/>
          </p:nvSpPr>
          <p:spPr>
            <a:xfrm>
              <a:off x="3798000" y="274320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209680" y="3165480"/>
              <a:ext cx="1609920" cy="6444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8480" y="3165480"/>
              <a:ext cx="1609920" cy="6444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859200" y="3505320"/>
            <a:ext cx="3790800" cy="3142080"/>
            <a:chOff x="3859200" y="3505320"/>
            <a:chExt cx="3790800" cy="3142080"/>
          </a:xfrm>
        </p:grpSpPr>
        <p:sp>
          <p:nvSpPr>
            <p:cNvPr id="281" name=""/>
            <p:cNvSpPr/>
            <p:nvPr/>
          </p:nvSpPr>
          <p:spPr>
            <a:xfrm>
              <a:off x="6080760" y="606600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572000" y="4816440"/>
              <a:ext cx="83808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3600" y="4816440"/>
              <a:ext cx="83808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5654520"/>
              <a:ext cx="0" cy="6098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94480" y="606276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95760" y="5651640"/>
              <a:ext cx="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9200" y="5105520"/>
              <a:ext cx="1427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68880" y="5105520"/>
              <a:ext cx="1427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36400" y="4267080"/>
              <a:ext cx="342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1.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GPA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&lt; 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2.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GP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35440" y="3505320"/>
              <a:ext cx="1830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1.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15000" y="4114800"/>
              <a:ext cx="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0600" y="5349960"/>
            <a:ext cx="44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A deeper question: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hen (and why) is “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”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07BA-CE87-4B68-AE7C-E85E38FE18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C543C-F71C-4A8C-B494-8156F315BF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tone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2793600"/>
            <a:ext cx="86104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ome old output rows may need to be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the operator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n-monot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the operator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old output rows always remain “correct” when more rows are added to the in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ly, for a monotone opera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’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implies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’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362320" y="1295280"/>
            <a:ext cx="4419000" cy="914400"/>
            <a:chOff x="2362320" y="1295280"/>
            <a:chExt cx="4419000" cy="914400"/>
          </a:xfrm>
        </p:grpSpPr>
        <p:sp>
          <p:nvSpPr>
            <p:cNvPr id="296" name=""/>
            <p:cNvSpPr/>
            <p:nvPr/>
          </p:nvSpPr>
          <p:spPr>
            <a:xfrm>
              <a:off x="3809880" y="1371600"/>
              <a:ext cx="152352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03640" y="15332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l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362320" y="1295280"/>
              <a:ext cx="990360" cy="914400"/>
              <a:chOff x="2362320" y="1295280"/>
              <a:chExt cx="99036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362320" y="1295280"/>
                <a:ext cx="990360" cy="91440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62320" y="1447560"/>
                <a:ext cx="990360" cy="76212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82280" y="1295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12400" y="1295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96000" y="1295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362320" y="159984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62320" y="175248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62320" y="190476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62320" y="205704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429000" y="1752480"/>
              <a:ext cx="3805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5790960" y="1371600"/>
              <a:ext cx="990360" cy="761760"/>
              <a:chOff x="5790960" y="1371600"/>
              <a:chExt cx="990360" cy="761760"/>
            </a:xfrm>
          </p:grpSpPr>
          <p:sp>
            <p:nvSpPr>
              <p:cNvPr id="310" name=""/>
              <p:cNvSpPr/>
              <p:nvPr/>
            </p:nvSpPr>
            <p:spPr>
              <a:xfrm>
                <a:off x="5790960" y="1371600"/>
                <a:ext cx="990360" cy="76176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90960" y="1523520"/>
                <a:ext cx="990360" cy="6094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11280" y="1371600"/>
                <a:ext cx="0" cy="7617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360480" y="1371600"/>
                <a:ext cx="0" cy="7617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52720" y="1371600"/>
                <a:ext cx="0" cy="7617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90960" y="167616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90960" y="182844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90960" y="198072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333760" y="175248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17720" y="1925640"/>
            <a:ext cx="3234960" cy="825480"/>
            <a:chOff x="117720" y="1925640"/>
            <a:chExt cx="3234960" cy="825480"/>
          </a:xfrm>
        </p:grpSpPr>
        <p:grpSp>
          <p:nvGrpSpPr>
            <p:cNvPr id="320" name=""/>
            <p:cNvGrpSpPr/>
            <p:nvPr/>
          </p:nvGrpSpPr>
          <p:grpSpPr>
            <a:xfrm>
              <a:off x="2362320" y="2209680"/>
              <a:ext cx="990360" cy="304920"/>
              <a:chOff x="2362320" y="2209680"/>
              <a:chExt cx="990360" cy="304920"/>
            </a:xfrm>
          </p:grpSpPr>
          <p:sp>
            <p:nvSpPr>
              <p:cNvPr id="321" name=""/>
              <p:cNvSpPr/>
              <p:nvPr/>
            </p:nvSpPr>
            <p:spPr>
              <a:xfrm>
                <a:off x="2362320" y="2209680"/>
                <a:ext cx="990360" cy="30492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62320" y="236232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577960" y="2209680"/>
                <a:ext cx="0" cy="304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21040" y="2209680"/>
                <a:ext cx="0" cy="304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98880" y="2209680"/>
                <a:ext cx="0" cy="304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117720" y="1925640"/>
              <a:ext cx="269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Add more row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to the input...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676920" y="1316160"/>
            <a:ext cx="22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hat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to the out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A22-1DE5-4ABC-8AFF-DAD616FB33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D0544-1952-4BA4-BFBB-4267C32557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ome background survey is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1 is posted online at the class web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ttp://people.eecs.ku.edu/~jhuan/EECS647/assignments.ht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3pm Feb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all receive your PostgreSQL passw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it asap and if you run into problems, let me know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F19-B6C0-4447-886D-DB203F1869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98354-A743-4E96-80A4-BB6699C3FA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cation of relational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29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product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join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\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627360" y="1066320"/>
            <a:ext cx="513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tone w.r.t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non-monotone w.r.t </a:t>
            </a:r>
            <a:r>
              <a:rPr b="0" i="1" lang="en-US" sz="20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17B-14EE-4646-B99E-D0990D4739E5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F470A-2327-4A72-80D5-FF25299868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“</a:t>
            </a:r>
            <a:r>
              <a:rPr b="1" lang="en-US" sz="3200" spc="-1" strike="noStrike">
                <a:solidFill>
                  <a:srgbClr val="000000"/>
                </a:solidFill>
                <a:latin typeface="cmsy10"/>
              </a:rPr>
              <a:t>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needed for highest GP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of monotone operators produces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onotone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ld output rows remain “correct” when more rows are added to the in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-GPA query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n-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highest GPA is 4.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another GPA 4.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ld answer is invalid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it must use differe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912-F1CC-4297-B467-AE6E1BF514F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EF645-2F27-40B0-92F4-55EC7F1DE9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we need core operat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nly operator that adds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nly non-monotone oper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nly operator that allows you to add row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? Proj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6F8-6A25-48CD-962E-2892FF5EE0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5F455-B667-471C-8B19-56872C3647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D2F-34EA-45B1-B357-26FD547E72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35D0A-1D6C-4DF1-9ED3-4DC7B5EE24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eft) Outer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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pairs rows from two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for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p satisfies, output a row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concatenation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wise, output a row r with NU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 and full outer join are defined simi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467080" y="1773360"/>
            <a:ext cx="75960" cy="199800"/>
            <a:chOff x="2467080" y="1773360"/>
            <a:chExt cx="75960" cy="199800"/>
          </a:xfrm>
        </p:grpSpPr>
        <p:sp>
          <p:nvSpPr>
            <p:cNvPr id="340" name=""/>
            <p:cNvSpPr/>
            <p:nvPr/>
          </p:nvSpPr>
          <p:spPr>
            <a:xfrm>
              <a:off x="2467080" y="1773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67080" y="19731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D8B-3790-4EC9-BB97-DEA0F11003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9F166-6493-4632-94A1-D1F4B9566A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 Joi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Employee 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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id = M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14400" y="1752480"/>
          <a:ext cx="228600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105520" y="1676520"/>
          <a:ext cx="2514600" cy="1095120"/>
        </p:xfrm>
        <a:graphic>
          <a:graphicData uri="http://schemas.openxmlformats.org/drawingml/2006/table">
            <a:tbl>
              <a:tblPr/>
              <a:tblGrid>
                <a:gridCol w="533160"/>
                <a:gridCol w="83844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1523880" y="3720960"/>
          <a:ext cx="5562720" cy="1460520"/>
        </p:xfrm>
        <a:graphic>
          <a:graphicData uri="http://schemas.openxmlformats.org/drawingml/2006/table">
            <a:tbl>
              <a:tblPr/>
              <a:tblGrid>
                <a:gridCol w="868320"/>
                <a:gridCol w="1874880"/>
                <a:gridCol w="83844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7" name=""/>
          <p:cNvGrpSpPr/>
          <p:nvPr/>
        </p:nvGrpSpPr>
        <p:grpSpPr>
          <a:xfrm>
            <a:off x="3200400" y="2209680"/>
            <a:ext cx="1905120" cy="1524240"/>
            <a:chOff x="3200400" y="2209680"/>
            <a:chExt cx="1905120" cy="1524240"/>
          </a:xfrm>
        </p:grpSpPr>
        <p:grpSp>
          <p:nvGrpSpPr>
            <p:cNvPr id="348" name=""/>
            <p:cNvGrpSpPr/>
            <p:nvPr/>
          </p:nvGrpSpPr>
          <p:grpSpPr>
            <a:xfrm>
              <a:off x="3200400" y="2209680"/>
              <a:ext cx="1905120" cy="1524240"/>
              <a:chOff x="3200400" y="2209680"/>
              <a:chExt cx="1905120" cy="152424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3276720" y="2666880"/>
                <a:ext cx="1752480" cy="838440"/>
                <a:chOff x="3276720" y="2666880"/>
                <a:chExt cx="1752480" cy="8384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352680" y="2666880"/>
                  <a:ext cx="1524240" cy="83844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381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276720" y="2819520"/>
                  <a:ext cx="1752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0066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dbsym"/>
                      <a:ea typeface="dbsym"/>
                    </a:rPr>
                    <a:t></a:t>
                  </a:r>
                  <a:r>
                    <a:rPr b="0" i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Eid = Mi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3200400" y="2286000"/>
                <a:ext cx="533520" cy="5335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572000" y="2209680"/>
                <a:ext cx="533520" cy="5335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14800" y="3429000"/>
                <a:ext cx="0" cy="304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352680" y="3048120"/>
              <a:ext cx="76320" cy="199800"/>
              <a:chOff x="3352680" y="3048120"/>
              <a:chExt cx="76320" cy="19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3352680" y="30481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352680" y="32479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209680" y="1295280"/>
            <a:ext cx="76320" cy="199800"/>
            <a:chOff x="2209680" y="1295280"/>
            <a:chExt cx="76320" cy="199800"/>
          </a:xfrm>
        </p:grpSpPr>
        <p:sp>
          <p:nvSpPr>
            <p:cNvPr id="359" name=""/>
            <p:cNvSpPr/>
            <p:nvPr/>
          </p:nvSpPr>
          <p:spPr>
            <a:xfrm>
              <a:off x="2209680" y="1295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09680" y="1495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0CF-2798-4BE5-9B14-097847DADF7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F42C8-E123-4DD0-8E57-B04724C692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sion Ope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select column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re repeated many times in R according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Z), S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–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1 – T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86D-F67E-4BA9-8B61-69AD497FE4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9FEBB-A6C7-460E-8417-2153285A7E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r.a. a good query languag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mall set of core operators who semantics are easy to gras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, compared with older languages like CODASY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ough operators do look somewhat “procedural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respect to wha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F35-3BF1-4406-AD7B-A3A8CE1F35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7A610-2BD3-454E-8FDB-EC300B59E0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328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calc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314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et theoretic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cla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ecial symbols called quantifiers can appear in formulas; these are the universal quantifie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existential quantifie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 with the highest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882-DAB1-413F-A9CE-776A82B905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F71B1-1C24-40FC-908B-85ED0A6FF7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calc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 = “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query expressible as a safe relational calculus query is also expressible as a relational algebra 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vice ver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n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unsa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ional calculus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evaluate this query just by looking at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1C1-1C41-439C-BCAF-A14FBBA1A3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73340-2EEE-4CD4-81B1-2312DD19C7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usually post the handout of the class at the class website before 11:00am in the class meeting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://people.eecs.ku.edu/~jhuan/EECS647/schedule.ht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deliberately) make it containing missing and incorrect informat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encouraged to print out the handout and review it before attending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ke the classroom discussion fu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mplete version of the handout (with error fixed and missing information filled) will appear right after clas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078-2C5F-4B1E-B888-ACB5C4CE5A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28493-240D-48D1-AE45-CDD30B4A7A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ring mach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ha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 of something not expressible in relational algebra: Given rela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o are Bart’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nces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Turing mach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mization become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undecid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ways implement it at the application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 is added to SQL neverthel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451-0685-4F43-99CA-D68182FB47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5EA22-9825-4844-9D69-540AFDB8CD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s in writing R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temporary variab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foreign keys to join tab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omparison is to identify a relation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set minus in non-monotonic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338-B8E7-41F2-B544-6C70F589C3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E28BD-E6A6-4443-B656-DFA65422EA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main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an attribute must from its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relation must have a primary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tity integ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 value can not b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ferential integ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er key value can either be NULL or an existing value from the referenced primary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CB3-6360-4736-AE3A-444EAC351B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19943-7892-462B-A12F-5D07659087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Summary of core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76360" y="99036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\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7010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514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AEA-2AB7-4456-91CC-8B01D5597A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25493-C464-44D8-BB31-CDCC568B7B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onic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er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 relational calc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5F7-954C-4EFB-8E19-B244FEE8CC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47DF3-3756-431A-A496-EA60CF6562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Jo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lasses is Lisa ta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ring, department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ring, grade: charac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 Answ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_Lis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meriGarmnd BT"/>
              </a:rPr>
              <a:t>nam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meriGarmnd BT"/>
              </a:rPr>
              <a:t> = “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meriGarmnd BT"/>
              </a:rPr>
              <a:t>Lisa”</a:t>
            </a:r>
            <a:r>
              <a:rPr b="0" i="1" lang="en-US" sz="2600" spc="-1" strike="noStrike">
                <a:solidFill>
                  <a:srgbClr val="000000"/>
                </a:solidFill>
                <a:latin typeface="AmeriGarmnd BT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_Enroll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udent_Lis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’s classes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C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_Enroll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_Enroll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uden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_Enrolled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meriGarmnd BT"/>
              </a:rPr>
              <a:t>nam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meriGarmnd BT"/>
              </a:rPr>
              <a:t> = “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meriGarmnd BT"/>
              </a:rPr>
              <a:t>Lisa”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_Enroll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’s classes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C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_Enroll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1DD-11A1-44E7-BE5F-045829F681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308D3-7AB6-4679-B41C-994F31EEE6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320" y="1371600"/>
          <a:ext cx="2819160" cy="1460520"/>
        </p:xfrm>
        <a:graphic>
          <a:graphicData uri="http://schemas.openxmlformats.org/drawingml/2006/table">
            <a:tbl>
              <a:tblPr/>
              <a:tblGrid>
                <a:gridCol w="653760"/>
                <a:gridCol w="946080"/>
                <a:gridCol w="609480"/>
                <a:gridCol w="6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562720" y="1752480"/>
          <a:ext cx="2819160" cy="746280"/>
        </p:xfrm>
        <a:graphic>
          <a:graphicData uri="http://schemas.openxmlformats.org/drawingml/2006/table">
            <a:tbl>
              <a:tblPr/>
              <a:tblGrid>
                <a:gridCol w="653760"/>
                <a:gridCol w="946440"/>
                <a:gridCol w="609480"/>
                <a:gridCol w="60948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438280" y="3048120"/>
          <a:ext cx="2133720" cy="1460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267080" y="4876920"/>
          <a:ext cx="4190760" cy="1095120"/>
        </p:xfrm>
        <a:graphic>
          <a:graphicData uri="http://schemas.openxmlformats.org/drawingml/2006/table">
            <a:tbl>
              <a:tblPr/>
              <a:tblGrid>
                <a:gridCol w="679320"/>
                <a:gridCol w="981000"/>
                <a:gridCol w="549360"/>
                <a:gridCol w="609480"/>
                <a:gridCol w="609840"/>
                <a:gridCol w="76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2895480" y="1859040"/>
            <a:ext cx="2590560" cy="838080"/>
            <a:chOff x="2895480" y="1859040"/>
            <a:chExt cx="2590560" cy="838080"/>
          </a:xfrm>
        </p:grpSpPr>
        <p:sp>
          <p:nvSpPr>
            <p:cNvPr id="126" name=""/>
            <p:cNvSpPr/>
            <p:nvPr/>
          </p:nvSpPr>
          <p:spPr>
            <a:xfrm>
              <a:off x="3271680" y="185904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3480" y="1981080"/>
              <a:ext cx="170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2209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4280" y="2209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72000" y="2514600"/>
            <a:ext cx="2514600" cy="2362320"/>
            <a:chOff x="4572000" y="2514600"/>
            <a:chExt cx="2514600" cy="2362320"/>
          </a:xfrm>
        </p:grpSpPr>
        <p:grpSp>
          <p:nvGrpSpPr>
            <p:cNvPr id="131" name=""/>
            <p:cNvGrpSpPr/>
            <p:nvPr/>
          </p:nvGrpSpPr>
          <p:grpSpPr>
            <a:xfrm>
              <a:off x="5562720" y="3276720"/>
              <a:ext cx="1523880" cy="838080"/>
              <a:chOff x="5562720" y="3276720"/>
              <a:chExt cx="1523880" cy="838080"/>
            </a:xfrm>
          </p:grpSpPr>
          <p:sp>
            <p:nvSpPr>
              <p:cNvPr id="132" name=""/>
              <p:cNvSpPr/>
              <p:nvPr/>
            </p:nvSpPr>
            <p:spPr>
              <a:xfrm>
                <a:off x="5562720" y="3276720"/>
                <a:ext cx="1523880" cy="8380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96240" y="3429000"/>
                <a:ext cx="3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572000" y="3657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324120" y="2514600"/>
              <a:ext cx="6858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4191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76520" y="5105520"/>
            <a:ext cx="2590200" cy="838080"/>
            <a:chOff x="1676520" y="5105520"/>
            <a:chExt cx="2590200" cy="838080"/>
          </a:xfrm>
        </p:grpSpPr>
        <p:sp>
          <p:nvSpPr>
            <p:cNvPr id="138" name=""/>
            <p:cNvSpPr/>
            <p:nvPr/>
          </p:nvSpPr>
          <p:spPr>
            <a:xfrm>
              <a:off x="2052360" y="5105520"/>
              <a:ext cx="1523880" cy="838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4960" y="5257800"/>
              <a:ext cx="181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   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54561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04960" y="54561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2" name=""/>
          <p:cNvGraphicFramePr/>
          <p:nvPr/>
        </p:nvGraphicFramePr>
        <p:xfrm>
          <a:off x="990720" y="4952880"/>
          <a:ext cx="685800" cy="10951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C9E3-947C-4D8A-9FA3-A7E3F2793B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5096D-F374-4DCE-8567-74FA14DD1A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a’s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nam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 = “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Lisa”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tuden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04880" y="1981080"/>
            <a:ext cx="4112280" cy="1800720"/>
            <a:chOff x="2504880" y="1981080"/>
            <a:chExt cx="4112280" cy="1800720"/>
          </a:xfrm>
        </p:grpSpPr>
        <p:sp>
          <p:nvSpPr>
            <p:cNvPr id="146" name=""/>
            <p:cNvSpPr/>
            <p:nvPr/>
          </p:nvSpPr>
          <p:spPr>
            <a:xfrm>
              <a:off x="5391000" y="320040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0720" y="265896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753000" y="309384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24600" y="309384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2160" y="198108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53160" y="256068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4880" y="2027160"/>
              <a:ext cx="202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isa’s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473120" y="2865600"/>
            <a:ext cx="3364920" cy="1449360"/>
            <a:chOff x="1473120" y="2865600"/>
            <a:chExt cx="3364920" cy="1449360"/>
          </a:xfrm>
        </p:grpSpPr>
        <p:sp>
          <p:nvSpPr>
            <p:cNvPr id="154" name=""/>
            <p:cNvSpPr/>
            <p:nvPr/>
          </p:nvSpPr>
          <p:spPr>
            <a:xfrm>
              <a:off x="3120840" y="373356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5280" y="3093840"/>
              <a:ext cx="1922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86120" y="362736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73120" y="286560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ho’s Lis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A56-04DF-4ADC-8F09-700CF60186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C3041-AE57-4CB7-91F4-2F2E161B30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11T17:27:40Z</dcterms:modified>
  <cp:revision>725</cp:revision>
  <dc:subject/>
  <dc:title>CS186: Introduction to Database Systems</dc:title>
</cp:coreProperties>
</file>