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88ADB-E05E-4B40-B00A-BC403D2BBA2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92A8A-181D-40B5-AA87-70AE90DDC05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71047-F3DD-4029-994A-768EE787448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6CF4E-AEB6-44C5-8357-99E743B6BEC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15B34-3467-4A6E-ADD5-234A256BA98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re gonna cover this in one da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 because of the minimalist approa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8D41E-A478-4B57-96C9-6D2A10F6ED8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BD331-B4BA-406D-96E5-F3E463C425D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44E0B-8306-4A61-AE38-E7828FFFB6A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9FD2F-9D4C-4247-ABA0-AE4B172A2ED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D1AA9-9DF2-454B-90AD-F89C8857CF0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72F49-903B-4873-B850-61AFA83EA9F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2E623-2513-4B7C-A5A6-3A4BADD8D90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225F9-64EB-4AF2-9514-5F7B8842B63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6AE6D-281D-4CEC-AAD3-0FBF891ABD4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A5F3A-2057-4A1B-AEDF-F293628D8E5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EA16B-9F22-4CDA-9EDC-60CC8A60E76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2A768-67B3-4AC0-8F17-7A416DB3037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B3072-7343-4080-9CC5-FEC45248BAA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10B59-B8AB-47CD-AA64-59BD7A37500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31895-881D-42B7-97CA-7547A9568D5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C4349-9882-43D9-89DD-1C3EBFC1C9C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A8966-9E5F-4473-A744-4146B8EF30C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21141-66B1-43A4-B07A-1D11D3BA18D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AF937-B4DB-4AB4-8C1E-7FAA7448248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884760" y="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A44A8-8EDF-4A5E-B619-54D3470B7FD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8CDFA-A3D9-46EB-9814-F9FD570C850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94909-3F4F-4257-8ABB-6BE83446BC7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884760" y="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0D43C-006B-45D1-A081-ECB3EC3FC7A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8496-6795-4ABE-ACF4-0E32ACF16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5CF7-4C51-41D1-AAEA-3F150EC6F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15E7-A3AA-47D9-9426-E29F0FDE6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992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124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992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124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7E50-2F96-4546-BC1C-65E07242F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5438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A15E-8D65-4A35-BA87-41A471856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3992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5124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60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3992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5124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2D2B-8B5C-44AD-9AE1-3D2B40CCD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BF77-7A6E-43BA-952D-DF29FB2FC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EB13-AFBD-4515-92BB-D3E0D334E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5438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4B43-9012-4E21-B8A5-BCD99FCB9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AF61-E063-4407-ACE1-E8A1C2E5A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09F3-5418-45C7-8F2E-D763851F4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03C8-61FC-48B9-9A95-D03E35012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1240" indent="-292320">
              <a:spcBef>
                <a:spcPts val="7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98760" indent="-316080">
              <a:spcBef>
                <a:spcPts val="700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98760" indent="-316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98760" indent="-316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DFA1E-F771-4CC6-B098-1C881DD84A4D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3F8C5-CA0A-402D-B1BE-FC7EAB0F54B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0" y="837720"/>
            <a:ext cx="9016920" cy="77760"/>
          </a:xfrm>
          <a:custGeom>
            <a:avLst/>
            <a:gdLst/>
            <a:ahLst/>
            <a:rect l="l" t="t" r="r" b="b"/>
            <a:pathLst>
              <a:path w="6344" h="1">
                <a:moveTo>
                  <a:pt x="0" y="0"/>
                </a:moveTo>
                <a:lnTo>
                  <a:pt x="6344" y="0"/>
                </a:lnTo>
              </a:path>
            </a:pathLst>
          </a:custGeom>
          <a:solidFill>
            <a:srgbClr val="af8a01"/>
          </a:solidFill>
          <a:ln w="38160">
            <a:solidFill>
              <a:srgbClr val="ef9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5720" y="466200"/>
            <a:ext cx="82184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791320" y="3962520"/>
            <a:ext cx="3120840" cy="2708280"/>
            <a:chOff x="5791320" y="3962520"/>
            <a:chExt cx="3120840" cy="2708280"/>
          </a:xfrm>
        </p:grpSpPr>
        <p:sp>
          <p:nvSpPr>
            <p:cNvPr id="44" name=""/>
            <p:cNvSpPr/>
            <p:nvPr/>
          </p:nvSpPr>
          <p:spPr>
            <a:xfrm>
              <a:off x="5791320" y="5908680"/>
              <a:ext cx="3120840" cy="762120"/>
            </a:xfrm>
            <a:prstGeom prst="ellipse">
              <a:avLst/>
            </a:prstGeom>
            <a:gradFill rotWithShape="0">
              <a:gsLst>
                <a:gs pos="0">
                  <a:srgbClr val="2f2f17"/>
                </a:gs>
                <a:gs pos="50000">
                  <a:srgbClr val="666633"/>
                </a:gs>
                <a:gs pos="100000">
                  <a:srgbClr val="2f2f17"/>
                </a:gs>
              </a:gsLst>
              <a:lin ang="10800000"/>
            </a:gradFill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791320" y="4383360"/>
              <a:ext cx="3120840" cy="1904760"/>
            </a:xfrm>
            <a:prstGeom prst="rect">
              <a:avLst/>
            </a:prstGeom>
            <a:gradFill rotWithShape="0">
              <a:gsLst>
                <a:gs pos="0">
                  <a:srgbClr val="2f2f17"/>
                </a:gs>
                <a:gs pos="50000">
                  <a:srgbClr val="666633"/>
                </a:gs>
                <a:gs pos="100000">
                  <a:srgbClr val="2f2f1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5791320" y="3962520"/>
              <a:ext cx="3120840" cy="76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693720" algn="ctr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1752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EECS 647: Introduction to Database Systems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332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structor: Luke Hua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pring 2007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38080" y="4648320"/>
            <a:ext cx="1784520" cy="1687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09720" y="4743360"/>
            <a:ext cx="1590480" cy="1519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622520" y="468324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266840" y="4959000"/>
            <a:ext cx="914400" cy="609120"/>
            <a:chOff x="1266840" y="4959000"/>
            <a:chExt cx="914400" cy="609120"/>
          </a:xfrm>
        </p:grpSpPr>
        <p:grpSp>
          <p:nvGrpSpPr>
            <p:cNvPr id="97" name=""/>
            <p:cNvGrpSpPr/>
            <p:nvPr/>
          </p:nvGrpSpPr>
          <p:grpSpPr>
            <a:xfrm>
              <a:off x="1266840" y="4959000"/>
              <a:ext cx="913680" cy="609120"/>
              <a:chOff x="1266840" y="4959000"/>
              <a:chExt cx="913680" cy="609120"/>
            </a:xfrm>
          </p:grpSpPr>
          <p:sp>
            <p:nvSpPr>
              <p:cNvPr id="98" name=""/>
              <p:cNvSpPr/>
              <p:nvPr/>
            </p:nvSpPr>
            <p:spPr>
              <a:xfrm>
                <a:off x="1266840" y="4959360"/>
                <a:ext cx="0" cy="608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V="1">
                <a:off x="1266840" y="4959000"/>
                <a:ext cx="913680" cy="608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1267560" y="4959000"/>
              <a:ext cx="913680" cy="609120"/>
              <a:chOff x="1267560" y="4959000"/>
              <a:chExt cx="913680" cy="609120"/>
            </a:xfrm>
          </p:grpSpPr>
          <p:sp>
            <p:nvSpPr>
              <p:cNvPr id="101" name=""/>
              <p:cNvSpPr/>
              <p:nvPr/>
            </p:nvSpPr>
            <p:spPr>
              <a:xfrm>
                <a:off x="2181240" y="4959360"/>
                <a:ext cx="0" cy="608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H="1" flipV="1">
                <a:off x="1267560" y="4959000"/>
                <a:ext cx="913680" cy="608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3" name=""/>
          <p:cNvSpPr/>
          <p:nvPr/>
        </p:nvSpPr>
        <p:spPr>
          <a:xfrm>
            <a:off x="1319400" y="5011560"/>
            <a:ext cx="793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trains 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ributes value must come from its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omain constrai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 relation mush have a primary 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Key constrai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imary key value in a tuple can not be NU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ntity integri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ential integr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foreign key value in a referenced tuple must exist or the foreign key value in the referencing tuple is NUL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0FD6-AC8F-4FFB-BC54-CECE9D5BBAC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8BF3C5-AC35-467A-A628-C302B706DB2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115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itional Types of Constrai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antic Integrity Constrai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ased on application semantics and cannot be expressed by the model per 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.g., “the max. no. of hours per employee for all projects he or she works on is 56 hrs per week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onstraint specification languag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may have to be used to express the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QL-99 allows triggers and ASSERTIONS to allow for some of the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429D-3AC2-466F-BC71-679AE2BE6BC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E8D7C1-5837-4302-A37E-E610B5B040C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pdate Operations on Rel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ERT a tup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E a tup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IFY a tup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aints should not be violated in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2420-0AC5-44EC-900A-5E53A6EA90F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34ACF8-185E-4D5F-99ED-555E429B06C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have the following relational sch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udent(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si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string, name: string, gpa: float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urse(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ci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string, department: string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nrolled(</a:t>
            </a:r>
            <a:r>
              <a:rPr b="0" lang="en-US" sz="2600" spc="-1" strike="noStrike" u="sng">
                <a:solidFill>
                  <a:srgbClr val="cf0e30"/>
                </a:solidFill>
                <a:uFillTx/>
                <a:latin typeface="Times New Roman"/>
              </a:rPr>
              <a:t>sid</a:t>
            </a:r>
            <a:r>
              <a:rPr b="0" lang="en-US" sz="2600" spc="-1" strike="noStrike">
                <a:solidFill>
                  <a:srgbClr val="cf0e30"/>
                </a:solidFill>
                <a:latin typeface="Times New Roman"/>
              </a:rPr>
              <a:t>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ring,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ci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string, grade: character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have the following sequence of database update operations. (assume all tables are empty before we apply any operation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&lt;‘1234’, ‘John Smith’, ‘3.5&gt; into Stu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1981080" y="5029200"/>
          <a:ext cx="5181480" cy="911160"/>
        </p:xfrm>
        <a:graphic>
          <a:graphicData uri="http://schemas.openxmlformats.org/drawingml/2006/table">
            <a:tbl>
              <a:tblPr/>
              <a:tblGrid>
                <a:gridCol w="1727280"/>
                <a:gridCol w="1727280"/>
                <a:gridCol w="17269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p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1e3e3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Smith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5561-48BC-4D35-9792-D01103EC426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9957C7-6876-45CD-9CEA-0A595147646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(Cont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3352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&lt;‘647’, ‘EECS’&gt; into Cour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&lt;‘1234’, ‘647’, ‘B’&gt; into Enro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 the grade in the Enrolled tuple with sid = 1234 and cid = 647 to ‘A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E the Enrolled tuple with sid 1234 and cid 64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3657600" y="1066680"/>
          <a:ext cx="5181480" cy="911160"/>
        </p:xfrm>
        <a:graphic>
          <a:graphicData uri="http://schemas.openxmlformats.org/drawingml/2006/table">
            <a:tbl>
              <a:tblPr/>
              <a:tblGrid>
                <a:gridCol w="1727280"/>
                <a:gridCol w="1727280"/>
                <a:gridCol w="17269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p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1e3e3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Smith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6" name=""/>
          <p:cNvGraphicFramePr/>
          <p:nvPr/>
        </p:nvGraphicFramePr>
        <p:xfrm>
          <a:off x="3657600" y="2136600"/>
          <a:ext cx="3454560" cy="911520"/>
        </p:xfrm>
        <a:graphic>
          <a:graphicData uri="http://schemas.openxmlformats.org/drawingml/2006/table">
            <a:tbl>
              <a:tblPr/>
              <a:tblGrid>
                <a:gridCol w="1727280"/>
                <a:gridCol w="17272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art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EC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3657600" y="3200400"/>
          <a:ext cx="5181480" cy="911160"/>
        </p:xfrm>
        <a:graphic>
          <a:graphicData uri="http://schemas.openxmlformats.org/drawingml/2006/table">
            <a:tbl>
              <a:tblPr/>
              <a:tblGrid>
                <a:gridCol w="1727280"/>
                <a:gridCol w="1727280"/>
                <a:gridCol w="17269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4d2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4d2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4d2b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7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8" name=""/>
          <p:cNvGraphicFramePr/>
          <p:nvPr/>
        </p:nvGraphicFramePr>
        <p:xfrm>
          <a:off x="3657600" y="3200400"/>
          <a:ext cx="5181480" cy="911160"/>
        </p:xfrm>
        <a:graphic>
          <a:graphicData uri="http://schemas.openxmlformats.org/drawingml/2006/table">
            <a:tbl>
              <a:tblPr/>
              <a:tblGrid>
                <a:gridCol w="1727280"/>
                <a:gridCol w="1727280"/>
                <a:gridCol w="17269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4d2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4d2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4d2b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7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9" name=""/>
          <p:cNvGraphicFramePr/>
          <p:nvPr/>
        </p:nvGraphicFramePr>
        <p:xfrm>
          <a:off x="3657600" y="3200400"/>
          <a:ext cx="5181480" cy="455760"/>
        </p:xfrm>
        <a:graphic>
          <a:graphicData uri="http://schemas.openxmlformats.org/drawingml/2006/table">
            <a:tbl>
              <a:tblPr/>
              <a:tblGrid>
                <a:gridCol w="1727280"/>
                <a:gridCol w="1727280"/>
                <a:gridCol w="17269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2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2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2b0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9D81-5DB2-410A-96F2-DE90089A6FE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F68EFE-AA6C-45ED-BDB0-9C22628A4DD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erci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3352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&lt;‘108’, ‘MATH’&gt; into Cour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&lt;‘1234’, ‘108’, ‘B’&gt; into Enro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&lt;‘1123’, ‘Mary Carter’, ‘3.8’&gt; into Stu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3657600" y="1066680"/>
          <a:ext cx="5181480" cy="911160"/>
        </p:xfrm>
        <a:graphic>
          <a:graphicData uri="http://schemas.openxmlformats.org/drawingml/2006/table">
            <a:tbl>
              <a:tblPr/>
              <a:tblGrid>
                <a:gridCol w="1727280"/>
                <a:gridCol w="1727280"/>
                <a:gridCol w="17269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p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1e3e3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Smith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3657600" y="2824200"/>
          <a:ext cx="3454560" cy="1366920"/>
        </p:xfrm>
        <a:graphic>
          <a:graphicData uri="http://schemas.openxmlformats.org/drawingml/2006/table">
            <a:tbl>
              <a:tblPr/>
              <a:tblGrid>
                <a:gridCol w="1727280"/>
                <a:gridCol w="17272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art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EC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4" name=""/>
          <p:cNvGraphicFramePr/>
          <p:nvPr/>
        </p:nvGraphicFramePr>
        <p:xfrm>
          <a:off x="3657600" y="4498920"/>
          <a:ext cx="5181480" cy="911160"/>
        </p:xfrm>
        <a:graphic>
          <a:graphicData uri="http://schemas.openxmlformats.org/drawingml/2006/table">
            <a:tbl>
              <a:tblPr/>
              <a:tblGrid>
                <a:gridCol w="1727280"/>
                <a:gridCol w="1727280"/>
                <a:gridCol w="17269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4d2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4d2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4d2b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5" name=""/>
          <p:cNvGraphicFramePr/>
          <p:nvPr/>
        </p:nvGraphicFramePr>
        <p:xfrm>
          <a:off x="3657600" y="2820960"/>
          <a:ext cx="3454560" cy="911160"/>
        </p:xfrm>
        <a:graphic>
          <a:graphicData uri="http://schemas.openxmlformats.org/drawingml/2006/table">
            <a:tbl>
              <a:tblPr/>
              <a:tblGrid>
                <a:gridCol w="1727280"/>
                <a:gridCol w="17272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art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EC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6" name=""/>
          <p:cNvGraphicFramePr/>
          <p:nvPr/>
        </p:nvGraphicFramePr>
        <p:xfrm>
          <a:off x="3657600" y="4497480"/>
          <a:ext cx="5181480" cy="455400"/>
        </p:xfrm>
        <a:graphic>
          <a:graphicData uri="http://schemas.openxmlformats.org/drawingml/2006/table">
            <a:tbl>
              <a:tblPr/>
              <a:tblGrid>
                <a:gridCol w="1727280"/>
                <a:gridCol w="1727280"/>
                <a:gridCol w="17269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2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2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2b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27" name=""/>
          <p:cNvGraphicFramePr/>
          <p:nvPr/>
        </p:nvGraphicFramePr>
        <p:xfrm>
          <a:off x="3657600" y="1066680"/>
          <a:ext cx="5181480" cy="1366920"/>
        </p:xfrm>
        <a:graphic>
          <a:graphicData uri="http://schemas.openxmlformats.org/drawingml/2006/table">
            <a:tbl>
              <a:tblPr/>
              <a:tblGrid>
                <a:gridCol w="1727280"/>
                <a:gridCol w="1727280"/>
                <a:gridCol w="17269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p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1e3e3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Smith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 Cart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B822-E41D-4AD0-826D-72C405E16CF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ACC327-9257-401D-8402-CB4C7F7B4A1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ercise (cont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3352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little bit tric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&lt;‘1125’, ‘Bob Lee’, ‘good’&gt; into Stu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ail due to domain constrai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&lt;‘1123’, NULL, ‘B’&gt; into Enro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ail due to entity integr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&lt;‘1233’,’647’, ‘A’&gt; into Enro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ailed due to referential integr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3657600" y="1066680"/>
          <a:ext cx="5181480" cy="1366920"/>
        </p:xfrm>
        <a:graphic>
          <a:graphicData uri="http://schemas.openxmlformats.org/drawingml/2006/table">
            <a:tbl>
              <a:tblPr/>
              <a:tblGrid>
                <a:gridCol w="1727280"/>
                <a:gridCol w="1727280"/>
                <a:gridCol w="17269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p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1e3e3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Smith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 Cart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1" name=""/>
          <p:cNvGraphicFramePr/>
          <p:nvPr/>
        </p:nvGraphicFramePr>
        <p:xfrm>
          <a:off x="3657600" y="2666880"/>
          <a:ext cx="3454560" cy="1366920"/>
        </p:xfrm>
        <a:graphic>
          <a:graphicData uri="http://schemas.openxmlformats.org/drawingml/2006/table">
            <a:tbl>
              <a:tblPr/>
              <a:tblGrid>
                <a:gridCol w="1727280"/>
                <a:gridCol w="17272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art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EC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2" name=""/>
          <p:cNvGraphicFramePr/>
          <p:nvPr/>
        </p:nvGraphicFramePr>
        <p:xfrm>
          <a:off x="3581280" y="4419720"/>
          <a:ext cx="5181480" cy="911160"/>
        </p:xfrm>
        <a:graphic>
          <a:graphicData uri="http://schemas.openxmlformats.org/drawingml/2006/table">
            <a:tbl>
              <a:tblPr/>
              <a:tblGrid>
                <a:gridCol w="1727280"/>
                <a:gridCol w="1727280"/>
                <a:gridCol w="17269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4d2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4d2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4d2b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381D-3650-4E48-ADC6-7E50F6C635B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E713F0-C85A-4B2E-8189-E5DD791AB7C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ercise (cont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3352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ore tricky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 the cid in the tuple from Course where  cid = 108 to 1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3657600" y="1066680"/>
          <a:ext cx="5181480" cy="1366920"/>
        </p:xfrm>
        <a:graphic>
          <a:graphicData uri="http://schemas.openxmlformats.org/drawingml/2006/table">
            <a:tbl>
              <a:tblPr/>
              <a:tblGrid>
                <a:gridCol w="1727280"/>
                <a:gridCol w="1727280"/>
                <a:gridCol w="17269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p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1e3e3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Smith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 Cart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657600" y="2819520"/>
          <a:ext cx="3454560" cy="1366560"/>
        </p:xfrm>
        <a:graphic>
          <a:graphicData uri="http://schemas.openxmlformats.org/drawingml/2006/table">
            <a:tbl>
              <a:tblPr/>
              <a:tblGrid>
                <a:gridCol w="1727280"/>
                <a:gridCol w="17272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art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EC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7" name=""/>
          <p:cNvGraphicFramePr/>
          <p:nvPr/>
        </p:nvGraphicFramePr>
        <p:xfrm>
          <a:off x="3657600" y="4494240"/>
          <a:ext cx="5181480" cy="911160"/>
        </p:xfrm>
        <a:graphic>
          <a:graphicData uri="http://schemas.openxmlformats.org/drawingml/2006/table">
            <a:tbl>
              <a:tblPr/>
              <a:tblGrid>
                <a:gridCol w="1727280"/>
                <a:gridCol w="1727280"/>
                <a:gridCol w="17269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4d2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4d2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4d2b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8" name=""/>
          <p:cNvGraphicFramePr/>
          <p:nvPr/>
        </p:nvGraphicFramePr>
        <p:xfrm>
          <a:off x="3657600" y="2819520"/>
          <a:ext cx="3454560" cy="1366560"/>
        </p:xfrm>
        <a:graphic>
          <a:graphicData uri="http://schemas.openxmlformats.org/drawingml/2006/table">
            <a:tbl>
              <a:tblPr/>
              <a:tblGrid>
                <a:gridCol w="1727280"/>
                <a:gridCol w="17272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art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EC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9" name=""/>
          <p:cNvGraphicFramePr/>
          <p:nvPr/>
        </p:nvGraphicFramePr>
        <p:xfrm>
          <a:off x="3657600" y="4495680"/>
          <a:ext cx="5181480" cy="911160"/>
        </p:xfrm>
        <a:graphic>
          <a:graphicData uri="http://schemas.openxmlformats.org/drawingml/2006/table">
            <a:tbl>
              <a:tblPr/>
              <a:tblGrid>
                <a:gridCol w="1727280"/>
                <a:gridCol w="1727280"/>
                <a:gridCol w="17269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4d2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4d2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4d2b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9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71A5-91BF-407B-AB21-7330DA55A8A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E5D40D-C783-4D5E-8635-F1D00DE3155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pdate Operations on Rel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480" y="990360"/>
            <a:ext cx="7772400" cy="45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ase of integrity violation, several actions can be tak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cel the operation that causes the violation (REJECT option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 the operation but inform the user of the viol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igger additional updates so the violation is corrected (CASCADE option, SET NULL option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 a user-specified error-correction routin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7947-4779-4C0D-91C2-F5A4B6A8911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49D4BC-CE1B-41EC-AB78-0B0375D0FE5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lational Query Languag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9999"/>
                </a:solidFill>
                <a:latin typeface="Times New Roman"/>
              </a:rPr>
              <a:t>Query language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llow manipulation and </a:t>
            </a:r>
            <a:r>
              <a:rPr b="0" lang="en-US" sz="2800" spc="-1" strike="noStrike">
                <a:solidFill>
                  <a:srgbClr val="669999"/>
                </a:solidFill>
                <a:latin typeface="Times New Roman"/>
              </a:rPr>
              <a:t>retrieval of dat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a datab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onal model supports simple, powerful Q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rong formal foundation based on logic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llows for much optimiza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ry Languages </a:t>
            </a:r>
            <a:r>
              <a:rPr b="1" lang="en-US" sz="2800" spc="-1" strike="noStrike">
                <a:solidFill>
                  <a:srgbClr val="669999"/>
                </a:solidFill>
                <a:latin typeface="Times New Roman"/>
              </a:rPr>
              <a:t>!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ogramming language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QLs not intended to be used for complex calculations and inference (e.g. logical reasoning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QLs support easy, efficient access to large data set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ministrati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 home background survey is assigne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ue Feb 5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t the beginning of class meeting time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e on tim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r PostgreSQL passwd has been sent to you by ema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o not change your passwd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o though the on-line tutorial (which will be your first homework)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4E55-0990-4C3D-825A-2996B5531E0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698687-DCCD-4250-8F9E-EC5B87A3416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mal Relational Query Languag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mathematical Query Languages form the basis for “real” languages (e.g. SQL), and for implement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669999"/>
                </a:solidFill>
                <a:uFillTx/>
                <a:latin typeface="Times New Roman"/>
              </a:rPr>
              <a:t>Relational Algebra</a:t>
            </a:r>
            <a:r>
              <a:rPr b="0" lang="en-US" sz="2800" spc="-1" strike="noStrike">
                <a:solidFill>
                  <a:srgbClr val="669999"/>
                </a:solidFill>
                <a:latin typeface="Times New Roman"/>
              </a:rPr>
              <a:t>: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</a:t>
            </a:r>
            <a:r>
              <a:rPr b="0" lang="en-US" sz="2800" spc="-1" strike="noStrike">
                <a:solidFill>
                  <a:srgbClr val="669999"/>
                </a:solidFill>
                <a:latin typeface="Times New Roman"/>
              </a:rPr>
              <a:t>operation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very useful for representing execution pla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669999"/>
                </a:solidFill>
                <a:uFillTx/>
                <a:latin typeface="Times New Roman"/>
              </a:rPr>
              <a:t>Relational Calculus</a:t>
            </a:r>
            <a:r>
              <a:rPr b="0" lang="en-US" sz="2800" spc="-1" strike="noStrike">
                <a:solidFill>
                  <a:srgbClr val="669999"/>
                </a:solidFill>
                <a:latin typeface="Times New Roman"/>
              </a:rPr>
              <a:t>: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s users describe what they want, rather than how to compute it.  (</a:t>
            </a:r>
            <a:r>
              <a:rPr b="0" lang="en-US" sz="2800" spc="-1" strike="noStrike">
                <a:solidFill>
                  <a:srgbClr val="669999"/>
                </a:solidFill>
                <a:latin typeface="Times New Roman"/>
              </a:rPr>
              <a:t>Non-procedural, </a:t>
            </a:r>
            <a:r>
              <a:rPr b="0" i="1" lang="en-US" sz="2800" spc="-1" strike="noStrike" u="sng">
                <a:solidFill>
                  <a:srgbClr val="669999"/>
                </a:solidFill>
                <a:uFillTx/>
                <a:latin typeface="Times New Roman"/>
              </a:rPr>
              <a:t>declarat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94640" y="4572000"/>
            <a:ext cx="75150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cccc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00"/>
                </a:solidFill>
                <a:latin typeface="Book Antiqua"/>
              </a:rPr>
              <a:t>  </a:t>
            </a:r>
            <a:r>
              <a:rPr b="0" i="1" lang="en-US" sz="2800" spc="-1" strike="noStrike">
                <a:solidFill>
                  <a:srgbClr val="000099"/>
                </a:solidFill>
                <a:latin typeface="Book Antiqua"/>
              </a:rPr>
              <a:t>Understanding Algebra &amp; Calculus is key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Book Antiqua"/>
              </a:rPr>
              <a:t>      </a:t>
            </a:r>
            <a:r>
              <a:rPr b="0" i="1" lang="en-US" sz="2800" spc="-1" strike="noStrike">
                <a:solidFill>
                  <a:srgbClr val="000099"/>
                </a:solidFill>
                <a:latin typeface="Book Antiqua"/>
              </a:rPr>
              <a:t>understanding SQL, query processing!</a:t>
            </a:r>
            <a:r>
              <a:rPr b="0" i="1" lang="en-US" sz="2400" spc="-1" strike="noStrike">
                <a:solidFill>
                  <a:srgbClr val="000099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lational algebr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228600" y="4038120"/>
            <a:ext cx="86868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e set of operato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lection, projection, cross product, union, difference, and renam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derived operato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Join, natural join, intersection, et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se operators to make complex qu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1905120" y="2438280"/>
            <a:ext cx="1523880" cy="838080"/>
            <a:chOff x="1905120" y="2438280"/>
            <a:chExt cx="1523880" cy="838080"/>
          </a:xfrm>
        </p:grpSpPr>
        <p:sp>
          <p:nvSpPr>
            <p:cNvPr id="354" name=""/>
            <p:cNvSpPr/>
            <p:nvPr/>
          </p:nvSpPr>
          <p:spPr>
            <a:xfrm>
              <a:off x="1905120" y="2438280"/>
              <a:ext cx="1523880" cy="83808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132640" y="2599920"/>
              <a:ext cx="98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meriGarmnd BT"/>
                </a:rPr>
                <a:t>RelO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5334120" y="3048120"/>
            <a:ext cx="1523880" cy="838080"/>
            <a:chOff x="5334120" y="3048120"/>
            <a:chExt cx="1523880" cy="838080"/>
          </a:xfrm>
        </p:grpSpPr>
        <p:sp>
          <p:nvSpPr>
            <p:cNvPr id="357" name=""/>
            <p:cNvSpPr/>
            <p:nvPr/>
          </p:nvSpPr>
          <p:spPr>
            <a:xfrm>
              <a:off x="5334120" y="3048120"/>
              <a:ext cx="1523880" cy="83808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561640" y="3209760"/>
              <a:ext cx="98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meriGarmnd BT"/>
                </a:rPr>
                <a:t>RelO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457200" y="2362320"/>
            <a:ext cx="1447920" cy="914400"/>
            <a:chOff x="457200" y="2362320"/>
            <a:chExt cx="1447920" cy="914400"/>
          </a:xfrm>
        </p:grpSpPr>
        <p:grpSp>
          <p:nvGrpSpPr>
            <p:cNvPr id="360" name=""/>
            <p:cNvGrpSpPr/>
            <p:nvPr/>
          </p:nvGrpSpPr>
          <p:grpSpPr>
            <a:xfrm>
              <a:off x="457200" y="2362320"/>
              <a:ext cx="990720" cy="914400"/>
              <a:chOff x="457200" y="2362320"/>
              <a:chExt cx="990720" cy="914400"/>
            </a:xfrm>
          </p:grpSpPr>
          <p:sp>
            <p:nvSpPr>
              <p:cNvPr id="361" name=""/>
              <p:cNvSpPr/>
              <p:nvPr/>
            </p:nvSpPr>
            <p:spPr>
              <a:xfrm>
                <a:off x="457200" y="2362320"/>
                <a:ext cx="990720" cy="914400"/>
              </a:xfrm>
              <a:prstGeom prst="rect">
                <a:avLst/>
              </a:prstGeom>
              <a:solidFill>
                <a:srgbClr val="330066"/>
              </a:solidFill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57200" y="2514600"/>
                <a:ext cx="990720" cy="762120"/>
              </a:xfrm>
              <a:prstGeom prst="rect">
                <a:avLst/>
              </a:prstGeom>
              <a:solidFill>
                <a:srgbClr val="ffff99"/>
              </a:solidFill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77160" y="2362320"/>
                <a:ext cx="0" cy="91440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007640" y="2362320"/>
                <a:ext cx="0" cy="91440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190880" y="2362320"/>
                <a:ext cx="0" cy="91440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57200" y="2666880"/>
                <a:ext cx="990720" cy="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57200" y="2819520"/>
                <a:ext cx="990720" cy="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57200" y="2971800"/>
                <a:ext cx="990720" cy="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57200" y="3124080"/>
                <a:ext cx="990720" cy="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0" name=""/>
            <p:cNvSpPr/>
            <p:nvPr/>
          </p:nvSpPr>
          <p:spPr>
            <a:xfrm>
              <a:off x="1523880" y="2819520"/>
              <a:ext cx="381240" cy="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3429000" y="2438280"/>
            <a:ext cx="1447920" cy="762120"/>
            <a:chOff x="3429000" y="2438280"/>
            <a:chExt cx="1447920" cy="762120"/>
          </a:xfrm>
        </p:grpSpPr>
        <p:grpSp>
          <p:nvGrpSpPr>
            <p:cNvPr id="372" name=""/>
            <p:cNvGrpSpPr/>
            <p:nvPr/>
          </p:nvGrpSpPr>
          <p:grpSpPr>
            <a:xfrm>
              <a:off x="3886200" y="2438280"/>
              <a:ext cx="990720" cy="762120"/>
              <a:chOff x="3886200" y="2438280"/>
              <a:chExt cx="990720" cy="762120"/>
            </a:xfrm>
          </p:grpSpPr>
          <p:sp>
            <p:nvSpPr>
              <p:cNvPr id="373" name=""/>
              <p:cNvSpPr/>
              <p:nvPr/>
            </p:nvSpPr>
            <p:spPr>
              <a:xfrm>
                <a:off x="3886200" y="2438280"/>
                <a:ext cx="990720" cy="762120"/>
              </a:xfrm>
              <a:prstGeom prst="rect">
                <a:avLst/>
              </a:prstGeom>
              <a:solidFill>
                <a:srgbClr val="330066"/>
              </a:solidFill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886200" y="2590560"/>
                <a:ext cx="990720" cy="609840"/>
              </a:xfrm>
              <a:prstGeom prst="rect">
                <a:avLst/>
              </a:prstGeom>
              <a:solidFill>
                <a:srgbClr val="ffff99"/>
              </a:solidFill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106880" y="2438280"/>
                <a:ext cx="0" cy="76212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456080" y="2438280"/>
                <a:ext cx="0" cy="76212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648320" y="2438280"/>
                <a:ext cx="0" cy="76212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886200" y="2743200"/>
                <a:ext cx="990720" cy="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886200" y="2895480"/>
                <a:ext cx="990720" cy="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886200" y="3047760"/>
                <a:ext cx="990720" cy="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1" name=""/>
            <p:cNvSpPr/>
            <p:nvPr/>
          </p:nvSpPr>
          <p:spPr>
            <a:xfrm>
              <a:off x="3429000" y="2819520"/>
              <a:ext cx="380880" cy="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886200" y="2895480"/>
            <a:ext cx="1523880" cy="1600200"/>
            <a:chOff x="3886200" y="2895480"/>
            <a:chExt cx="1523880" cy="1600200"/>
          </a:xfrm>
        </p:grpSpPr>
        <p:grpSp>
          <p:nvGrpSpPr>
            <p:cNvPr id="383" name=""/>
            <p:cNvGrpSpPr/>
            <p:nvPr/>
          </p:nvGrpSpPr>
          <p:grpSpPr>
            <a:xfrm>
              <a:off x="3886200" y="3581280"/>
              <a:ext cx="990720" cy="914400"/>
              <a:chOff x="3886200" y="3581280"/>
              <a:chExt cx="990720" cy="914400"/>
            </a:xfrm>
          </p:grpSpPr>
          <p:sp>
            <p:nvSpPr>
              <p:cNvPr id="384" name=""/>
              <p:cNvSpPr/>
              <p:nvPr/>
            </p:nvSpPr>
            <p:spPr>
              <a:xfrm>
                <a:off x="3886200" y="3581280"/>
                <a:ext cx="990720" cy="914400"/>
              </a:xfrm>
              <a:prstGeom prst="rect">
                <a:avLst/>
              </a:prstGeom>
              <a:solidFill>
                <a:srgbClr val="330066"/>
              </a:solidFill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886200" y="3733560"/>
                <a:ext cx="990720" cy="762120"/>
              </a:xfrm>
              <a:prstGeom prst="rect">
                <a:avLst/>
              </a:prstGeom>
              <a:solidFill>
                <a:srgbClr val="ffff99"/>
              </a:solidFill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106160" y="3581280"/>
                <a:ext cx="0" cy="91440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436640" y="3581280"/>
                <a:ext cx="0" cy="91440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619880" y="3581280"/>
                <a:ext cx="0" cy="91440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886200" y="3885840"/>
                <a:ext cx="990720" cy="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886200" y="4038480"/>
                <a:ext cx="990720" cy="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886200" y="4190760"/>
                <a:ext cx="990720" cy="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3886200" y="4343040"/>
                <a:ext cx="990720" cy="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3" name=""/>
            <p:cNvSpPr/>
            <p:nvPr/>
          </p:nvSpPr>
          <p:spPr>
            <a:xfrm>
              <a:off x="4952880" y="2895480"/>
              <a:ext cx="457200" cy="38124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4952880" y="3657600"/>
              <a:ext cx="457200" cy="38088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858000" y="2971800"/>
            <a:ext cx="1676520" cy="914400"/>
            <a:chOff x="6858000" y="2971800"/>
            <a:chExt cx="1676520" cy="914400"/>
          </a:xfrm>
        </p:grpSpPr>
        <p:grpSp>
          <p:nvGrpSpPr>
            <p:cNvPr id="396" name=""/>
            <p:cNvGrpSpPr/>
            <p:nvPr/>
          </p:nvGrpSpPr>
          <p:grpSpPr>
            <a:xfrm>
              <a:off x="7315200" y="2971800"/>
              <a:ext cx="1219320" cy="914400"/>
              <a:chOff x="7315200" y="2971800"/>
              <a:chExt cx="1219320" cy="914400"/>
            </a:xfrm>
          </p:grpSpPr>
          <p:sp>
            <p:nvSpPr>
              <p:cNvPr id="397" name=""/>
              <p:cNvSpPr/>
              <p:nvPr/>
            </p:nvSpPr>
            <p:spPr>
              <a:xfrm>
                <a:off x="7315200" y="2971800"/>
                <a:ext cx="1219320" cy="914400"/>
              </a:xfrm>
              <a:prstGeom prst="rect">
                <a:avLst/>
              </a:prstGeom>
              <a:solidFill>
                <a:srgbClr val="330066"/>
              </a:solidFill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7315200" y="3124440"/>
                <a:ext cx="1219320" cy="761760"/>
              </a:xfrm>
              <a:prstGeom prst="rect">
                <a:avLst/>
              </a:prstGeom>
              <a:solidFill>
                <a:srgbClr val="ffff99"/>
              </a:solidFill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535880" y="2971800"/>
                <a:ext cx="0" cy="91440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7866360" y="2971800"/>
                <a:ext cx="0" cy="91440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8048880" y="2971800"/>
                <a:ext cx="0" cy="91440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7315200" y="3276720"/>
                <a:ext cx="1219320" cy="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7315200" y="3429000"/>
                <a:ext cx="1219320" cy="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315200" y="3581640"/>
                <a:ext cx="1219320" cy="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7315200" y="3733920"/>
                <a:ext cx="1219320" cy="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8201160" y="2971800"/>
                <a:ext cx="0" cy="91440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8382240" y="2971800"/>
                <a:ext cx="0" cy="91440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"/>
            <p:cNvSpPr/>
            <p:nvPr/>
          </p:nvSpPr>
          <p:spPr>
            <a:xfrm>
              <a:off x="6858000" y="3429000"/>
              <a:ext cx="380880" cy="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228600" y="1219320"/>
            <a:ext cx="86868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language for querying relational databases based on operat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A354-31CF-4744-ABD5-211A9DC4D62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76D2FA-FD91-4FD4-BEAE-FFE2FD7529B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lec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put: a ta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ation: </a:t>
            </a:r>
            <a:r>
              <a:rPr b="0" lang="en-US" sz="2800" spc="-1" strike="noStrike">
                <a:solidFill>
                  <a:srgbClr val="330066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 baseline="-25000">
                <a:solidFill>
                  <a:srgbClr val="330066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called a 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selection condition/predica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pose: filter rows according to some cri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: same columns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but only row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satisf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878E-08DF-404C-87CA-BCD8BE64074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C332B3-F632-4A59-844D-2FCCDA45733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lection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s with GPA higher than 3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 </a:t>
            </a:r>
            <a:r>
              <a:rPr b="0" lang="en-US" sz="2800" spc="-1" strike="noStrike">
                <a:solidFill>
                  <a:srgbClr val="330066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GP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&gt; 3.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76320" y="2286000"/>
          <a:ext cx="3504960" cy="2190600"/>
        </p:xfrm>
        <a:graphic>
          <a:graphicData uri="http://schemas.openxmlformats.org/drawingml/2006/table">
            <a:tbl>
              <a:tblPr/>
              <a:tblGrid>
                <a:gridCol w="653760"/>
                <a:gridCol w="1631880"/>
                <a:gridCol w="533520"/>
                <a:gridCol w="685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Smit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 Cart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b L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san W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15" name=""/>
          <p:cNvGraphicFramePr/>
          <p:nvPr/>
        </p:nvGraphicFramePr>
        <p:xfrm>
          <a:off x="5562720" y="2286000"/>
          <a:ext cx="3504960" cy="2190600"/>
        </p:xfrm>
        <a:graphic>
          <a:graphicData uri="http://schemas.openxmlformats.org/drawingml/2006/table">
            <a:tbl>
              <a:tblPr/>
              <a:tblGrid>
                <a:gridCol w="653760"/>
                <a:gridCol w="1631880"/>
                <a:gridCol w="533520"/>
                <a:gridCol w="685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Smit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 Cart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b L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san W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6" name=""/>
          <p:cNvSpPr/>
          <p:nvPr/>
        </p:nvSpPr>
        <p:spPr>
          <a:xfrm>
            <a:off x="5562720" y="3429000"/>
            <a:ext cx="33526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562720" y="4191120"/>
            <a:ext cx="33526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3581280" y="3151080"/>
            <a:ext cx="1981080" cy="838440"/>
            <a:chOff x="3581280" y="3151080"/>
            <a:chExt cx="1981080" cy="838440"/>
          </a:xfrm>
        </p:grpSpPr>
        <p:sp>
          <p:nvSpPr>
            <p:cNvPr id="419" name=""/>
            <p:cNvSpPr/>
            <p:nvPr/>
          </p:nvSpPr>
          <p:spPr>
            <a:xfrm>
              <a:off x="3809880" y="3151080"/>
              <a:ext cx="1523880" cy="83844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881880" y="3348000"/>
              <a:ext cx="1282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66"/>
                  </a:solidFill>
                  <a:latin typeface="Symbol"/>
                  <a:ea typeface="Symbol"/>
                </a:rPr>
                <a:t></a:t>
              </a:r>
              <a:r>
                <a:rPr b="0" i="1" lang="en-US" sz="2800" spc="-1" strike="noStrike" baseline="-25000">
                  <a:solidFill>
                    <a:srgbClr val="330066"/>
                  </a:solidFill>
                  <a:latin typeface="AmeriGarmnd BT"/>
                </a:rPr>
                <a:t>GPA</a:t>
              </a:r>
              <a:r>
                <a:rPr b="0" lang="en-US" sz="2800" spc="-1" strike="noStrike" baseline="-25000">
                  <a:solidFill>
                    <a:srgbClr val="330066"/>
                  </a:solidFill>
                  <a:latin typeface="AmeriGarmnd BT"/>
                </a:rPr>
                <a:t> &gt; 3.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581280" y="3621240"/>
              <a:ext cx="228600" cy="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333760" y="3581280"/>
              <a:ext cx="228600" cy="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0FC4-55A2-49FF-953C-C160F27DB1C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2A7D85-2A9B-469A-B9DC-DD0227FA251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re on selec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ion predicate in general can include any colum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constants, comparisons (=,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etc.), and Boolean connectives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and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or, and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no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xample: straight A students under 18 or over 2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cmmi10"/>
              </a:rPr>
              <a:t>	</a:t>
            </a:r>
            <a:r>
              <a:rPr b="0" lang="en-US" sz="2600" spc="-1" strike="noStrike">
                <a:solidFill>
                  <a:srgbClr val="330066"/>
                </a:solidFill>
                <a:latin typeface="cmmi10"/>
              </a:rPr>
              <a:t> </a:t>
            </a:r>
            <a:r>
              <a:rPr b="0" lang="en-US" sz="2600" spc="-1" strike="noStrike">
                <a:solidFill>
                  <a:srgbClr val="330066"/>
                </a:solidFill>
                <a:latin typeface="Symbol"/>
                <a:ea typeface="Symbol"/>
              </a:rPr>
              <a:t></a:t>
            </a:r>
            <a:r>
              <a:rPr b="0" i="1" lang="en-US" sz="2600" spc="-1" strike="noStrike" baseline="-25000">
                <a:solidFill>
                  <a:srgbClr val="330066"/>
                </a:solidFill>
                <a:latin typeface="Times New Roman"/>
              </a:rPr>
              <a:t>GPA</a:t>
            </a:r>
            <a:r>
              <a:rPr b="0" lang="en-US" sz="2600" spc="-1" strike="noStrike" baseline="-25000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600" spc="-1" strike="noStrike" baseline="-25000">
                <a:solidFill>
                  <a:srgbClr val="330066"/>
                </a:solidFill>
                <a:latin typeface="cmsy10"/>
              </a:rPr>
              <a:t>¸</a:t>
            </a:r>
            <a:r>
              <a:rPr b="0" lang="en-US" sz="2600" spc="-1" strike="noStrike" baseline="-25000">
                <a:solidFill>
                  <a:srgbClr val="330066"/>
                </a:solidFill>
                <a:latin typeface="Times New Roman"/>
              </a:rPr>
              <a:t> 4.0 </a:t>
            </a:r>
            <a:r>
              <a:rPr b="0" lang="en-US" sz="2600" spc="-1" strike="noStrike" baseline="-25000">
                <a:solidFill>
                  <a:srgbClr val="330066"/>
                </a:solidFill>
                <a:latin typeface="cmsy10"/>
              </a:rPr>
              <a:t>Æ</a:t>
            </a:r>
            <a:r>
              <a:rPr b="0" lang="en-US" sz="2600" spc="-1" strike="noStrike" baseline="-25000">
                <a:solidFill>
                  <a:srgbClr val="330066"/>
                </a:solidFill>
                <a:latin typeface="Times New Roman"/>
              </a:rPr>
              <a:t> (</a:t>
            </a:r>
            <a:r>
              <a:rPr b="0" i="1" lang="en-US" sz="2600" spc="-1" strike="noStrike" baseline="-25000">
                <a:solidFill>
                  <a:srgbClr val="330066"/>
                </a:solidFill>
                <a:latin typeface="Times New Roman"/>
              </a:rPr>
              <a:t>age</a:t>
            </a:r>
            <a:r>
              <a:rPr b="0" lang="en-US" sz="2600" spc="-1" strike="noStrike" baseline="-25000">
                <a:solidFill>
                  <a:srgbClr val="330066"/>
                </a:solidFill>
                <a:latin typeface="Times New Roman"/>
              </a:rPr>
              <a:t> &lt; 18 </a:t>
            </a:r>
            <a:r>
              <a:rPr b="0" lang="en-US" sz="2600" spc="-1" strike="noStrike" baseline="-25000">
                <a:solidFill>
                  <a:srgbClr val="330066"/>
                </a:solidFill>
                <a:latin typeface="cmsy10"/>
              </a:rPr>
              <a:t>Ç</a:t>
            </a:r>
            <a:r>
              <a:rPr b="0" lang="en-US" sz="2600" spc="-1" strike="noStrike" baseline="-25000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600" spc="-1" strike="noStrike" baseline="-25000">
                <a:solidFill>
                  <a:srgbClr val="330066"/>
                </a:solidFill>
                <a:latin typeface="Times New Roman"/>
              </a:rPr>
              <a:t>age</a:t>
            </a:r>
            <a:r>
              <a:rPr b="0" lang="en-US" sz="2600" spc="-1" strike="noStrike" baseline="-25000">
                <a:solidFill>
                  <a:srgbClr val="330066"/>
                </a:solidFill>
                <a:latin typeface="Times New Roman"/>
              </a:rPr>
              <a:t> &gt; 21)</a:t>
            </a:r>
            <a:r>
              <a:rPr b="0" i="1" lang="en-US" sz="2600" spc="-1" strike="noStrike" baseline="-25000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Stud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you must be able to evaluate the predicate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over a single row of the input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xample: student with the highest GP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mmi10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mmi10"/>
              </a:rPr>
              <a:t> </a:t>
            </a:r>
            <a:r>
              <a:rPr b="0" lang="en-US" sz="2600" spc="-1" strike="noStrike">
                <a:solidFill>
                  <a:srgbClr val="330066"/>
                </a:solidFill>
                <a:latin typeface="Symbol"/>
                <a:ea typeface="Symbol"/>
              </a:rPr>
              <a:t></a:t>
            </a:r>
            <a:r>
              <a:rPr b="0" i="1" lang="en-US" sz="2600" spc="-1" strike="noStrike" baseline="-25000">
                <a:solidFill>
                  <a:srgbClr val="330066"/>
                </a:solidFill>
                <a:latin typeface="Times New Roman"/>
              </a:rPr>
              <a:t>GPA</a:t>
            </a:r>
            <a:r>
              <a:rPr b="0" lang="en-US" sz="2600" spc="-1" strike="noStrike" baseline="-25000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600" spc="-1" strike="noStrike" baseline="-25000">
                <a:solidFill>
                  <a:srgbClr val="330066"/>
                </a:solidFill>
                <a:latin typeface="cmsy10"/>
              </a:rPr>
              <a:t>¸</a:t>
            </a:r>
            <a:r>
              <a:rPr b="0" lang="en-US" sz="2600" spc="-1" strike="noStrike" baseline="-25000">
                <a:solidFill>
                  <a:srgbClr val="330066"/>
                </a:solidFill>
                <a:latin typeface="Times New Roman"/>
              </a:rPr>
              <a:t> all </a:t>
            </a:r>
            <a:r>
              <a:rPr b="0" i="1" lang="en-US" sz="2600" spc="-1" strike="noStrike" baseline="-25000">
                <a:solidFill>
                  <a:srgbClr val="330066"/>
                </a:solidFill>
                <a:latin typeface="Times New Roman"/>
              </a:rPr>
              <a:t>GPA</a:t>
            </a:r>
            <a:r>
              <a:rPr b="0" lang="en-US" sz="2600" spc="-1" strike="noStrike" baseline="-25000">
                <a:solidFill>
                  <a:srgbClr val="330066"/>
                </a:solidFill>
                <a:latin typeface="Times New Roman"/>
              </a:rPr>
              <a:t> in </a:t>
            </a:r>
            <a:r>
              <a:rPr b="0" i="1" lang="en-US" sz="2600" spc="-1" strike="noStrike" baseline="-25000">
                <a:solidFill>
                  <a:srgbClr val="330066"/>
                </a:solidFill>
                <a:latin typeface="Times New Roman"/>
              </a:rPr>
              <a:t>Student</a:t>
            </a:r>
            <a:r>
              <a:rPr b="0" lang="en-US" sz="2600" spc="-1" strike="noStrike" baseline="-25000">
                <a:solidFill>
                  <a:srgbClr val="330066"/>
                </a:solidFill>
                <a:latin typeface="Times New Roman"/>
              </a:rPr>
              <a:t> table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Stud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1142640" y="4952880"/>
            <a:ext cx="2895840" cy="304920"/>
            <a:chOff x="1142640" y="4952880"/>
            <a:chExt cx="2895840" cy="304920"/>
          </a:xfrm>
        </p:grpSpPr>
        <p:sp>
          <p:nvSpPr>
            <p:cNvPr id="426" name=""/>
            <p:cNvSpPr/>
            <p:nvPr/>
          </p:nvSpPr>
          <p:spPr>
            <a:xfrm>
              <a:off x="1143000" y="4952880"/>
              <a:ext cx="28954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1142640" y="4952880"/>
              <a:ext cx="28954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0CEA-586B-40E7-8E14-47D13A29D61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AFCB35-1C85-4400-A4F6-88C225A2A08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c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put: a ta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ation: </a:t>
            </a:r>
            <a:r>
              <a:rPr b="0" lang="en-US" sz="2800" spc="-1" strike="noStrike">
                <a:solidFill>
                  <a:srgbClr val="330066"/>
                </a:solidFill>
                <a:latin typeface="cmmi10"/>
              </a:rPr>
              <a:t>¼</a:t>
            </a:r>
            <a:r>
              <a:rPr b="0" i="1" lang="en-US" sz="2800" spc="-1" strike="noStrike" baseline="-25000">
                <a:solidFill>
                  <a:srgbClr val="330066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a list of columns i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pose: select columns to out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: same rows, but only the column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rder of the rows is preserv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umber of rows may be less (depends on where we have duplicates or not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6C55-30A3-458F-BB27-48463AC9D62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30D983-DF29-48BC-8954-FDE4C87F88A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ction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’s and names of all stud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	</a:t>
            </a:r>
            <a:r>
              <a:rPr b="0" lang="en-US" sz="2800" spc="-1" strike="noStrike">
                <a:solidFill>
                  <a:srgbClr val="330066"/>
                </a:solidFill>
                <a:latin typeface="cmmi10"/>
              </a:rPr>
              <a:t>¼</a:t>
            </a:r>
            <a:r>
              <a:rPr b="0" i="1" lang="en-US" sz="2800" spc="-1" strike="noStrike" baseline="-25000">
                <a:solidFill>
                  <a:srgbClr val="330066"/>
                </a:solidFill>
                <a:latin typeface="Times New Roman"/>
              </a:rPr>
              <a:t>SID</a:t>
            </a:r>
            <a:r>
              <a:rPr b="0" lang="en-US" sz="2800" spc="-1" strike="noStrike" baseline="-25000">
                <a:solidFill>
                  <a:srgbClr val="330066"/>
                </a:solidFill>
                <a:latin typeface="Times New Roman"/>
              </a:rPr>
              <a:t>, </a:t>
            </a:r>
            <a:r>
              <a:rPr b="0" i="1" lang="en-US" sz="2800" spc="-1" strike="noStrike" baseline="-25000">
                <a:solidFill>
                  <a:srgbClr val="330066"/>
                </a:solidFill>
                <a:latin typeface="Times New Roman"/>
              </a:rPr>
              <a:t>name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Stu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2" name=""/>
          <p:cNvGraphicFramePr/>
          <p:nvPr/>
        </p:nvGraphicFramePr>
        <p:xfrm>
          <a:off x="609480" y="2286000"/>
          <a:ext cx="3505320" cy="2190600"/>
        </p:xfrm>
        <a:graphic>
          <a:graphicData uri="http://schemas.openxmlformats.org/drawingml/2006/table">
            <a:tbl>
              <a:tblPr/>
              <a:tblGrid>
                <a:gridCol w="654120"/>
                <a:gridCol w="1631880"/>
                <a:gridCol w="533520"/>
                <a:gridCol w="685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Smit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 Cart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b L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san W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33" name=""/>
          <p:cNvGrpSpPr/>
          <p:nvPr/>
        </p:nvGrpSpPr>
        <p:grpSpPr>
          <a:xfrm>
            <a:off x="4114800" y="3151080"/>
            <a:ext cx="1981080" cy="838440"/>
            <a:chOff x="4114800" y="3151080"/>
            <a:chExt cx="1981080" cy="838440"/>
          </a:xfrm>
        </p:grpSpPr>
        <p:sp>
          <p:nvSpPr>
            <p:cNvPr id="434" name=""/>
            <p:cNvSpPr/>
            <p:nvPr/>
          </p:nvSpPr>
          <p:spPr>
            <a:xfrm>
              <a:off x="4343400" y="3151080"/>
              <a:ext cx="1523880" cy="83844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310280" y="3352680"/>
              <a:ext cx="1438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66"/>
                  </a:solidFill>
                  <a:latin typeface="cmmi10"/>
                </a:rPr>
                <a:t>¼</a:t>
              </a:r>
              <a:r>
                <a:rPr b="0" lang="en-US" sz="2800" spc="-1" strike="noStrike" baseline="-25000">
                  <a:solidFill>
                    <a:srgbClr val="330066"/>
                  </a:solidFill>
                  <a:latin typeface="AmeriGarmnd BT"/>
                </a:rPr>
                <a:t>SID,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114800" y="3621240"/>
              <a:ext cx="228600" cy="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867280" y="3581280"/>
              <a:ext cx="228600" cy="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38" name=""/>
          <p:cNvGraphicFramePr/>
          <p:nvPr/>
        </p:nvGraphicFramePr>
        <p:xfrm>
          <a:off x="6172200" y="2362320"/>
          <a:ext cx="2286000" cy="2190600"/>
        </p:xfrm>
        <a:graphic>
          <a:graphicData uri="http://schemas.openxmlformats.org/drawingml/2006/table">
            <a:tbl>
              <a:tblPr/>
              <a:tblGrid>
                <a:gridCol w="654120"/>
                <a:gridCol w="1631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Smit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 Cart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b L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san W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630C-5AC8-4D52-AAF3-B2B86603D71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4915B7-EB65-49B8-9E69-88C0D03E148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re on projec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plicate output rows are removed (by defini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xample: student 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mmi10"/>
              </a:rPr>
              <a:t>	</a:t>
            </a:r>
            <a:r>
              <a:rPr b="0" lang="en-US" sz="2600" spc="-1" strike="noStrike">
                <a:solidFill>
                  <a:srgbClr val="330066"/>
                </a:solidFill>
                <a:latin typeface="cmmi10"/>
              </a:rPr>
              <a:t>¼</a:t>
            </a:r>
            <a:r>
              <a:rPr b="0" i="1" lang="en-US" sz="2600" spc="-1" strike="noStrike" baseline="-25000">
                <a:solidFill>
                  <a:srgbClr val="330066"/>
                </a:solidFill>
                <a:latin typeface="Times New Roman"/>
              </a:rPr>
              <a:t>age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Stud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914400" y="2819520"/>
          <a:ext cx="3505320" cy="2190600"/>
        </p:xfrm>
        <a:graphic>
          <a:graphicData uri="http://schemas.openxmlformats.org/drawingml/2006/table">
            <a:tbl>
              <a:tblPr/>
              <a:tblGrid>
                <a:gridCol w="654120"/>
                <a:gridCol w="1631880"/>
                <a:gridCol w="533520"/>
                <a:gridCol w="685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Smit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 Cart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b L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san W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42" name=""/>
          <p:cNvGrpSpPr/>
          <p:nvPr/>
        </p:nvGrpSpPr>
        <p:grpSpPr>
          <a:xfrm>
            <a:off x="4419720" y="3684600"/>
            <a:ext cx="1981080" cy="838080"/>
            <a:chOff x="4419720" y="3684600"/>
            <a:chExt cx="1981080" cy="838080"/>
          </a:xfrm>
        </p:grpSpPr>
        <p:sp>
          <p:nvSpPr>
            <p:cNvPr id="443" name=""/>
            <p:cNvSpPr/>
            <p:nvPr/>
          </p:nvSpPr>
          <p:spPr>
            <a:xfrm>
              <a:off x="4648320" y="3684600"/>
              <a:ext cx="1523880" cy="83808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596480" y="3885840"/>
              <a:ext cx="804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66"/>
                  </a:solidFill>
                  <a:latin typeface="cmmi10"/>
                </a:rPr>
                <a:t>¼</a:t>
              </a:r>
              <a:r>
                <a:rPr b="0" lang="en-US" sz="2800" spc="-1" strike="noStrike" baseline="-25000">
                  <a:solidFill>
                    <a:srgbClr val="330066"/>
                  </a:solidFill>
                  <a:latin typeface="AmeriGarmnd BT"/>
                </a:rPr>
                <a:t>ag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4154400"/>
              <a:ext cx="228600" cy="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172200" y="4114440"/>
              <a:ext cx="228600" cy="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47" name=""/>
          <p:cNvGraphicFramePr/>
          <p:nvPr/>
        </p:nvGraphicFramePr>
        <p:xfrm>
          <a:off x="6477120" y="2895480"/>
          <a:ext cx="533160" cy="2190600"/>
        </p:xfrm>
        <a:graphic>
          <a:graphicData uri="http://schemas.openxmlformats.org/drawingml/2006/table">
            <a:tbl>
              <a:tblPr/>
              <a:tblGrid>
                <a:gridCol w="533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8" name=""/>
          <p:cNvSpPr/>
          <p:nvPr/>
        </p:nvSpPr>
        <p:spPr>
          <a:xfrm>
            <a:off x="6400800" y="4038480"/>
            <a:ext cx="6858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6E34-D6FF-428F-983C-D4ADED80815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5684F4-C0A1-40D5-BECA-34FD0237332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5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oss produc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put: two tabl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ation: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0066"/>
                </a:solidFill>
                <a:latin typeface="cmsy10"/>
              </a:rPr>
              <a:t>£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pose: pairs rows from two t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: for each row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each row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output a row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concatenatio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1FE8-C4E3-482B-9116-5BFC604536A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3C5FE7-32D8-4C57-930D-76BBB81E1AB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oss product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nro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380880" y="1676520"/>
          <a:ext cx="3505320" cy="1460520"/>
        </p:xfrm>
        <a:graphic>
          <a:graphicData uri="http://schemas.openxmlformats.org/drawingml/2006/table">
            <a:tbl>
              <a:tblPr/>
              <a:tblGrid>
                <a:gridCol w="654120"/>
                <a:gridCol w="1631880"/>
                <a:gridCol w="533520"/>
                <a:gridCol w="685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Smit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 Cart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b L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54" name=""/>
          <p:cNvGraphicFramePr/>
          <p:nvPr/>
        </p:nvGraphicFramePr>
        <p:xfrm>
          <a:off x="5791320" y="1676520"/>
          <a:ext cx="2514600" cy="1095120"/>
        </p:xfrm>
        <a:graphic>
          <a:graphicData uri="http://schemas.openxmlformats.org/drawingml/2006/table">
            <a:tbl>
              <a:tblPr/>
              <a:tblGrid>
                <a:gridCol w="685800"/>
                <a:gridCol w="914400"/>
                <a:gridCol w="9144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55" name=""/>
          <p:cNvGraphicFramePr/>
          <p:nvPr/>
        </p:nvGraphicFramePr>
        <p:xfrm>
          <a:off x="1523880" y="3809880"/>
          <a:ext cx="5867640" cy="2555640"/>
        </p:xfrm>
        <a:graphic>
          <a:graphicData uri="http://schemas.openxmlformats.org/drawingml/2006/table">
            <a:tbl>
              <a:tblPr/>
              <a:tblGrid>
                <a:gridCol w="690840"/>
                <a:gridCol w="1720800"/>
                <a:gridCol w="561960"/>
                <a:gridCol w="723960"/>
                <a:gridCol w="723600"/>
                <a:gridCol w="722520"/>
                <a:gridCol w="7239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Smit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 Cart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b L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Smit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 Cart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b L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56" name=""/>
          <p:cNvGrpSpPr/>
          <p:nvPr/>
        </p:nvGrpSpPr>
        <p:grpSpPr>
          <a:xfrm>
            <a:off x="3886200" y="2286000"/>
            <a:ext cx="1905120" cy="1523880"/>
            <a:chOff x="3886200" y="2286000"/>
            <a:chExt cx="1905120" cy="1523880"/>
          </a:xfrm>
        </p:grpSpPr>
        <p:grpSp>
          <p:nvGrpSpPr>
            <p:cNvPr id="457" name=""/>
            <p:cNvGrpSpPr/>
            <p:nvPr/>
          </p:nvGrpSpPr>
          <p:grpSpPr>
            <a:xfrm>
              <a:off x="4038480" y="2743200"/>
              <a:ext cx="1523880" cy="838080"/>
              <a:chOff x="4038480" y="2743200"/>
              <a:chExt cx="1523880" cy="838080"/>
            </a:xfrm>
          </p:grpSpPr>
          <p:sp>
            <p:nvSpPr>
              <p:cNvPr id="458" name=""/>
              <p:cNvSpPr/>
              <p:nvPr/>
            </p:nvSpPr>
            <p:spPr>
              <a:xfrm>
                <a:off x="4038480" y="2743200"/>
                <a:ext cx="1523880" cy="838080"/>
              </a:xfrm>
              <a:prstGeom prst="ellipse">
                <a:avLst/>
              </a:prstGeom>
              <a:blipFill rotWithShape="0">
                <a:blip r:embed="rId1"/>
                <a:srcRect/>
                <a:stretch/>
              </a:blipFill>
              <a:ln w="38160">
                <a:solidFill>
                  <a:srgbClr val="33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647960" y="289548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330066"/>
                    </a:solidFill>
                    <a:latin typeface="Times New Roman"/>
                  </a:rPr>
                  <a:t>×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0" name=""/>
            <p:cNvSpPr/>
            <p:nvPr/>
          </p:nvSpPr>
          <p:spPr>
            <a:xfrm>
              <a:off x="3886200" y="2362320"/>
              <a:ext cx="533520" cy="53316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5257800" y="2286000"/>
              <a:ext cx="533520" cy="53352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800600" y="3505320"/>
              <a:ext cx="0" cy="30456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2392-66A5-4D06-9905-0E1A9194968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2B8680-528B-4C44-A43E-C0E348A38DA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838080" y="1371600"/>
          <a:ext cx="7200720" cy="3600360"/>
        </p:xfrm>
        <a:graphic>
          <a:graphicData uri="http://schemas.openxmlformats.org/drawingml/2006/table">
            <a:tbl>
              <a:tblPr/>
              <a:tblGrid>
                <a:gridCol w="3568680"/>
                <a:gridCol w="3632040"/>
              </a:tblGrid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Informal Terms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Formal Terms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ble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latio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lum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tribute/Doma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up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ues in a colum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ma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ble Defini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ema of a Rel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pulated Tab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ten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>
            <a:off x="4495680" y="1981080"/>
            <a:ext cx="350532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495680" y="2438280"/>
            <a:ext cx="350532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95680" y="2971800"/>
            <a:ext cx="350532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495680" y="3505320"/>
            <a:ext cx="350532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5680" y="3962520"/>
            <a:ext cx="350532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495680" y="4495680"/>
            <a:ext cx="350532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E445-C3D2-4744-930D-08E294DF5BF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677A0C-9243-4704-B0BD-F4CBAD01D8E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note on column order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1048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rdering of columns in a table is considered unimportant (as is the ordering of row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28600" y="4952880"/>
            <a:ext cx="8686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 means cross product is commutative, i.e.,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an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353120" y="30780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Garmnd BT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609480" y="2666880"/>
          <a:ext cx="3505320" cy="1460520"/>
        </p:xfrm>
        <a:graphic>
          <a:graphicData uri="http://schemas.openxmlformats.org/drawingml/2006/table">
            <a:tbl>
              <a:tblPr/>
              <a:tblGrid>
                <a:gridCol w="654120"/>
                <a:gridCol w="1631880"/>
                <a:gridCol w="533520"/>
                <a:gridCol w="685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Smit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 Cart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b L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8" name=""/>
          <p:cNvGraphicFramePr/>
          <p:nvPr/>
        </p:nvGraphicFramePr>
        <p:xfrm>
          <a:off x="4800600" y="2666880"/>
          <a:ext cx="3505320" cy="1460520"/>
        </p:xfrm>
        <a:graphic>
          <a:graphicData uri="http://schemas.openxmlformats.org/drawingml/2006/table">
            <a:tbl>
              <a:tblPr/>
              <a:tblGrid>
                <a:gridCol w="654120"/>
                <a:gridCol w="1631880"/>
                <a:gridCol w="533520"/>
                <a:gridCol w="685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Smit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 Cart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b L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6E4B-135E-4A61-9734-07DDCA685C4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1AA6E3-B572-467F-A7FC-824D5692817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rived operator: joi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put: two tabl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ation: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0066"/>
                </a:solidFill>
                <a:latin typeface="dbsym"/>
                <a:ea typeface="dbsym"/>
              </a:rPr>
              <a:t></a:t>
            </a:r>
            <a:r>
              <a:rPr b="0" i="1" lang="en-US" sz="2800" spc="-1" strike="noStrike" baseline="-25000">
                <a:solidFill>
                  <a:srgbClr val="330066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called a 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join condition/predica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pose: relate rows from two tables according to some cri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: for each row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each row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output a row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tisf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28600" y="5181480"/>
            <a:ext cx="86868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rthand for </a:t>
            </a:r>
            <a:r>
              <a:rPr b="0" lang="en-US" sz="2800" spc="-1" strike="noStrike">
                <a:solidFill>
                  <a:srgbClr val="330066"/>
                </a:solidFill>
                <a:latin typeface="cmmi10"/>
              </a:rPr>
              <a:t>¾</a:t>
            </a:r>
            <a:r>
              <a:rPr b="0" i="1" lang="en-US" sz="2800" spc="-1" strike="noStrike" baseline="-25000">
                <a:solidFill>
                  <a:srgbClr val="330066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(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0066"/>
                </a:solidFill>
                <a:latin typeface="cmsy10"/>
              </a:rPr>
              <a:t>£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6313-90B5-42B8-9E0B-C7F40068F3B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1CB619-E80B-4434-84B1-336D9F19826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oin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 about students, plus CID’s of their cour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dbsym"/>
                <a:ea typeface="dbsym"/>
              </a:rPr>
              <a:t>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tuden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I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rol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nro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2438280" y="5238720"/>
            <a:ext cx="3962520" cy="587520"/>
            <a:chOff x="2438280" y="5238720"/>
            <a:chExt cx="3962520" cy="587520"/>
          </a:xfrm>
        </p:grpSpPr>
        <p:sp>
          <p:nvSpPr>
            <p:cNvPr id="475" name=""/>
            <p:cNvSpPr/>
            <p:nvPr/>
          </p:nvSpPr>
          <p:spPr>
            <a:xfrm>
              <a:off x="2438280" y="5238720"/>
              <a:ext cx="3962520" cy="0"/>
            </a:xfrm>
            <a:prstGeom prst="line">
              <a:avLst/>
            </a:prstGeom>
            <a:ln w="31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438280" y="5521320"/>
              <a:ext cx="3962520" cy="0"/>
            </a:xfrm>
            <a:prstGeom prst="line">
              <a:avLst/>
            </a:prstGeom>
            <a:ln w="31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438280" y="5826240"/>
              <a:ext cx="3962520" cy="0"/>
            </a:xfrm>
            <a:prstGeom prst="line">
              <a:avLst/>
            </a:prstGeom>
            <a:ln w="31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-591120" y="3429000"/>
            <a:ext cx="5447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Use </a:t>
            </a: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table_name</a:t>
            </a: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. </a:t>
            </a:r>
            <a:r>
              <a:rPr b="0" i="1" lang="en-US" sz="2400" spc="-1" strike="noStrike">
                <a:solidFill>
                  <a:srgbClr val="000000"/>
                </a:solidFill>
                <a:latin typeface="AmeriGarmnd BT"/>
              </a:rPr>
              <a:t>column_name</a:t>
            </a: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 synta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to disambigu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identically nam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columns fro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different inpu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9" name=""/>
          <p:cNvGraphicFramePr/>
          <p:nvPr/>
        </p:nvGraphicFramePr>
        <p:xfrm>
          <a:off x="609480" y="1981080"/>
          <a:ext cx="3505320" cy="1460520"/>
        </p:xfrm>
        <a:graphic>
          <a:graphicData uri="http://schemas.openxmlformats.org/drawingml/2006/table">
            <a:tbl>
              <a:tblPr/>
              <a:tblGrid>
                <a:gridCol w="654120"/>
                <a:gridCol w="1631880"/>
                <a:gridCol w="533520"/>
                <a:gridCol w="685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Smit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 Cart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b L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0" name=""/>
          <p:cNvGraphicFramePr/>
          <p:nvPr/>
        </p:nvGraphicFramePr>
        <p:xfrm>
          <a:off x="6248520" y="2028960"/>
          <a:ext cx="2514600" cy="1095120"/>
        </p:xfrm>
        <a:graphic>
          <a:graphicData uri="http://schemas.openxmlformats.org/drawingml/2006/table">
            <a:tbl>
              <a:tblPr/>
              <a:tblGrid>
                <a:gridCol w="685800"/>
                <a:gridCol w="914400"/>
                <a:gridCol w="9144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1" name=""/>
          <p:cNvGraphicFramePr/>
          <p:nvPr/>
        </p:nvGraphicFramePr>
        <p:xfrm>
          <a:off x="2514600" y="3921120"/>
          <a:ext cx="5867280" cy="2555640"/>
        </p:xfrm>
        <a:graphic>
          <a:graphicData uri="http://schemas.openxmlformats.org/drawingml/2006/table">
            <a:tbl>
              <a:tblPr/>
              <a:tblGrid>
                <a:gridCol w="690480"/>
                <a:gridCol w="1720800"/>
                <a:gridCol w="561960"/>
                <a:gridCol w="723960"/>
                <a:gridCol w="723600"/>
                <a:gridCol w="722520"/>
                <a:gridCol w="7239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Smit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 Cart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b L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Smit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 Cart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b L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82" name=""/>
          <p:cNvGrpSpPr/>
          <p:nvPr/>
        </p:nvGrpSpPr>
        <p:grpSpPr>
          <a:xfrm>
            <a:off x="4114800" y="2590920"/>
            <a:ext cx="2133720" cy="1371600"/>
            <a:chOff x="4114800" y="2590920"/>
            <a:chExt cx="2133720" cy="1371600"/>
          </a:xfrm>
        </p:grpSpPr>
        <p:grpSp>
          <p:nvGrpSpPr>
            <p:cNvPr id="483" name=""/>
            <p:cNvGrpSpPr/>
            <p:nvPr/>
          </p:nvGrpSpPr>
          <p:grpSpPr>
            <a:xfrm>
              <a:off x="4191120" y="2590920"/>
              <a:ext cx="2057400" cy="1292040"/>
              <a:chOff x="4191120" y="2590920"/>
              <a:chExt cx="2057400" cy="1292040"/>
            </a:xfrm>
          </p:grpSpPr>
          <p:sp>
            <p:nvSpPr>
              <p:cNvPr id="484" name=""/>
              <p:cNvSpPr/>
              <p:nvPr/>
            </p:nvSpPr>
            <p:spPr>
              <a:xfrm>
                <a:off x="4419720" y="2819520"/>
                <a:ext cx="1523880" cy="838080"/>
              </a:xfrm>
              <a:prstGeom prst="ellipse">
                <a:avLst/>
              </a:prstGeom>
              <a:blipFill rotWithShape="0">
                <a:blip r:embed="rId1"/>
                <a:srcRect/>
                <a:stretch/>
              </a:blipFill>
              <a:ln w="38160">
                <a:solidFill>
                  <a:srgbClr val="33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4191120" y="2590920"/>
                <a:ext cx="2057400" cy="129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0066"/>
                    </a:solidFill>
                    <a:latin typeface="dbsym"/>
                    <a:ea typeface="dbsym"/>
                  </a:rPr>
                  <a:t></a:t>
                </a:r>
                <a:br>
                  <a:rPr sz="2400"/>
                </a:br>
                <a:r>
                  <a:rPr b="0" i="1" lang="en-US" sz="2400" spc="-1" strike="noStrike" baseline="-25000">
                    <a:solidFill>
                      <a:srgbClr val="330066"/>
                    </a:solidFill>
                    <a:latin typeface="AmeriGarmnd BT"/>
                  </a:rPr>
                  <a:t>Student</a:t>
                </a:r>
                <a:r>
                  <a:rPr b="0" lang="en-US" sz="2400" spc="-1" strike="noStrike" baseline="-25000">
                    <a:solidFill>
                      <a:srgbClr val="330066"/>
                    </a:solidFill>
                    <a:latin typeface="AmeriGarmnd BT"/>
                  </a:rPr>
                  <a:t>.</a:t>
                </a:r>
                <a:r>
                  <a:rPr b="0" i="1" lang="en-US" sz="2400" spc="-1" strike="noStrike" baseline="-25000">
                    <a:solidFill>
                      <a:srgbClr val="330066"/>
                    </a:solidFill>
                    <a:latin typeface="AmeriGarmnd BT"/>
                  </a:rPr>
                  <a:t>SID</a:t>
                </a:r>
                <a:r>
                  <a:rPr b="0" lang="en-US" sz="2400" spc="-1" strike="noStrike" baseline="-25000">
                    <a:solidFill>
                      <a:srgbClr val="330066"/>
                    </a:solidFill>
                    <a:latin typeface="AmeriGarmnd BT"/>
                  </a:rPr>
                  <a:t> = </a:t>
                </a:r>
                <a:br>
                  <a:rPr sz="2400"/>
                </a:br>
                <a:r>
                  <a:rPr b="0" i="1" lang="en-US" sz="2400" spc="-1" strike="noStrike" baseline="-25000">
                    <a:solidFill>
                      <a:srgbClr val="330066"/>
                    </a:solidFill>
                    <a:latin typeface="AmeriGarmnd BT"/>
                  </a:rPr>
                  <a:t>Enroll</a:t>
                </a:r>
                <a:r>
                  <a:rPr b="0" lang="en-US" sz="2400" spc="-1" strike="noStrike" baseline="-25000">
                    <a:solidFill>
                      <a:srgbClr val="330066"/>
                    </a:solidFill>
                    <a:latin typeface="AmeriGarmnd BT"/>
                  </a:rPr>
                  <a:t>.</a:t>
                </a:r>
                <a:r>
                  <a:rPr b="0" i="1" lang="en-US" sz="2400" spc="-1" strike="noStrike" baseline="-25000">
                    <a:solidFill>
                      <a:srgbClr val="330066"/>
                    </a:solidFill>
                    <a:latin typeface="AmeriGarmnd BT"/>
                  </a:rPr>
                  <a:t>SI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" name=""/>
            <p:cNvSpPr/>
            <p:nvPr/>
          </p:nvSpPr>
          <p:spPr>
            <a:xfrm>
              <a:off x="4114800" y="2666880"/>
              <a:ext cx="533520" cy="30492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5562360" y="2666880"/>
              <a:ext cx="685800" cy="22860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181480" y="3657600"/>
              <a:ext cx="0" cy="30492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2590920" y="4724280"/>
            <a:ext cx="5715000" cy="1676520"/>
            <a:chOff x="2590920" y="4724280"/>
            <a:chExt cx="5715000" cy="1676520"/>
          </a:xfrm>
        </p:grpSpPr>
        <p:sp>
          <p:nvSpPr>
            <p:cNvPr id="490" name=""/>
            <p:cNvSpPr/>
            <p:nvPr/>
          </p:nvSpPr>
          <p:spPr>
            <a:xfrm>
              <a:off x="2590920" y="4724280"/>
              <a:ext cx="5638680" cy="990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666880" y="6172200"/>
              <a:ext cx="563904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680D-25CB-4BFF-ABE8-AA4FACEC2A5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DBB0FA-03C5-43DA-AA0A-D3ABF3473E8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rived operator: natural joi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put: two tabl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ation: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pose: relate rows from two tables,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nforce equality on all common attribu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liminate one copy of common attribu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28600" y="4071960"/>
            <a:ext cx="86868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rthand for </a:t>
            </a:r>
            <a:r>
              <a:rPr b="0" lang="en-US" sz="2800" spc="-1" strike="noStrike">
                <a:solidFill>
                  <a:srgbClr val="330066"/>
                </a:solidFill>
                <a:latin typeface="cmmi10"/>
              </a:rPr>
              <a:t>¼</a:t>
            </a:r>
            <a:r>
              <a:rPr b="0" i="1" lang="en-US" sz="2800" spc="-1" strike="noStrike" baseline="-25000">
                <a:solidFill>
                  <a:srgbClr val="330066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(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0066"/>
                </a:solidFill>
                <a:latin typeface="dbsym"/>
                <a:ea typeface="dbsym"/>
              </a:rPr>
              <a:t></a:t>
            </a:r>
            <a:r>
              <a:rPr b="0" i="1" lang="en-US" sz="2800" spc="-1" strike="noStrike" baseline="-25000">
                <a:solidFill>
                  <a:srgbClr val="330066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equates all attributes common to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the union of all attributes from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with duplicate attributes remo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F656-AF19-4D5B-B094-5ACCDEC1C9A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12AD6F-E19D-4BE3-8279-0006F28695F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5334120" y="4343400"/>
            <a:ext cx="0" cy="2514600"/>
          </a:xfrm>
          <a:prstGeom prst="line">
            <a:avLst/>
          </a:prstGeom>
          <a:ln w="507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tural join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nro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¼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dbsym"/>
                <a:ea typeface="dbsym"/>
              </a:rPr>
              <a:t>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nro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¼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I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ag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GP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dbsym"/>
                <a:ea typeface="dbsym"/>
              </a:rPr>
              <a:t>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tuden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I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nrol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ro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8" name=""/>
          <p:cNvGraphicFramePr/>
          <p:nvPr/>
        </p:nvGraphicFramePr>
        <p:xfrm>
          <a:off x="304920" y="2092320"/>
          <a:ext cx="3504960" cy="1460520"/>
        </p:xfrm>
        <a:graphic>
          <a:graphicData uri="http://schemas.openxmlformats.org/drawingml/2006/table">
            <a:tbl>
              <a:tblPr/>
              <a:tblGrid>
                <a:gridCol w="653760"/>
                <a:gridCol w="1631880"/>
                <a:gridCol w="533520"/>
                <a:gridCol w="685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Smit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 Cart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b L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9" name=""/>
          <p:cNvGraphicFramePr/>
          <p:nvPr/>
        </p:nvGraphicFramePr>
        <p:xfrm>
          <a:off x="5943600" y="2139840"/>
          <a:ext cx="2514600" cy="1095480"/>
        </p:xfrm>
        <a:graphic>
          <a:graphicData uri="http://schemas.openxmlformats.org/drawingml/2006/table">
            <a:tbl>
              <a:tblPr/>
              <a:tblGrid>
                <a:gridCol w="685800"/>
                <a:gridCol w="914400"/>
                <a:gridCol w="9144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0" name=""/>
          <p:cNvGraphicFramePr/>
          <p:nvPr/>
        </p:nvGraphicFramePr>
        <p:xfrm>
          <a:off x="2209680" y="3921120"/>
          <a:ext cx="5867640" cy="2555640"/>
        </p:xfrm>
        <a:graphic>
          <a:graphicData uri="http://schemas.openxmlformats.org/drawingml/2006/table">
            <a:tbl>
              <a:tblPr/>
              <a:tblGrid>
                <a:gridCol w="690840"/>
                <a:gridCol w="1720800"/>
                <a:gridCol w="561960"/>
                <a:gridCol w="723960"/>
                <a:gridCol w="723600"/>
                <a:gridCol w="722520"/>
                <a:gridCol w="7239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Smit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 Cart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b L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Smit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 Cart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b L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01" name=""/>
          <p:cNvGrpSpPr/>
          <p:nvPr/>
        </p:nvGrpSpPr>
        <p:grpSpPr>
          <a:xfrm>
            <a:off x="3809880" y="2701800"/>
            <a:ext cx="2133720" cy="1371600"/>
            <a:chOff x="3809880" y="2701800"/>
            <a:chExt cx="2133720" cy="1371600"/>
          </a:xfrm>
        </p:grpSpPr>
        <p:grpSp>
          <p:nvGrpSpPr>
            <p:cNvPr id="502" name=""/>
            <p:cNvGrpSpPr/>
            <p:nvPr/>
          </p:nvGrpSpPr>
          <p:grpSpPr>
            <a:xfrm>
              <a:off x="3886200" y="2701800"/>
              <a:ext cx="2057400" cy="1066680"/>
              <a:chOff x="3886200" y="2701800"/>
              <a:chExt cx="2057400" cy="1066680"/>
            </a:xfrm>
          </p:grpSpPr>
          <p:sp>
            <p:nvSpPr>
              <p:cNvPr id="503" name=""/>
              <p:cNvSpPr/>
              <p:nvPr/>
            </p:nvSpPr>
            <p:spPr>
              <a:xfrm>
                <a:off x="4114800" y="2930400"/>
                <a:ext cx="1523880" cy="838080"/>
              </a:xfrm>
              <a:prstGeom prst="ellipse">
                <a:avLst/>
              </a:prstGeom>
              <a:blipFill rotWithShape="0">
                <a:blip r:embed="rId1"/>
                <a:srcRect/>
                <a:stretch/>
              </a:blipFill>
              <a:ln w="38160">
                <a:solidFill>
                  <a:srgbClr val="33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3886200" y="2701800"/>
                <a:ext cx="2057400" cy="103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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5" name=""/>
            <p:cNvSpPr/>
            <p:nvPr/>
          </p:nvSpPr>
          <p:spPr>
            <a:xfrm>
              <a:off x="3809880" y="2777760"/>
              <a:ext cx="533520" cy="30492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5257440" y="2777760"/>
              <a:ext cx="685800" cy="22860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876560" y="3768480"/>
              <a:ext cx="0" cy="30492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2286000" y="4724280"/>
            <a:ext cx="5715000" cy="1676520"/>
            <a:chOff x="2286000" y="4724280"/>
            <a:chExt cx="5715000" cy="1676520"/>
          </a:xfrm>
        </p:grpSpPr>
        <p:sp>
          <p:nvSpPr>
            <p:cNvPr id="509" name=""/>
            <p:cNvSpPr/>
            <p:nvPr/>
          </p:nvSpPr>
          <p:spPr>
            <a:xfrm>
              <a:off x="2286000" y="4724280"/>
              <a:ext cx="5638680" cy="990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361960" y="6172200"/>
              <a:ext cx="563904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" name=""/>
          <p:cNvSpPr/>
          <p:nvPr/>
        </p:nvSpPr>
        <p:spPr>
          <a:xfrm>
            <a:off x="5943600" y="3962520"/>
            <a:ext cx="609480" cy="243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0D80-6F56-4C9F-84BC-A7E6CFDE24A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041924-EEC7-4F80-8710-A35F83B7EC9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put: two tabl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ation: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0066"/>
                </a:solidFill>
                <a:latin typeface="cmsy10"/>
              </a:rPr>
              <a:t>[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must have identical schem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as the same schema as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ntains all rows i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nd all rows i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with duplicate rows eliminat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0CB2-A6EE-4CB5-B5A1-139044E8095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FE0B21-BCFE-43BB-822A-302CDF49D8A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fferen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put: two tabl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ation: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0066"/>
                </a:solidFill>
                <a:latin typeface="cmsy10"/>
              </a:rPr>
              <a:t>¡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must have identical schem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as the same schema as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ntains all rows i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hat are not found i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9FF3-5F3C-4348-8EC0-9445C44ADD0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D4E302-215E-44C7-9A4F-D43FDE586AF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rived operator: intersec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put: two tabl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ation: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0066"/>
                </a:solidFill>
                <a:latin typeface="cmsy10"/>
              </a:rPr>
              <a:t>\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must have identical schem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as the same schema as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ntains all rows that are in both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28600" y="4191120"/>
            <a:ext cx="8686800" cy="19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rthand for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0066"/>
                </a:solidFill>
                <a:latin typeface="cmsy10"/>
              </a:rPr>
              <a:t>¡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(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0066"/>
                </a:solidFill>
                <a:latin typeface="cmsy10"/>
              </a:rPr>
              <a:t>¡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o equivalent to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0066"/>
                </a:solidFill>
                <a:latin typeface="cmsy10"/>
              </a:rPr>
              <a:t>¡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(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0066"/>
                </a:solidFill>
                <a:latin typeface="cmsy10"/>
              </a:rPr>
              <a:t>¡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to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0066"/>
                </a:solidFill>
                <a:latin typeface="Symbol"/>
                <a:ea typeface="Symbol"/>
              </a:rPr>
              <a:t>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7A67-A9AA-463E-B77D-DE11F3A3364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4A1E3A-7273-4E49-96DB-D17DC8CFB73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nam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put: a ta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ation: </a:t>
            </a:r>
            <a:r>
              <a:rPr b="0" lang="en-US" sz="2800" spc="-1" strike="noStrike">
                <a:solidFill>
                  <a:srgbClr val="330066"/>
                </a:solidFill>
                <a:latin typeface="cmmi10"/>
              </a:rPr>
              <a:t>½</a:t>
            </a:r>
            <a:r>
              <a:rPr b="0" i="1" lang="en-US" sz="2800" spc="-1" strike="noStrike" baseline="-25000">
                <a:solidFill>
                  <a:srgbClr val="330066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330066"/>
                </a:solidFill>
                <a:latin typeface="cmmi10"/>
              </a:rPr>
              <a:t>½</a:t>
            </a:r>
            <a:r>
              <a:rPr b="0" lang="en-US" sz="2800" spc="-1" strike="noStrike" baseline="-25000">
                <a:solidFill>
                  <a:srgbClr val="330066"/>
                </a:solidFill>
                <a:latin typeface="Times New Roman"/>
              </a:rPr>
              <a:t>(</a:t>
            </a:r>
            <a:r>
              <a:rPr b="0" i="1" lang="en-US" sz="2800" spc="-1" strike="noStrike" baseline="-25000">
                <a:solidFill>
                  <a:srgbClr val="330066"/>
                </a:solidFill>
                <a:latin typeface="Times New Roman"/>
              </a:rPr>
              <a:t>A</a:t>
            </a:r>
            <a:r>
              <a:rPr b="0" lang="en-US" sz="2400" spc="-1" strike="noStrike" baseline="-50000">
                <a:solidFill>
                  <a:srgbClr val="330066"/>
                </a:solidFill>
                <a:latin typeface="Times New Roman"/>
              </a:rPr>
              <a:t>1</a:t>
            </a:r>
            <a:r>
              <a:rPr b="0" lang="en-US" sz="2800" spc="-1" strike="noStrike" baseline="-25000">
                <a:solidFill>
                  <a:srgbClr val="330066"/>
                </a:solidFill>
                <a:latin typeface="Times New Roman"/>
              </a:rPr>
              <a:t>, </a:t>
            </a:r>
            <a:r>
              <a:rPr b="0" i="1" lang="en-US" sz="2800" spc="-1" strike="noStrike" baseline="-25000">
                <a:solidFill>
                  <a:srgbClr val="330066"/>
                </a:solidFill>
                <a:latin typeface="Times New Roman"/>
              </a:rPr>
              <a:t>A</a:t>
            </a:r>
            <a:r>
              <a:rPr b="0" lang="en-US" sz="2400" spc="-1" strike="noStrike" baseline="-50000">
                <a:solidFill>
                  <a:srgbClr val="330066"/>
                </a:solidFill>
                <a:latin typeface="Times New Roman"/>
              </a:rPr>
              <a:t>2</a:t>
            </a:r>
            <a:r>
              <a:rPr b="0" lang="en-US" sz="2800" spc="-1" strike="noStrike" baseline="-25000">
                <a:solidFill>
                  <a:srgbClr val="330066"/>
                </a:solidFill>
                <a:latin typeface="Times New Roman"/>
              </a:rPr>
              <a:t>, …)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800" spc="-1" strike="noStrike">
                <a:solidFill>
                  <a:srgbClr val="330066"/>
                </a:solidFill>
                <a:latin typeface="cmmi10"/>
              </a:rPr>
              <a:t>½</a:t>
            </a:r>
            <a:r>
              <a:rPr b="0" i="1" lang="en-US" sz="2800" spc="-1" strike="noStrike" baseline="-25000">
                <a:solidFill>
                  <a:srgbClr val="330066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330066"/>
                </a:solidFill>
                <a:latin typeface="Times New Roman"/>
              </a:rPr>
              <a:t>(</a:t>
            </a:r>
            <a:r>
              <a:rPr b="0" i="1" lang="en-US" sz="2800" spc="-1" strike="noStrike" baseline="-25000">
                <a:solidFill>
                  <a:srgbClr val="330066"/>
                </a:solidFill>
                <a:latin typeface="Times New Roman"/>
              </a:rPr>
              <a:t>A</a:t>
            </a:r>
            <a:r>
              <a:rPr b="0" lang="en-US" sz="2400" spc="-1" strike="noStrike" baseline="-50000">
                <a:solidFill>
                  <a:srgbClr val="330066"/>
                </a:solidFill>
                <a:latin typeface="Times New Roman"/>
              </a:rPr>
              <a:t>1</a:t>
            </a:r>
            <a:r>
              <a:rPr b="0" lang="en-US" sz="2800" spc="-1" strike="noStrike" baseline="-25000">
                <a:solidFill>
                  <a:srgbClr val="330066"/>
                </a:solidFill>
                <a:latin typeface="Times New Roman"/>
              </a:rPr>
              <a:t>, </a:t>
            </a:r>
            <a:r>
              <a:rPr b="0" i="1" lang="en-US" sz="2800" spc="-1" strike="noStrike" baseline="-25000">
                <a:solidFill>
                  <a:srgbClr val="330066"/>
                </a:solidFill>
                <a:latin typeface="Times New Roman"/>
              </a:rPr>
              <a:t>A</a:t>
            </a:r>
            <a:r>
              <a:rPr b="0" lang="en-US" sz="2400" spc="-1" strike="noStrike" baseline="-50000">
                <a:solidFill>
                  <a:srgbClr val="330066"/>
                </a:solidFill>
                <a:latin typeface="Times New Roman"/>
              </a:rPr>
              <a:t>2</a:t>
            </a:r>
            <a:r>
              <a:rPr b="0" lang="en-US" sz="2800" spc="-1" strike="noStrike" baseline="-25000">
                <a:solidFill>
                  <a:srgbClr val="330066"/>
                </a:solidFill>
                <a:latin typeface="Times New Roman"/>
              </a:rPr>
              <a:t>, …)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pose: rename a table and/or its colum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: a renamed table with the same rows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void confusion caused by identical column nam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reate identical columns names for natural joi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DED5-8249-4459-A403-BF43E276F04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A7DCC7-A272-4C8A-8DDB-2608EAA9B6C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naming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0066"/>
                </a:solidFill>
                <a:latin typeface="Symbol"/>
                <a:ea typeface="Symbol"/>
              </a:rPr>
              <a:t></a:t>
            </a:r>
            <a:r>
              <a:rPr b="0" i="1" lang="en-US" sz="2800" spc="-1" strike="noStrike" baseline="-25000">
                <a:solidFill>
                  <a:srgbClr val="330066"/>
                </a:solidFill>
                <a:latin typeface="Times New Roman"/>
              </a:rPr>
              <a:t>Enroll</a:t>
            </a:r>
            <a:r>
              <a:rPr b="0" lang="en-US" sz="2800" spc="-1" strike="noStrike" baseline="-25000">
                <a:solidFill>
                  <a:srgbClr val="330066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SID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1,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CID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1,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Grade1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) Enro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3" name=""/>
          <p:cNvGraphicFramePr/>
          <p:nvPr/>
        </p:nvGraphicFramePr>
        <p:xfrm>
          <a:off x="457200" y="2257560"/>
          <a:ext cx="2514600" cy="1095120"/>
        </p:xfrm>
        <a:graphic>
          <a:graphicData uri="http://schemas.openxmlformats.org/drawingml/2006/table">
            <a:tbl>
              <a:tblPr/>
              <a:tblGrid>
                <a:gridCol w="685800"/>
                <a:gridCol w="914400"/>
                <a:gridCol w="9144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4" name=""/>
          <p:cNvGraphicFramePr/>
          <p:nvPr/>
        </p:nvGraphicFramePr>
        <p:xfrm>
          <a:off x="5943600" y="2209680"/>
          <a:ext cx="2514600" cy="1095480"/>
        </p:xfrm>
        <a:graphic>
          <a:graphicData uri="http://schemas.openxmlformats.org/drawingml/2006/table">
            <a:tbl>
              <a:tblPr/>
              <a:tblGrid>
                <a:gridCol w="685800"/>
                <a:gridCol w="914400"/>
                <a:gridCol w="9144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d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de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25" name=""/>
          <p:cNvGrpSpPr/>
          <p:nvPr/>
        </p:nvGrpSpPr>
        <p:grpSpPr>
          <a:xfrm>
            <a:off x="2971800" y="2514600"/>
            <a:ext cx="2971800" cy="838080"/>
            <a:chOff x="2971800" y="2514600"/>
            <a:chExt cx="2971800" cy="838080"/>
          </a:xfrm>
        </p:grpSpPr>
        <p:sp>
          <p:nvSpPr>
            <p:cNvPr id="526" name=""/>
            <p:cNvSpPr/>
            <p:nvPr/>
          </p:nvSpPr>
          <p:spPr>
            <a:xfrm>
              <a:off x="3733920" y="2514600"/>
              <a:ext cx="1523880" cy="83808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505320" y="2514600"/>
              <a:ext cx="2057400" cy="74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330066"/>
                  </a:solidFill>
                  <a:latin typeface="Symbol"/>
                  <a:ea typeface="Symbol"/>
                </a:rPr>
                <a:t></a:t>
              </a:r>
              <a:r>
                <a:rPr b="0" i="1" lang="en-US" sz="2000" spc="-1" strike="noStrike" baseline="-25000">
                  <a:solidFill>
                    <a:srgbClr val="330066"/>
                  </a:solidFill>
                  <a:latin typeface="Times New Roman"/>
                </a:rPr>
                <a:t>Enroll</a:t>
              </a:r>
              <a:r>
                <a:rPr b="0" lang="en-US" sz="2000" spc="-1" strike="noStrike" baseline="-25000">
                  <a:solidFill>
                    <a:srgbClr val="330066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330066"/>
                  </a:solidFill>
                  <a:latin typeface="Times New Roman"/>
                </a:rPr>
                <a:t>(</a:t>
              </a:r>
              <a:r>
                <a:rPr b="0" i="1" lang="en-US" sz="2000" spc="-1" strike="noStrike">
                  <a:solidFill>
                    <a:srgbClr val="330066"/>
                  </a:solidFill>
                  <a:latin typeface="Times New Roman"/>
                </a:rPr>
                <a:t>SID</a:t>
              </a:r>
              <a:r>
                <a:rPr b="0" lang="en-US" sz="2000" spc="-1" strike="noStrike">
                  <a:solidFill>
                    <a:srgbClr val="330066"/>
                  </a:solidFill>
                  <a:latin typeface="Times New Roman"/>
                </a:rPr>
                <a:t>1, </a:t>
              </a:r>
              <a:r>
                <a:rPr b="0" i="1" lang="en-US" sz="2000" spc="-1" strike="noStrike">
                  <a:solidFill>
                    <a:srgbClr val="330066"/>
                  </a:solidFill>
                  <a:latin typeface="Times New Roman"/>
                </a:rPr>
                <a:t>CID</a:t>
              </a:r>
              <a:r>
                <a:rPr b="0" lang="en-US" sz="2000" spc="-1" strike="noStrike">
                  <a:solidFill>
                    <a:srgbClr val="330066"/>
                  </a:solidFill>
                  <a:latin typeface="Times New Roman"/>
                </a:rPr>
                <a:t>1,</a:t>
              </a:r>
              <a:r>
                <a:rPr b="0" i="1" lang="en-US" sz="2000" spc="-1" strike="noStrike">
                  <a:solidFill>
                    <a:srgbClr val="330066"/>
                  </a:solidFill>
                  <a:latin typeface="Times New Roman"/>
                </a:rPr>
                <a:t>Grade1</a:t>
              </a:r>
              <a:r>
                <a:rPr b="0" lang="en-US" sz="2000" spc="-1" strike="noStrike">
                  <a:solidFill>
                    <a:srgbClr val="330066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971800" y="2971800"/>
              <a:ext cx="838080" cy="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257800" y="2895480"/>
              <a:ext cx="685800" cy="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DC20-4BDB-4039-8715-E635C7DC3FC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7E4648-D228-48BE-A989-B6249C71529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eign Key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669999"/>
                </a:solidFill>
                <a:latin typeface="Times New Roman"/>
              </a:rPr>
              <a:t>Foreign key</a:t>
            </a:r>
            <a:r>
              <a:rPr b="0" lang="en-US" sz="2800" spc="-1" strike="noStrike">
                <a:solidFill>
                  <a:srgbClr val="669999"/>
                </a:solidFill>
                <a:latin typeface="Times New Roman"/>
              </a:rPr>
              <a:t> 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of fields in one relation that is used to `refer’ to a tuple in another relation.  (Must correspond to primary key of the second relation.)  Like a `logical pointer’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 </a:t>
            </a:r>
            <a:r>
              <a:rPr b="0" i="1" lang="en-US" sz="2800" spc="-1" strike="noStrike">
                <a:solidFill>
                  <a:srgbClr val="cf0e30"/>
                </a:solidFill>
                <a:latin typeface="Times New Roman"/>
              </a:rPr>
              <a:t>s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foreign key referring to </a:t>
            </a:r>
            <a:r>
              <a:rPr b="0" i="1" lang="en-US" sz="2600" spc="-1" strike="noStrike">
                <a:solidFill>
                  <a:srgbClr val="669999"/>
                </a:solidFill>
                <a:latin typeface="Times New Roman"/>
              </a:rPr>
              <a:t>Stude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udent(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si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string, name: string, gpa: float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nrolled(</a:t>
            </a:r>
            <a:r>
              <a:rPr b="0" lang="en-US" sz="2600" spc="-1" strike="noStrike" u="sng">
                <a:solidFill>
                  <a:srgbClr val="cf0e30"/>
                </a:solidFill>
                <a:uFillTx/>
                <a:latin typeface="Times New Roman"/>
              </a:rPr>
              <a:t>sid</a:t>
            </a:r>
            <a:r>
              <a:rPr b="0" lang="en-US" sz="2600" spc="-1" strike="noStrike">
                <a:solidFill>
                  <a:srgbClr val="cf0e30"/>
                </a:solidFill>
                <a:latin typeface="Times New Roman"/>
              </a:rPr>
              <a:t>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ring,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ci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string, grade: string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Summary of core operato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5105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oss produ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am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oes not really add “processing” pow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191120" y="1066680"/>
            <a:ext cx="37335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cmmi10"/>
              </a:rPr>
              <a:t>¾</a:t>
            </a:r>
            <a:r>
              <a:rPr b="0" i="1" lang="en-US" sz="2800" spc="-1" strike="noStrike" baseline="-25000">
                <a:solidFill>
                  <a:srgbClr val="330066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cmmi10"/>
              </a:rPr>
              <a:t>¼</a:t>
            </a:r>
            <a:r>
              <a:rPr b="0" i="1" lang="en-US" sz="2800" spc="-1" strike="noStrike" baseline="-25000">
                <a:solidFill>
                  <a:srgbClr val="330066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0066"/>
                </a:solidFill>
                <a:latin typeface="cmsy10"/>
              </a:rPr>
              <a:t>£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0066"/>
                </a:solidFill>
                <a:latin typeface="cmsy10"/>
              </a:rPr>
              <a:t>[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0066"/>
                </a:solidFill>
                <a:latin typeface="cmsy10"/>
              </a:rPr>
              <a:t>¡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cmmi10"/>
              </a:rPr>
              <a:t>½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800" spc="-1" strike="noStrike" baseline="-25000">
                <a:solidFill>
                  <a:srgbClr val="330066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330066"/>
                </a:solidFill>
                <a:latin typeface="Times New Roman"/>
              </a:rPr>
              <a:t>(</a:t>
            </a:r>
            <a:r>
              <a:rPr b="0" i="1" lang="en-US" sz="2800" spc="-1" strike="noStrike" baseline="-25000">
                <a:solidFill>
                  <a:srgbClr val="330066"/>
                </a:solidFill>
                <a:latin typeface="Times New Roman"/>
              </a:rPr>
              <a:t>A</a:t>
            </a:r>
            <a:r>
              <a:rPr b="0" lang="en-US" sz="2400" spc="-1" strike="noStrike" baseline="-50000">
                <a:solidFill>
                  <a:srgbClr val="330066"/>
                </a:solidFill>
                <a:latin typeface="Times New Roman"/>
              </a:rPr>
              <a:t>1</a:t>
            </a:r>
            <a:r>
              <a:rPr b="0" lang="en-US" sz="2800" spc="-1" strike="noStrike" baseline="-25000">
                <a:solidFill>
                  <a:srgbClr val="330066"/>
                </a:solidFill>
                <a:latin typeface="Times New Roman"/>
              </a:rPr>
              <a:t>, </a:t>
            </a:r>
            <a:r>
              <a:rPr b="0" i="1" lang="en-US" sz="2800" spc="-1" strike="noStrike" baseline="-25000">
                <a:solidFill>
                  <a:srgbClr val="330066"/>
                </a:solidFill>
                <a:latin typeface="Times New Roman"/>
              </a:rPr>
              <a:t>A</a:t>
            </a:r>
            <a:r>
              <a:rPr b="0" lang="en-US" sz="2400" spc="-1" strike="noStrike" baseline="-50000">
                <a:solidFill>
                  <a:srgbClr val="330066"/>
                </a:solidFill>
                <a:latin typeface="Times New Roman"/>
              </a:rPr>
              <a:t>2</a:t>
            </a:r>
            <a:r>
              <a:rPr b="0" lang="en-US" sz="2800" spc="-1" strike="noStrike" baseline="-25000">
                <a:solidFill>
                  <a:srgbClr val="330066"/>
                </a:solidFill>
                <a:latin typeface="Times New Roman"/>
              </a:rPr>
              <a:t>, …)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F925-B555-4B95-81F0-34E57129F85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573AEC-1FC7-4B5E-81E1-9F77D143834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view Summary of derived operato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tural joi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se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352680" y="1143000"/>
            <a:ext cx="43434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0066"/>
                </a:solidFill>
                <a:latin typeface="dbsym"/>
                <a:ea typeface="dbsym"/>
              </a:rPr>
              <a:t></a:t>
            </a:r>
            <a:r>
              <a:rPr b="0" i="1" lang="en-US" sz="2800" spc="-1" strike="noStrike" baseline="-25000">
                <a:solidFill>
                  <a:srgbClr val="330066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0066"/>
                </a:solidFill>
                <a:latin typeface="Symbol"/>
                <a:ea typeface="Symbol"/>
              </a:rPr>
              <a:t>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0066"/>
                </a:solidFill>
                <a:latin typeface="cmsy10"/>
              </a:rPr>
              <a:t>\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228600" y="30481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6840" indent="-31968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uter join, Division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6840" indent="-31968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mijoin, anti-semijoin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401C-A4F8-4EBE-9636-D046C361231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6E595C-24D9-455E-87CD-BD2BC9003DC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erential Integr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ential integ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value of a foreign key in a tuple can either b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existing value from the corresponding primary 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, N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ll foreign key constraints are enforced,  </a:t>
            </a:r>
            <a:r>
              <a:rPr b="0" i="1" lang="en-US" sz="2800" spc="-1" strike="noStrike">
                <a:solidFill>
                  <a:srgbClr val="669999"/>
                </a:solidFill>
                <a:latin typeface="Times New Roman"/>
              </a:rPr>
              <a:t>referential</a:t>
            </a:r>
            <a:r>
              <a:rPr b="0" i="1" lang="en-US" sz="2800" spc="-1" strike="noStrike" u="sng">
                <a:solidFill>
                  <a:srgbClr val="669999"/>
                </a:solidFill>
                <a:uFillTx/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669999"/>
                </a:solidFill>
                <a:latin typeface="Times New Roman"/>
              </a:rPr>
              <a:t>integr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chieved, i.e., no dangling refer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you name a data model w/o referential integrity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inks in HTML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F6F9-5910-4DC6-AAB8-148F38E4E29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DC8AE6-87FF-4AA7-B6D7-CCDFA4BA885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of Referential Integr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139920" y="3817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01640" y="3276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65040" y="2003400"/>
            <a:ext cx="8622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27240" y="200340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233360" y="2003400"/>
            <a:ext cx="16210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854440" y="200340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860560" y="2003400"/>
            <a:ext cx="744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605040" y="2003400"/>
            <a:ext cx="129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65040" y="2009880"/>
            <a:ext cx="12960" cy="331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227240" y="2009880"/>
            <a:ext cx="6120" cy="331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854440" y="2009880"/>
            <a:ext cx="6120" cy="331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605040" y="2009880"/>
            <a:ext cx="12960" cy="331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78000" y="2009880"/>
            <a:ext cx="849240" cy="303120"/>
          </a:xfrm>
          <a:prstGeom prst="rect">
            <a:avLst/>
          </a:pr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5520" y="202104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si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78000" y="2313000"/>
            <a:ext cx="849240" cy="28440"/>
          </a:xfrm>
          <a:prstGeom prst="rect">
            <a:avLst/>
          </a:pr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233360" y="2009880"/>
            <a:ext cx="1621080" cy="303120"/>
          </a:xfrm>
          <a:prstGeom prst="rect">
            <a:avLst/>
          </a:pr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38600" y="2021040"/>
            <a:ext cx="328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i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233360" y="2313000"/>
            <a:ext cx="1621080" cy="28440"/>
          </a:xfrm>
          <a:prstGeom prst="rect">
            <a:avLst/>
          </a:pr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860560" y="2009880"/>
            <a:ext cx="744480" cy="303120"/>
          </a:xfrm>
          <a:prstGeom prst="rect">
            <a:avLst/>
          </a:pr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941920" y="2021040"/>
            <a:ext cx="595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grad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860560" y="2313000"/>
            <a:ext cx="744480" cy="28440"/>
          </a:xfrm>
          <a:prstGeom prst="rect">
            <a:avLst/>
          </a:pr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65040" y="2341440"/>
            <a:ext cx="129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78000" y="2341440"/>
            <a:ext cx="849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27240" y="234144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233360" y="2341440"/>
            <a:ext cx="16210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854440" y="234144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860560" y="2341440"/>
            <a:ext cx="744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605040" y="2341440"/>
            <a:ext cx="129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65040" y="2347920"/>
            <a:ext cx="12960" cy="331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227240" y="2347920"/>
            <a:ext cx="6120" cy="331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854440" y="2347920"/>
            <a:ext cx="6120" cy="331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605040" y="2347920"/>
            <a:ext cx="12960" cy="331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18680" y="2360520"/>
            <a:ext cx="671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3666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279800" y="2360520"/>
            <a:ext cx="1309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arnatic10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111120" y="2360520"/>
            <a:ext cx="17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65040" y="2679840"/>
            <a:ext cx="12960" cy="331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227240" y="2679840"/>
            <a:ext cx="6120" cy="331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854440" y="2679840"/>
            <a:ext cx="6120" cy="331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605040" y="2679840"/>
            <a:ext cx="12960" cy="331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18680" y="2692440"/>
            <a:ext cx="671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3666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278000" y="2692440"/>
            <a:ext cx="1206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Reggae203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111120" y="2692440"/>
            <a:ext cx="17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65040" y="3011400"/>
            <a:ext cx="12960" cy="30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27240" y="3011400"/>
            <a:ext cx="6120" cy="30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854440" y="3011400"/>
            <a:ext cx="6120" cy="30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605040" y="3011400"/>
            <a:ext cx="12960" cy="30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18680" y="3024360"/>
            <a:ext cx="671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365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276920" y="3024360"/>
            <a:ext cx="1445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opology112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111480" y="3024360"/>
            <a:ext cx="192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65040" y="3314880"/>
            <a:ext cx="12960" cy="341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65040" y="3656160"/>
            <a:ext cx="8622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27240" y="3314880"/>
            <a:ext cx="6120" cy="341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227240" y="365616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233360" y="3656160"/>
            <a:ext cx="16210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854440" y="3314880"/>
            <a:ext cx="6120" cy="341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854440" y="365616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860560" y="3656160"/>
            <a:ext cx="744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605040" y="3314880"/>
            <a:ext cx="12960" cy="341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05040" y="3656160"/>
            <a:ext cx="129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18680" y="3327480"/>
            <a:ext cx="671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3666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279080" y="3327480"/>
            <a:ext cx="1204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History105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111120" y="3327480"/>
            <a:ext cx="17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444840" y="2438280"/>
            <a:ext cx="1143000" cy="304920"/>
          </a:xfrm>
          <a:prstGeom prst="line">
            <a:avLst/>
          </a:prstGeom>
          <a:ln w="28440">
            <a:solidFill>
              <a:srgbClr val="cf0e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21160" y="2819520"/>
            <a:ext cx="1066680" cy="0"/>
          </a:xfrm>
          <a:prstGeom prst="line">
            <a:avLst/>
          </a:prstGeom>
          <a:ln w="28440">
            <a:solidFill>
              <a:srgbClr val="cf0e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3444840" y="2909520"/>
            <a:ext cx="1143000" cy="609480"/>
          </a:xfrm>
          <a:prstGeom prst="line">
            <a:avLst/>
          </a:prstGeom>
          <a:ln w="28440">
            <a:solidFill>
              <a:srgbClr val="cf0e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444840" y="3200400"/>
            <a:ext cx="1143000" cy="228600"/>
          </a:xfrm>
          <a:prstGeom prst="line">
            <a:avLst/>
          </a:prstGeom>
          <a:ln w="28440">
            <a:solidFill>
              <a:srgbClr val="cf0e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91240" y="1600200"/>
            <a:ext cx="1372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f0e30"/>
                </a:solidFill>
                <a:latin typeface="Book Antiqua"/>
              </a:rPr>
              <a:t>Enro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92520" y="2206800"/>
            <a:ext cx="776520" cy="291960"/>
          </a:xfrm>
          <a:prstGeom prst="rect">
            <a:avLst/>
          </a:pr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797720" y="2206800"/>
            <a:ext cx="3268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Book Antiqua"/>
              </a:rPr>
              <a:t>si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592520" y="2498760"/>
            <a:ext cx="776520" cy="49320"/>
          </a:xfrm>
          <a:prstGeom prst="rect">
            <a:avLst/>
          </a:pr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373720" y="2206800"/>
            <a:ext cx="797040" cy="291960"/>
          </a:xfrm>
          <a:prstGeom prst="rect">
            <a:avLst/>
          </a:pr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419440" y="2206800"/>
            <a:ext cx="646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Book Antiqua"/>
              </a:rPr>
              <a:t>nam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373720" y="2498760"/>
            <a:ext cx="797040" cy="49320"/>
          </a:xfrm>
          <a:prstGeom prst="rect">
            <a:avLst/>
          </a:pr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175440" y="2206800"/>
            <a:ext cx="1515960" cy="291960"/>
          </a:xfrm>
          <a:prstGeom prst="rect">
            <a:avLst/>
          </a:pr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41640" y="2206800"/>
            <a:ext cx="569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Book Antiqua"/>
              </a:rPr>
              <a:t>logi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175440" y="2498760"/>
            <a:ext cx="1515960" cy="49320"/>
          </a:xfrm>
          <a:prstGeom prst="rect">
            <a:avLst/>
          </a:pr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696080" y="2206800"/>
            <a:ext cx="636840" cy="291960"/>
          </a:xfrm>
          <a:prstGeom prst="rect">
            <a:avLst/>
          </a:pr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785720" y="2206800"/>
            <a:ext cx="41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Book Antiqua"/>
              </a:rPr>
              <a:t>ag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696080" y="2498760"/>
            <a:ext cx="636840" cy="49320"/>
          </a:xfrm>
          <a:prstGeom prst="rect">
            <a:avLst/>
          </a:pr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337600" y="2206800"/>
            <a:ext cx="593640" cy="291960"/>
          </a:xfrm>
          <a:prstGeom prst="rect">
            <a:avLst/>
          </a:pr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412120" y="2206800"/>
            <a:ext cx="432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Book Antiqua"/>
              </a:rPr>
              <a:t>gp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337600" y="2498760"/>
            <a:ext cx="593640" cy="49320"/>
          </a:xfrm>
          <a:prstGeom prst="rect">
            <a:avLst/>
          </a:pr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579920" y="2201760"/>
            <a:ext cx="78912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369040" y="2201760"/>
            <a:ext cx="46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73720" y="2201760"/>
            <a:ext cx="79704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170760" y="2201760"/>
            <a:ext cx="46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175440" y="2201760"/>
            <a:ext cx="151596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691400" y="2201760"/>
            <a:ext cx="46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696080" y="2201760"/>
            <a:ext cx="63684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332920" y="2201760"/>
            <a:ext cx="46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337600" y="2201760"/>
            <a:ext cx="59364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931240" y="2201760"/>
            <a:ext cx="1260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79920" y="2206800"/>
            <a:ext cx="12600" cy="341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369040" y="2206800"/>
            <a:ext cx="4680" cy="341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170760" y="2206800"/>
            <a:ext cx="4680" cy="341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691400" y="2206800"/>
            <a:ext cx="4680" cy="341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332920" y="2206800"/>
            <a:ext cx="4680" cy="341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8931240" y="2206800"/>
            <a:ext cx="12600" cy="341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590720" y="2552760"/>
            <a:ext cx="686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Book Antiqua"/>
              </a:rPr>
              <a:t>53666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396400" y="2552760"/>
            <a:ext cx="613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Book Antiqua"/>
              </a:rPr>
              <a:t>Jon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157440" y="2552760"/>
            <a:ext cx="10584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Book Antiqua"/>
              </a:rPr>
              <a:t>jones@c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830360" y="2552760"/>
            <a:ext cx="275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Book Antiqua"/>
              </a:rPr>
              <a:t>18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445960" y="2552760"/>
            <a:ext cx="339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Book Antiqua"/>
              </a:rPr>
              <a:t>3.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79920" y="2548080"/>
            <a:ext cx="126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592520" y="2548080"/>
            <a:ext cx="7765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369040" y="254808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373720" y="2548080"/>
            <a:ext cx="7970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70760" y="254808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75440" y="2548080"/>
            <a:ext cx="15159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691400" y="254808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696080" y="2548080"/>
            <a:ext cx="6368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332920" y="254808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337600" y="2548080"/>
            <a:ext cx="5936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931240" y="2548080"/>
            <a:ext cx="126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579920" y="2552760"/>
            <a:ext cx="12600" cy="338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369040" y="2552760"/>
            <a:ext cx="4680" cy="338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170760" y="2552760"/>
            <a:ext cx="4680" cy="338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691400" y="2552760"/>
            <a:ext cx="4680" cy="338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8332920" y="2552760"/>
            <a:ext cx="4680" cy="338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931240" y="2552760"/>
            <a:ext cx="12600" cy="338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590720" y="2890800"/>
            <a:ext cx="686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Book Antiqua"/>
              </a:rPr>
              <a:t>53688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403600" y="2890800"/>
            <a:ext cx="6577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Book Antiqua"/>
              </a:rPr>
              <a:t>Smith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150960" y="2890800"/>
            <a:ext cx="1360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Book Antiqua"/>
              </a:rPr>
              <a:t>smith@eec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830360" y="2890800"/>
            <a:ext cx="275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Book Antiqua"/>
              </a:rPr>
              <a:t>18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445960" y="2890800"/>
            <a:ext cx="339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Book Antiqua"/>
              </a:rPr>
              <a:t>3.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579920" y="2890800"/>
            <a:ext cx="12600" cy="335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369040" y="2890800"/>
            <a:ext cx="4680" cy="335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170760" y="2890800"/>
            <a:ext cx="4680" cy="335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691400" y="2890800"/>
            <a:ext cx="4680" cy="335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8332920" y="2890800"/>
            <a:ext cx="4680" cy="335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8931240" y="2890800"/>
            <a:ext cx="12600" cy="335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590720" y="3224160"/>
            <a:ext cx="686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Book Antiqua"/>
              </a:rPr>
              <a:t>5365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403600" y="3224160"/>
            <a:ext cx="6577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Book Antiqua"/>
              </a:rPr>
              <a:t>Smith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159960" y="3224160"/>
            <a:ext cx="1454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Book Antiqua"/>
              </a:rPr>
              <a:t>smith@math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830360" y="3224160"/>
            <a:ext cx="275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Book Antiqua"/>
              </a:rPr>
              <a:t>19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445960" y="3224160"/>
            <a:ext cx="339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Book Antiqua"/>
              </a:rPr>
              <a:t>3.8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579920" y="3225960"/>
            <a:ext cx="12600" cy="338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579920" y="3564000"/>
            <a:ext cx="789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369040" y="3225960"/>
            <a:ext cx="4680" cy="338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369040" y="356400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373720" y="3564000"/>
            <a:ext cx="7970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170760" y="3225960"/>
            <a:ext cx="4680" cy="338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170760" y="356400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175440" y="3564000"/>
            <a:ext cx="15159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691400" y="3225960"/>
            <a:ext cx="4680" cy="338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691400" y="356400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96080" y="3564000"/>
            <a:ext cx="6368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332920" y="3225960"/>
            <a:ext cx="4680" cy="338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332920" y="356400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337600" y="3564000"/>
            <a:ext cx="5936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931240" y="3225960"/>
            <a:ext cx="12600" cy="338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931240" y="3564000"/>
            <a:ext cx="126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526640" y="1827360"/>
            <a:ext cx="1456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f0e30"/>
                </a:solidFill>
                <a:latin typeface="Book Antiqua"/>
              </a:rPr>
              <a:t>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355680" y="3657600"/>
            <a:ext cx="3276360" cy="459720"/>
            <a:chOff x="355680" y="3657600"/>
            <a:chExt cx="3276360" cy="459720"/>
          </a:xfrm>
        </p:grpSpPr>
        <p:sp>
          <p:nvSpPr>
            <p:cNvPr id="275" name=""/>
            <p:cNvSpPr/>
            <p:nvPr/>
          </p:nvSpPr>
          <p:spPr>
            <a:xfrm>
              <a:off x="355680" y="3657600"/>
              <a:ext cx="327636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f0e30"/>
                  </a:solidFill>
                  <a:latin typeface="Book Antiqua"/>
                </a:rPr>
                <a:t>11111  English102   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219320" y="36576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95480" y="36576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152280" y="3886200"/>
            <a:ext cx="3886200" cy="0"/>
          </a:xfrm>
          <a:prstGeom prst="line">
            <a:avLst/>
          </a:prstGeom>
          <a:ln w="381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80880" y="198108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572000" y="358128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172200" y="220968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620120" y="220968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305920" y="220968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28D5-394B-4B28-9876-626777B15F0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FE5538-1D18-41D2-B457-EFC322F9986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395280" y="4551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833560" y="4551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to Identify Foreign Key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1: list the schem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udent(sid: string, name: string, gpa: float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nrolled(sid: string, cid: string, grade: string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2: list the primary k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udent(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si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string, name: string, gpa: float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nrolled(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si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string,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ci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string, grade: string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to Identify Foreign Keys (cont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3: Identify as foreign key where a primary key in relation A is used in another relation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is a referenced rel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 is the referencing rel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primary key in A is the foreign key in B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4: Use directed line to connect B to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udent(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si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string, name: string, gpa: float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nrolled(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si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string,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ci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string, grade: string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d in Enrolled is the foreign key in Stu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362320" y="4419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40DA-06E0-46B5-BCB3-C254E631970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E6BE8B-8A34-4689-A441-50E1DDA4EB7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-Class Exerci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0880" y="1219320"/>
            <a:ext cx="830592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aken from Exercise 5.1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the following relations for a database that keeps track of student enrollment in courses and the books adopted for each cour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S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Name, Major, Bda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RSE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urse#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name, Dep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ROLL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S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urse#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Quar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Gra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OK_ADOPTION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urse#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Quar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Book_ISB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ok_ISB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Book_Title, Publisher, Auth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raw a relational schema diagram specifying the foreign keys for this sch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3429000"/>
            <a:ext cx="152640" cy="838080"/>
          </a:xfrm>
          <a:custGeom>
            <a:avLst/>
            <a:gdLst/>
            <a:ahLst/>
            <a:rect l="l" t="t" r="r" b="b"/>
            <a:pathLst>
              <a:path w="96" h="528">
                <a:moveTo>
                  <a:pt x="0" y="528"/>
                </a:moveTo>
                <a:cubicBezTo>
                  <a:pt x="40" y="308"/>
                  <a:pt x="80" y="88"/>
                  <a:pt x="96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 flipV="1">
            <a:off x="2361960" y="3962520"/>
            <a:ext cx="6094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H="1" flipV="1">
            <a:off x="2286000" y="3962160"/>
            <a:ext cx="990720" cy="99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2362320" y="5105520"/>
            <a:ext cx="3657600" cy="304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752480" y="4191120"/>
            <a:ext cx="609840" cy="380880"/>
          </a:xfrm>
          <a:prstGeom prst="rect">
            <a:avLst/>
          </a:prstGeom>
          <a:solidFill>
            <a:srgbClr val="cccc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905120" y="3124080"/>
            <a:ext cx="609480" cy="381240"/>
          </a:xfrm>
          <a:prstGeom prst="rect">
            <a:avLst/>
          </a:prstGeom>
          <a:solidFill>
            <a:srgbClr val="cccc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752480" y="3657600"/>
            <a:ext cx="990720" cy="380880"/>
          </a:xfrm>
          <a:prstGeom prst="rect">
            <a:avLst/>
          </a:prstGeom>
          <a:solidFill>
            <a:srgbClr val="00ff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514600" y="4191120"/>
            <a:ext cx="990720" cy="380880"/>
          </a:xfrm>
          <a:prstGeom prst="rect">
            <a:avLst/>
          </a:prstGeom>
          <a:solidFill>
            <a:srgbClr val="00ff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124080" y="4724280"/>
            <a:ext cx="990720" cy="381240"/>
          </a:xfrm>
          <a:prstGeom prst="rect">
            <a:avLst/>
          </a:prstGeom>
          <a:solidFill>
            <a:srgbClr val="00ff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295280" y="5257800"/>
            <a:ext cx="1600200" cy="380880"/>
          </a:xfrm>
          <a:prstGeom prst="rect">
            <a:avLst/>
          </a:prstGeom>
          <a:solidFill>
            <a:srgbClr val="669999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334120" y="4724280"/>
            <a:ext cx="1600200" cy="381240"/>
          </a:xfrm>
          <a:prstGeom prst="rect">
            <a:avLst/>
          </a:prstGeom>
          <a:solidFill>
            <a:srgbClr val="669999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1E16-A490-4443-86C8-E9AAE4E0873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035D15-C56E-4974-AF75-2CED359C3E0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jhuan</cp:lastModifiedBy>
  <dcterms:modified xsi:type="dcterms:W3CDTF">2007-04-04T17:09:34Z</dcterms:modified>
  <cp:revision>623</cp:revision>
  <dc:subject/>
  <dc:title>CS186: Introduction to Database Systems</dc:title>
</cp:coreProperties>
</file>