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C0434C-E987-4640-8ABD-6C09FCB26E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88B3B1-75DD-4529-A6EA-6B1A8E14F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87C181-90A1-4C57-A46A-9E51EA0EC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975C76-548F-46E7-80FC-2DB6AED42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778267-64B0-4492-A1F4-520FA29D5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252D83-772F-41A9-9458-FDDE2748D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15F244-29B3-4FBA-B1AF-79A400038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D670DF-DC40-4016-9777-27040BDCB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239341-5628-4656-A7AE-4F2825341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5AC3BD-4753-45E1-A289-4E7FDFB00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1A779B-AA96-4DCE-A2FB-958043683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59EC00-26DB-4CB2-9B8C-BC2964EFF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5CF7DE-9BFE-43F4-84FA-B8CA3A5C3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91908A-6D99-4EA9-88E6-D1B098A6A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EEC54C7-58D9-4546-B78F-6ED3D5DC3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875BB9-0C8A-48BE-B83E-FF2C2C3EE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86ED14-F0A2-4C64-97B9-7D71C8D88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36B1F2-2F41-4E1C-AA48-963C43ADD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FBFE96-B90E-47ED-8B8A-2A6D6AB5C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244C1F-915A-49BE-995D-14CFBC942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EAA095-45E7-4D7E-BEF9-C80541FA4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59F39B-16FE-47F9-837E-47FB19508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A54B7D-F6E8-4EE4-ABA8-6F3BC9BA9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921C3D-4CCA-4913-894D-BB4A74E39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FD385C-0CB2-4DEE-9FEF-A72036277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B691D7-6E68-41C3-B425-16E2BD8F1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1B3197-2E7F-40C2-9E91-2FCDBB26B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204D9B-BA7F-4BE8-A794-C554C9B2F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8D311C-5919-447F-A25D-8CEB5ACD4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20B9A4-37D8-4C0F-9BA6-94C169083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1A323E-D803-403F-ACBB-9D43543D2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6DEB31-1F07-4CC0-A23B-8C371D9E6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967E60-C030-4F34-9332-5A52C2C33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7E701E-1A08-465C-9AB6-B1650BC97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B6CC52-2BF4-4A1D-982D-E7EA05DB1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B5D7A41-9F20-4C04-B9D3-667BBD221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17057A-C108-4BB5-9DF3-75F80C907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CDB1E0-97B1-4708-BC36-A4DAF17F4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5C2-4DEB-4BA7-BDC0-6E2C11BE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9F4B-C150-419C-A5EE-DE1A003D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DD8-DD8E-47BF-95CF-7114575C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32B5-52E5-49DA-99D6-28B72CFF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8E89-473A-406E-9B99-B14F434B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58E-DF48-4B30-AE0B-5386B71D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3205-BFAB-4DCB-B1BC-7E47EAB1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684-A135-4C89-BBF5-9646D994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05B-1D9D-424B-8C3F-D1901862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734-3F26-4D69-BF39-A0A12D62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977-DC5E-4B9B-B387-0C945E8C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2F2-E30C-4748-AF4F-E251BD44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CC79-4360-4840-BD0C-67830E089D0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853A-E012-4882-BD05-6482516460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40"/>
          <p:cNvSpPr/>
          <p:nvPr/>
        </p:nvSpPr>
        <p:spPr>
          <a:xfrm flipV="1">
            <a:off x="0" y="837720"/>
            <a:ext cx="9016920" cy="77760"/>
          </a:xfrm>
          <a:prstGeom prst="pie">
            <a:avLst/>
          </a:pr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1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3" name="Oval 42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8"/>
                </a:gs>
                <a:gs pos="50000">
                  <a:srgbClr val="666633"/>
                </a:gs>
                <a:gs pos="100000">
                  <a:srgbClr val="2f2f18"/>
                </a:gs>
              </a:gsLst>
              <a:lin ang="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3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8"/>
                </a:gs>
                <a:gs pos="50000">
                  <a:srgbClr val="666633"/>
                </a:gs>
                <a:gs pos="100000">
                  <a:srgbClr val="2f2f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44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5" descr=""/>
          <p:cNvPicPr/>
          <p:nvPr/>
        </p:nvPicPr>
        <p:blipFill>
          <a:blip r:embed="rId1"/>
          <a:srcRect l="0" t="0" r="0" b="15237"/>
          <a:stretch/>
        </p:blipFill>
        <p:spPr>
          <a:xfrm>
            <a:off x="304920" y="4875120"/>
            <a:ext cx="3619440" cy="15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5FE0-9775-4F50-8FF9-B0DE1235529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0524-9B48-4CB7-9E8C-3B7ECE7BA3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ore complicated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s of all course titles that Bart and Lisa are taking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-153720" y="4876920"/>
            <a:ext cx="89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Tip: Write the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clause first, then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and then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-55800" y="2895480"/>
            <a:ext cx="91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FROM Student sb, Student sl, Enroll eb, Enroll el, Cours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-55440" y="3352680"/>
            <a:ext cx="67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WHERE sb.name = ’Bart’ AND sl.name = ’Lis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839880" y="3809880"/>
            <a:ext cx="61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AND eb.SID = sb.SID AND el.SID = sl.S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839880" y="4267080"/>
            <a:ext cx="59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AND eb.CID = c.CID AND el.CID = c.C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-55800" y="24382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ELECT c.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E45A-FD98-4A24-994E-86738746D75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C90A-DBD7-4AF9-8E12-80B85A9D2E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SFW statement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many possible ways of structuring SQL statements, why did the designers choos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large number of queries can be written using only selection, projection, and cross product (or joi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query that uses only these operators can be written in a canonical form: 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…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aptures this canonical fo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64A8-9C93-48B7-A725-388DA9F9391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B22D-575D-4FA2-9BC9-CDFAC1EC41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versus bag seman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duplic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al model and algebra use set seman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plicates allow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mber of duplicates is significa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 uses bag semantics by defa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6AB6-99BA-4AB4-ADBA-C09A97BE1FD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436B-B251-4A14-9F88-69DA9B151F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versus bag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4402800" y="1295280"/>
            <a:ext cx="15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meriGarmnd BT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En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232640" y="20574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En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962520" y="373392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SI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Enro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5800" y="2666880"/>
          <a:ext cx="2514600" cy="182880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5105520" y="1905120"/>
          <a:ext cx="685800" cy="14634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181480" y="4572000"/>
          <a:ext cx="685800" cy="182880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3FC2-6773-40F3-92AA-A5C0C6C8AE2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574D-A4E2-4BC5-AB4F-B804767DFC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ase for bag seman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ves time of eliminating duplic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ne is mor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GPA FROM Studen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irst query just returns all possible GPA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econd query returns the actual GPA distribu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6A9D-19E1-4926-B0BD-0A8F2A87037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22CE-8589-4311-BF77-8612F42D93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 set and bag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UN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INTERS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t seman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s in input tables, if any, are first eli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ctly like set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relational algeb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UNION 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EXCEPT 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INTERSECT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g seman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nk of each row as having an implicit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the number of times it appears in the tabl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g union: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u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up the counts from two tab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g difference: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ubtra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e two counts (a row with negative count vanish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g intersection: take the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minimu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the two cou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11D4-FB49-4162-ABE8-EF3A3F55513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39BE-E75D-40D4-9B02-52C87337D3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bag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550440" y="1066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Ba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773000" y="1066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Ba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321840" y="33526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Bag1 UNION ALL Ba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2592720" y="420516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Bag1 EXCEPT ALL Ba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4833000" y="335268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Bag1 INTERSECT ALL Ba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33520" y="1523880"/>
          <a:ext cx="990360" cy="146376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905120" y="1523880"/>
          <a:ext cx="990360" cy="146376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295280" y="3733920"/>
          <a:ext cx="990720" cy="256068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809880" y="4800600"/>
          <a:ext cx="990720" cy="73188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934320" y="3962520"/>
          <a:ext cx="990360" cy="109692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0D70-76E1-4B32-905B-D4C23D80EA6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F958-3A4E-425B-99FB-81D2734B31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bMe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u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(SELECT SID FROM ClubMember)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EXCEPT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(SELECT SID FROM Enroll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’s of students who are in clubs but not taking any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(SELECT SID FROM ClubMember)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EXCEPT A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(SELECT SID FROM Enroll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’s of students who are in more clubs than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8320-B089-49E3-A206-83FC08F7CF5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2BD0-9F88-4381-AD9E-8254FF8B6F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cing set seman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provides the option of set semantics with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’s of all enrolled stud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SELECT SI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FROM Enrol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 Bart takes EECS700 and EECS6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SELECT DISTINCT SI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FROM Enro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DISTIN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all duplicate SIDs are removed from the out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7140-A470-4DF2-AF2B-BBA7D948668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CC1B-3A3B-4796-9056-8C3B61E5E3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onal Semantics of SF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For each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…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For each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If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ue over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Compute and output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ro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Eliminate duplicate rows in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often called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tupl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C0A6-EF95-43E3-89E3-194BFCF2DE1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954C-0687-49A1-BCE7-26AA3CC43E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Homework #1 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ue tod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#2 is assigned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e March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two weeks away from now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61C1-81A5-4C48-B10E-3388464C548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9C92-78C6-4CA6-A3D2-3AAC52A09A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SQL fea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 (select-project-join que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ming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and ba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ION, DIFFERENCE, INTERS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aggregation and grou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280B-F0EB-424D-A665-11061509747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A204-AD1A-41D1-965C-F002BFF451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greg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SQL aggregate functions: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number of students under 18, and their average G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COUNT(*)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AVG(GPA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 Studen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 age &lt; 18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COUNT(*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unts the number of row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D14A-3668-4085-8CDD-1B38B36B34F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FE98-C16B-4DB0-A81E-9D41C819E7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gregates with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DISTIN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How many students are taking clas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LECT COUNT (SID)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ROM Enroll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LECT COUNT(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DISTINCT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SID)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ROM Enroll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3598-BBCD-4132-ABDD-ED3F8D5B762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280E-1BB7-4FCA-8309-5577E84545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B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W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GROUP BY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list_of_columns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ind the average GPA for each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age, AVG(GPA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 Studen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GROUP BY age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EFDA-0957-487C-8C37-283E19A5FEC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B6AF-7C83-4E14-A121-121D502C7C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onal semantics of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B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 FROM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 WHER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 GROUP BY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oup rows according to the values of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ach group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aggregation functions with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DISTIN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puts, first eliminate duplicates within the gro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groups = number of rows in the final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6CAB-8D96-4E1C-90B9-BAA261E70BA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2C4C-2B04-4F5E-B2C5-85A1B103E7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of computing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B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age, AVG(GPA) FROM Student GROUP BY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141"/>
          <p:cNvGrpSpPr/>
          <p:nvPr/>
        </p:nvGrpSpPr>
        <p:grpSpPr>
          <a:xfrm>
            <a:off x="4114800" y="2013120"/>
            <a:ext cx="3809880" cy="1873080"/>
            <a:chOff x="4114800" y="2013120"/>
            <a:chExt cx="3809880" cy="1873080"/>
          </a:xfrm>
        </p:grpSpPr>
        <p:sp>
          <p:nvSpPr>
            <p:cNvPr id="253" name="Rectangle 7"/>
            <p:cNvSpPr/>
            <p:nvPr/>
          </p:nvSpPr>
          <p:spPr>
            <a:xfrm>
              <a:off x="4267080" y="201312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ompute </a:t>
              </a: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GROUP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BY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: group rows according to the values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GROUP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BY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 colum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8"/>
            <p:cNvSpPr/>
            <p:nvPr/>
          </p:nvSpPr>
          <p:spPr>
            <a:xfrm>
              <a:off x="4114800" y="3429000"/>
              <a:ext cx="609480" cy="457200"/>
            </a:xfrm>
            <a:prstGeom prst="rightArrow">
              <a:avLst>
                <a:gd name="adj1" fmla="val 50000"/>
                <a:gd name="adj2" fmla="val 33327"/>
              </a:avLst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43"/>
          <p:cNvGrpSpPr/>
          <p:nvPr/>
        </p:nvGrpSpPr>
        <p:grpSpPr>
          <a:xfrm>
            <a:off x="533520" y="4191120"/>
            <a:ext cx="4190400" cy="1066680"/>
            <a:chOff x="533520" y="4191120"/>
            <a:chExt cx="4190400" cy="1066680"/>
          </a:xfrm>
        </p:grpSpPr>
        <p:sp>
          <p:nvSpPr>
            <p:cNvPr id="256" name="Rectangle 10"/>
            <p:cNvSpPr/>
            <p:nvPr/>
          </p:nvSpPr>
          <p:spPr>
            <a:xfrm>
              <a:off x="533520" y="4191120"/>
              <a:ext cx="411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ompute </a:t>
              </a:r>
              <a:r>
                <a:rPr b="0" lang="en-US" sz="2400" spc="-1" strike="noStrike">
                  <a:solidFill>
                    <a:srgbClr val="000000"/>
                  </a:solidFill>
                  <a:latin typeface="LettrGoth12 BT"/>
                </a:rPr>
                <a:t>SELECT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 for each 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>
              <a:off x="4114080" y="4800600"/>
              <a:ext cx="609480" cy="457200"/>
            </a:xfrm>
            <a:prstGeom prst="rightArrow">
              <a:avLst>
                <a:gd name="adj1" fmla="val 50000"/>
                <a:gd name="adj2" fmla="val 33327"/>
              </a:avLst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8" name=""/>
          <p:cNvGraphicFramePr/>
          <p:nvPr/>
        </p:nvGraphicFramePr>
        <p:xfrm>
          <a:off x="380880" y="1600200"/>
          <a:ext cx="3505320" cy="219384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029200" y="3429000"/>
          <a:ext cx="3505320" cy="219384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600200" y="4648320"/>
          <a:ext cx="1219320" cy="1463400"/>
        </p:xfrm>
        <a:graphic>
          <a:graphicData uri="http://schemas.openxmlformats.org/drawingml/2006/table">
            <a:tbl>
              <a:tblPr/>
              <a:tblGrid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c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5DAB-8344-408C-AB49-170E03083AE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8BCB-C377-4DBF-83E5-CA78F84375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gregates with no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B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ggregate query with no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 represent a special case where all rows go into on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AVG(GPA) FROM Stud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134"/>
          <p:cNvGrpSpPr/>
          <p:nvPr/>
        </p:nvGrpSpPr>
        <p:grpSpPr>
          <a:xfrm>
            <a:off x="3352680" y="2286000"/>
            <a:ext cx="2514600" cy="1600200"/>
            <a:chOff x="3352680" y="2286000"/>
            <a:chExt cx="2514600" cy="1600200"/>
          </a:xfrm>
        </p:grpSpPr>
        <p:sp>
          <p:nvSpPr>
            <p:cNvPr id="267" name="AutoShape 7"/>
            <p:cNvSpPr/>
            <p:nvPr/>
          </p:nvSpPr>
          <p:spPr>
            <a:xfrm>
              <a:off x="4114800" y="3429000"/>
              <a:ext cx="609480" cy="457200"/>
            </a:xfrm>
            <a:prstGeom prst="rightArrow">
              <a:avLst>
                <a:gd name="adj1" fmla="val 50000"/>
                <a:gd name="adj2" fmla="val 33327"/>
              </a:avLst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2"/>
            <p:cNvSpPr/>
            <p:nvPr/>
          </p:nvSpPr>
          <p:spPr>
            <a:xfrm>
              <a:off x="3352680" y="2286000"/>
              <a:ext cx="251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ompute aggregat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over the 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9" name=""/>
          <p:cNvGraphicFramePr/>
          <p:nvPr/>
        </p:nvGraphicFramePr>
        <p:xfrm>
          <a:off x="380880" y="3124080"/>
          <a:ext cx="3505320" cy="220356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4952880" y="3127320"/>
          <a:ext cx="3505320" cy="222264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4038480" y="5562720"/>
          <a:ext cx="685800" cy="74592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  <p:grpSp>
        <p:nvGrpSpPr>
          <p:cNvPr id="272" name="Group 136"/>
          <p:cNvGrpSpPr/>
          <p:nvPr/>
        </p:nvGrpSpPr>
        <p:grpSpPr>
          <a:xfrm>
            <a:off x="4952880" y="5562720"/>
            <a:ext cx="3230640" cy="1557000"/>
            <a:chOff x="4952880" y="5562720"/>
            <a:chExt cx="3230640" cy="1557000"/>
          </a:xfrm>
        </p:grpSpPr>
        <p:sp>
          <p:nvSpPr>
            <p:cNvPr id="273" name="Rectangle 8"/>
            <p:cNvSpPr/>
            <p:nvPr/>
          </p:nvSpPr>
          <p:spPr>
            <a:xfrm>
              <a:off x="6248520" y="5562720"/>
              <a:ext cx="1935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Group all row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into one 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32"/>
            <p:cNvSpPr/>
            <p:nvPr/>
          </p:nvSpPr>
          <p:spPr>
            <a:xfrm>
              <a:off x="4952880" y="5715000"/>
              <a:ext cx="685800" cy="457200"/>
            </a:xfrm>
            <a:prstGeom prst="leftArrow">
              <a:avLst>
                <a:gd name="adj1" fmla="val 50000"/>
                <a:gd name="adj2" fmla="val 37500"/>
              </a:avLst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59C6-D72F-4FAD-9614-290DA6624E7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0EDC-CA7D-4A6E-A79E-BAD2E99F9E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riction on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SEL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query uses aggregation/group by, then every column referenced in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be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ggregated, 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lum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striction ensures that any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pression produces only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 for each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24F5-3FF0-44E1-9C7B-D71DFDF39AE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EF08-FFC8-496B-B8C4-00A7FDAF4B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invalid 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SID, age FROM Student GROUP BY a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all there is one output row per gro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can be multiple SID values per gro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SID, MAX(GPA) FROM Stud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all there is only one group for an aggregate query with no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can be multiple SID val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shful thinking (that the output SID value is the one associated with the highest GPA) does NOT 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Group 4"/>
          <p:cNvGrpSpPr/>
          <p:nvPr/>
        </p:nvGrpSpPr>
        <p:grpSpPr>
          <a:xfrm>
            <a:off x="1905120" y="1066680"/>
            <a:ext cx="838080" cy="380880"/>
            <a:chOff x="1905120" y="1066680"/>
            <a:chExt cx="838080" cy="380880"/>
          </a:xfrm>
        </p:grpSpPr>
        <p:sp>
          <p:nvSpPr>
            <p:cNvPr id="286" name="Line 5"/>
            <p:cNvSpPr/>
            <p:nvPr/>
          </p:nvSpPr>
          <p:spPr>
            <a:xfrm>
              <a:off x="1905120" y="1066680"/>
              <a:ext cx="838080" cy="3808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6"/>
            <p:cNvSpPr/>
            <p:nvPr/>
          </p:nvSpPr>
          <p:spPr>
            <a:xfrm flipH="1">
              <a:off x="1905120" y="1066680"/>
              <a:ext cx="838080" cy="3808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7"/>
          <p:cNvGrpSpPr/>
          <p:nvPr/>
        </p:nvGrpSpPr>
        <p:grpSpPr>
          <a:xfrm>
            <a:off x="1905120" y="2514600"/>
            <a:ext cx="838080" cy="380880"/>
            <a:chOff x="1905120" y="2514600"/>
            <a:chExt cx="838080" cy="380880"/>
          </a:xfrm>
        </p:grpSpPr>
        <p:sp>
          <p:nvSpPr>
            <p:cNvPr id="289" name="Line 8"/>
            <p:cNvSpPr/>
            <p:nvPr/>
          </p:nvSpPr>
          <p:spPr>
            <a:xfrm>
              <a:off x="1905120" y="2514600"/>
              <a:ext cx="838080" cy="3808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9"/>
            <p:cNvSpPr/>
            <p:nvPr/>
          </p:nvSpPr>
          <p:spPr>
            <a:xfrm flipH="1">
              <a:off x="1905120" y="2514600"/>
              <a:ext cx="838080" cy="3808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1276-42B4-437C-BED2-57A60C51C7C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AD39-1EE4-4719-8A78-C4C8DE9B67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HAV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filter groups based on the group properties (e.g., aggregate values,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umn valu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W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GROUP B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2800"/>
            </a:br>
            <a:r>
              <a:rPr b="0" lang="en-US" sz="2800" spc="-1" strike="noStrike">
                <a:solidFill>
                  <a:srgbClr val="669999"/>
                </a:solidFill>
                <a:latin typeface="LettrGoth12 BT"/>
              </a:rPr>
              <a:t>HAVING </a:t>
            </a:r>
            <a:r>
              <a:rPr b="0" i="1" lang="en-US" sz="2800" spc="-1" strike="noStrike">
                <a:solidFill>
                  <a:srgbClr val="669999"/>
                </a:solidFill>
                <a:latin typeface="LettrGoth12 BT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group rows according to the values of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GROU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lum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HAV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another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ver the group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for each group that passes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HA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5838-095B-475D-9215-80E2A1325EF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38B0-FA6B-4B80-BF39-F48A1EA14C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list of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list of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 may have logical operators AND, OR,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 may have comparison operators: &lt;. &lt;=, &lt;&gt;, &gt;=, 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comparison may use “=” (exactly match) or “LIKE” (matching with regular express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%, _, \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rithmetic) expressions of attributes are all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E742-BCFF-4579-B1C2-EC05C634769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C76A-019A-41E9-96F1-432FF2B4A2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HAV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average GPA for each age group ove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SELECT age, AVG(GPA)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FROM Student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GROUP BY age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HAVING age &gt; 1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written using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thout table expres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the average GPA for each age group with more than a hundred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SELECT age, AVG(GPA)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FROM Student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GROUP BY age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HAVING COUNT(*) &gt; 10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written using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table expres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1C03-01DA-4B96-879E-8E658063575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FDB6-7FE4-49A4-8FDE-CA886C9A80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SQL featur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ed so f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ming ope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and ba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 and grou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Table expressions, sub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a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6996-912D-43AB-A5AF-4410E28CDB3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54ED-EEDF-4348-9F6C-1D640BAF02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 expre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query result as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set and bag operations,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s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way to “nest”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names of students who are in more clubs than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1632600" y="4386240"/>
            <a:ext cx="5301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(SELECT SID FROM ClubMembe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EXCEPT 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(SELECT SID FROM Enro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596160" y="3733920"/>
            <a:ext cx="67644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SELECT DISTINCT name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FROM Student,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    (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                             ) AS S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WHERE Student.SID = S.S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F34A-33B1-4EF0-BEDF-D6CCB83FF75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1220-7A5A-4F65-BBED-9F46C08790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ar sub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14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ery that returns a single row can be used as a value in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students at the same age as B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1139400" y="2209680"/>
            <a:ext cx="639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SELECT *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FROM Student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WHERE age = (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                              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2912760" y="297180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Stud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name = ’Bar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074120" y="236232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What’s Bart’s 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457200" y="4191120"/>
            <a:ext cx="86868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time error if subquery returns more than one 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 what condition will this runtime error never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key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f subquery returns no row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ue returned is a special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, and the comparison f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B6D4-305C-45A2-86E3-5DA96779701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277D-F406-45D8-8B8C-8481805B4D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 IN 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ubquery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ecks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the resul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students at the same age as (some)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960480" y="3035160"/>
            <a:ext cx="658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SELECT *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FROM Student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WHERE age IN (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                                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3369960" y="375120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Stud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name = ’Bar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4596480" y="304812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What’s Bart’s 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F840-672D-4F58-BF1A-F10638D9BCC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17AA-243B-45A5-8115-2A0AC93EF7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EXIS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b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EXISTS 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ubquery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ecks if the resul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n-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students at the same age as (some)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SELECT *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FROM Student AS </a:t>
            </a:r>
            <a:r>
              <a:rPr b="0" lang="en-US" sz="2200" spc="-1" strike="noStrike">
                <a:solidFill>
                  <a:srgbClr val="ff3300"/>
                </a:solidFill>
                <a:latin typeface="LettrGoth12 BT"/>
              </a:rPr>
              <a:t>s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WHERE EXISTS (SELECT * FROM Student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              WHERE name = ’Bart’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              AND age = </a:t>
            </a:r>
            <a:r>
              <a:rPr b="0" lang="en-US" sz="2200" spc="-1" strike="noStrike">
                <a:solidFill>
                  <a:srgbClr val="ff3300"/>
                </a:solidFill>
                <a:latin typeface="LettrGoth12 BT"/>
              </a:rPr>
              <a:t>s.age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happens to be a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correlated subque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—a subquery that references tuple variables in surrounding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4"/>
          <p:cNvSpPr/>
          <p:nvPr/>
        </p:nvSpPr>
        <p:spPr>
          <a:xfrm>
            <a:off x="3429000" y="3048120"/>
            <a:ext cx="2971800" cy="12952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F3C6-79C1-4B0F-BE79-1E6F6AE5410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9D65-E2B1-4F0E-837A-5E822109E5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onal semantics of subqu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ELECT *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FROM Student AS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s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WHERE EXISTS (SELECT * FROM Student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              WHERE name = ’Bart’</a:t>
            </a:r>
            <a:br>
              <a:rPr sz="2000"/>
            </a:b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              AND age = </a:t>
            </a:r>
            <a:r>
              <a:rPr b="0" lang="en-US" sz="2000" spc="-1" strike="noStrike">
                <a:solidFill>
                  <a:srgbClr val="000000"/>
                </a:solidFill>
                <a:latin typeface="LettrGoth12 BT"/>
              </a:rPr>
              <a:t>s.age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ow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aluate the subquery with the appropriate value of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.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result of the subquery is not empty, output 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.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BMS query optimizer may choose to process the query in an equivalent, but more efficient way (exampl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26AE-D9BF-4D02-AFA4-936627BDECE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5631-C3A5-4345-9E93-D3C6E19362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SQL featur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ed so f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and ba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 and grou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expressions, sub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, outerjoins, data modification, constraint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9682-6437-4AE6-9D32-FB8207ABD64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377F-FF56-4E9D-8C01-39B44E427A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007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g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‘%John%’ OR GPA &gt; 3.6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3048120"/>
          <a:ext cx="3504960" cy="2193840"/>
        </p:xfrm>
        <a:graphic>
          <a:graphicData uri="http://schemas.openxmlformats.org/drawingml/2006/table">
            <a:tbl>
              <a:tblPr/>
              <a:tblGrid>
                <a:gridCol w="653760"/>
                <a:gridCol w="1632240"/>
                <a:gridCol w="53316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648320" y="3048120"/>
          <a:ext cx="3504960" cy="2193840"/>
        </p:xfrm>
        <a:graphic>
          <a:graphicData uri="http://schemas.openxmlformats.org/drawingml/2006/table">
            <a:tbl>
              <a:tblPr/>
              <a:tblGrid>
                <a:gridCol w="653760"/>
                <a:gridCol w="1632240"/>
                <a:gridCol w="53316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Line 78"/>
          <p:cNvSpPr/>
          <p:nvPr/>
        </p:nvSpPr>
        <p:spPr>
          <a:xfrm>
            <a:off x="4343400" y="4343400"/>
            <a:ext cx="4114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9"/>
          <p:cNvSpPr/>
          <p:nvPr/>
        </p:nvSpPr>
        <p:spPr>
          <a:xfrm>
            <a:off x="4343400" y="4724280"/>
            <a:ext cx="4038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0"/>
          <p:cNvSpPr/>
          <p:nvPr/>
        </p:nvSpPr>
        <p:spPr>
          <a:xfrm>
            <a:off x="4343400" y="5105520"/>
            <a:ext cx="40384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48320" y="3048120"/>
          <a:ext cx="3504960" cy="2193840"/>
        </p:xfrm>
        <a:graphic>
          <a:graphicData uri="http://schemas.openxmlformats.org/drawingml/2006/table">
            <a:tbl>
              <a:tblPr/>
              <a:tblGrid>
                <a:gridCol w="653760"/>
                <a:gridCol w="1479600"/>
                <a:gridCol w="68580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Group 84"/>
          <p:cNvGrpSpPr/>
          <p:nvPr/>
        </p:nvGrpSpPr>
        <p:grpSpPr>
          <a:xfrm>
            <a:off x="5334120" y="2743200"/>
            <a:ext cx="2895480" cy="2819520"/>
            <a:chOff x="5334120" y="2743200"/>
            <a:chExt cx="2895480" cy="2819520"/>
          </a:xfrm>
        </p:grpSpPr>
        <p:sp>
          <p:nvSpPr>
            <p:cNvPr id="116" name="Rectangle 82"/>
            <p:cNvSpPr/>
            <p:nvPr/>
          </p:nvSpPr>
          <p:spPr>
            <a:xfrm>
              <a:off x="5334120" y="2743200"/>
              <a:ext cx="1523880" cy="281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3"/>
            <p:cNvSpPr/>
            <p:nvPr/>
          </p:nvSpPr>
          <p:spPr>
            <a:xfrm>
              <a:off x="7543800" y="2743200"/>
              <a:ext cx="685800" cy="281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124"/>
          <p:cNvSpPr/>
          <p:nvPr/>
        </p:nvSpPr>
        <p:spPr>
          <a:xfrm>
            <a:off x="838080" y="59436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dfsa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126"/>
          <p:cNvCxnSpPr>
            <a:stCxn id="108" idx="2"/>
            <a:endCxn id="108" idx="2"/>
          </p:cNvCxnSpPr>
          <p:nvPr/>
        </p:nvCxnSpPr>
        <p:spPr>
          <a:xfrm>
            <a:off x="4533480" y="632412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grpSp>
        <p:nvGrpSpPr>
          <p:cNvPr id="120" name="Group 128"/>
          <p:cNvGrpSpPr/>
          <p:nvPr/>
        </p:nvGrpSpPr>
        <p:grpSpPr>
          <a:xfrm>
            <a:off x="4191120" y="3504960"/>
            <a:ext cx="456840" cy="228960"/>
            <a:chOff x="4191120" y="3504960"/>
            <a:chExt cx="456840" cy="228960"/>
          </a:xfrm>
        </p:grpSpPr>
        <p:sp>
          <p:nvSpPr>
            <p:cNvPr id="121" name="Line 125"/>
            <p:cNvSpPr/>
            <p:nvPr/>
          </p:nvSpPr>
          <p:spPr>
            <a:xfrm>
              <a:off x="4191120" y="3596760"/>
              <a:ext cx="101520" cy="137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7"/>
            <p:cNvSpPr/>
            <p:nvPr/>
          </p:nvSpPr>
          <p:spPr>
            <a:xfrm flipV="1">
              <a:off x="4292640" y="3504960"/>
              <a:ext cx="3553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29"/>
          <p:cNvGrpSpPr/>
          <p:nvPr/>
        </p:nvGrpSpPr>
        <p:grpSpPr>
          <a:xfrm>
            <a:off x="4191120" y="3885840"/>
            <a:ext cx="456840" cy="228960"/>
            <a:chOff x="4191120" y="3885840"/>
            <a:chExt cx="456840" cy="228960"/>
          </a:xfrm>
        </p:grpSpPr>
        <p:sp>
          <p:nvSpPr>
            <p:cNvPr id="124" name="Line 130"/>
            <p:cNvSpPr/>
            <p:nvPr/>
          </p:nvSpPr>
          <p:spPr>
            <a:xfrm>
              <a:off x="4191120" y="3977640"/>
              <a:ext cx="101520" cy="137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31"/>
            <p:cNvSpPr/>
            <p:nvPr/>
          </p:nvSpPr>
          <p:spPr>
            <a:xfrm flipV="1">
              <a:off x="4292640" y="3885840"/>
              <a:ext cx="3553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B86F-ECD5-4E7B-8DB2-90DDCF80096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6F7E-CD2D-4D5C-8914-47A676F74F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tudent (SID integer, name varchar(30), age integer, GPA float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Course (CID char(10), title varchar(100)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Enroll (SID integer, CID char(10)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Create table Student (SID integer, name varchar(30), age integer, GPA float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Create table Course (CID char(10), title varchar(100)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Create table Enroll (SID integer, CID char(10)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B5AD-8C5F-42FB-8526-955019C19CF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4469-AD9F-4A36-ABF2-3F00B77677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and Bag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ION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SECTION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TIN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V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733920" y="2666880"/>
            <a:ext cx="5105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ELECT age, AVG(G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FROM Student S ENROLL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WHERE S.SID = E.S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  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AND E.CID = ‘EECS108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GROUP BY 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HAVING age &gt; 2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--Compute the average GPA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tudents who are at least 2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old and are enrolled in 108 with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ame 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E5D7-D5AA-43B7-ABE2-A732143E755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3542-7C36-4A39-A35D-9963F054B7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ORD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B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ORDER BY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output_column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[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ASC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|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DESC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AS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scending,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DES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desc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al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ist has been computed, sort the output according to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ORD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pecifi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1A14-4D9C-4FD7-AB31-408A65E8865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2C10-959D-4293-A05A-A1CBD47137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ORD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ll students, sort them by GPA (descending) and name (ascen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LECT SID, name, age, GPA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ROM Student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RDER BY GPA DESC, name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AS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default o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speaking, only output columns can appear in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ORD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use sequence numbers instead of names to refer t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put columns: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RDER BY 4 DESC, 2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AADB-15FC-4377-B790-C1E52E2FDE4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D4E9-681F-4E43-AF7A-602CE75C5D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’s of all pairs of class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al algebra query: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2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 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½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Enroll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CID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2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CID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cmsy10"/>
              </a:rPr>
              <a:t>Æ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&gt;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2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½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Enroll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: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LECT e1.SID </a:t>
            </a:r>
            <a:r>
              <a:rPr b="1" lang="en-US" sz="2600" spc="-1" strike="noStrike">
                <a:solidFill>
                  <a:srgbClr val="70966a"/>
                </a:solidFill>
                <a:latin typeface="LettrGoth12 BT"/>
              </a:rPr>
              <a:t>AS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SID1, e2.SID </a:t>
            </a:r>
            <a:r>
              <a:rPr b="1" lang="en-US" sz="2600" spc="-1" strike="noStrike">
                <a:solidFill>
                  <a:srgbClr val="70966a"/>
                </a:solidFill>
                <a:latin typeface="LettrGoth12 BT"/>
              </a:rPr>
              <a:t>AS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SID2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ROM Enroll </a:t>
            </a:r>
            <a:r>
              <a:rPr b="1" lang="en-US" sz="2600" spc="-1" strike="noStrike">
                <a:solidFill>
                  <a:srgbClr val="70966a"/>
                </a:solidFill>
                <a:latin typeface="LettrGoth12 BT"/>
              </a:rPr>
              <a:t>AS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e1, Enroll </a:t>
            </a:r>
            <a:r>
              <a:rPr b="1" lang="en-US" sz="2600" spc="-1" strike="noStrike">
                <a:solidFill>
                  <a:srgbClr val="70966a"/>
                </a:solidFill>
                <a:latin typeface="LettrGoth12 BT"/>
              </a:rPr>
              <a:t>AS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e2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WHERE e1.CID = e2.CID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AND e1.SID &gt; e2.SID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966a"/>
                </a:solidFill>
                <a:latin typeface="LettrGoth12 BT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keyword is opt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liuj</cp:lastModifiedBy>
  <dcterms:modified xsi:type="dcterms:W3CDTF">2007-09-18T18:17:41Z</dcterms:modified>
  <cp:revision>1000</cp:revision>
  <dc:subject/>
  <dc:title>CS186: Introduction to Database Systems</dc:title>
</cp:coreProperties>
</file>