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77A686-C209-411F-A786-58741AA80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917B26-90CE-4BBA-A1C6-6C2A025E5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11F-727F-437C-B0E2-689709DC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52A2-A500-4399-BC64-2A40668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96F-7355-4B40-A1DA-EA78CB23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BDF-06FA-497B-AD77-4974DB10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C43-41BF-4EBD-AE74-735FBEB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11C-98D1-4197-8F3C-2385BFC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498-314B-4294-9A8A-B5A2CDF9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3E0-3117-4816-BD16-10D20330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38F-62D9-40A1-A1A5-194FE240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BAF-88CF-4AEC-B05F-F76BD564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770-6D0C-41DE-AF3A-1A5D4C4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D52-AB7D-4EFF-B37B-963603B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DDC-870B-4157-8706-AC06876904D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734-99E1-4BFE-86EB-1419A2F04A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6 is d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esenting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rian Phagan and Niki Heggest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r Adra and Ben K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drew Ozor and Adam Doy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hael Neth and Alex Thomp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antha Co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yan and Gorkem Sev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9T19:29:22Z</dcterms:modified>
  <cp:revision>1163</cp:revision>
  <dc:subject/>
  <dc:title>CS186: Introduction to Database Systems</dc:title>
</cp:coreProperties>
</file>