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4B227C-67B1-452A-8B5E-136E15EF6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BA36D3-B28C-4B9C-A0F9-8F1C3C481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DC501D-9C85-45BD-A0F1-69C003797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DD4929-603C-4D4C-96D9-1BAF54ED4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C7A86B-9F32-4514-904C-6FC2B0B471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486CB3-E7CC-4EE4-B298-603564897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F5E21A-2441-4B04-B506-F0E697A03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F18B51-C339-4C1D-B7E4-6D4F2F58E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17302B-A92A-4DB6-B9D3-AEBE3C337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E57582-5CA1-4953-872D-20ADCEBF7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ACD09C-B5F0-4DD8-AC28-3948D3B5B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4A9860-CE5D-4009-BF0E-7445776F0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835F40-E2D8-4A93-9356-7EC23AA7E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16F253-5A67-4D19-8A58-DC8504DE6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FF3674-0EB2-43B3-89D8-5140DF280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F is as at least as strong as BCNF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every BCNF vio is a 4NF 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FD is also M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F is strictly stronger than BCNF, in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have “real” m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have mvd’s that follow following key f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BA0031-BFD2-4FA2-82AE-2FC4DE133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3C50AF-3F41-4EFE-8E11-F2C306941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017F72-A7C1-4D60-BA6B-A3D7915D5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F : There is no partial functional dependency (a non-trivial F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proper subset of some key and A is not prime --- I.e. not part of some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F: example: A-&gt;B-&gt;C is ok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b-&gt;c, b is not a proper subset of a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cs.bbk.ac.uk/~mark/download/optdb_normal_form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4F95AD-F537-4A24-9A5F-C5E085512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AD0-70CC-42D2-BC26-4517F5D4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2C6-658B-4592-BF48-2A3606C4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1C5-20DC-40CA-BB9C-6E2D335D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945-D42C-4FA8-8076-3E30218F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AF9-6312-4974-AC9F-C5076CFC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75A-A80F-42DC-B5E6-1091B12E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DA5-851D-4BD4-897D-43C90107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266-BDF8-41E8-8870-07A172F0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3B0-19B4-4D0E-B2BC-BB4F257E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C733-E326-493D-B883-3DFBB005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D15-7394-4C50-BC2C-1AB741D5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523-6E6B-4004-B875-23080FB9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7C5F-D2C4-4BFB-B35B-DEB3E2C53D1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421-EF51-4CF7-9630-BEF11F04B0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029200"/>
            <a:ext cx="4800600" cy="1557000"/>
          </a:xfrm>
          <a:prstGeom prst="rect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Nobody realizes that some people expend tremendous energy merely to be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bert Ca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have to use the “foreign key” mechanism to achieve lossless join in binary decom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. See EN 11.1.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E3C-051F-4454-886B-ED80622A9D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667AD-CDBA-414B-8684-F1C71111CD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move the redundancy that is introduced by non-key FD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ck up a non-key F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decompo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= attr(R) – X –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do this recursively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to stop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EE3-839C-4D52-B15F-B6CB738118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93007-80AB-4335-91A6-F1D987AE9D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000" y="14572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84120" y="1946160"/>
            <a:ext cx="32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Pick up 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108720" y="2381400"/>
            <a:ext cx="9161640" cy="1534680"/>
            <a:chOff x="-108720" y="2381400"/>
            <a:chExt cx="9161640" cy="1534680"/>
          </a:xfrm>
        </p:grpSpPr>
        <p:sp>
          <p:nvSpPr>
            <p:cNvPr id="138" name=""/>
            <p:cNvSpPr/>
            <p:nvPr/>
          </p:nvSpPr>
          <p:spPr>
            <a:xfrm>
              <a:off x="-108720" y="2905200"/>
              <a:ext cx="3638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8360" y="3438360"/>
              <a:ext cx="6694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Grade’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828440" y="2381400"/>
              <a:ext cx="210996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4560" y="238140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625200" y="3965400"/>
            <a:ext cx="361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pickup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22160" y="4419720"/>
            <a:ext cx="8197560" cy="1477800"/>
            <a:chOff x="722160" y="4419720"/>
            <a:chExt cx="8197560" cy="1477800"/>
          </a:xfrm>
        </p:grpSpPr>
        <p:sp>
          <p:nvSpPr>
            <p:cNvPr id="144" name=""/>
            <p:cNvSpPr/>
            <p:nvPr/>
          </p:nvSpPr>
          <p:spPr>
            <a:xfrm flipH="1">
              <a:off x="3300480" y="4419720"/>
              <a:ext cx="210960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2160" y="5019840"/>
              <a:ext cx="477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8440" y="4419720"/>
              <a:ext cx="1090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1360" y="5419800"/>
              <a:ext cx="4158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486400" y="152280"/>
            <a:ext cx="35053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508-CD99-48F4-B419-1AA53A04C6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B3285-6BFF-4110-B3EC-F707EE5514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applies binary decomposition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step, the lossless join property is mai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 to remove ALL redundancies caused by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081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ce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35E-BBAC-4EB1-84B5-88DFA8110E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CD041-3090-4874-808F-AA9BE29628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Types of non-key D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1371600"/>
            <a:ext cx="5486400" cy="1143000"/>
            <a:chOff x="609480" y="1371600"/>
            <a:chExt cx="5486400" cy="1143000"/>
          </a:xfrm>
        </p:grpSpPr>
        <p:sp>
          <p:nvSpPr>
            <p:cNvPr id="154" name=""/>
            <p:cNvSpPr/>
            <p:nvPr/>
          </p:nvSpPr>
          <p:spPr>
            <a:xfrm>
              <a:off x="609480" y="1371600"/>
              <a:ext cx="2743200" cy="114300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1676520"/>
              <a:ext cx="984240" cy="6033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1600200"/>
              <a:ext cx="1371600" cy="57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4080" y="1371600"/>
              <a:ext cx="1981080" cy="38124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324480" y="16765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2844720"/>
            <a:ext cx="5486400" cy="1346400"/>
            <a:chOff x="533520" y="2844720"/>
            <a:chExt cx="5486400" cy="1346400"/>
          </a:xfrm>
        </p:grpSpPr>
        <p:grpSp>
          <p:nvGrpSpPr>
            <p:cNvPr id="160" name=""/>
            <p:cNvGrpSpPr/>
            <p:nvPr/>
          </p:nvGrpSpPr>
          <p:grpSpPr>
            <a:xfrm>
              <a:off x="533520" y="3048120"/>
              <a:ext cx="5486400" cy="1143000"/>
              <a:chOff x="533520" y="3048120"/>
              <a:chExt cx="5486400" cy="1143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33520" y="3048120"/>
                <a:ext cx="2743200" cy="1143000"/>
              </a:xfrm>
              <a:prstGeom prst="ellipse">
                <a:avLst/>
              </a:prstGeom>
              <a:solidFill>
                <a:srgbClr val="fccd0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8120" y="3352680"/>
                <a:ext cx="984240" cy="603360"/>
              </a:xfrm>
              <a:prstGeom prst="ellipse">
                <a:avLst/>
              </a:prstGeom>
              <a:solidFill>
                <a:srgbClr val="3366ff">
                  <a:alpha val="8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Book Antiqu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48320" y="3276720"/>
                <a:ext cx="1371600" cy="5745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Book Antiqu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57600" y="3048120"/>
                <a:ext cx="1371600" cy="380880"/>
              </a:xfrm>
              <a:custGeom>
                <a:avLst/>
                <a:gdLst/>
                <a:ahLst/>
                <a:rect l="l" t="t" r="r" b="b"/>
                <a:pathLst>
                  <a:path w="448" h="132">
                    <a:moveTo>
                      <a:pt x="0" y="132"/>
                    </a:moveTo>
                    <a:cubicBezTo>
                      <a:pt x="36" y="76"/>
                      <a:pt x="72" y="20"/>
                      <a:pt x="147" y="10"/>
                    </a:cubicBezTo>
                    <a:cubicBezTo>
                      <a:pt x="222" y="0"/>
                      <a:pt x="335" y="37"/>
                      <a:pt x="448" y="7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438280" y="2844720"/>
              <a:ext cx="1067040" cy="507960"/>
            </a:xfrm>
            <a:custGeom>
              <a:avLst/>
              <a:gdLst/>
              <a:ahLst/>
              <a:rect l="l" t="t" r="r" b="b"/>
              <a:pathLst>
                <a:path w="912" h="320">
                  <a:moveTo>
                    <a:pt x="0" y="128"/>
                  </a:moveTo>
                  <a:cubicBezTo>
                    <a:pt x="236" y="64"/>
                    <a:pt x="472" y="0"/>
                    <a:pt x="624" y="32"/>
                  </a:cubicBezTo>
                  <a:cubicBezTo>
                    <a:pt x="776" y="64"/>
                    <a:pt x="864" y="272"/>
                    <a:pt x="912" y="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324480" y="33354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ve dependency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9480" y="4622760"/>
            <a:ext cx="4337280" cy="1244520"/>
            <a:chOff x="609480" y="4622760"/>
            <a:chExt cx="4337280" cy="1244520"/>
          </a:xfrm>
        </p:grpSpPr>
        <p:sp>
          <p:nvSpPr>
            <p:cNvPr id="168" name=""/>
            <p:cNvSpPr/>
            <p:nvPr/>
          </p:nvSpPr>
          <p:spPr>
            <a:xfrm>
              <a:off x="609480" y="4724280"/>
              <a:ext cx="2743200" cy="114300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4952880"/>
              <a:ext cx="984240" cy="603360"/>
            </a:xfrm>
            <a:prstGeom prst="ellipse">
              <a:avLst/>
            </a:prstGeom>
            <a:solidFill>
              <a:srgbClr val="3366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2320" y="5105520"/>
              <a:ext cx="761760" cy="457200"/>
            </a:xfrm>
            <a:prstGeom prst="ellipse">
              <a:avLst/>
            </a:prstGeom>
            <a:solidFill>
              <a:srgbClr val="ff00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6880" y="4622760"/>
              <a:ext cx="1752840" cy="330120"/>
            </a:xfrm>
            <a:custGeom>
              <a:avLst/>
              <a:gdLst/>
              <a:ahLst/>
              <a:rect l="l" t="t" r="r" b="b"/>
              <a:pathLst>
                <a:path w="1104" h="208">
                  <a:moveTo>
                    <a:pt x="0" y="112"/>
                  </a:moveTo>
                  <a:cubicBezTo>
                    <a:pt x="196" y="56"/>
                    <a:pt x="392" y="0"/>
                    <a:pt x="576" y="16"/>
                  </a:cubicBezTo>
                  <a:cubicBezTo>
                    <a:pt x="760" y="32"/>
                    <a:pt x="1016" y="176"/>
                    <a:pt x="1104" y="2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520" y="5562720"/>
              <a:ext cx="1447560" cy="304560"/>
            </a:xfrm>
            <a:custGeom>
              <a:avLst/>
              <a:gdLst/>
              <a:ahLst/>
              <a:rect l="l" t="t" r="r" b="b"/>
              <a:pathLst>
                <a:path w="912" h="192">
                  <a:moveTo>
                    <a:pt x="912" y="0"/>
                  </a:moveTo>
                  <a:cubicBezTo>
                    <a:pt x="748" y="96"/>
                    <a:pt x="584" y="192"/>
                    <a:pt x="432" y="192"/>
                  </a:cubicBezTo>
                  <a:cubicBezTo>
                    <a:pt x="280" y="192"/>
                    <a:pt x="140" y="96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324480" y="495288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ve dependency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C79-87FA-4A76-A561-4E8A61FD0E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238B6-EB24-40D3-BE10-68D0E12BF4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BCNF (and 4NF)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ata should depend on the key, the whole key, and nothing but the k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3NF: 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 But not at the expense of more expensive constraint enforc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846-294D-4615-9CE1-FF59C96B45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1205D-A32E-427A-A478-72B4F86478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y-preserving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 (BCNF is too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valued dependencies: another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NF (BCNF is not enou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A52-4312-4223-9711-1B11B12DB16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4D708-A285-4320-9DF0-F9DB124BE5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olation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8B7-F272-499E-9C1C-406E6D8BF5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6E787-842E-44AE-97C1-FEF4A677EA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decompose or not to decomp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e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, where i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treet_addres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eck without joi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ck toge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ome lossless join decomposition is not dependency-preser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emma: Should we get rid of redundancy at the expense of making constraints harder to enfor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F08-D536-4F87-BEB8-4D69829FDC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4FED6-E714-4391-89AB-E810F50145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ing Depend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Projection of set of FDs F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 is decomposed into X and Y the projection of F on X  (denoted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is the set of FDs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V in 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losure of F , not just 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all of the attributes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U, V are in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same holds for Y of cour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of R into X and Y is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dependenc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pre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(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99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) 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+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=  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.e., if we consider only dependencies in the closure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can be checked in X without considering Y, and in Y without considering X,  these imply all dependencies in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4C3-30F2-4D82-A1EE-8277EDF3D74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E4E08-16FA-4265-8DF3-9D7F7D24C3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idterm questions will be posted at the class websites later to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pick up an answering key for homework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/SQL functionality has been enabled in the EECS postgresql ser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F5E-0A76-439F-A2EC-A35E185FBF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E5004-47FF-45D7-BDFF-3F47BE3481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to consider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is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= ABC,  F = {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,  B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,  C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is decomposed into AB and B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is dependency preserving?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 C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 preserved??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and  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 and 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, (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4B3-DDD9-490E-8DFE-C5B350143B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03E56-00FC-4162-BFF0-11119A3F68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Preserving FD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ay to view lossless join: we lost one (or more) key F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468468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33720" y="2984400"/>
            <a:ext cx="259056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2971800"/>
            <a:ext cx="19051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8120" y="1828800"/>
          <a:ext cx="307656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066680" y="3308400"/>
          <a:ext cx="221004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562720" y="3308400"/>
          <a:ext cx="220968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819520" y="3809880"/>
            <a:ext cx="3504960" cy="380880"/>
            <a:chOff x="2819520" y="3809880"/>
            <a:chExt cx="3504960" cy="380880"/>
          </a:xfrm>
        </p:grpSpPr>
        <p:sp>
          <p:nvSpPr>
            <p:cNvPr id="195" name=""/>
            <p:cNvSpPr/>
            <p:nvPr/>
          </p:nvSpPr>
          <p:spPr>
            <a:xfrm>
              <a:off x="2819520" y="3809880"/>
              <a:ext cx="3428640" cy="3808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819520" y="3886200"/>
              <a:ext cx="3504960" cy="3045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3809880"/>
            <a:ext cx="3581280" cy="380880"/>
            <a:chOff x="2743200" y="3809880"/>
            <a:chExt cx="3581280" cy="380880"/>
          </a:xfrm>
        </p:grpSpPr>
        <p:sp>
          <p:nvSpPr>
            <p:cNvPr id="198" name=""/>
            <p:cNvSpPr/>
            <p:nvPr/>
          </p:nvSpPr>
          <p:spPr>
            <a:xfrm>
              <a:off x="2743200" y="3809880"/>
              <a:ext cx="3581280" cy="763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4190760"/>
              <a:ext cx="3504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3048120" y="4876920"/>
          <a:ext cx="3076560" cy="18255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133720" y="4419720"/>
            <a:ext cx="4495320" cy="457200"/>
            <a:chOff x="2133720" y="4419720"/>
            <a:chExt cx="4495320" cy="457200"/>
          </a:xfrm>
        </p:grpSpPr>
        <p:sp>
          <p:nvSpPr>
            <p:cNvPr id="202" name=""/>
            <p:cNvSpPr/>
            <p:nvPr/>
          </p:nvSpPr>
          <p:spPr>
            <a:xfrm>
              <a:off x="2133720" y="4419720"/>
              <a:ext cx="259056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647960" y="4419720"/>
              <a:ext cx="198108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324480" y="5181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D, PID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A88-1946-4124-A9EA-C9ABD093773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C292A-0AA9-4453-B17A-8C60C3AE73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cy-preserving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all functional dependency and at least one key during natural joi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F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a set of join-lossless, dep.-pres.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for each FD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, create a relation R’ = 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if there is no key included in any of the created relations, add a relation with a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remove all relations R’ which is a subset of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l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less-Join, Dep. Pres. Decom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A50-F2F6-465B-89E9-C9D4ACACF12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DF1AC-20FC-482D-BB2F-46DA7D4C18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DEF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s: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 A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decomposed i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B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CDE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EFG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key ye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CD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072-48B7-4477-BA19-9254FDEF42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FEDB2-679E-4493-9B3A-CF67F5737B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1(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, zip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ddress2(zip, 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ddress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ddress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044-451D-47C0-8903-403EF58C99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FD3D8-A8EC-4D7C-8CDD-B3946BDFE7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ird Normal Form (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3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for every non-trivial FD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ingle attribute),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uperke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mber of at least one ke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uitively, BCNF decomposition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ould “break” the key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85800" y="3809880"/>
            <a:ext cx="1736640" cy="409680"/>
            <a:chOff x="685800" y="3809880"/>
            <a:chExt cx="1736640" cy="409680"/>
          </a:xfrm>
        </p:grpSpPr>
        <p:sp>
          <p:nvSpPr>
            <p:cNvPr id="214" name=""/>
            <p:cNvSpPr/>
            <p:nvPr/>
          </p:nvSpPr>
          <p:spPr>
            <a:xfrm>
              <a:off x="685800" y="3876480"/>
              <a:ext cx="762120" cy="34308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9240" y="3946320"/>
              <a:ext cx="466920" cy="2030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71560" y="391788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2840" y="3809880"/>
              <a:ext cx="692280" cy="16812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352680" y="3657600"/>
            <a:ext cx="1736640" cy="507960"/>
            <a:chOff x="3352680" y="3657600"/>
            <a:chExt cx="1736640" cy="507960"/>
          </a:xfrm>
        </p:grpSpPr>
        <p:sp>
          <p:nvSpPr>
            <p:cNvPr id="219" name=""/>
            <p:cNvSpPr/>
            <p:nvPr/>
          </p:nvSpPr>
          <p:spPr>
            <a:xfrm>
              <a:off x="3352680" y="3822480"/>
              <a:ext cx="761760" cy="34308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2320" y="3902040"/>
              <a:ext cx="466560" cy="2030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38440" y="386388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17760" y="3755880"/>
              <a:ext cx="353880" cy="18108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86040" y="3657600"/>
              <a:ext cx="406440" cy="236520"/>
            </a:xfrm>
            <a:custGeom>
              <a:avLst/>
              <a:gdLst/>
              <a:ahLst/>
              <a:rect l="l" t="t" r="r" b="b"/>
              <a:pathLst>
                <a:path w="256" h="149">
                  <a:moveTo>
                    <a:pt x="0" y="98"/>
                  </a:moveTo>
                  <a:cubicBezTo>
                    <a:pt x="58" y="49"/>
                    <a:pt x="117" y="0"/>
                    <a:pt x="160" y="8"/>
                  </a:cubicBezTo>
                  <a:cubicBezTo>
                    <a:pt x="203" y="16"/>
                    <a:pt x="229" y="82"/>
                    <a:pt x="256" y="14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48520" y="3657600"/>
            <a:ext cx="1565280" cy="709560"/>
            <a:chOff x="6248520" y="3657600"/>
            <a:chExt cx="1565280" cy="709560"/>
          </a:xfrm>
        </p:grpSpPr>
        <p:sp>
          <p:nvSpPr>
            <p:cNvPr id="225" name=""/>
            <p:cNvSpPr/>
            <p:nvPr/>
          </p:nvSpPr>
          <p:spPr>
            <a:xfrm>
              <a:off x="6248520" y="3875040"/>
              <a:ext cx="762120" cy="34272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47240" y="4005000"/>
              <a:ext cx="466560" cy="20340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8080" y="394632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4200" y="3657600"/>
              <a:ext cx="954000" cy="349200"/>
            </a:xfrm>
            <a:custGeom>
              <a:avLst/>
              <a:gdLst/>
              <a:ahLst/>
              <a:rect l="l" t="t" r="r" b="b"/>
              <a:pathLst>
                <a:path w="601" h="220">
                  <a:moveTo>
                    <a:pt x="0" y="131"/>
                  </a:moveTo>
                  <a:cubicBezTo>
                    <a:pt x="110" y="65"/>
                    <a:pt x="220" y="0"/>
                    <a:pt x="320" y="15"/>
                  </a:cubicBezTo>
                  <a:cubicBezTo>
                    <a:pt x="420" y="30"/>
                    <a:pt x="510" y="125"/>
                    <a:pt x="601" y="2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26240" y="4128840"/>
              <a:ext cx="781200" cy="238320"/>
            </a:xfrm>
            <a:custGeom>
              <a:avLst/>
              <a:gdLst/>
              <a:ahLst/>
              <a:rect l="l" t="t" r="r" b="b"/>
              <a:pathLst>
                <a:path w="492" h="150">
                  <a:moveTo>
                    <a:pt x="492" y="51"/>
                  </a:moveTo>
                  <a:cubicBezTo>
                    <a:pt x="354" y="100"/>
                    <a:pt x="216" y="150"/>
                    <a:pt x="134" y="141"/>
                  </a:cubicBezTo>
                  <a:cubicBezTo>
                    <a:pt x="52" y="132"/>
                    <a:pt x="26" y="66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33520" y="4419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464832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ve dependenc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ve dependenc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64832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6019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N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248520" y="4266720"/>
            <a:ext cx="1600200" cy="686160"/>
            <a:chOff x="6248520" y="4266720"/>
            <a:chExt cx="1600200" cy="686160"/>
          </a:xfrm>
        </p:grpSpPr>
        <p:sp>
          <p:nvSpPr>
            <p:cNvPr id="237" name=""/>
            <p:cNvSpPr/>
            <p:nvPr/>
          </p:nvSpPr>
          <p:spPr>
            <a:xfrm>
              <a:off x="6248520" y="4571640"/>
              <a:ext cx="304560" cy="381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553080" y="4266720"/>
              <a:ext cx="129564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9480" y="5181480"/>
            <a:ext cx="19051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562720"/>
            <a:ext cx="4724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5867280"/>
            <a:ext cx="7696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5653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7D1-7854-48DD-A23D-5F070830DEC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0C3F9-9012-4004-9E74-0A00DEFC15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about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3N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ans a set of attributes participate at least one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enforce all original FD’s on individual decomposed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ght have some redundancy due to FD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1600200"/>
            <a:ext cx="3352680" cy="38088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133720"/>
            <a:ext cx="685800" cy="38088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124080"/>
            <a:ext cx="685800" cy="38124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62E-E0C7-4064-B8FA-058FA20B0DD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72DE7-24D8-45FF-8A36-274D3E3AA6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l Cover for a Set of F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Minimal cover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for a set of FDs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sure of F  =  closure of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ight hand side of each FD in G is a single attrib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we modify G by deleting an FD or by deleting attributes from an FD in G, the closur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, every FD in G is needed, and ``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as small a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 in order to get the same closure as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 AB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H,  ACD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G has the following minimal 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,  AC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  and  E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cy-preserving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 a re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set of F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a set of join-lossless, dep.-pres. relation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a minimal c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o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combine all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…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ingle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for each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create a relation R’ = 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if there is no key included in any of the created relations add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5: remove all relations R’ which is a subset of 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Cover implie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-Join, Dep. Pres. Decomp in 3NF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in EN 11.2.3, p. 38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30C-0031-425C-B2ED-65C86AA222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65E7E-3E5C-4D14-AF1D-DAD9CF5BFD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= no redundanc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your classes have nothing to do with the clubs you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D’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CNF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ie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343400" y="3352680"/>
          <a:ext cx="3076560" cy="18417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B96-AA75-4CB7-B0E1-8712B9AA50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AF47C-1AE2-498D-8A1F-DB2D2C37D2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“determines”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rows ag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y must ag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eneralization of the key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43200" y="3505320"/>
          <a:ext cx="2455920" cy="18284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733920" y="48006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AFD-8019-4CC3-A071-E73C196391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6D7C2-C2E7-4AA2-BAC2-1E925E3B9A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valued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ultivalued depend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V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 the form</a:t>
            </a:r>
            <a:br>
              <a:rPr sz="2800"/>
            </a:b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sets of attribute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at whenever two row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ree on all the attribu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e can swap thei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and get two new rows that are also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438280" y="3886200"/>
          <a:ext cx="3076560" cy="11109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438280" y="388620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5715000" y="5105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in the relation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31D-4488-472E-90DB-D68E4985789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BFDD9-5861-476C-AE40-44EC5A2040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D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uition: giv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club are “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ndepen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: LHS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RHS = all attributes of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: LHS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¶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R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 when two independent 1:N relations AB, AC are mixed together in R=ABC, a MVD may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2F5-A006-4716-8D20-26F2EB598C4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2EA5C-92B5-406A-BD10-BD9F8741A3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MVD + FD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FD reflexivity, augmentation, and tra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comple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aug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Replication (FD is MV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oalesc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re is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joint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3120" y="556272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Try proving things using the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E9A-1303-424D-A1CB-810B46A064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5886E-FC05-4B82-958D-98E2485A4A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ourth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4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MV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’s and MVD’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 (i.e., no MVD’s, and no FD’s besides key functional dependenc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NF is stronger than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every FD is also a MV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09D-194A-4A02-A35D-26673C5475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6FB21-8372-4946-B347-BCCDAC067F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 decomposition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4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non-trivial MVD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super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ains attributes not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until all relations are in 4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identical to BCNF decomposi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decomposition on a 4NF viola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BCD-EB1B-4D99-9AA8-53C65DCDE67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BEA44-26E8-4159-8782-869897FA33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 decomposi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2640" y="2362320"/>
            <a:ext cx="382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4800" y="2854440"/>
            <a:ext cx="7423200" cy="1788840"/>
            <a:chOff x="1414800" y="2854440"/>
            <a:chExt cx="7423200" cy="1788840"/>
          </a:xfrm>
        </p:grpSpPr>
        <p:sp>
          <p:nvSpPr>
            <p:cNvPr id="276" name=""/>
            <p:cNvSpPr/>
            <p:nvPr/>
          </p:nvSpPr>
          <p:spPr>
            <a:xfrm>
              <a:off x="3179160" y="2854440"/>
              <a:ext cx="3954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 violation: </a:t>
              </a: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lang="en-US" sz="28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</a:t>
              </a: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14800" y="3743280"/>
              <a:ext cx="267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74160" y="3743280"/>
              <a:ext cx="246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Join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lu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742480" y="3295800"/>
              <a:ext cx="1981080" cy="361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02640" y="41227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20720" y="41227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6040" y="3295800"/>
              <a:ext cx="1981080" cy="361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228600" y="1295280"/>
          <a:ext cx="2847960" cy="1724040"/>
        </p:xfrm>
        <a:graphic>
          <a:graphicData uri="http://schemas.openxmlformats.org/drawingml/2006/table">
            <a:tbl>
              <a:tblPr/>
              <a:tblGrid>
                <a:gridCol w="977760"/>
                <a:gridCol w="1067040"/>
                <a:gridCol w="8031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219320" y="4800600"/>
          <a:ext cx="2044440" cy="1004760"/>
        </p:xfrm>
        <a:graphic>
          <a:graphicData uri="http://schemas.openxmlformats.org/drawingml/2006/table">
            <a:tbl>
              <a:tblPr/>
              <a:tblGrid>
                <a:gridCol w="97776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781680" y="4724280"/>
          <a:ext cx="1781280" cy="1051200"/>
        </p:xfrm>
        <a:graphic>
          <a:graphicData uri="http://schemas.openxmlformats.org/drawingml/2006/table">
            <a:tbl>
              <a:tblPr/>
              <a:tblGrid>
                <a:gridCol w="978120"/>
                <a:gridCol w="80316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97C-0C41-4D80-A5BA-DE1F46853D2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7587A-4CEF-4266-BA0F-862BDA0F7D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, BCNF, 4NF, and beyo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3478320"/>
            <a:ext cx="86104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historical inte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NF: All column values must be atom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NF: Slightly more relaxed than 3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8600" y="1295280"/>
          <a:ext cx="8686800" cy="1827360"/>
        </p:xfrm>
        <a:graphic>
          <a:graphicData uri="http://schemas.openxmlformats.org/drawingml/2006/table">
            <a:tbl>
              <a:tblPr/>
              <a:tblGrid>
                <a:gridCol w="4114800"/>
                <a:gridCol w="1523880"/>
                <a:gridCol w="1524240"/>
                <a:gridCol w="1523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maly/normal 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3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BC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4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Lose FD’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Redundancy due to FD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Redundancy due to MVD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CCB-87F1-4A34-9C6F-7D8F451B80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866D8-BF9F-465C-9406-A48BB6FA69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BCNF, 4NF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ata should depend on the key, the whole key, and nothing but the k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3NF: 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 But not at the expense of more expensive constraint enforc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94D-0839-4BE5-811F-7BE96331B4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8502B-7E6A-4D3F-915D-57F57D0012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reate join lossless decom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 decomposition with foreign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-nary decomposition with FD preserving and a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FD preserving decomposi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FD, create a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cover of FD guarantees 3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2C6-0227-433A-B7E0-5049CCFD3E4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3E2FD-6856-4835-8B68-4EB5E423CB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738d74"/>
                </a:solidFill>
                <a:latin typeface="Times New Roman"/>
              </a:rPr>
              <a:t>non-key F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functional dependencies represent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01880" y="2743200"/>
          <a:ext cx="2455920" cy="18284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801880" y="2743200"/>
          <a:ext cx="2455920" cy="243828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8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01880" y="2743200"/>
          <a:ext cx="2455920" cy="304812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8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954160" y="5715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57800"/>
            <a:ext cx="5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320-4205-478D-9B17-4A7B3019FD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31C3E-ED28-4109-96DF-1B9577472B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al with non-key F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“broken down” to a set of relation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ch th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less 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cy preservation join (we are going to discuss this to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469-54D6-43E8-B829-078B38EE57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4E36D-DE35-4D2D-9530-EEBDBA20BB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lossless joi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 =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nature join, we can restore the dat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C72-2513-4763-8BE0-9783ECC2BC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26124-BF7A-4310-97E3-5D2D3362BA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a lossless jo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Sid, Sname, Cid,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S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name, C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Sid, Sname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Cid,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3048120"/>
          <a:ext cx="5791320" cy="1825560"/>
        </p:xfrm>
        <a:graphic>
          <a:graphicData uri="http://schemas.openxmlformats.org/drawingml/2006/table">
            <a:tbl>
              <a:tblPr/>
              <a:tblGrid>
                <a:gridCol w="1090440"/>
                <a:gridCol w="1805040"/>
                <a:gridCol w="1371600"/>
                <a:gridCol w="152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5257800"/>
          <a:ext cx="2361960" cy="1095120"/>
        </p:xfrm>
        <a:graphic>
          <a:graphicData uri="http://schemas.openxmlformats.org/drawingml/2006/table">
            <a:tbl>
              <a:tblPr/>
              <a:tblGrid>
                <a:gridCol w="804960"/>
                <a:gridCol w="1557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095880" y="5257800"/>
          <a:ext cx="2385720" cy="1095480"/>
        </p:xfrm>
        <a:graphic>
          <a:graphicData uri="http://schemas.openxmlformats.org/drawingml/2006/table">
            <a:tbl>
              <a:tblPr/>
              <a:tblGrid>
                <a:gridCol w="914400"/>
                <a:gridCol w="147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1600200" y="4876920"/>
            <a:ext cx="5409720" cy="380880"/>
            <a:chOff x="1600200" y="4876920"/>
            <a:chExt cx="5409720" cy="380880"/>
          </a:xfrm>
        </p:grpSpPr>
        <p:sp>
          <p:nvSpPr>
            <p:cNvPr id="117" name=""/>
            <p:cNvSpPr/>
            <p:nvPr/>
          </p:nvSpPr>
          <p:spPr>
            <a:xfrm flipH="1">
              <a:off x="1600200" y="4876920"/>
              <a:ext cx="266688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4876920"/>
              <a:ext cx="281916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ED6-DDED-4774-8F37-6B211C9303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6714E-6C59-47DB-863E-533D0FFD78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a lossless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eign ke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ination of attribut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ination of attribut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8F2-1D96-4345-B34E-C48CA10FAB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5741A-8C77-4C13-83CA-7B72185DC0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foreign key mechanism guarantees a lossless jo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ll, thinking about the following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266688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0958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4920" y="3886200"/>
            <a:ext cx="5410800" cy="380880"/>
            <a:chOff x="1294920" y="3886200"/>
            <a:chExt cx="5410800" cy="380880"/>
          </a:xfrm>
        </p:grpSpPr>
        <p:sp>
          <p:nvSpPr>
            <p:cNvPr id="126" name=""/>
            <p:cNvSpPr/>
            <p:nvPr/>
          </p:nvSpPr>
          <p:spPr>
            <a:xfrm flipH="1">
              <a:off x="1294920" y="3886200"/>
              <a:ext cx="266724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3886200"/>
              <a:ext cx="281952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533520" y="4343400"/>
          <a:ext cx="2361960" cy="730080"/>
        </p:xfrm>
        <a:graphic>
          <a:graphicData uri="http://schemas.openxmlformats.org/drawingml/2006/table">
            <a:tbl>
              <a:tblPr/>
              <a:tblGrid>
                <a:gridCol w="804600"/>
                <a:gridCol w="155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38680" y="4343400"/>
          <a:ext cx="2361960" cy="1095480"/>
        </p:xfrm>
        <a:graphic>
          <a:graphicData uri="http://schemas.openxmlformats.org/drawingml/2006/table">
            <a:tbl>
              <a:tblPr/>
              <a:tblGrid>
                <a:gridCol w="804600"/>
                <a:gridCol w="155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575-C423-4AE1-BE4B-C4081D87ED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E4912-4A39-45B7-BBCF-71B55C518F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07T20:30:32Z</dcterms:modified>
  <cp:revision>1443</cp:revision>
  <dc:subject/>
  <dc:title>CS186: Introduction to Database Systems</dc:title>
</cp:coreProperties>
</file>