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43FEEE-CF28-402B-8D64-347A212F7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E5552B-DF6E-4DF0-A846-966C71C0D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B1B-B332-4ADB-A19D-9AAC01E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95F-E9C2-42A1-BB3F-8BB89D5C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A59-C940-46F7-88F9-0E13E0E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C6F-0C03-4C39-8C4B-EB5D385C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6E6-23C8-4C0A-9368-778B0BA3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B77-C79E-492D-8F2A-B11FA7BE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523-632D-4BA9-8824-ED843D4D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525-A096-41A2-9FC9-02ACA726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4B8-D06E-437D-B34A-73CCF701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67F-4B5E-4C44-A445-63F58B88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F72-1D18-40AA-8CB5-3C69819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3BB-E4A1-4F11-B54D-422015AF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84C-0C15-4028-BE59-E027E1D8840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0279-0924-42B9-8063-90BB69C60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d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resenting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rian Phagan and Niki Heggest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r Adra and Ben K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drew Ozor and Adam Doy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chael Neth and Alex Thomps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antha Coo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ncent Buhr, Michael R. Ri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yan and Gorkem Sev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9T11:28:30Z</dcterms:modified>
  <cp:revision>1161</cp:revision>
  <dc:subject/>
  <dc:title>CS186: Introduction to Database Systems</dc:title>
</cp:coreProperties>
</file>