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1BB4572-9CB3-4975-8F66-742A3D657A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2B00FF-2595-4870-9B75-DF05AE1980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401-AD54-4DCF-A412-B1D4EECC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67ED-8504-4D10-8642-3E8BD11D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8F2-82CE-4B12-8E8A-CDBDF77D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6C0-7952-4BC2-B002-83E683A5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5BA-67FD-4B06-95B7-3386C091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8D13-2AFA-4D27-B2EC-2DD47311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42D-72EE-4BC8-9043-1808881D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8C24-85DE-4794-8F10-5ED8701A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32B-AFCB-4C2B-807B-1244244F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024-B734-4965-9D07-52B95542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CEA-8449-4ED0-84AE-0598CAD6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F18-2959-4C4C-ADC0-E9344DD7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F6BD-D7FC-4A49-8F27-54F56E3CCEA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60B6-5B0D-495E-B82F-0FAA32B4AD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177624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ampus jo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Molecular Graphics and Modeling Laboratory is recruiting a stu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on-line database applications for chemical informatic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terested, contact Gerry Lushington (glushington at ku dot ed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LTEC center is recruiting a studen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line database application development promoting efficient learn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ore information, see KU job ID 00008869 or contact Marilyn Ault (mault at altec dot o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15BC-43AA-4850-8D8E-49217A9E68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2B71C-FE22-4683-B7A8-34D408D29D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Transaction Schedu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Concurrency with Iso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2133720"/>
          <a:ext cx="8305920" cy="3708360"/>
        </p:xfrm>
        <a:graphic>
          <a:graphicData uri="http://schemas.openxmlformats.org/drawingml/2006/table">
            <a:tbl>
              <a:tblPr/>
              <a:tblGrid>
                <a:gridCol w="1660680"/>
                <a:gridCol w="1662120"/>
                <a:gridCol w="1660320"/>
                <a:gridCol w="1662120"/>
                <a:gridCol w="166068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oc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o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over-abil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adloc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v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P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ct 2P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ct 2PL with prior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2286000" y="30481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30481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30481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3048120"/>
            <a:ext cx="1295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39625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3962520"/>
            <a:ext cx="1295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9625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5200" y="39625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4952880"/>
            <a:ext cx="12952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4952880"/>
            <a:ext cx="1295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4952880"/>
            <a:ext cx="1295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72CE-D82B-4C3B-93DA-F215B46268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B83A3-A920-45AE-80ED-F92795C894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quest for lo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ease lo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trict 2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equest for lo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o not release locks until commit/abo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trict 2PL with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Handled by lock mana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ay abort certain transaction in hold-and-wait situ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01AF-8A85-4AE4-88F4-34FA4EF440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0F6ED-A891-4B0E-A259-7CBF29FC56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tamp for concurrency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ash Recover techniq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EC5-2221-468F-9A53-EBAC54814F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14CF5-D4E7-4A51-B207-ACCEFED24C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4-18T16:38:50Z</dcterms:modified>
  <cp:revision>1030</cp:revision>
  <dc:subject/>
  <dc:title>CS186: Introduction to Database Systems</dc:title>
</cp:coreProperties>
</file>