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4120-0EAA-49A7-96D9-EB613BEAC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3C5-357E-4032-8F87-FB0DACB93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C189-891E-42E3-80C8-FEF2C0A11B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8F2D-EC59-4F5D-AD6D-896F186B8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0DE-FD99-4397-B684-A98623B4F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7690-4A1F-4C6E-AC4A-A646B88DD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EEC-2E35-414E-9075-4AAFF12A7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67B-EC20-42F4-AE2D-57435576E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33D8-1BF9-4C90-848D-6F3975E9FC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0BF0-42B5-40AC-B9D7-CD347BA830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4E26-58CB-43FE-86AB-2B337D4CF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38D5-E930-4C38-A998-B829A2E93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58D-B0B4-46C4-9E48-C91535BC0B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675-B250-4BD7-8BF5-E7517EABF4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345F-9BEC-4454-A94E-6EBE17792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D0C-B37E-4E46-9DAB-9847A0A576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BC27-9308-488E-8C9D-C405E08EF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C183-8A92-4ED9-8F0B-3D416501A4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7950-EAAA-448B-9E8E-1CA730AA0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4F0-DDC8-4DE9-A440-C92E1FE53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EF6-E25A-4257-AB99-FF94483C07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A6C-124F-4C0B-AFBD-386316251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8372-19E3-4972-9ED1-E5F0F337AE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BC6D-47C2-4495-97D5-BD9407117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C88-18C7-4A37-9A39-B80ED82918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82D9-0826-41F5-AB70-C0498BCB4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3ED4-1606-4F5C-8864-690422E477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46F7-0E21-4AC2-A5C3-7EC3457E2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2E6-D45C-4314-8DB9-E8A2D57C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E5A-D303-4723-82CD-EC172DF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813-BA35-42D6-8054-B05C5985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473-87FC-4CA5-B877-CB3EFFB4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631-E54E-48E5-BB8B-3762987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FF2-BDE1-4140-917A-128E9F62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F0F-53B8-4383-B3CD-8F32EAB8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331-4F04-4B83-A06F-5E636B5A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8EA-FE43-44EB-95ED-0D1C6C4F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547-DB7F-4271-AD4B-8A8FCA9D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C4B-4E08-45E8-A84C-28A7B5F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BF4-C31A-4A56-9014-0AEBCA79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18D4-372C-4F13-930D-3419B3E8EFC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D95-9DEC-443C-9929-2148D12E62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eople.eecs.ku.edu/~jhuan/EECS647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ies an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Ent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A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pecific object or “thing” in the mini-world that is represented in the databas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he EMPLOYEE John Smit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earch DEPARTMENT, the ProductX PRO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Attribut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properties used to describe an entity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n EMPLOYEE entity may have a Name, SSN, Address, Sex, Birth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specific entity will have a </a:t>
            </a:r>
            <a:r>
              <a:rPr b="0" i="1" lang="en-US" sz="2600" spc="-1" strike="noStrike">
                <a:solidFill>
                  <a:srgbClr val="0000ff"/>
                </a:solidFill>
                <a:latin typeface="Times New Roman"/>
              </a:rPr>
              <a:t>valu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for each of its attribut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specific employee entity may have Name='John Smith', SSN='123456789', Address ='731 Fondren, Houston, TX', Sex='M', BirthDate='09-JAN-55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81080"/>
            <a:ext cx="1067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05720" y="2209320"/>
            <a:ext cx="2095560" cy="686160"/>
            <a:chOff x="6705720" y="2209320"/>
            <a:chExt cx="2095560" cy="686160"/>
          </a:xfrm>
        </p:grpSpPr>
        <p:sp>
          <p:nvSpPr>
            <p:cNvPr id="127" name=""/>
            <p:cNvSpPr/>
            <p:nvPr/>
          </p:nvSpPr>
          <p:spPr>
            <a:xfrm>
              <a:off x="6705720" y="23619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25905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15480" y="2590560"/>
              <a:ext cx="68580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010640" y="2209320"/>
              <a:ext cx="68580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620120" y="2437920"/>
              <a:ext cx="38088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458200" y="2437920"/>
              <a:ext cx="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B0B-3348-4763-BD65-1BF0CB6A5D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BA83D-7D8A-4886-BDB9-91E5230164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480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vs. Composit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ach entity has a single atomic value for the attribute. For example, SSN or S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Compo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ttribute may be composed of several components. For example, Name (FirstName, MiddleName, LastNam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D70-C6C9-4E6A-ACC4-B05DDDDC61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A86E7-C6C7-4D95-AE9F-2F35E708D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valued vs. Multi-valu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Single-valu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entity may have at most one value for th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ulti-valu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entity may have multiple values for that attribute. For example, PreviousDegrees of a STUDENT. {PreviousDegrees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the student does not hold a previous degre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if the student has a previous degree but the information is not provid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artment number in an addr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83F-D94D-4E8B-8130-B26B446226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55C84-5F2E-4C37-866D-DBA4E70828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Attribute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vs. de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redit hours a student took in a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A of a student in a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A27-14A2-4059-8BCF-8C2AD29FD1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E15F0-78AA-41BF-A91E-BECE7064E1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Attribu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9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with the same basic attributes are grouped or typed into an entity 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example, the EMPLOYEE entity type or the PROJECT entity ty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ttribute of an entity type for which each entity must have a unique value is called 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ey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entity type. For example, SSN of EMPLOY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key attribute may be composit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entity type may have more than one ke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E4B-C259-41CA-9361-3B2051E19E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0BA9F-B2A5-4419-9D61-0153174ACA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343080"/>
            <a:ext cx="9067680" cy="3664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NOT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5320" y="1066320"/>
            <a:ext cx="4419360" cy="44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3200" y="1143000"/>
            <a:ext cx="1130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60020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99840" y="2303640"/>
            <a:ext cx="1143360" cy="210960"/>
            <a:chOff x="1599840" y="2303640"/>
            <a:chExt cx="1143360" cy="210960"/>
          </a:xfrm>
        </p:grpSpPr>
        <p:sp>
          <p:nvSpPr>
            <p:cNvPr id="146" name=""/>
            <p:cNvSpPr/>
            <p:nvPr/>
          </p:nvSpPr>
          <p:spPr>
            <a:xfrm>
              <a:off x="1997280" y="2303640"/>
              <a:ext cx="745920" cy="21096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599840" y="240984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599840" y="3048120"/>
            <a:ext cx="1143360" cy="210960"/>
            <a:chOff x="1599840" y="3048120"/>
            <a:chExt cx="1143360" cy="210960"/>
          </a:xfrm>
        </p:grpSpPr>
        <p:grpSp>
          <p:nvGrpSpPr>
            <p:cNvPr id="149" name=""/>
            <p:cNvGrpSpPr/>
            <p:nvPr/>
          </p:nvGrpSpPr>
          <p:grpSpPr>
            <a:xfrm>
              <a:off x="1599840" y="3048120"/>
              <a:ext cx="1143360" cy="210960"/>
              <a:chOff x="1599840" y="3048120"/>
              <a:chExt cx="1143360" cy="210960"/>
            </a:xfrm>
          </p:grpSpPr>
          <p:sp>
            <p:nvSpPr>
              <p:cNvPr id="150" name=""/>
              <p:cNvSpPr/>
              <p:nvPr/>
            </p:nvSpPr>
            <p:spPr>
              <a:xfrm>
                <a:off x="1997280" y="304812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599840" y="315432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149560" y="319572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00200" y="3827520"/>
            <a:ext cx="1248840" cy="272880"/>
            <a:chOff x="1600200" y="3827520"/>
            <a:chExt cx="1248840" cy="272880"/>
          </a:xfrm>
        </p:grpSpPr>
        <p:sp>
          <p:nvSpPr>
            <p:cNvPr id="154" name=""/>
            <p:cNvSpPr/>
            <p:nvPr/>
          </p:nvSpPr>
          <p:spPr>
            <a:xfrm>
              <a:off x="1996920" y="3854160"/>
              <a:ext cx="745560" cy="21096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03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90360" y="3827520"/>
              <a:ext cx="958680" cy="2728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752120" y="5275440"/>
            <a:ext cx="1143360" cy="210960"/>
            <a:chOff x="1752120" y="5275440"/>
            <a:chExt cx="1143360" cy="210960"/>
          </a:xfrm>
        </p:grpSpPr>
        <p:sp>
          <p:nvSpPr>
            <p:cNvPr id="158" name=""/>
            <p:cNvSpPr/>
            <p:nvPr/>
          </p:nvSpPr>
          <p:spPr>
            <a:xfrm>
              <a:off x="2149560" y="527544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52120" y="538164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28800" y="4513320"/>
            <a:ext cx="990360" cy="345600"/>
            <a:chOff x="1828800" y="4513320"/>
            <a:chExt cx="990360" cy="345600"/>
          </a:xfrm>
        </p:grpSpPr>
        <p:sp>
          <p:nvSpPr>
            <p:cNvPr id="161" name=""/>
            <p:cNvSpPr/>
            <p:nvPr/>
          </p:nvSpPr>
          <p:spPr>
            <a:xfrm>
              <a:off x="182880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5568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81560" y="451332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54680" y="472068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046240" y="479016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66400" y="460224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4400" y="464256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482560" y="465156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3160" y="458244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5DE-FFA9-404A-A2B2-A4F99587AA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687D8-91E4-4C96-BB32-E549A86456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26992" b="0"/>
          <a:stretch/>
        </p:blipFill>
        <p:spPr>
          <a:xfrm>
            <a:off x="1371600" y="990720"/>
            <a:ext cx="62308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8A4-3553-4667-B019-E1AD62FA9A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7DC66-B5D6-402C-AB3F-2766D35CE9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9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es two or more distinct entities with a specific mea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EMPLOYEE John Smith works on the ProductX PROJECT or EMPLOYEE Franklin Wong manages the Research DE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of the same type are grouped or typed into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elationship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WORKS_ON relationship type in which EMPLOYEEs and PROJECTs participate, or the MANAGES relationship type in which EMPLOYEEs and DEPARTMENTs particip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egree of a relationship 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umber of participating entity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ANAGES and WORKS_ON are binary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62840" y="1905120"/>
            <a:ext cx="106704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62840" y="4952880"/>
            <a:ext cx="1067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39160" y="2362320"/>
            <a:ext cx="914400" cy="2590200"/>
            <a:chOff x="8039160" y="2362320"/>
            <a:chExt cx="914400" cy="2590200"/>
          </a:xfrm>
        </p:grpSpPr>
        <p:sp>
          <p:nvSpPr>
            <p:cNvPr id="177" name=""/>
            <p:cNvSpPr/>
            <p:nvPr/>
          </p:nvSpPr>
          <p:spPr>
            <a:xfrm>
              <a:off x="8039160" y="3504960"/>
              <a:ext cx="914400" cy="533160"/>
            </a:xfrm>
            <a:prstGeom prst="diamond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96360" y="2362320"/>
              <a:ext cx="0" cy="11426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96360" y="4038480"/>
              <a:ext cx="0" cy="91404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972480" y="5181120"/>
            <a:ext cx="2094840" cy="686160"/>
            <a:chOff x="6972480" y="5181120"/>
            <a:chExt cx="2094840" cy="686160"/>
          </a:xfrm>
        </p:grpSpPr>
        <p:sp>
          <p:nvSpPr>
            <p:cNvPr id="181" name=""/>
            <p:cNvSpPr/>
            <p:nvPr/>
          </p:nvSpPr>
          <p:spPr>
            <a:xfrm>
              <a:off x="6972480" y="53337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81600" y="55623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1880" y="5562360"/>
              <a:ext cx="685440" cy="304920"/>
            </a:xfrm>
            <a:prstGeom prst="ellipse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77040" y="5181120"/>
              <a:ext cx="68544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886520" y="5409720"/>
              <a:ext cx="38052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724600" y="5409720"/>
              <a:ext cx="0" cy="15228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4BD-1746-45F8-AB4E-B47A355E13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B24B7-8687-4ACF-A6E0-3B11BA6B69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1523880" y="213660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523880" y="276516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42960" y="331776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2960" y="383220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2960" y="4308480"/>
            <a:ext cx="287676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80384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2960" y="5318280"/>
            <a:ext cx="289584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52920" y="213660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746440"/>
            <a:ext cx="283860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552920" y="236520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591080" y="3298320"/>
            <a:ext cx="2800440" cy="59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552920" y="419400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52920" y="419400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26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 of a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81560" y="20480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81560" y="26384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1560" y="32097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81560" y="38005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4371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81560" y="4962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81560" y="5533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656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9440" y="1054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154620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65000" y="10540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17360" y="105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572000" y="234756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317-F53B-4093-A903-11A167C692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E449A-BE57-4852-A48F-D9A90BC1A8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Constraints (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um Cardi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-to-one (1: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-to-many (1:N) or Many-to-one (N: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-to-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DD5-B3CA-4179-A7AE-66D672C669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91B1-1D7E-4870-B2FD-65D1FDF2F3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webpage is on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http://people.eecs.ku.edu/~jhuan/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book is available at KU book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home background survey is not ready yet, will be posted at the class webpage next Mon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sent a request to EECS help desk to create your PostgreSQL account. Might get more to say next Mon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E18-8B16-41BD-B2B2-DDFE1D0682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B663F-0F4A-4938-9495-ABFABBB5D9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V="1">
            <a:off x="1523880" y="213660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523880" y="276516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42960" y="331776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2960" y="383220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2960" y="4308480"/>
            <a:ext cx="2876760" cy="152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80384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42960" y="5318280"/>
            <a:ext cx="2895840" cy="323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52920" y="213660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2746440"/>
            <a:ext cx="2838600" cy="533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552920" y="236520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591080" y="3298320"/>
            <a:ext cx="2800440" cy="59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52920" y="419400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52920" y="419400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3254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-to-one (N:1)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81560" y="20480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81560" y="26384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81560" y="32097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81560" y="38005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1560" y="4371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81560" y="4962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81560" y="5533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656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9440" y="105408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154620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65000" y="10540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WORKS_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1546200"/>
            <a:ext cx="1943280" cy="39816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17360" y="105408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572000" y="234756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861-604F-458C-9CD8-3DC7C282840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5BE24-5D59-449B-94BB-12D476C552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 flipV="1">
            <a:off x="1523880" y="2076480"/>
            <a:ext cx="29718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523880" y="2705040"/>
            <a:ext cx="29149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542960" y="3257640"/>
            <a:ext cx="2857680" cy="38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2960" y="3772080"/>
            <a:ext cx="2914920" cy="7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42960" y="4248000"/>
            <a:ext cx="2876760" cy="152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4743360"/>
            <a:ext cx="2934000" cy="24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2960" y="5257800"/>
            <a:ext cx="2895840" cy="324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52920" y="2076480"/>
            <a:ext cx="2895480" cy="228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685960"/>
            <a:ext cx="2838600" cy="533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552920" y="2305080"/>
            <a:ext cx="2857680" cy="952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591080" y="3238560"/>
            <a:ext cx="2800440" cy="590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552920" y="4133880"/>
            <a:ext cx="28195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552920" y="4133880"/>
            <a:ext cx="2838600" cy="1447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304720"/>
            <a:ext cx="2838600" cy="2685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781360"/>
            <a:ext cx="2895840" cy="307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572000" y="4133880"/>
            <a:ext cx="2838600" cy="1719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504800" y="1724040"/>
            <a:ext cx="2876760" cy="35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1542960"/>
            <a:ext cx="2800440" cy="762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7000" y="228240"/>
            <a:ext cx="849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-to-many (M:N)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1822320"/>
            <a:ext cx="809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996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1486080"/>
            <a:ext cx="194292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440" bIns="33411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81560" y="2004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81560" y="25956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81560" y="3166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81560" y="37576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381560" y="43290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381560" y="49910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81560" y="54910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91080" y="4329000"/>
            <a:ext cx="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00640" y="5853240"/>
            <a:ext cx="209520" cy="18072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89240" y="5581800"/>
            <a:ext cx="52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381560" y="1724040"/>
            <a:ext cx="44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0800" y="1481040"/>
            <a:ext cx="52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154296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E27-684F-4481-8436-630EDB51B8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95143-18C5-433B-97D0-058EB8A2D5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dent may have exactly one accou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aculty may teach many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dent may enroll many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23880" y="5562720"/>
            <a:ext cx="4038840" cy="609480"/>
            <a:chOff x="1523880" y="5562720"/>
            <a:chExt cx="4038840" cy="609480"/>
          </a:xfrm>
        </p:grpSpPr>
        <p:sp>
          <p:nvSpPr>
            <p:cNvPr id="284" name=""/>
            <p:cNvSpPr/>
            <p:nvPr/>
          </p:nvSpPr>
          <p:spPr>
            <a:xfrm>
              <a:off x="1523880" y="5638680"/>
              <a:ext cx="990720" cy="4568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71800" y="5562720"/>
              <a:ext cx="11430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Enr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4600" y="58672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14800" y="586728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5638680"/>
              <a:ext cx="990720" cy="45684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371600" y="4114800"/>
            <a:ext cx="4572000" cy="609480"/>
            <a:chOff x="1371600" y="4114800"/>
            <a:chExt cx="4572000" cy="609480"/>
          </a:xfrm>
        </p:grpSpPr>
        <p:sp>
          <p:nvSpPr>
            <p:cNvPr id="290" name=""/>
            <p:cNvSpPr/>
            <p:nvPr/>
          </p:nvSpPr>
          <p:spPr>
            <a:xfrm>
              <a:off x="1371600" y="4191120"/>
              <a:ext cx="99072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Cour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19520" y="4114800"/>
              <a:ext cx="152388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Taught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62320" y="441972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43400" y="441972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191120"/>
              <a:ext cx="114300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Instru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447920" y="2666880"/>
            <a:ext cx="4647960" cy="609840"/>
            <a:chOff x="1447920" y="2666880"/>
            <a:chExt cx="4647960" cy="609840"/>
          </a:xfrm>
        </p:grpSpPr>
        <p:sp>
          <p:nvSpPr>
            <p:cNvPr id="296" name=""/>
            <p:cNvSpPr/>
            <p:nvPr/>
          </p:nvSpPr>
          <p:spPr>
            <a:xfrm>
              <a:off x="1447920" y="2743200"/>
              <a:ext cx="99036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Stud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95480" y="2666880"/>
              <a:ext cx="1143000" cy="60984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38280" y="297180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2971800"/>
              <a:ext cx="457200" cy="0"/>
            </a:xfrm>
            <a:prstGeom prst="line">
              <a:avLst/>
            </a:prstGeom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95680" y="2743200"/>
              <a:ext cx="1600200" cy="457200"/>
            </a:xfrm>
            <a:prstGeom prst="rect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Ku Accou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E32-66A7-4E41-9203-E2BD799014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83FC7-162C-4241-BFFC-8DDA8AE991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Constraints (I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Cardinality (also called participation constraint or existence dependency constra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Zero (partial particip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or more (total participati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93E-0730-4A41-B7FA-01B13C4DFA0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7C597-157E-43FE-81C8-09982A1EF5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304920"/>
            <a:ext cx="831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(min,max) no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6600" y="1828800"/>
            <a:ext cx="21636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1828800"/>
            <a:ext cx="200196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57320" y="2017800"/>
            <a:ext cx="124920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32440" y="2104920"/>
            <a:ext cx="12351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781440" y="1714680"/>
            <a:ext cx="1527120" cy="1306440"/>
          </a:xfrm>
          <a:prstGeom prst="diamond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121280" y="2128680"/>
            <a:ext cx="9144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ages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70200" y="234144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08560" y="2341440"/>
            <a:ext cx="1044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3160" y="1884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14640" y="1828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560" y="3638520"/>
            <a:ext cx="216396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3581280"/>
            <a:ext cx="2001600" cy="914400"/>
          </a:xfrm>
          <a:prstGeom prst="rect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81080" y="3808440"/>
            <a:ext cx="1249200" cy="4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loyee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91480" y="3878280"/>
            <a:ext cx="1234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partment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3811680" y="3524400"/>
            <a:ext cx="1527120" cy="1306440"/>
          </a:xfrm>
          <a:prstGeom prst="diamond">
            <a:avLst/>
          </a:prstGeom>
          <a:solidFill>
            <a:srgbClr val="00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162320" y="3954600"/>
            <a:ext cx="914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ks-for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5489640" y="36752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6040" y="3619440"/>
            <a:ext cx="10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19112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4191120"/>
            <a:ext cx="1054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D9F-4EE6-407A-8AA7-7F57C0E609C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C4C4E-B405-4BE6-9ECA-389B22FB5B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 in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set may participate more than once in a relationship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to label edges to distinguish </a:t>
            </a:r>
            <a:r>
              <a:rPr b="0" lang="en-US" sz="2800" spc="-1" strike="noStrike">
                <a:solidFill>
                  <a:srgbClr val="330066"/>
                </a:solidFill>
                <a:latin typeface="Times New Roman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are married as husband and wife; label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are roommates of each other; label not nee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81320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73724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648320"/>
            <a:ext cx="990360" cy="24120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104"/>
                </a:moveTo>
                <a:cubicBezTo>
                  <a:pt x="92" y="52"/>
                  <a:pt x="184" y="0"/>
                  <a:pt x="288" y="8"/>
                </a:cubicBezTo>
                <a:cubicBezTo>
                  <a:pt x="392" y="16"/>
                  <a:pt x="508" y="84"/>
                  <a:pt x="624" y="152"/>
                </a:cubicBezTo>
              </a:path>
            </a:pathLst>
          </a:custGeom>
          <a:noFill/>
          <a:ln w="2556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876920" y="5180760"/>
            <a:ext cx="990360" cy="241560"/>
          </a:xfrm>
          <a:custGeom>
            <a:avLst/>
            <a:gdLst/>
            <a:ahLst/>
            <a:rect l="l" t="t" r="r" b="b"/>
            <a:pathLst>
              <a:path w="624" h="152">
                <a:moveTo>
                  <a:pt x="0" y="104"/>
                </a:moveTo>
                <a:cubicBezTo>
                  <a:pt x="92" y="52"/>
                  <a:pt x="184" y="0"/>
                  <a:pt x="288" y="8"/>
                </a:cubicBezTo>
                <a:cubicBezTo>
                  <a:pt x="392" y="16"/>
                  <a:pt x="508" y="84"/>
                  <a:pt x="624" y="152"/>
                </a:cubicBezTo>
              </a:path>
            </a:pathLst>
          </a:custGeom>
          <a:noFill/>
          <a:ln w="25560">
            <a:solidFill>
              <a:srgbClr val="33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876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68720" y="533412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85960" y="4559400"/>
            <a:ext cx="2100240" cy="939240"/>
            <a:chOff x="1785960" y="4559400"/>
            <a:chExt cx="2100240" cy="939240"/>
          </a:xfrm>
        </p:grpSpPr>
        <p:sp>
          <p:nvSpPr>
            <p:cNvPr id="333" name=""/>
            <p:cNvSpPr/>
            <p:nvPr/>
          </p:nvSpPr>
          <p:spPr>
            <a:xfrm>
              <a:off x="1785960" y="4722480"/>
              <a:ext cx="1600200" cy="609480"/>
            </a:xfrm>
            <a:prstGeom prst="flowChartDecision">
              <a:avLst/>
            </a:prstGeom>
            <a:noFill/>
            <a:ln w="2556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0066"/>
                  </a:solidFill>
                  <a:latin typeface="AmeriGarmnd BT"/>
                </a:rPr>
                <a:t>Roomm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90920" y="4559400"/>
              <a:ext cx="1295280" cy="24084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04"/>
                  </a:moveTo>
                  <a:cubicBezTo>
                    <a:pt x="92" y="52"/>
                    <a:pt x="184" y="0"/>
                    <a:pt x="288" y="8"/>
                  </a:cubicBezTo>
                  <a:cubicBezTo>
                    <a:pt x="392" y="16"/>
                    <a:pt x="508" y="84"/>
                    <a:pt x="624" y="152"/>
                  </a:cubicBezTo>
                </a:path>
              </a:pathLst>
            </a:custGeom>
            <a:noFill/>
            <a:ln w="255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590920" y="5257440"/>
              <a:ext cx="1295280" cy="241200"/>
            </a:xfrm>
            <a:custGeom>
              <a:avLst/>
              <a:gdLst/>
              <a:ahLst/>
              <a:rect l="l" t="t" r="r" b="b"/>
              <a:pathLst>
                <a:path w="624" h="152">
                  <a:moveTo>
                    <a:pt x="0" y="104"/>
                  </a:moveTo>
                  <a:cubicBezTo>
                    <a:pt x="92" y="52"/>
                    <a:pt x="184" y="0"/>
                    <a:pt x="288" y="8"/>
                  </a:cubicBezTo>
                  <a:cubicBezTo>
                    <a:pt x="392" y="16"/>
                    <a:pt x="508" y="84"/>
                    <a:pt x="624" y="152"/>
                  </a:cubicBezTo>
                </a:path>
              </a:pathLst>
            </a:custGeom>
            <a:noFill/>
            <a:ln w="25560">
              <a:solidFill>
                <a:srgbClr val="33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F70-2AC6-45AE-BC07-28BDF7146C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9BCD4-3766-4015-B5CC-8B02AA75C6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303120"/>
            <a:ext cx="8534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ursive relation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9928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have 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ecursive relationship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articipations are same entity type in different ro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SUPERVISION relationships between EMPLOYEE (in role of supervisor or boss) and (another) EMPLOYEE (in role of subordinate or work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R diagram, need to display role names to distinguish particip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4F3-E8B0-4C15-95B8-55A107CA5C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1807D-DF53-415F-A857-AB23D35385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718160" y="2417760"/>
            <a:ext cx="1892160" cy="41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49720" y="2955960"/>
            <a:ext cx="1541520" cy="54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95960" y="2743200"/>
            <a:ext cx="1332000" cy="92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6160" y="3200400"/>
            <a:ext cx="2266920" cy="28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15080" y="3900600"/>
            <a:ext cx="1809720" cy="290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33880" y="4352760"/>
            <a:ext cx="1557360" cy="48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62480" y="4857840"/>
            <a:ext cx="1347840" cy="649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72280" y="4097160"/>
            <a:ext cx="1238040" cy="7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4640400"/>
            <a:ext cx="2343240" cy="191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51480" y="5378400"/>
            <a:ext cx="1139760" cy="147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728880" y="2247480"/>
            <a:ext cx="2843280" cy="1257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9480" y="110880"/>
            <a:ext cx="882180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RECURSIVE RELATIONSHIP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1486080"/>
            <a:ext cx="1943280" cy="398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828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7  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Monotype Sorts"/>
                <a:ea typeface="Monotype Sorts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65120" y="99360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76840" y="1486080"/>
            <a:ext cx="1943280" cy="4724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2004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73520" y="9936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20620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3080" y="274788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33908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406224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53080" y="471492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5419800"/>
            <a:ext cx="209520" cy="1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2514600"/>
            <a:ext cx="2646360" cy="244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7240" y="2093760"/>
            <a:ext cx="1834920" cy="5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23680" y="190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76440" y="2057400"/>
            <a:ext cx="1979640" cy="32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61840" y="21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057400"/>
            <a:ext cx="2358720" cy="776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46240" y="2684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52600" y="254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51240" y="2017800"/>
            <a:ext cx="1987560" cy="6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00480" y="3009960"/>
            <a:ext cx="1638000" cy="171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76440" y="3505320"/>
            <a:ext cx="2133720" cy="34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12680" y="36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19200" y="3524400"/>
            <a:ext cx="2381400" cy="742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65320" y="4094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524400"/>
            <a:ext cx="2533680" cy="1220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55760" y="4627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457360" y="3619440"/>
            <a:ext cx="990720" cy="362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50600" y="335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22280" y="2989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19200" y="3981600"/>
            <a:ext cx="2762280" cy="123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25680" y="390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19200" y="4476600"/>
            <a:ext cx="1543320" cy="127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65040" y="4417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4991040"/>
            <a:ext cx="2800440" cy="363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03440" y="5141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6800" y="6216480"/>
            <a:ext cx="562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© The Benjamin/Cummings Publishing Company, Inc. 1994, Elmasri/Navathe, Fundamentals of Database Systems, Second Ed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A41-F7C6-4AF6-93B7-C65DC9E87A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B8FA0-19F7-4434-8E87-5B928ABDD3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Entity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082160"/>
            <a:ext cx="777240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ek entity is an entity that does not have a key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ak entity must participate in an identifying relationship type with an owner or identifying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ies are identified by the combin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al key of the weak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icular entity they are related to in the identifying entit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at a DEPENDENT entity is identified by the dependent’s first name and birthdat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pecific EMPLOYEE that the dependent is related to.  DEPENDENT is a weak entity type with EMPLOYEE as its identifying entity type via the identifying relationship type DEPENDEN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92D-F4BB-4B0B-AA9B-33BEBF1EAD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C3696-0D24-4FB5-BC4A-E9C5575A4B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What? Database Schem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7800" y="1294920"/>
            <a:ext cx="43056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atabase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database, using a given data model (relational model by defaul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xternal sche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r views) describe how users see the data.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Conceptual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fines logic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Internal 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s the physical storage structur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27920" y="5207040"/>
            <a:ext cx="1041120" cy="2030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1720" y="5303880"/>
            <a:ext cx="3240" cy="9572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27920" y="6121440"/>
            <a:ext cx="1041120" cy="20304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82000" y="5346720"/>
            <a:ext cx="0" cy="83808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04680" y="4568760"/>
            <a:ext cx="253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169600" y="3882960"/>
            <a:ext cx="301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0600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0128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98360" y="3044880"/>
            <a:ext cx="1111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Book Antiqua"/>
              </a:rPr>
              <a:t>View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32280" y="3073320"/>
            <a:ext cx="104148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27920" y="3073320"/>
            <a:ext cx="104112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23200" y="3073320"/>
            <a:ext cx="1041480" cy="35568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89480" y="3911760"/>
            <a:ext cx="2793960" cy="3553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18080" y="4597560"/>
            <a:ext cx="2336760" cy="3553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53200" y="3441600"/>
            <a:ext cx="53316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48480" y="3441600"/>
            <a:ext cx="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410240" y="3441600"/>
            <a:ext cx="533160" cy="45720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48480" y="4280040"/>
            <a:ext cx="0" cy="30456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48480" y="4965840"/>
            <a:ext cx="0" cy="380880"/>
          </a:xfrm>
          <a:prstGeom prst="line">
            <a:avLst/>
          </a:prstGeom>
          <a:ln w="12600">
            <a:solidFill>
              <a:srgbClr val="3300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55720" y="54990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4819680" y="1612800"/>
            <a:ext cx="111456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191280" y="1689120"/>
            <a:ext cx="900000" cy="1143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257960" y="1689120"/>
            <a:ext cx="1386000" cy="11779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64840" y="10033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B07-31F4-410C-900C-9D32945799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A7995-D3A6-4B4B-9BDC-D6879E8B23B4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bas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large collection of integrated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iniworld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aspect of the real word, described by facts (dat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oup of concepts for describing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ne(s) is a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ed oriented programming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6D9-1041-4BA0-8847-883D7D954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69522-5A45-4856-826C-FEA1A8587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Company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066320"/>
            <a:ext cx="8218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: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mployee (SSN: string, name: string, salary: 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partment (dnum: integer, dlocation: string, dname: string,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orksFor (SSN:string, dnum: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ch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les are stored as unordered files, one table per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ces are stored as unordered records in a fil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dex on first column of Stud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Schema (View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partment_info(dnum:integer,totalEmployee:intege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464-6D62-42C2-8A0A-A7203A5ECD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6DAEF-B0AB-462A-81B3-96DE8BE437C9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In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insulated from how data is structure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Logical data independence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conceptual schema without having to change the extern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Physical data independence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acity to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the internal schema without having to change the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: Why is this particularly important for DBMS?</a:t>
            </a:r>
            <a:r>
              <a:rPr b="0" lang="en-US" sz="2800" spc="-1" strike="noStrike">
                <a:solidFill>
                  <a:srgbClr val="d8d8e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320" y="60120"/>
            <a:ext cx="9067680" cy="10522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MARY OF ER-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ATION FOR ER SCHEM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886200" y="914040"/>
            <a:ext cx="4952880" cy="58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K ENTIT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ING 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VALU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PARTICIPATION OF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INALITY RATIO 1:N FOR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CONSTRAINT (min, max) ON PARTICIPATION OF E IN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49000" y="955800"/>
            <a:ext cx="65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08080"/>
                </a:solidFill>
                <a:uFillTx/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39920" y="1293840"/>
            <a:ext cx="901800" cy="31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95640" y="1725480"/>
            <a:ext cx="990360" cy="399960"/>
            <a:chOff x="2195640" y="1725480"/>
            <a:chExt cx="990360" cy="399960"/>
          </a:xfrm>
        </p:grpSpPr>
        <p:sp>
          <p:nvSpPr>
            <p:cNvPr id="426" name=""/>
            <p:cNvSpPr/>
            <p:nvPr/>
          </p:nvSpPr>
          <p:spPr>
            <a:xfrm>
              <a:off x="2233440" y="1760400"/>
              <a:ext cx="914400" cy="3207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95640" y="1725480"/>
              <a:ext cx="990360" cy="39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rot="2722800">
            <a:off x="2511360" y="2246040"/>
            <a:ext cx="253800" cy="254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412000" y="2584800"/>
            <a:ext cx="453240" cy="453240"/>
            <a:chOff x="2412000" y="2584800"/>
            <a:chExt cx="453240" cy="453240"/>
          </a:xfrm>
        </p:grpSpPr>
        <p:sp>
          <p:nvSpPr>
            <p:cNvPr id="430" name=""/>
            <p:cNvSpPr/>
            <p:nvPr/>
          </p:nvSpPr>
          <p:spPr>
            <a:xfrm rot="2722800">
              <a:off x="2511000" y="2692080"/>
              <a:ext cx="254160" cy="2538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722800">
              <a:off x="2477880" y="2651040"/>
              <a:ext cx="320760" cy="32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950840" y="3135240"/>
            <a:ext cx="1143360" cy="211320"/>
            <a:chOff x="1950840" y="3135240"/>
            <a:chExt cx="1143360" cy="211320"/>
          </a:xfrm>
        </p:grpSpPr>
        <p:sp>
          <p:nvSpPr>
            <p:cNvPr id="433" name=""/>
            <p:cNvSpPr/>
            <p:nvPr/>
          </p:nvSpPr>
          <p:spPr>
            <a:xfrm>
              <a:off x="2348280" y="3135240"/>
              <a:ext cx="74592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1950840" y="3241800"/>
              <a:ext cx="39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950840" y="3511440"/>
            <a:ext cx="1143360" cy="210960"/>
            <a:chOff x="1950840" y="3511440"/>
            <a:chExt cx="1143360" cy="210960"/>
          </a:xfrm>
        </p:grpSpPr>
        <p:grpSp>
          <p:nvGrpSpPr>
            <p:cNvPr id="436" name=""/>
            <p:cNvGrpSpPr/>
            <p:nvPr/>
          </p:nvGrpSpPr>
          <p:grpSpPr>
            <a:xfrm>
              <a:off x="1950840" y="3511440"/>
              <a:ext cx="1143360" cy="210960"/>
              <a:chOff x="1950840" y="3511440"/>
              <a:chExt cx="1143360" cy="210960"/>
            </a:xfrm>
          </p:grpSpPr>
          <p:sp>
            <p:nvSpPr>
              <p:cNvPr id="437" name=""/>
              <p:cNvSpPr/>
              <p:nvPr/>
            </p:nvSpPr>
            <p:spPr>
              <a:xfrm>
                <a:off x="2348280" y="3511440"/>
                <a:ext cx="745920" cy="210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950840" y="3617640"/>
                <a:ext cx="3970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2500560" y="3659040"/>
              <a:ext cx="426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51200" y="3895560"/>
            <a:ext cx="1248840" cy="273240"/>
            <a:chOff x="1951200" y="3895560"/>
            <a:chExt cx="1248840" cy="273240"/>
          </a:xfrm>
        </p:grpSpPr>
        <p:sp>
          <p:nvSpPr>
            <p:cNvPr id="441" name=""/>
            <p:cNvSpPr/>
            <p:nvPr/>
          </p:nvSpPr>
          <p:spPr>
            <a:xfrm>
              <a:off x="2347920" y="3922560"/>
              <a:ext cx="745560" cy="2113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951200" y="4028760"/>
              <a:ext cx="39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41360" y="3895560"/>
              <a:ext cx="958680" cy="273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950840" y="4765680"/>
            <a:ext cx="1143360" cy="210960"/>
            <a:chOff x="1950840" y="4765680"/>
            <a:chExt cx="1143360" cy="210960"/>
          </a:xfrm>
        </p:grpSpPr>
        <p:sp>
          <p:nvSpPr>
            <p:cNvPr id="445" name=""/>
            <p:cNvSpPr/>
            <p:nvPr/>
          </p:nvSpPr>
          <p:spPr>
            <a:xfrm>
              <a:off x="2348280" y="4765680"/>
              <a:ext cx="745920" cy="210960"/>
            </a:xfrm>
            <a:prstGeom prst="ellipse">
              <a:avLst/>
            </a:prstGeom>
            <a:noFill/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950840" y="4871880"/>
              <a:ext cx="39708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57200" y="5191200"/>
            <a:ext cx="1143000" cy="241200"/>
            <a:chOff x="457200" y="5191200"/>
            <a:chExt cx="1143000" cy="241200"/>
          </a:xfrm>
        </p:grpSpPr>
        <p:sp>
          <p:nvSpPr>
            <p:cNvPr id="448" name=""/>
            <p:cNvSpPr/>
            <p:nvPr/>
          </p:nvSpPr>
          <p:spPr>
            <a:xfrm>
              <a:off x="457200" y="5191200"/>
              <a:ext cx="639720" cy="241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13120" y="5317920"/>
              <a:ext cx="48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591920" y="5184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71640" y="5284800"/>
            <a:ext cx="1176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11240" y="5330880"/>
            <a:ext cx="1136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519120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5616720"/>
            <a:ext cx="639720" cy="241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2760" y="574344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722800">
            <a:off x="1657080" y="561492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52400" y="5611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74668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12960" y="562752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r>
              <a:rPr b="0" lang="en-US" sz="1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112760" y="6219720"/>
            <a:ext cx="48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2722800">
            <a:off x="1657080" y="60912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52400" y="60879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6222960"/>
            <a:ext cx="731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599760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(min,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712960" y="6103800"/>
            <a:ext cx="639720" cy="24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171880" y="4280040"/>
            <a:ext cx="990360" cy="345600"/>
            <a:chOff x="2171880" y="4280040"/>
            <a:chExt cx="990360" cy="345600"/>
          </a:xfrm>
        </p:grpSpPr>
        <p:sp>
          <p:nvSpPr>
            <p:cNvPr id="467" name=""/>
            <p:cNvSpPr/>
            <p:nvPr/>
          </p:nvSpPr>
          <p:spPr>
            <a:xfrm>
              <a:off x="217188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840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24640" y="428004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97400" y="4487400"/>
              <a:ext cx="237600" cy="1382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389320" y="4556880"/>
              <a:ext cx="217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09480" y="4368960"/>
              <a:ext cx="217800" cy="14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7480" y="4409280"/>
              <a:ext cx="69120" cy="88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825640" y="4418280"/>
              <a:ext cx="187920" cy="108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65880" y="4349160"/>
              <a:ext cx="148320" cy="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888920" y="5521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722800">
            <a:off x="1617480" y="5189400"/>
            <a:ext cx="254160" cy="253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DE7-0EBC-4A27-BB97-E77E805368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127C5-D697-42B8-B073-7E5FCEDF7C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ata model is a group of concepts that are used to describ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-relationship model is a widely used conceptual model for model mini-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tities and relationships are described b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4D8-F2E8-49E4-8E09-B3AD8FEE78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89469-408B-43ED-BA38-2C35A02DDD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database representing cities, counties, an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tates, record name and capital (c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ounties, record name, area, and location (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cities, record name, population, and location (county and st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states ar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ounties are only unique within a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of cities are only unique within a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ity is always located in a single cou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ounty is always located in a single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A8D-C88C-478D-9F1D-7487F9F033E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78C38-FB3D-4451-8BDD-30B9ED7F7F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first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3620880"/>
            <a:ext cx="8610480" cy="27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y area information is repeated for every city in the cou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dundancy is bad (why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capital should really be a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ould “reference” entities through explicit relationshi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62520" y="16765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19810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1752480"/>
            <a:ext cx="121896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17524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086600" y="144792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86600" y="205740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781680" y="167616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2057400"/>
            <a:ext cx="30492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327672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y_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133360" y="2209680"/>
            <a:ext cx="533160" cy="6858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133720" y="2209680"/>
            <a:ext cx="761760" cy="129564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266688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county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FD0-D2F4-4BF9-9AA7-DB9C48A7C7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EBCDA-D711-4DF9-A19E-6D35151422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e study : second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600" y="42206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ly, nothing in this design could prevent a city in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being the capital of another st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oh wel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14600" y="1752480"/>
            <a:ext cx="9907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2438280"/>
            <a:ext cx="220968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sCapital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1981080"/>
            <a:ext cx="1600200" cy="4572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90920" y="1828800"/>
            <a:ext cx="83808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66680" y="14479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2057400"/>
            <a:ext cx="15242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16765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2133720" y="20574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16080" y="2209680"/>
            <a:ext cx="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25800" y="3048120"/>
            <a:ext cx="0" cy="304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514600" y="3352680"/>
            <a:ext cx="106668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Cou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3429000"/>
            <a:ext cx="914400" cy="30492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304812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327672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133720" y="3657600"/>
            <a:ext cx="380880" cy="22860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066680" y="3657600"/>
            <a:ext cx="106704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162920" y="3352680"/>
            <a:ext cx="1066680" cy="457200"/>
          </a:xfrm>
          <a:prstGeom prst="ellipse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meriGarmnd BT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3581280"/>
            <a:ext cx="30492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438280"/>
            <a:ext cx="1143000" cy="60984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0920" y="251460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276720"/>
            <a:ext cx="1143000" cy="60948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81480" y="3581280"/>
            <a:ext cx="457200" cy="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38680" y="3352680"/>
            <a:ext cx="1219320" cy="457200"/>
          </a:xfrm>
          <a:prstGeom prst="rect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meriGarmnd BT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352680"/>
            <a:ext cx="838080" cy="457200"/>
          </a:xfrm>
          <a:prstGeom prst="flowChartDecision">
            <a:avLst/>
          </a:prstGeom>
          <a:noFill/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3048120"/>
            <a:ext cx="1143000" cy="304560"/>
          </a:xfrm>
          <a:prstGeom prst="line">
            <a:avLst/>
          </a:prstGeom>
          <a:ln w="25560">
            <a:solidFill>
              <a:srgbClr val="33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1FC-5859-4F84-B647-B38B289EEEE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EDAB-F747-4EDA-B273-1CCB8C9D5A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lides are offered by Prof. Jun Yang @ Duke Univer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27E-FFC8-49B3-A78F-C7A1C8400D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1D82-0DCE-4167-A09E-D384CD24DA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ies 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Types, Value Sets, and Ke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and Relationship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Entity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s and Attributes in Relationship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 Diagrams –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2AB-F38A-4E10-BB7B-5CC78DC23F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B62F2-2FD1-4A16-B75C-4A3A760082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mini-world being mod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it using a database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ew popular on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Entity/Relationship (E/R)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Times New Roman"/>
              </a:rPr>
              <a:t>UML (Unified Modeling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uitive and conveni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t not necessarily implemented by DB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specification to the data model of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, XML, object-orient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BM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420-203F-4AB4-BB73-DCE4CB7298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90408-58A5-4202-82E1-CB1F0EFF83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143000" y="990720"/>
            <a:ext cx="7010280" cy="5395680"/>
            <a:chOff x="1143000" y="990720"/>
            <a:chExt cx="7010280" cy="53956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143000" y="990720"/>
              <a:ext cx="6491160" cy="53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324480" y="990720"/>
              <a:ext cx="182880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914400"/>
            <a:ext cx="2987640" cy="2752560"/>
          </a:xfrm>
          <a:custGeom>
            <a:avLst/>
            <a:gdLst/>
            <a:ahLst/>
            <a:rect l="l" t="t" r="r" b="b"/>
            <a:pathLst>
              <a:path w="1882" h="1734">
                <a:moveTo>
                  <a:pt x="1633" y="1629"/>
                </a:moveTo>
                <a:cubicBezTo>
                  <a:pt x="1213" y="1625"/>
                  <a:pt x="562" y="1734"/>
                  <a:pt x="148" y="1458"/>
                </a:cubicBezTo>
                <a:cubicBezTo>
                  <a:pt x="124" y="1386"/>
                  <a:pt x="82" y="1318"/>
                  <a:pt x="67" y="1242"/>
                </a:cubicBezTo>
                <a:cubicBezTo>
                  <a:pt x="45" y="1134"/>
                  <a:pt x="39" y="1023"/>
                  <a:pt x="4" y="918"/>
                </a:cubicBezTo>
                <a:cubicBezTo>
                  <a:pt x="15" y="644"/>
                  <a:pt x="0" y="769"/>
                  <a:pt x="58" y="594"/>
                </a:cubicBezTo>
                <a:cubicBezTo>
                  <a:pt x="70" y="558"/>
                  <a:pt x="130" y="504"/>
                  <a:pt x="130" y="504"/>
                </a:cubicBezTo>
                <a:cubicBezTo>
                  <a:pt x="149" y="429"/>
                  <a:pt x="122" y="500"/>
                  <a:pt x="166" y="450"/>
                </a:cubicBezTo>
                <a:cubicBezTo>
                  <a:pt x="189" y="424"/>
                  <a:pt x="206" y="395"/>
                  <a:pt x="229" y="369"/>
                </a:cubicBezTo>
                <a:cubicBezTo>
                  <a:pt x="342" y="240"/>
                  <a:pt x="443" y="166"/>
                  <a:pt x="598" y="99"/>
                </a:cubicBezTo>
                <a:cubicBezTo>
                  <a:pt x="633" y="84"/>
                  <a:pt x="661" y="58"/>
                  <a:pt x="697" y="45"/>
                </a:cubicBezTo>
                <a:cubicBezTo>
                  <a:pt x="769" y="18"/>
                  <a:pt x="864" y="8"/>
                  <a:pt x="940" y="0"/>
                </a:cubicBezTo>
                <a:cubicBezTo>
                  <a:pt x="1029" y="5"/>
                  <a:pt x="1094" y="3"/>
                  <a:pt x="1174" y="27"/>
                </a:cubicBezTo>
                <a:cubicBezTo>
                  <a:pt x="1238" y="46"/>
                  <a:pt x="1290" y="87"/>
                  <a:pt x="1354" y="108"/>
                </a:cubicBezTo>
                <a:cubicBezTo>
                  <a:pt x="1400" y="154"/>
                  <a:pt x="1459" y="181"/>
                  <a:pt x="1507" y="225"/>
                </a:cubicBezTo>
                <a:cubicBezTo>
                  <a:pt x="1563" y="276"/>
                  <a:pt x="1607" y="334"/>
                  <a:pt x="1660" y="387"/>
                </a:cubicBezTo>
                <a:cubicBezTo>
                  <a:pt x="1684" y="458"/>
                  <a:pt x="1648" y="364"/>
                  <a:pt x="1696" y="441"/>
                </a:cubicBezTo>
                <a:cubicBezTo>
                  <a:pt x="1705" y="455"/>
                  <a:pt x="1707" y="471"/>
                  <a:pt x="1714" y="486"/>
                </a:cubicBezTo>
                <a:cubicBezTo>
                  <a:pt x="1742" y="545"/>
                  <a:pt x="1771" y="601"/>
                  <a:pt x="1804" y="657"/>
                </a:cubicBezTo>
                <a:cubicBezTo>
                  <a:pt x="1812" y="699"/>
                  <a:pt x="1817" y="742"/>
                  <a:pt x="1831" y="783"/>
                </a:cubicBezTo>
                <a:cubicBezTo>
                  <a:pt x="1851" y="961"/>
                  <a:pt x="1841" y="841"/>
                  <a:pt x="1831" y="1161"/>
                </a:cubicBezTo>
                <a:cubicBezTo>
                  <a:pt x="1825" y="1344"/>
                  <a:pt x="1882" y="1489"/>
                  <a:pt x="1687" y="1521"/>
                </a:cubicBezTo>
                <a:cubicBezTo>
                  <a:pt x="1684" y="1530"/>
                  <a:pt x="1682" y="1540"/>
                  <a:pt x="1678" y="1548"/>
                </a:cubicBezTo>
                <a:cubicBezTo>
                  <a:pt x="1673" y="1558"/>
                  <a:pt x="1664" y="1565"/>
                  <a:pt x="1660" y="1575"/>
                </a:cubicBezTo>
                <a:cubicBezTo>
                  <a:pt x="1635" y="1632"/>
                  <a:pt x="1662" y="1629"/>
                  <a:pt x="1633" y="1629"/>
                </a:cubicBezTo>
                <a:close/>
              </a:path>
            </a:pathLst>
          </a:custGeom>
          <a:noFill/>
          <a:ln w="12600">
            <a:solidFill>
              <a:srgbClr val="e81f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81280"/>
            <a:ext cx="1295280" cy="381240"/>
          </a:xfrm>
          <a:prstGeom prst="leftArrow">
            <a:avLst>
              <a:gd name="adj1" fmla="val 50000"/>
              <a:gd name="adj2" fmla="val 84939"/>
            </a:avLst>
          </a:prstGeom>
          <a:solidFill>
            <a:srgbClr val="e81f11"/>
          </a:solidFill>
          <a:ln w="12600">
            <a:solidFill>
              <a:srgbClr val="e81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9D0-A688-4BC5-94A2-7E71AB6B1E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971EB-DDA1-45A5-AA33-68221AC296A6}" type="datetime1">
              <a:rPr lang="en-US"/>
              <a:t>07/28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Database Design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ny is organized into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Each department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mana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partment. We keep trac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rt 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depart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part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contro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ject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a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 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tore each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security 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rth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Each employee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works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 department but may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work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veral projects. We keep trac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hours per 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n employee currently works on each project. We also keep track of the direct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supervi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employee may </a:t>
            </a:r>
            <a:r>
              <a:rPr b="0" i="1" lang="en-US" sz="2400" spc="-1" strike="noStrike">
                <a:solidFill>
                  <a:srgbClr val="e81f11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umber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 For each dependent, we keep track of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rth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loy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370-B0DF-405B-921C-529D871D6E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430E2-5A1D-4EED-A9F3-8E9E7A46F0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72200" y="0"/>
            <a:ext cx="29718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752480"/>
            <a:ext cx="2340000" cy="1069920"/>
          </a:xfrm>
          <a:custGeom>
            <a:avLst/>
            <a:gdLst/>
            <a:ahLst/>
            <a:rect l="l" t="t" r="r" b="b"/>
            <a:pathLst>
              <a:path w="1474" h="674">
                <a:moveTo>
                  <a:pt x="0" y="365"/>
                </a:moveTo>
                <a:cubicBezTo>
                  <a:pt x="22" y="304"/>
                  <a:pt x="81" y="209"/>
                  <a:pt x="144" y="188"/>
                </a:cubicBezTo>
                <a:cubicBezTo>
                  <a:pt x="148" y="177"/>
                  <a:pt x="148" y="163"/>
                  <a:pt x="156" y="155"/>
                </a:cubicBezTo>
                <a:cubicBezTo>
                  <a:pt x="175" y="136"/>
                  <a:pt x="200" y="125"/>
                  <a:pt x="222" y="110"/>
                </a:cubicBezTo>
                <a:cubicBezTo>
                  <a:pt x="237" y="100"/>
                  <a:pt x="249" y="84"/>
                  <a:pt x="266" y="77"/>
                </a:cubicBezTo>
                <a:cubicBezTo>
                  <a:pt x="287" y="69"/>
                  <a:pt x="311" y="70"/>
                  <a:pt x="333" y="66"/>
                </a:cubicBezTo>
                <a:cubicBezTo>
                  <a:pt x="394" y="26"/>
                  <a:pt x="342" y="53"/>
                  <a:pt x="444" y="33"/>
                </a:cubicBezTo>
                <a:cubicBezTo>
                  <a:pt x="474" y="27"/>
                  <a:pt x="502" y="17"/>
                  <a:pt x="532" y="11"/>
                </a:cubicBezTo>
                <a:cubicBezTo>
                  <a:pt x="551" y="7"/>
                  <a:pt x="569" y="4"/>
                  <a:pt x="588" y="0"/>
                </a:cubicBezTo>
                <a:cubicBezTo>
                  <a:pt x="754" y="4"/>
                  <a:pt x="920" y="4"/>
                  <a:pt x="1086" y="11"/>
                </a:cubicBezTo>
                <a:cubicBezTo>
                  <a:pt x="1147" y="14"/>
                  <a:pt x="1171" y="77"/>
                  <a:pt x="1208" y="110"/>
                </a:cubicBezTo>
                <a:cubicBezTo>
                  <a:pt x="1237" y="136"/>
                  <a:pt x="1303" y="186"/>
                  <a:pt x="1341" y="199"/>
                </a:cubicBezTo>
                <a:cubicBezTo>
                  <a:pt x="1386" y="244"/>
                  <a:pt x="1423" y="243"/>
                  <a:pt x="1474" y="276"/>
                </a:cubicBezTo>
                <a:cubicBezTo>
                  <a:pt x="1470" y="302"/>
                  <a:pt x="1471" y="329"/>
                  <a:pt x="1463" y="354"/>
                </a:cubicBezTo>
                <a:cubicBezTo>
                  <a:pt x="1458" y="367"/>
                  <a:pt x="1408" y="417"/>
                  <a:pt x="1396" y="432"/>
                </a:cubicBezTo>
                <a:cubicBezTo>
                  <a:pt x="1388" y="442"/>
                  <a:pt x="1383" y="456"/>
                  <a:pt x="1374" y="465"/>
                </a:cubicBezTo>
                <a:cubicBezTo>
                  <a:pt x="1355" y="484"/>
                  <a:pt x="1317" y="497"/>
                  <a:pt x="1296" y="509"/>
                </a:cubicBezTo>
                <a:cubicBezTo>
                  <a:pt x="1215" y="555"/>
                  <a:pt x="1135" y="594"/>
                  <a:pt x="1042" y="609"/>
                </a:cubicBezTo>
                <a:cubicBezTo>
                  <a:pt x="877" y="674"/>
                  <a:pt x="693" y="628"/>
                  <a:pt x="521" y="609"/>
                </a:cubicBezTo>
                <a:cubicBezTo>
                  <a:pt x="506" y="605"/>
                  <a:pt x="491" y="602"/>
                  <a:pt x="477" y="598"/>
                </a:cubicBezTo>
                <a:cubicBezTo>
                  <a:pt x="454" y="591"/>
                  <a:pt x="410" y="576"/>
                  <a:pt x="410" y="576"/>
                </a:cubicBezTo>
                <a:cubicBezTo>
                  <a:pt x="372" y="536"/>
                  <a:pt x="398" y="556"/>
                  <a:pt x="322" y="531"/>
                </a:cubicBezTo>
                <a:cubicBezTo>
                  <a:pt x="311" y="527"/>
                  <a:pt x="288" y="520"/>
                  <a:pt x="288" y="520"/>
                </a:cubicBezTo>
                <a:cubicBezTo>
                  <a:pt x="268" y="506"/>
                  <a:pt x="241" y="502"/>
                  <a:pt x="222" y="487"/>
                </a:cubicBezTo>
                <a:cubicBezTo>
                  <a:pt x="212" y="479"/>
                  <a:pt x="209" y="463"/>
                  <a:pt x="200" y="454"/>
                </a:cubicBezTo>
                <a:cubicBezTo>
                  <a:pt x="191" y="445"/>
                  <a:pt x="177" y="441"/>
                  <a:pt x="167" y="432"/>
                </a:cubicBezTo>
                <a:cubicBezTo>
                  <a:pt x="145" y="413"/>
                  <a:pt x="88" y="337"/>
                  <a:pt x="45" y="343"/>
                </a:cubicBezTo>
                <a:cubicBezTo>
                  <a:pt x="28" y="345"/>
                  <a:pt x="15" y="358"/>
                  <a:pt x="0" y="365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67440" y="1905120"/>
            <a:ext cx="1871640" cy="500040"/>
          </a:xfrm>
          <a:custGeom>
            <a:avLst/>
            <a:gdLst/>
            <a:ahLst/>
            <a:rect l="l" t="t" r="r" b="b"/>
            <a:pathLst>
              <a:path w="1179" h="315">
                <a:moveTo>
                  <a:pt x="388" y="315"/>
                </a:moveTo>
                <a:cubicBezTo>
                  <a:pt x="309" y="300"/>
                  <a:pt x="350" y="310"/>
                  <a:pt x="266" y="282"/>
                </a:cubicBezTo>
                <a:cubicBezTo>
                  <a:pt x="255" y="278"/>
                  <a:pt x="233" y="271"/>
                  <a:pt x="233" y="271"/>
                </a:cubicBezTo>
                <a:cubicBezTo>
                  <a:pt x="168" y="209"/>
                  <a:pt x="256" y="287"/>
                  <a:pt x="177" y="238"/>
                </a:cubicBezTo>
                <a:cubicBezTo>
                  <a:pt x="157" y="226"/>
                  <a:pt x="142" y="206"/>
                  <a:pt x="122" y="193"/>
                </a:cubicBezTo>
                <a:cubicBezTo>
                  <a:pt x="85" y="138"/>
                  <a:pt x="111" y="168"/>
                  <a:pt x="33" y="116"/>
                </a:cubicBezTo>
                <a:cubicBezTo>
                  <a:pt x="22" y="109"/>
                  <a:pt x="0" y="94"/>
                  <a:pt x="0" y="94"/>
                </a:cubicBezTo>
                <a:cubicBezTo>
                  <a:pt x="18" y="0"/>
                  <a:pt x="36" y="28"/>
                  <a:pt x="144" y="16"/>
                </a:cubicBezTo>
                <a:cubicBezTo>
                  <a:pt x="414" y="20"/>
                  <a:pt x="684" y="13"/>
                  <a:pt x="953" y="27"/>
                </a:cubicBezTo>
                <a:cubicBezTo>
                  <a:pt x="969" y="28"/>
                  <a:pt x="973" y="51"/>
                  <a:pt x="986" y="60"/>
                </a:cubicBezTo>
                <a:cubicBezTo>
                  <a:pt x="996" y="66"/>
                  <a:pt x="1008" y="67"/>
                  <a:pt x="1019" y="71"/>
                </a:cubicBezTo>
                <a:cubicBezTo>
                  <a:pt x="1058" y="98"/>
                  <a:pt x="1096" y="101"/>
                  <a:pt x="1141" y="116"/>
                </a:cubicBezTo>
                <a:cubicBezTo>
                  <a:pt x="1156" y="138"/>
                  <a:pt x="1179" y="155"/>
                  <a:pt x="1152" y="182"/>
                </a:cubicBezTo>
                <a:cubicBezTo>
                  <a:pt x="1144" y="190"/>
                  <a:pt x="1129" y="188"/>
                  <a:pt x="1119" y="193"/>
                </a:cubicBezTo>
                <a:cubicBezTo>
                  <a:pt x="998" y="254"/>
                  <a:pt x="1160" y="179"/>
                  <a:pt x="1063" y="238"/>
                </a:cubicBezTo>
                <a:cubicBezTo>
                  <a:pt x="1019" y="265"/>
                  <a:pt x="969" y="279"/>
                  <a:pt x="919" y="293"/>
                </a:cubicBezTo>
                <a:cubicBezTo>
                  <a:pt x="908" y="296"/>
                  <a:pt x="898" y="304"/>
                  <a:pt x="886" y="304"/>
                </a:cubicBezTo>
                <a:cubicBezTo>
                  <a:pt x="720" y="311"/>
                  <a:pt x="554" y="311"/>
                  <a:pt x="388" y="315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27840" y="3505320"/>
            <a:ext cx="1987560" cy="546120"/>
          </a:xfrm>
          <a:custGeom>
            <a:avLst/>
            <a:gdLst/>
            <a:ahLst/>
            <a:rect l="l" t="t" r="r" b="b"/>
            <a:pathLst>
              <a:path w="1252" h="344">
                <a:moveTo>
                  <a:pt x="244" y="288"/>
                </a:moveTo>
                <a:cubicBezTo>
                  <a:pt x="184" y="273"/>
                  <a:pt x="138" y="237"/>
                  <a:pt x="78" y="222"/>
                </a:cubicBezTo>
                <a:cubicBezTo>
                  <a:pt x="67" y="215"/>
                  <a:pt x="55" y="209"/>
                  <a:pt x="45" y="200"/>
                </a:cubicBezTo>
                <a:cubicBezTo>
                  <a:pt x="29" y="186"/>
                  <a:pt x="0" y="155"/>
                  <a:pt x="0" y="155"/>
                </a:cubicBezTo>
                <a:cubicBezTo>
                  <a:pt x="4" y="129"/>
                  <a:pt x="0" y="102"/>
                  <a:pt x="11" y="78"/>
                </a:cubicBezTo>
                <a:cubicBezTo>
                  <a:pt x="28" y="41"/>
                  <a:pt x="215" y="13"/>
                  <a:pt x="244" y="11"/>
                </a:cubicBezTo>
                <a:cubicBezTo>
                  <a:pt x="358" y="5"/>
                  <a:pt x="473" y="4"/>
                  <a:pt x="587" y="0"/>
                </a:cubicBezTo>
                <a:cubicBezTo>
                  <a:pt x="750" y="4"/>
                  <a:pt x="912" y="4"/>
                  <a:pt x="1075" y="11"/>
                </a:cubicBezTo>
                <a:cubicBezTo>
                  <a:pt x="1115" y="13"/>
                  <a:pt x="1183" y="44"/>
                  <a:pt x="1219" y="56"/>
                </a:cubicBezTo>
                <a:cubicBezTo>
                  <a:pt x="1230" y="60"/>
                  <a:pt x="1252" y="67"/>
                  <a:pt x="1252" y="67"/>
                </a:cubicBezTo>
                <a:cubicBezTo>
                  <a:pt x="1248" y="93"/>
                  <a:pt x="1251" y="120"/>
                  <a:pt x="1241" y="144"/>
                </a:cubicBezTo>
                <a:cubicBezTo>
                  <a:pt x="1230" y="168"/>
                  <a:pt x="1148" y="185"/>
                  <a:pt x="1141" y="189"/>
                </a:cubicBezTo>
                <a:cubicBezTo>
                  <a:pt x="1100" y="216"/>
                  <a:pt x="1061" y="267"/>
                  <a:pt x="1019" y="288"/>
                </a:cubicBezTo>
                <a:cubicBezTo>
                  <a:pt x="976" y="310"/>
                  <a:pt x="951" y="309"/>
                  <a:pt x="909" y="322"/>
                </a:cubicBezTo>
                <a:cubicBezTo>
                  <a:pt x="886" y="329"/>
                  <a:pt x="842" y="344"/>
                  <a:pt x="842" y="344"/>
                </a:cubicBezTo>
                <a:cubicBezTo>
                  <a:pt x="643" y="340"/>
                  <a:pt x="443" y="340"/>
                  <a:pt x="244" y="333"/>
                </a:cubicBezTo>
                <a:cubicBezTo>
                  <a:pt x="197" y="331"/>
                  <a:pt x="143" y="308"/>
                  <a:pt x="244" y="288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05040" y="5759280"/>
            <a:ext cx="2392560" cy="793800"/>
          </a:xfrm>
          <a:custGeom>
            <a:avLst/>
            <a:gdLst/>
            <a:ahLst/>
            <a:rect l="l" t="t" r="r" b="b"/>
            <a:pathLst>
              <a:path w="1507" h="500">
                <a:moveTo>
                  <a:pt x="620" y="467"/>
                </a:moveTo>
                <a:cubicBezTo>
                  <a:pt x="594" y="454"/>
                  <a:pt x="570" y="436"/>
                  <a:pt x="543" y="423"/>
                </a:cubicBezTo>
                <a:cubicBezTo>
                  <a:pt x="520" y="411"/>
                  <a:pt x="476" y="406"/>
                  <a:pt x="454" y="401"/>
                </a:cubicBezTo>
                <a:cubicBezTo>
                  <a:pt x="377" y="383"/>
                  <a:pt x="313" y="365"/>
                  <a:pt x="232" y="356"/>
                </a:cubicBezTo>
                <a:cubicBezTo>
                  <a:pt x="187" y="345"/>
                  <a:pt x="145" y="332"/>
                  <a:pt x="99" y="323"/>
                </a:cubicBezTo>
                <a:cubicBezTo>
                  <a:pt x="88" y="312"/>
                  <a:pt x="78" y="300"/>
                  <a:pt x="66" y="290"/>
                </a:cubicBezTo>
                <a:cubicBezTo>
                  <a:pt x="56" y="282"/>
                  <a:pt x="41" y="278"/>
                  <a:pt x="33" y="268"/>
                </a:cubicBezTo>
                <a:cubicBezTo>
                  <a:pt x="26" y="259"/>
                  <a:pt x="27" y="245"/>
                  <a:pt x="22" y="234"/>
                </a:cubicBezTo>
                <a:cubicBezTo>
                  <a:pt x="16" y="222"/>
                  <a:pt x="7" y="212"/>
                  <a:pt x="0" y="201"/>
                </a:cubicBezTo>
                <a:cubicBezTo>
                  <a:pt x="4" y="175"/>
                  <a:pt x="3" y="149"/>
                  <a:pt x="11" y="124"/>
                </a:cubicBezTo>
                <a:cubicBezTo>
                  <a:pt x="18" y="104"/>
                  <a:pt x="65" y="82"/>
                  <a:pt x="77" y="79"/>
                </a:cubicBezTo>
                <a:cubicBezTo>
                  <a:pt x="211" y="41"/>
                  <a:pt x="349" y="34"/>
                  <a:pt x="487" y="24"/>
                </a:cubicBezTo>
                <a:cubicBezTo>
                  <a:pt x="579" y="17"/>
                  <a:pt x="764" y="2"/>
                  <a:pt x="764" y="2"/>
                </a:cubicBezTo>
                <a:cubicBezTo>
                  <a:pt x="972" y="8"/>
                  <a:pt x="1121" y="0"/>
                  <a:pt x="1307" y="46"/>
                </a:cubicBezTo>
                <a:cubicBezTo>
                  <a:pt x="1349" y="74"/>
                  <a:pt x="1397" y="88"/>
                  <a:pt x="1440" y="113"/>
                </a:cubicBezTo>
                <a:cubicBezTo>
                  <a:pt x="1463" y="126"/>
                  <a:pt x="1506" y="157"/>
                  <a:pt x="1506" y="157"/>
                </a:cubicBezTo>
                <a:cubicBezTo>
                  <a:pt x="1502" y="201"/>
                  <a:pt x="1507" y="247"/>
                  <a:pt x="1495" y="290"/>
                </a:cubicBezTo>
                <a:cubicBezTo>
                  <a:pt x="1472" y="373"/>
                  <a:pt x="1392" y="415"/>
                  <a:pt x="1318" y="434"/>
                </a:cubicBezTo>
                <a:cubicBezTo>
                  <a:pt x="1255" y="476"/>
                  <a:pt x="1181" y="491"/>
                  <a:pt x="1107" y="500"/>
                </a:cubicBezTo>
                <a:cubicBezTo>
                  <a:pt x="989" y="496"/>
                  <a:pt x="871" y="495"/>
                  <a:pt x="753" y="489"/>
                </a:cubicBezTo>
                <a:cubicBezTo>
                  <a:pt x="712" y="487"/>
                  <a:pt x="651" y="436"/>
                  <a:pt x="620" y="467"/>
                </a:cubicBezTo>
                <a:close/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581280"/>
            <a:ext cx="2598840" cy="905040"/>
          </a:xfrm>
          <a:custGeom>
            <a:avLst/>
            <a:gdLst/>
            <a:ahLst/>
            <a:rect l="l" t="t" r="r" b="b"/>
            <a:pathLst>
              <a:path w="1637" h="570">
                <a:moveTo>
                  <a:pt x="615" y="570"/>
                </a:moveTo>
                <a:cubicBezTo>
                  <a:pt x="554" y="511"/>
                  <a:pt x="493" y="455"/>
                  <a:pt x="426" y="404"/>
                </a:cubicBezTo>
                <a:cubicBezTo>
                  <a:pt x="377" y="367"/>
                  <a:pt x="323" y="355"/>
                  <a:pt x="271" y="327"/>
                </a:cubicBezTo>
                <a:cubicBezTo>
                  <a:pt x="255" y="318"/>
                  <a:pt x="243" y="303"/>
                  <a:pt x="227" y="294"/>
                </a:cubicBezTo>
                <a:cubicBezTo>
                  <a:pt x="163" y="256"/>
                  <a:pt x="119" y="238"/>
                  <a:pt x="61" y="194"/>
                </a:cubicBezTo>
                <a:cubicBezTo>
                  <a:pt x="0" y="11"/>
                  <a:pt x="301" y="13"/>
                  <a:pt x="404" y="6"/>
                </a:cubicBezTo>
                <a:cubicBezTo>
                  <a:pt x="848" y="15"/>
                  <a:pt x="868" y="0"/>
                  <a:pt x="1180" y="61"/>
                </a:cubicBezTo>
                <a:cubicBezTo>
                  <a:pt x="1243" y="103"/>
                  <a:pt x="1320" y="123"/>
                  <a:pt x="1390" y="150"/>
                </a:cubicBezTo>
                <a:cubicBezTo>
                  <a:pt x="1405" y="156"/>
                  <a:pt x="1418" y="167"/>
                  <a:pt x="1434" y="172"/>
                </a:cubicBezTo>
                <a:cubicBezTo>
                  <a:pt x="1463" y="182"/>
                  <a:pt x="1523" y="194"/>
                  <a:pt x="1523" y="194"/>
                </a:cubicBezTo>
                <a:cubicBezTo>
                  <a:pt x="1637" y="364"/>
                  <a:pt x="1415" y="469"/>
                  <a:pt x="1290" y="504"/>
                </a:cubicBezTo>
                <a:cubicBezTo>
                  <a:pt x="1090" y="560"/>
                  <a:pt x="672" y="526"/>
                  <a:pt x="548" y="526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066680"/>
            <a:ext cx="2286000" cy="1108080"/>
          </a:xfrm>
          <a:custGeom>
            <a:avLst/>
            <a:gdLst/>
            <a:ahLst/>
            <a:rect l="l" t="t" r="r" b="b"/>
            <a:pathLst>
              <a:path w="1136" h="554">
                <a:moveTo>
                  <a:pt x="695" y="510"/>
                </a:moveTo>
                <a:cubicBezTo>
                  <a:pt x="597" y="499"/>
                  <a:pt x="588" y="496"/>
                  <a:pt x="507" y="465"/>
                </a:cubicBezTo>
                <a:cubicBezTo>
                  <a:pt x="473" y="452"/>
                  <a:pt x="461" y="458"/>
                  <a:pt x="430" y="443"/>
                </a:cubicBezTo>
                <a:cubicBezTo>
                  <a:pt x="359" y="408"/>
                  <a:pt x="288" y="371"/>
                  <a:pt x="208" y="355"/>
                </a:cubicBezTo>
                <a:cubicBezTo>
                  <a:pt x="144" y="289"/>
                  <a:pt x="175" y="313"/>
                  <a:pt x="119" y="277"/>
                </a:cubicBezTo>
                <a:cubicBezTo>
                  <a:pt x="69" y="202"/>
                  <a:pt x="93" y="230"/>
                  <a:pt x="53" y="188"/>
                </a:cubicBezTo>
                <a:cubicBezTo>
                  <a:pt x="46" y="166"/>
                  <a:pt x="38" y="144"/>
                  <a:pt x="31" y="122"/>
                </a:cubicBezTo>
                <a:cubicBezTo>
                  <a:pt x="0" y="29"/>
                  <a:pt x="118" y="14"/>
                  <a:pt x="175" y="0"/>
                </a:cubicBezTo>
                <a:cubicBezTo>
                  <a:pt x="345" y="4"/>
                  <a:pt x="514" y="4"/>
                  <a:pt x="684" y="11"/>
                </a:cubicBezTo>
                <a:cubicBezTo>
                  <a:pt x="734" y="13"/>
                  <a:pt x="771" y="42"/>
                  <a:pt x="817" y="56"/>
                </a:cubicBezTo>
                <a:cubicBezTo>
                  <a:pt x="839" y="63"/>
                  <a:pt x="862" y="71"/>
                  <a:pt x="884" y="78"/>
                </a:cubicBezTo>
                <a:cubicBezTo>
                  <a:pt x="895" y="82"/>
                  <a:pt x="917" y="89"/>
                  <a:pt x="917" y="89"/>
                </a:cubicBezTo>
                <a:cubicBezTo>
                  <a:pt x="939" y="155"/>
                  <a:pt x="984" y="145"/>
                  <a:pt x="1039" y="177"/>
                </a:cubicBezTo>
                <a:cubicBezTo>
                  <a:pt x="1101" y="213"/>
                  <a:pt x="1043" y="190"/>
                  <a:pt x="1105" y="211"/>
                </a:cubicBezTo>
                <a:cubicBezTo>
                  <a:pt x="1136" y="303"/>
                  <a:pt x="1083" y="392"/>
                  <a:pt x="1006" y="443"/>
                </a:cubicBezTo>
                <a:cubicBezTo>
                  <a:pt x="929" y="554"/>
                  <a:pt x="688" y="499"/>
                  <a:pt x="607" y="49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33800" y="2362320"/>
            <a:ext cx="1819440" cy="787320"/>
          </a:xfrm>
          <a:custGeom>
            <a:avLst/>
            <a:gdLst/>
            <a:ahLst/>
            <a:rect l="l" t="t" r="r" b="b"/>
            <a:pathLst>
              <a:path w="1146" h="496">
                <a:moveTo>
                  <a:pt x="461" y="466"/>
                </a:moveTo>
                <a:cubicBezTo>
                  <a:pt x="450" y="470"/>
                  <a:pt x="440" y="478"/>
                  <a:pt x="428" y="477"/>
                </a:cubicBezTo>
                <a:cubicBezTo>
                  <a:pt x="355" y="469"/>
                  <a:pt x="275" y="422"/>
                  <a:pt x="206" y="399"/>
                </a:cubicBezTo>
                <a:cubicBezTo>
                  <a:pt x="177" y="389"/>
                  <a:pt x="146" y="386"/>
                  <a:pt x="117" y="377"/>
                </a:cubicBezTo>
                <a:cubicBezTo>
                  <a:pt x="95" y="362"/>
                  <a:pt x="73" y="348"/>
                  <a:pt x="51" y="333"/>
                </a:cubicBezTo>
                <a:cubicBezTo>
                  <a:pt x="40" y="326"/>
                  <a:pt x="18" y="311"/>
                  <a:pt x="18" y="311"/>
                </a:cubicBezTo>
                <a:cubicBezTo>
                  <a:pt x="22" y="250"/>
                  <a:pt x="0" y="162"/>
                  <a:pt x="51" y="111"/>
                </a:cubicBezTo>
                <a:cubicBezTo>
                  <a:pt x="77" y="85"/>
                  <a:pt x="151" y="67"/>
                  <a:pt x="151" y="67"/>
                </a:cubicBezTo>
                <a:cubicBezTo>
                  <a:pt x="190" y="41"/>
                  <a:pt x="229" y="37"/>
                  <a:pt x="273" y="23"/>
                </a:cubicBezTo>
                <a:cubicBezTo>
                  <a:pt x="623" y="29"/>
                  <a:pt x="811" y="0"/>
                  <a:pt x="1092" y="56"/>
                </a:cubicBezTo>
                <a:cubicBezTo>
                  <a:pt x="1082" y="310"/>
                  <a:pt x="1146" y="344"/>
                  <a:pt x="948" y="377"/>
                </a:cubicBezTo>
                <a:cubicBezTo>
                  <a:pt x="853" y="409"/>
                  <a:pt x="756" y="435"/>
                  <a:pt x="660" y="466"/>
                </a:cubicBezTo>
                <a:cubicBezTo>
                  <a:pt x="569" y="496"/>
                  <a:pt x="468" y="466"/>
                  <a:pt x="372" y="466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25760" y="3352680"/>
            <a:ext cx="1851120" cy="838440"/>
          </a:xfrm>
          <a:custGeom>
            <a:avLst/>
            <a:gdLst/>
            <a:ahLst/>
            <a:rect l="l" t="t" r="r" b="b"/>
            <a:pathLst>
              <a:path w="1166" h="388">
                <a:moveTo>
                  <a:pt x="653" y="388"/>
                </a:moveTo>
                <a:cubicBezTo>
                  <a:pt x="590" y="384"/>
                  <a:pt x="527" y="385"/>
                  <a:pt x="465" y="377"/>
                </a:cubicBezTo>
                <a:cubicBezTo>
                  <a:pt x="423" y="372"/>
                  <a:pt x="384" y="352"/>
                  <a:pt x="343" y="344"/>
                </a:cubicBezTo>
                <a:cubicBezTo>
                  <a:pt x="244" y="294"/>
                  <a:pt x="286" y="309"/>
                  <a:pt x="221" y="288"/>
                </a:cubicBezTo>
                <a:cubicBezTo>
                  <a:pt x="199" y="273"/>
                  <a:pt x="177" y="259"/>
                  <a:pt x="155" y="244"/>
                </a:cubicBezTo>
                <a:cubicBezTo>
                  <a:pt x="144" y="237"/>
                  <a:pt x="122" y="222"/>
                  <a:pt x="122" y="222"/>
                </a:cubicBezTo>
                <a:cubicBezTo>
                  <a:pt x="94" y="180"/>
                  <a:pt x="63" y="150"/>
                  <a:pt x="22" y="122"/>
                </a:cubicBezTo>
                <a:cubicBezTo>
                  <a:pt x="15" y="111"/>
                  <a:pt x="0" y="102"/>
                  <a:pt x="0" y="89"/>
                </a:cubicBezTo>
                <a:cubicBezTo>
                  <a:pt x="0" y="57"/>
                  <a:pt x="34" y="51"/>
                  <a:pt x="55" y="45"/>
                </a:cubicBezTo>
                <a:cubicBezTo>
                  <a:pt x="145" y="21"/>
                  <a:pt x="148" y="20"/>
                  <a:pt x="244" y="11"/>
                </a:cubicBezTo>
                <a:cubicBezTo>
                  <a:pt x="288" y="7"/>
                  <a:pt x="333" y="4"/>
                  <a:pt x="377" y="0"/>
                </a:cubicBezTo>
                <a:cubicBezTo>
                  <a:pt x="565" y="4"/>
                  <a:pt x="753" y="1"/>
                  <a:pt x="941" y="11"/>
                </a:cubicBezTo>
                <a:cubicBezTo>
                  <a:pt x="1015" y="15"/>
                  <a:pt x="1090" y="74"/>
                  <a:pt x="1163" y="89"/>
                </a:cubicBezTo>
                <a:cubicBezTo>
                  <a:pt x="1161" y="105"/>
                  <a:pt x="1166" y="200"/>
                  <a:pt x="1130" y="222"/>
                </a:cubicBezTo>
                <a:cubicBezTo>
                  <a:pt x="1100" y="240"/>
                  <a:pt x="1059" y="236"/>
                  <a:pt x="1030" y="255"/>
                </a:cubicBezTo>
                <a:cubicBezTo>
                  <a:pt x="968" y="296"/>
                  <a:pt x="890" y="310"/>
                  <a:pt x="820" y="333"/>
                </a:cubicBezTo>
                <a:cubicBezTo>
                  <a:pt x="718" y="367"/>
                  <a:pt x="498" y="355"/>
                  <a:pt x="498" y="355"/>
                </a:cubicBezTo>
                <a:cubicBezTo>
                  <a:pt x="461" y="380"/>
                  <a:pt x="474" y="368"/>
                  <a:pt x="454" y="388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13000" y="4448160"/>
            <a:ext cx="2924280" cy="1149480"/>
          </a:xfrm>
          <a:custGeom>
            <a:avLst/>
            <a:gdLst/>
            <a:ahLst/>
            <a:rect l="l" t="t" r="r" b="b"/>
            <a:pathLst>
              <a:path w="1842" h="724">
                <a:moveTo>
                  <a:pt x="690" y="665"/>
                </a:moveTo>
                <a:cubicBezTo>
                  <a:pt x="632" y="646"/>
                  <a:pt x="585" y="625"/>
                  <a:pt x="524" y="610"/>
                </a:cubicBezTo>
                <a:cubicBezTo>
                  <a:pt x="484" y="600"/>
                  <a:pt x="450" y="568"/>
                  <a:pt x="413" y="554"/>
                </a:cubicBezTo>
                <a:cubicBezTo>
                  <a:pt x="384" y="543"/>
                  <a:pt x="353" y="543"/>
                  <a:pt x="324" y="532"/>
                </a:cubicBezTo>
                <a:cubicBezTo>
                  <a:pt x="167" y="474"/>
                  <a:pt x="345" y="542"/>
                  <a:pt x="236" y="488"/>
                </a:cubicBezTo>
                <a:cubicBezTo>
                  <a:pt x="225" y="483"/>
                  <a:pt x="213" y="481"/>
                  <a:pt x="202" y="477"/>
                </a:cubicBezTo>
                <a:cubicBezTo>
                  <a:pt x="183" y="470"/>
                  <a:pt x="165" y="464"/>
                  <a:pt x="147" y="455"/>
                </a:cubicBezTo>
                <a:cubicBezTo>
                  <a:pt x="110" y="436"/>
                  <a:pt x="71" y="411"/>
                  <a:pt x="36" y="388"/>
                </a:cubicBezTo>
                <a:cubicBezTo>
                  <a:pt x="28" y="376"/>
                  <a:pt x="0" y="340"/>
                  <a:pt x="3" y="322"/>
                </a:cubicBezTo>
                <a:cubicBezTo>
                  <a:pt x="10" y="278"/>
                  <a:pt x="60" y="260"/>
                  <a:pt x="92" y="244"/>
                </a:cubicBezTo>
                <a:cubicBezTo>
                  <a:pt x="171" y="205"/>
                  <a:pt x="237" y="163"/>
                  <a:pt x="324" y="144"/>
                </a:cubicBezTo>
                <a:cubicBezTo>
                  <a:pt x="370" y="114"/>
                  <a:pt x="418" y="108"/>
                  <a:pt x="468" y="89"/>
                </a:cubicBezTo>
                <a:cubicBezTo>
                  <a:pt x="571" y="51"/>
                  <a:pt x="681" y="23"/>
                  <a:pt x="790" y="0"/>
                </a:cubicBezTo>
                <a:cubicBezTo>
                  <a:pt x="1048" y="12"/>
                  <a:pt x="1307" y="8"/>
                  <a:pt x="1565" y="23"/>
                </a:cubicBezTo>
                <a:cubicBezTo>
                  <a:pt x="1600" y="25"/>
                  <a:pt x="1665" y="56"/>
                  <a:pt x="1665" y="56"/>
                </a:cubicBezTo>
                <a:cubicBezTo>
                  <a:pt x="1697" y="105"/>
                  <a:pt x="1726" y="145"/>
                  <a:pt x="1775" y="178"/>
                </a:cubicBezTo>
                <a:cubicBezTo>
                  <a:pt x="1803" y="218"/>
                  <a:pt x="1827" y="220"/>
                  <a:pt x="1842" y="266"/>
                </a:cubicBezTo>
                <a:cubicBezTo>
                  <a:pt x="1838" y="310"/>
                  <a:pt x="1840" y="355"/>
                  <a:pt x="1831" y="399"/>
                </a:cubicBezTo>
                <a:cubicBezTo>
                  <a:pt x="1828" y="412"/>
                  <a:pt x="1815" y="420"/>
                  <a:pt x="1809" y="432"/>
                </a:cubicBezTo>
                <a:cubicBezTo>
                  <a:pt x="1762" y="528"/>
                  <a:pt x="1725" y="549"/>
                  <a:pt x="1620" y="576"/>
                </a:cubicBezTo>
                <a:cubicBezTo>
                  <a:pt x="1577" y="587"/>
                  <a:pt x="1542" y="610"/>
                  <a:pt x="1498" y="621"/>
                </a:cubicBezTo>
                <a:cubicBezTo>
                  <a:pt x="1292" y="724"/>
                  <a:pt x="1078" y="646"/>
                  <a:pt x="834" y="643"/>
                </a:cubicBezTo>
                <a:cubicBezTo>
                  <a:pt x="738" y="642"/>
                  <a:pt x="642" y="643"/>
                  <a:pt x="546" y="643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5400" y="2590920"/>
            <a:ext cx="1917720" cy="658800"/>
          </a:xfrm>
          <a:custGeom>
            <a:avLst/>
            <a:gdLst/>
            <a:ahLst/>
            <a:rect l="l" t="t" r="r" b="b"/>
            <a:pathLst>
              <a:path w="1208" h="415">
                <a:moveTo>
                  <a:pt x="1120" y="355"/>
                </a:moveTo>
                <a:cubicBezTo>
                  <a:pt x="969" y="405"/>
                  <a:pt x="754" y="370"/>
                  <a:pt x="622" y="366"/>
                </a:cubicBezTo>
                <a:cubicBezTo>
                  <a:pt x="445" y="352"/>
                  <a:pt x="197" y="415"/>
                  <a:pt x="57" y="321"/>
                </a:cubicBezTo>
                <a:cubicBezTo>
                  <a:pt x="0" y="151"/>
                  <a:pt x="241" y="94"/>
                  <a:pt x="356" y="55"/>
                </a:cubicBezTo>
                <a:cubicBezTo>
                  <a:pt x="375" y="49"/>
                  <a:pt x="392" y="37"/>
                  <a:pt x="412" y="33"/>
                </a:cubicBezTo>
                <a:cubicBezTo>
                  <a:pt x="441" y="26"/>
                  <a:pt x="471" y="26"/>
                  <a:pt x="500" y="22"/>
                </a:cubicBezTo>
                <a:cubicBezTo>
                  <a:pt x="552" y="15"/>
                  <a:pt x="655" y="0"/>
                  <a:pt x="655" y="0"/>
                </a:cubicBezTo>
                <a:cubicBezTo>
                  <a:pt x="813" y="7"/>
                  <a:pt x="951" y="6"/>
                  <a:pt x="1098" y="55"/>
                </a:cubicBezTo>
                <a:cubicBezTo>
                  <a:pt x="1105" y="63"/>
                  <a:pt x="1111" y="72"/>
                  <a:pt x="1120" y="78"/>
                </a:cubicBezTo>
                <a:cubicBezTo>
                  <a:pt x="1130" y="84"/>
                  <a:pt x="1145" y="81"/>
                  <a:pt x="1154" y="89"/>
                </a:cubicBezTo>
                <a:cubicBezTo>
                  <a:pt x="1162" y="97"/>
                  <a:pt x="1159" y="112"/>
                  <a:pt x="1165" y="122"/>
                </a:cubicBezTo>
                <a:cubicBezTo>
                  <a:pt x="1174" y="135"/>
                  <a:pt x="1187" y="144"/>
                  <a:pt x="1198" y="155"/>
                </a:cubicBezTo>
                <a:cubicBezTo>
                  <a:pt x="1183" y="341"/>
                  <a:pt x="1208" y="310"/>
                  <a:pt x="1021" y="310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24A-79A0-484A-A0CE-BFA4BA5ED6C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D7204-E5BC-4DBF-BABC-28281CCA0A03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ity-relationship (E/R)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ly and still very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nk of as a “watered-down” object-oriented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a design model—not directly implemented by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s represented by E/R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 are other sty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similar to UML dia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433-4434-4504-ADE3-42C33378F6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9A93C-0F36-419B-A125-FF9CB64B86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2-11T16:37:34Z</dcterms:modified>
  <cp:revision>354</cp:revision>
  <dc:subject/>
  <dc:title>CS186: Introduction to Database Systems</dc:title>
</cp:coreProperties>
</file>