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DC0C45-7AA7-4A4E-A1EC-9DDEE2736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706239-C737-45FB-8E22-E1AB43E7B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C44F2E-2E01-4F14-9252-C5803E012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AE83F1-16D3-4162-97AF-9337C4CA7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E7443F-6F05-4854-BE14-E44791237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738FE8-6073-4904-AFF6-6FE929EDC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DEDC3F-1F46-4ED7-AAFC-EFDB0DC1C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9FFB4A-0ABC-4024-9349-9EB81DCBC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F46FFD-7A1A-4EC5-B986-A3F2DC9C0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6CB503-BFF8-43B7-97BF-273844B14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D361C6-6F42-4343-A7F1-49C61C6D7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F5D01F-45E5-4CCA-83C2-CCBE559AE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92B6F2-710C-4B96-BDB4-150436B6C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4E2DF4-3ACD-46F3-BC63-E903FC089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595D64-AA6F-4D4C-8A1A-74A23E754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as at least as strong as BCNF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every BCNF vio is a 4NF 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FD is also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strictly stronger than BCNF, in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have “real”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have mvd’s that follow following key f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82018F-D7B3-407F-ADCB-0DAFE82C5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D097BF-B8A7-465F-9E69-CCF75076C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7DA42F-D404-49A5-9987-016E4615E7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 : There is no partial functional dependency (a non-trivial F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roper subset of some key and A is not prime --- I.e. not part of some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: example: A-&gt;B-&gt;C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b-&gt;c, b is not a proper subset of a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cs.bbk.ac.uk/~mark/download/optdb_normal_form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220E98-0248-4D32-876D-DF702CE8FE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03F-896B-40A9-B819-107C4E05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E9C-03F2-4BAA-A15E-2622F4E1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86A-D00B-4C53-88C8-65FDC9D4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0C5-B7F7-4F88-BC82-8920CEF0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689-FA2B-4C4C-AC50-41C235F6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0DC-D6D5-4CFB-ACA9-4CC1A4E3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B53-EE42-4C50-9279-E6020A8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98B-D8A9-4171-96AE-933918FA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78F-0583-4C81-BCF8-7BC80222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11B-BB5D-4FE9-B39A-3FB0D45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A1C-FB44-4CB4-A8B5-C5675A49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280-5742-4C40-87C9-7512CA9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43B0-76EC-48F2-8BC9-2AFE44A4EE1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668B-AE25-4398-85E9-BC380EDB53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29200"/>
            <a:ext cx="4800600" cy="1557000"/>
          </a:xfrm>
          <a:prstGeom prst="rect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Nobody realizes that some people expend tremendous energy merely to be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bert Ca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have to use the “foreign key” mechanism to achieve lossless join in binary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. See EN 11.1.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53A-2734-42EA-90E5-951673CEA7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8EC8C-59F3-4A4F-986F-CE02BCFDF4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move the redundancy that is introduced by non-key FD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up a non-key F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decomp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= attr(R) – X –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do this recursively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to sto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A54-201B-44E3-BC17-A957A4BF9C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92D4A-F4DA-44E6-9688-F643D874F5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000" y="14572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84120" y="1946160"/>
            <a:ext cx="32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 up 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108720" y="2381400"/>
            <a:ext cx="9161640" cy="1534680"/>
            <a:chOff x="-108720" y="2381400"/>
            <a:chExt cx="9161640" cy="1534680"/>
          </a:xfrm>
        </p:grpSpPr>
        <p:sp>
          <p:nvSpPr>
            <p:cNvPr id="138" name=""/>
            <p:cNvSpPr/>
            <p:nvPr/>
          </p:nvSpPr>
          <p:spPr>
            <a:xfrm>
              <a:off x="-108720" y="290520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8360" y="343836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828440" y="238140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4560" y="238140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625200" y="3965400"/>
            <a:ext cx="361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up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22160" y="4419720"/>
            <a:ext cx="8197560" cy="1477800"/>
            <a:chOff x="722160" y="4419720"/>
            <a:chExt cx="8197560" cy="1477800"/>
          </a:xfrm>
        </p:grpSpPr>
        <p:sp>
          <p:nvSpPr>
            <p:cNvPr id="144" name=""/>
            <p:cNvSpPr/>
            <p:nvPr/>
          </p:nvSpPr>
          <p:spPr>
            <a:xfrm flipH="1">
              <a:off x="3300480" y="441972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2160" y="501984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8440" y="441972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1360" y="541980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152280"/>
            <a:ext cx="35053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75B-C954-4F01-8DC8-120A39FAD5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04D79-1BB8-41DD-9FAF-2196C66AE4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applies binary decomposition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, the lossless join property is mai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 to remove ALL redundancies caused by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081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E64-F4DF-458C-9823-9C71D48862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B4792-5166-421A-93A2-4C8D1558DB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ypes of non-key D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1371600"/>
            <a:ext cx="5486400" cy="1143000"/>
            <a:chOff x="609480" y="1371600"/>
            <a:chExt cx="5486400" cy="1143000"/>
          </a:xfrm>
        </p:grpSpPr>
        <p:sp>
          <p:nvSpPr>
            <p:cNvPr id="154" name=""/>
            <p:cNvSpPr/>
            <p:nvPr/>
          </p:nvSpPr>
          <p:spPr>
            <a:xfrm>
              <a:off x="609480" y="137160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676520"/>
              <a:ext cx="984240" cy="6033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1600200"/>
              <a:ext cx="1371600" cy="57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4080" y="1371600"/>
              <a:ext cx="1981080" cy="38124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324480" y="16765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2844720"/>
            <a:ext cx="5486400" cy="1346400"/>
            <a:chOff x="533520" y="2844720"/>
            <a:chExt cx="5486400" cy="1346400"/>
          </a:xfrm>
        </p:grpSpPr>
        <p:grpSp>
          <p:nvGrpSpPr>
            <p:cNvPr id="160" name=""/>
            <p:cNvGrpSpPr/>
            <p:nvPr/>
          </p:nvGrpSpPr>
          <p:grpSpPr>
            <a:xfrm>
              <a:off x="533520" y="3048120"/>
              <a:ext cx="5486400" cy="1143000"/>
              <a:chOff x="533520" y="3048120"/>
              <a:chExt cx="5486400" cy="1143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33520" y="3048120"/>
                <a:ext cx="2743200" cy="1143000"/>
              </a:xfrm>
              <a:prstGeom prst="ellipse">
                <a:avLst/>
              </a:prstGeom>
              <a:solidFill>
                <a:srgbClr val="fccd0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8120" y="3352680"/>
                <a:ext cx="984240" cy="603360"/>
              </a:xfrm>
              <a:prstGeom prst="ellipse">
                <a:avLst/>
              </a:prstGeom>
              <a:solidFill>
                <a:srgbClr val="3366ff">
                  <a:alpha val="8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48320" y="3276720"/>
                <a:ext cx="1371600" cy="5745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57600" y="3048120"/>
                <a:ext cx="1371600" cy="380880"/>
              </a:xfrm>
              <a:custGeom>
                <a:avLst/>
                <a:gdLst/>
                <a:ahLst/>
                <a:rect l="l" t="t" r="r" b="b"/>
                <a:pathLst>
                  <a:path w="448" h="132">
                    <a:moveTo>
                      <a:pt x="0" y="132"/>
                    </a:moveTo>
                    <a:cubicBezTo>
                      <a:pt x="36" y="76"/>
                      <a:pt x="72" y="20"/>
                      <a:pt x="147" y="10"/>
                    </a:cubicBezTo>
                    <a:cubicBezTo>
                      <a:pt x="222" y="0"/>
                      <a:pt x="335" y="37"/>
                      <a:pt x="448" y="7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438280" y="2844720"/>
              <a:ext cx="1067040" cy="507960"/>
            </a:xfrm>
            <a:custGeom>
              <a:avLst/>
              <a:gdLst/>
              <a:ahLst/>
              <a:rect l="l" t="t" r="r" b="b"/>
              <a:pathLst>
                <a:path w="912" h="320">
                  <a:moveTo>
                    <a:pt x="0" y="128"/>
                  </a:moveTo>
                  <a:cubicBezTo>
                    <a:pt x="236" y="64"/>
                    <a:pt x="472" y="0"/>
                    <a:pt x="624" y="32"/>
                  </a:cubicBezTo>
                  <a:cubicBezTo>
                    <a:pt x="776" y="64"/>
                    <a:pt x="864" y="272"/>
                    <a:pt x="912" y="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24480" y="33354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9480" y="4622760"/>
            <a:ext cx="4337280" cy="1244520"/>
            <a:chOff x="609480" y="4622760"/>
            <a:chExt cx="4337280" cy="1244520"/>
          </a:xfrm>
        </p:grpSpPr>
        <p:sp>
          <p:nvSpPr>
            <p:cNvPr id="168" name=""/>
            <p:cNvSpPr/>
            <p:nvPr/>
          </p:nvSpPr>
          <p:spPr>
            <a:xfrm>
              <a:off x="609480" y="472428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4952880"/>
              <a:ext cx="984240" cy="603360"/>
            </a:xfrm>
            <a:prstGeom prst="ellipse">
              <a:avLst/>
            </a:prstGeom>
            <a:solidFill>
              <a:srgbClr val="3366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2320" y="5105520"/>
              <a:ext cx="761760" cy="4572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4622760"/>
              <a:ext cx="1752840" cy="330120"/>
            </a:xfrm>
            <a:custGeom>
              <a:avLst/>
              <a:gdLst/>
              <a:ahLst/>
              <a:rect l="l" t="t" r="r" b="b"/>
              <a:pathLst>
                <a:path w="1104" h="208">
                  <a:moveTo>
                    <a:pt x="0" y="112"/>
                  </a:moveTo>
                  <a:cubicBezTo>
                    <a:pt x="196" y="56"/>
                    <a:pt x="392" y="0"/>
                    <a:pt x="576" y="16"/>
                  </a:cubicBezTo>
                  <a:cubicBezTo>
                    <a:pt x="760" y="32"/>
                    <a:pt x="1016" y="176"/>
                    <a:pt x="1104" y="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5562720"/>
              <a:ext cx="1447560" cy="30456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912" y="0"/>
                  </a:moveTo>
                  <a:cubicBezTo>
                    <a:pt x="748" y="96"/>
                    <a:pt x="584" y="192"/>
                    <a:pt x="432" y="192"/>
                  </a:cubicBezTo>
                  <a:cubicBezTo>
                    <a:pt x="280" y="192"/>
                    <a:pt x="140" y="9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324480" y="495288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8B6-334A-46EF-8193-352DD7E4AD9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21140-09AA-4FE8-953C-79FF69F41E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 (and 4NF)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1D1-B5A9-4CFC-AFFA-6D2E02DD85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EFFD2-EE1C-44AF-A545-BF6208C16E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y-preserving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 (BCNF is too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valued dependencies: another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(BCNF is not en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9CD-4E62-4298-9F28-CF3ACED105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81339-A7E7-4EEF-AF04-1C8CF5D400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olation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013-FCC2-4AB8-8675-1E1FD017F9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326A2-E2E4-45CB-821B-C46E43C0A3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decompose or not to decom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, where i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eck without jo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ome lossless join decomposition is not dependency-preser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emma: Should we get rid of redundancy at the expense of making constraints harder to enfo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D67-534C-43A7-BC78-F2200BAA91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37E26-031A-4AB1-98FD-3793C64E20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ing Depend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ojection of set of FDs F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decomposed into X and Y the projection of F on X  (denoted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is the set of FDs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 in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losure of F , not just 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all of the attributes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, V are in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same holds for Y of cour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of R into X and Y is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ependenc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(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) 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= 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.e., if we consider only dependencies in the closure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can be checked in X without considering Y, and in Y without considering X,  these imply all dependencies in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E81-37B2-43AA-AAE5-D368044918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1EDF3-EA6B-4F6A-A6E9-894434177D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idterm questions are posted at the class websi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pick up an answering key for homework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DDD-EF1D-4EC8-88F1-8A0907983C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19891-CC4B-4392-9630-FF503E8EDC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consider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is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= ABC,  F = {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B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,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is decomposed into AB and B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is dependency preserving?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 preserved??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and 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 and 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, (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72E-55BB-47E8-BD68-881CD20A74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4C58A-8FC9-472E-81F3-1D295546C0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reserving FD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to view lossless join: we lost one (or more) key F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68468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33720" y="2984400"/>
            <a:ext cx="259056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97180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8120" y="1828800"/>
          <a:ext cx="307656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066680" y="3308400"/>
          <a:ext cx="221004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562720" y="3308400"/>
          <a:ext cx="220968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819520" y="3809880"/>
            <a:ext cx="3504960" cy="380880"/>
            <a:chOff x="2819520" y="3809880"/>
            <a:chExt cx="3504960" cy="380880"/>
          </a:xfrm>
        </p:grpSpPr>
        <p:sp>
          <p:nvSpPr>
            <p:cNvPr id="195" name=""/>
            <p:cNvSpPr/>
            <p:nvPr/>
          </p:nvSpPr>
          <p:spPr>
            <a:xfrm>
              <a:off x="2819520" y="3809880"/>
              <a:ext cx="3428640" cy="3808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819520" y="3886200"/>
              <a:ext cx="3504960" cy="3045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3809880"/>
            <a:ext cx="3581280" cy="380880"/>
            <a:chOff x="2743200" y="3809880"/>
            <a:chExt cx="3581280" cy="380880"/>
          </a:xfrm>
        </p:grpSpPr>
        <p:sp>
          <p:nvSpPr>
            <p:cNvPr id="198" name=""/>
            <p:cNvSpPr/>
            <p:nvPr/>
          </p:nvSpPr>
          <p:spPr>
            <a:xfrm>
              <a:off x="2743200" y="3809880"/>
              <a:ext cx="3581280" cy="76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4190760"/>
              <a:ext cx="3504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3048120" y="4876920"/>
          <a:ext cx="3076560" cy="18255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133720" y="4419720"/>
            <a:ext cx="4495320" cy="457200"/>
            <a:chOff x="2133720" y="4419720"/>
            <a:chExt cx="4495320" cy="457200"/>
          </a:xfrm>
        </p:grpSpPr>
        <p:sp>
          <p:nvSpPr>
            <p:cNvPr id="202" name=""/>
            <p:cNvSpPr/>
            <p:nvPr/>
          </p:nvSpPr>
          <p:spPr>
            <a:xfrm>
              <a:off x="2133720" y="4419720"/>
              <a:ext cx="259056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647960" y="4419720"/>
              <a:ext cx="19810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324480" y="5181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D, PI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AF2-A6B7-4B67-868E-7052891968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B80F7-6263-4F67-804D-5503F4F3B9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y-preserving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all functional dependency and at least one key during natural joi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for each FD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if there is no key included in any of the created relations, add a relation with a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emove all relations R’ which is a subset of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-Join, Dep. Pres. Deco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FD0-D3D1-41EC-8AB3-44466E4320F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010E1-8069-4EE4-A55A-1606CB9ABF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DEF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decomposed i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B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EF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key ye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A43-E922-4859-B9E8-489A3C3E66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F538D-54BE-4A02-AB30-48C9B3F402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1(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, zip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2(zip, 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ddress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FE3-7A0B-472B-8A49-67E8F19E0A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54404-0B08-4FE8-A490-D0305B2E2F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ird Normal Form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3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for every non-trivial FD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ingle attribute),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uper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mber of at least one 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uitively, BCNF decomposition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ould “break” the key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85800" y="3809880"/>
            <a:ext cx="1736640" cy="409680"/>
            <a:chOff x="685800" y="3809880"/>
            <a:chExt cx="1736640" cy="409680"/>
          </a:xfrm>
        </p:grpSpPr>
        <p:sp>
          <p:nvSpPr>
            <p:cNvPr id="214" name=""/>
            <p:cNvSpPr/>
            <p:nvPr/>
          </p:nvSpPr>
          <p:spPr>
            <a:xfrm>
              <a:off x="685800" y="3876480"/>
              <a:ext cx="76212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9240" y="3946320"/>
              <a:ext cx="46692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1560" y="3917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2840" y="3809880"/>
              <a:ext cx="692280" cy="16812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52680" y="3657600"/>
            <a:ext cx="1736640" cy="507960"/>
            <a:chOff x="3352680" y="3657600"/>
            <a:chExt cx="1736640" cy="507960"/>
          </a:xfrm>
        </p:grpSpPr>
        <p:sp>
          <p:nvSpPr>
            <p:cNvPr id="219" name=""/>
            <p:cNvSpPr/>
            <p:nvPr/>
          </p:nvSpPr>
          <p:spPr>
            <a:xfrm>
              <a:off x="3352680" y="3822480"/>
              <a:ext cx="76176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2320" y="3902040"/>
              <a:ext cx="46656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38440" y="3863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7760" y="3755880"/>
              <a:ext cx="353880" cy="18108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6040" y="3657600"/>
              <a:ext cx="406440" cy="236520"/>
            </a:xfrm>
            <a:custGeom>
              <a:avLst/>
              <a:gdLst/>
              <a:ahLst/>
              <a:rect l="l" t="t" r="r" b="b"/>
              <a:pathLst>
                <a:path w="256" h="149">
                  <a:moveTo>
                    <a:pt x="0" y="98"/>
                  </a:moveTo>
                  <a:cubicBezTo>
                    <a:pt x="58" y="49"/>
                    <a:pt x="117" y="0"/>
                    <a:pt x="160" y="8"/>
                  </a:cubicBezTo>
                  <a:cubicBezTo>
                    <a:pt x="203" y="16"/>
                    <a:pt x="229" y="82"/>
                    <a:pt x="256" y="14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520" y="3657600"/>
            <a:ext cx="1565280" cy="709560"/>
            <a:chOff x="6248520" y="3657600"/>
            <a:chExt cx="1565280" cy="709560"/>
          </a:xfrm>
        </p:grpSpPr>
        <p:sp>
          <p:nvSpPr>
            <p:cNvPr id="225" name=""/>
            <p:cNvSpPr/>
            <p:nvPr/>
          </p:nvSpPr>
          <p:spPr>
            <a:xfrm>
              <a:off x="6248520" y="3875040"/>
              <a:ext cx="762120" cy="34272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47240" y="4005000"/>
              <a:ext cx="466560" cy="20340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8080" y="394632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4200" y="3657600"/>
              <a:ext cx="954000" cy="349200"/>
            </a:xfrm>
            <a:custGeom>
              <a:avLst/>
              <a:gdLst/>
              <a:ahLst/>
              <a:rect l="l" t="t" r="r" b="b"/>
              <a:pathLst>
                <a:path w="601" h="220">
                  <a:moveTo>
                    <a:pt x="0" y="131"/>
                  </a:moveTo>
                  <a:cubicBezTo>
                    <a:pt x="110" y="65"/>
                    <a:pt x="220" y="0"/>
                    <a:pt x="320" y="15"/>
                  </a:cubicBezTo>
                  <a:cubicBezTo>
                    <a:pt x="420" y="30"/>
                    <a:pt x="510" y="125"/>
                    <a:pt x="601" y="2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26240" y="4128840"/>
              <a:ext cx="781200" cy="238320"/>
            </a:xfrm>
            <a:custGeom>
              <a:avLst/>
              <a:gdLst/>
              <a:ahLst/>
              <a:rect l="l" t="t" r="r" b="b"/>
              <a:pathLst>
                <a:path w="492" h="150">
                  <a:moveTo>
                    <a:pt x="492" y="51"/>
                  </a:moveTo>
                  <a:cubicBezTo>
                    <a:pt x="354" y="100"/>
                    <a:pt x="216" y="150"/>
                    <a:pt x="134" y="141"/>
                  </a:cubicBezTo>
                  <a:cubicBezTo>
                    <a:pt x="52" y="132"/>
                    <a:pt x="26" y="6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33520" y="4419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64832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6483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019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248520" y="4266720"/>
            <a:ext cx="1600200" cy="686160"/>
            <a:chOff x="6248520" y="4266720"/>
            <a:chExt cx="1600200" cy="686160"/>
          </a:xfrm>
        </p:grpSpPr>
        <p:sp>
          <p:nvSpPr>
            <p:cNvPr id="237" name=""/>
            <p:cNvSpPr/>
            <p:nvPr/>
          </p:nvSpPr>
          <p:spPr>
            <a:xfrm>
              <a:off x="6248520" y="4571640"/>
              <a:ext cx="304560" cy="381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553080" y="4266720"/>
              <a:ext cx="129564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9480" y="5181480"/>
            <a:ext cx="1905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562720"/>
            <a:ext cx="4724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867280"/>
            <a:ext cx="7696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5653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BC3-F3E1-444D-95C4-50AC7739D0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D91DE-228F-4423-87A2-996A27F1BC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about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3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ans a set of attributes participate at least one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nforce all original FD’s on individual decomposed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ght have some redundancy due to FD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600200"/>
            <a:ext cx="335268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133720"/>
            <a:ext cx="68580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124080"/>
            <a:ext cx="685800" cy="38124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0A1-086F-46E0-A210-0E76241910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1D6CF-9BE0-475A-9BA7-4988223099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l Cover for a Set of F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Minimal cover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for a set of FDs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ure of F  =  closure of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ight hand side of each FD in G is a single attrib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we modify G by deleting an FD or by deleting attributes from an FD in G, the closur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, every FD in G is needed, and ``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s small a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 in order to get the same closure as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B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,  ACD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G has the following minimal 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  and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cy-preserving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a minimal c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o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combine all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…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ingle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for each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if there is no key included in any of the created relations add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5: remove all relations R’ which is a subset of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over implie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-Join, Dep. Pres. Decomp in 3NF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n EN 11.2.3, p. 3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F85-82C0-4FD6-8385-114029E77D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190B5-3D7F-411A-9258-96D9179609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= no redundanc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your classes have nothing to do with the clubs you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D’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ie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343400" y="3352680"/>
          <a:ext cx="3076560" cy="18417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B612-8B09-4F9C-81CD-2B2AA6ABAC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351D5-A255-400B-8F2D-6803A2D12F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“determines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rows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y must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eneralization of the key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43200" y="350532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733920" y="48006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4EC-E40B-4230-AFAD-919B304D20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27492-404A-4D47-84CB-AEB2EA0EBF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valued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ultivalued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V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 the form</a:t>
            </a:r>
            <a:br>
              <a:rPr sz="2800"/>
            </a:b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ets of attribute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whenever two row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 on all the attribu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can swap thei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and get two new rows that are also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38280" y="3886200"/>
          <a:ext cx="3076560" cy="11109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438280" y="388620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5715000" y="5105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in the relation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F59-8F1A-4FFB-B4E3-E448C618E3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6CDA0-269F-4610-BF67-4F72A3E956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D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uition: giv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club are “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ndepen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 = all attributes of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¶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 when two independent 1:N relations AB, AC are mixed together in R=ABC, a MVD may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97C1-D584-4247-935F-999BFBD535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A3655-338B-4D71-BA91-2D7C870403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MVD + FD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D reflexivity, augmentation, and tra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co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aug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Replication (FD is MV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alesc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re i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joi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3120" y="556272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Try proving things using th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88D-F510-44BF-A39F-3E2338490C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F7453-6216-4382-97FA-A83395E5A6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ourth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4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MV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’s and MVD’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 (i.e., no MVD’s, and no FD’s besides key functional dependenc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is stronger tha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every FD is also a MV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092-7939-45D7-93E4-249B3042CD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8FB95-B766-4805-A1E9-0855CEEDBF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4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non-trivial MVD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super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s attributes not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all relations are in 4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identical to BCNF decomposi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decomposition on a 4NF viola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700-C2BD-4417-8922-F4F6AFB88C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ADECD-04B4-44D7-B524-378B6867C1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2640" y="2362320"/>
            <a:ext cx="382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4800" y="2854440"/>
            <a:ext cx="7423200" cy="1788840"/>
            <a:chOff x="1414800" y="2854440"/>
            <a:chExt cx="7423200" cy="1788840"/>
          </a:xfrm>
        </p:grpSpPr>
        <p:sp>
          <p:nvSpPr>
            <p:cNvPr id="276" name=""/>
            <p:cNvSpPr/>
            <p:nvPr/>
          </p:nvSpPr>
          <p:spPr>
            <a:xfrm>
              <a:off x="3179160" y="2854440"/>
              <a:ext cx="3954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 violation: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8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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4800" y="3743280"/>
              <a:ext cx="267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4160" y="3743280"/>
              <a:ext cx="246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Join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lu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74248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264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072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04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228600" y="1295280"/>
          <a:ext cx="2847960" cy="1724040"/>
        </p:xfrm>
        <a:graphic>
          <a:graphicData uri="http://schemas.openxmlformats.org/drawingml/2006/table">
            <a:tbl>
              <a:tblPr/>
              <a:tblGrid>
                <a:gridCol w="977760"/>
                <a:gridCol w="1067040"/>
                <a:gridCol w="803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219320" y="4800600"/>
          <a:ext cx="2044440" cy="1004760"/>
        </p:xfrm>
        <a:graphic>
          <a:graphicData uri="http://schemas.openxmlformats.org/drawingml/2006/table">
            <a:tbl>
              <a:tblPr/>
              <a:tblGrid>
                <a:gridCol w="97776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781680" y="4724280"/>
          <a:ext cx="1781280" cy="1051200"/>
        </p:xfrm>
        <a:graphic>
          <a:graphicData uri="http://schemas.openxmlformats.org/drawingml/2006/table">
            <a:tbl>
              <a:tblPr/>
              <a:tblGrid>
                <a:gridCol w="978120"/>
                <a:gridCol w="80316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63F-0806-49B0-91FC-21F97646D1E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61955-00D6-49AB-94F1-7A08915819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, BCNF, 4NF, and bey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3478320"/>
            <a:ext cx="86104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istorical inte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NF: All column values must be atom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NF: Slightly more relaxed than 3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295280"/>
          <a:ext cx="8686800" cy="1827360"/>
        </p:xfrm>
        <a:graphic>
          <a:graphicData uri="http://schemas.openxmlformats.org/drawingml/2006/table">
            <a:tbl>
              <a:tblPr/>
              <a:tblGrid>
                <a:gridCol w="4114800"/>
                <a:gridCol w="1523880"/>
                <a:gridCol w="1524240"/>
                <a:gridCol w="1523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maly/normal 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3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BC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4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Lose FD’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F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MV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4E4-4022-4C50-B191-F11A9FDBC1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567D1-45C6-4754-AE47-703D64EB29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, 4NF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740-6A66-4B08-8948-D0F7B5DEC4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D2114-C28B-4B9C-8848-9411F0D7D9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reate join lossless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 decomposition with foreign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-nary decomposition with FD preserving and a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FD preserving decomposi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FD, create a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cover of FD guarantees 3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1AF-96E3-4D81-992F-0D3DC97DC9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972E1-E670-4B01-B477-F33E4F5EB5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non-key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 represent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01880" y="274320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01880" y="2743200"/>
          <a:ext cx="2455920" cy="243828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01880" y="2743200"/>
          <a:ext cx="2455920" cy="304812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954160" y="5715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578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6DF-49A0-4E46-A1A9-95F3F65DB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79D12-2CC0-4F2B-97E9-FA9255BE42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al with non-key F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“broken down” to a set of relation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less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y preservation join (we are going to discuss this to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B8A-FC92-4CA7-9B7D-C21CCD4B13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D3C59-9BAF-40C7-8426-D4EACB57BC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lossless joi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 =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nature join, we can restore the dat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DCE-52C0-405C-85BF-2BC8CC9438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8DBDB-5EB9-4859-86D8-4B75AEF677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, 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S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name, C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3048120"/>
          <a:ext cx="5791320" cy="1825560"/>
        </p:xfrm>
        <a:graphic>
          <a:graphicData uri="http://schemas.openxmlformats.org/drawingml/2006/table">
            <a:tbl>
              <a:tblPr/>
              <a:tblGrid>
                <a:gridCol w="1090440"/>
                <a:gridCol w="1805040"/>
                <a:gridCol w="137160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5257800"/>
          <a:ext cx="2361960" cy="1095120"/>
        </p:xfrm>
        <a:graphic>
          <a:graphicData uri="http://schemas.openxmlformats.org/drawingml/2006/table">
            <a:tbl>
              <a:tblPr/>
              <a:tblGrid>
                <a:gridCol w="804960"/>
                <a:gridCol w="1557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095880" y="5257800"/>
          <a:ext cx="2385720" cy="1095480"/>
        </p:xfrm>
        <a:graphic>
          <a:graphicData uri="http://schemas.openxmlformats.org/drawingml/2006/table">
            <a:tbl>
              <a:tblPr/>
              <a:tblGrid>
                <a:gridCol w="914400"/>
                <a:gridCol w="147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1600200" y="4876920"/>
            <a:ext cx="5409720" cy="380880"/>
            <a:chOff x="1600200" y="4876920"/>
            <a:chExt cx="5409720" cy="380880"/>
          </a:xfrm>
        </p:grpSpPr>
        <p:sp>
          <p:nvSpPr>
            <p:cNvPr id="117" name=""/>
            <p:cNvSpPr/>
            <p:nvPr/>
          </p:nvSpPr>
          <p:spPr>
            <a:xfrm flipH="1">
              <a:off x="1600200" y="4876920"/>
              <a:ext cx="266688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4876920"/>
              <a:ext cx="281916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196-C705-4A7F-BEDA-8BBABDFF94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93E1F-B84C-4418-843D-05CAC38C43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a lossless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eign ke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AF0-E671-4660-AEB8-87527C74B9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1D9AA-2220-48A2-A3E0-E531756617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foreign key mechanism guarantee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ll, thinking about the following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26668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0958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4920" y="3886200"/>
            <a:ext cx="5410800" cy="380880"/>
            <a:chOff x="1294920" y="3886200"/>
            <a:chExt cx="5410800" cy="380880"/>
          </a:xfrm>
        </p:grpSpPr>
        <p:sp>
          <p:nvSpPr>
            <p:cNvPr id="126" name=""/>
            <p:cNvSpPr/>
            <p:nvPr/>
          </p:nvSpPr>
          <p:spPr>
            <a:xfrm flipH="1">
              <a:off x="1294920" y="3886200"/>
              <a:ext cx="266724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3886200"/>
              <a:ext cx="281952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533520" y="4343400"/>
          <a:ext cx="2361960" cy="7300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38680" y="4343400"/>
          <a:ext cx="2361960" cy="10954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32C-AE9A-4C5C-AE13-EA850EE393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CAE43-F875-4185-B2D6-7423D5AB41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07T16:49:46Z</dcterms:modified>
  <cp:revision>1441</cp:revision>
  <dc:subject/>
  <dc:title>CS186: Introduction to Database Systems</dc:title>
</cp:coreProperties>
</file>