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150C653-4896-436B-B401-569EE15C3A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6D55F20-89D3-40FC-B01C-8E60C3B8DE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E2B0-CC8C-4BD9-9D1A-131F08849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8720-F7BC-4C1D-836F-7E93310F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8D79-6891-4C41-A88B-4CC1FF1CB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8010-3083-4C61-A130-A241C13E5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A608-60B1-4BC6-A54F-98FB3A00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7264-0A08-4E03-B5A9-64BBCD7F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6347-9AAF-43DC-B029-21472201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9904-BA32-4A36-B48E-AF8537B2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B4B1-F803-4A0C-BDBB-FDF530E4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8C1A-C8B4-4322-B225-333CC9E7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107F-8D64-4EDA-A4B0-998A5D17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4389-5FD1-45E9-B2DB-13AD1819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5903-C259-47F4-8C63-233E91245185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3F1F-8B48-43B6-BFD8-D97F1402A4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work 6 is d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y 1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Presenting t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rian Phagan and Niki Heggest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amer Adra and Ben K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odrew Ozor and Adam Doyl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ichael Neth and Alex Thomps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amantha Coo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yan and Gorkem Sevin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5-09T19:29:22Z</dcterms:modified>
  <cp:revision>1163</cp:revision>
  <dc:subject/>
  <dc:title>CS186: Introduction to Database Systems</dc:title>
</cp:coreProperties>
</file>