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A799A0-E62C-433B-B87F-22CD7F5DB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4415A7-A2A0-4B21-A66F-879E9BB42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8FED5B-582E-4047-A873-5BF8AC2D4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5ADFA6-55DA-4C6F-8E8B-BFF65E985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82F68A-19F8-48CC-A66A-CA7A929B5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7C0178-B149-47CA-A61E-A1C88E2D5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6755A5-91D7-4E29-9817-CFCEEB8D1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173DFC-3EDD-4367-A7DE-EBCFB0A15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4B615F-E730-4962-AF18-0BF037DA5C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B9580F-D6AF-437E-9D6B-850A1AC58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398EE2-BE0A-46C8-8405-CAD375675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2882C9-AD0F-4356-BBE5-063B5B619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FD3107-C6A0-4B17-86C5-8D1FDDDBB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537-C961-4E91-A304-E5DC96F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BF4-6A6C-4128-83BD-7F4EBB09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725-3848-45F8-A4E5-B5746291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5BA-9338-4012-AF03-ED75EA78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A3B-3763-41FE-82F4-F180659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793-8EA0-4E6B-BC6C-02426374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50E-3036-41B7-9A34-83575EA8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F07-966E-4BA2-B5E7-460AF26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FF5-6407-42C7-8AC9-049EBA2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D12-476E-4818-ADDE-6A33BA5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745-95BA-4C9E-A9EF-825AD04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346-CEF3-433C-A51A-2BFF2F1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FA9-E988-40CC-AC70-14964A92984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7F1E-C810-4064-ACC7-1A12966D12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weak entity s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“borrowed”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out for attribute name confl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10520" y="4572000"/>
            <a:ext cx="8945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ilding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yea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Rooms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room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acity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eats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uilding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room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eat_numb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left_or_righ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895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819520"/>
            <a:ext cx="1143000" cy="60948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895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895480"/>
            <a:ext cx="838080" cy="4572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971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2590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590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2004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2819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133720" y="3200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781680" y="2819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3200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066680" y="3352680"/>
            <a:ext cx="2514600" cy="2286000"/>
            <a:chOff x="1066680" y="3352680"/>
            <a:chExt cx="2514600" cy="2286000"/>
          </a:xfrm>
        </p:grpSpPr>
        <p:sp>
          <p:nvSpPr>
            <p:cNvPr id="153" name=""/>
            <p:cNvSpPr/>
            <p:nvPr/>
          </p:nvSpPr>
          <p:spPr>
            <a:xfrm>
              <a:off x="3014640" y="3352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066680" y="3809880"/>
              <a:ext cx="2514600" cy="1828800"/>
              <a:chOff x="1066680" y="3809880"/>
              <a:chExt cx="2514600" cy="1828800"/>
            </a:xfrm>
          </p:grpSpPr>
          <p:sp>
            <p:nvSpPr>
              <p:cNvPr id="155" name=""/>
              <p:cNvSpPr/>
              <p:nvPr/>
            </p:nvSpPr>
            <p:spPr>
              <a:xfrm>
                <a:off x="2438280" y="3809880"/>
                <a:ext cx="1143000" cy="609840"/>
              </a:xfrm>
              <a:prstGeom prst="flowChartDecision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1066680" y="3886200"/>
                <a:ext cx="2438640" cy="1752480"/>
                <a:chOff x="1066680" y="3886200"/>
                <a:chExt cx="2438640" cy="17524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90920" y="3886200"/>
                  <a:ext cx="838080" cy="457200"/>
                </a:xfrm>
                <a:prstGeom prst="flowChartDecision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14600" y="4876920"/>
                  <a:ext cx="990720" cy="457200"/>
                </a:xfrm>
                <a:prstGeom prst="rect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0066"/>
                      </a:solidFill>
                      <a:latin typeface="AmeriGarmnd BT"/>
                    </a:rPr>
                    <a:t>Sea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590920" y="4952880"/>
                  <a:ext cx="838080" cy="304920"/>
                </a:xfrm>
                <a:prstGeom prst="rect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016080" y="441972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6680" y="4572000"/>
                  <a:ext cx="1067040" cy="457200"/>
                </a:xfrm>
                <a:prstGeom prst="ellipse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 u="sng">
                      <a:solidFill>
                        <a:srgbClr val="330066"/>
                      </a:solidFill>
                      <a:uFillTx/>
                      <a:latin typeface="AmeriGarmnd BT"/>
                    </a:rPr>
                    <a:t>numb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066680" y="5181480"/>
                  <a:ext cx="1067040" cy="457200"/>
                </a:xfrm>
                <a:prstGeom prst="ellipse">
                  <a:avLst/>
                </a:prstGeom>
                <a:noFill/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0066"/>
                      </a:solidFill>
                      <a:latin typeface="AmeriGarmnd BT"/>
                    </a:rPr>
                    <a:t>L/R?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33720" y="480060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2133720" y="518148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DB6-B65F-4ACE-B346-597EE70F77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47E18-6B7D-4659-82F6-51B0DF6496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5836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a 1:1 relationship between two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rging the two entity types and the relationship into a single tab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rks well for total particip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480060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aid,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3276720"/>
            <a:ext cx="8001000" cy="1066680"/>
            <a:chOff x="457200" y="3276720"/>
            <a:chExt cx="8001000" cy="1066680"/>
          </a:xfrm>
        </p:grpSpPr>
        <p:sp>
          <p:nvSpPr>
            <p:cNvPr id="169" name=""/>
            <p:cNvSpPr/>
            <p:nvPr/>
          </p:nvSpPr>
          <p:spPr>
            <a:xfrm>
              <a:off x="190512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accou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152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342900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23880" y="350532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523520" y="388620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7672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38098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086600" y="350496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388620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3886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1480" y="38862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107-AF1A-4A9C-B18D-1D7F9598F8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98840-4E22-4F68-9A75-F8C264ABA2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1 relationship using foreig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ually choose the entity type with total participation to include the foreign key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4920" y="2895480"/>
            <a:ext cx="8229600" cy="1066680"/>
            <a:chOff x="304920" y="2895480"/>
            <a:chExt cx="8229600" cy="1066680"/>
          </a:xfrm>
        </p:grpSpPr>
        <p:sp>
          <p:nvSpPr>
            <p:cNvPr id="187" name=""/>
            <p:cNvSpPr/>
            <p:nvPr/>
          </p:nvSpPr>
          <p:spPr>
            <a:xfrm>
              <a:off x="1752480" y="312408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3124080"/>
              <a:ext cx="167652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AmeriGarmnd BT"/>
                </a:rPr>
                <a:t>Bschool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7480" y="2895480"/>
              <a:ext cx="106704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B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67480" y="3504960"/>
              <a:ext cx="106704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5320" y="304776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920" y="289548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20" y="350496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1600" y="3124080"/>
              <a:ext cx="38088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371600" y="3504960"/>
              <a:ext cx="38088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3429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3429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162920" y="3123720"/>
              <a:ext cx="30456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3581280"/>
              <a:ext cx="30456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35049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3520" y="45720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4572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schoool 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SID, dat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580-F255-4AFB-B1D9-9166CAD740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DF652-5521-4DA9-AD85-635B7018DB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1:1 Relationship (I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1 relationship using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rmed as relationship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274320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274320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66"/>
                </a:solidFill>
                <a:latin typeface="AmeriGarmnd BT"/>
              </a:rPr>
              <a:t>Bschool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514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266688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25146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31240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7432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371600" y="312408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048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162920" y="274284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312408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343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ude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267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schoool 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Baid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dat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5029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account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a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E20-A982-418E-8CC5-4673D51B40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E0F84-2325-4F9F-9032-8FB9A1C3C5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ing 1:N Relations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1:N relationship using foreig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using relationship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281952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81952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2590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32004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274320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works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590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819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371600" y="3200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124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2920" y="281916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27672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76920" y="32004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114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, Dnum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Department(</a:t>
            </a: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4952880"/>
            <a:ext cx="8229600" cy="1221840"/>
            <a:chOff x="304920" y="4952880"/>
            <a:chExt cx="8229600" cy="1221840"/>
          </a:xfrm>
        </p:grpSpPr>
        <p:sp>
          <p:nvSpPr>
            <p:cNvPr id="240" name=""/>
            <p:cNvSpPr/>
            <p:nvPr/>
          </p:nvSpPr>
          <p:spPr>
            <a:xfrm>
              <a:off x="304920" y="495288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mploye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Department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Manager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57150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workFor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, D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28C-3104-49F2-87B2-56B552A4D1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A8329-B465-4731-B4BF-B630CE8CFA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M:N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89624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relationship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52480" y="2362320"/>
            <a:ext cx="137160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362320"/>
            <a:ext cx="1676520" cy="6094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67480" y="21337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P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27432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286000"/>
            <a:ext cx="1523880" cy="76212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work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1337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7432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3623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371600" y="27432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2666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666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162920" y="236196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819520"/>
            <a:ext cx="30456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274320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3886200"/>
            <a:ext cx="8229600" cy="1221840"/>
            <a:chOff x="533520" y="3886200"/>
            <a:chExt cx="8229600" cy="1221840"/>
          </a:xfrm>
        </p:grpSpPr>
        <p:sp>
          <p:nvSpPr>
            <p:cNvPr id="260" name=""/>
            <p:cNvSpPr/>
            <p:nvPr/>
          </p:nvSpPr>
          <p:spPr>
            <a:xfrm>
              <a:off x="533520" y="38862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mploye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 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	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Project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P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Budge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38280" y="4648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workon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Eid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Pnum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72E-C8D8-45F9-8C3B-7406753C1A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CE5F-7FC7-4B34-932D-E64FD4A0DF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of Multivalued attribut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62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multivalued attribute using re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imary key attribute from the original entity as a foreign key in the new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124080"/>
            <a:ext cx="1676520" cy="60984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28954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5053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029200" y="312372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358128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200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71" idx="6"/>
            <a:endCxn id="264" idx="1"/>
          </p:cNvCxnSpPr>
          <p:nvPr/>
        </p:nvCxnSpPr>
        <p:spPr>
          <a:xfrm>
            <a:off x="3016080" y="3428640"/>
            <a:ext cx="324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1708200" y="3124080"/>
            <a:ext cx="1295280" cy="6098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3520" y="44956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Manager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7560" y="5257800"/>
            <a:ext cx="60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Department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Dnum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locatio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CCCA-296C-4830-B225-84E839EED8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FE369-3051-414D-AFCC-EBFD75689A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of N-ary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43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n-ary (n&gt;2) relationship type, create a new relationship relation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as foreign key attributes in S the primary keys of the relations that represent the participating entity typ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62120" y="3505320"/>
            <a:ext cx="6858000" cy="1904400"/>
            <a:chOff x="762120" y="3505320"/>
            <a:chExt cx="6858000" cy="1904400"/>
          </a:xfrm>
        </p:grpSpPr>
        <p:sp>
          <p:nvSpPr>
            <p:cNvPr id="277" name=""/>
            <p:cNvSpPr/>
            <p:nvPr/>
          </p:nvSpPr>
          <p:spPr>
            <a:xfrm>
              <a:off x="3657600" y="3733560"/>
              <a:ext cx="11430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upp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0400" y="40384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00600" y="40384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3809880"/>
              <a:ext cx="99072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7800" y="3809880"/>
              <a:ext cx="99072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3920" y="4647960"/>
              <a:ext cx="990360" cy="456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5400" y="4343400"/>
              <a:ext cx="0" cy="304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3505320"/>
              <a:ext cx="10670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3080" y="4114800"/>
              <a:ext cx="10670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M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350532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2120" y="411480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800" y="3733560"/>
              <a:ext cx="3808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28800" y="4114800"/>
              <a:ext cx="3808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248520" y="3733560"/>
              <a:ext cx="304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4114800"/>
              <a:ext cx="30456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0" y="434340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Pa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0" y="4952880"/>
              <a:ext cx="106668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P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572000"/>
              <a:ext cx="38124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52320" y="4952880"/>
              <a:ext cx="38124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14600" y="5638680"/>
            <a:ext cx="36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Supply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(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P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meriGarmnd BT"/>
              </a:rPr>
              <a:t>PaID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4B9-42D3-4500-BD69-99FFD27B9E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170B2-8EB8-436C-AA8B-2ADFDB314E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7160" y="3581280"/>
            <a:ext cx="51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Marry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 (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husband_SS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, </a:t>
            </a:r>
            <a:r>
              <a:rPr b="0" i="1" lang="en-US" sz="2800" spc="-1" strike="noStrike">
                <a:solidFill>
                  <a:srgbClr val="330066"/>
                </a:solidFill>
                <a:latin typeface="AmeriGarmnd BT"/>
              </a:rPr>
              <a:t>wife_SSN</a:t>
            </a:r>
            <a:r>
              <a:rPr b="0" lang="en-US" sz="2800" spc="-1" strike="noStrike">
                <a:solidFill>
                  <a:srgbClr val="330066"/>
                </a:solidFill>
                <a:latin typeface="AmeriGarmnd B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447920" y="1523880"/>
            <a:ext cx="4267080" cy="1526760"/>
            <a:chOff x="1447920" y="1523880"/>
            <a:chExt cx="4267080" cy="1526760"/>
          </a:xfrm>
        </p:grpSpPr>
        <p:grpSp>
          <p:nvGrpSpPr>
            <p:cNvPr id="300" name=""/>
            <p:cNvGrpSpPr/>
            <p:nvPr/>
          </p:nvGrpSpPr>
          <p:grpSpPr>
            <a:xfrm>
              <a:off x="2895480" y="1523880"/>
              <a:ext cx="2819520" cy="1526760"/>
              <a:chOff x="2895480" y="1523880"/>
              <a:chExt cx="2819520" cy="1526760"/>
            </a:xfrm>
          </p:grpSpPr>
          <p:sp>
            <p:nvSpPr>
              <p:cNvPr id="301" name=""/>
              <p:cNvSpPr/>
              <p:nvPr/>
            </p:nvSpPr>
            <p:spPr>
              <a:xfrm>
                <a:off x="2895480" y="2070000"/>
                <a:ext cx="9907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meriGarmnd BT"/>
                  </a:rPr>
                  <a:t>Pers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72000" y="1994040"/>
                <a:ext cx="1143000" cy="609480"/>
              </a:xfrm>
              <a:prstGeom prst="flowChartDecision">
                <a:avLst/>
              </a:prstGeom>
              <a:noFill/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Mar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86200" y="1905120"/>
                <a:ext cx="990720" cy="241200"/>
              </a:xfrm>
              <a:custGeom>
                <a:avLst/>
                <a:gdLst/>
                <a:ahLst/>
                <a:rect l="l" t="t" r="r" b="b"/>
                <a:pathLst>
                  <a:path w="624" h="152">
                    <a:moveTo>
                      <a:pt x="0" y="104"/>
                    </a:moveTo>
                    <a:cubicBezTo>
                      <a:pt x="92" y="52"/>
                      <a:pt x="184" y="0"/>
                      <a:pt x="288" y="8"/>
                    </a:cubicBezTo>
                    <a:cubicBezTo>
                      <a:pt x="392" y="16"/>
                      <a:pt x="508" y="84"/>
                      <a:pt x="624" y="152"/>
                    </a:cubicBezTo>
                  </a:path>
                </a:pathLst>
              </a:custGeom>
              <a:noFill/>
              <a:ln w="25560">
                <a:solidFill>
                  <a:srgbClr val="330066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886200" y="2451240"/>
                <a:ext cx="990720" cy="241200"/>
              </a:xfrm>
              <a:custGeom>
                <a:avLst/>
                <a:gdLst/>
                <a:ahLst/>
                <a:rect l="l" t="t" r="r" b="b"/>
                <a:pathLst>
                  <a:path w="624" h="152">
                    <a:moveTo>
                      <a:pt x="0" y="104"/>
                    </a:moveTo>
                    <a:cubicBezTo>
                      <a:pt x="92" y="52"/>
                      <a:pt x="184" y="0"/>
                      <a:pt x="288" y="8"/>
                    </a:cubicBezTo>
                    <a:cubicBezTo>
                      <a:pt x="392" y="16"/>
                      <a:pt x="508" y="84"/>
                      <a:pt x="624" y="152"/>
                    </a:cubicBezTo>
                  </a:path>
                </a:pathLst>
              </a:custGeom>
              <a:noFill/>
              <a:ln w="25560">
                <a:solidFill>
                  <a:srgbClr val="330066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68400" y="1523880"/>
                <a:ext cx="136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husban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78000" y="2590920"/>
                <a:ext cx="73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0066"/>
                    </a:solidFill>
                    <a:latin typeface="AmeriGarmnd BT"/>
                  </a:rPr>
                  <a:t>wif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447920" y="20574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meriGarmnd BT"/>
                </a:rPr>
                <a:t>SS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14600" y="2286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505320" y="4114800"/>
            <a:ext cx="175248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4114800"/>
            <a:ext cx="114300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D13-A554-41D3-9231-19B55496565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443CA-0AFC-459D-A7C2-7D7AA95EB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ep It Simple, Stup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redund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wastes space, complicates updates and deletes, promotes inconsist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essential constraints, but don’t introduce unnecessar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your common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arning: Mechanical translation procedures given in this lecture are no substitute for your own judg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65D-C2CD-4FA9-B590-2FD4D7B159E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AE5C7-63A1-4A5D-A776-9F323C34DA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38080" y="1828800"/>
          <a:ext cx="76201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620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1066680"/>
            <a:ext cx="8610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 of quiz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D7E-D579-41B0-AB1D-704A2549F5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26000-95F7-4591-9E06-9D275F5BA5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-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1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N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:N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ic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value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1066680"/>
            <a:ext cx="5638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, including the primary key from the 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as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d relation, Foreign key, 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eign key, 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ship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rimary k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set of attribu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elation and foreig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AE2-CD29-4033-9F4F-26D2ACDD44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A84EB-5DAC-4797-A672-27FE55D494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emporary vari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foreign key to join re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minus in non-monotonic oper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694-8E51-4E13-82B1-F5452E3D84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E0EED-BD03-40EE-A3FB-6D53FFDA2E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database design: Translation ER to relation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EC8-E2F3-4EE9-B9D2-E0DC585256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A9C04-EBB3-46B9-B3DC-3EF0F597B3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505320"/>
            <a:ext cx="2787480" cy="16761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411480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28F-B6AF-43B7-BA90-EC85428CF2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CE97F-9FE0-450A-A96C-F1BBC363DBE3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 steps: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mini-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it using a database design model (e.g., E/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specification to the data model of DBMS (e.g., rela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BM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translating E/R design to relation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76F-A370-456B-AFFE-DDAA6CD12B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90AB7-627D-4056-B3C0-E95F3DFA22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/R model: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ak entity s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on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 versu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ary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ry relationships with weak entity sets and binary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E3A-C34A-4807-BE92-C10F6EFE7F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295F7-0A53-47D5-8F1C-7F62ABB248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entity s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set translates directly to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tribute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attributes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3276720"/>
            <a:ext cx="8001000" cy="1523880"/>
            <a:chOff x="457200" y="3276720"/>
            <a:chExt cx="8001000" cy="1523880"/>
          </a:xfrm>
        </p:grpSpPr>
        <p:sp>
          <p:nvSpPr>
            <p:cNvPr id="114" name=""/>
            <p:cNvSpPr/>
            <p:nvPr/>
          </p:nvSpPr>
          <p:spPr>
            <a:xfrm>
              <a:off x="190512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15000" y="3505320"/>
              <a:ext cx="1371600" cy="60948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3429000"/>
              <a:ext cx="1523880" cy="76212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27672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38862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23880" y="350532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23520" y="3886200"/>
              <a:ext cx="38124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6720" y="3810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800" y="381024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086600" y="350496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86600" y="3886200"/>
              <a:ext cx="304920" cy="2286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343400"/>
              <a:ext cx="1066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gr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419112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64920" y="5029200"/>
            <a:ext cx="7292880" cy="459720"/>
            <a:chOff x="664920" y="5029200"/>
            <a:chExt cx="7292880" cy="459720"/>
          </a:xfrm>
        </p:grpSpPr>
        <p:sp>
          <p:nvSpPr>
            <p:cNvPr id="130" name=""/>
            <p:cNvSpPr/>
            <p:nvPr/>
          </p:nvSpPr>
          <p:spPr>
            <a:xfrm>
              <a:off x="664920" y="5029200"/>
              <a:ext cx="28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S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nam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8440" y="5029200"/>
              <a:ext cx="25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 (</a:t>
              </a:r>
              <a:r>
                <a:rPr b="0" i="1" lang="en-US" sz="2400" spc="-1" strike="noStrike" u="sng">
                  <a:solidFill>
                    <a:srgbClr val="330066"/>
                  </a:solidFill>
                  <a:uFillTx/>
                  <a:latin typeface="AmeriGarmnd BT"/>
                </a:rPr>
                <a:t>CID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, </a:t>
              </a: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itle</a:t>
              </a: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508-30B6-45B1-8711-8EAD57DBC4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D0CEC-4CDA-4EE7-99A2-AF32A0CFA6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lating entity set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multi-valued attributes (called first Normal 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osite attributes is broken down into a list of atomic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E5C-BFAF-47A6-87C8-6D636BC401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F5149-439E-4578-B396-6C2CD3A63C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07T20:01:53Z</dcterms:modified>
  <cp:revision>819</cp:revision>
  <dc:subject/>
  <dc:title>CS186: Introduction to Database Systems</dc:title>
</cp:coreProperties>
</file>