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FE1534D-0A3F-4835-ACEE-7B684E83D0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54B35CB-2EEE-40F4-85B3-225CB8FD38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040B3A2-943D-4098-9DBA-66DF119E46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of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2PL *necessary* for CS schedu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792B454-04E7-42F6-8356-01E711524F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2DABEF6-B1C9-48E7-A33C-360681BEDD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A99A3D1-EBE8-4360-B58B-AFABDCB9C9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000080" y="773280"/>
            <a:ext cx="5100840" cy="382572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39B0452-E20D-472A-80C7-EADA4D9493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000080" y="773280"/>
            <a:ext cx="5100840" cy="382572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B535738-98DB-41F5-BDAF-503A41A645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000080" y="773280"/>
            <a:ext cx="5100840" cy="382572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2FA774B-BD66-48F0-BC2A-3A7264C162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000080" y="773280"/>
            <a:ext cx="5100840" cy="382572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133FBAA-3D29-4221-AC84-51D5A0FCDA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000080" y="773280"/>
            <a:ext cx="5100840" cy="382572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89F0B70-D8BB-42AC-AA2B-F28635F030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000080" y="773280"/>
            <a:ext cx="5100840" cy="382572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C8F06C5-A680-46CF-888C-675FE6277F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1855F19-4189-4005-9091-07C044F518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000080" y="773280"/>
            <a:ext cx="5100840" cy="382572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2A15063-0F92-4599-B2E0-30842C8D88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000080" y="773280"/>
            <a:ext cx="5100840" cy="382572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D1F30D6-59D2-4AB3-A0DE-F0333B6A6A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000080" y="773280"/>
            <a:ext cx="5100840" cy="382572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3D0083A-2DFB-44C3-A4C7-17D039CA8B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000080" y="773280"/>
            <a:ext cx="5100840" cy="382572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EEDA3ED-7226-44B0-8F6D-4433A54CD2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000080" y="773280"/>
            <a:ext cx="5100840" cy="382572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B85EA14-D564-49F9-A65C-15A2134EB0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6A57B9E-AD5B-4527-860C-8A8076F56B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6E8161D-2635-4502-806C-73408FC1B8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814DAEF-6A5D-40E4-B965-761BBC216A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310394D-EEF6-4BBE-93E8-20E116073A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9926-615E-4C25-A531-9C123401D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63DC-59FF-495A-9CB3-CF97D024E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3BB3-4A39-407B-BFD6-2B609F3DD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0A02-0638-410B-B346-1158C6317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A8E0-2186-406F-BFE3-0A0932B6F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06EB-522F-4259-94B8-5439F59C4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F35E-2BD0-429F-A065-BB275AFA6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79DF-8564-41A9-8CA8-17C0C051F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F544-54F9-4B30-A35B-128CD9D91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9079-B7FE-4B67-84C7-925D206C7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8C9E-57B1-4AC1-8EEE-6C715404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DD2F-F66E-4E59-AA54-7B61B1BC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1240" indent="-292320">
              <a:spcBef>
                <a:spcPts val="7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98760" indent="-316080">
              <a:spcBef>
                <a:spcPts val="700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103DD-5399-47B0-AA12-672CB703EAED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1AFDE-120E-46AC-ADFE-FAAC7087437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0" y="837720"/>
            <a:ext cx="9016920" cy="77760"/>
          </a:xfrm>
          <a:custGeom>
            <a:avLst/>
            <a:gdLst/>
            <a:ahLst/>
            <a:rect l="l" t="t" r="r" b="b"/>
            <a:pathLst>
              <a:path w="6344" h="1">
                <a:moveTo>
                  <a:pt x="0" y="0"/>
                </a:moveTo>
                <a:lnTo>
                  <a:pt x="6344" y="0"/>
                </a:lnTo>
              </a:path>
            </a:pathLst>
          </a:custGeom>
          <a:solidFill>
            <a:srgbClr val="af8a01"/>
          </a:solidFill>
          <a:ln w="38160">
            <a:solidFill>
              <a:srgbClr val="ef9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5720" y="466200"/>
            <a:ext cx="8218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791320" y="3962520"/>
            <a:ext cx="3120840" cy="2708280"/>
            <a:chOff x="5791320" y="3962520"/>
            <a:chExt cx="3120840" cy="2708280"/>
          </a:xfrm>
        </p:grpSpPr>
        <p:sp>
          <p:nvSpPr>
            <p:cNvPr id="44" name=""/>
            <p:cNvSpPr/>
            <p:nvPr/>
          </p:nvSpPr>
          <p:spPr>
            <a:xfrm>
              <a:off x="5791320" y="5908680"/>
              <a:ext cx="3120840" cy="762120"/>
            </a:xfrm>
            <a:prstGeom prst="ellipse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791320" y="4383360"/>
              <a:ext cx="3120840" cy="1904760"/>
            </a:xfrm>
            <a:prstGeom prst="rect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5791320" y="3962520"/>
              <a:ext cx="3120840" cy="76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693720" algn="ctr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1752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EECS 647: Introduction to Database Systems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332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ructor: Luke Hua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pring 200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3276720"/>
            <a:ext cx="1776240" cy="317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ic locking is not enoug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04960" y="996840"/>
            <a:ext cx="1800720" cy="56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meriGarmnd BT"/>
              </a:rPr>
              <a:t>1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meriGarmnd BT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meriGarmnd BT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meriGarmnd BT"/>
              </a:rPr>
              <a:t>2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r(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w(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)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r(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w(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)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r(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w(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r(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w(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46640" y="167652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419720" y="1295280"/>
            <a:ext cx="0" cy="5334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251640" y="1609560"/>
            <a:ext cx="5653440" cy="5260320"/>
            <a:chOff x="251640" y="1609560"/>
            <a:chExt cx="5653440" cy="5260320"/>
          </a:xfrm>
        </p:grpSpPr>
        <p:sp>
          <p:nvSpPr>
            <p:cNvPr id="147" name=""/>
            <p:cNvSpPr/>
            <p:nvPr/>
          </p:nvSpPr>
          <p:spPr>
            <a:xfrm>
              <a:off x="2956680" y="1609560"/>
              <a:ext cx="138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AmeriGarmnd BT"/>
                </a:rPr>
                <a:t>lock-X(</a:t>
              </a:r>
              <a:r>
                <a:rPr b="0" i="1" lang="en-US" sz="2400" spc="-1" strike="noStrike">
                  <a:solidFill>
                    <a:srgbClr val="00ff00"/>
                  </a:solidFill>
                  <a:latin typeface="AmeriGarmnd BT"/>
                </a:rPr>
                <a:t>A</a:t>
              </a:r>
              <a:r>
                <a:rPr b="0" lang="en-US" sz="2400" spc="-1" strike="noStrike">
                  <a:solidFill>
                    <a:srgbClr val="00ff00"/>
                  </a:solidFill>
                  <a:latin typeface="AmeriGarmnd BT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418280" y="4200480"/>
              <a:ext cx="139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AmeriGarmnd BT"/>
                </a:rPr>
                <a:t>lock-X(</a:t>
              </a:r>
              <a:r>
                <a:rPr b="0" i="1" lang="en-US" sz="2400" spc="-1" strike="noStrike">
                  <a:solidFill>
                    <a:srgbClr val="00ff00"/>
                  </a:solidFill>
                  <a:latin typeface="AmeriGarmnd BT"/>
                </a:rPr>
                <a:t>B</a:t>
              </a:r>
              <a:r>
                <a:rPr b="0" lang="en-US" sz="2400" spc="-1" strike="noStrike">
                  <a:solidFill>
                    <a:srgbClr val="00ff00"/>
                  </a:solidFill>
                  <a:latin typeface="AmeriGarmnd BT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929680" y="6410160"/>
              <a:ext cx="149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AmeriGarmnd BT"/>
                </a:rPr>
                <a:t>unlock(</a:t>
              </a:r>
              <a:r>
                <a:rPr b="0" i="1" lang="en-US" sz="2400" spc="-1" strike="noStrike">
                  <a:solidFill>
                    <a:srgbClr val="00ff00"/>
                  </a:solidFill>
                  <a:latin typeface="AmeriGarmnd BT"/>
                </a:rPr>
                <a:t>B</a:t>
              </a:r>
              <a:r>
                <a:rPr b="0" lang="en-US" sz="2400" spc="-1" strike="noStrike">
                  <a:solidFill>
                    <a:srgbClr val="00ff00"/>
                  </a:solidFill>
                  <a:latin typeface="AmeriGarmnd BT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944440" y="2600280"/>
              <a:ext cx="148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AmeriGarmnd BT"/>
                </a:rPr>
                <a:t>unlock(</a:t>
              </a:r>
              <a:r>
                <a:rPr b="0" i="1" lang="en-US" sz="2400" spc="-1" strike="noStrike">
                  <a:solidFill>
                    <a:srgbClr val="00ff00"/>
                  </a:solidFill>
                  <a:latin typeface="AmeriGarmnd BT"/>
                </a:rPr>
                <a:t>A</a:t>
              </a:r>
              <a:r>
                <a:rPr b="0" lang="en-US" sz="2400" spc="-1" strike="noStrike">
                  <a:solidFill>
                    <a:srgbClr val="00ff00"/>
                  </a:solidFill>
                  <a:latin typeface="AmeriGarmnd BT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404600" y="2828880"/>
              <a:ext cx="138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AmeriGarmnd BT"/>
                </a:rPr>
                <a:t>lock-X(</a:t>
              </a:r>
              <a:r>
                <a:rPr b="0" i="1" lang="en-US" sz="2400" spc="-1" strike="noStrike">
                  <a:solidFill>
                    <a:srgbClr val="00ff00"/>
                  </a:solidFill>
                  <a:latin typeface="AmeriGarmnd BT"/>
                </a:rPr>
                <a:t>A</a:t>
              </a:r>
              <a:r>
                <a:rPr b="0" lang="en-US" sz="2400" spc="-1" strike="noStrike">
                  <a:solidFill>
                    <a:srgbClr val="00ff00"/>
                  </a:solidFill>
                  <a:latin typeface="AmeriGarmnd BT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346280" y="3895560"/>
              <a:ext cx="148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AmeriGarmnd BT"/>
                </a:rPr>
                <a:t>unlock(</a:t>
              </a:r>
              <a:r>
                <a:rPr b="0" i="1" lang="en-US" sz="2400" spc="-1" strike="noStrike">
                  <a:solidFill>
                    <a:srgbClr val="00ff00"/>
                  </a:solidFill>
                  <a:latin typeface="AmeriGarmnd BT"/>
                </a:rPr>
                <a:t>A</a:t>
              </a:r>
              <a:r>
                <a:rPr b="0" lang="en-US" sz="2400" spc="-1" strike="noStrike">
                  <a:solidFill>
                    <a:srgbClr val="00ff00"/>
                  </a:solidFill>
                  <a:latin typeface="AmeriGarmnd BT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07480" y="5114880"/>
              <a:ext cx="149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AmeriGarmnd BT"/>
                </a:rPr>
                <a:t>unlock(</a:t>
              </a:r>
              <a:r>
                <a:rPr b="0" i="1" lang="en-US" sz="2400" spc="-1" strike="noStrike">
                  <a:solidFill>
                    <a:srgbClr val="00ff00"/>
                  </a:solidFill>
                  <a:latin typeface="AmeriGarmnd BT"/>
                </a:rPr>
                <a:t>B</a:t>
              </a:r>
              <a:r>
                <a:rPr b="0" lang="en-US" sz="2400" spc="-1" strike="noStrike">
                  <a:solidFill>
                    <a:srgbClr val="00ff00"/>
                  </a:solidFill>
                  <a:latin typeface="AmeriGarmnd BT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94040" y="5419800"/>
              <a:ext cx="139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AmeriGarmnd BT"/>
                </a:rPr>
                <a:t>lock-X(</a:t>
              </a:r>
              <a:r>
                <a:rPr b="0" i="1" lang="en-US" sz="2400" spc="-1" strike="noStrike">
                  <a:solidFill>
                    <a:srgbClr val="00ff00"/>
                  </a:solidFill>
                  <a:latin typeface="AmeriGarmnd BT"/>
                </a:rPr>
                <a:t>B</a:t>
              </a:r>
              <a:r>
                <a:rPr b="0" lang="en-US" sz="2400" spc="-1" strike="noStrike">
                  <a:solidFill>
                    <a:srgbClr val="00ff00"/>
                  </a:solidFill>
                  <a:latin typeface="AmeriGarmnd BT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51640" y="3220920"/>
              <a:ext cx="2721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AmeriGarmnd BT"/>
                </a:rPr>
                <a:t>Possible schedule</a:t>
              </a:r>
              <a:br>
                <a:rPr sz="2400"/>
              </a:br>
              <a:r>
                <a:rPr b="0" lang="en-US" sz="2400" spc="-1" strike="noStrike">
                  <a:solidFill>
                    <a:srgbClr val="00ff00"/>
                  </a:solidFill>
                  <a:latin typeface="AmeriGarmnd BT"/>
                </a:rPr>
                <a:t>under lock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04920" y="2590920"/>
            <a:ext cx="6995880" cy="3276360"/>
            <a:chOff x="304920" y="2590920"/>
            <a:chExt cx="6995880" cy="3276360"/>
          </a:xfrm>
        </p:grpSpPr>
        <p:sp>
          <p:nvSpPr>
            <p:cNvPr id="157" name=""/>
            <p:cNvSpPr/>
            <p:nvPr/>
          </p:nvSpPr>
          <p:spPr>
            <a:xfrm>
              <a:off x="304920" y="419112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But still not</a:t>
              </a:r>
              <a:br>
                <a:rPr sz="2400"/>
              </a:b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conflict-serializable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718320" y="3048120"/>
              <a:ext cx="533520" cy="533160"/>
            </a:xfrm>
            <a:prstGeom prst="ellipse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718320" y="3962520"/>
              <a:ext cx="533520" cy="533160"/>
            </a:xfrm>
            <a:prstGeom prst="ellipse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807600" y="3114720"/>
              <a:ext cx="392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T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meriGarmnd BT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807600" y="4029120"/>
              <a:ext cx="392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T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meriGarmnd BT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977160" y="3581280"/>
              <a:ext cx="0" cy="3812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4191120" y="5257800"/>
              <a:ext cx="380880" cy="60948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267080" y="2590920"/>
              <a:ext cx="304920" cy="6858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48520" y="3548160"/>
              <a:ext cx="152280" cy="457200"/>
            </a:xfrm>
            <a:custGeom>
              <a:avLst/>
              <a:gdLst/>
              <a:ahLst/>
              <a:rect l="l" t="t" r="r" b="b"/>
              <a:pathLst>
                <a:path w="96" h="288">
                  <a:moveTo>
                    <a:pt x="0" y="288"/>
                  </a:moveTo>
                  <a:cubicBezTo>
                    <a:pt x="48" y="240"/>
                    <a:pt x="96" y="192"/>
                    <a:pt x="96" y="144"/>
                  </a:cubicBezTo>
                  <a:cubicBezTo>
                    <a:pt x="96" y="96"/>
                    <a:pt x="48" y="48"/>
                    <a:pt x="0" y="0"/>
                  </a:cubicBezTo>
                </a:path>
              </a:pathLst>
            </a:custGeom>
            <a:noFill/>
            <a:ln w="38160">
              <a:solidFill>
                <a:srgbClr val="330066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1528200" y="1959120"/>
            <a:ext cx="1619280" cy="779760"/>
            <a:chOff x="1528200" y="1959120"/>
            <a:chExt cx="1619280" cy="779760"/>
          </a:xfrm>
        </p:grpSpPr>
        <p:sp>
          <p:nvSpPr>
            <p:cNvPr id="167" name=""/>
            <p:cNvSpPr/>
            <p:nvPr/>
          </p:nvSpPr>
          <p:spPr>
            <a:xfrm>
              <a:off x="1837080" y="1959120"/>
              <a:ext cx="128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meriGarmnd BT"/>
                </a:rPr>
                <a:t>Read 1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28200" y="2340000"/>
              <a:ext cx="161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meriGarmnd BT"/>
                </a:rPr>
                <a:t>Write 100+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5180040" y="3254400"/>
            <a:ext cx="1613160" cy="790920"/>
            <a:chOff x="5180040" y="3254400"/>
            <a:chExt cx="1613160" cy="790920"/>
          </a:xfrm>
        </p:grpSpPr>
        <p:sp>
          <p:nvSpPr>
            <p:cNvPr id="170" name=""/>
            <p:cNvSpPr/>
            <p:nvPr/>
          </p:nvSpPr>
          <p:spPr>
            <a:xfrm>
              <a:off x="5189760" y="3254400"/>
              <a:ext cx="128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meriGarmnd BT"/>
                </a:rPr>
                <a:t>Read 10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180040" y="3646440"/>
              <a:ext cx="161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meriGarmnd BT"/>
                </a:rPr>
                <a:t>Write 101*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5180040" y="4500720"/>
            <a:ext cx="1613160" cy="779760"/>
            <a:chOff x="5180040" y="4500720"/>
            <a:chExt cx="1613160" cy="779760"/>
          </a:xfrm>
        </p:grpSpPr>
        <p:sp>
          <p:nvSpPr>
            <p:cNvPr id="173" name=""/>
            <p:cNvSpPr/>
            <p:nvPr/>
          </p:nvSpPr>
          <p:spPr>
            <a:xfrm>
              <a:off x="5189760" y="4500720"/>
              <a:ext cx="128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meriGarmnd BT"/>
                </a:rPr>
                <a:t>Read 1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180040" y="4881600"/>
              <a:ext cx="161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meriGarmnd BT"/>
                </a:rPr>
                <a:t>Write 100*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1528200" y="5780160"/>
            <a:ext cx="1619280" cy="779760"/>
            <a:chOff x="1528200" y="5780160"/>
            <a:chExt cx="1619280" cy="779760"/>
          </a:xfrm>
        </p:grpSpPr>
        <p:sp>
          <p:nvSpPr>
            <p:cNvPr id="176" name=""/>
            <p:cNvSpPr/>
            <p:nvPr/>
          </p:nvSpPr>
          <p:spPr>
            <a:xfrm>
              <a:off x="1837080" y="5780160"/>
              <a:ext cx="128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meriGarmnd BT"/>
                </a:rPr>
                <a:t>Read 2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528200" y="6161040"/>
              <a:ext cx="161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meriGarmnd BT"/>
                </a:rPr>
                <a:t>Write 200+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900000" y="1073160"/>
            <a:ext cx="7384680" cy="703800"/>
            <a:chOff x="900000" y="1073160"/>
            <a:chExt cx="7384680" cy="703800"/>
          </a:xfrm>
        </p:grpSpPr>
        <p:sp>
          <p:nvSpPr>
            <p:cNvPr id="179" name=""/>
            <p:cNvSpPr/>
            <p:nvPr/>
          </p:nvSpPr>
          <p:spPr>
            <a:xfrm>
              <a:off x="900000" y="1073160"/>
              <a:ext cx="2754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meriGarmnd BT"/>
                </a:rPr>
                <a:t>Add 1 to both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AmeriGarmnd BT"/>
                </a:rPr>
                <a:t>A</a:t>
              </a:r>
              <a:r>
                <a:rPr b="0" lang="en-US" sz="2000" spc="-1" strike="noStrike">
                  <a:solidFill>
                    <a:srgbClr val="ff0000"/>
                  </a:solidFill>
                  <a:latin typeface="AmeriGarmnd BT"/>
                </a:rPr>
                <a:t> and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AmeriGarmnd BT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meriGarmnd BT"/>
                </a:rPr>
                <a:t>(preserve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AmeriGarmnd BT"/>
                </a:rPr>
                <a:t>A</a:t>
              </a:r>
              <a:r>
                <a:rPr b="0" lang="en-US" sz="2000" spc="-1" strike="noStrike">
                  <a:solidFill>
                    <a:srgbClr val="ff0000"/>
                  </a:solidFill>
                  <a:latin typeface="AmeriGarmnd BT"/>
                </a:rPr>
                <a:t>=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AmeriGarmnd BT"/>
                </a:rPr>
                <a:t>B</a:t>
              </a:r>
              <a:r>
                <a:rPr b="0" lang="en-US" sz="2000" spc="-1" strike="noStrike">
                  <a:solidFill>
                    <a:srgbClr val="ff0000"/>
                  </a:solidFill>
                  <a:latin typeface="AmeriGarmnd BT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004360" y="1073160"/>
              <a:ext cx="3280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meriGarmnd BT"/>
                </a:rPr>
                <a:t>Multiply both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AmeriGarmnd BT"/>
                </a:rPr>
                <a:t>A</a:t>
              </a:r>
              <a:r>
                <a:rPr b="0" lang="en-US" sz="2000" spc="-1" strike="noStrike">
                  <a:solidFill>
                    <a:srgbClr val="ff0000"/>
                  </a:solidFill>
                  <a:latin typeface="AmeriGarmnd BT"/>
                </a:rPr>
                <a:t> and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AmeriGarmnd BT"/>
                </a:rPr>
                <a:t>B</a:t>
              </a:r>
              <a:r>
                <a:rPr b="0" lang="en-US" sz="2000" spc="-1" strike="noStrike">
                  <a:solidFill>
                    <a:srgbClr val="ff0000"/>
                  </a:solidFill>
                  <a:latin typeface="AmeriGarmnd BT"/>
                </a:rPr>
                <a:t> by 2</a:t>
              </a:r>
              <a:br>
                <a:rPr sz="2000"/>
              </a:br>
              <a:r>
                <a:rPr b="0" lang="en-US" sz="2000" spc="-1" strike="noStrike">
                  <a:solidFill>
                    <a:srgbClr val="ff0000"/>
                  </a:solidFill>
                  <a:latin typeface="AmeriGarmnd BT"/>
                </a:rPr>
                <a:t>(preserves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AmeriGarmnd BT"/>
                </a:rPr>
                <a:t>A</a:t>
              </a:r>
              <a:r>
                <a:rPr b="0" lang="en-US" sz="2000" spc="-1" strike="noStrike">
                  <a:solidFill>
                    <a:srgbClr val="ff0000"/>
                  </a:solidFill>
                  <a:latin typeface="AmeriGarmnd BT"/>
                </a:rPr>
                <a:t>=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AmeriGarmnd BT"/>
                </a:rPr>
                <a:t>B</a:t>
              </a:r>
              <a:r>
                <a:rPr b="0" lang="en-US" sz="2000" spc="-1" strike="noStrike">
                  <a:solidFill>
                    <a:srgbClr val="ff0000"/>
                  </a:solidFill>
                  <a:latin typeface="AmeriGarmnd BT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5682960" y="5805360"/>
            <a:ext cx="87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meriGarmnd BT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meriGarmnd BT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ff0000"/>
                </a:solidFill>
                <a:latin typeface="AmeriGarmnd BT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AmeriGarmnd BT"/>
              </a:rPr>
              <a:t>B</a:t>
            </a:r>
            <a:r>
              <a:rPr b="0" lang="en-US" sz="2000" spc="-1" strike="noStrike">
                <a:solidFill>
                  <a:srgbClr val="ff0000"/>
                </a:solidFill>
                <a:latin typeface="AmeriGarmnd BT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860F-E561-4C3E-A019-74A95ECA50B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4C7792-FF37-4D4A-95B4-E0BA07A1F23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-phase locking (2PL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lock requests precede all unlock requ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hase 1: obtain locks, phase 2: release lock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587240" y="2422440"/>
            <a:ext cx="1613160" cy="4135320"/>
            <a:chOff x="1587240" y="2422440"/>
            <a:chExt cx="1613160" cy="4135320"/>
          </a:xfrm>
        </p:grpSpPr>
        <p:sp>
          <p:nvSpPr>
            <p:cNvPr id="185" name=""/>
            <p:cNvSpPr/>
            <p:nvPr/>
          </p:nvSpPr>
          <p:spPr>
            <a:xfrm>
              <a:off x="1587240" y="2422440"/>
              <a:ext cx="1599480" cy="40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 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T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meriGarmnd BT"/>
                </a:rPr>
                <a:t>1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meriGarmnd BT"/>
                </a:rPr>
                <a:t>	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meriGarmnd BT"/>
                </a:rPr>
                <a:t> 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T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meriGarmnd BT"/>
                </a:rPr>
                <a:t>2</a:t>
              </a:r>
              <a:br>
                <a:rPr sz="2000"/>
              </a:b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r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w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000"/>
              </a:br>
              <a:br>
                <a:rPr sz="2000"/>
              </a:b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r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w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000"/>
              </a:b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r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B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w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B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 r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B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w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B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676520" y="2833560"/>
              <a:ext cx="1523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438280" y="2452320"/>
              <a:ext cx="0" cy="4105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902880" y="2789280"/>
            <a:ext cx="1290600" cy="3994200"/>
            <a:chOff x="902880" y="2789280"/>
            <a:chExt cx="1290600" cy="3994200"/>
          </a:xfrm>
        </p:grpSpPr>
        <p:sp>
          <p:nvSpPr>
            <p:cNvPr id="189" name=""/>
            <p:cNvSpPr/>
            <p:nvPr/>
          </p:nvSpPr>
          <p:spPr>
            <a:xfrm>
              <a:off x="906120" y="2789280"/>
              <a:ext cx="118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meriGarmnd BT"/>
                </a:rPr>
                <a:t>lock-X(</a:t>
              </a:r>
              <a:r>
                <a:rPr b="0" i="1" lang="en-US" sz="2000" spc="-1" strike="noStrike">
                  <a:solidFill>
                    <a:srgbClr val="00ff00"/>
                  </a:solidFill>
                  <a:latin typeface="AmeriGarmnd BT"/>
                </a:rPr>
                <a:t>A</a:t>
              </a:r>
              <a:r>
                <a:rPr b="0" lang="en-US" sz="2000" spc="-1" strike="noStrike">
                  <a:solidFill>
                    <a:srgbClr val="00ff00"/>
                  </a:solidFill>
                  <a:latin typeface="AmeriGarmnd BT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916560" y="3592440"/>
              <a:ext cx="119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meriGarmnd BT"/>
                </a:rPr>
                <a:t>lock-X(</a:t>
              </a:r>
              <a:r>
                <a:rPr b="0" i="1" lang="en-US" sz="2000" spc="-1" strike="noStrike">
                  <a:solidFill>
                    <a:srgbClr val="00ff00"/>
                  </a:solidFill>
                  <a:latin typeface="AmeriGarmnd BT"/>
                </a:rPr>
                <a:t>B</a:t>
              </a:r>
              <a:r>
                <a:rPr b="0" lang="en-US" sz="2000" spc="-1" strike="noStrike">
                  <a:solidFill>
                    <a:srgbClr val="00ff00"/>
                  </a:solidFill>
                  <a:latin typeface="AmeriGarmnd BT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916920" y="6384600"/>
              <a:ext cx="127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meriGarmnd BT"/>
                </a:rPr>
                <a:t>unlock(</a:t>
              </a:r>
              <a:r>
                <a:rPr b="0" i="1" lang="en-US" sz="2000" spc="-1" strike="noStrike">
                  <a:solidFill>
                    <a:srgbClr val="00ff00"/>
                  </a:solidFill>
                  <a:latin typeface="AmeriGarmnd BT"/>
                </a:rPr>
                <a:t>B</a:t>
              </a:r>
              <a:r>
                <a:rPr b="0" lang="en-US" sz="2000" spc="-1" strike="noStrike">
                  <a:solidFill>
                    <a:srgbClr val="00ff00"/>
                  </a:solidFill>
                  <a:latin typeface="AmeriGarmnd BT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902880" y="3858840"/>
              <a:ext cx="126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meriGarmnd BT"/>
                </a:rPr>
                <a:t>unlock(</a:t>
              </a:r>
              <a:r>
                <a:rPr b="0" i="1" lang="en-US" sz="2000" spc="-1" strike="noStrike">
                  <a:solidFill>
                    <a:srgbClr val="00ff00"/>
                  </a:solidFill>
                  <a:latin typeface="AmeriGarmnd BT"/>
                </a:rPr>
                <a:t>A</a:t>
              </a:r>
              <a:r>
                <a:rPr b="0" lang="en-US" sz="2000" spc="-1" strike="noStrike">
                  <a:solidFill>
                    <a:srgbClr val="00ff00"/>
                  </a:solidFill>
                  <a:latin typeface="AmeriGarmnd BT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2452320" y="4022640"/>
            <a:ext cx="1230120" cy="1248120"/>
            <a:chOff x="2452320" y="4022640"/>
            <a:chExt cx="1230120" cy="1248120"/>
          </a:xfrm>
        </p:grpSpPr>
        <p:sp>
          <p:nvSpPr>
            <p:cNvPr id="194" name=""/>
            <p:cNvSpPr/>
            <p:nvPr/>
          </p:nvSpPr>
          <p:spPr>
            <a:xfrm>
              <a:off x="2452320" y="4022640"/>
              <a:ext cx="118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66"/>
                  </a:solidFill>
                  <a:latin typeface="AmeriGarmnd BT"/>
                </a:rPr>
                <a:t>lock-X(</a:t>
              </a:r>
              <a:r>
                <a:rPr b="0" i="1" lang="en-US" sz="2000" spc="-1" strike="noStrike">
                  <a:solidFill>
                    <a:srgbClr val="330066"/>
                  </a:solidFill>
                  <a:latin typeface="AmeriGarmnd BT"/>
                </a:rPr>
                <a:t>A</a:t>
              </a:r>
              <a:r>
                <a:rPr b="0" lang="en-US" sz="2000" spc="-1" strike="noStrike">
                  <a:solidFill>
                    <a:srgbClr val="330066"/>
                  </a:solidFill>
                  <a:latin typeface="AmeriGarmnd BT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488320" y="4871880"/>
              <a:ext cx="119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66"/>
                  </a:solidFill>
                  <a:latin typeface="AmeriGarmnd BT"/>
                </a:rPr>
                <a:t>lock-X(</a:t>
              </a:r>
              <a:r>
                <a:rPr b="0" i="1" lang="en-US" sz="2000" spc="-1" strike="noStrike">
                  <a:solidFill>
                    <a:srgbClr val="330066"/>
                  </a:solidFill>
                  <a:latin typeface="AmeriGarmnd BT"/>
                </a:rPr>
                <a:t>B</a:t>
              </a:r>
              <a:r>
                <a:rPr b="0" lang="en-US" sz="2000" spc="-1" strike="noStrike">
                  <a:solidFill>
                    <a:srgbClr val="330066"/>
                  </a:solidFill>
                  <a:latin typeface="AmeriGarmnd BT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2209680" y="5262480"/>
            <a:ext cx="4268520" cy="1295280"/>
            <a:chOff x="2209680" y="5262480"/>
            <a:chExt cx="4268520" cy="1295280"/>
          </a:xfrm>
        </p:grpSpPr>
        <p:sp>
          <p:nvSpPr>
            <p:cNvPr id="197" name=""/>
            <p:cNvSpPr/>
            <p:nvPr/>
          </p:nvSpPr>
          <p:spPr>
            <a:xfrm>
              <a:off x="3005640" y="5714640"/>
              <a:ext cx="3472560" cy="7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66"/>
                  </a:solidFill>
                  <a:latin typeface="AmeriGarmnd BT"/>
                </a:rPr>
                <a:t>Cannot obtain the lock on </a:t>
              </a:r>
              <a:r>
                <a:rPr b="0" i="1" lang="en-US" sz="2000" spc="-1" strike="noStrike">
                  <a:solidFill>
                    <a:srgbClr val="330066"/>
                  </a:solidFill>
                  <a:latin typeface="AmeriGarmnd BT"/>
                </a:rPr>
                <a:t>B</a:t>
              </a:r>
              <a:br>
                <a:rPr sz="2000"/>
              </a:br>
              <a:r>
                <a:rPr b="0" lang="en-US" sz="2000" spc="-1" strike="noStrike">
                  <a:solidFill>
                    <a:srgbClr val="330066"/>
                  </a:solidFill>
                  <a:latin typeface="AmeriGarmnd BT"/>
                </a:rPr>
                <a:t>until </a:t>
              </a:r>
              <a:r>
                <a:rPr b="0" i="1" lang="en-US" sz="2000" spc="-1" strike="noStrike">
                  <a:solidFill>
                    <a:srgbClr val="330066"/>
                  </a:solidFill>
                  <a:latin typeface="AmeriGarmnd BT"/>
                </a:rPr>
                <a:t>T</a:t>
              </a:r>
              <a:r>
                <a:rPr b="0" lang="en-US" sz="2000" spc="-1" strike="noStrike" baseline="-25000">
                  <a:solidFill>
                    <a:srgbClr val="330066"/>
                  </a:solidFill>
                  <a:latin typeface="AmeriGarmnd BT"/>
                </a:rPr>
                <a:t>1</a:t>
              </a:r>
              <a:r>
                <a:rPr b="0" lang="en-US" sz="2000" spc="-1" strike="noStrike">
                  <a:solidFill>
                    <a:srgbClr val="330066"/>
                  </a:solidFill>
                  <a:latin typeface="AmeriGarmnd BT"/>
                </a:rPr>
                <a:t> unlock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209680" y="5262480"/>
              <a:ext cx="1219320" cy="1295280"/>
            </a:xfrm>
            <a:custGeom>
              <a:avLst/>
              <a:gdLst/>
              <a:ahLst/>
              <a:rect l="l" t="t" r="r" b="b"/>
              <a:pathLst>
                <a:path w="912" h="864">
                  <a:moveTo>
                    <a:pt x="912" y="0"/>
                  </a:moveTo>
                  <a:cubicBezTo>
                    <a:pt x="820" y="240"/>
                    <a:pt x="728" y="480"/>
                    <a:pt x="576" y="624"/>
                  </a:cubicBezTo>
                  <a:cubicBezTo>
                    <a:pt x="424" y="768"/>
                    <a:pt x="212" y="816"/>
                    <a:pt x="0" y="864"/>
                  </a:cubicBezTo>
                </a:path>
              </a:pathLst>
            </a:custGeom>
            <a:noFill/>
            <a:ln w="38160">
              <a:solidFill>
                <a:srgbClr val="330066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86200" y="2422440"/>
            <a:ext cx="3575160" cy="3220920"/>
            <a:chOff x="3886200" y="2422440"/>
            <a:chExt cx="3575160" cy="3220920"/>
          </a:xfrm>
        </p:grpSpPr>
        <p:sp>
          <p:nvSpPr>
            <p:cNvPr id="200" name=""/>
            <p:cNvSpPr/>
            <p:nvPr/>
          </p:nvSpPr>
          <p:spPr>
            <a:xfrm>
              <a:off x="5848200" y="2422440"/>
              <a:ext cx="1599480" cy="31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 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T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meriGarmnd BT"/>
                </a:rPr>
                <a:t>1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meriGarmnd BT"/>
                </a:rPr>
                <a:t>	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meriGarmnd BT"/>
                </a:rPr>
                <a:t> 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T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meriGarmnd BT"/>
                </a:rPr>
                <a:t>2</a:t>
              </a:r>
              <a:br>
                <a:rPr sz="2000"/>
              </a:b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r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w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r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w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 r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B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w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B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r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B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w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B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937120" y="2833560"/>
              <a:ext cx="1524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705720" y="2519280"/>
              <a:ext cx="0" cy="3124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886200" y="3738240"/>
              <a:ext cx="1828800" cy="533520"/>
            </a:xfrm>
            <a:prstGeom prst="rightArrow">
              <a:avLst>
                <a:gd name="adj1" fmla="val 50000"/>
                <a:gd name="adj2" fmla="val 53258"/>
              </a:avLst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3038400" y="2627280"/>
            <a:ext cx="292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2PL guarantees a</a:t>
            </a:r>
            <a:br>
              <a:rPr sz="2400"/>
            </a:b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conflict-serializable</a:t>
            </a:r>
            <a:br>
              <a:rPr sz="2400"/>
            </a:b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2B7E-E048-4F01-8750-0328D5DB6EC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0004FE-5C2E-4D99-963A-CF2F5894842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lem of 2P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28680" y="1066680"/>
            <a:ext cx="4910040" cy="36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read uncommitted data written b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borts,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ust abort as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Cascading abor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if other transactions have read data written b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8600" y="4952880"/>
            <a:ext cx="8686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worse, what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mits befo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chedule is 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not recoverabl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f the system crashes right after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ommi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1298880" y="1378080"/>
            <a:ext cx="1599480" cy="3489840"/>
            <a:chOff x="1298880" y="1378080"/>
            <a:chExt cx="1599480" cy="3489840"/>
          </a:xfrm>
        </p:grpSpPr>
        <p:sp>
          <p:nvSpPr>
            <p:cNvPr id="209" name=""/>
            <p:cNvSpPr/>
            <p:nvPr/>
          </p:nvSpPr>
          <p:spPr>
            <a:xfrm>
              <a:off x="1298880" y="1378080"/>
              <a:ext cx="1599480" cy="348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 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T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meriGarmnd BT"/>
                </a:rPr>
                <a:t>1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meriGarmnd BT"/>
                </a:rPr>
                <a:t>	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meriGarmnd BT"/>
                </a:rPr>
                <a:t> 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T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meriGarmnd BT"/>
                </a:rPr>
                <a:t>2</a:t>
              </a:r>
              <a:br>
                <a:rPr sz="2000"/>
              </a:b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r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w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r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w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 r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B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w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B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r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B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w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B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371600" y="1789200"/>
              <a:ext cx="1523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39840" y="1414440"/>
              <a:ext cx="0" cy="340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1066680" y="434340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AmeriGarmnd BT"/>
              </a:rPr>
              <a:t>Abor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FAFF-233C-4633-AE61-EA61A66DE79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59F296-AA44-4AC1-AFCB-690BAC17B54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ict 2P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release locks at commit/abort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writer will block all other readers until the writer commits or abor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in most commercial DB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791B-E64B-488D-9901-AE2016B5685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0E025F-54B2-4B32-8E30-AC46BF4AC2D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xt ..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w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7730-2338-4FBC-9638-531526E2285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835CEE-C27B-4476-B719-97A68958FDF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609480" y="995400"/>
          <a:ext cx="7772400" cy="562464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Lock_X(A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Lock_S(A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: = A-5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Unlock(A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Unlock(A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Lock_S(B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Lock_X(B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Unlock(B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(A+B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 := B +5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Unlock(B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8" name=""/>
          <p:cNvSpPr/>
          <p:nvPr/>
        </p:nvSpPr>
        <p:spPr>
          <a:xfrm>
            <a:off x="631080" y="228600"/>
            <a:ext cx="817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9999"/>
                </a:solidFill>
                <a:latin typeface="Book Antiqua"/>
              </a:rPr>
              <a:t>Non-2PL</a:t>
            </a:r>
            <a:r>
              <a:rPr b="0" lang="en-US" sz="3600" spc="-1" strike="noStrike">
                <a:solidFill>
                  <a:srgbClr val="cccc00"/>
                </a:solidFill>
                <a:latin typeface="Book Antiqua"/>
              </a:rPr>
              <a:t>, A= 1000, B=2000, Output =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9B15-9BF0-497E-A33A-89957B60492D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1489AE-EA30-4F29-8BE1-DC5C31F5097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914400" y="990720"/>
          <a:ext cx="7772400" cy="542916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Lock_X(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Lock_S(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: = A-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Lock_X(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Unlock(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Lock_S(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 := B +50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Unlock(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Unlock(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Unlock(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(A+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"/>
          <p:cNvSpPr/>
          <p:nvPr/>
        </p:nvSpPr>
        <p:spPr>
          <a:xfrm>
            <a:off x="1310760" y="196920"/>
            <a:ext cx="712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9999"/>
                </a:solidFill>
                <a:latin typeface="Book Antiqua"/>
              </a:rPr>
              <a:t>2PL</a:t>
            </a:r>
            <a:r>
              <a:rPr b="0" lang="en-US" sz="3600" spc="-1" strike="noStrike">
                <a:solidFill>
                  <a:srgbClr val="cccc00"/>
                </a:solidFill>
                <a:latin typeface="Book Antiqua"/>
              </a:rPr>
              <a:t>, A= 1000, B=2000, Output =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AF50-3BCE-4836-B1F6-FD3C5ABF4E7E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DE996C-2784-440B-AC53-ABB0FA2B6D6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"/>
          <p:cNvGraphicFramePr/>
          <p:nvPr/>
        </p:nvGraphicFramePr>
        <p:xfrm>
          <a:off x="990720" y="990720"/>
          <a:ext cx="7772400" cy="54864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Lock_X(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Lock_S(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: = A-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Lock_X(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 := B +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Unlock(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Unlock(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Lock_S(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(A+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Unlock(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Unlock(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"/>
          <p:cNvSpPr/>
          <p:nvPr/>
        </p:nvSpPr>
        <p:spPr>
          <a:xfrm>
            <a:off x="956160" y="228600"/>
            <a:ext cx="834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9999"/>
                </a:solidFill>
                <a:latin typeface="Book Antiqua"/>
              </a:rPr>
              <a:t>Strict 2PL</a:t>
            </a:r>
            <a:r>
              <a:rPr b="0" lang="en-US" sz="3600" spc="-1" strike="noStrike">
                <a:solidFill>
                  <a:srgbClr val="cccc00"/>
                </a:solidFill>
                <a:latin typeface="Book Antiqua"/>
              </a:rPr>
              <a:t>, A= 1000, B=2000, Output =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8594-9EDE-4CDF-A72F-EF7012B64BD4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52E7C9-C215-4CE7-81D2-000C1A427C3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ck Manag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k and unlock requests handled b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ck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M keeps an entry for each currently held 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ry contai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st of xacts currently holding lo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ype of lock held (shared or exclusiv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Queue of lock reques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ck Management, con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lock request arriv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oes any other xact hold a conflicting lock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f no, grant the lock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f yes, put requestor into wait queu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k upgrad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hared lock can request to upgrade to exclusiv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 view of DB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ad(x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rite(x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tomicity: TX’s are either completely done or not done at al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istency: TX’s should leave the database in a consistent st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solation: TX’s must behave as if they are executed in isol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urability: Effects of committed TX’s are resilient against failu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trans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-- Begins implicit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SELECT …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UPDATE …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ROLLBACK | COMMI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ing is to arrange the execution of transactions in a concurrent way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83C2-B532-4B78-B6F9-C693B21EA35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A12305-9FAE-4FC5-AA42-76046576300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adloc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adlo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ycle of transactions waiting for locks to be released by each o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ways of dealing with deadlock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0"/>
                </a:solidFill>
                <a:latin typeface="Times New Roman"/>
              </a:rPr>
              <a:t>prev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t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systems just punt and use Timeou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the dangers with this approach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adlock Dete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and maintain a 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“waits-for”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iodically check for cycles in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adlock Detection (Continued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1:  S(A), S(D)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S(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2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X(B)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X(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3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S(D), S(C)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669999"/>
                </a:solidFill>
                <a:latin typeface="Times New Roman"/>
              </a:rPr>
              <a:t>X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4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X(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517920" y="4038480"/>
            <a:ext cx="673200" cy="673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651640" y="4038480"/>
            <a:ext cx="672840" cy="673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05320" y="5410080"/>
            <a:ext cx="672840" cy="673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562720" y="5410080"/>
            <a:ext cx="672840" cy="673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592440" y="4191120"/>
            <a:ext cx="524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725800" y="4191120"/>
            <a:ext cx="524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592440" y="5562720"/>
            <a:ext cx="524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649840" y="5562720"/>
            <a:ext cx="524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203720" y="43434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956200" y="472428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 flipV="1">
            <a:off x="4127400" y="4648320"/>
            <a:ext cx="1524240" cy="914400"/>
          </a:xfrm>
          <a:prstGeom prst="line">
            <a:avLst/>
          </a:prstGeom>
          <a:ln w="50760">
            <a:solidFill>
              <a:srgbClr val="66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4127400" y="4495680"/>
            <a:ext cx="160020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268800" y="3505320"/>
            <a:ext cx="4249440" cy="2608200"/>
          </a:xfrm>
          <a:custGeom>
            <a:avLst/>
            <a:gdLst/>
            <a:ahLst/>
            <a:rect l="l" t="t" r="r" b="b"/>
            <a:pathLst>
              <a:path w="2677" h="1643">
                <a:moveTo>
                  <a:pt x="864" y="1152"/>
                </a:moveTo>
                <a:cubicBezTo>
                  <a:pt x="774" y="1121"/>
                  <a:pt x="884" y="1164"/>
                  <a:pt x="810" y="1120"/>
                </a:cubicBezTo>
                <a:cubicBezTo>
                  <a:pt x="784" y="1105"/>
                  <a:pt x="752" y="1103"/>
                  <a:pt x="725" y="1088"/>
                </a:cubicBezTo>
                <a:cubicBezTo>
                  <a:pt x="709" y="1079"/>
                  <a:pt x="697" y="1065"/>
                  <a:pt x="682" y="1056"/>
                </a:cubicBezTo>
                <a:cubicBezTo>
                  <a:pt x="650" y="1038"/>
                  <a:pt x="609" y="1030"/>
                  <a:pt x="576" y="1013"/>
                </a:cubicBezTo>
                <a:cubicBezTo>
                  <a:pt x="565" y="1007"/>
                  <a:pt x="555" y="998"/>
                  <a:pt x="544" y="992"/>
                </a:cubicBezTo>
                <a:cubicBezTo>
                  <a:pt x="527" y="984"/>
                  <a:pt x="508" y="978"/>
                  <a:pt x="490" y="971"/>
                </a:cubicBezTo>
                <a:cubicBezTo>
                  <a:pt x="448" y="929"/>
                  <a:pt x="402" y="924"/>
                  <a:pt x="352" y="896"/>
                </a:cubicBezTo>
                <a:cubicBezTo>
                  <a:pt x="330" y="883"/>
                  <a:pt x="309" y="867"/>
                  <a:pt x="288" y="853"/>
                </a:cubicBezTo>
                <a:cubicBezTo>
                  <a:pt x="227" y="812"/>
                  <a:pt x="210" y="748"/>
                  <a:pt x="170" y="693"/>
                </a:cubicBezTo>
                <a:cubicBezTo>
                  <a:pt x="161" y="681"/>
                  <a:pt x="148" y="672"/>
                  <a:pt x="138" y="661"/>
                </a:cubicBezTo>
                <a:cubicBezTo>
                  <a:pt x="84" y="598"/>
                  <a:pt x="36" y="523"/>
                  <a:pt x="0" y="448"/>
                </a:cubicBezTo>
                <a:cubicBezTo>
                  <a:pt x="2" y="428"/>
                  <a:pt x="3" y="352"/>
                  <a:pt x="21" y="320"/>
                </a:cubicBezTo>
                <a:cubicBezTo>
                  <a:pt x="61" y="251"/>
                  <a:pt x="164" y="191"/>
                  <a:pt x="224" y="149"/>
                </a:cubicBezTo>
                <a:cubicBezTo>
                  <a:pt x="317" y="84"/>
                  <a:pt x="390" y="28"/>
                  <a:pt x="501" y="0"/>
                </a:cubicBezTo>
                <a:cubicBezTo>
                  <a:pt x="677" y="8"/>
                  <a:pt x="806" y="20"/>
                  <a:pt x="970" y="53"/>
                </a:cubicBezTo>
                <a:cubicBezTo>
                  <a:pt x="1009" y="61"/>
                  <a:pt x="1049" y="68"/>
                  <a:pt x="1088" y="75"/>
                </a:cubicBezTo>
                <a:cubicBezTo>
                  <a:pt x="1134" y="83"/>
                  <a:pt x="1226" y="96"/>
                  <a:pt x="1226" y="96"/>
                </a:cubicBezTo>
                <a:cubicBezTo>
                  <a:pt x="1331" y="130"/>
                  <a:pt x="1438" y="161"/>
                  <a:pt x="1546" y="181"/>
                </a:cubicBezTo>
                <a:cubicBezTo>
                  <a:pt x="1662" y="228"/>
                  <a:pt x="1788" y="266"/>
                  <a:pt x="1909" y="299"/>
                </a:cubicBezTo>
                <a:cubicBezTo>
                  <a:pt x="1932" y="305"/>
                  <a:pt x="1951" y="322"/>
                  <a:pt x="1973" y="331"/>
                </a:cubicBezTo>
                <a:cubicBezTo>
                  <a:pt x="2023" y="351"/>
                  <a:pt x="2080" y="363"/>
                  <a:pt x="2133" y="373"/>
                </a:cubicBezTo>
                <a:cubicBezTo>
                  <a:pt x="2181" y="397"/>
                  <a:pt x="2208" y="416"/>
                  <a:pt x="2261" y="427"/>
                </a:cubicBezTo>
                <a:cubicBezTo>
                  <a:pt x="2309" y="451"/>
                  <a:pt x="2349" y="485"/>
                  <a:pt x="2400" y="501"/>
                </a:cubicBezTo>
                <a:cubicBezTo>
                  <a:pt x="2424" y="520"/>
                  <a:pt x="2558" y="608"/>
                  <a:pt x="2581" y="640"/>
                </a:cubicBezTo>
                <a:cubicBezTo>
                  <a:pt x="2593" y="656"/>
                  <a:pt x="2643" y="735"/>
                  <a:pt x="2656" y="768"/>
                </a:cubicBezTo>
                <a:cubicBezTo>
                  <a:pt x="2664" y="789"/>
                  <a:pt x="2677" y="832"/>
                  <a:pt x="2677" y="832"/>
                </a:cubicBezTo>
                <a:cubicBezTo>
                  <a:pt x="2673" y="892"/>
                  <a:pt x="2672" y="953"/>
                  <a:pt x="2666" y="1013"/>
                </a:cubicBezTo>
                <a:cubicBezTo>
                  <a:pt x="2662" y="1050"/>
                  <a:pt x="2651" y="1044"/>
                  <a:pt x="2634" y="1077"/>
                </a:cubicBezTo>
                <a:cubicBezTo>
                  <a:pt x="2606" y="1134"/>
                  <a:pt x="2588" y="1186"/>
                  <a:pt x="2549" y="1237"/>
                </a:cubicBezTo>
                <a:cubicBezTo>
                  <a:pt x="2533" y="1284"/>
                  <a:pt x="2494" y="1327"/>
                  <a:pt x="2453" y="1355"/>
                </a:cubicBezTo>
                <a:cubicBezTo>
                  <a:pt x="2421" y="1403"/>
                  <a:pt x="2393" y="1463"/>
                  <a:pt x="2336" y="1483"/>
                </a:cubicBezTo>
                <a:cubicBezTo>
                  <a:pt x="2318" y="1501"/>
                  <a:pt x="2300" y="1518"/>
                  <a:pt x="2282" y="1536"/>
                </a:cubicBezTo>
                <a:cubicBezTo>
                  <a:pt x="2259" y="1559"/>
                  <a:pt x="2225" y="1558"/>
                  <a:pt x="2197" y="1568"/>
                </a:cubicBezTo>
                <a:cubicBezTo>
                  <a:pt x="2120" y="1597"/>
                  <a:pt x="2040" y="1616"/>
                  <a:pt x="1962" y="1643"/>
                </a:cubicBezTo>
                <a:cubicBezTo>
                  <a:pt x="1820" y="1639"/>
                  <a:pt x="1678" y="1639"/>
                  <a:pt x="1536" y="1632"/>
                </a:cubicBezTo>
                <a:cubicBezTo>
                  <a:pt x="1464" y="1629"/>
                  <a:pt x="1501" y="1620"/>
                  <a:pt x="1440" y="1600"/>
                </a:cubicBezTo>
                <a:cubicBezTo>
                  <a:pt x="1412" y="1591"/>
                  <a:pt x="1354" y="1579"/>
                  <a:pt x="1354" y="1579"/>
                </a:cubicBezTo>
                <a:cubicBezTo>
                  <a:pt x="1310" y="1556"/>
                  <a:pt x="1284" y="1534"/>
                  <a:pt x="1237" y="1515"/>
                </a:cubicBezTo>
                <a:cubicBezTo>
                  <a:pt x="1199" y="1477"/>
                  <a:pt x="1165" y="1472"/>
                  <a:pt x="1120" y="1440"/>
                </a:cubicBezTo>
                <a:cubicBezTo>
                  <a:pt x="1069" y="1404"/>
                  <a:pt x="1131" y="1430"/>
                  <a:pt x="1066" y="1408"/>
                </a:cubicBezTo>
                <a:cubicBezTo>
                  <a:pt x="1032" y="1374"/>
                  <a:pt x="997" y="1362"/>
                  <a:pt x="970" y="1323"/>
                </a:cubicBezTo>
                <a:cubicBezTo>
                  <a:pt x="959" y="1291"/>
                  <a:pt x="949" y="1259"/>
                  <a:pt x="938" y="1227"/>
                </a:cubicBezTo>
                <a:cubicBezTo>
                  <a:pt x="935" y="1216"/>
                  <a:pt x="939" y="1199"/>
                  <a:pt x="928" y="1195"/>
                </a:cubicBezTo>
                <a:cubicBezTo>
                  <a:pt x="917" y="1191"/>
                  <a:pt x="907" y="1188"/>
                  <a:pt x="896" y="1184"/>
                </a:cubicBezTo>
                <a:cubicBezTo>
                  <a:pt x="889" y="1177"/>
                  <a:pt x="883" y="1168"/>
                  <a:pt x="874" y="1163"/>
                </a:cubicBezTo>
                <a:cubicBezTo>
                  <a:pt x="851" y="1150"/>
                  <a:pt x="820" y="1152"/>
                  <a:pt x="864" y="1152"/>
                </a:cubicBezTo>
                <a:close/>
              </a:path>
            </a:pathLst>
          </a:custGeom>
          <a:noFill/>
          <a:ln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adloc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adlock Preven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ign priorities based on timestam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y Ti wants a lock that Tj ho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policies are possi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Wait-Di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If Ti has higher priority, Ti waits for Tj;  otherwise Ti abor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Wound-wai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If Ti has higher priority, Tj aborts;   otherwise Ti wai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99"/>
                </a:solidFill>
                <a:latin typeface="Times New Roman"/>
              </a:rPr>
              <a:t>Why do these schemes guarantee no deadloc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12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9999"/>
                </a:solidFill>
                <a:uFillTx/>
                <a:latin typeface="Times New Roman"/>
              </a:rPr>
              <a:t>Important detail</a:t>
            </a:r>
            <a:r>
              <a:rPr b="0" lang="en-US" sz="2400" spc="-1" strike="noStrike">
                <a:solidFill>
                  <a:srgbClr val="669999"/>
                </a:solidFill>
                <a:latin typeface="Times New Roman"/>
              </a:rPr>
              <a:t>: If a transaction re-starts, make sure it gets its original timestamp.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- W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86104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ness criterion for isolation is “serializabilit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practice, we use “conflict serializability,”                                 which is somewhat more restrictive but easy to enforc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Phase Locking and Strict 2PL: Locks implement the notions of conflict direct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lock manager keeps track of the locks issued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eadlock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ay arise; can either be prevented or detecte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Serial schedu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ial schedu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8240" indent="-3405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ecute transactions in order, with 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no interleavin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f oper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78240" indent="-3405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r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w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r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w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r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w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r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w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78240" indent="-3405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r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w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r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w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r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w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r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w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78240" indent="-3405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olation achieved by definition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8240" indent="-3405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no concurrenc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t al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8240" indent="-3405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ow to reorder operations to allow more concurrenc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19C4-6BE3-46EC-B9AD-85FB833A17F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B62693-5EB8-44B3-9FBD-7C52988E45D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Conflicting oper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operations on the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s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ata item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confli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at least one of the operations is a wr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and w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and r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and w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and r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/w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and r/w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der of conflicting operations mat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.g., i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r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precedes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w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then conceptually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hould preced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86200" y="1981080"/>
            <a:ext cx="3733920" cy="24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F731-E6B4-4FD3-BB75-FA92E02F418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2CAF41-4572-4E61-880A-D58F3D0AF9F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Precedence grap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n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each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directed ed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an opera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ecedes and conflicts with an opera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674640" y="3571920"/>
            <a:ext cx="1651680" cy="3184920"/>
            <a:chOff x="674640" y="3571920"/>
            <a:chExt cx="1651680" cy="3184920"/>
          </a:xfrm>
        </p:grpSpPr>
        <p:sp>
          <p:nvSpPr>
            <p:cNvPr id="104" name=""/>
            <p:cNvSpPr/>
            <p:nvPr/>
          </p:nvSpPr>
          <p:spPr>
            <a:xfrm>
              <a:off x="729720" y="3571920"/>
              <a:ext cx="1596600" cy="31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 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T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meriGarmnd BT"/>
                </a:rPr>
                <a:t>1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meriGarmnd BT"/>
                </a:rPr>
                <a:t>	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meriGarmnd BT"/>
                </a:rPr>
                <a:t> 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T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meriGarmnd BT"/>
                </a:rPr>
                <a:t>2</a:t>
              </a:r>
              <a:br>
                <a:rPr sz="2000"/>
              </a:b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r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w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r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w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r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B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r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C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w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B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w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C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74640" y="3963600"/>
              <a:ext cx="1575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564920" y="3572640"/>
              <a:ext cx="0" cy="3070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4419720" y="3571920"/>
            <a:ext cx="1651680" cy="3184920"/>
            <a:chOff x="4419720" y="3571920"/>
            <a:chExt cx="1651680" cy="3184920"/>
          </a:xfrm>
        </p:grpSpPr>
        <p:sp>
          <p:nvSpPr>
            <p:cNvPr id="108" name=""/>
            <p:cNvSpPr/>
            <p:nvPr/>
          </p:nvSpPr>
          <p:spPr>
            <a:xfrm>
              <a:off x="4474800" y="3571920"/>
              <a:ext cx="1596600" cy="31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 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T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meriGarmnd BT"/>
                </a:rPr>
                <a:t>1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meriGarmnd BT"/>
                </a:rPr>
                <a:t>	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meriGarmnd BT"/>
                </a:rPr>
                <a:t> 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T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meriGarmnd BT"/>
                </a:rPr>
                <a:t>2</a:t>
              </a:r>
              <a:br>
                <a:rPr sz="2000"/>
              </a:b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r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r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w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w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r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B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r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C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w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B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w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C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419720" y="3963600"/>
              <a:ext cx="1575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310000" y="3572640"/>
              <a:ext cx="0" cy="306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971800" y="3657600"/>
            <a:ext cx="533520" cy="1447920"/>
            <a:chOff x="2971800" y="3657600"/>
            <a:chExt cx="533520" cy="1447920"/>
          </a:xfrm>
        </p:grpSpPr>
        <p:sp>
          <p:nvSpPr>
            <p:cNvPr id="112" name=""/>
            <p:cNvSpPr/>
            <p:nvPr/>
          </p:nvSpPr>
          <p:spPr>
            <a:xfrm>
              <a:off x="2971800" y="3657600"/>
              <a:ext cx="533520" cy="533520"/>
            </a:xfrm>
            <a:prstGeom prst="ellipse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971800" y="4572000"/>
              <a:ext cx="533520" cy="533520"/>
            </a:xfrm>
            <a:prstGeom prst="ellipse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61080" y="3724200"/>
              <a:ext cx="392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T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meriGarmnd BT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061080" y="4638600"/>
              <a:ext cx="392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T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meriGarmnd BT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371600" y="4724280"/>
            <a:ext cx="380880" cy="2286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33880" y="4191120"/>
            <a:ext cx="0" cy="38088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09560" y="5291280"/>
            <a:ext cx="152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Good:</a:t>
            </a:r>
            <a:br>
              <a:rPr sz="2800"/>
            </a:b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no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6946920" y="3657600"/>
            <a:ext cx="533520" cy="1447920"/>
            <a:chOff x="6946920" y="3657600"/>
            <a:chExt cx="533520" cy="1447920"/>
          </a:xfrm>
        </p:grpSpPr>
        <p:sp>
          <p:nvSpPr>
            <p:cNvPr id="120" name=""/>
            <p:cNvSpPr/>
            <p:nvPr/>
          </p:nvSpPr>
          <p:spPr>
            <a:xfrm>
              <a:off x="6946920" y="3657600"/>
              <a:ext cx="533520" cy="533520"/>
            </a:xfrm>
            <a:prstGeom prst="ellipse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46920" y="4572000"/>
              <a:ext cx="533520" cy="533520"/>
            </a:xfrm>
            <a:prstGeom prst="ellipse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036200" y="3724200"/>
              <a:ext cx="392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T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meriGarmnd BT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036200" y="4638600"/>
              <a:ext cx="392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T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meriGarmnd BT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205760" y="4191120"/>
            <a:ext cx="0" cy="38088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48920" y="5291280"/>
            <a:ext cx="99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Bad:</a:t>
            </a:r>
            <a:br>
              <a:rPr sz="2800"/>
            </a:b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029200" y="4724280"/>
            <a:ext cx="457200" cy="2286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952880" y="4495680"/>
            <a:ext cx="685800" cy="6858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377120" y="4157640"/>
            <a:ext cx="152280" cy="457200"/>
          </a:xfrm>
          <a:custGeom>
            <a:avLst/>
            <a:gdLst/>
            <a:ahLst/>
            <a:rect l="l" t="t" r="r" b="b"/>
            <a:pathLst>
              <a:path w="96" h="288">
                <a:moveTo>
                  <a:pt x="0" y="288"/>
                </a:moveTo>
                <a:cubicBezTo>
                  <a:pt x="48" y="240"/>
                  <a:pt x="96" y="192"/>
                  <a:pt x="96" y="144"/>
                </a:cubicBezTo>
                <a:cubicBezTo>
                  <a:pt x="96" y="96"/>
                  <a:pt x="48" y="48"/>
                  <a:pt x="0" y="0"/>
                </a:cubicBezTo>
              </a:path>
            </a:pathLst>
          </a:custGeom>
          <a:noFill/>
          <a:ln w="38160">
            <a:solidFill>
              <a:srgbClr val="330066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4DD3-B884-4765-B8FC-41F4A85145B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7E8403-FCAA-4D7C-9BB1-1CE113D8745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Conflict-serializable schedu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chedule is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conflict-serializ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and only if its precedence graph has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no cy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nflict-serializable schedule is equivalent to some serial schedule (and therefore is “good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that serial schedule, transactions are executed in the topological order of the precedence grap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You can get to that serial schedule by repeatedly swapping adjacent, non-conflicting operations from different transac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BC02-11B0-4341-B7CC-816BC2FDEF8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CA4153-B112-46AF-86B0-88BBB789D9A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k: a high-level concept that describe the state of a data item with respect to read/write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pinloc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maphor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adloc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set of processes is deadlocked if each process is waiting for an event that only another process in the set can cau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v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program continues to run indefinitely but fail to make any progr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F964-60B6-40C1-8302-25A66711FA6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EE3CFA-5A0E-4C11-90F0-0C1E0763C68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day’s Topi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arantee conflict-serializable schedule with 2 phase loc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52E7-874F-4E14-8296-6B782BE68C1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0F783F-DFF8-4566-BB95-756C8494C6D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ck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a transaction wants to 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rea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 object, it must first request a 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shared lock (S mode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n that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a transaction wants to 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modif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 object, it must first request an 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exclusive lock (X mode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n that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ow one exclusive lock, or multiple shared loc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1960" y="4468680"/>
            <a:ext cx="323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Mode of lock(s)</a:t>
            </a:r>
            <a:br>
              <a:rPr sz="2400"/>
            </a:b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currently held</a:t>
            </a:r>
            <a:br>
              <a:rPr sz="2400"/>
            </a:b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by other trans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684240" y="3733920"/>
            <a:ext cx="411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Mode of the lock requ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08440" y="4572000"/>
            <a:ext cx="233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Grant the loc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34160" y="5199120"/>
            <a:ext cx="317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Compatibility 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505320" y="4267080"/>
          <a:ext cx="1904760" cy="1004760"/>
        </p:xfrm>
        <a:graphic>
          <a:graphicData uri="http://schemas.openxmlformats.org/drawingml/2006/table">
            <a:tbl>
              <a:tblPr/>
              <a:tblGrid>
                <a:gridCol w="635040"/>
                <a:gridCol w="634680"/>
                <a:gridCol w="635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CE87-4B9E-45E4-8D3B-B7AECA98E31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2A6FBC-E749-47A0-843C-40FD790643C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jhuan</cp:lastModifiedBy>
  <dcterms:modified xsi:type="dcterms:W3CDTF">2007-04-16T21:15:56Z</dcterms:modified>
  <cp:revision>1018</cp:revision>
  <dc:subject/>
  <dc:title>CS186: Introduction to Database Systems</dc:title>
</cp:coreProperties>
</file>