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2A469B-C73B-41F1-8BF3-049E02A59F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68B9AC-7EE7-4D4F-824E-A3A7BD4F0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AEF270-7AE0-45ED-A98D-AE38E5BEF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113A63-663B-4352-AC34-7DE8A1D5F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A7CA68-C0A5-4C70-B152-EDC084201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495B93-CA36-450E-9D5F-3C7E18D99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EFA710-5154-4FA7-AA88-85201CA99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B6F8CE-2450-421E-8E71-93980C055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A97DE2-D24E-479D-92B3-57AF04D0F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057C1D-C68E-444D-933F-819EA25C8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0D604-8C5D-4217-82F4-9AC54BFA1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47D854-4FC4-48B3-9D11-AAE440638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0BA904-D11B-4348-BAB6-15894D3B5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8F585C-D4DF-40C7-ABD3-7D5E8CF50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6C7452-B9D7-4FD0-9ACF-908BF8160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4A67A6-6457-4858-8608-99E7E9489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90B55E-6FBE-49A9-9CCB-65BC0EDCB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A2D070-EE8D-4F6F-9485-10B3170CD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FAAC6A-7945-4379-BEF5-7B9E00D14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98DD44-FB21-453D-B8D7-640FAD560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A60C00-AB5B-47F5-9AF4-08FB3A8E51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DE2190-C3F5-414F-9D9E-348093DA0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3B8018-EB47-43D3-BBE7-0B9710867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E67-FA49-4AC2-8DB1-8414991D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146-AB56-46CD-B52F-A795FB6A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972-2C64-4D9D-B805-AFE9D80C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4EB-AF1C-40FC-ACA7-E1B1FBC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FAE-875A-4B87-9E3D-068E1C1A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0BE-C558-41E1-880C-4BEE7B2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B87-006C-4F19-832B-F9F534D9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CF4-3F44-4E60-A0DB-133BD0E8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323-A117-4F97-8DD0-738CB57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E2E-BFCD-441D-85BD-94FCB626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799-79AB-4689-B1D5-201BF284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C00-4FA3-4B4A-916E-F444FCB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BC69-05FF-4B16-B60B-45673185C4E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CDD-1EA5-4FC6-AC4C-C7897A84C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p o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and Index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D3C-6929-4A87-A30D-114E998D0D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570E2-3725-4003-84A5-301D49754D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44C-A237-4C2E-BFB7-9491ED7408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17773-A737-45F3-9257-C090E80E8B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4E7-8E85-43E3-A039-CC791362F7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AD2CC-EC85-4E63-ABB7-CE47750201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DB2-0823-44F9-9AD3-80C5CDE8E0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D3D8C-1EC7-45F1-97DC-E514A89EB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B80-6294-45CA-A5C4-41E4121AA3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984F2-BC40-4BA2-9D7E-500D13EC06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about indexing subgraph search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A16-EFBB-485A-8AEF-AB239BED69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EE3DA-6485-4ED1-A681-FC66DB217A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and Data Fil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p file vs.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dex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762120" y="1905120"/>
            <a:ext cx="7045560" cy="2091960"/>
            <a:chOff x="762120" y="1905120"/>
            <a:chExt cx="7045560" cy="2091960"/>
          </a:xfrm>
        </p:grpSpPr>
        <p:sp>
          <p:nvSpPr>
            <p:cNvPr id="752" name=""/>
            <p:cNvSpPr/>
            <p:nvPr/>
          </p:nvSpPr>
          <p:spPr>
            <a:xfrm>
              <a:off x="202212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352680" y="2080440"/>
              <a:ext cx="110844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03000" y="2080440"/>
              <a:ext cx="1108800" cy="6195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02212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352680" y="3167280"/>
              <a:ext cx="110844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03000" y="3167280"/>
              <a:ext cx="110880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2120" y="2652480"/>
              <a:ext cx="1108440" cy="61956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24400" y="26881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56480" y="2173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0800" y="2173320"/>
              <a:ext cx="6318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66800" y="21718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8736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19000" y="320328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38080" y="320184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57640" y="2362680"/>
              <a:ext cx="111996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7560000">
              <a:off x="1760760" y="2151000"/>
              <a:ext cx="914760" cy="7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584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278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9085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97836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5900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28480" y="25725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584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2788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85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360" y="3659760"/>
              <a:ext cx="77004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80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59000" y="3659760"/>
              <a:ext cx="769680" cy="30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3240000">
              <a:off x="1690920" y="3069360"/>
              <a:ext cx="914760" cy="70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526400" y="2991240"/>
              <a:ext cx="1119240" cy="57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53720" y="331632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57320" y="223020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09120" y="190512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6637680" y="2075400"/>
              <a:ext cx="209880" cy="114120"/>
              <a:chOff x="6637680" y="2075400"/>
              <a:chExt cx="209880" cy="114120"/>
            </a:xfrm>
          </p:grpSpPr>
          <p:sp>
            <p:nvSpPr>
              <p:cNvPr id="786" name=""/>
              <p:cNvSpPr/>
              <p:nvPr/>
            </p:nvSpPr>
            <p:spPr>
              <a:xfrm>
                <a:off x="6637680" y="20754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72600" y="2132640"/>
                <a:ext cx="140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7520" y="21895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567840" y="3162600"/>
              <a:ext cx="209880" cy="114120"/>
              <a:chOff x="6567840" y="3162600"/>
              <a:chExt cx="209880" cy="114120"/>
            </a:xfrm>
          </p:grpSpPr>
          <p:sp>
            <p:nvSpPr>
              <p:cNvPr id="790" name=""/>
              <p:cNvSpPr/>
              <p:nvPr/>
            </p:nvSpPr>
            <p:spPr>
              <a:xfrm>
                <a:off x="6567840" y="3162600"/>
                <a:ext cx="20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602760" y="3219480"/>
                <a:ext cx="13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37320" y="32767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5938920" y="2991960"/>
              <a:ext cx="7696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3054240" y="554688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54240" y="457200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57200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629160" y="4486320"/>
            <a:ext cx="334800" cy="8712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65680" y="4524480"/>
            <a:ext cx="98280" cy="4896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37000" y="5805360"/>
            <a:ext cx="46800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0356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03560" y="594360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3084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382920" y="580536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4984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84984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006800" y="592452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62440" y="5527800"/>
            <a:ext cx="18864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62440" y="573264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614760" y="552780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97120" y="5730840"/>
            <a:ext cx="3816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641840" y="5805360"/>
            <a:ext cx="46656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410000" y="59245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10000" y="594360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567320" y="592452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687920" y="552780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18240" y="573264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90E-1BC3-4298-B102-F608A80BF3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0B225-2EEC-42CA-A47C-86E4AB27FC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ernatives for Data Entry in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Primary index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Secondary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ing index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multiple (different) indexes per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 Employee =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, name, age, 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uniqu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non-key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may (or not) sort the file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a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 (prim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 (secondary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 (secondary)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 hash index 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2C07-854A-43D1-A7EB-25B88A5861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5CBA5-F809-4F33-996B-0276574E62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518184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for primary key: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bid of sorted data records&gt;</a:t>
            </a: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is sorted according to the primary k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record in each block is called the anchor record and is used to build the inde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 the thing goes the other way around (called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ee based sor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5334120"/>
            <a:ext cx="221004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rcRect l="8226" t="64910" r="69103" b="0"/>
          <a:stretch/>
        </p:blipFill>
        <p:spPr>
          <a:xfrm>
            <a:off x="4748040" y="3581280"/>
            <a:ext cx="1952640" cy="164628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85104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7952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0656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4368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6532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49236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02120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1136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1136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928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8592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42244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19376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6068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60680" y="5259240"/>
            <a:ext cx="28080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86516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4004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066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0660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6392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192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51920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71880" y="4843440"/>
            <a:ext cx="144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15424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9896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6712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671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4468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7500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66880" y="5334120"/>
            <a:ext cx="428400" cy="61884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6688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423440" y="5334120"/>
            <a:ext cx="82440" cy="60948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1904400" y="5334120"/>
            <a:ext cx="82440" cy="61884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96848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0" y="5334120"/>
            <a:ext cx="152280" cy="60948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39868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5334120"/>
            <a:ext cx="228600" cy="60948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42900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05320" y="5257800"/>
            <a:ext cx="609480" cy="6858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3848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204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257800" y="3809880"/>
            <a:ext cx="1600200" cy="609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2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rid of matching data record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to maintain (do not need to sort the data fi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candidate key of the relation, e.g. uniqu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RID of the record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Block#, slot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01800" y="623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80960" y="6116760"/>
            <a:ext cx="34308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836720" y="6116760"/>
            <a:ext cx="344520" cy="35064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295360" y="6116760"/>
            <a:ext cx="338400" cy="35064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1120" y="6116760"/>
            <a:ext cx="339840" cy="35064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205080" y="6116760"/>
            <a:ext cx="346320" cy="35064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6608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118040" y="6116760"/>
            <a:ext cx="342720" cy="35064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36880" y="4948200"/>
            <a:ext cx="1490400" cy="180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36880" y="3902040"/>
            <a:ext cx="785520" cy="104796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820960" y="3902040"/>
            <a:ext cx="712800" cy="104796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530440" y="3809880"/>
            <a:ext cx="291960" cy="9396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739960" y="3851280"/>
            <a:ext cx="82440" cy="5256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677960" y="5229360"/>
            <a:ext cx="405000" cy="34740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1160" y="535608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81160" y="5380200"/>
            <a:ext cx="241200" cy="144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25756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2092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722680" y="53560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7226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862360" y="535608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96056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960560" y="515304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521080" y="493236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06680" y="5151600"/>
            <a:ext cx="30240" cy="7920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406680" y="522936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6880" y="5356080"/>
            <a:ext cx="6480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06880" y="5380200"/>
            <a:ext cx="201600" cy="144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341520" y="53560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449520" y="493236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59320" y="515304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17560" y="5575320"/>
            <a:ext cx="201600" cy="49860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74880" y="5994360"/>
            <a:ext cx="44280" cy="7956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33520" y="5575320"/>
            <a:ext cx="366840" cy="54936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33520" y="6049800"/>
            <a:ext cx="57240" cy="7488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36720" y="5575320"/>
            <a:ext cx="566640" cy="54936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8560" y="605952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636560" y="5575320"/>
            <a:ext cx="282600" cy="49860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36560" y="5999040"/>
            <a:ext cx="5256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60560" y="5575320"/>
            <a:ext cx="1407960" cy="49860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00480" y="6031080"/>
            <a:ext cx="6804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17560" y="5575320"/>
            <a:ext cx="685800" cy="49860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717560" y="6014880"/>
            <a:ext cx="65160" cy="5904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438280" y="5575320"/>
            <a:ext cx="1778040" cy="49860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46480" y="603396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5575320"/>
            <a:ext cx="165240" cy="54936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438280" y="6041880"/>
            <a:ext cx="42840" cy="8280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63920" y="5575320"/>
            <a:ext cx="322200" cy="49860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828880" y="600084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65320" y="5575320"/>
            <a:ext cx="565200" cy="54936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965320" y="6059520"/>
            <a:ext cx="5904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568680" y="5575320"/>
            <a:ext cx="322200" cy="54936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40120" y="6048360"/>
            <a:ext cx="50760" cy="7632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449520" y="5575320"/>
            <a:ext cx="241560" cy="49860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449520" y="5997600"/>
            <a:ext cx="47880" cy="7632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8880" y="5575320"/>
            <a:ext cx="1800" cy="54936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711600" y="6045120"/>
            <a:ext cx="36360" cy="7956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09120" y="526716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120840" y="413712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029200" y="5257800"/>
            <a:ext cx="2209680" cy="91440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3, Susan, 30, 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4, John, 40, 8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6095880" y="4267080"/>
            <a:ext cx="2095560" cy="14479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28600" y="6126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</a:rPr>
              <a:t>Data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00600" y="5562720"/>
            <a:ext cx="2590920" cy="304560"/>
          </a:xfrm>
          <a:prstGeom prst="rect">
            <a:avLst/>
          </a:prstGeom>
          <a:solidFill>
            <a:srgbClr val="d4d2b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as assig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been reserved at the engineering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tional source for discussions about index structure in databas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1E8-1EF6-42AF-A044-38267CDB59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1F92E-0325-48DD-BC65-6B20D473B1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ing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3: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&lt;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, list of rids of matching data record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need to sort the dat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 must be a non-key attribut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pointer is the BID of the first RID that is indexed by 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29200" y="5257800"/>
            <a:ext cx="2209680" cy="1066680"/>
          </a:xfrm>
          <a:prstGeom prst="rect">
            <a:avLst/>
          </a:prstGeom>
          <a:noFill/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2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1, slot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rcRect l="8226" t="64910" r="69103" b="18113"/>
          <a:stretch/>
        </p:blipFill>
        <p:spPr>
          <a:xfrm>
            <a:off x="4800600" y="3581280"/>
            <a:ext cx="1952640" cy="7970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095880" y="4267080"/>
            <a:ext cx="2095560" cy="990720"/>
          </a:xfrm>
          <a:custGeom>
            <a:avLst/>
            <a:gdLst/>
            <a:ahLst/>
            <a:rect l="l" t="t" r="r" b="b"/>
            <a:pathLst>
              <a:path w="1320" h="912">
                <a:moveTo>
                  <a:pt x="0" y="0"/>
                </a:moveTo>
                <a:cubicBezTo>
                  <a:pt x="540" y="188"/>
                  <a:pt x="1080" y="376"/>
                  <a:pt x="1200" y="528"/>
                </a:cubicBezTo>
                <a:cubicBezTo>
                  <a:pt x="1320" y="680"/>
                  <a:pt x="1020" y="796"/>
                  <a:pt x="720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40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17324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700280" y="607212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30560" y="607212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59040" y="607212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286080" y="607212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814920" y="607212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405080" y="4991040"/>
            <a:ext cx="1724040" cy="180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405080" y="4016520"/>
            <a:ext cx="90936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13000" y="401652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979640" y="3930480"/>
            <a:ext cx="33480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216160" y="3968640"/>
            <a:ext cx="9828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8748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454040" y="536904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454040" y="5388120"/>
            <a:ext cx="281160" cy="144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588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733400" y="5249880"/>
            <a:ext cx="468360" cy="32400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20032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20032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35728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31292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312920" y="5176800"/>
            <a:ext cx="6012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965240" y="497196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7960" y="517536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92320" y="5249880"/>
            <a:ext cx="466920" cy="32400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60840" y="536904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60840" y="5388120"/>
            <a:ext cx="233280" cy="144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917800" y="536904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038400" y="497196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68720" y="517680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60240" y="5572080"/>
            <a:ext cx="374760" cy="50976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60240" y="6010200"/>
            <a:ext cx="60480" cy="7164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1720" y="5572080"/>
            <a:ext cx="280800" cy="50976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1720" y="6006960"/>
            <a:ext cx="52200" cy="7488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939960" y="5572080"/>
            <a:ext cx="188640" cy="50976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939960" y="6005520"/>
            <a:ext cx="45720" cy="7632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74680" y="5572080"/>
            <a:ext cx="47520" cy="50976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195560" y="6005520"/>
            <a:ext cx="37800" cy="7632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81280" y="5572080"/>
            <a:ext cx="1440" cy="50976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762200" y="6006960"/>
            <a:ext cx="38160" cy="7488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825560" y="5572080"/>
            <a:ext cx="49320" cy="50976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847880" y="6005520"/>
            <a:ext cx="39600" cy="7632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73080" y="5572080"/>
            <a:ext cx="93960" cy="50976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35000" y="6004080"/>
            <a:ext cx="3816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919160" y="5572080"/>
            <a:ext cx="141480" cy="50976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021040" y="600408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38400" y="5572080"/>
            <a:ext cx="468360" cy="50976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40160" y="6013440"/>
            <a:ext cx="6660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32000" y="5572080"/>
            <a:ext cx="514440" cy="50976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578400" y="6014880"/>
            <a:ext cx="68040" cy="6696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73480" y="5572080"/>
            <a:ext cx="558720" cy="50976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763800" y="6016680"/>
            <a:ext cx="6840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411360" y="5572080"/>
            <a:ext cx="608040" cy="50976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949560" y="601812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600000" y="5245200"/>
            <a:ext cx="90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af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45760" y="419112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 Class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s.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unclustered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rder of data records is the same as, or `close to’, order of index data entries, then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ile can be clustered on at most one search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retrieving data records through index vari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eatl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whether index is clustered or no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19320" y="378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vs. Unclustered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that clustering index is used for data entries, and that the data records are stored in a Heap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build clustering index, first sort the Heap file (with some free space on each block for future inserts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flow blocks may be needed for inserts.  (Thus, order of data recds is `close to’, but not identical to, the sort order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81160" y="5943600"/>
            <a:ext cx="39816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964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336680" y="5943600"/>
            <a:ext cx="399960" cy="328680"/>
          </a:xfrm>
          <a:custGeom>
            <a:avLst/>
            <a:gdLst/>
            <a:ahLst/>
            <a:rect l="l" t="t" r="r" b="b"/>
            <a:pathLst>
              <a:path w="252" h="207">
                <a:moveTo>
                  <a:pt x="0" y="206"/>
                </a:moveTo>
                <a:lnTo>
                  <a:pt x="0" y="0"/>
                </a:lnTo>
                <a:lnTo>
                  <a:pt x="251" y="0"/>
                </a:lnTo>
                <a:lnTo>
                  <a:pt x="251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866960" y="5943600"/>
            <a:ext cx="39672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395440" y="5943600"/>
            <a:ext cx="397080" cy="328680"/>
          </a:xfrm>
          <a:custGeom>
            <a:avLst/>
            <a:gdLst/>
            <a:ahLst/>
            <a:rect l="l" t="t" r="r" b="b"/>
            <a:pathLst>
              <a:path w="250" h="207">
                <a:moveTo>
                  <a:pt x="0" y="206"/>
                </a:moveTo>
                <a:lnTo>
                  <a:pt x="0" y="0"/>
                </a:lnTo>
                <a:lnTo>
                  <a:pt x="249" y="0"/>
                </a:lnTo>
                <a:lnTo>
                  <a:pt x="249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92248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51320" y="5943600"/>
            <a:ext cx="398520" cy="328680"/>
          </a:xfrm>
          <a:custGeom>
            <a:avLst/>
            <a:gdLst/>
            <a:ahLst/>
            <a:rect l="l" t="t" r="r" b="b"/>
            <a:pathLst>
              <a:path w="251" h="207">
                <a:moveTo>
                  <a:pt x="0" y="206"/>
                </a:moveTo>
                <a:lnTo>
                  <a:pt x="0" y="0"/>
                </a:lnTo>
                <a:lnTo>
                  <a:pt x="250" y="0"/>
                </a:lnTo>
                <a:lnTo>
                  <a:pt x="250" y="206"/>
                </a:lnTo>
                <a:lnTo>
                  <a:pt x="0" y="20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041480" y="4862520"/>
            <a:ext cx="1724040" cy="1440"/>
          </a:xfrm>
          <a:custGeom>
            <a:avLst/>
            <a:gdLst/>
            <a:ahLst/>
            <a:rect l="l" t="t" r="r" b="b"/>
            <a:pathLst>
              <a:path w="1086" h="1">
                <a:moveTo>
                  <a:pt x="0" y="0"/>
                </a:moveTo>
                <a:lnTo>
                  <a:pt x="108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041480" y="3887640"/>
            <a:ext cx="909720" cy="976320"/>
          </a:xfrm>
          <a:custGeom>
            <a:avLst/>
            <a:gdLst/>
            <a:ahLst/>
            <a:rect l="l" t="t" r="r" b="b"/>
            <a:pathLst>
              <a:path w="573" h="615">
                <a:moveTo>
                  <a:pt x="0" y="614"/>
                </a:moveTo>
                <a:lnTo>
                  <a:pt x="572" y="0"/>
                </a:lnTo>
                <a:lnTo>
                  <a:pt x="0" y="6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949400" y="3887640"/>
            <a:ext cx="825480" cy="976320"/>
          </a:xfrm>
          <a:custGeom>
            <a:avLst/>
            <a:gdLst/>
            <a:ahLst/>
            <a:rect l="l" t="t" r="r" b="b"/>
            <a:pathLst>
              <a:path w="520" h="615">
                <a:moveTo>
                  <a:pt x="0" y="0"/>
                </a:moveTo>
                <a:lnTo>
                  <a:pt x="519" y="6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616040" y="3801960"/>
            <a:ext cx="335160" cy="87480"/>
          </a:xfrm>
          <a:custGeom>
            <a:avLst/>
            <a:gdLst/>
            <a:ahLst/>
            <a:rect l="l" t="t" r="r" b="b"/>
            <a:pathLst>
              <a:path w="211" h="55">
                <a:moveTo>
                  <a:pt x="0" y="0"/>
                </a:moveTo>
                <a:lnTo>
                  <a:pt x="35" y="8"/>
                </a:lnTo>
                <a:lnTo>
                  <a:pt x="210" y="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852560" y="3840120"/>
            <a:ext cx="98640" cy="49320"/>
          </a:xfrm>
          <a:custGeom>
            <a:avLst/>
            <a:gdLst/>
            <a:ahLst/>
            <a:rect l="l" t="t" r="r" b="b"/>
            <a:pathLst>
              <a:path w="62" h="31">
                <a:moveTo>
                  <a:pt x="7" y="0"/>
                </a:moveTo>
                <a:lnTo>
                  <a:pt x="61" y="30"/>
                </a:lnTo>
                <a:lnTo>
                  <a:pt x="0" y="29"/>
                </a:lnTo>
                <a:lnTo>
                  <a:pt x="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23880" y="5121360"/>
            <a:ext cx="46836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090440" y="5240160"/>
            <a:ext cx="7488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090440" y="5259240"/>
            <a:ext cx="281160" cy="1800"/>
          </a:xfrm>
          <a:custGeom>
            <a:avLst/>
            <a:gdLst/>
            <a:ahLst/>
            <a:rect l="l" t="t" r="r" b="b"/>
            <a:pathLst>
              <a:path w="177" h="1">
                <a:moveTo>
                  <a:pt x="0" y="0"/>
                </a:moveTo>
                <a:lnTo>
                  <a:pt x="17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9528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370160" y="5121360"/>
            <a:ext cx="468000" cy="323640"/>
          </a:xfrm>
          <a:custGeom>
            <a:avLst/>
            <a:gdLst/>
            <a:ahLst/>
            <a:rect l="l" t="t" r="r" b="b"/>
            <a:pathLst>
              <a:path w="295" h="204">
                <a:moveTo>
                  <a:pt x="0" y="0"/>
                </a:moveTo>
                <a:lnTo>
                  <a:pt x="294" y="0"/>
                </a:lnTo>
                <a:lnTo>
                  <a:pt x="294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83672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23"/>
                </a:moveTo>
                <a:lnTo>
                  <a:pt x="0" y="1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83672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94040" y="5240160"/>
            <a:ext cx="7596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94932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118" y="0"/>
                </a:moveTo>
                <a:lnTo>
                  <a:pt x="0" y="175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949320" y="5048280"/>
            <a:ext cx="60480" cy="74520"/>
          </a:xfrm>
          <a:custGeom>
            <a:avLst/>
            <a:gdLst/>
            <a:ahLst/>
            <a:rect l="l" t="t" r="r" b="b"/>
            <a:pathLst>
              <a:path w="38" h="47">
                <a:moveTo>
                  <a:pt x="37" y="14"/>
                </a:moveTo>
                <a:lnTo>
                  <a:pt x="0" y="46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601640" y="4843440"/>
            <a:ext cx="1800" cy="279360"/>
          </a:xfrm>
          <a:custGeom>
            <a:avLst/>
            <a:gdLst/>
            <a:ahLst/>
            <a:rect l="l" t="t" r="r" b="b"/>
            <a:pathLst>
              <a:path w="1" h="176">
                <a:moveTo>
                  <a:pt x="0" y="0"/>
                </a:moveTo>
                <a:lnTo>
                  <a:pt x="0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584360" y="504684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1" y="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629080" y="5121360"/>
            <a:ext cx="466560" cy="323640"/>
          </a:xfrm>
          <a:custGeom>
            <a:avLst/>
            <a:gdLst/>
            <a:ahLst/>
            <a:rect l="l" t="t" r="r" b="b"/>
            <a:pathLst>
              <a:path w="294" h="204">
                <a:moveTo>
                  <a:pt x="0" y="0"/>
                </a:moveTo>
                <a:lnTo>
                  <a:pt x="293" y="0"/>
                </a:lnTo>
                <a:lnTo>
                  <a:pt x="293" y="203"/>
                </a:lnTo>
                <a:lnTo>
                  <a:pt x="0" y="20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397240" y="524016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46" y="23"/>
                </a:moveTo>
                <a:lnTo>
                  <a:pt x="0" y="12"/>
                </a:lnTo>
                <a:lnTo>
                  <a:pt x="4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397240" y="5259240"/>
            <a:ext cx="233280" cy="1800"/>
          </a:xfrm>
          <a:custGeom>
            <a:avLst/>
            <a:gdLst/>
            <a:ahLst/>
            <a:rect l="l" t="t" r="r" b="b"/>
            <a:pathLst>
              <a:path w="147" h="1">
                <a:moveTo>
                  <a:pt x="0" y="0"/>
                </a:moveTo>
                <a:lnTo>
                  <a:pt x="14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4200" y="52401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0" y="0"/>
                </a:moveTo>
                <a:lnTo>
                  <a:pt x="47" y="12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74800" y="4843440"/>
            <a:ext cx="189000" cy="279360"/>
          </a:xfrm>
          <a:custGeom>
            <a:avLst/>
            <a:gdLst/>
            <a:ahLst/>
            <a:rect l="l" t="t" r="r" b="b"/>
            <a:pathLst>
              <a:path w="119" h="176">
                <a:moveTo>
                  <a:pt x="0" y="0"/>
                </a:moveTo>
                <a:lnTo>
                  <a:pt x="118" y="17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05120" y="5048280"/>
            <a:ext cx="58680" cy="74520"/>
          </a:xfrm>
          <a:custGeom>
            <a:avLst/>
            <a:gdLst/>
            <a:ahLst/>
            <a:rect l="l" t="t" r="r" b="b"/>
            <a:pathLst>
              <a:path w="37" h="47">
                <a:moveTo>
                  <a:pt x="20" y="0"/>
                </a:moveTo>
                <a:lnTo>
                  <a:pt x="36" y="46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7000" y="5443560"/>
            <a:ext cx="374400" cy="509400"/>
          </a:xfrm>
          <a:custGeom>
            <a:avLst/>
            <a:gdLst/>
            <a:ahLst/>
            <a:rect l="l" t="t" r="r" b="b"/>
            <a:pathLst>
              <a:path w="236" h="321">
                <a:moveTo>
                  <a:pt x="235" y="0"/>
                </a:moveTo>
                <a:lnTo>
                  <a:pt x="0" y="320"/>
                </a:lnTo>
                <a:lnTo>
                  <a:pt x="23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7000" y="5881680"/>
            <a:ext cx="60120" cy="71280"/>
          </a:xfrm>
          <a:custGeom>
            <a:avLst/>
            <a:gdLst/>
            <a:ahLst/>
            <a:rect l="l" t="t" r="r" b="b"/>
            <a:pathLst>
              <a:path w="38" h="45">
                <a:moveTo>
                  <a:pt x="37" y="14"/>
                </a:moveTo>
                <a:lnTo>
                  <a:pt x="0" y="44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38120" y="5443560"/>
            <a:ext cx="281160" cy="509400"/>
          </a:xfrm>
          <a:custGeom>
            <a:avLst/>
            <a:gdLst/>
            <a:ahLst/>
            <a:rect l="l" t="t" r="r" b="b"/>
            <a:pathLst>
              <a:path w="177" h="321">
                <a:moveTo>
                  <a:pt x="176" y="0"/>
                </a:moveTo>
                <a:lnTo>
                  <a:pt x="0" y="32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38120" y="58784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0"/>
                </a:moveTo>
                <a:lnTo>
                  <a:pt x="0" y="4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76360" y="5443560"/>
            <a:ext cx="188640" cy="509400"/>
          </a:xfrm>
          <a:custGeom>
            <a:avLst/>
            <a:gdLst/>
            <a:ahLst/>
            <a:rect l="l" t="t" r="r" b="b"/>
            <a:pathLst>
              <a:path w="119" h="321">
                <a:moveTo>
                  <a:pt x="118" y="0"/>
                </a:moveTo>
                <a:lnTo>
                  <a:pt x="0" y="320"/>
                </a:lnTo>
                <a:lnTo>
                  <a:pt x="118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76360" y="5877000"/>
            <a:ext cx="46080" cy="75960"/>
          </a:xfrm>
          <a:custGeom>
            <a:avLst/>
            <a:gdLst/>
            <a:ahLst/>
            <a:rect l="l" t="t" r="r" b="b"/>
            <a:pathLst>
              <a:path w="29" h="48">
                <a:moveTo>
                  <a:pt x="28" y="7"/>
                </a:moveTo>
                <a:lnTo>
                  <a:pt x="0" y="47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811080" y="5443560"/>
            <a:ext cx="47880" cy="509400"/>
          </a:xfrm>
          <a:custGeom>
            <a:avLst/>
            <a:gdLst/>
            <a:ahLst/>
            <a:rect l="l" t="t" r="r" b="b"/>
            <a:pathLst>
              <a:path w="30" h="321">
                <a:moveTo>
                  <a:pt x="0" y="0"/>
                </a:moveTo>
                <a:lnTo>
                  <a:pt x="29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31960" y="5877000"/>
            <a:ext cx="38160" cy="75960"/>
          </a:xfrm>
          <a:custGeom>
            <a:avLst/>
            <a:gdLst/>
            <a:ahLst/>
            <a:rect l="l" t="t" r="r" b="b"/>
            <a:pathLst>
              <a:path w="24" h="48">
                <a:moveTo>
                  <a:pt x="23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417680" y="5443560"/>
            <a:ext cx="1440" cy="509400"/>
          </a:xfrm>
          <a:custGeom>
            <a:avLst/>
            <a:gdLst/>
            <a:ahLst/>
            <a:rect l="l" t="t" r="r" b="b"/>
            <a:pathLst>
              <a:path w="1" h="321">
                <a:moveTo>
                  <a:pt x="0" y="0"/>
                </a:moveTo>
                <a:lnTo>
                  <a:pt x="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398600" y="5878440"/>
            <a:ext cx="38160" cy="74520"/>
          </a:xfrm>
          <a:custGeom>
            <a:avLst/>
            <a:gdLst/>
            <a:ahLst/>
            <a:rect l="l" t="t" r="r" b="b"/>
            <a:pathLst>
              <a:path w="24" h="47">
                <a:moveTo>
                  <a:pt x="23" y="0"/>
                </a:moveTo>
                <a:lnTo>
                  <a:pt x="12" y="4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61960" y="5443560"/>
            <a:ext cx="49320" cy="509400"/>
          </a:xfrm>
          <a:custGeom>
            <a:avLst/>
            <a:gdLst/>
            <a:ahLst/>
            <a:rect l="l" t="t" r="r" b="b"/>
            <a:pathLst>
              <a:path w="31" h="321">
                <a:moveTo>
                  <a:pt x="0" y="0"/>
                </a:moveTo>
                <a:lnTo>
                  <a:pt x="30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484280" y="5877000"/>
            <a:ext cx="39600" cy="75960"/>
          </a:xfrm>
          <a:custGeom>
            <a:avLst/>
            <a:gdLst/>
            <a:ahLst/>
            <a:rect l="l" t="t" r="r" b="b"/>
            <a:pathLst>
              <a:path w="25" h="48">
                <a:moveTo>
                  <a:pt x="24" y="0"/>
                </a:moveTo>
                <a:lnTo>
                  <a:pt x="16" y="47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509840" y="5443560"/>
            <a:ext cx="93600" cy="509400"/>
          </a:xfrm>
          <a:custGeom>
            <a:avLst/>
            <a:gdLst/>
            <a:ahLst/>
            <a:rect l="l" t="t" r="r" b="b"/>
            <a:pathLst>
              <a:path w="59" h="321">
                <a:moveTo>
                  <a:pt x="0" y="0"/>
                </a:moveTo>
                <a:lnTo>
                  <a:pt x="5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71760" y="5875200"/>
            <a:ext cx="37800" cy="77760"/>
          </a:xfrm>
          <a:custGeom>
            <a:avLst/>
            <a:gdLst/>
            <a:ahLst/>
            <a:rect l="l" t="t" r="r" b="b"/>
            <a:pathLst>
              <a:path w="24" h="49">
                <a:moveTo>
                  <a:pt x="23" y="0"/>
                </a:moveTo>
                <a:lnTo>
                  <a:pt x="19" y="48"/>
                </a:lnTo>
                <a:lnTo>
                  <a:pt x="0" y="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55920" y="5443560"/>
            <a:ext cx="141120" cy="509400"/>
          </a:xfrm>
          <a:custGeom>
            <a:avLst/>
            <a:gdLst/>
            <a:ahLst/>
            <a:rect l="l" t="t" r="r" b="b"/>
            <a:pathLst>
              <a:path w="89" h="321">
                <a:moveTo>
                  <a:pt x="0" y="0"/>
                </a:moveTo>
                <a:lnTo>
                  <a:pt x="88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657440" y="5875200"/>
            <a:ext cx="39600" cy="77760"/>
          </a:xfrm>
          <a:custGeom>
            <a:avLst/>
            <a:gdLst/>
            <a:ahLst/>
            <a:rect l="l" t="t" r="r" b="b"/>
            <a:pathLst>
              <a:path w="25" h="49">
                <a:moveTo>
                  <a:pt x="23" y="0"/>
                </a:moveTo>
                <a:lnTo>
                  <a:pt x="24" y="48"/>
                </a:lnTo>
                <a:lnTo>
                  <a:pt x="0" y="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5443560"/>
            <a:ext cx="468360" cy="509400"/>
          </a:xfrm>
          <a:custGeom>
            <a:avLst/>
            <a:gdLst/>
            <a:ahLst/>
            <a:rect l="l" t="t" r="r" b="b"/>
            <a:pathLst>
              <a:path w="295" h="321">
                <a:moveTo>
                  <a:pt x="0" y="0"/>
                </a:moveTo>
                <a:lnTo>
                  <a:pt x="294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076560" y="5884920"/>
            <a:ext cx="66600" cy="68040"/>
          </a:xfrm>
          <a:custGeom>
            <a:avLst/>
            <a:gdLst/>
            <a:ahLst/>
            <a:rect l="l" t="t" r="r" b="b"/>
            <a:pathLst>
              <a:path w="42" h="43">
                <a:moveTo>
                  <a:pt x="17" y="0"/>
                </a:moveTo>
                <a:lnTo>
                  <a:pt x="41" y="42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68760" y="5443560"/>
            <a:ext cx="514080" cy="509400"/>
          </a:xfrm>
          <a:custGeom>
            <a:avLst/>
            <a:gdLst/>
            <a:ahLst/>
            <a:rect l="l" t="t" r="r" b="b"/>
            <a:pathLst>
              <a:path w="324" h="321">
                <a:moveTo>
                  <a:pt x="0" y="0"/>
                </a:moveTo>
                <a:lnTo>
                  <a:pt x="323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214800" y="5886360"/>
            <a:ext cx="68040" cy="66600"/>
          </a:xfrm>
          <a:custGeom>
            <a:avLst/>
            <a:gdLst/>
            <a:ahLst/>
            <a:rect l="l" t="t" r="r" b="b"/>
            <a:pathLst>
              <a:path w="43" h="42">
                <a:moveTo>
                  <a:pt x="17" y="0"/>
                </a:moveTo>
                <a:lnTo>
                  <a:pt x="42" y="41"/>
                </a:lnTo>
                <a:lnTo>
                  <a:pt x="0" y="16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909880" y="5443560"/>
            <a:ext cx="558720" cy="509400"/>
          </a:xfrm>
          <a:custGeom>
            <a:avLst/>
            <a:gdLst/>
            <a:ahLst/>
            <a:rect l="l" t="t" r="r" b="b"/>
            <a:pathLst>
              <a:path w="352" h="321">
                <a:moveTo>
                  <a:pt x="0" y="0"/>
                </a:moveTo>
                <a:lnTo>
                  <a:pt x="351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00560" y="5888160"/>
            <a:ext cx="68040" cy="64800"/>
          </a:xfrm>
          <a:custGeom>
            <a:avLst/>
            <a:gdLst/>
            <a:ahLst/>
            <a:rect l="l" t="t" r="r" b="b"/>
            <a:pathLst>
              <a:path w="43" h="41">
                <a:moveTo>
                  <a:pt x="16" y="0"/>
                </a:moveTo>
                <a:lnTo>
                  <a:pt x="42" y="4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048120" y="5443560"/>
            <a:ext cx="608040" cy="509400"/>
          </a:xfrm>
          <a:custGeom>
            <a:avLst/>
            <a:gdLst/>
            <a:ahLst/>
            <a:rect l="l" t="t" r="r" b="b"/>
            <a:pathLst>
              <a:path w="383" h="321">
                <a:moveTo>
                  <a:pt x="0" y="0"/>
                </a:moveTo>
                <a:lnTo>
                  <a:pt x="382" y="3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86320" y="588960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15" y="0"/>
                </a:moveTo>
                <a:lnTo>
                  <a:pt x="43" y="39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234960" y="3919680"/>
            <a:ext cx="112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233880" y="51166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234600" y="4071960"/>
            <a:ext cx="14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search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757760" y="3886200"/>
            <a:ext cx="169920" cy="1481040"/>
          </a:xfrm>
          <a:custGeom>
            <a:avLst/>
            <a:gdLst/>
            <a:ahLst/>
            <a:rect l="l" t="t" r="r" b="b"/>
            <a:pathLst>
              <a:path w="107" h="933">
                <a:moveTo>
                  <a:pt x="0" y="0"/>
                </a:moveTo>
                <a:lnTo>
                  <a:pt x="106" y="0"/>
                </a:lnTo>
                <a:lnTo>
                  <a:pt x="106" y="932"/>
                </a:ln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361400" y="5397480"/>
            <a:ext cx="9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(Index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437720" y="564048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1e8"/>
                </a:solidFill>
                <a:latin typeface="Arial"/>
              </a:rPr>
              <a:t>(Data 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235320" y="421164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83740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92800" y="5964120"/>
            <a:ext cx="344520" cy="351000"/>
          </a:xfrm>
          <a:custGeom>
            <a:avLst/>
            <a:gdLst/>
            <a:ahLst/>
            <a:rect l="l" t="t" r="r" b="b"/>
            <a:pathLst>
              <a:path w="217" h="221">
                <a:moveTo>
                  <a:pt x="0" y="220"/>
                </a:moveTo>
                <a:lnTo>
                  <a:pt x="0" y="0"/>
                </a:lnTo>
                <a:lnTo>
                  <a:pt x="216" y="0"/>
                </a:lnTo>
                <a:lnTo>
                  <a:pt x="216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51800" y="5964120"/>
            <a:ext cx="338040" cy="351000"/>
          </a:xfrm>
          <a:custGeom>
            <a:avLst/>
            <a:gdLst/>
            <a:ahLst/>
            <a:rect l="l" t="t" r="r" b="b"/>
            <a:pathLst>
              <a:path w="213" h="221">
                <a:moveTo>
                  <a:pt x="0" y="220"/>
                </a:moveTo>
                <a:lnTo>
                  <a:pt x="0" y="0"/>
                </a:lnTo>
                <a:lnTo>
                  <a:pt x="212" y="0"/>
                </a:lnTo>
                <a:lnTo>
                  <a:pt x="212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07200" y="5964120"/>
            <a:ext cx="339840" cy="351000"/>
          </a:xfrm>
          <a:custGeom>
            <a:avLst/>
            <a:gdLst/>
            <a:ahLst/>
            <a:rect l="l" t="t" r="r" b="b"/>
            <a:pathLst>
              <a:path w="214" h="221">
                <a:moveTo>
                  <a:pt x="0" y="220"/>
                </a:moveTo>
                <a:lnTo>
                  <a:pt x="0" y="0"/>
                </a:lnTo>
                <a:lnTo>
                  <a:pt x="213" y="0"/>
                </a:lnTo>
                <a:lnTo>
                  <a:pt x="213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661160" y="5964120"/>
            <a:ext cx="346320" cy="351000"/>
          </a:xfrm>
          <a:custGeom>
            <a:avLst/>
            <a:gdLst/>
            <a:ahLst/>
            <a:rect l="l" t="t" r="r" b="b"/>
            <a:pathLst>
              <a:path w="218" h="221">
                <a:moveTo>
                  <a:pt x="0" y="220"/>
                </a:moveTo>
                <a:lnTo>
                  <a:pt x="0" y="0"/>
                </a:lnTo>
                <a:lnTo>
                  <a:pt x="217" y="0"/>
                </a:lnTo>
                <a:lnTo>
                  <a:pt x="217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169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574120" y="5964120"/>
            <a:ext cx="342720" cy="351000"/>
          </a:xfrm>
          <a:custGeom>
            <a:avLst/>
            <a:gdLst/>
            <a:ahLst/>
            <a:rect l="l" t="t" r="r" b="b"/>
            <a:pathLst>
              <a:path w="216" h="221">
                <a:moveTo>
                  <a:pt x="0" y="220"/>
                </a:moveTo>
                <a:lnTo>
                  <a:pt x="0" y="0"/>
                </a:lnTo>
                <a:lnTo>
                  <a:pt x="215" y="0"/>
                </a:lnTo>
                <a:lnTo>
                  <a:pt x="215" y="220"/>
                </a:lnTo>
                <a:lnTo>
                  <a:pt x="0" y="22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492960" y="4795920"/>
            <a:ext cx="1490400" cy="1440"/>
          </a:xfrm>
          <a:custGeom>
            <a:avLst/>
            <a:gdLst/>
            <a:ahLst/>
            <a:rect l="l" t="t" r="r" b="b"/>
            <a:pathLst>
              <a:path w="939" h="1">
                <a:moveTo>
                  <a:pt x="0" y="0"/>
                </a:moveTo>
                <a:lnTo>
                  <a:pt x="93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492960" y="3749760"/>
            <a:ext cx="785880" cy="1047600"/>
          </a:xfrm>
          <a:custGeom>
            <a:avLst/>
            <a:gdLst/>
            <a:ahLst/>
            <a:rect l="l" t="t" r="r" b="b"/>
            <a:pathLst>
              <a:path w="495" h="660">
                <a:moveTo>
                  <a:pt x="0" y="659"/>
                </a:moveTo>
                <a:lnTo>
                  <a:pt x="494" y="0"/>
                </a:lnTo>
                <a:lnTo>
                  <a:pt x="0" y="65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277040" y="3749760"/>
            <a:ext cx="712800" cy="1047600"/>
          </a:xfrm>
          <a:custGeom>
            <a:avLst/>
            <a:gdLst/>
            <a:ahLst/>
            <a:rect l="l" t="t" r="r" b="b"/>
            <a:pathLst>
              <a:path w="449" h="660">
                <a:moveTo>
                  <a:pt x="0" y="0"/>
                </a:moveTo>
                <a:lnTo>
                  <a:pt x="448" y="6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986520" y="3657600"/>
            <a:ext cx="292320" cy="93600"/>
          </a:xfrm>
          <a:custGeom>
            <a:avLst/>
            <a:gdLst/>
            <a:ahLst/>
            <a:rect l="l" t="t" r="r" b="b"/>
            <a:pathLst>
              <a:path w="184" h="59">
                <a:moveTo>
                  <a:pt x="0" y="0"/>
                </a:moveTo>
                <a:lnTo>
                  <a:pt x="30" y="9"/>
                </a:lnTo>
                <a:lnTo>
                  <a:pt x="183" y="5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196040" y="369900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6" y="0"/>
                </a:moveTo>
                <a:lnTo>
                  <a:pt x="51" y="32"/>
                </a:lnTo>
                <a:lnTo>
                  <a:pt x="0" y="32"/>
                </a:lnTo>
                <a:lnTo>
                  <a:pt x="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34040" y="5076720"/>
            <a:ext cx="405000" cy="347760"/>
          </a:xfrm>
          <a:custGeom>
            <a:avLst/>
            <a:gdLst/>
            <a:ahLst/>
            <a:rect l="l" t="t" r="r" b="b"/>
            <a:pathLst>
              <a:path w="255" h="219">
                <a:moveTo>
                  <a:pt x="0" y="0"/>
                </a:moveTo>
                <a:lnTo>
                  <a:pt x="254" y="0"/>
                </a:lnTo>
                <a:lnTo>
                  <a:pt x="254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537240" y="5203800"/>
            <a:ext cx="63720" cy="42840"/>
          </a:xfrm>
          <a:custGeom>
            <a:avLst/>
            <a:gdLst/>
            <a:ahLst/>
            <a:rect l="l" t="t" r="r" b="b"/>
            <a:pathLst>
              <a:path w="40" h="27">
                <a:moveTo>
                  <a:pt x="39" y="26"/>
                </a:moveTo>
                <a:lnTo>
                  <a:pt x="0" y="13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537240" y="5227560"/>
            <a:ext cx="241560" cy="1800"/>
          </a:xfrm>
          <a:custGeom>
            <a:avLst/>
            <a:gdLst/>
            <a:ahLst/>
            <a:rect l="l" t="t" r="r" b="b"/>
            <a:pathLst>
              <a:path w="152" h="1">
                <a:moveTo>
                  <a:pt x="0" y="0"/>
                </a:moveTo>
                <a:lnTo>
                  <a:pt x="15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71364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40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77700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1787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1" y="26"/>
                </a:moveTo>
                <a:lnTo>
                  <a:pt x="0" y="13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1787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318440" y="520380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0" y="0"/>
                </a:moveTo>
                <a:lnTo>
                  <a:pt x="38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41664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99" y="0"/>
                </a:moveTo>
                <a:lnTo>
                  <a:pt x="0" y="187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416640" y="5000760"/>
            <a:ext cx="4932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30" y="15"/>
                </a:moveTo>
                <a:lnTo>
                  <a:pt x="0" y="48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977160" y="4780080"/>
            <a:ext cx="1440" cy="298440"/>
          </a:xfrm>
          <a:custGeom>
            <a:avLst/>
            <a:gdLst/>
            <a:ahLst/>
            <a:rect l="l" t="t" r="r" b="b"/>
            <a:pathLst>
              <a:path w="1" h="188">
                <a:moveTo>
                  <a:pt x="0" y="0"/>
                </a:moveTo>
                <a:lnTo>
                  <a:pt x="0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2760" y="4998960"/>
            <a:ext cx="30240" cy="79560"/>
          </a:xfrm>
          <a:custGeom>
            <a:avLst/>
            <a:gdLst/>
            <a:ahLst/>
            <a:rect l="l" t="t" r="r" b="b"/>
            <a:pathLst>
              <a:path w="19" h="50">
                <a:moveTo>
                  <a:pt x="18" y="0"/>
                </a:moveTo>
                <a:lnTo>
                  <a:pt x="8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862760" y="5076720"/>
            <a:ext cx="403200" cy="34776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0" y="0"/>
                </a:moveTo>
                <a:lnTo>
                  <a:pt x="253" y="0"/>
                </a:lnTo>
                <a:lnTo>
                  <a:pt x="253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662960" y="52038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40" y="26"/>
                </a:moveTo>
                <a:lnTo>
                  <a:pt x="0" y="13"/>
                </a:lnTo>
                <a:lnTo>
                  <a:pt x="4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662960" y="5227560"/>
            <a:ext cx="201600" cy="1800"/>
          </a:xfrm>
          <a:custGeom>
            <a:avLst/>
            <a:gdLst/>
            <a:ahLst/>
            <a:rect l="l" t="t" r="r" b="b"/>
            <a:pathLst>
              <a:path w="127" h="1">
                <a:moveTo>
                  <a:pt x="0" y="0"/>
                </a:moveTo>
                <a:lnTo>
                  <a:pt x="12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797960" y="520380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0"/>
                </a:moveTo>
                <a:lnTo>
                  <a:pt x="41" y="13"/>
                </a:lnTo>
                <a:lnTo>
                  <a:pt x="0" y="2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905600" y="4780080"/>
            <a:ext cx="158760" cy="298440"/>
          </a:xfrm>
          <a:custGeom>
            <a:avLst/>
            <a:gdLst/>
            <a:ahLst/>
            <a:rect l="l" t="t" r="r" b="b"/>
            <a:pathLst>
              <a:path w="100" h="188">
                <a:moveTo>
                  <a:pt x="0" y="0"/>
                </a:moveTo>
                <a:lnTo>
                  <a:pt x="99" y="18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015400" y="5000760"/>
            <a:ext cx="48960" cy="77760"/>
          </a:xfrm>
          <a:custGeom>
            <a:avLst/>
            <a:gdLst/>
            <a:ahLst/>
            <a:rect l="l" t="t" r="r" b="b"/>
            <a:pathLst>
              <a:path w="31" h="49">
                <a:moveTo>
                  <a:pt x="17" y="0"/>
                </a:moveTo>
                <a:lnTo>
                  <a:pt x="30" y="48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173640" y="5423040"/>
            <a:ext cx="201600" cy="498240"/>
          </a:xfrm>
          <a:custGeom>
            <a:avLst/>
            <a:gdLst/>
            <a:ahLst/>
            <a:rect l="l" t="t" r="r" b="b"/>
            <a:pathLst>
              <a:path w="127" h="314">
                <a:moveTo>
                  <a:pt x="0" y="0"/>
                </a:moveTo>
                <a:lnTo>
                  <a:pt x="12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30960" y="5842080"/>
            <a:ext cx="44280" cy="79200"/>
          </a:xfrm>
          <a:custGeom>
            <a:avLst/>
            <a:gdLst/>
            <a:ahLst/>
            <a:rect l="l" t="t" r="r" b="b"/>
            <a:pathLst>
              <a:path w="28" h="50">
                <a:moveTo>
                  <a:pt x="18" y="0"/>
                </a:moveTo>
                <a:lnTo>
                  <a:pt x="27" y="49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89600" y="5423040"/>
            <a:ext cx="366840" cy="549000"/>
          </a:xfrm>
          <a:custGeom>
            <a:avLst/>
            <a:gdLst/>
            <a:ahLst/>
            <a:rect l="l" t="t" r="r" b="b"/>
            <a:pathLst>
              <a:path w="231" h="346">
                <a:moveTo>
                  <a:pt x="230" y="0"/>
                </a:moveTo>
                <a:lnTo>
                  <a:pt x="0" y="345"/>
                </a:lnTo>
                <a:lnTo>
                  <a:pt x="23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889600" y="589752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35" y="16"/>
                </a:moveTo>
                <a:lnTo>
                  <a:pt x="0" y="46"/>
                </a:lnTo>
                <a:lnTo>
                  <a:pt x="19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292800" y="5423040"/>
            <a:ext cx="566640" cy="549000"/>
          </a:xfrm>
          <a:custGeom>
            <a:avLst/>
            <a:gdLst/>
            <a:ahLst/>
            <a:rect l="l" t="t" r="r" b="b"/>
            <a:pathLst>
              <a:path w="357" h="346">
                <a:moveTo>
                  <a:pt x="0" y="0"/>
                </a:moveTo>
                <a:lnTo>
                  <a:pt x="356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794640" y="590724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0"/>
                </a:moveTo>
                <a:lnTo>
                  <a:pt x="40" y="4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3000" y="5423040"/>
            <a:ext cx="282240" cy="498240"/>
          </a:xfrm>
          <a:custGeom>
            <a:avLst/>
            <a:gdLst/>
            <a:ahLst/>
            <a:rect l="l" t="t" r="r" b="b"/>
            <a:pathLst>
              <a:path w="178" h="314">
                <a:moveTo>
                  <a:pt x="177" y="0"/>
                </a:moveTo>
                <a:lnTo>
                  <a:pt x="0" y="313"/>
                </a:lnTo>
                <a:lnTo>
                  <a:pt x="177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93000" y="5846760"/>
            <a:ext cx="5220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2" y="13"/>
                </a:moveTo>
                <a:lnTo>
                  <a:pt x="0" y="46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416640" y="5423040"/>
            <a:ext cx="1408320" cy="498240"/>
          </a:xfrm>
          <a:custGeom>
            <a:avLst/>
            <a:gdLst/>
            <a:ahLst/>
            <a:rect l="l" t="t" r="r" b="b"/>
            <a:pathLst>
              <a:path w="887" h="314">
                <a:moveTo>
                  <a:pt x="0" y="0"/>
                </a:moveTo>
                <a:lnTo>
                  <a:pt x="886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56560" y="587844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6" y="0"/>
                </a:moveTo>
                <a:lnTo>
                  <a:pt x="42" y="26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173640" y="5423040"/>
            <a:ext cx="685800" cy="498240"/>
          </a:xfrm>
          <a:custGeom>
            <a:avLst/>
            <a:gdLst/>
            <a:ahLst/>
            <a:rect l="l" t="t" r="r" b="b"/>
            <a:pathLst>
              <a:path w="432" h="314">
                <a:moveTo>
                  <a:pt x="431" y="0"/>
                </a:moveTo>
                <a:lnTo>
                  <a:pt x="0" y="313"/>
                </a:lnTo>
                <a:lnTo>
                  <a:pt x="4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73640" y="586260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2"/>
                </a:moveTo>
                <a:lnTo>
                  <a:pt x="0" y="36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894360" y="5423040"/>
            <a:ext cx="1778040" cy="498240"/>
          </a:xfrm>
          <a:custGeom>
            <a:avLst/>
            <a:gdLst/>
            <a:ahLst/>
            <a:rect l="l" t="t" r="r" b="b"/>
            <a:pathLst>
              <a:path w="1120" h="314">
                <a:moveTo>
                  <a:pt x="0" y="0"/>
                </a:moveTo>
                <a:lnTo>
                  <a:pt x="1119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602560" y="5881680"/>
            <a:ext cx="69840" cy="41400"/>
          </a:xfrm>
          <a:custGeom>
            <a:avLst/>
            <a:gdLst/>
            <a:ahLst/>
            <a:rect l="l" t="t" r="r" b="b"/>
            <a:pathLst>
              <a:path w="44" h="26">
                <a:moveTo>
                  <a:pt x="5" y="0"/>
                </a:moveTo>
                <a:lnTo>
                  <a:pt x="43" y="24"/>
                </a:lnTo>
                <a:lnTo>
                  <a:pt x="0" y="2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894360" y="5423040"/>
            <a:ext cx="165240" cy="549000"/>
          </a:xfrm>
          <a:custGeom>
            <a:avLst/>
            <a:gdLst/>
            <a:ahLst/>
            <a:rect l="l" t="t" r="r" b="b"/>
            <a:pathLst>
              <a:path w="104" h="346">
                <a:moveTo>
                  <a:pt x="103" y="0"/>
                </a:moveTo>
                <a:lnTo>
                  <a:pt x="0" y="345"/>
                </a:lnTo>
                <a:lnTo>
                  <a:pt x="103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894360" y="5889600"/>
            <a:ext cx="42840" cy="82440"/>
          </a:xfrm>
          <a:custGeom>
            <a:avLst/>
            <a:gdLst/>
            <a:ahLst/>
            <a:rect l="l" t="t" r="r" b="b"/>
            <a:pathLst>
              <a:path w="27" h="52">
                <a:moveTo>
                  <a:pt x="26" y="8"/>
                </a:moveTo>
                <a:lnTo>
                  <a:pt x="0" y="51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20000" y="5423040"/>
            <a:ext cx="322200" cy="498240"/>
          </a:xfrm>
          <a:custGeom>
            <a:avLst/>
            <a:gdLst/>
            <a:ahLst/>
            <a:rect l="l" t="t" r="r" b="b"/>
            <a:pathLst>
              <a:path w="203" h="314">
                <a:moveTo>
                  <a:pt x="0" y="0"/>
                </a:moveTo>
                <a:lnTo>
                  <a:pt x="202" y="3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84960" y="5848200"/>
            <a:ext cx="57240" cy="73080"/>
          </a:xfrm>
          <a:custGeom>
            <a:avLst/>
            <a:gdLst/>
            <a:ahLst/>
            <a:rect l="l" t="t" r="r" b="b"/>
            <a:pathLst>
              <a:path w="36" h="46">
                <a:moveTo>
                  <a:pt x="17" y="0"/>
                </a:moveTo>
                <a:lnTo>
                  <a:pt x="35" y="45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421400" y="5423040"/>
            <a:ext cx="565200" cy="549000"/>
          </a:xfrm>
          <a:custGeom>
            <a:avLst/>
            <a:gdLst/>
            <a:ahLst/>
            <a:rect l="l" t="t" r="r" b="b"/>
            <a:pathLst>
              <a:path w="356" h="346">
                <a:moveTo>
                  <a:pt x="355" y="0"/>
                </a:moveTo>
                <a:lnTo>
                  <a:pt x="0" y="345"/>
                </a:lnTo>
                <a:lnTo>
                  <a:pt x="355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421400" y="5907240"/>
            <a:ext cx="59040" cy="64800"/>
          </a:xfrm>
          <a:custGeom>
            <a:avLst/>
            <a:gdLst/>
            <a:ahLst/>
            <a:rect l="l" t="t" r="r" b="b"/>
            <a:pathLst>
              <a:path w="37" h="41">
                <a:moveTo>
                  <a:pt x="36" y="19"/>
                </a:moveTo>
                <a:lnTo>
                  <a:pt x="0" y="40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8024760" y="5423040"/>
            <a:ext cx="322200" cy="549000"/>
          </a:xfrm>
          <a:custGeom>
            <a:avLst/>
            <a:gdLst/>
            <a:ahLst/>
            <a:rect l="l" t="t" r="r" b="b"/>
            <a:pathLst>
              <a:path w="203" h="346">
                <a:moveTo>
                  <a:pt x="0" y="0"/>
                </a:moveTo>
                <a:lnTo>
                  <a:pt x="202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8296200" y="5896080"/>
            <a:ext cx="50760" cy="7596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0"/>
                </a:moveTo>
                <a:lnTo>
                  <a:pt x="31" y="47"/>
                </a:lnTo>
                <a:lnTo>
                  <a:pt x="0" y="15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905600" y="5423040"/>
            <a:ext cx="241560" cy="498240"/>
          </a:xfrm>
          <a:custGeom>
            <a:avLst/>
            <a:gdLst/>
            <a:ahLst/>
            <a:rect l="l" t="t" r="r" b="b"/>
            <a:pathLst>
              <a:path w="152" h="314">
                <a:moveTo>
                  <a:pt x="151" y="0"/>
                </a:moveTo>
                <a:lnTo>
                  <a:pt x="0" y="313"/>
                </a:lnTo>
                <a:lnTo>
                  <a:pt x="15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905600" y="5845320"/>
            <a:ext cx="47880" cy="75960"/>
          </a:xfrm>
          <a:custGeom>
            <a:avLst/>
            <a:gdLst/>
            <a:ahLst/>
            <a:rect l="l" t="t" r="r" b="b"/>
            <a:pathLst>
              <a:path w="30" h="48">
                <a:moveTo>
                  <a:pt x="29" y="12"/>
                </a:moveTo>
                <a:lnTo>
                  <a:pt x="0" y="47"/>
                </a:lnTo>
                <a:lnTo>
                  <a:pt x="11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8185320" y="5423040"/>
            <a:ext cx="1440" cy="549000"/>
          </a:xfrm>
          <a:custGeom>
            <a:avLst/>
            <a:gdLst/>
            <a:ahLst/>
            <a:rect l="l" t="t" r="r" b="b"/>
            <a:pathLst>
              <a:path w="1" h="346">
                <a:moveTo>
                  <a:pt x="0" y="0"/>
                </a:moveTo>
                <a:lnTo>
                  <a:pt x="0" y="34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67680" y="5892840"/>
            <a:ext cx="36360" cy="79200"/>
          </a:xfrm>
          <a:custGeom>
            <a:avLst/>
            <a:gdLst/>
            <a:ahLst/>
            <a:rect l="l" t="t" r="r" b="b"/>
            <a:pathLst>
              <a:path w="23" h="50">
                <a:moveTo>
                  <a:pt x="22" y="0"/>
                </a:moveTo>
                <a:lnTo>
                  <a:pt x="10" y="4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21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52280" y="5638680"/>
            <a:ext cx="8839440" cy="0"/>
          </a:xfrm>
          <a:prstGeom prst="line">
            <a:avLst/>
          </a:prstGeom>
          <a:ln w="12600">
            <a:solidFill>
              <a:srgbClr val="002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062680" y="5114880"/>
            <a:ext cx="105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ta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82160" y="406224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576920" y="3984480"/>
            <a:ext cx="1465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Book Antiqua"/>
              </a:rPr>
              <a:t>UNCLUS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"/>
          <p:cNvGraphicFramePr/>
          <p:nvPr/>
        </p:nvGraphicFramePr>
        <p:xfrm>
          <a:off x="1447920" y="1600200"/>
          <a:ext cx="6095880" cy="4043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e (D)/Sparse(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 (C) or not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4F6-0A98-4A4B-9AD5-52D6F2A3C8D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BA017-8668-4361-8D62-9866C46F9B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273672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of Opera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331080" y="0"/>
            <a:ext cx="590328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B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number of data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R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records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99"/>
                </a:solidFill>
                <a:latin typeface="Tahoma"/>
              </a:rPr>
              <a:t>D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verage) time to read or write disk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219320" y="1295280"/>
          <a:ext cx="6397560" cy="4957920"/>
        </p:xfrm>
        <a:graphic>
          <a:graphicData uri="http://schemas.openxmlformats.org/drawingml/2006/table">
            <a:tbl>
              <a:tblPr/>
              <a:tblGrid>
                <a:gridCol w="1189080"/>
                <a:gridCol w="1528560"/>
                <a:gridCol w="1925640"/>
                <a:gridCol w="175428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p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rt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ed 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can all reco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1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quality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0.5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(log</a:t>
                      </a:r>
                      <a:r>
                        <a:rPr b="0" lang="en-US" sz="1600" spc="-1" strike="noStrike" baseline="-25000">
                          <a:solidFill>
                            <a:srgbClr val="0021e8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1.5B) *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Range 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 #match pg*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ns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+ 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1e8"/>
                          </a:solidFill>
                          <a:latin typeface="Times New Roman"/>
                        </a:rPr>
                        <a:t>search +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8" name=""/>
          <p:cNvSpPr/>
          <p:nvPr/>
        </p:nvSpPr>
        <p:spPr>
          <a:xfrm>
            <a:off x="3962520" y="1066680"/>
            <a:ext cx="198108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867280" y="1066680"/>
            <a:ext cx="198144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ic problem in computer sci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equested in sorted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find students in increasing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first step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lk loa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 tree ind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useful for elimina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plicate cop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collection of records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useful for summarizing related groups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rt-me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in algorithm involves sor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sort 100Gb of data with 1Gb of 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not virtual memo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Way Sort: Requires 3 Buff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0: Read a page, sort it, writ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y one buffer page is used (as in previous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1, 2, 3, …, etc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quires 3 buffe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e pairs of runs into runs twice as l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buffer pages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93000" y="4290840"/>
            <a:ext cx="1315800" cy="220680"/>
          </a:xfrm>
          <a:custGeom>
            <a:avLst/>
            <a:gdLst/>
            <a:ahLst/>
            <a:rect l="l" t="t" r="r" b="b"/>
            <a:pathLst>
              <a:path w="829" h="139">
                <a:moveTo>
                  <a:pt x="828" y="70"/>
                </a:moveTo>
                <a:lnTo>
                  <a:pt x="796" y="42"/>
                </a:lnTo>
                <a:lnTo>
                  <a:pt x="707" y="21"/>
                </a:lnTo>
                <a:lnTo>
                  <a:pt x="414" y="0"/>
                </a:lnTo>
                <a:lnTo>
                  <a:pt x="122" y="21"/>
                </a:lnTo>
                <a:lnTo>
                  <a:pt x="33" y="42"/>
                </a:lnTo>
                <a:lnTo>
                  <a:pt x="0" y="70"/>
                </a:lnTo>
                <a:lnTo>
                  <a:pt x="33" y="97"/>
                </a:lnTo>
                <a:lnTo>
                  <a:pt x="122" y="118"/>
                </a:lnTo>
                <a:lnTo>
                  <a:pt x="414" y="138"/>
                </a:lnTo>
                <a:lnTo>
                  <a:pt x="707" y="118"/>
                </a:lnTo>
                <a:lnTo>
                  <a:pt x="796" y="97"/>
                </a:lnTo>
                <a:lnTo>
                  <a:pt x="828" y="70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47720" y="4687920"/>
            <a:ext cx="1040040" cy="150840"/>
          </a:xfrm>
          <a:custGeom>
            <a:avLst/>
            <a:gdLst/>
            <a:ahLst/>
            <a:rect l="l" t="t" r="r" b="b"/>
            <a:pathLst>
              <a:path w="655" h="95">
                <a:moveTo>
                  <a:pt x="0" y="94"/>
                </a:moveTo>
                <a:lnTo>
                  <a:pt x="0" y="0"/>
                </a:lnTo>
                <a:lnTo>
                  <a:pt x="654" y="0"/>
                </a:lnTo>
                <a:lnTo>
                  <a:pt x="654" y="94"/>
                </a:lnTo>
                <a:lnTo>
                  <a:pt x="0" y="94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47720" y="5435640"/>
            <a:ext cx="1068480" cy="138240"/>
          </a:xfrm>
          <a:custGeom>
            <a:avLst/>
            <a:gdLst/>
            <a:ahLst/>
            <a:rect l="l" t="t" r="r" b="b"/>
            <a:pathLst>
              <a:path w="673" h="87">
                <a:moveTo>
                  <a:pt x="0" y="86"/>
                </a:moveTo>
                <a:lnTo>
                  <a:pt x="0" y="0"/>
                </a:lnTo>
                <a:lnTo>
                  <a:pt x="672" y="0"/>
                </a:lnTo>
                <a:lnTo>
                  <a:pt x="672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09840" y="4319640"/>
            <a:ext cx="1314360" cy="218880"/>
          </a:xfrm>
          <a:custGeom>
            <a:avLst/>
            <a:gdLst/>
            <a:ahLst/>
            <a:rect l="l" t="t" r="r" b="b"/>
            <a:pathLst>
              <a:path w="828" h="138">
                <a:moveTo>
                  <a:pt x="827" y="69"/>
                </a:moveTo>
                <a:lnTo>
                  <a:pt x="795" y="42"/>
                </a:lnTo>
                <a:lnTo>
                  <a:pt x="706" y="20"/>
                </a:lnTo>
                <a:lnTo>
                  <a:pt x="414" y="0"/>
                </a:lnTo>
                <a:lnTo>
                  <a:pt x="121" y="20"/>
                </a:lnTo>
                <a:lnTo>
                  <a:pt x="32" y="42"/>
                </a:lnTo>
                <a:lnTo>
                  <a:pt x="0" y="69"/>
                </a:lnTo>
                <a:lnTo>
                  <a:pt x="32" y="95"/>
                </a:lnTo>
                <a:lnTo>
                  <a:pt x="121" y="117"/>
                </a:lnTo>
                <a:lnTo>
                  <a:pt x="414" y="137"/>
                </a:lnTo>
                <a:lnTo>
                  <a:pt x="706" y="117"/>
                </a:lnTo>
                <a:lnTo>
                  <a:pt x="795" y="95"/>
                </a:lnTo>
                <a:lnTo>
                  <a:pt x="827" y="69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537000" y="5757840"/>
            <a:ext cx="2730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Main memory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102440" y="4986360"/>
            <a:ext cx="1055880" cy="138240"/>
          </a:xfrm>
          <a:custGeom>
            <a:avLst/>
            <a:gdLst/>
            <a:ahLst/>
            <a:rect l="l" t="t" r="r" b="b"/>
            <a:pathLst>
              <a:path w="665" h="87">
                <a:moveTo>
                  <a:pt x="0" y="86"/>
                </a:moveTo>
                <a:lnTo>
                  <a:pt x="0" y="0"/>
                </a:lnTo>
                <a:lnTo>
                  <a:pt x="664" y="0"/>
                </a:lnTo>
                <a:lnTo>
                  <a:pt x="664" y="86"/>
                </a:lnTo>
                <a:lnTo>
                  <a:pt x="0" y="86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7116840" y="5218200"/>
            <a:ext cx="1055520" cy="125280"/>
          </a:xfrm>
          <a:custGeom>
            <a:avLst/>
            <a:gdLst/>
            <a:ahLst/>
            <a:rect l="l" t="t" r="r" b="b"/>
            <a:pathLst>
              <a:path w="665" h="79">
                <a:moveTo>
                  <a:pt x="0" y="78"/>
                </a:moveTo>
                <a:lnTo>
                  <a:pt x="0" y="0"/>
                </a:lnTo>
                <a:lnTo>
                  <a:pt x="664" y="0"/>
                </a:lnTo>
                <a:lnTo>
                  <a:pt x="664" y="78"/>
                </a:lnTo>
                <a:lnTo>
                  <a:pt x="0" y="78"/>
                </a:lnTo>
              </a:path>
            </a:pathLst>
          </a:custGeom>
          <a:solidFill>
            <a:srgbClr val="99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57600" y="4433760"/>
            <a:ext cx="1127160" cy="444600"/>
          </a:xfrm>
          <a:custGeom>
            <a:avLst/>
            <a:gdLst/>
            <a:ahLst/>
            <a:rect l="l" t="t" r="r" b="b"/>
            <a:pathLst>
              <a:path w="710" h="280">
                <a:moveTo>
                  <a:pt x="0" y="279"/>
                </a:moveTo>
                <a:lnTo>
                  <a:pt x="0" y="0"/>
                </a:lnTo>
                <a:lnTo>
                  <a:pt x="709" y="0"/>
                </a:lnTo>
                <a:lnTo>
                  <a:pt x="709" y="279"/>
                </a:lnTo>
                <a:lnTo>
                  <a:pt x="0" y="279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410080" y="4910040"/>
            <a:ext cx="1001880" cy="360360"/>
          </a:xfrm>
          <a:custGeom>
            <a:avLst/>
            <a:gdLst/>
            <a:ahLst/>
            <a:rect l="l" t="t" r="r" b="b"/>
            <a:pathLst>
              <a:path w="631" h="227">
                <a:moveTo>
                  <a:pt x="0" y="226"/>
                </a:moveTo>
                <a:lnTo>
                  <a:pt x="0" y="0"/>
                </a:lnTo>
                <a:lnTo>
                  <a:pt x="630" y="0"/>
                </a:lnTo>
                <a:lnTo>
                  <a:pt x="630" y="226"/>
                </a:lnTo>
                <a:lnTo>
                  <a:pt x="0" y="226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630600" y="5276880"/>
            <a:ext cx="1127160" cy="446040"/>
          </a:xfrm>
          <a:custGeom>
            <a:avLst/>
            <a:gdLst/>
            <a:ahLst/>
            <a:rect l="l" t="t" r="r" b="b"/>
            <a:pathLst>
              <a:path w="710" h="281">
                <a:moveTo>
                  <a:pt x="0" y="280"/>
                </a:moveTo>
                <a:lnTo>
                  <a:pt x="0" y="0"/>
                </a:lnTo>
                <a:lnTo>
                  <a:pt x="709" y="0"/>
                </a:lnTo>
                <a:lnTo>
                  <a:pt x="709" y="280"/>
                </a:lnTo>
                <a:lnTo>
                  <a:pt x="0" y="280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52880" y="4116240"/>
            <a:ext cx="3433680" cy="2055960"/>
          </a:xfrm>
          <a:custGeom>
            <a:avLst/>
            <a:gdLst/>
            <a:ahLst/>
            <a:rect l="l" t="t" r="r" b="b"/>
            <a:pathLst>
              <a:path w="2163" h="1295">
                <a:moveTo>
                  <a:pt x="0" y="1294"/>
                </a:moveTo>
                <a:lnTo>
                  <a:pt x="0" y="0"/>
                </a:lnTo>
                <a:lnTo>
                  <a:pt x="2162" y="0"/>
                </a:lnTo>
                <a:lnTo>
                  <a:pt x="2162" y="1294"/>
                </a:lnTo>
                <a:lnTo>
                  <a:pt x="0" y="1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661560" y="447192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661560" y="5316480"/>
            <a:ext cx="99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INPU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384520" y="4921200"/>
            <a:ext cx="101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7386120" y="5870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834920" y="589752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5238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1447920" y="5486400"/>
            <a:ext cx="1452240" cy="304200"/>
            <a:chOff x="1447920" y="5486400"/>
            <a:chExt cx="1452240" cy="304200"/>
          </a:xfrm>
        </p:grpSpPr>
        <p:sp>
          <p:nvSpPr>
            <p:cNvPr id="1155" name=""/>
            <p:cNvSpPr/>
            <p:nvPr/>
          </p:nvSpPr>
          <p:spPr>
            <a:xfrm>
              <a:off x="1528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479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6934320" y="5486400"/>
            <a:ext cx="1452240" cy="304200"/>
            <a:chOff x="6934320" y="5486400"/>
            <a:chExt cx="1452240" cy="304200"/>
          </a:xfrm>
        </p:grpSpPr>
        <p:sp>
          <p:nvSpPr>
            <p:cNvPr id="1158" name=""/>
            <p:cNvSpPr/>
            <p:nvPr/>
          </p:nvSpPr>
          <p:spPr>
            <a:xfrm>
              <a:off x="7015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34320" y="5486400"/>
              <a:ext cx="13712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99ccff"/>
            </a:solidFill>
            <a:ln cap="rnd"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701028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305920" y="4419720"/>
            <a:ext cx="0" cy="12189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66880" y="472428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66880" y="5486400"/>
            <a:ext cx="99072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800600" y="4648320"/>
            <a:ext cx="609480" cy="3808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800600" y="5181120"/>
            <a:ext cx="60948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400800" y="5105520"/>
            <a:ext cx="60948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-Way External Merge S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ss we read + write each page in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pages in the file =&gt; the number of p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otal cost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a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 and conquer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subfiles and 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2819520"/>
                <a:ext cx="2628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⌈"/>
                        <m:endChr m:val="⌉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533520" y="4191120"/>
                <a:ext cx="28051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1" name=""/>
          <p:cNvSpPr/>
          <p:nvPr/>
        </p:nvSpPr>
        <p:spPr>
          <a:xfrm>
            <a:off x="7936200" y="1403280"/>
            <a:ext cx="925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936920" y="19162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936920" y="25146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936920" y="354168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022960" y="5338800"/>
            <a:ext cx="119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age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853040" y="166212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853040" y="217476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53040" y="294480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853040" y="4229280"/>
            <a:ext cx="74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1464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62132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0976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57388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049800" y="1919160"/>
            <a:ext cx="31932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52608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002360" y="1919160"/>
            <a:ext cx="317520" cy="25740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200" y="191916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383000" y="2433600"/>
            <a:ext cx="31932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383000" y="2689200"/>
            <a:ext cx="31932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33556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33556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288120" y="243360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288120" y="26892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240680" y="2433600"/>
            <a:ext cx="317520" cy="257040"/>
          </a:xfrm>
          <a:custGeom>
            <a:avLst/>
            <a:gdLst/>
            <a:ahLst/>
            <a:rect l="l" t="t" r="r" b="b"/>
            <a:pathLst>
              <a:path w="200" h="162">
                <a:moveTo>
                  <a:pt x="0" y="161"/>
                </a:moveTo>
                <a:lnTo>
                  <a:pt x="0" y="0"/>
                </a:lnTo>
                <a:lnTo>
                  <a:pt x="199" y="0"/>
                </a:lnTo>
                <a:lnTo>
                  <a:pt x="199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240680" y="2689200"/>
            <a:ext cx="317520" cy="25884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5928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85928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5928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62600" y="32018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762600" y="345924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762600" y="3716280"/>
            <a:ext cx="320760" cy="257400"/>
          </a:xfrm>
          <a:custGeom>
            <a:avLst/>
            <a:gdLst/>
            <a:ahLst/>
            <a:rect l="l" t="t" r="r" b="b"/>
            <a:pathLst>
              <a:path w="202" h="162">
                <a:moveTo>
                  <a:pt x="0" y="161"/>
                </a:moveTo>
                <a:lnTo>
                  <a:pt x="0" y="0"/>
                </a:lnTo>
                <a:lnTo>
                  <a:pt x="201" y="0"/>
                </a:lnTo>
                <a:lnTo>
                  <a:pt x="201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762600" y="397188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811840" y="448632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811840" y="474192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11840" y="499896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811840" y="5256360"/>
            <a:ext cx="318960" cy="25704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811840" y="551196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811840" y="576900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811840" y="6026040"/>
            <a:ext cx="318960" cy="257400"/>
          </a:xfrm>
          <a:custGeom>
            <a:avLst/>
            <a:gdLst/>
            <a:ahLst/>
            <a:rect l="l" t="t" r="r" b="b"/>
            <a:pathLst>
              <a:path w="201" h="162">
                <a:moveTo>
                  <a:pt x="0" y="161"/>
                </a:moveTo>
                <a:lnTo>
                  <a:pt x="0" y="0"/>
                </a:lnTo>
                <a:lnTo>
                  <a:pt x="200" y="0"/>
                </a:lnTo>
                <a:lnTo>
                  <a:pt x="200" y="161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811840" y="6281640"/>
            <a:ext cx="318960" cy="25884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825880" y="62802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62132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976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57388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049800" y="1405080"/>
            <a:ext cx="31932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65260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00236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477200" y="1405080"/>
            <a:ext cx="318960" cy="258480"/>
          </a:xfrm>
          <a:custGeom>
            <a:avLst/>
            <a:gdLst/>
            <a:ahLst/>
            <a:rect l="l" t="t" r="r" b="b"/>
            <a:pathLst>
              <a:path w="201" h="163">
                <a:moveTo>
                  <a:pt x="0" y="162"/>
                </a:moveTo>
                <a:lnTo>
                  <a:pt x="0" y="0"/>
                </a:lnTo>
                <a:lnTo>
                  <a:pt x="200" y="0"/>
                </a:lnTo>
                <a:lnTo>
                  <a:pt x="200" y="162"/>
                </a:lnTo>
                <a:lnTo>
                  <a:pt x="0" y="162"/>
                </a:lnTo>
              </a:path>
            </a:pathLst>
          </a:custGeom>
          <a:solidFill>
            <a:srgbClr val="33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146480" y="1405080"/>
            <a:ext cx="317520" cy="258480"/>
          </a:xfrm>
          <a:custGeom>
            <a:avLst/>
            <a:gdLst/>
            <a:ahLst/>
            <a:rect l="l" t="t" r="r" b="b"/>
            <a:pathLst>
              <a:path w="200" h="163">
                <a:moveTo>
                  <a:pt x="0" y="162"/>
                </a:moveTo>
                <a:lnTo>
                  <a:pt x="0" y="0"/>
                </a:lnTo>
                <a:lnTo>
                  <a:pt x="199" y="0"/>
                </a:lnTo>
                <a:lnTo>
                  <a:pt x="199" y="162"/>
                </a:lnTo>
                <a:lnTo>
                  <a:pt x="0" y="162"/>
                </a:lnTo>
              </a:path>
            </a:pathLst>
          </a:custGeom>
          <a:solidFill>
            <a:srgbClr val="f6bf6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1079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574520" y="1403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05080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52708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0336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6479640" y="1414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025760" y="1403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986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00336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57452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050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536800" y="19288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70280" y="19162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14960" y="1916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327200" y="24512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336560" y="2697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289120" y="239868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27940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262200" y="2419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51040" y="26654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252920" y="26654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12840" y="32097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81284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8222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812840" y="39909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719400" y="3478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719400" y="37242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798960" y="39592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765400" y="474984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765400" y="49975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765400" y="52531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65400" y="552132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765400" y="576756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765400" y="6022800"/>
            <a:ext cx="429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859280" y="3209760"/>
            <a:ext cx="320760" cy="258840"/>
          </a:xfrm>
          <a:custGeom>
            <a:avLst/>
            <a:gdLst/>
            <a:ahLst/>
            <a:rect l="l" t="t" r="r" b="b"/>
            <a:pathLst>
              <a:path w="202" h="163">
                <a:moveTo>
                  <a:pt x="0" y="162"/>
                </a:moveTo>
                <a:lnTo>
                  <a:pt x="0" y="0"/>
                </a:lnTo>
                <a:lnTo>
                  <a:pt x="201" y="0"/>
                </a:lnTo>
                <a:lnTo>
                  <a:pt x="201" y="162"/>
                </a:lnTo>
                <a:lnTo>
                  <a:pt x="0" y="16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18288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038480" y="2286000"/>
            <a:ext cx="381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110120" y="304812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110120" y="43434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321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745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240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734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22944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65316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147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642080" y="1676520"/>
            <a:ext cx="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25124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453348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4016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5522400" y="2209680"/>
            <a:ext cx="21132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2294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6512040" y="2209680"/>
            <a:ext cx="21096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1470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7429680" y="2209680"/>
            <a:ext cx="21240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53384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5098680" y="2971800"/>
            <a:ext cx="352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440400" y="2971800"/>
            <a:ext cx="424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005240" y="2971800"/>
            <a:ext cx="3538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27760" y="4267080"/>
            <a:ext cx="84744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6016320" y="4267080"/>
            <a:ext cx="919080" cy="2286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219320"/>
            <a:ext cx="0" cy="548640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B+ Trees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: Table to be sorted has B+ tree index on sorting column(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: Can retrieve records in order by traversing leaf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this a good id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 to consi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Goo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 tree is </a:t>
            </a:r>
            <a:r>
              <a:rPr b="0" lang="en-US" sz="2600" spc="-1" strike="noStrike">
                <a:solidFill>
                  <a:srgbClr val="669999"/>
                </a:solidFill>
                <a:latin typeface="Times New Roman"/>
              </a:rPr>
              <a:t>not 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Could be a very </a:t>
            </a:r>
            <a:r>
              <a:rPr b="1" i="1" lang="en-US" sz="2600" spc="-1" strike="noStrike">
                <a:solidFill>
                  <a:srgbClr val="669999"/>
                </a:solidFill>
                <a:latin typeface="Times New Roman"/>
              </a:rPr>
              <a:t>bad ide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38862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root to the left-most leaf, then retrieve all leaf pages (primary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lustering index is used?  Additional cost of retrieving data records:  each page fetched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766600" y="5776920"/>
            <a:ext cx="57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669999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669999"/>
                </a:solidFill>
                <a:latin typeface="Book Antiqua"/>
              </a:rPr>
              <a:t>Always better than external sor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66416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7688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891040" y="437040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5560" y="437040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11828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731000" y="437040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44816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444816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44816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448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4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483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498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5165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4533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55148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567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5846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6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619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635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653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6702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687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03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721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738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75632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772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789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8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824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840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8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875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92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908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9258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943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9608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766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98960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98960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98960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98960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98960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8960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98960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98960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9896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98960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8960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9896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98960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98960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98960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98960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98960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98960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8960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98960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98960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984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4966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9510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49338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4916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4898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882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8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4848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830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4814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47970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779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4762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4746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47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711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694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4677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46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4643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4625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4609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4592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4574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4557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4541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45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506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4489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4737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5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444816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44816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444816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44816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444816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444816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44816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444816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4816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444816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444816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444816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444816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444816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444816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444816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44816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444816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444816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444816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444816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44816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1504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531504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315040" y="3406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3150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332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49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3658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830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4007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418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4338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451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468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4864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502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5198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371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5548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5706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5879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6055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6228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6563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6736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9124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7070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72436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74200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757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57754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792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81040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826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84352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856120" y="3409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85612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856120" y="3444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856120" y="3460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856120" y="3478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856120" y="3495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5856120" y="3513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856120" y="3529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85612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856120" y="356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856120" y="3579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5612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85612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856120" y="3632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856120" y="3648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856120" y="3665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56120" y="3683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856120" y="3699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856120" y="371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5612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856120" y="3751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56120" y="3767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585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H="1">
            <a:off x="5833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581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580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78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7654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574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57322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571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569736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56811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566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564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56289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56131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559584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55782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5560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 flipH="1">
            <a:off x="554472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5274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55098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4925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47704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5459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54417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424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54082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53910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53733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3560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53398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5322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5315040" y="3774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5315040" y="3752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5315040" y="373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5315040" y="3723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315040" y="3706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315040" y="3684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5315040" y="3666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315040" y="365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315040" y="3633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315040" y="3616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5315040" y="3598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5315040" y="35874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5315040" y="3565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5315040" y="3547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5315040" y="3536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5315040" y="3519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315040" y="34970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5315040" y="3479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315040" y="3468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5315040" y="3446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5315040" y="3428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5315040" y="3411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049640" y="437040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6777000" y="340668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6777000" y="34005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777000" y="34066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777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79464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811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27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454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68626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8803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8961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9134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93108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948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9642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981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9991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70167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326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70502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0675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085160" y="3406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1010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1182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13592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15176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16904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18668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2039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21980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2374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254720" y="3406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7272360" y="3406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28820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305840" y="3406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7318440" y="3411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7318440" y="3427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318440" y="3444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318440" y="346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318440" y="3479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318440" y="3495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318440" y="351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318440" y="3530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318440" y="3548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7318440" y="356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7318440" y="3581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318440" y="3598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7318440" y="3614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7318440" y="3632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7318440" y="3649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7318440" y="36669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7318440" y="3683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7318440" y="3700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318440" y="3718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318440" y="3733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318440" y="3751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7318440" y="376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731160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7294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72766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7260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72435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2259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7208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71924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17516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71578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714168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7124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1071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70894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70736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70560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0387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70210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70052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6988320" y="37846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69703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9530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693684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691956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690228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88464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H="1">
            <a:off x="68688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685152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683388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H="1">
            <a:off x="6816600" y="378468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6800400" y="37846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6783120" y="378468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V="1">
            <a:off x="6777000" y="37731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 flipV="1">
            <a:off x="6777000" y="3750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6777000" y="3733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V="1">
            <a:off x="6777000" y="3715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6777000" y="37047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6777000" y="36828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777000" y="36651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6777000" y="3654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777000" y="36370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777000" y="3614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V="1">
            <a:off x="6777000" y="3597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V="1">
            <a:off x="6777000" y="35863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6777000" y="3563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V="1">
            <a:off x="6777000" y="35463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6777000" y="3528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777000" y="3517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6777000" y="3495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6777000" y="34779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6777000" y="34668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6777000" y="3444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6777000" y="3427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6777000" y="3409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760080" y="230040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464440" y="491508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730200" y="203040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377480" y="319716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7335720" y="341136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562720" y="16765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4724280" y="312408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638680" y="3124080"/>
            <a:ext cx="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6781680" y="3124080"/>
            <a:ext cx="2286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 flipH="1">
            <a:off x="4114800" y="3809880"/>
            <a:ext cx="4572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H="1">
            <a:off x="4266720" y="3809880"/>
            <a:ext cx="38124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4419720" y="3733920"/>
            <a:ext cx="38088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876920" y="3809880"/>
            <a:ext cx="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54100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548640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5562360" y="3809880"/>
            <a:ext cx="759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flipH="1">
            <a:off x="5638680" y="3809880"/>
            <a:ext cx="763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934320" y="3809880"/>
            <a:ext cx="30456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010280" y="3809880"/>
            <a:ext cx="30492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16292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238880" y="3809880"/>
            <a:ext cx="685800" cy="5335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87656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19920" y="198108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876920" y="312408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+-tree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15094" r="0" b="0"/>
          <a:stretch/>
        </p:blipFill>
        <p:spPr>
          <a:xfrm>
            <a:off x="228600" y="1295280"/>
            <a:ext cx="8610480" cy="3984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15238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80988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f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C62-2C76-44A2-8F81-9E68EA8A8D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AADB0-4478-48FA-8E1D-69788B2BF3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066320" y="11412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lustered B+ Tree Used for S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index for data entries; each data entry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data record.  In general, one I/O per data re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911320" y="5665680"/>
            <a:ext cx="46224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524400" y="5665680"/>
            <a:ext cx="46332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385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753080" y="5665680"/>
            <a:ext cx="460440" cy="384120"/>
          </a:xfrm>
          <a:custGeom>
            <a:avLst/>
            <a:gdLst/>
            <a:ahLst/>
            <a:rect l="l" t="t" r="r" b="b"/>
            <a:pathLst>
              <a:path w="290" h="242">
                <a:moveTo>
                  <a:pt x="0" y="241"/>
                </a:moveTo>
                <a:lnTo>
                  <a:pt x="0" y="0"/>
                </a:lnTo>
                <a:lnTo>
                  <a:pt x="289" y="0"/>
                </a:lnTo>
                <a:lnTo>
                  <a:pt x="289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536580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978520" y="5665680"/>
            <a:ext cx="463680" cy="384120"/>
          </a:xfrm>
          <a:custGeom>
            <a:avLst/>
            <a:gdLst/>
            <a:ahLst/>
            <a:rect l="l" t="t" r="r" b="b"/>
            <a:pathLst>
              <a:path w="292" h="242">
                <a:moveTo>
                  <a:pt x="0" y="241"/>
                </a:moveTo>
                <a:lnTo>
                  <a:pt x="0" y="0"/>
                </a:lnTo>
                <a:lnTo>
                  <a:pt x="291" y="0"/>
                </a:lnTo>
                <a:lnTo>
                  <a:pt x="291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69568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69568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69568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695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12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7306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746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637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7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798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81448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832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849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867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882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900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917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29354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951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968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9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003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193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036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0542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071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087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1050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122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1399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56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173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1910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208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2241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3676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3676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3676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23676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23676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23676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23676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3676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23676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323676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23676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23676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23676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23676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23676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23676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23676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3676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323676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23676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23676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3676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3231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3214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31989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31809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3163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3146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3130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1129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095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3078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3061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0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027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3009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993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976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2958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941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925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29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2890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873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857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2839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H="1">
            <a:off x="28224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2804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H="1">
            <a:off x="2788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H="1">
            <a:off x="2771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2754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H="1">
            <a:off x="2736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H="1">
            <a:off x="2720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27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69568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69568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69568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269568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269568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269568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269568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269568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269568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9568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269568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269568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69568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69568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69568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269568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269568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269568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9568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269568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269568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V="1">
            <a:off x="269568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562200" y="4702320"/>
            <a:ext cx="54324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356220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562200" y="47023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5622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579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597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613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630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64824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6655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81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699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37162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37339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7497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7670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7846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8019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8178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8354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527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8703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8862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9038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9211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93876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9546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9718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98952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005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0226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040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05756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07340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0910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10364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10364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103640" y="4740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103640" y="4756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03640" y="47736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103640" y="4791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103640" y="4808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103640" y="48243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103640" y="4842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03640" y="48592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103640" y="4875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03640" y="4892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0364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103640" y="4927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103640" y="4943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10364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103640" y="497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103640" y="4994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10364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10364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103640" y="5046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03640" y="5062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 flipH="1">
            <a:off x="409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40813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406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 flipH="1">
            <a:off x="404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40305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4012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39970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397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396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9445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39286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391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H="1">
            <a:off x="389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38764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 flipH="1">
            <a:off x="386028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38430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38257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38080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37922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377496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7573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37400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372384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37065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6889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flipH="1">
            <a:off x="36716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365616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3638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36208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flipH="1">
            <a:off x="36032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35874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57012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3562200" y="50706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3562200" y="5047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3562200" y="50306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562200" y="50198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3562200" y="5001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3562200" y="49798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3562200" y="4962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562200" y="4951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3562200" y="4928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3562200" y="4911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3562200" y="4893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3562200" y="48826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3562200" y="48607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V="1">
            <a:off x="3562200" y="4843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V="1">
            <a:off x="3562200" y="48319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V="1">
            <a:off x="3562200" y="4814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3562200" y="47923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3562200" y="4775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3562200" y="476424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V="1">
            <a:off x="3562200" y="47415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3562200" y="472428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562200" y="4706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297160" y="5665680"/>
            <a:ext cx="461880" cy="384120"/>
          </a:xfrm>
          <a:custGeom>
            <a:avLst/>
            <a:gdLst/>
            <a:ahLst/>
            <a:rect l="l" t="t" r="r" b="b"/>
            <a:pathLst>
              <a:path w="291" h="242">
                <a:moveTo>
                  <a:pt x="0" y="241"/>
                </a:moveTo>
                <a:lnTo>
                  <a:pt x="0" y="0"/>
                </a:lnTo>
                <a:lnTo>
                  <a:pt x="290" y="0"/>
                </a:lnTo>
                <a:lnTo>
                  <a:pt x="290" y="241"/>
                </a:lnTo>
                <a:lnTo>
                  <a:pt x="0" y="2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024520" y="4702320"/>
            <a:ext cx="542880" cy="379440"/>
          </a:xfrm>
          <a:custGeom>
            <a:avLst/>
            <a:gdLst/>
            <a:ahLst/>
            <a:rect l="l" t="t" r="r" b="b"/>
            <a:pathLst>
              <a:path w="342" h="239">
                <a:moveTo>
                  <a:pt x="0" y="0"/>
                </a:moveTo>
                <a:lnTo>
                  <a:pt x="341" y="0"/>
                </a:lnTo>
                <a:lnTo>
                  <a:pt x="341" y="238"/>
                </a:lnTo>
                <a:lnTo>
                  <a:pt x="0" y="238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5024520" y="4695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024520" y="4702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50245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0418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0594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0752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50925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511020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127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14368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160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517860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51958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211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2293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2466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642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2801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974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31504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33232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34816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3658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3830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39892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54165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433840" y="470232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451480" y="47023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4673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48496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50224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519880" y="47023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53572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553000" y="470232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565600" y="4707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565600" y="4722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56560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5565600" y="475776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65600" y="47750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65600" y="4791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565600" y="48085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565600" y="48261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565600" y="4843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565600" y="4859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565600" y="4876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565600" y="48942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56560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565600" y="49276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65600" y="49449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565600" y="49626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5565600" y="49784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5565600" y="49957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565600" y="50133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565600" y="50292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565600" y="5046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565600" y="50641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55591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55418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5524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5508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49072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flipH="1">
            <a:off x="5473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4558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54399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5422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54050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53892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53722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53542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533700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flipH="1">
            <a:off x="532080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53035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 flipH="1">
            <a:off x="52862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 flipH="1">
            <a:off x="52686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>
            <a:off x="52527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351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52178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2002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18436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 flipH="1">
            <a:off x="516744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514944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flipH="1">
            <a:off x="51321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 flipH="1">
            <a:off x="5116680" y="507996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H="1">
            <a:off x="509868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508140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5063760" y="507996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5047920" y="507996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5030640" y="5079960"/>
            <a:ext cx="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V="1">
            <a:off x="5024520" y="5068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5024520" y="5046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 flipV="1">
            <a:off x="5024520" y="50288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5024520" y="501156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5024520" y="50007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024520" y="49780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5024520" y="49608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024520" y="495000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5024520" y="493200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5024520" y="491004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5024520" y="48924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5024520" y="48812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024520" y="485892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5024520" y="48416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5024520" y="4824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5024520" y="48128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5024520" y="47908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5024520" y="477324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5024520" y="4762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5024520" y="474012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5024520" y="47224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024520" y="4705200"/>
            <a:ext cx="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009040" y="3594240"/>
            <a:ext cx="196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(Directs se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711600" y="6210360"/>
            <a:ext cx="169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979160" y="3324240"/>
            <a:ext cx="83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5626440" y="4491000"/>
            <a:ext cx="158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Data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5583240" y="4707000"/>
            <a:ext cx="1710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"Sequence se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312372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267080" y="3276720"/>
            <a:ext cx="1143000" cy="11430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124080" y="4419720"/>
            <a:ext cx="22860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809880" y="2971800"/>
            <a:ext cx="457200" cy="30492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2971800" y="4419720"/>
            <a:ext cx="4572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86200" y="441972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029200" y="4419720"/>
            <a:ext cx="228600" cy="3045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819520" y="5105520"/>
            <a:ext cx="13716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25146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2666520" y="5029200"/>
            <a:ext cx="381240" cy="68580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124080" y="5105520"/>
            <a:ext cx="4572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3657600" y="5105520"/>
            <a:ext cx="763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2514600" y="5105520"/>
            <a:ext cx="1295280" cy="60948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886200" y="5105520"/>
            <a:ext cx="1523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962520" y="5105520"/>
            <a:ext cx="304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3733560" y="5105520"/>
            <a:ext cx="144756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257800" y="5105520"/>
            <a:ext cx="30492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5029200" y="5105520"/>
            <a:ext cx="3808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486400" y="5105520"/>
            <a:ext cx="68580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an be used to organize files (clustered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orting is important tool for many applications including building index and answering query (next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erge sort minimizes disk I/O co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s 0: Produces sorte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u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size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# buffer pages). Later passes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er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u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 of runs merged at a time depends o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lock siz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less I/O cost per p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rger block size means smaller # runs mer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practice, # of runs rarely more than 2 o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correct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data entry o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enough spa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, must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plit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(into L and a new node L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entries evenly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copy up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index entry 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happen recur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growth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wi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tall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9A8-2FE8-40BA-BEA2-89F35D2630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D0A45-B9CF-4330-8AD9-989523137C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+-tre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t root, find lea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entry belo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 e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is at least half-full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n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L has onl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-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trie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dis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rrowing from sibl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djacent node with same parent as 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1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-distribution fails,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ib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rge occurred, must delete entry (pointing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sibling) from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shrink: gets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narr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(sometimes) </a:t>
            </a: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one level lower at top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F6B-2E59-49F4-9035-DE5B9867B1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5BE47-3A79-4186-9EE2-5D5C8915C9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B+ Tree - Inserting 8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486400"/>
            <a:ext cx="8016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this example, we can avoid split by re-distributing             entries; however, this is usually not done in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109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76520"/>
            <a:ext cx="8367840" cy="2627280"/>
            <a:chOff x="457200" y="1676520"/>
            <a:chExt cx="8367840" cy="2627280"/>
          </a:xfrm>
        </p:grpSpPr>
        <p:sp>
          <p:nvSpPr>
            <p:cNvPr id="176" name=""/>
            <p:cNvSpPr/>
            <p:nvPr/>
          </p:nvSpPr>
          <p:spPr>
            <a:xfrm>
              <a:off x="457200" y="37116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264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06280" y="37116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31720" y="37116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620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1640" y="3691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5920" y="209376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512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156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256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900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0000" y="209376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86440" y="209376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67080" y="209376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3520" y="209376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385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640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9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308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4976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520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00640" y="371952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228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6096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86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040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404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10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86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104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34440" y="371952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0480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58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908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7144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77880" y="286236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88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653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632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2760" y="286236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500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6000" y="286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244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8308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9520" y="286236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052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75520" y="286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59400" y="286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2960" y="286236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9000" y="31845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89000" y="35877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0680" y="318456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1040" y="359892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19280" y="318456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44720" y="363996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00640" y="320508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00640" y="360828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32320" y="320508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00600" y="358920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9760" y="321480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75440" y="363204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7880" y="244620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77880" y="278460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41800" y="245592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27840" y="279720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3996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63600" y="371952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89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13040" y="371952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00440" y="180036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4440" y="21225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24440" y="28782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1240" y="2889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8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22600" y="37180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7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468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689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1956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472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784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2932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54760" y="370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69040" y="36957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3040" y="36860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0240" y="289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3320" y="28908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711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4896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7240" y="36972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167652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3440000">
              <a:off x="70246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3440000">
              <a:off x="14626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3440000">
              <a:off x="2834280" y="356832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440000">
              <a:off x="42814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3440000">
              <a:off x="5653080" y="356868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6560" y="4938840"/>
            <a:ext cx="808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tice that root was split, leading to increase in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6840" y="2057400"/>
            <a:ext cx="8201880" cy="2677320"/>
            <a:chOff x="456840" y="2057400"/>
            <a:chExt cx="8201880" cy="2677320"/>
          </a:xfrm>
        </p:grpSpPr>
        <p:sp>
          <p:nvSpPr>
            <p:cNvPr id="276" name=""/>
            <p:cNvSpPr/>
            <p:nvPr/>
          </p:nvSpPr>
          <p:spPr>
            <a:xfrm>
              <a:off x="3382920" y="2532240"/>
              <a:ext cx="557280" cy="465120"/>
            </a:xfrm>
            <a:custGeom>
              <a:avLst/>
              <a:gdLst/>
              <a:ahLst/>
              <a:rect l="l" t="t" r="r" b="b"/>
              <a:pathLst>
                <a:path w="351" h="293">
                  <a:moveTo>
                    <a:pt x="0" y="292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7688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8760" y="2532240"/>
              <a:ext cx="56016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380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97480" y="2532240"/>
              <a:ext cx="558720" cy="465120"/>
            </a:xfrm>
            <a:custGeom>
              <a:avLst/>
              <a:gdLst/>
              <a:ahLst/>
              <a:rect l="l" t="t" r="r" b="b"/>
              <a:pathLst>
                <a:path w="352" h="293">
                  <a:moveTo>
                    <a:pt x="0" y="292"/>
                  </a:moveTo>
                  <a:lnTo>
                    <a:pt x="0" y="0"/>
                  </a:lnTo>
                  <a:lnTo>
                    <a:pt x="351" y="0"/>
                  </a:lnTo>
                  <a:lnTo>
                    <a:pt x="351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91080" y="2532240"/>
              <a:ext cx="180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4760" y="2532240"/>
              <a:ext cx="560520" cy="465120"/>
            </a:xfrm>
            <a:custGeom>
              <a:avLst/>
              <a:gdLst/>
              <a:ahLst/>
              <a:rect l="l" t="t" r="r" b="b"/>
              <a:pathLst>
                <a:path w="353" h="293">
                  <a:moveTo>
                    <a:pt x="0" y="292"/>
                  </a:moveTo>
                  <a:lnTo>
                    <a:pt x="0" y="0"/>
                  </a:lnTo>
                  <a:lnTo>
                    <a:pt x="352" y="0"/>
                  </a:lnTo>
                  <a:lnTo>
                    <a:pt x="352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6920" y="2532240"/>
              <a:ext cx="1440" cy="465120"/>
            </a:xfrm>
            <a:custGeom>
              <a:avLst/>
              <a:gdLst/>
              <a:ahLst/>
              <a:rect l="l" t="t" r="r" b="b"/>
              <a:pathLst>
                <a:path w="1" h="293">
                  <a:moveTo>
                    <a:pt x="0" y="0"/>
                  </a:moveTo>
                  <a:lnTo>
                    <a:pt x="0" y="2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3480" y="2532240"/>
              <a:ext cx="93600" cy="465120"/>
            </a:xfrm>
            <a:custGeom>
              <a:avLst/>
              <a:gdLst/>
              <a:ahLst/>
              <a:rect l="l" t="t" r="r" b="b"/>
              <a:pathLst>
                <a:path w="59" h="293">
                  <a:moveTo>
                    <a:pt x="0" y="29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292"/>
                  </a:lnTo>
                  <a:lnTo>
                    <a:pt x="0" y="2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4528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168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832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61640" y="3967200"/>
              <a:ext cx="371160" cy="37296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4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233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87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02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717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29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05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7208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4324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05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20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43560" y="3967200"/>
              <a:ext cx="37476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16520" y="3967200"/>
              <a:ext cx="37332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72360" y="3967200"/>
              <a:ext cx="374400" cy="372960"/>
            </a:xfrm>
            <a:custGeom>
              <a:avLst/>
              <a:gdLst/>
              <a:ahLst/>
              <a:rect l="l" t="t" r="r" b="b"/>
              <a:pathLst>
                <a:path w="236" h="235">
                  <a:moveTo>
                    <a:pt x="0" y="234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4532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684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88360" y="396720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lnTo>
                    <a:pt x="0" y="0"/>
                  </a:lnTo>
                  <a:lnTo>
                    <a:pt x="234" y="0"/>
                  </a:lnTo>
                  <a:lnTo>
                    <a:pt x="234" y="234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11400" y="2936880"/>
              <a:ext cx="2219400" cy="1009800"/>
            </a:xfrm>
            <a:custGeom>
              <a:avLst/>
              <a:gdLst/>
              <a:ahLst/>
              <a:rect l="l" t="t" r="r" b="b"/>
              <a:pathLst>
                <a:path w="1398" h="636">
                  <a:moveTo>
                    <a:pt x="1397" y="0"/>
                  </a:moveTo>
                  <a:lnTo>
                    <a:pt x="0" y="635"/>
                  </a:lnTo>
                  <a:lnTo>
                    <a:pt x="13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11400" y="3870360"/>
              <a:ext cx="119160" cy="76320"/>
            </a:xfrm>
            <a:custGeom>
              <a:avLst/>
              <a:gdLst/>
              <a:ahLst/>
              <a:rect l="l" t="t" r="r" b="b"/>
              <a:pathLst>
                <a:path w="75" h="48">
                  <a:moveTo>
                    <a:pt x="74" y="33"/>
                  </a:moveTo>
                  <a:lnTo>
                    <a:pt x="0" y="47"/>
                  </a:lnTo>
                  <a:lnTo>
                    <a:pt x="59" y="0"/>
                  </a:lnTo>
                  <a:lnTo>
                    <a:pt x="74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72080" y="2949840"/>
              <a:ext cx="1104840" cy="996840"/>
            </a:xfrm>
            <a:custGeom>
              <a:avLst/>
              <a:gdLst/>
              <a:ahLst/>
              <a:rect l="l" t="t" r="r" b="b"/>
              <a:pathLst>
                <a:path w="696" h="628">
                  <a:moveTo>
                    <a:pt x="695" y="0"/>
                  </a:moveTo>
                  <a:lnTo>
                    <a:pt x="0" y="627"/>
                  </a:lnTo>
                  <a:lnTo>
                    <a:pt x="6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72080" y="3845160"/>
              <a:ext cx="107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67" y="27"/>
                  </a:moveTo>
                  <a:lnTo>
                    <a:pt x="0" y="63"/>
                  </a:lnTo>
                  <a:lnTo>
                    <a:pt x="42" y="0"/>
                  </a:lnTo>
                  <a:lnTo>
                    <a:pt x="67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2400" y="2949840"/>
              <a:ext cx="1440" cy="985680"/>
            </a:xfrm>
            <a:custGeom>
              <a:avLst/>
              <a:gdLst/>
              <a:ahLst/>
              <a:rect l="l" t="t" r="r" b="b"/>
              <a:pathLst>
                <a:path w="1" h="621">
                  <a:moveTo>
                    <a:pt x="0" y="0"/>
                  </a:moveTo>
                  <a:lnTo>
                    <a:pt x="0" y="62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2160" y="3816360"/>
              <a:ext cx="60480" cy="119160"/>
            </a:xfrm>
            <a:custGeom>
              <a:avLst/>
              <a:gdLst/>
              <a:ahLst/>
              <a:rect l="l" t="t" r="r" b="b"/>
              <a:pathLst>
                <a:path w="38" h="75">
                  <a:moveTo>
                    <a:pt x="37" y="0"/>
                  </a:moveTo>
                  <a:lnTo>
                    <a:pt x="19" y="74"/>
                  </a:lnTo>
                  <a:lnTo>
                    <a:pt x="0" y="0"/>
                  </a:lnTo>
                  <a:lnTo>
                    <a:pt x="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00840" y="2936880"/>
              <a:ext cx="1093680" cy="998640"/>
            </a:xfrm>
            <a:custGeom>
              <a:avLst/>
              <a:gdLst/>
              <a:ahLst/>
              <a:rect l="l" t="t" r="r" b="b"/>
              <a:pathLst>
                <a:path w="689" h="629">
                  <a:moveTo>
                    <a:pt x="0" y="0"/>
                  </a:moveTo>
                  <a:lnTo>
                    <a:pt x="688" y="6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88320" y="3834000"/>
              <a:ext cx="106200" cy="101520"/>
            </a:xfrm>
            <a:custGeom>
              <a:avLst/>
              <a:gdLst/>
              <a:ahLst/>
              <a:rect l="l" t="t" r="r" b="b"/>
              <a:pathLst>
                <a:path w="67" h="64">
                  <a:moveTo>
                    <a:pt x="25" y="0"/>
                  </a:moveTo>
                  <a:lnTo>
                    <a:pt x="66" y="63"/>
                  </a:lnTo>
                  <a:lnTo>
                    <a:pt x="0" y="27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9560" y="2924280"/>
              <a:ext cx="2219400" cy="1011240"/>
            </a:xfrm>
            <a:custGeom>
              <a:avLst/>
              <a:gdLst/>
              <a:ahLst/>
              <a:rect l="l" t="t" r="r" b="b"/>
              <a:pathLst>
                <a:path w="1398" h="637">
                  <a:moveTo>
                    <a:pt x="0" y="0"/>
                  </a:moveTo>
                  <a:lnTo>
                    <a:pt x="1397" y="6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59800" y="3857760"/>
              <a:ext cx="119160" cy="77760"/>
            </a:xfrm>
            <a:custGeom>
              <a:avLst/>
              <a:gdLst/>
              <a:ahLst/>
              <a:rect l="l" t="t" r="r" b="b"/>
              <a:pathLst>
                <a:path w="75" h="49">
                  <a:moveTo>
                    <a:pt x="15" y="0"/>
                  </a:moveTo>
                  <a:lnTo>
                    <a:pt x="74" y="48"/>
                  </a:lnTo>
                  <a:lnTo>
                    <a:pt x="0" y="34"/>
                  </a:lnTo>
                  <a:lnTo>
                    <a:pt x="1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08440" y="205740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6872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26000" y="2602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95880" y="2590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684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808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1040" y="39704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2560" y="39816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1788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78240" y="3981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1312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60880" y="39704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3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004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3416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819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2332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96280" y="3979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39690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720" y="39578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35560" y="26035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68840" y="205920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9020000">
              <a:off x="33404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9020000">
              <a:off x="15879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9020000">
              <a:off x="494064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020000">
              <a:off x="6617160" y="381600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676520"/>
            <a:ext cx="8686800" cy="32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57200" y="2057400"/>
            <a:ext cx="8367840" cy="2627280"/>
            <a:chOff x="457200" y="2057400"/>
            <a:chExt cx="8367840" cy="2627280"/>
          </a:xfrm>
        </p:grpSpPr>
        <p:sp>
          <p:nvSpPr>
            <p:cNvPr id="343" name=""/>
            <p:cNvSpPr/>
            <p:nvPr/>
          </p:nvSpPr>
          <p:spPr>
            <a:xfrm>
              <a:off x="457200" y="40924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264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06280" y="40924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31720" y="40924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620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640" y="40719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25920" y="247464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0512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1156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9256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900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0000" y="247464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6440" y="247464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67080" y="247464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247464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385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640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89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308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76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7520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00640" y="410040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228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096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6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1040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404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610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86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04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34440" y="41004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0480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858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908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7144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77880" y="324324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588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653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632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2760" y="324324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500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6000" y="324324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0244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8308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9520" y="324324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7052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75520" y="324324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59400" y="324324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62960" y="324324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9000" y="35654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89000" y="39686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0680" y="356544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81040" y="397980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19280" y="356544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4720" y="402084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00640" y="358596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00640" y="398916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32320" y="358596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00600" y="397008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719760" y="359568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75440" y="401292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7880" y="282708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7880" y="316548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41800" y="283680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7840" y="31780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3996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3600" y="410040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89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3040" y="410040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00440" y="21812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54440" y="2503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24440" y="32590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21240" y="32702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98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22600" y="40989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5468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89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56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472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784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2932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54760" y="40878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69040" y="4076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93040" y="40669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00240" y="327168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633320" y="327168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711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4896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87240" y="407808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1560" y="205740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440000">
              <a:off x="70246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3440000">
              <a:off x="14626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3440000">
              <a:off x="2834280" y="394920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3440000">
              <a:off x="42814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3440000">
              <a:off x="5653080" y="394956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76212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Tree (including 8*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e 19* and 20*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19* is ea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20* is done with re-distribution. Notice how middle key is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pied 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0880" y="1981080"/>
            <a:ext cx="8367840" cy="2627280"/>
            <a:chOff x="380880" y="1981080"/>
            <a:chExt cx="8367840" cy="2627280"/>
          </a:xfrm>
        </p:grpSpPr>
        <p:sp>
          <p:nvSpPr>
            <p:cNvPr id="445" name=""/>
            <p:cNvSpPr/>
            <p:nvPr/>
          </p:nvSpPr>
          <p:spPr>
            <a:xfrm>
              <a:off x="380880" y="401616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632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9960" y="401616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5400" y="401616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988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320" y="399564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9600" y="2398320"/>
              <a:ext cx="487080" cy="40500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2880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524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624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268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03680" y="2398320"/>
              <a:ext cx="144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10120" y="2398320"/>
              <a:ext cx="488880" cy="40500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90760" y="2398320"/>
              <a:ext cx="1800" cy="40500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97200" y="2398320"/>
              <a:ext cx="82800" cy="40500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622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876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3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3676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344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888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24320" y="4024080"/>
              <a:ext cx="323640" cy="32544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465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8464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0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3408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772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846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10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41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58120" y="402408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2848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094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144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9512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01560" y="316692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825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890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7000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6440" y="316692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3868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9680" y="316692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2612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0676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613200" y="316692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9420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99200" y="316692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83080" y="316692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86640" y="316692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2680" y="348912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12680" y="389232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44360" y="3489120"/>
              <a:ext cx="449280" cy="50652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4720" y="390348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42960" y="3489120"/>
              <a:ext cx="1330200" cy="51732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68400" y="39445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24320" y="3509640"/>
              <a:ext cx="446040" cy="49680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24320" y="3912840"/>
              <a:ext cx="87120" cy="9360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56000" y="3509640"/>
              <a:ext cx="459000" cy="47628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24280" y="3893760"/>
              <a:ext cx="9072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43440" y="3519360"/>
              <a:ext cx="1362240" cy="47628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99120" y="3936600"/>
              <a:ext cx="10656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01560" y="2750760"/>
              <a:ext cx="1177920" cy="39708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1560" y="3089160"/>
              <a:ext cx="10656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65480" y="2760480"/>
              <a:ext cx="1992240" cy="38736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1520" y="310176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76364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87280" y="4024080"/>
              <a:ext cx="32724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2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4024080"/>
              <a:ext cx="325440" cy="32544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24120" y="210492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8120" y="24271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48120" y="31827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44920" y="319392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22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6280" y="4022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71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7836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926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4324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840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152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300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78440" y="401148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92720" y="4000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16720" y="399060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23920" y="319536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57000" y="319536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948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264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0920" y="400176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35240" y="1981080"/>
              <a:ext cx="5331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3440000">
              <a:off x="69483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3440000">
              <a:off x="13863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3440000">
              <a:off x="2757960" y="3872880"/>
              <a:ext cx="60876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3440000">
              <a:off x="42051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3440000">
              <a:off x="5576760" y="3873240"/>
              <a:ext cx="60948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28600" y="1447920"/>
            <a:ext cx="8915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80880" y="1905120"/>
            <a:ext cx="8367840" cy="2727720"/>
            <a:chOff x="380880" y="1905120"/>
            <a:chExt cx="8367840" cy="2727720"/>
          </a:xfrm>
        </p:grpSpPr>
        <p:sp>
          <p:nvSpPr>
            <p:cNvPr id="543" name=""/>
            <p:cNvSpPr/>
            <p:nvPr/>
          </p:nvSpPr>
          <p:spPr>
            <a:xfrm>
              <a:off x="380880" y="394020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632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29960" y="394020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5400" y="394020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988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5320" y="391932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49600" y="2322360"/>
              <a:ext cx="48708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2880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3524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1624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268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03680" y="232236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0120" y="232236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90760" y="232236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97200" y="2322360"/>
              <a:ext cx="8280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22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76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3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676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344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888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24320" y="3948120"/>
              <a:ext cx="323640" cy="32508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4"/>
                  </a:moveTo>
                  <a:lnTo>
                    <a:pt x="0" y="0"/>
                  </a:lnTo>
                  <a:lnTo>
                    <a:pt x="203" y="0"/>
                  </a:lnTo>
                  <a:lnTo>
                    <a:pt x="203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465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8464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0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3408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95772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846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0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341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58120" y="3948120"/>
              <a:ext cx="32688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848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94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144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99512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01560" y="3090600"/>
              <a:ext cx="48924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25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890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000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76440" y="3090600"/>
              <a:ext cx="82440" cy="404640"/>
            </a:xfrm>
            <a:custGeom>
              <a:avLst/>
              <a:gdLst/>
              <a:ahLst/>
              <a:rect l="l" t="t" r="r" b="b"/>
              <a:pathLst>
                <a:path w="52" h="255">
                  <a:moveTo>
                    <a:pt x="0" y="254"/>
                  </a:moveTo>
                  <a:lnTo>
                    <a:pt x="0" y="0"/>
                  </a:lnTo>
                  <a:lnTo>
                    <a:pt x="51" y="0"/>
                  </a:lnTo>
                  <a:lnTo>
                    <a:pt x="51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19680" y="3090600"/>
              <a:ext cx="144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2612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676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13200" y="3090600"/>
              <a:ext cx="487440" cy="404640"/>
            </a:xfrm>
            <a:custGeom>
              <a:avLst/>
              <a:gdLst/>
              <a:ahLst/>
              <a:rect l="l" t="t" r="r" b="b"/>
              <a:pathLst>
                <a:path w="307" h="255">
                  <a:moveTo>
                    <a:pt x="0" y="254"/>
                  </a:moveTo>
                  <a:lnTo>
                    <a:pt x="0" y="0"/>
                  </a:lnTo>
                  <a:lnTo>
                    <a:pt x="306" y="0"/>
                  </a:lnTo>
                  <a:lnTo>
                    <a:pt x="306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9420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99200" y="3090600"/>
              <a:ext cx="488880" cy="404640"/>
            </a:xfrm>
            <a:custGeom>
              <a:avLst/>
              <a:gdLst/>
              <a:ahLst/>
              <a:rect l="l" t="t" r="r" b="b"/>
              <a:pathLst>
                <a:path w="308" h="255">
                  <a:moveTo>
                    <a:pt x="0" y="254"/>
                  </a:moveTo>
                  <a:lnTo>
                    <a:pt x="0" y="0"/>
                  </a:lnTo>
                  <a:lnTo>
                    <a:pt x="307" y="0"/>
                  </a:lnTo>
                  <a:lnTo>
                    <a:pt x="307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080" y="3090600"/>
              <a:ext cx="1800" cy="404640"/>
            </a:xfrm>
            <a:custGeom>
              <a:avLst/>
              <a:gdLst/>
              <a:ahLst/>
              <a:rect l="l" t="t" r="r" b="b"/>
              <a:pathLst>
                <a:path w="1" h="255">
                  <a:moveTo>
                    <a:pt x="0" y="0"/>
                  </a:moveTo>
                  <a:lnTo>
                    <a:pt x="0" y="2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86640" y="3090600"/>
              <a:ext cx="83880" cy="404640"/>
            </a:xfrm>
            <a:custGeom>
              <a:avLst/>
              <a:gdLst/>
              <a:ahLst/>
              <a:rect l="l" t="t" r="r" b="b"/>
              <a:pathLst>
                <a:path w="53" h="255">
                  <a:moveTo>
                    <a:pt x="0" y="25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254"/>
                  </a:lnTo>
                  <a:lnTo>
                    <a:pt x="0" y="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12680" y="341316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12680" y="381636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944360" y="3413160"/>
              <a:ext cx="449280" cy="505800"/>
            </a:xfrm>
            <a:custGeom>
              <a:avLst/>
              <a:gdLst/>
              <a:ahLst/>
              <a:rect l="l" t="t" r="r" b="b"/>
              <a:pathLst>
                <a:path w="283" h="319">
                  <a:moveTo>
                    <a:pt x="0" y="0"/>
                  </a:moveTo>
                  <a:lnTo>
                    <a:pt x="282" y="3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04720" y="3827520"/>
              <a:ext cx="88920" cy="9144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24" y="0"/>
                  </a:moveTo>
                  <a:lnTo>
                    <a:pt x="55" y="57"/>
                  </a:lnTo>
                  <a:lnTo>
                    <a:pt x="0" y="21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42960" y="3413160"/>
              <a:ext cx="1330200" cy="516960"/>
            </a:xfrm>
            <a:custGeom>
              <a:avLst/>
              <a:gdLst/>
              <a:ahLst/>
              <a:rect l="l" t="t" r="r" b="b"/>
              <a:pathLst>
                <a:path w="838" h="326">
                  <a:moveTo>
                    <a:pt x="0" y="0"/>
                  </a:moveTo>
                  <a:lnTo>
                    <a:pt x="837" y="32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68400" y="3868560"/>
              <a:ext cx="104760" cy="6156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11" y="0"/>
                  </a:moveTo>
                  <a:lnTo>
                    <a:pt x="65" y="38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24320" y="3433680"/>
              <a:ext cx="446040" cy="49644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280" y="0"/>
                  </a:moveTo>
                  <a:lnTo>
                    <a:pt x="0" y="312"/>
                  </a:lnTo>
                  <a:lnTo>
                    <a:pt x="2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24320" y="3836880"/>
              <a:ext cx="87120" cy="9324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54" y="21"/>
                  </a:moveTo>
                  <a:lnTo>
                    <a:pt x="0" y="58"/>
                  </a:lnTo>
                  <a:lnTo>
                    <a:pt x="30" y="0"/>
                  </a:lnTo>
                  <a:lnTo>
                    <a:pt x="54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56000" y="3433680"/>
              <a:ext cx="459000" cy="475920"/>
            </a:xfrm>
            <a:custGeom>
              <a:avLst/>
              <a:gdLst/>
              <a:ahLst/>
              <a:rect l="l" t="t" r="r" b="b"/>
              <a:pathLst>
                <a:path w="289" h="300">
                  <a:moveTo>
                    <a:pt x="0" y="0"/>
                  </a:moveTo>
                  <a:lnTo>
                    <a:pt x="288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24280" y="3817800"/>
              <a:ext cx="90720" cy="91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23" y="0"/>
                  </a:moveTo>
                  <a:lnTo>
                    <a:pt x="56" y="57"/>
                  </a:lnTo>
                  <a:lnTo>
                    <a:pt x="0" y="22"/>
                  </a:lnTo>
                  <a:lnTo>
                    <a:pt x="2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43440" y="3443040"/>
              <a:ext cx="1362240" cy="475920"/>
            </a:xfrm>
            <a:custGeom>
              <a:avLst/>
              <a:gdLst/>
              <a:ahLst/>
              <a:rect l="l" t="t" r="r" b="b"/>
              <a:pathLst>
                <a:path w="858" h="300">
                  <a:moveTo>
                    <a:pt x="0" y="0"/>
                  </a:moveTo>
                  <a:lnTo>
                    <a:pt x="857" y="29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99120" y="38606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11" y="0"/>
                  </a:moveTo>
                  <a:lnTo>
                    <a:pt x="66" y="36"/>
                  </a:lnTo>
                  <a:lnTo>
                    <a:pt x="0" y="31"/>
                  </a:lnTo>
                  <a:lnTo>
                    <a:pt x="1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1560" y="2674800"/>
              <a:ext cx="1177920" cy="396360"/>
            </a:xfrm>
            <a:custGeom>
              <a:avLst/>
              <a:gdLst/>
              <a:ahLst/>
              <a:rect l="l" t="t" r="r" b="b"/>
              <a:pathLst>
                <a:path w="742" h="250">
                  <a:moveTo>
                    <a:pt x="741" y="0"/>
                  </a:moveTo>
                  <a:lnTo>
                    <a:pt x="0" y="249"/>
                  </a:lnTo>
                  <a:lnTo>
                    <a:pt x="74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01560" y="301284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31"/>
                  </a:moveTo>
                  <a:lnTo>
                    <a:pt x="0" y="36"/>
                  </a:lnTo>
                  <a:lnTo>
                    <a:pt x="56" y="0"/>
                  </a:lnTo>
                  <a:lnTo>
                    <a:pt x="66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65480" y="2684520"/>
              <a:ext cx="1992240" cy="386640"/>
            </a:xfrm>
            <a:custGeom>
              <a:avLst/>
              <a:gdLst/>
              <a:ahLst/>
              <a:rect l="l" t="t" r="r" b="b"/>
              <a:pathLst>
                <a:path w="1255" h="244">
                  <a:moveTo>
                    <a:pt x="0" y="0"/>
                  </a:moveTo>
                  <a:lnTo>
                    <a:pt x="1254" y="24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51520" y="3025800"/>
              <a:ext cx="106200" cy="5040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" y="0"/>
                  </a:moveTo>
                  <a:lnTo>
                    <a:pt x="66" y="28"/>
                  </a:lnTo>
                  <a:lnTo>
                    <a:pt x="0" y="31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364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087280" y="3948120"/>
              <a:ext cx="327240" cy="32508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4"/>
                  </a:moveTo>
                  <a:lnTo>
                    <a:pt x="0" y="0"/>
                  </a:lnTo>
                  <a:lnTo>
                    <a:pt x="205" y="0"/>
                  </a:lnTo>
                  <a:lnTo>
                    <a:pt x="205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12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36720" y="394812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0" y="204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204"/>
                  </a:lnTo>
                  <a:lnTo>
                    <a:pt x="0" y="2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52720" y="1952640"/>
              <a:ext cx="588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78120" y="23508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4920" y="31176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22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46280" y="394632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35300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3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78440" y="39351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9272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316720" y="391464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23920" y="311940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57000" y="3119400"/>
              <a:ext cx="2764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948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7264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10920" y="3925800"/>
              <a:ext cx="3405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16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2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7836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4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48120" y="3106440"/>
              <a:ext cx="367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324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7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8400" y="3924360"/>
              <a:ext cx="432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9*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63840" y="190512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8420000">
              <a:off x="1447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8420000">
              <a:off x="28947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8420000">
              <a:off x="4266360" y="3779280"/>
              <a:ext cx="60840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8420000">
              <a:off x="571428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8420000">
              <a:off x="7162200" y="3779640"/>
              <a:ext cx="608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4" y="0"/>
                  </a:moveTo>
                  <a:arcTo wR="10800" hR="10800" stAng="-5417858" swAng="54178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4" y="0"/>
                  </a:moveTo>
                  <a:arcTo wR="10800" hR="10800" stAng="-5417858" swAng="54178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And Then Deleting 24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0388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toss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key 27 on right), an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`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pull down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index entry (bel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354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7032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0376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3720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634080" y="2901960"/>
            <a:ext cx="43488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06752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02400" y="2901960"/>
            <a:ext cx="435240" cy="376200"/>
          </a:xfrm>
          <a:custGeom>
            <a:avLst/>
            <a:gdLst/>
            <a:ahLst/>
            <a:rect l="l" t="t" r="r" b="b"/>
            <a:pathLst>
              <a:path w="274" h="237">
                <a:moveTo>
                  <a:pt x="0" y="236"/>
                </a:moveTo>
                <a:lnTo>
                  <a:pt x="0" y="0"/>
                </a:lnTo>
                <a:lnTo>
                  <a:pt x="273" y="0"/>
                </a:lnTo>
                <a:lnTo>
                  <a:pt x="273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935840" y="2901960"/>
            <a:ext cx="436680" cy="376200"/>
          </a:xfrm>
          <a:custGeom>
            <a:avLst/>
            <a:gdLst/>
            <a:ahLst/>
            <a:rect l="l" t="t" r="r" b="b"/>
            <a:pathLst>
              <a:path w="275" h="237">
                <a:moveTo>
                  <a:pt x="0" y="236"/>
                </a:moveTo>
                <a:lnTo>
                  <a:pt x="0" y="0"/>
                </a:lnTo>
                <a:lnTo>
                  <a:pt x="274" y="0"/>
                </a:lnTo>
                <a:lnTo>
                  <a:pt x="274" y="236"/>
                </a:lnTo>
                <a:lnTo>
                  <a:pt x="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59600" y="1905120"/>
            <a:ext cx="65232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6760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10480" y="1905120"/>
            <a:ext cx="654120" cy="469800"/>
          </a:xfrm>
          <a:custGeom>
            <a:avLst/>
            <a:gdLst/>
            <a:ahLst/>
            <a:rect l="l" t="t" r="r" b="b"/>
            <a:pathLst>
              <a:path w="412" h="296">
                <a:moveTo>
                  <a:pt x="0" y="295"/>
                </a:moveTo>
                <a:lnTo>
                  <a:pt x="0" y="0"/>
                </a:lnTo>
                <a:lnTo>
                  <a:pt x="411" y="0"/>
                </a:lnTo>
                <a:lnTo>
                  <a:pt x="411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1992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62800" y="1905120"/>
            <a:ext cx="652680" cy="469800"/>
          </a:xfrm>
          <a:custGeom>
            <a:avLst/>
            <a:gdLst/>
            <a:ahLst/>
            <a:rect l="l" t="t" r="r" b="b"/>
            <a:pathLst>
              <a:path w="411" h="296">
                <a:moveTo>
                  <a:pt x="0" y="295"/>
                </a:moveTo>
                <a:lnTo>
                  <a:pt x="0" y="0"/>
                </a:lnTo>
                <a:lnTo>
                  <a:pt x="410" y="0"/>
                </a:lnTo>
                <a:lnTo>
                  <a:pt x="410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6936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113680" y="1905120"/>
            <a:ext cx="650880" cy="469800"/>
          </a:xfrm>
          <a:custGeom>
            <a:avLst/>
            <a:gdLst/>
            <a:ahLst/>
            <a:rect l="l" t="t" r="r" b="b"/>
            <a:pathLst>
              <a:path w="410" h="296">
                <a:moveTo>
                  <a:pt x="0" y="295"/>
                </a:moveTo>
                <a:lnTo>
                  <a:pt x="0" y="0"/>
                </a:lnTo>
                <a:lnTo>
                  <a:pt x="409" y="0"/>
                </a:lnTo>
                <a:lnTo>
                  <a:pt x="40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221680" y="1905120"/>
            <a:ext cx="1440" cy="469800"/>
          </a:xfrm>
          <a:custGeom>
            <a:avLst/>
            <a:gdLst/>
            <a:ahLst/>
            <a:rect l="l" t="t" r="r" b="b"/>
            <a:pathLst>
              <a:path w="1" h="296">
                <a:moveTo>
                  <a:pt x="0" y="0"/>
                </a:moveTo>
                <a:lnTo>
                  <a:pt x="0" y="29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763120" y="1905120"/>
            <a:ext cx="110880" cy="469800"/>
          </a:xfrm>
          <a:custGeom>
            <a:avLst/>
            <a:gdLst/>
            <a:ahLst/>
            <a:rect l="l" t="t" r="r" b="b"/>
            <a:pathLst>
              <a:path w="70" h="296">
                <a:moveTo>
                  <a:pt x="0" y="295"/>
                </a:moveTo>
                <a:lnTo>
                  <a:pt x="0" y="0"/>
                </a:lnTo>
                <a:lnTo>
                  <a:pt x="69" y="0"/>
                </a:lnTo>
                <a:lnTo>
                  <a:pt x="69" y="295"/>
                </a:lnTo>
                <a:lnTo>
                  <a:pt x="0" y="2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03760" y="2303640"/>
            <a:ext cx="598680" cy="576000"/>
          </a:xfrm>
          <a:custGeom>
            <a:avLst/>
            <a:gdLst/>
            <a:ahLst/>
            <a:rect l="l" t="t" r="r" b="b"/>
            <a:pathLst>
              <a:path w="377" h="363">
                <a:moveTo>
                  <a:pt x="376" y="0"/>
                </a:moveTo>
                <a:lnTo>
                  <a:pt x="0" y="362"/>
                </a:lnTo>
                <a:lnTo>
                  <a:pt x="37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03760" y="2771640"/>
            <a:ext cx="115920" cy="108000"/>
          </a:xfrm>
          <a:custGeom>
            <a:avLst/>
            <a:gdLst/>
            <a:ahLst/>
            <a:rect l="l" t="t" r="r" b="b"/>
            <a:pathLst>
              <a:path w="73" h="68">
                <a:moveTo>
                  <a:pt x="72" y="24"/>
                </a:moveTo>
                <a:lnTo>
                  <a:pt x="0" y="67"/>
                </a:lnTo>
                <a:lnTo>
                  <a:pt x="41" y="0"/>
                </a:lnTo>
                <a:lnTo>
                  <a:pt x="72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50080" y="2303640"/>
            <a:ext cx="614520" cy="552240"/>
          </a:xfrm>
          <a:custGeom>
            <a:avLst/>
            <a:gdLst/>
            <a:ahLst/>
            <a:rect l="l" t="t" r="r" b="b"/>
            <a:pathLst>
              <a:path w="387" h="348">
                <a:moveTo>
                  <a:pt x="0" y="0"/>
                </a:moveTo>
                <a:lnTo>
                  <a:pt x="386" y="34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343640" y="2749680"/>
            <a:ext cx="120960" cy="106200"/>
          </a:xfrm>
          <a:custGeom>
            <a:avLst/>
            <a:gdLst/>
            <a:ahLst/>
            <a:rect l="l" t="t" r="r" b="b"/>
            <a:pathLst>
              <a:path w="76" h="67">
                <a:moveTo>
                  <a:pt x="31" y="0"/>
                </a:moveTo>
                <a:lnTo>
                  <a:pt x="75" y="66"/>
                </a:lnTo>
                <a:lnTo>
                  <a:pt x="0" y="25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05320" y="1459080"/>
            <a:ext cx="1303560" cy="412560"/>
          </a:xfrm>
          <a:custGeom>
            <a:avLst/>
            <a:gdLst/>
            <a:ahLst/>
            <a:rect l="l" t="t" r="r" b="b"/>
            <a:pathLst>
              <a:path w="821" h="260">
                <a:moveTo>
                  <a:pt x="0" y="0"/>
                </a:moveTo>
                <a:lnTo>
                  <a:pt x="820" y="2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67400" y="1803240"/>
            <a:ext cx="141480" cy="68400"/>
          </a:xfrm>
          <a:custGeom>
            <a:avLst/>
            <a:gdLst/>
            <a:ahLst/>
            <a:rect l="l" t="t" r="r" b="b"/>
            <a:pathLst>
              <a:path w="89" h="43">
                <a:moveTo>
                  <a:pt x="14" y="0"/>
                </a:moveTo>
                <a:lnTo>
                  <a:pt x="88" y="42"/>
                </a:lnTo>
                <a:lnTo>
                  <a:pt x="0" y="34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50040" y="202716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3544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7032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8972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62148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056360" y="29876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475400" y="29764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910640" y="296532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420000">
            <a:off x="44074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8420000">
            <a:off x="6236280" y="27126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1160" y="5875200"/>
            <a:ext cx="380880" cy="382680"/>
          </a:xfrm>
          <a:custGeom>
            <a:avLst/>
            <a:gdLst/>
            <a:ahLst/>
            <a:rect l="l" t="t" r="r" b="b"/>
            <a:pathLst>
              <a:path w="240" h="241">
                <a:moveTo>
                  <a:pt x="0" y="240"/>
                </a:moveTo>
                <a:lnTo>
                  <a:pt x="0" y="0"/>
                </a:lnTo>
                <a:lnTo>
                  <a:pt x="239" y="0"/>
                </a:lnTo>
                <a:lnTo>
                  <a:pt x="239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0240" y="5875200"/>
            <a:ext cx="38448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42920" y="5875200"/>
            <a:ext cx="384120" cy="382680"/>
          </a:xfrm>
          <a:custGeom>
            <a:avLst/>
            <a:gdLst/>
            <a:ahLst/>
            <a:rect l="l" t="t" r="r" b="b"/>
            <a:pathLst>
              <a:path w="242" h="241">
                <a:moveTo>
                  <a:pt x="0" y="240"/>
                </a:moveTo>
                <a:lnTo>
                  <a:pt x="0" y="0"/>
                </a:lnTo>
                <a:lnTo>
                  <a:pt x="241" y="0"/>
                </a:lnTo>
                <a:lnTo>
                  <a:pt x="241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25600" y="5875200"/>
            <a:ext cx="382680" cy="3826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95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7656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35924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4012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25312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340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668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975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910560" y="5888160"/>
            <a:ext cx="38232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29144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7412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056440" y="588816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239"/>
                </a:moveTo>
                <a:lnTo>
                  <a:pt x="0" y="0"/>
                </a:lnTo>
                <a:lnTo>
                  <a:pt x="239" y="0"/>
                </a:lnTo>
                <a:lnTo>
                  <a:pt x="239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4796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30280" y="5888160"/>
            <a:ext cx="38448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712960" y="5888160"/>
            <a:ext cx="382680" cy="380880"/>
          </a:xfrm>
          <a:custGeom>
            <a:avLst/>
            <a:gdLst/>
            <a:ahLst/>
            <a:rect l="l" t="t" r="r" b="b"/>
            <a:pathLst>
              <a:path w="241" h="240">
                <a:moveTo>
                  <a:pt x="0" y="239"/>
                </a:moveTo>
                <a:lnTo>
                  <a:pt x="0" y="0"/>
                </a:lnTo>
                <a:lnTo>
                  <a:pt x="240" y="0"/>
                </a:lnTo>
                <a:lnTo>
                  <a:pt x="240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94200" y="5888160"/>
            <a:ext cx="384120" cy="380880"/>
          </a:xfrm>
          <a:custGeom>
            <a:avLst/>
            <a:gdLst/>
            <a:ahLst/>
            <a:rect l="l" t="t" r="r" b="b"/>
            <a:pathLst>
              <a:path w="242" h="240">
                <a:moveTo>
                  <a:pt x="0" y="239"/>
                </a:moveTo>
                <a:lnTo>
                  <a:pt x="0" y="0"/>
                </a:lnTo>
                <a:lnTo>
                  <a:pt x="241" y="0"/>
                </a:lnTo>
                <a:lnTo>
                  <a:pt x="241" y="239"/>
                </a:lnTo>
                <a:lnTo>
                  <a:pt x="0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4320" y="4497480"/>
            <a:ext cx="57312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972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72600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284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99120" y="4497480"/>
            <a:ext cx="572760" cy="474480"/>
          </a:xfrm>
          <a:custGeom>
            <a:avLst/>
            <a:gdLst/>
            <a:ahLst/>
            <a:rect l="l" t="t" r="r" b="b"/>
            <a:pathLst>
              <a:path w="361" h="299">
                <a:moveTo>
                  <a:pt x="0" y="298"/>
                </a:moveTo>
                <a:lnTo>
                  <a:pt x="0" y="0"/>
                </a:lnTo>
                <a:lnTo>
                  <a:pt x="360" y="0"/>
                </a:lnTo>
                <a:lnTo>
                  <a:pt x="360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394160" y="4497480"/>
            <a:ext cx="180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870440" y="4497480"/>
            <a:ext cx="574560" cy="474480"/>
          </a:xfrm>
          <a:custGeom>
            <a:avLst/>
            <a:gdLst/>
            <a:ahLst/>
            <a:rect l="l" t="t" r="r" b="b"/>
            <a:pathLst>
              <a:path w="362" h="299">
                <a:moveTo>
                  <a:pt x="0" y="298"/>
                </a:moveTo>
                <a:lnTo>
                  <a:pt x="0" y="0"/>
                </a:lnTo>
                <a:lnTo>
                  <a:pt x="361" y="0"/>
                </a:lnTo>
                <a:lnTo>
                  <a:pt x="3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67280" y="4497480"/>
            <a:ext cx="1440" cy="474480"/>
          </a:xfrm>
          <a:custGeom>
            <a:avLst/>
            <a:gdLst/>
            <a:ahLst/>
            <a:rect l="l" t="t" r="r" b="b"/>
            <a:pathLst>
              <a:path w="1" h="299">
                <a:moveTo>
                  <a:pt x="0" y="0"/>
                </a:moveTo>
                <a:lnTo>
                  <a:pt x="0" y="2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43560" y="4497480"/>
            <a:ext cx="98280" cy="474480"/>
          </a:xfrm>
          <a:custGeom>
            <a:avLst/>
            <a:gdLst/>
            <a:ahLst/>
            <a:rect l="l" t="t" r="r" b="b"/>
            <a:pathLst>
              <a:path w="62" h="299">
                <a:moveTo>
                  <a:pt x="0" y="298"/>
                </a:moveTo>
                <a:lnTo>
                  <a:pt x="0" y="0"/>
                </a:lnTo>
                <a:lnTo>
                  <a:pt x="61" y="0"/>
                </a:lnTo>
                <a:lnTo>
                  <a:pt x="61" y="298"/>
                </a:lnTo>
                <a:lnTo>
                  <a:pt x="0" y="29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30320" y="4900680"/>
            <a:ext cx="2173320" cy="963720"/>
          </a:xfrm>
          <a:custGeom>
            <a:avLst/>
            <a:gdLst/>
            <a:ahLst/>
            <a:rect l="l" t="t" r="r" b="b"/>
            <a:pathLst>
              <a:path w="1369" h="607">
                <a:moveTo>
                  <a:pt x="1368" y="0"/>
                </a:moveTo>
                <a:lnTo>
                  <a:pt x="0" y="606"/>
                </a:lnTo>
                <a:lnTo>
                  <a:pt x="13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30320" y="5788080"/>
            <a:ext cx="123840" cy="76320"/>
          </a:xfrm>
          <a:custGeom>
            <a:avLst/>
            <a:gdLst/>
            <a:ahLst/>
            <a:rect l="l" t="t" r="r" b="b"/>
            <a:pathLst>
              <a:path w="78" h="48">
                <a:moveTo>
                  <a:pt x="77" y="33"/>
                </a:moveTo>
                <a:lnTo>
                  <a:pt x="0" y="47"/>
                </a:lnTo>
                <a:lnTo>
                  <a:pt x="61" y="0"/>
                </a:lnTo>
                <a:lnTo>
                  <a:pt x="77" y="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24120" y="4900680"/>
            <a:ext cx="1039680" cy="963720"/>
          </a:xfrm>
          <a:custGeom>
            <a:avLst/>
            <a:gdLst/>
            <a:ahLst/>
            <a:rect l="l" t="t" r="r" b="b"/>
            <a:pathLst>
              <a:path w="655" h="607">
                <a:moveTo>
                  <a:pt x="654" y="0"/>
                </a:moveTo>
                <a:lnTo>
                  <a:pt x="0" y="606"/>
                </a:lnTo>
                <a:lnTo>
                  <a:pt x="65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24120" y="5759280"/>
            <a:ext cx="109440" cy="105120"/>
          </a:xfrm>
          <a:custGeom>
            <a:avLst/>
            <a:gdLst/>
            <a:ahLst/>
            <a:rect l="l" t="t" r="r" b="b"/>
            <a:pathLst>
              <a:path w="69" h="66">
                <a:moveTo>
                  <a:pt x="68" y="28"/>
                </a:moveTo>
                <a:lnTo>
                  <a:pt x="0" y="65"/>
                </a:lnTo>
                <a:lnTo>
                  <a:pt x="43" y="0"/>
                </a:lnTo>
                <a:lnTo>
                  <a:pt x="68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4040" y="4913280"/>
            <a:ext cx="1440" cy="963720"/>
          </a:xfrm>
          <a:custGeom>
            <a:avLst/>
            <a:gdLst/>
            <a:ahLst/>
            <a:rect l="l" t="t" r="r" b="b"/>
            <a:pathLst>
              <a:path w="1" h="607">
                <a:moveTo>
                  <a:pt x="0" y="0"/>
                </a:moveTo>
                <a:lnTo>
                  <a:pt x="0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03800" y="5756400"/>
            <a:ext cx="63360" cy="120600"/>
          </a:xfrm>
          <a:custGeom>
            <a:avLst/>
            <a:gdLst/>
            <a:ahLst/>
            <a:rect l="l" t="t" r="r" b="b"/>
            <a:pathLst>
              <a:path w="40" h="76">
                <a:moveTo>
                  <a:pt x="39" y="0"/>
                </a:moveTo>
                <a:lnTo>
                  <a:pt x="19" y="75"/>
                </a:lnTo>
                <a:lnTo>
                  <a:pt x="0" y="0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17960" y="4913280"/>
            <a:ext cx="1087560" cy="963720"/>
          </a:xfrm>
          <a:custGeom>
            <a:avLst/>
            <a:gdLst/>
            <a:ahLst/>
            <a:rect l="l" t="t" r="r" b="b"/>
            <a:pathLst>
              <a:path w="685" h="607">
                <a:moveTo>
                  <a:pt x="0" y="0"/>
                </a:moveTo>
                <a:lnTo>
                  <a:pt x="684" y="60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96080" y="5773680"/>
            <a:ext cx="109440" cy="103320"/>
          </a:xfrm>
          <a:custGeom>
            <a:avLst/>
            <a:gdLst/>
            <a:ahLst/>
            <a:rect l="l" t="t" r="r" b="b"/>
            <a:pathLst>
              <a:path w="69" h="65">
                <a:moveTo>
                  <a:pt x="24" y="0"/>
                </a:moveTo>
                <a:lnTo>
                  <a:pt x="68" y="64"/>
                </a:lnTo>
                <a:lnTo>
                  <a:pt x="0" y="28"/>
                </a:lnTo>
                <a:lnTo>
                  <a:pt x="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478480" y="4913280"/>
            <a:ext cx="2197080" cy="951120"/>
          </a:xfrm>
          <a:custGeom>
            <a:avLst/>
            <a:gdLst/>
            <a:ahLst/>
            <a:rect l="l" t="t" r="r" b="b"/>
            <a:pathLst>
              <a:path w="1384" h="599">
                <a:moveTo>
                  <a:pt x="0" y="0"/>
                </a:moveTo>
                <a:lnTo>
                  <a:pt x="1383" y="59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3160" y="5788080"/>
            <a:ext cx="122400" cy="76320"/>
          </a:xfrm>
          <a:custGeom>
            <a:avLst/>
            <a:gdLst/>
            <a:ahLst/>
            <a:rect l="l" t="t" r="r" b="b"/>
            <a:pathLst>
              <a:path w="77" h="48">
                <a:moveTo>
                  <a:pt x="15" y="0"/>
                </a:moveTo>
                <a:lnTo>
                  <a:pt x="76" y="47"/>
                </a:lnTo>
                <a:lnTo>
                  <a:pt x="0" y="35"/>
                </a:lnTo>
                <a:lnTo>
                  <a:pt x="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822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6080" y="588312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5872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6220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44880" y="59180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4340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2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260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7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91660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8968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3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59054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4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42080" y="589284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023320" y="5881680"/>
            <a:ext cx="432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7604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27000" y="5894280"/>
            <a:ext cx="34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155680" y="4338720"/>
            <a:ext cx="588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07852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73600" y="456408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24240" y="4564080"/>
            <a:ext cx="276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57880" y="4573440"/>
            <a:ext cx="3679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38280" y="419112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8420000">
            <a:off x="1664280" y="568440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8420000">
            <a:off x="33408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8420000">
            <a:off x="49410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8420000">
            <a:off x="6541200" y="568476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858" swAng="5417858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858" swAng="541785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2T18:00:29Z</dcterms:modified>
  <cp:revision>903</cp:revision>
  <dc:subject/>
  <dc:title>CS186: Introduction to Database Systems</dc:title>
</cp:coreProperties>
</file>