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529E08-F7DB-4D68-AA3A-A08867B7B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49FFDB-DA59-4177-B92E-5FFBE88CE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5BE4F0-71B1-4394-A560-1E134BA0F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2PL *necessary* for CS schedu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6233B8-7341-4DEC-817D-B2BE01CED8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A1F858-56CF-4E1E-8426-1F6C1AE94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559D4F-3722-4AB1-94DC-9E22F87DEB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B8C213-C94E-47FD-A010-5022C889C3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27624E-DCF1-433F-A6B2-E076FF2534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DEE851-4F25-4224-8111-314910194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B0FE6D-284A-4B25-8785-F2FCDD0CA9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3DCA15-3506-41CC-B777-E5C4EB6420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93A4D5-AC37-485C-9BA1-4078EBA27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F35571-9AA1-4BF4-B9F0-1DF31E92B6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54E366-8713-47A9-83F3-8739E5273C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8D00BC-7E07-4D9B-B016-DE531708B3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DF109D-C697-4096-B25B-16DB98520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35F053-A886-4DAF-BE85-C7B9381769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000080" y="773280"/>
            <a:ext cx="5100840" cy="38257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A63D52-AB2A-4580-8CE9-602758601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69F96F-2CE5-4E6C-AA95-75495437F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FEE444-D808-413B-AA98-41571137E5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BC8CB7-E89B-4A70-8186-A9E5025BA1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140354-E831-4D6E-A43F-78619548B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D717-D920-43DA-95D1-819593FF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B0C-97CF-476A-BF92-5E4B37B8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794-5CA7-49A3-AD20-D8F1477C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278-8FCB-4C91-A993-ED5B8769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E72-1BF7-433E-8906-A3D9018E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45B-9555-4590-86A2-13400E05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8A0-F3D7-4422-AD03-7BB2833A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257-430B-421B-9AC6-9E31F720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A797-45BC-467E-9B19-806A1A03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8CF-B565-42CF-B343-0B002B9A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6CF6-DEAF-434E-93E3-A3B372C9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286-6005-4037-9355-845001BA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BE22-FF6F-4C3D-8DFE-98D8F9DA1B2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3AF2-102A-4BBD-947E-ACF1207BD4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177624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locking is not enoug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4960" y="996840"/>
            <a:ext cx="180072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meriGarmnd BT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meriGarmnd BT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meriGarmnd BT"/>
              </a:rPr>
              <a:t>2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r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w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r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w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r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w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r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w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46640" y="16765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129528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51640" y="1609560"/>
            <a:ext cx="5653440" cy="5260320"/>
            <a:chOff x="251640" y="1609560"/>
            <a:chExt cx="5653440" cy="5260320"/>
          </a:xfrm>
        </p:grpSpPr>
        <p:sp>
          <p:nvSpPr>
            <p:cNvPr id="147" name=""/>
            <p:cNvSpPr/>
            <p:nvPr/>
          </p:nvSpPr>
          <p:spPr>
            <a:xfrm>
              <a:off x="2956680" y="160956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lock-X(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8280" y="420048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lock-X(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meriGarmnd BT"/>
                </a:rPr>
                <a:t>B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29680" y="6410160"/>
              <a:ext cx="149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unlock(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meriGarmnd BT"/>
                </a:rPr>
                <a:t>B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44440" y="260028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unlock(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04600" y="2828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lock-X(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46280" y="389556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unlock(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07480" y="5114880"/>
              <a:ext cx="149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unlock(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meriGarmnd BT"/>
                </a:rPr>
                <a:t>B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94040" y="54198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lock-X(</a:t>
              </a:r>
              <a:r>
                <a:rPr b="0" i="1" lang="en-US" sz="2400" spc="-1" strike="noStrike">
                  <a:solidFill>
                    <a:srgbClr val="00ff00"/>
                  </a:solidFill>
                  <a:latin typeface="AmeriGarmnd BT"/>
                </a:rPr>
                <a:t>B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640" y="3220920"/>
              <a:ext cx="272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Possible schedule</a:t>
              </a:r>
              <a:br>
                <a:rPr sz="2400"/>
              </a:b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under loc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04920" y="2590920"/>
            <a:ext cx="6995880" cy="3276360"/>
            <a:chOff x="304920" y="2590920"/>
            <a:chExt cx="6995880" cy="3276360"/>
          </a:xfrm>
        </p:grpSpPr>
        <p:sp>
          <p:nvSpPr>
            <p:cNvPr id="157" name=""/>
            <p:cNvSpPr/>
            <p:nvPr/>
          </p:nvSpPr>
          <p:spPr>
            <a:xfrm>
              <a:off x="304920" y="419112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But still not</a:t>
              </a:r>
              <a:br>
                <a:rPr sz="2400"/>
              </a:b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conflict-serializabl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18320" y="3048120"/>
              <a:ext cx="533520" cy="53316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18320" y="3962520"/>
              <a:ext cx="533520" cy="53316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07600" y="311472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07600" y="402912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77160" y="3581280"/>
              <a:ext cx="0" cy="3812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191120" y="5257800"/>
              <a:ext cx="380880" cy="6094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7080" y="2590920"/>
              <a:ext cx="304920" cy="6858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48520" y="3548160"/>
              <a:ext cx="15228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0" y="288"/>
                  </a:moveTo>
                  <a:cubicBezTo>
                    <a:pt x="48" y="240"/>
                    <a:pt x="96" y="192"/>
                    <a:pt x="96" y="144"/>
                  </a:cubicBezTo>
                  <a:cubicBezTo>
                    <a:pt x="96" y="96"/>
                    <a:pt x="48" y="48"/>
                    <a:pt x="0" y="0"/>
                  </a:cubicBezTo>
                </a:path>
              </a:pathLst>
            </a:custGeom>
            <a:noFill/>
            <a:ln w="38160">
              <a:solidFill>
                <a:srgbClr val="33006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528200" y="1959120"/>
            <a:ext cx="1619280" cy="779760"/>
            <a:chOff x="1528200" y="1959120"/>
            <a:chExt cx="1619280" cy="779760"/>
          </a:xfrm>
        </p:grpSpPr>
        <p:sp>
          <p:nvSpPr>
            <p:cNvPr id="167" name=""/>
            <p:cNvSpPr/>
            <p:nvPr/>
          </p:nvSpPr>
          <p:spPr>
            <a:xfrm>
              <a:off x="1837080" y="195912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Read 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8200" y="23400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Write 100+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180040" y="3254400"/>
            <a:ext cx="1613160" cy="790920"/>
            <a:chOff x="5180040" y="3254400"/>
            <a:chExt cx="1613160" cy="790920"/>
          </a:xfrm>
        </p:grpSpPr>
        <p:sp>
          <p:nvSpPr>
            <p:cNvPr id="170" name=""/>
            <p:cNvSpPr/>
            <p:nvPr/>
          </p:nvSpPr>
          <p:spPr>
            <a:xfrm>
              <a:off x="5189760" y="325440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Read 1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80040" y="3646440"/>
              <a:ext cx="161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Write 101*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180040" y="4500720"/>
            <a:ext cx="1613160" cy="779760"/>
            <a:chOff x="5180040" y="4500720"/>
            <a:chExt cx="1613160" cy="779760"/>
          </a:xfrm>
        </p:grpSpPr>
        <p:sp>
          <p:nvSpPr>
            <p:cNvPr id="173" name=""/>
            <p:cNvSpPr/>
            <p:nvPr/>
          </p:nvSpPr>
          <p:spPr>
            <a:xfrm>
              <a:off x="5189760" y="450072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Read 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0040" y="4881600"/>
              <a:ext cx="161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Write 100*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528200" y="5780160"/>
            <a:ext cx="1619280" cy="779760"/>
            <a:chOff x="1528200" y="5780160"/>
            <a:chExt cx="1619280" cy="779760"/>
          </a:xfrm>
        </p:grpSpPr>
        <p:sp>
          <p:nvSpPr>
            <p:cNvPr id="176" name=""/>
            <p:cNvSpPr/>
            <p:nvPr/>
          </p:nvSpPr>
          <p:spPr>
            <a:xfrm>
              <a:off x="1837080" y="578016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Read 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8200" y="616104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Write 200+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900000" y="1073160"/>
            <a:ext cx="7384680" cy="703800"/>
            <a:chOff x="900000" y="1073160"/>
            <a:chExt cx="7384680" cy="703800"/>
          </a:xfrm>
        </p:grpSpPr>
        <p:sp>
          <p:nvSpPr>
            <p:cNvPr id="179" name=""/>
            <p:cNvSpPr/>
            <p:nvPr/>
          </p:nvSpPr>
          <p:spPr>
            <a:xfrm>
              <a:off x="900000" y="1073160"/>
              <a:ext cx="2754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Add 1 to both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 and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meriGarmnd BT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(preserve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=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04360" y="1073160"/>
              <a:ext cx="3280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Multiply both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 and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 by 2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(preserves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=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ff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682960" y="580536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meriGarmnd BT"/>
              </a:rPr>
              <a:t>A</a:t>
            </a:r>
            <a:r>
              <a:rPr b="0" lang="en-US" sz="2000" spc="-1" strike="noStrike">
                <a:solidFill>
                  <a:srgbClr val="ff0000"/>
                </a:solidFill>
                <a:latin typeface="AmeriGarmnd BT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0000"/>
                </a:solidFill>
                <a:latin typeface="AmeriGarmnd BT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meriGarmnd BT"/>
              </a:rPr>
              <a:t>B</a:t>
            </a:r>
            <a:r>
              <a:rPr b="0" lang="en-US" sz="2000" spc="-1" strike="noStrike">
                <a:solidFill>
                  <a:srgbClr val="ff0000"/>
                </a:solidFill>
                <a:latin typeface="AmeriGarmnd BT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578-AA3C-41D7-86D5-1A9010229D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A76FA-7443-4B3C-BA1C-316D537EAC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-phase locking (2P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lock requests precede all unlock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ase 1: obtain locks, phase 2: release 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87240" y="2422440"/>
            <a:ext cx="1613160" cy="4135320"/>
            <a:chOff x="1587240" y="2422440"/>
            <a:chExt cx="1613160" cy="4135320"/>
          </a:xfrm>
        </p:grpSpPr>
        <p:sp>
          <p:nvSpPr>
            <p:cNvPr id="185" name=""/>
            <p:cNvSpPr/>
            <p:nvPr/>
          </p:nvSpPr>
          <p:spPr>
            <a:xfrm>
              <a:off x="1587240" y="2422440"/>
              <a:ext cx="1599480" cy="40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6520" y="283356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38280" y="2452320"/>
              <a:ext cx="0" cy="410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902880" y="2789280"/>
            <a:ext cx="1290600" cy="3994200"/>
            <a:chOff x="902880" y="2789280"/>
            <a:chExt cx="1290600" cy="3994200"/>
          </a:xfrm>
        </p:grpSpPr>
        <p:sp>
          <p:nvSpPr>
            <p:cNvPr id="189" name=""/>
            <p:cNvSpPr/>
            <p:nvPr/>
          </p:nvSpPr>
          <p:spPr>
            <a:xfrm>
              <a:off x="906120" y="278928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lock-X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6560" y="359244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lock-X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6920" y="6384600"/>
              <a:ext cx="127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unlock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02880" y="3858840"/>
              <a:ext cx="126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unlock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452320" y="4022640"/>
            <a:ext cx="1230120" cy="1248120"/>
            <a:chOff x="2452320" y="4022640"/>
            <a:chExt cx="1230120" cy="1248120"/>
          </a:xfrm>
        </p:grpSpPr>
        <p:sp>
          <p:nvSpPr>
            <p:cNvPr id="194" name=""/>
            <p:cNvSpPr/>
            <p:nvPr/>
          </p:nvSpPr>
          <p:spPr>
            <a:xfrm>
              <a:off x="2452320" y="402264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lock-X(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88320" y="487188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lock-X(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209680" y="5262480"/>
            <a:ext cx="4268520" cy="1295280"/>
            <a:chOff x="2209680" y="5262480"/>
            <a:chExt cx="4268520" cy="1295280"/>
          </a:xfrm>
        </p:grpSpPr>
        <p:sp>
          <p:nvSpPr>
            <p:cNvPr id="197" name=""/>
            <p:cNvSpPr/>
            <p:nvPr/>
          </p:nvSpPr>
          <p:spPr>
            <a:xfrm>
              <a:off x="3005640" y="5714640"/>
              <a:ext cx="347256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Cannot obtain the lock on 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AmeriGarmnd BT"/>
                </a:rPr>
                <a:t>B</a:t>
              </a:r>
              <a:br>
                <a:rPr sz="2000"/>
              </a:b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until 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330066"/>
                  </a:solidFill>
                  <a:latin typeface="AmeriGarmnd BT"/>
                </a:rPr>
                <a:t>1</a:t>
              </a: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 unloc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09680" y="5262480"/>
              <a:ext cx="1219320" cy="1295280"/>
            </a:xfrm>
            <a:custGeom>
              <a:avLst/>
              <a:gdLst/>
              <a:ahLst/>
              <a:rect l="l" t="t" r="r" b="b"/>
              <a:pathLst>
                <a:path w="912" h="864">
                  <a:moveTo>
                    <a:pt x="912" y="0"/>
                  </a:moveTo>
                  <a:cubicBezTo>
                    <a:pt x="820" y="240"/>
                    <a:pt x="728" y="480"/>
                    <a:pt x="576" y="624"/>
                  </a:cubicBezTo>
                  <a:cubicBezTo>
                    <a:pt x="424" y="768"/>
                    <a:pt x="212" y="816"/>
                    <a:pt x="0" y="864"/>
                  </a:cubicBezTo>
                </a:path>
              </a:pathLst>
            </a:custGeom>
            <a:noFill/>
            <a:ln w="38160">
              <a:solidFill>
                <a:srgbClr val="33006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86200" y="2422440"/>
            <a:ext cx="3575160" cy="3220920"/>
            <a:chOff x="3886200" y="2422440"/>
            <a:chExt cx="3575160" cy="3220920"/>
          </a:xfrm>
        </p:grpSpPr>
        <p:sp>
          <p:nvSpPr>
            <p:cNvPr id="200" name=""/>
            <p:cNvSpPr/>
            <p:nvPr/>
          </p:nvSpPr>
          <p:spPr>
            <a:xfrm>
              <a:off x="5848200" y="2422440"/>
              <a:ext cx="1599480" cy="31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7120" y="283356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05720" y="251928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86200" y="3738240"/>
              <a:ext cx="1828800" cy="533520"/>
            </a:xfrm>
            <a:prstGeom prst="rightArrow">
              <a:avLst>
                <a:gd name="adj1" fmla="val 50000"/>
                <a:gd name="adj2" fmla="val 53258"/>
              </a:avLst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038400" y="2627280"/>
            <a:ext cx="292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2PL guarantees a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conflict-serializable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9E0-1CCE-4FE7-BBF9-4BF22AB1F5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204E8-67AF-4009-A6AE-F74EDB1156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of 2P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28680" y="1066680"/>
            <a:ext cx="491004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read uncommitted data written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rts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abort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ascading abo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if other transactions have read data written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4952880"/>
            <a:ext cx="8686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worse, what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its bef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hedule i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ot recover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 the system crashes right afte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mm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298880" y="1378080"/>
            <a:ext cx="1599480" cy="3489840"/>
            <a:chOff x="1298880" y="1378080"/>
            <a:chExt cx="1599480" cy="3489840"/>
          </a:xfrm>
        </p:grpSpPr>
        <p:sp>
          <p:nvSpPr>
            <p:cNvPr id="209" name=""/>
            <p:cNvSpPr/>
            <p:nvPr/>
          </p:nvSpPr>
          <p:spPr>
            <a:xfrm>
              <a:off x="1298880" y="1378080"/>
              <a:ext cx="1599480" cy="34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600" y="17892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39840" y="1414440"/>
              <a:ext cx="0" cy="340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066680" y="43434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meriGarmnd BT"/>
              </a:rPr>
              <a:t>Abo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288-F5FB-47E0-A6C4-92BA4C2F75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6F8B0-9A31-4A64-85DD-4F5FA6C686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ict 2P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release locks at commit/abor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writer will block all other readers until the writer commits or abor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most commercial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12EB-43BB-4E05-9116-405878C78D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0ADAE-D577-4D52-8F01-A5A75415F6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BB0-A196-40CD-A67E-DA356423A2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21558-7E8B-4A20-B30E-713F14E3C5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609480" y="995400"/>
          <a:ext cx="7772400" cy="56246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X(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S(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: = A-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S(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X(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(A+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:= B +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B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631080" y="228600"/>
            <a:ext cx="81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99"/>
                </a:solidFill>
                <a:latin typeface="Book Antiqua"/>
              </a:rPr>
              <a:t>Non-2PL</a:t>
            </a:r>
            <a:r>
              <a:rPr b="0" lang="en-US" sz="3600" spc="-1" strike="noStrike">
                <a:solidFill>
                  <a:srgbClr val="cccc00"/>
                </a:solidFill>
                <a:latin typeface="Book Antiqua"/>
              </a:rPr>
              <a:t>, A= 1000, B=2000, Output =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AE1-25B3-4CFE-B2E7-6001CDB1AD6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AF692-7D8A-458C-A9BE-B351382C81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914400" y="990720"/>
          <a:ext cx="7772400" cy="5429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X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S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: = A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X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S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:= B +50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(A+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1310760" y="196920"/>
            <a:ext cx="71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99"/>
                </a:solidFill>
                <a:latin typeface="Book Antiqua"/>
              </a:rPr>
              <a:t>2PL</a:t>
            </a:r>
            <a:r>
              <a:rPr b="0" lang="en-US" sz="3600" spc="-1" strike="noStrike">
                <a:solidFill>
                  <a:srgbClr val="cccc00"/>
                </a:solidFill>
                <a:latin typeface="Book Antiqua"/>
              </a:rPr>
              <a:t>, A= 1000, B=2000, Output =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910-1E66-49EC-8A59-455791797B3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F9EC7-95D5-4E5D-830A-47BE3D7A2F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990720" y="990720"/>
          <a:ext cx="7772400" cy="54864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X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S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: = A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X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:= B +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ock_S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(A+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nlock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956160" y="228600"/>
            <a:ext cx="83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99"/>
                </a:solidFill>
                <a:latin typeface="Book Antiqua"/>
              </a:rPr>
              <a:t>Strict 2PL</a:t>
            </a:r>
            <a:r>
              <a:rPr b="0" lang="en-US" sz="3600" spc="-1" strike="noStrike">
                <a:solidFill>
                  <a:srgbClr val="cccc00"/>
                </a:solidFill>
                <a:latin typeface="Book Antiqua"/>
              </a:rPr>
              <a:t>, A= 1000, B=2000, Output =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588-E004-4595-B7B7-FFC85939083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50F6C-2AF7-4422-B53E-6EE0B787DD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k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and unlock requests handl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k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 keeps an entry for each currently held 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contai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st of xacts currently holding 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of lock held (shared or exclusiv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ue of lock requ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k Management, co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ock request arr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es any other xact hold a conflicting lock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no, grant the lo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es, put requestor into wait que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upgra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hared lock can request to upgrade to exclus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view of DB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omicity: TX’s are either completely done or not done at 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stency: TX’s should leave the database in a consistent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olation: TX’s must behave as if they are executed in iso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rability: Effects of committed TX’s are resilient against fail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Begins im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…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UPDATE …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ROLLBACK | COMMI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 is to arrange the execution of transactions in a concurrent way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300-4B0F-49BE-A51F-1C15C47D0F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C5FF7-F20E-4DAB-B8C7-9F36B51D9C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ycle of transactions waiting for locks to be released by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ays of dealing with deadlo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systems just punt and use Timeo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dangers with this approa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Det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nd maintain a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“waits-for”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cally check for cycles in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Detection (Continu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:  S(A), S(D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S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X(B)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X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(D), S(C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X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X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7920" y="4038480"/>
            <a:ext cx="673200" cy="673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4038480"/>
            <a:ext cx="672840" cy="673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5410080"/>
            <a:ext cx="672840" cy="673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5410080"/>
            <a:ext cx="672840" cy="673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92440" y="4191120"/>
            <a:ext cx="52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25800" y="4191120"/>
            <a:ext cx="52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92440" y="5562720"/>
            <a:ext cx="52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49840" y="5562720"/>
            <a:ext cx="52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03720" y="4343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56200" y="4724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127400" y="4648320"/>
            <a:ext cx="1524240" cy="914400"/>
          </a:xfrm>
          <a:prstGeom prst="line">
            <a:avLst/>
          </a:prstGeom>
          <a:ln w="5076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127400" y="4495680"/>
            <a:ext cx="16002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68800" y="3505320"/>
            <a:ext cx="4249440" cy="2608200"/>
          </a:xfrm>
          <a:custGeom>
            <a:avLst/>
            <a:gdLst/>
            <a:ahLst/>
            <a:rect l="l" t="t" r="r" b="b"/>
            <a:pathLst>
              <a:path w="2677" h="1643">
                <a:moveTo>
                  <a:pt x="864" y="1152"/>
                </a:moveTo>
                <a:cubicBezTo>
                  <a:pt x="774" y="1121"/>
                  <a:pt x="884" y="1164"/>
                  <a:pt x="810" y="1120"/>
                </a:cubicBezTo>
                <a:cubicBezTo>
                  <a:pt x="784" y="1105"/>
                  <a:pt x="752" y="1103"/>
                  <a:pt x="725" y="1088"/>
                </a:cubicBezTo>
                <a:cubicBezTo>
                  <a:pt x="709" y="1079"/>
                  <a:pt x="697" y="1065"/>
                  <a:pt x="682" y="1056"/>
                </a:cubicBezTo>
                <a:cubicBezTo>
                  <a:pt x="650" y="1038"/>
                  <a:pt x="609" y="1030"/>
                  <a:pt x="576" y="1013"/>
                </a:cubicBezTo>
                <a:cubicBezTo>
                  <a:pt x="565" y="1007"/>
                  <a:pt x="555" y="998"/>
                  <a:pt x="544" y="992"/>
                </a:cubicBezTo>
                <a:cubicBezTo>
                  <a:pt x="527" y="984"/>
                  <a:pt x="508" y="978"/>
                  <a:pt x="490" y="971"/>
                </a:cubicBezTo>
                <a:cubicBezTo>
                  <a:pt x="448" y="929"/>
                  <a:pt x="402" y="924"/>
                  <a:pt x="352" y="896"/>
                </a:cubicBezTo>
                <a:cubicBezTo>
                  <a:pt x="330" y="883"/>
                  <a:pt x="309" y="867"/>
                  <a:pt x="288" y="853"/>
                </a:cubicBezTo>
                <a:cubicBezTo>
                  <a:pt x="227" y="812"/>
                  <a:pt x="210" y="748"/>
                  <a:pt x="170" y="693"/>
                </a:cubicBezTo>
                <a:cubicBezTo>
                  <a:pt x="161" y="681"/>
                  <a:pt x="148" y="672"/>
                  <a:pt x="138" y="661"/>
                </a:cubicBezTo>
                <a:cubicBezTo>
                  <a:pt x="84" y="598"/>
                  <a:pt x="36" y="523"/>
                  <a:pt x="0" y="448"/>
                </a:cubicBezTo>
                <a:cubicBezTo>
                  <a:pt x="2" y="428"/>
                  <a:pt x="3" y="352"/>
                  <a:pt x="21" y="320"/>
                </a:cubicBezTo>
                <a:cubicBezTo>
                  <a:pt x="61" y="251"/>
                  <a:pt x="164" y="191"/>
                  <a:pt x="224" y="149"/>
                </a:cubicBezTo>
                <a:cubicBezTo>
                  <a:pt x="317" y="84"/>
                  <a:pt x="390" y="28"/>
                  <a:pt x="501" y="0"/>
                </a:cubicBezTo>
                <a:cubicBezTo>
                  <a:pt x="677" y="8"/>
                  <a:pt x="806" y="20"/>
                  <a:pt x="970" y="53"/>
                </a:cubicBezTo>
                <a:cubicBezTo>
                  <a:pt x="1009" y="61"/>
                  <a:pt x="1049" y="68"/>
                  <a:pt x="1088" y="75"/>
                </a:cubicBezTo>
                <a:cubicBezTo>
                  <a:pt x="1134" y="83"/>
                  <a:pt x="1226" y="96"/>
                  <a:pt x="1226" y="96"/>
                </a:cubicBezTo>
                <a:cubicBezTo>
                  <a:pt x="1331" y="130"/>
                  <a:pt x="1438" y="161"/>
                  <a:pt x="1546" y="181"/>
                </a:cubicBezTo>
                <a:cubicBezTo>
                  <a:pt x="1662" y="228"/>
                  <a:pt x="1788" y="266"/>
                  <a:pt x="1909" y="299"/>
                </a:cubicBezTo>
                <a:cubicBezTo>
                  <a:pt x="1932" y="305"/>
                  <a:pt x="1951" y="322"/>
                  <a:pt x="1973" y="331"/>
                </a:cubicBezTo>
                <a:cubicBezTo>
                  <a:pt x="2023" y="351"/>
                  <a:pt x="2080" y="363"/>
                  <a:pt x="2133" y="373"/>
                </a:cubicBezTo>
                <a:cubicBezTo>
                  <a:pt x="2181" y="397"/>
                  <a:pt x="2208" y="416"/>
                  <a:pt x="2261" y="427"/>
                </a:cubicBezTo>
                <a:cubicBezTo>
                  <a:pt x="2309" y="451"/>
                  <a:pt x="2349" y="485"/>
                  <a:pt x="2400" y="501"/>
                </a:cubicBezTo>
                <a:cubicBezTo>
                  <a:pt x="2424" y="520"/>
                  <a:pt x="2558" y="608"/>
                  <a:pt x="2581" y="640"/>
                </a:cubicBezTo>
                <a:cubicBezTo>
                  <a:pt x="2593" y="656"/>
                  <a:pt x="2643" y="735"/>
                  <a:pt x="2656" y="768"/>
                </a:cubicBezTo>
                <a:cubicBezTo>
                  <a:pt x="2664" y="789"/>
                  <a:pt x="2677" y="832"/>
                  <a:pt x="2677" y="832"/>
                </a:cubicBezTo>
                <a:cubicBezTo>
                  <a:pt x="2673" y="892"/>
                  <a:pt x="2672" y="953"/>
                  <a:pt x="2666" y="1013"/>
                </a:cubicBezTo>
                <a:cubicBezTo>
                  <a:pt x="2662" y="1050"/>
                  <a:pt x="2651" y="1044"/>
                  <a:pt x="2634" y="1077"/>
                </a:cubicBezTo>
                <a:cubicBezTo>
                  <a:pt x="2606" y="1134"/>
                  <a:pt x="2588" y="1186"/>
                  <a:pt x="2549" y="1237"/>
                </a:cubicBezTo>
                <a:cubicBezTo>
                  <a:pt x="2533" y="1284"/>
                  <a:pt x="2494" y="1327"/>
                  <a:pt x="2453" y="1355"/>
                </a:cubicBezTo>
                <a:cubicBezTo>
                  <a:pt x="2421" y="1403"/>
                  <a:pt x="2393" y="1463"/>
                  <a:pt x="2336" y="1483"/>
                </a:cubicBezTo>
                <a:cubicBezTo>
                  <a:pt x="2318" y="1501"/>
                  <a:pt x="2300" y="1518"/>
                  <a:pt x="2282" y="1536"/>
                </a:cubicBezTo>
                <a:cubicBezTo>
                  <a:pt x="2259" y="1559"/>
                  <a:pt x="2225" y="1558"/>
                  <a:pt x="2197" y="1568"/>
                </a:cubicBezTo>
                <a:cubicBezTo>
                  <a:pt x="2120" y="1597"/>
                  <a:pt x="2040" y="1616"/>
                  <a:pt x="1962" y="1643"/>
                </a:cubicBezTo>
                <a:cubicBezTo>
                  <a:pt x="1820" y="1639"/>
                  <a:pt x="1678" y="1639"/>
                  <a:pt x="1536" y="1632"/>
                </a:cubicBezTo>
                <a:cubicBezTo>
                  <a:pt x="1464" y="1629"/>
                  <a:pt x="1501" y="1620"/>
                  <a:pt x="1440" y="1600"/>
                </a:cubicBezTo>
                <a:cubicBezTo>
                  <a:pt x="1412" y="1591"/>
                  <a:pt x="1354" y="1579"/>
                  <a:pt x="1354" y="1579"/>
                </a:cubicBezTo>
                <a:cubicBezTo>
                  <a:pt x="1310" y="1556"/>
                  <a:pt x="1284" y="1534"/>
                  <a:pt x="1237" y="1515"/>
                </a:cubicBezTo>
                <a:cubicBezTo>
                  <a:pt x="1199" y="1477"/>
                  <a:pt x="1165" y="1472"/>
                  <a:pt x="1120" y="1440"/>
                </a:cubicBezTo>
                <a:cubicBezTo>
                  <a:pt x="1069" y="1404"/>
                  <a:pt x="1131" y="1430"/>
                  <a:pt x="1066" y="1408"/>
                </a:cubicBezTo>
                <a:cubicBezTo>
                  <a:pt x="1032" y="1374"/>
                  <a:pt x="997" y="1362"/>
                  <a:pt x="970" y="1323"/>
                </a:cubicBezTo>
                <a:cubicBezTo>
                  <a:pt x="959" y="1291"/>
                  <a:pt x="949" y="1259"/>
                  <a:pt x="938" y="1227"/>
                </a:cubicBezTo>
                <a:cubicBezTo>
                  <a:pt x="935" y="1216"/>
                  <a:pt x="939" y="1199"/>
                  <a:pt x="928" y="1195"/>
                </a:cubicBezTo>
                <a:cubicBezTo>
                  <a:pt x="917" y="1191"/>
                  <a:pt x="907" y="1188"/>
                  <a:pt x="896" y="1184"/>
                </a:cubicBezTo>
                <a:cubicBezTo>
                  <a:pt x="889" y="1177"/>
                  <a:pt x="883" y="1168"/>
                  <a:pt x="874" y="1163"/>
                </a:cubicBezTo>
                <a:cubicBezTo>
                  <a:pt x="851" y="1150"/>
                  <a:pt x="820" y="1152"/>
                  <a:pt x="864" y="1152"/>
                </a:cubicBezTo>
                <a:close/>
              </a:path>
            </a:pathLst>
          </a:custGeom>
          <a:noFill/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priorities based on timestam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 Ti wants a lock that Tj 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olicies are poss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ait-Di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If Ti has higher priority, Ti waits for Tj;  otherwise Ti abo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ound-wa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If Ti has higher priority, Tj aborts;   otherwise Ti wa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Why do these schemes guarantee no deadloc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Important detail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: If a transaction re-starts, make sure it gets its original timestamp.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-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104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ness criterion for isolation is “serializabilit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practice, we use “conflict serializability,”                                 which is somewhat more restrictive but easy to enfor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Phase Locking and Strict 2PL: Locks implement the notions of conflict di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lock manager keeps track of the locks issu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adlock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ay arise; can either be prevented or detect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Serial sched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 schedu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3405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ecute transactions in order, with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o interleav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oper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3405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3405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3405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olation achieved by definitio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3405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o concurrenc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 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240" indent="-3405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reorder operations to allow more concurr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BBE-3D40-4D04-9A4A-DEB79D5749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E1729-1B05-4DCB-BF43-52E40BB57A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flicting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perations on th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item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onfl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t least one of the operations is a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/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r/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conflicting operations ma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preced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then conceptu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hould preced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1981080"/>
            <a:ext cx="373392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6C5-7072-4166-A729-9D323D3069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D7999-2D43-4C72-8B75-6D3C3B9FE4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Precedence gra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irected ed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n oper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ecedes and conflicts with an oper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74640" y="3571920"/>
            <a:ext cx="1651680" cy="3184920"/>
            <a:chOff x="674640" y="3571920"/>
            <a:chExt cx="1651680" cy="3184920"/>
          </a:xfrm>
        </p:grpSpPr>
        <p:sp>
          <p:nvSpPr>
            <p:cNvPr id="104" name=""/>
            <p:cNvSpPr/>
            <p:nvPr/>
          </p:nvSpPr>
          <p:spPr>
            <a:xfrm>
              <a:off x="729720" y="3571920"/>
              <a:ext cx="1596600" cy="31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4640" y="3963600"/>
              <a:ext cx="157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64920" y="3572640"/>
              <a:ext cx="0" cy="307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419720" y="3571920"/>
            <a:ext cx="1651680" cy="3184920"/>
            <a:chOff x="4419720" y="3571920"/>
            <a:chExt cx="1651680" cy="3184920"/>
          </a:xfrm>
        </p:grpSpPr>
        <p:sp>
          <p:nvSpPr>
            <p:cNvPr id="108" name=""/>
            <p:cNvSpPr/>
            <p:nvPr/>
          </p:nvSpPr>
          <p:spPr>
            <a:xfrm>
              <a:off x="4474800" y="3571920"/>
              <a:ext cx="1596600" cy="31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19720" y="3963600"/>
              <a:ext cx="157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10000" y="3572640"/>
              <a:ext cx="0" cy="306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971800" y="3657600"/>
            <a:ext cx="533520" cy="1447920"/>
            <a:chOff x="2971800" y="3657600"/>
            <a:chExt cx="533520" cy="1447920"/>
          </a:xfrm>
        </p:grpSpPr>
        <p:sp>
          <p:nvSpPr>
            <p:cNvPr id="112" name=""/>
            <p:cNvSpPr/>
            <p:nvPr/>
          </p:nvSpPr>
          <p:spPr>
            <a:xfrm>
              <a:off x="2971800" y="3657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71800" y="4572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61080" y="372420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61080" y="463860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371600" y="4724280"/>
            <a:ext cx="380880" cy="2286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33880" y="4191120"/>
            <a:ext cx="0" cy="38088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560" y="5291280"/>
            <a:ext cx="15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Good: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no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946920" y="3657600"/>
            <a:ext cx="533520" cy="1447920"/>
            <a:chOff x="6946920" y="3657600"/>
            <a:chExt cx="533520" cy="1447920"/>
          </a:xfrm>
        </p:grpSpPr>
        <p:sp>
          <p:nvSpPr>
            <p:cNvPr id="120" name=""/>
            <p:cNvSpPr/>
            <p:nvPr/>
          </p:nvSpPr>
          <p:spPr>
            <a:xfrm>
              <a:off x="6946920" y="3657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46920" y="4572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36200" y="372420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36200" y="463860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205760" y="4191120"/>
            <a:ext cx="0" cy="38088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48920" y="5291280"/>
            <a:ext cx="99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ad: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029200" y="4724280"/>
            <a:ext cx="457200" cy="2286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4495680"/>
            <a:ext cx="685800" cy="6858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77120" y="4157640"/>
            <a:ext cx="152280" cy="457200"/>
          </a:xfrm>
          <a:custGeom>
            <a:avLst/>
            <a:gdLst/>
            <a:ahLst/>
            <a:rect l="l" t="t" r="r" b="b"/>
            <a:pathLst>
              <a:path w="96" h="288">
                <a:moveTo>
                  <a:pt x="0" y="288"/>
                </a:moveTo>
                <a:cubicBezTo>
                  <a:pt x="48" y="240"/>
                  <a:pt x="96" y="192"/>
                  <a:pt x="96" y="144"/>
                </a:cubicBezTo>
                <a:cubicBezTo>
                  <a:pt x="96" y="96"/>
                  <a:pt x="48" y="48"/>
                  <a:pt x="0" y="0"/>
                </a:cubicBezTo>
              </a:path>
            </a:pathLst>
          </a:custGeom>
          <a:noFill/>
          <a:ln w="38160">
            <a:solidFill>
              <a:srgbClr val="33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ED1-C31E-4D35-8E9F-F7B586BD27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37FDF-0D2F-46D8-A1E2-F91BC0EB24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flict-serializable sched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onflict-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nd only if its precedence graph ha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flict-serializable schedule is equivalent to some serial schedule (and therefore is “good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at serial schedule, transactions are executed in the topological order of the precedence grap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get to that serial schedule by repeatedly swapping adjacent, non-conflicting operations from different trans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6F7-6FBF-4372-912A-4AC997F01A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4B9C1-6A7A-4414-AD72-3E19453D94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: a high-level concept that describe the state of a data item with respect to read/writ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inl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mapho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d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t of processes is deadlocked if each process is waiting for an event that only another process in the set can cau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v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program continues to run indefinitely but fail to make any progr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ACD-EA6F-435D-BAD1-3CDD33A26D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1AE86-937F-435F-9B3E-2D9DA4C7F5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 conflict-serializable schedule with 2 phase 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4361-8C45-44A6-87CB-ADF9278503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4E415-7CBC-437D-96C9-46B2D3942C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transaction wants to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r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 object, it must first request a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shared lock (S mode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n that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transaction wants to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modif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 object, it must first request an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exclusive lock (X mode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n that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one exclusive lock, or multiple shared loc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1960" y="44686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ode of lock(s)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currently held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by other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84240" y="373392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ode of the lock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08440" y="457200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Grant the lo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4160" y="5199120"/>
            <a:ext cx="31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Compatibility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05320" y="4267080"/>
          <a:ext cx="1904760" cy="1004760"/>
        </p:xfrm>
        <a:graphic>
          <a:graphicData uri="http://schemas.openxmlformats.org/drawingml/2006/table">
            <a:tbl>
              <a:tblPr/>
              <a:tblGrid>
                <a:gridCol w="635040"/>
                <a:gridCol w="634680"/>
                <a:gridCol w="635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66B-1E7C-4584-9381-C22408640D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6CA3E-DB4D-4AA0-B026-DFF4ED9356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16T21:15:56Z</dcterms:modified>
  <cp:revision>1018</cp:revision>
  <dc:subject/>
  <dc:title>CS186: Introduction to Database Systems</dc:title>
</cp:coreProperties>
</file>